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C9D-2342-4CB1-9399-B891E336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BC0B-56AA-4497-A1BC-41ACC0AD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F09-6867-4BB5-ACD9-43BFF03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C79-C608-42C2-8193-85BD63F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255-FCDD-473B-ACDA-0E89DDFF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616-D683-4D81-BA12-B07106A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5517-D00E-41D4-BC67-790F3C48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5AB-343B-4D99-ABCF-E74F5B0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A449-31CF-471A-884D-87E60D97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F99-CBA8-4BB7-B53A-0877B71E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18FD-9EA3-4DA9-B036-408E4F0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A84-FDDE-4C42-9623-34F51C6B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9F36-A6FD-4DC1-A6E2-CD0E1898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EFAA-FEC9-4EDA-873E-D27108CD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E9BE-DBE0-4FE6-A1AD-4303C20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B4BA-3B76-42B1-A1C0-F8E47C86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2CC5-C1CE-436E-81AF-99F91BE7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08D-43B4-44B1-BFA5-4BF819F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D45-3ADA-4C6C-A23C-8787A41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B06-BDE5-4D1E-B9A8-EA9357B7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A66-F790-4122-8583-498E23A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7A9-0303-45E9-868F-11B0B55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3FC-242F-448E-96A5-6A2DD1C7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8D7-93E7-4E33-ABD7-32DE913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0512-1A75-43EA-A8A6-B211775A85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f4f4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DD12-4BC1-424D-B2D1-BF5E522031B1}" type="slidenum"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f4f4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5138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000000"/>
                </a:solidFill>
                <a:latin typeface="Tahoma"/>
              </a:rPr>
              <a:t>QUEMADURA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76720" y="4365720"/>
            <a:ext cx="45720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igia Capurro</a:t>
            </a: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eral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cen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cuela Enfermerí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90920" y="2133720"/>
          <a:ext cx="434340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4343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XTEN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81080"/>
          <a:ext cx="7772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1981080"/>
          <a:ext cx="73911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911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ROFUND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3880" y="2209680"/>
          <a:ext cx="60199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60199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UEMADURA POR F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 las ropas arden, tender al accidentado en el suelo y sofocar las llamas. ( hacerlo rod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ropa quemada adherida no se debe quitar porque es doloroso y produce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uitar los objetos que pueden oprim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rrigar la zona quemada con abundante agua fría.( mínimo 15 minut, en quemaduras de pequeña extención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brir el área quemada con sabana lim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aplicar ningún tipo de pomadas o lo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OBJETIVOS DE LOS PRIMEROS AUXIL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ir los efectos del Ag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iviar el dolor.( con atención presta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itar perdida de líqui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venir la infe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venir el Sho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icitar asistencia med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SUSTANCIA QUIM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la sustancia es seca, retirarlo antes de lavarlo.( sacudi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var profusamente la zona dañada con abundante agua. ( ducha, manguer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itar la ropa y joyas contaminadas mientras está lava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brir y trasladar a centro asisten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ELECTRIC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rtar el suministro eléctr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ar medio aislante, antes de tocar a la pers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brigarla para mantener el cal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trolar signos vitales.(fcia respiratoria,  y cardiaca, estado gener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r RCP si fuera neces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a centro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QDA POR INGERIR LIQUIDOS CA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r a beber agua hel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ocar al paciente en ambiente fres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tar ropas apretadas, facilitándole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 existe compromiso respiratorio, trasladar semisentado al centra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QDA RESPIRATO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sospecha cuando existe quemadura de cara o cuello, enrojecimiento de la boca y ronqu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a centro asistencial.              (administración de oxige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n lesiones producidas en al piel, mucosa  o tejidos debido a la acción de distintos tipos de a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3886200"/>
          <a:ext cx="53532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86200"/>
                    <a:ext cx="53532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RECORD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da de pequeña exte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locar bajo agua por lo menos 15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alizar lavado con suero fisiológico, cubri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Qda de mayor extens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sladar de inmediato a centro asistencial, cubierto con sabana limpia, debido al gran peligro de v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FIS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íqu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ctricidad indust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p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lama o fuego dir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QUIM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lc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2362320"/>
          <a:ext cx="332892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332892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projctor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AGENTES BIOLOG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Seres V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ectos, medusas, peces eléct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quemadura debe ser tratada como una herida y con posibilidad de infectar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tirar el agente causal evitando de esta manera que se prolongue su a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da agente debe ser tratado de distinta for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ACTORES DE GRAVE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te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fund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dades extr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umatism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ermedades asoci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dades extrem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ños tienen piel más labil, por lo que es mas fácil su profundiz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ianos, piel deshidratada, menor regeneración de teji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fermedades asocia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abe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pertensión ar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icción taba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19T12:27:40Z</dcterms:modified>
  <cp:revision>33</cp:revision>
  <dc:subject/>
  <dc:title>Presentación de PowerPoint</dc:title>
</cp:coreProperties>
</file>