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B16-DAC8-4681-A014-8A59E217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F22-18BA-4FC4-BCEA-F4F99222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9821-5197-42BA-A90F-2472CB38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A430-0544-43B3-AA8A-C3131F39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B167-CBC9-4CFD-A11C-C34FF35E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6869-D756-4440-A368-0591FAE5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D373-66F5-416D-AF83-B5297141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B741-4F92-41AF-9E94-387C0EB5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98C2-2B32-483A-8589-89345917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ED43-1528-4706-AD63-1F6FE73D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0ADA-B18A-4F3A-A5AB-AB0B396E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4625-4601-4317-BA9D-9ABD0F85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85FA-3689-4FD7-B607-67A4147A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64BA-2039-40D6-AED0-D5F77521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970D-D29B-4B07-A56D-56139252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4254-4FBA-418E-BF4A-1D05A04E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B355-E70E-46DD-BE8C-F9FBA8E2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6F84-3361-4F23-B58A-29E14D51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122-D422-4DDD-928F-856BFFDF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EEA-EC97-469F-985F-AB523CD2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EA52-84B1-468A-A193-81302F46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2E2-183F-4176-A79B-52FA15EF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B9E-F780-4F86-98D8-01367726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811-CE2E-4078-AC69-8D2529DF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E653-4ECF-40C1-A12A-EB7787EDEB54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2FB2-AE3E-48D8-8C09-8A252A495D14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9807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99"/>
                </a:solidFill>
                <a:latin typeface="Tahoma"/>
              </a:rPr>
              <a:t>TRAUMATISMO ENCEFALO CRANEA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676520" y="609480"/>
          <a:ext cx="5667120" cy="551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667120" cy="55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 E C – Definición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Traumatismo encéfalo craneano, es un tipo de lesión que afecta al cerebro, ubicado dentro de la caja crane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76520" y="609480"/>
          <a:ext cx="5462640" cy="55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46264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 E C - Clasifica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T.E.C. ABIER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Fractura de cran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T.E.C. CERR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Sin Fractura de crane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 E C – Signos y Sintomas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Alteración del comportami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Alteración de la conci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Perdida de la sensibilidad y/o movilidad de las extrem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Nauseas, vomi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Pulso lento (&lt; de 50 por minuto</a:t>
            </a: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Convuls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Salida de liquido por nariz y/o o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 E C – Primeros Auxilios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Evaluar estado de conci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Evaluar signos vit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Posición del paciente horizontal, inmovilizar cuel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No dar nada por via or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Vigilar permeabilidad de via aere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Facilitar la respir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Cubrir heri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Trasladar a centro asisten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21:58:40Z</dcterms:created>
  <dc:creator>Familia Zuñiga Tamblay</dc:creator>
  <dc:description/>
  <dc:language>en-US</dc:language>
  <cp:lastModifiedBy>Fac. de Medicina</cp:lastModifiedBy>
  <dcterms:modified xsi:type="dcterms:W3CDTF">2007-04-05T19:11:36Z</dcterms:modified>
  <cp:revision>5</cp:revision>
  <dc:subject/>
  <dc:title>TRAUMATISMO ENCEFALO CRANEANO</dc:title>
</cp:coreProperties>
</file>