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F2A-BB28-4E1D-A3B1-8294A76C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3B6-2D2E-4F4B-BE58-CD540690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7A2-130D-4511-A184-CCB5B075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75A-A65A-481A-8BED-C33996FB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0E4-20E8-41A5-B318-DE95D04D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2A25-8B9C-480A-BD1A-1EDAC23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B7EA-3156-43F4-8B71-FBD4773F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8CA-EE92-4F7E-868D-AA363068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6D69-3A9B-433F-B8D6-B17A1413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115B-27E2-4221-8468-EC22BDEF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D7B3-DF8B-498E-8987-2E58889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B96-B135-47CC-9409-8E95A4DE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BEDD-1A8E-4F61-BF12-17341A5C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4E9E-850F-44C8-AEED-E921B0F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0BAF-1B92-490E-A044-19E2907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C54C-4ECE-471A-9A30-FDDDCC96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3CE4-473E-49C2-B1D6-72B6C24D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B87-E464-4608-8142-E253FA24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AEA-C396-485C-8DDC-E994FB6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7F9-C395-4901-B74E-95AFD4BA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B70-908E-4D0D-9D17-38DCE3EC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91D-1F9C-4F39-BB30-C1E578B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506-A38F-48D6-BED4-18555DA1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607-E7A8-4C86-A2FB-68EEA20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850-002C-47FE-B861-6FFC1650D58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209-7AE6-4A53-8B05-29293AFFEEA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TRAUMATISMO ENCEFALO CRANE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76520" y="609480"/>
          <a:ext cx="566712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6671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Definició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Traumatismo encéfalo craneano, es un tipo de lesión que afecta al cerebro, ubicado dentro de la caja crane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76520" y="609480"/>
          <a:ext cx="54626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4626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ABIER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ractura de cra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CER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Sin Fractura de crane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Signos y Sintoma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l comport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 la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erdida de la sensibilidad y/o movilidad de las extrem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auseas, vom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ulso lento (&lt; de 50 por minuto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vul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Salida de liquido por nariz y/o o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estado de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signos vit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osición del paciente horizontal, inmovilizar cue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o dar nada por via o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Vigilar permeabilidad de via ae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Cubrir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Trasladar a centro asist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1:58:40Z</dcterms:created>
  <dc:creator>Familia Zuñiga Tamblay</dc:creator>
  <dc:description/>
  <dc:language>en-US</dc:language>
  <cp:lastModifiedBy>Fac. de Medicina</cp:lastModifiedBy>
  <dcterms:modified xsi:type="dcterms:W3CDTF">2007-04-05T19:11:36Z</dcterms:modified>
  <cp:revision>5</cp:revision>
  <dc:subject/>
  <dc:title>TRAUMATISMO ENCEFALO CRANEANO</dc:title>
</cp:coreProperties>
</file>