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36D-3F26-4B64-823E-E1EADC10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229-5EC1-4722-83CB-E09919A9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4DA-3E33-403B-83B9-E62896EF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1B4-01F3-44D3-A76F-443636A0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D5F3-7C2B-4B66-B960-A32D86CF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2FF2-612F-4AF7-8282-DEC5BD9F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E347-14A5-4048-BF0B-5DE3C7F3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2BE4-C27B-40AD-B547-BE414E66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6A0D-0250-4A0F-A06F-C6E6E157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DD72-7C50-4364-8292-97041A3E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40E5-7F95-4B54-8E07-6AB297A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CA5-F406-4EB0-B741-4F25B0DD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F112-8D19-40C6-B2B5-F7C9D419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C922-7AE7-4D62-86AB-57A670D1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8682-7986-4B8F-9A26-60789B54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4554-92CB-40F0-A963-3B19810F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225F-1DDE-4424-B69F-BA64619E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83F-1B5D-417F-90CA-E6C3AF73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EFB-A628-41D0-A00F-0FC60B80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FE8-36E5-4353-8094-852F6365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106-FAF1-4340-8D72-2F04CB7A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66A-1B90-4CDA-890A-6392323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62D-F4B5-438E-9644-591E4886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4B7-426A-44B1-9DC6-36C61514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4DD1-8F83-4AE2-BB64-1756BEA2977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DA2E-DD84-4D41-96C6-7E0FFC94E05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1c1c1c"/>
                </a:solidFill>
                <a:latin typeface="Tahoma"/>
              </a:rPr>
              <a:t>LESIONES </a:t>
            </a:r>
            <a:br>
              <a:rPr sz="4000"/>
            </a:br>
            <a:r>
              <a:rPr b="0" lang="es-ES_tradnl" sz="4000" spc="-1" strike="noStrike">
                <a:solidFill>
                  <a:srgbClr val="1c1c1c"/>
                </a:solidFill>
                <a:latin typeface="Tahoma"/>
              </a:rPr>
              <a:t>TRAUMATICAS TEJIDOS DU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Defini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la pérdida de continuidad del hueso o la ruptura del hueso y se diagnostica con radiografí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causada por golpes, caídas o proyect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Puede comprometer gravemente un órgano o la vida de la perso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Clasifica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867280" cy="38862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Signos y Sint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eformidad de la zo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olor localizado que aumenta con el mov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Hematoma o Aumento de volu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quimosis o moret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ificultad de mov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Primeros Auxil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ndicar que no se muev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nmovilizar la fractura, antes de trasladar al pacien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Retirar ropa  o cortarla si fuese necesa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Trasladar a centro asist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EXPUESTA - Primeros Auxilio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Controlar hemorragia y prevenir el sh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tratar de introducir el hue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Cubrir con apósito o paño limpio la herida antes de inmoviliz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aplicar pomadas u otras sustanc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efectuar vendaje apre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Cabez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valuar estado de conci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espejar vía aérea (retiro de cuerpo extrañ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Vigilar la respi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Cubrir herida y control de hemorrag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Prevenir el sh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Costill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Facilitar la respi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poner vendajes rígidos o muy apretados en tóra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Trasladar semisen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8800" spc="-1" strike="noStrike">
                <a:solidFill>
                  <a:srgbClr val="000000"/>
                </a:solidFill>
                <a:latin typeface="Tahoma"/>
              </a:rPr>
              <a:t>Gracias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c1c1c"/>
                </a:solidFill>
                <a:latin typeface="Tahoma"/>
              </a:rPr>
              <a:t>ESQUELE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562360" cy="47865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 - Defini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una lesión de los ligamentos, que son los que mantienen en su sitio  la articu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causado por la flexión o extensión exagerada de las articulaciones, en que se sobrepasa los límites o rangos normales de movimien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Más frecuentes: muñeca, tobillo y de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c1c1c"/>
                </a:solidFill>
                <a:latin typeface="Tahoma"/>
              </a:rPr>
              <a:t>La consecuencia más grave de un esguince es la ruptura o desgarro de los ligamentos que apoyan la articulación, dañando en forma importante los vasos sanguineos, y otros tejidos vecinos de la articu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579096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 - Signos y Sint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Dolor intenso en la zona afect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Hematoma o aumento de volu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Equimosis o moret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Dificultad del movi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 -Primeros Auxil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nmovilizar la zona afectada como si se tratara de una fractu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Aplicar compresas frí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levar la extrem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Repo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LUXACION - Defini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c1c1c"/>
                </a:solidFill>
                <a:latin typeface="Tahoma"/>
              </a:rPr>
              <a:t>Es la pérdida total del contacto de las caras articulares de dos o más hu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095880" cy="28954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LUXACION - Signos y Sint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eform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olor intenso en la parte afect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Hematoma o aumento de volu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quimosis o moret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mposibilidad de mov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LUXACION - Primeros Auxilio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No intentar acomodar los hu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No colocar al accidentado en manos de composit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Inmovilizar , sin forzar el alinea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Reposo, extremidad en al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No mover al accidentado sin antes inmovili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Trasladar rápido a centro asist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08:51Z</dcterms:created>
  <dc:creator>Packard Bell NEC</dc:creator>
  <dc:description/>
  <dc:language>en-US</dc:language>
  <cp:lastModifiedBy>Fac. de Medicina</cp:lastModifiedBy>
  <dcterms:modified xsi:type="dcterms:W3CDTF">2007-04-05T19:11:11Z</dcterms:modified>
  <cp:revision>25</cp:revision>
  <dc:subject/>
  <dc:title>Presentación de PowerPoint</dc:title>
</cp:coreProperties>
</file>