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6E3-B23E-43E3-8E16-9E3821A0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7EB6-8C64-4AEB-B3F6-F2766B34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AA1-B11D-4A51-B73F-FD786BA9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205-738C-43AE-AE72-06C4FFDE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7DA0-C3D3-4C76-95B8-C655BAAF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F5AD-E469-4657-944E-59E16DB9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94B2-FC5C-4506-87E3-E3097CB5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AC0A-BFC2-4B3B-8F4F-6F504617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32C8-C73C-4FC3-891A-53A34D2E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C351-E1C9-40A7-ADBB-879AB9A2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D493-1E57-461C-816C-1372B6EB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269-CC25-41EE-B93D-078526F2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7635-3E28-49E2-9CD5-9F7AD772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1243-3C3B-447D-AF4B-DFC8BC37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0850-B1E0-4DE9-9FE1-395CE525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2FC9-25B2-4BAC-80F1-8F8EFA00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77E8-BAC0-4BAC-A969-8254A6E2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73C-F3D9-4600-9C95-2B4EA44C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73A-5592-4318-8AF3-F761E86D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8D8-65D0-42FE-85FF-AE8FC201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BBF-933F-4446-B999-3C6666AE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48F-D607-419F-AF08-9512FC09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414-7382-44D9-AD3D-B734E744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66C-C6EC-4530-BB65-AFF891DE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46C7-77AC-481C-9361-9CE5E514357D}" type="slidenum">
              <a:rPr b="0" lang="es-C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7E00-E1D3-4A87-8310-423C8D59DEED}" type="slidenum">
              <a:rPr b="0" lang="es-C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Botiquí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Mueble fijo o portátil que contenga los elementos indispensables y de más rápida y sencilla aplicación por PERSONA NO TÉCNICA EN SALU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ARACTERIST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ompleto,pero no atiborrado de elemen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Fácil acce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Protegido c/lla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ARACTERIST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De material lav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Lista con inventario de elementos para su chequeo y reposi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Diagrama e instrucciones de procedimientos más comunes por escri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Suero fisiológico. ( ampollas plásticas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Gasas estéri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Vendas elásticas de 10 y 8 c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Jabón de man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Antiséptico para heridas men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Férulas para inmoviliz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Pañuelos o toalla desech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Tela adhes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Guantes o bolsas plast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PROCED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Definir peligros mas importantes de la Empresa . ( agentes de riesgos 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Definir persona responsable con curso de Primeros Auxil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CED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Mantener y reponer los insumos periodica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notar personas atendidas, nombre, Rut, diagnóstico prob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Cuidar de no tener clientes frecuen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CED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Medicamentos son de exclusiva indicación y responsabilidad                                    Med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1:32:19Z</dcterms:created>
  <dc:creator>María Ignacia Arteaga</dc:creator>
  <dc:description/>
  <dc:language>en-US</dc:language>
  <cp:lastModifiedBy>Fac. de Medicina</cp:lastModifiedBy>
  <dcterms:modified xsi:type="dcterms:W3CDTF">2007-04-05T19:10:36Z</dcterms:modified>
  <cp:revision>20</cp:revision>
  <dc:subject/>
  <dc:title>BOTIQUIN de PRIMEROS AUXIL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