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636-3F6E-45FB-9142-42E1F2C2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D69-E547-4AEB-81A5-3925B7A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ECE-0D4B-4D6F-83DF-854E796A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053-6F2B-464F-AF09-CD72DC22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AAFF-F572-41FD-9D27-B8939BC9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97EA-0BBB-4018-AB7D-87F9D25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AAB1-0056-4027-818E-9ADF535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035A-830A-4CC7-80CC-1D410A3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69E3-E2EE-4962-B4CC-AF4F37D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F4D2-E51A-4EDB-9F0A-93344A45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220E-B5EC-4172-89EB-DA7CB66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7E8-2317-4174-A167-71D631CD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435A-FD88-4BCA-918B-B7EE496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3305-F15A-44FA-8CCD-1E53B325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0A08-F55E-4A2E-83CF-22EB4FEC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DAF0-F041-49EE-A34E-5A3EF453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E17A-40D4-455A-9E55-4D0BDE76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129-8D29-4591-8607-D7FCC5D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998-22AB-4E3F-9CD9-A23EDE2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298-EBA9-4B56-94C2-8CD5BD1D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B64-DCE7-43B8-97B1-73ADA57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0D6-B060-45D8-8B5B-181CD4F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698-CE75-4E1F-BC54-A64C321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223-C14C-4228-9185-DBEE165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ED1F-7E58-489C-B248-269BE409C00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0023-D1A5-40C8-8DBD-7582875F2B2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TRAUMATISMO ENCEFALO CRANE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76520" y="609480"/>
          <a:ext cx="56671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6671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Definició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umatismo encéfalo craneano, es un tipo de lesión que afecta al cerebro, ubicado dentro de la caja crane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76520" y="609480"/>
          <a:ext cx="54626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4626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ABIER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ractura de cra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CER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in Fractura de cran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Signos y Sintoma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l comport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 la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erdida de la sensibilidad y/o movilidad de las extrem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auseas, vom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ulso lento (&lt; de 50 por minuto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vul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Salida de liquido por nariz y/o o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estado de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signos v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osición del paciente horizontal, inmovilizar cu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o dar nada por via o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Vigilar permeabilidad de via ae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ubrir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rasladar a centro asist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1:58:40Z</dcterms:created>
  <dc:creator>Familia Zuñiga Tamblay</dc:creator>
  <dc:description/>
  <dc:language>en-US</dc:language>
  <cp:lastModifiedBy>Fac. de Medicina</cp:lastModifiedBy>
  <dcterms:modified xsi:type="dcterms:W3CDTF">2007-04-05T19:11:36Z</dcterms:modified>
  <cp:revision>5</cp:revision>
  <dc:subject/>
  <dc:title>TRAUMATISMO ENCEFALO CRANEANO</dc:title>
</cp:coreProperties>
</file>