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A81-5853-4E12-906F-372F1605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5AE-FD5A-451F-BF46-BD0F4C2D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EC9-A02B-4657-8F05-20CC4F5A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0C9-AB82-4B3A-9DBC-30BE9C9D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9BD4-F4C3-458F-AE91-DF455822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7BE0-DFB2-449E-84FF-0C46E0BB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2071-14EC-4D4F-A353-17B0AAEF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CDD1-DA34-4767-9B7B-2A51B03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D88C-0034-46EC-8849-FB88D7C4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0B27-E751-49A6-A28A-4FBC97D1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A090-F8C2-492A-81C6-6160BCC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54E-4D1B-43EC-9DF6-6DD18976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654B-98CD-421C-B192-FC900102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79C5-08F9-491D-A2A6-3A6CC7D8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F6D7-E9E9-48FD-8E3A-AEF0F5E5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7A91-BC7C-4D14-A951-0A2802AE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9F2F-D05C-460B-BDD6-15FA3295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D8D-5168-480B-B42B-07B5F86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842-27A2-4AFD-8765-182102DA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222-4FDA-4E01-9D27-C9414285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653-30FC-40AA-A8D4-299FDB6D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768-599C-4DF2-8A5C-4056188E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F45-E567-4FE4-A7DE-3CFA4E2F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4AF-9DB9-4E05-AE5E-F51E4BF6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AC4F-BB68-43C6-9D92-726030E2694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B4B2-1AF3-48B8-9840-879856E846E6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1c1c1c"/>
                </a:solidFill>
                <a:latin typeface="Tahoma"/>
              </a:rPr>
              <a:t>LESIONES </a:t>
            </a:r>
            <a:br>
              <a:rPr sz="4000"/>
            </a:br>
            <a:r>
              <a:rPr b="0" lang="es-ES_tradnl" sz="4000" spc="-1" strike="noStrike">
                <a:solidFill>
                  <a:srgbClr val="1c1c1c"/>
                </a:solidFill>
                <a:latin typeface="Tahoma"/>
              </a:rPr>
              <a:t>TRAUMATICAS TEJIDOS DU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Defini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la pérdida de continuidad del hueso o la ruptura del hueso y se diagnostica con radiografí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causada por golpes, caídas o proyect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Puede comprometer gravemente un órgano o la vida de la perso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Clasifica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Signos y Sint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eformidad de la zo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olor localizado que aumenta con el mov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Hematoma o Aumento de volu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quimosis o moret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ificultad de mov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Primeros Auxil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ndicar que no se muev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nmovilizar la fractura, antes de trasladar al pacien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Retirar ropa  o cortarla si fuese neces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Trasladar a centro asist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EXPUESTA -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Controlar hemorragia y prevenir el sh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tratar de introducir el hue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Cubrir con apósito o paño limpio la herida antes de inmoviliz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aplicar pomadas u otras su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efectuar vendaje apre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Cabez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valuar estado de conci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espejar vía aérea (retiro de cuerpo extrañ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Vigilar la respi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Cubrir herida y control de hemorrag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Prevenir el sh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Costill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Facilitar la respi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poner vendajes rígidos o muy apretados en tóra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Trasladar semisen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8800" spc="-1" strike="noStrike">
                <a:solidFill>
                  <a:srgbClr val="000000"/>
                </a:solidFill>
                <a:latin typeface="Tahoma"/>
              </a:rPr>
              <a:t>Gracias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c1c1c"/>
                </a:solidFill>
                <a:latin typeface="Tahoma"/>
              </a:rPr>
              <a:t>ESQUELE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562360" cy="4786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 - Defini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una lesión de los ligamentos, que son los que mantienen en su sitio  la articu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causado por la flexión o extensión exagerada de las articulaciones, en que se sobrepasa los límites o rangos normales de movimien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Más frecuentes: muñeca, tobillo y de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c1c1c"/>
                </a:solidFill>
                <a:latin typeface="Tahoma"/>
              </a:rPr>
              <a:t>La consecuencia más grave de un esguince es la ruptura o desgarro de los ligamentos que apoyan la articulación, dañando en forma importante los vasos sanguineos, y otros tejidos vecinos de la articu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579096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 - Signos y Sint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Dolor intenso en la zona afect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Hematoma o aumento de volu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Equimosis o moret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Dificultad del movi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 -Primeros Auxil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nmovilizar la zona afectada como si se tratara de una fractu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Aplicar compresas frí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levar la extrem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Repo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LUXACION - Defini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c1c1c"/>
                </a:solidFill>
                <a:latin typeface="Tahoma"/>
              </a:rPr>
              <a:t>Es la pérdida total del contacto de las caras articulares de dos o más hu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09588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LUXACION - Signos y Sint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eform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olor intenso en la parte afect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Hematoma o aumento de volu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quimosis o moret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mposibilidad de mov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LUXACION -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No intentar acomodar los hu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No colocar al accidentado en manos de composit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Inmovilizar , sin forzar el aline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Reposo, extremidad en al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No mover al accidentado sin antes inmovili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Trasladar rápido a centro asist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08:51Z</dcterms:created>
  <dc:creator>Packard Bell NEC</dc:creator>
  <dc:description/>
  <dc:language>en-US</dc:language>
  <cp:lastModifiedBy>Fac. de Medicina</cp:lastModifiedBy>
  <dcterms:modified xsi:type="dcterms:W3CDTF">2007-04-05T19:11:11Z</dcterms:modified>
  <cp:revision>25</cp:revision>
  <dc:subject/>
  <dc:title>Presentación de PowerPoint</dc:title>
</cp:coreProperties>
</file>