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5F1B-EFEC-4E90-A8CD-4602E97B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13E3-9A21-4C03-8881-1816B240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AED-D0C6-45C6-8CF9-CD5E8ADE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3E50-691C-4FB2-B179-E268B3BD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5ACA-FCE4-4BF5-B242-8217A8E6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01F4-5DD0-4BB0-9947-98F4547E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D8C8-86CD-4AE6-879F-B6B845A8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723F-ED15-4FC0-AEE1-665E48B1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665D-421C-487C-A071-4706215C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F03A-CF4F-40BA-B586-2DEBC693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A1FE-73C7-428A-B283-775B6E62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75B9-0DEC-4C18-B0B4-DF6310F6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1785-AF12-4D7C-8FC7-BFA120F5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5E91-B726-4B01-B7C3-B9181925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FA70-0DBF-40D1-A4C7-ADF524DD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04D4-5374-4E0B-B2F9-9C097294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4095-9191-4698-B96A-2AD4B1DF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125-706A-41C9-B96C-33088519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B219-250F-4F23-B591-E95E8B26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5E10-6A26-4527-8C6F-39DEBF2D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E328-7E34-4707-9693-DE4151B4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D9A-6860-46D9-B5C2-3C756EA9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9A45-F9EE-4F0E-972D-397FBEF4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BE33-A1D1-4E1D-A135-070F9ACE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52C8-CCF2-4A12-AD5A-1E51C90B00B2}" type="slidenum">
              <a:rPr b="0" lang="es-C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78C0-3781-4162-9EF9-B2539EAF8CCC}" type="slidenum">
              <a:rPr b="0" lang="es-C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Botiquí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Mueble fijo o portátil que contenga los elementos indispensables y de más rápida y sencilla aplicación por PERSONA NO TÉCNICA EN SALU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CARACTERISTI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Completo,pero no atiborrado de elemen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Fácil acce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Protegido c/lla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ARACTERISTI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De material lav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Lista con inventario de elementos para su chequeo y reposi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Diagrama e instrucciones de procedimientos más comunes por escri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Suero fisiológico. ( ampollas plásticas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Gasas estéri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Vendas elásticas de 10 y 8 c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Jabón de man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Antiséptico para heridas men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Férulas para inmoviliz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Pañuelos o toalla desech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Tela adhesi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Guantes o bolsas plastic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PROCEDIMIEN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Definir peligros mas importantes de la Empresa . ( agentes de riesgos 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Definir persona responsable con curso de Primeros Auxil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CEDIMIEN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Mantener y reponer los insumos periodicam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Anotar personas atendidas, nombre, Rut, diagnóstico prob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Cuidar de no tener clientes frecuen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CEDIMIEN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Medicamentos son de exclusiva indicación y responsabilidad                                    Med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1:32:19Z</dcterms:created>
  <dc:creator>María Ignacia Arteaga</dc:creator>
  <dc:description/>
  <dc:language>en-US</dc:language>
  <cp:lastModifiedBy>Fac. de Medicina</cp:lastModifiedBy>
  <dcterms:modified xsi:type="dcterms:W3CDTF">2007-04-05T19:10:36Z</dcterms:modified>
  <cp:revision>20</cp:revision>
  <dc:subject/>
  <dc:title>BOTIQUIN de PRIMEROS AUXILI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