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D54-7994-47A2-9469-98006819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CF4-F34F-4366-8290-70864C80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840-A881-4D8D-9C99-BB898AC1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AD9-CFF6-493B-89A2-6A01691B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266B-77B2-4CAB-B2C0-6CF80C51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CABB-C3E9-40FB-9848-D3F5CD62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7850-1897-4111-BE54-CF8569B3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46E4-CE82-4D5D-AFC0-AFBFC25A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6790-3F3D-4A8A-9B51-068278E7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E464-9665-49DC-B336-88B0F89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1C8C-DD71-456B-9706-0BE3714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342-E23C-469E-8057-4C7C52F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E34E-0529-4D12-8CF7-19E49296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AA3-CE09-4477-9006-1123224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A4D6-7ACF-498E-8C67-644577ED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4E4-B21B-4ED4-88AC-E41AB130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02E0-5965-4E43-8F96-6ABA00F1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137-CD88-49D1-88D8-38F3388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C54-6A9C-443B-9AAC-5AB7F47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847-4F1E-469A-91DD-6E17903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DD1-007D-42BB-8B04-0F7C39DE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892-8EDC-4319-A3F0-AAE2C432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098-A49A-4A5B-99CE-80FF17EE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C36-E787-49F0-B359-05F36C5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143-188D-4079-9ABE-1674F8F31293}" type="slidenum">
              <a:rPr b="0" lang="es-C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3F42-5A5A-4E0D-B738-8888836F4675}" type="slidenum">
              <a:rPr b="0" lang="es-C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Botiquí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Mueble fijo o portátil que contenga los elementos indispensables y de más rápida y sencilla aplicación por PERSONA NO TÉCNICA EN SALU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mpleto,pero no atiborrado de elemen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ácil acce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rotegido c/lla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ARACTERIST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 material lav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Lista con inventario de elementos para su chequeo y reposi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iagrama e instrucciones de procedimientos más comunes por escr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Suero fisiológico. ( ampollas plásticas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asas estéri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Vendas elásticas de 10 y 8 c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Jabón de m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Antiséptico para heridas men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Férulas para inmoviliz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añuelos o toalla desech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ela adhes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Guantes o bolsas plas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ligros mas importantes de la Empresa . ( agentes de riesgos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finir persona responsable con curso de Primeros Auxil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antener y reponer los insumos periodicam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notar personas atendidas, nombre, Rut, diagnóstico prob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Cuidar de no tener clientes frecuen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CEDIMIEN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Medicamentos son de exclusiva indicación y responsabilidad                                    Med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1:32:19Z</dcterms:created>
  <dc:creator>María Ignacia Arteaga</dc:creator>
  <dc:description/>
  <dc:language>en-US</dc:language>
  <cp:lastModifiedBy>Fac. de Medicina</cp:lastModifiedBy>
  <dcterms:modified xsi:type="dcterms:W3CDTF">2007-04-05T19:10:36Z</dcterms:modified>
  <cp:revision>20</cp:revision>
  <dc:subject/>
  <dc:title>BOTIQUIN de PRIMEROS AUXIL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