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0D9-6B88-4C29-97ED-9D122B8F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1F4-3126-46A1-B24A-EAEA45C0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D5E-D681-4619-B4A8-8A19B325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510-7820-4C79-B361-1DF8376B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A2D7-22AA-45FB-AAFA-DF64D40B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03CA-B15F-45BD-AFB3-A1BC0F99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222E-46BB-4362-BB7F-4E8F8D05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328F-02C9-45C6-A68F-D97E1CA2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B05B-A747-4FA7-B1C1-C7F375DB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2310-D7DB-4AF2-868B-080B6669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68C7-546C-4255-ADB0-0BA6ED32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DB4-4316-4B89-8BFC-04E1B17F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5EDF-BB31-4B92-A09D-F55B7E7C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998B-FC5C-4B01-8C4F-CC92F123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E52B-590A-41D1-BE14-4C8474A7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9C49-5425-4F19-8164-6D5FDAE0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A482-7052-44F5-806C-C399A5AC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5ED-AC0D-445F-99BF-E7AAEB68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83F-6C5B-4C59-86C3-DABEB531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F12-51BA-437F-BF97-BA3E7A64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F2C-6E50-4384-9786-3496F4AB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52B-896F-419A-8D19-E132D3F1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1AA-68D8-4446-8851-32327C9C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083-B2BA-442B-B076-732F86A1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6471-83F1-4C29-A422-2EAFEC95C1D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5ABB-56F3-4626-AB41-E4055721FB0C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9807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99"/>
                </a:solidFill>
                <a:latin typeface="Tahoma"/>
              </a:rPr>
              <a:t>TRAUMATISMO ENCEFALO CRANEA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676520" y="609480"/>
          <a:ext cx="5667120" cy="551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66712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– Definició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Traumatismo encéfalo craneano, es un tipo de lesión que afecta al cerebro, ubicado dentro de la caja crane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76520" y="609480"/>
          <a:ext cx="5462640" cy="55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46264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- Clasifica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T.E.C. ABIER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Fractura de cran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T.E.C. CERR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Sin Fractura de crane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– Signos y Sintoma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Alteración del comporta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Alteración de la conci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Perdida de la sensibilidad y/o movilidad de las extrem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Nauseas, vomi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Pulso lento (&lt; de 50 por minuto</a:t>
            </a: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Convuls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Tahoma"/>
              </a:rPr>
              <a:t>Salida de liquido por nariz y/o oi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 E C – Primeros Auxilio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Evaluar estado de conci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Evaluar signos vit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Posición del paciente horizontal, inmovilizar cue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No dar nada por via or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Vigilar permeabilidad de via aere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Facilitar la respi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Cubrir heri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ahoma"/>
              </a:rPr>
              <a:t>Trasladar a centro asisten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21:58:40Z</dcterms:created>
  <dc:creator>Familia Zuñiga Tamblay</dc:creator>
  <dc:description/>
  <dc:language>en-US</dc:language>
  <cp:lastModifiedBy>Fac. de Medicina</cp:lastModifiedBy>
  <dcterms:modified xsi:type="dcterms:W3CDTF">2007-04-05T19:11:36Z</dcterms:modified>
  <cp:revision>5</cp:revision>
  <dc:subject/>
  <dc:title>TRAUMATISMO ENCEFALO CRANEANO</dc:title>
</cp:coreProperties>
</file>