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894-3C53-445A-A400-AF2D05B0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A48-8555-4D21-9484-7B411D3E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3EA-E5F1-434B-B3D8-BFE29694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3A7-2BB0-4FBB-AF7A-0E1BEA36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AA3-8280-4961-8352-35227B72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BF67-C165-4104-95DC-01F507C8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E7E6-9400-4E03-A0F0-B078F14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BB15-AFB8-4573-94A4-F77B894E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37C4-AE4A-4819-8734-19A85199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EE86-79C4-4BDA-9E49-550E8214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287B-014A-4D7A-A019-E54768C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C47-0D73-470C-A47F-9458BC9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7BA8-4CD7-422C-AF90-2E34BB30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4E07-C80A-40BB-8411-AA810C36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49DF-9A16-44BB-B1A0-18E4A7B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9E37-1B50-46C8-B0DA-0752E540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5CB9-B12B-427D-8855-5D870BD8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3EB-F0E8-4A6D-8345-65B1FE2F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7B5-15A4-4F0F-B043-A85DFF74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107-81AE-4B57-BB9D-7B51D0A8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CE6-3B2A-4D45-A621-81F0622D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2BC-3215-4230-8A50-3F8450B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396-3A76-4F4A-937D-01B2C5F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27F-F9C5-4FC0-8CFF-B4F083C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1F63-EF74-4146-B46A-4D3F67E0EDC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8CC-7861-4D7D-AD25-E76EAE19481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1c1c1c"/>
                </a:solidFill>
                <a:latin typeface="Tahoma"/>
              </a:rPr>
              <a:t>LESIONES </a:t>
            </a:r>
            <a:br>
              <a:rPr sz="4000"/>
            </a:br>
            <a:r>
              <a:rPr b="0" lang="es-ES_tradnl" sz="4000" spc="-1" strike="noStrike">
                <a:solidFill>
                  <a:srgbClr val="1c1c1c"/>
                </a:solidFill>
                <a:latin typeface="Tahoma"/>
              </a:rPr>
              <a:t>TRAUMATICAS TEJIDOS DU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la pérdida de continuidad del hueso o la ruptura del hueso y se diagnostica con radiografí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causada por golpes, caídas o proyect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Puede comprometer gravemente un órgano o la vida de la pers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lasifica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formidad de la zo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olor localizado que aumenta con el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ificultad de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Primeros Auxil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dicar que no se muev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movilizar la fractura, antes de trasladar al pacient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Retirar ropa  o cortarla si fuese neces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Trasladar a centro asist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EXPUESTA -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ontrolar hemorragia y prevenir el sh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tratar de introducir el hu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ubrir con apósito o paño limpio la herida antes de inmovil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aplicar pomadas u otras su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efectuar vendaje apre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abez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valuar estado de con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spejar vía aérea (retiro de cuerpo extra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Vigilar la respi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Cubrir herida y control de hemorrag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Prevenir el sh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FRACTURA - Costill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Facilitar la respi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No poner vendajes rígidos o muy apretados en tóra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Trasladar semisen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8800" spc="-1" strike="noStrike">
                <a:solidFill>
                  <a:srgbClr val="000000"/>
                </a:solidFill>
                <a:latin typeface="Tahoma"/>
              </a:rPr>
              <a:t>Gracias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c1c1c"/>
                </a:solidFill>
                <a:latin typeface="Tahoma"/>
              </a:rPr>
              <a:t>ESQUELE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562360" cy="4786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una lesión de los ligamentos, que son los que mantienen en su sitio  la articu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c1c1c"/>
                </a:solidFill>
                <a:latin typeface="Tahoma"/>
              </a:rPr>
              <a:t>Es causado por la flexión o extensión exagerada de las articulaciones, en que se sobrepasa los límites o rangos normales de movimi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Más frecuentes: muñeca, tobillo y de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c1c1c"/>
                </a:solidFill>
                <a:latin typeface="Tahoma"/>
              </a:rPr>
              <a:t>La consecuencia más grave de un esguince es la ruptura o desgarro de los ligamentos que apoyan la articulación, dañando en forma importante los vasos sanguineos, y otros tejidos vecinos de la articu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579096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Dolor intenso en la zona afecta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Dificultad del movi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ESGUINCE -Primeros Auxili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nmovilizar la zona afectada como si se tratara de una fractu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Aplicar compresas frí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levar la extrem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Repo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Defini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1c1c1c"/>
                </a:solidFill>
                <a:latin typeface="Tahoma"/>
              </a:rPr>
              <a:t>Es la pérdida total del contacto de las caras articulares de dos o más hu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09588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Signos y Sintom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eform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Dolor intenso en la parte afect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Hematoma o aumento de volu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Equimosis o moret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c1c1c"/>
                </a:solidFill>
                <a:latin typeface="Tahoma"/>
              </a:rPr>
              <a:t>Imposibilidad de mov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1c1c1c"/>
                </a:solidFill>
                <a:latin typeface="Tahoma"/>
              </a:rPr>
              <a:t>LUXACION - Primeros Auxilios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intentar acomodar los hue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colocar al accidentado en manos de composit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Inmovilizar , sin forzar el alineami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Reposo, extremidad en al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No mover al accidentado sin antes inmoviliz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1c1c1c"/>
                </a:solidFill>
                <a:latin typeface="Tahoma"/>
              </a:rPr>
              <a:t>Trasladar rápido a centro asist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projctor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08:51Z</dcterms:created>
  <dc:creator>Packard Bell NEC</dc:creator>
  <dc:description/>
  <dc:language>en-US</dc:language>
  <cp:lastModifiedBy>Fac. de Medicina</cp:lastModifiedBy>
  <dcterms:modified xsi:type="dcterms:W3CDTF">2007-04-05T19:11:11Z</dcterms:modified>
  <cp:revision>25</cp:revision>
  <dc:subject/>
  <dc:title>Presentación de PowerPoint</dc:title>
</cp:coreProperties>
</file>