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rojctor.wav" ContentType="audio/x-wav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451D-344C-4A4C-B9F8-F3754563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BAD7-A37D-40E2-9884-0B944AEE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8A0-C1D0-4322-BD05-38D44B0D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220A-92B4-419E-B7E8-F9325D62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BFAF-DC8C-4A79-A455-B1F7F35A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9C0A-CCFF-4F72-8EB5-828D4A6C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7F0E-B0A6-4FA6-84E2-76BA1D6F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2B7D-0A25-41A3-A02D-FF5BA992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4363-B11A-4C58-ACC2-73ABA9F4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8244-8D02-4329-8539-2E8DFCCC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B497-1850-4A91-A60B-8F2D5D2B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BB8B-E656-433D-AB79-71372DFF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9359-9B7F-443B-95AE-1DC961FD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BA0C-B1FD-48C9-BBFD-563FC4A3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01F7-AE8D-428D-BCBD-E532F4A3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CCD6-E59A-4EA9-824A-E6859D21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4B58-A4B2-406D-8D6E-3DB0BE0E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9F8-0442-42FF-AAC1-5BFFD8AE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9266-8A1F-4DD3-9955-03A5F473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BA52-FE8B-4841-AE1D-6DFA6B36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22F8-F404-4899-9D28-FEF62CA2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2945-C748-4705-A5DD-2019D2A6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CCC-C7CF-4180-95EA-881A8D7E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ACF8-2E63-40BF-B940-CFDEB61C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EB76-63F9-45CB-B0E0-34B7A07B33D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f5f5f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746748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C3C8-0FCC-44CF-B1AC-A43029E475D7}" type="slidenum"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f5f5f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esiones de Partes Bland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19640" y="4221000"/>
            <a:ext cx="503856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gia Capurro Peral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cuela de Enfermerí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CLASIFICACIÓN - SEGÚN AGENTE CAU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NZA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producidas por objetos con punta. No provocan gran sangramiento. Daño mínimo de la pi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4191120" cy="21333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CLASIFICACIÓN - SEGÚN AGENTE CAU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TU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producidas por objetos romos, caídas, aplastamiento, etc. Tiene bordes irregulares. Hay aumento de volu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29200" y="3276720"/>
            <a:ext cx="1828800" cy="31240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HERIDA PENETRANTE ABDOMI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 retirar el objeto que produjo la lesión, ya que se puede realizar más dañ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i ya fue retirado y existe salida de víscer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 intentar volver al interior de la cavidad abdomi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brir con apósito estéril húme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985160" y="62848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CLASIFICACIÓN - SEGÚN AGENTE CAU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ENETRA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n comprometer órganos vitales, por lo que es una lesión grave. (cuchillos, fierr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HERIDA PENETRANTE TORAX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 retirar el objeto que produjo la herida, existe la posibilidad de estar frente a lesión de pulm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i ya fue extraído se deb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errar el sitio de entrada con apósito y sellar con tela dejando una esquina lib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vitando así la entrada de aire al interior de la cavidad torác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GRAVE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ocaliz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fund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xtens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iempo transcurrido desde la les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uevo concepto de cur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herida y la zona de alrededor, será lavada con agua y jabón, que arrastra el 90% de los microorganism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herida debe ser tratada con la menos agre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 desinfectantes de usan alrededor de la herida o sea en la pi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herida se limpiará con suero fisiológico a temperatura amb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TÉCNICA DE CUR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495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vado prolijo de man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de guantes de procedimi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seo cuidadoso de la herida, dejando correr el agua de la zona limpia a la zona su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seo de la herida con suero fisiológ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422520" cy="2154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257800" y="4495680"/>
            <a:ext cx="3505320" cy="21830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projctor.wav"/>
      </p:stSnd>
    </p:sndAc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440" y="457200"/>
            <a:ext cx="3429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plicar desinfectante a los bordes de la heri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brir con gasa o apósitos hidrocoloides y fijar con tela adhesiv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181480" y="533520"/>
            <a:ext cx="3090960" cy="2743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800600" y="4724280"/>
            <a:ext cx="4114800" cy="12956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projctor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COMPLICAC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emorrag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fec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ol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umento de temperatura loc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rojecimiento de la zo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umento de volum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alida de liquido amarillento.(pu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CONTUSIONES</a:t>
            </a: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FINI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la lesión producida por objetos romos, sin daño aparente de la piel, con algún grado de hemorrag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nos presenta de dos forma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quimo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mato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unca tocar la herida con los de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unca usar desinfectantes sobre las heri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 toser , estornudar o “soplar”  sobre una les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plicar desinfectante al borde de la piel solamente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QUIMOSIS - coloración violeta o azulada, mancha en la pi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EMATOMA - aumento de volumen por acumulación de sang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3276720" cy="1438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19720" y="4952880"/>
            <a:ext cx="3429000" cy="13860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projctor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TRATA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vocar vasoconstricción del sistema circulatorio a través del hielo. Aplicar compresas frías o hie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poso , zona en al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226120" y="3500280"/>
            <a:ext cx="3770280" cy="31687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TRATAMIENTO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tinu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uego , aplicar calor para provocar vasodilatación y se produsca el proceso de reabsorción de los tejidos necróticos a través del sistema circulato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132000" y="4005360"/>
            <a:ext cx="3743640" cy="3860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780000" y="4941720"/>
            <a:ext cx="136836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HERID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erdida de continuidad de la piel o mucosa, producida por algún agente traumático, en las cuales puede haber perdida  de és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72200" y="3352680"/>
            <a:ext cx="2590920" cy="29718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CLASIF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gún capas de piel comprometi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perfici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fun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gún grado de contamin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imp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tamina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fecta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CLASIFICACIÓN - SEGÚN AGENTE CAU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rosiva o Abrasiv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producidas por frotación o roce de la piel con objetos ásperos o superficies áspe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806148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71800" y="3581280"/>
            <a:ext cx="2895480" cy="27669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CLASIFICACIÓN - SEGÚN AGENTE CAU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RTA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on producidas por objetos con filo, de bordes regulares; sangrando en forma profu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9880" y="4114800"/>
            <a:ext cx="2362320" cy="22748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08:51Z</dcterms:created>
  <dc:creator>Packard Bell NEC</dc:creator>
  <dc:description/>
  <dc:language>en-US</dc:language>
  <cp:lastModifiedBy>Fac. de Medicina</cp:lastModifiedBy>
  <dcterms:modified xsi:type="dcterms:W3CDTF">2007-04-02T18:56:53Z</dcterms:modified>
  <cp:revision>33</cp:revision>
  <dc:subject/>
  <dc:title>Presentación de PowerPoint</dc:title>
</cp:coreProperties>
</file>