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rojctor.wav" ContentType="audio/x-wav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F0E4-FEBA-43C1-BD27-CBC5D767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29BB-9178-4173-8CC3-F35B4ACC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E264-C197-4D50-84D1-007D5CB0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B002-BB49-45DC-8F5C-AF6B3B7E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D5A7-D992-4286-951A-1174C501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1198-1B62-4DCA-8FFB-B2E436FA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DED3-B9D6-4D5E-A243-617529E2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7B6E-7ED8-492A-8D2F-8E9F312A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8963-A002-408A-A6AD-08AB054E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DC39-6FDD-4EE8-B7F0-FC624174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FFB7-5AD6-4A86-BACE-E98E0D67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F1E5-F959-40ED-A55C-BD394D51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3369-D70F-4BA0-9DBE-84D7BE85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F498-1057-408C-A6F3-E3161231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F4D3-8E9F-423F-931A-218BA4AB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FA3F-9195-4BB9-AB57-2DB42E9C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BD9C-4F77-4FD4-BE45-557EA9B4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B138-0216-4EC5-8089-2F0A803C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88C6-37DC-45C9-8B78-AD944182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356D-31B5-4D01-9D18-7CD4A242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F785-6568-4190-BDCB-DB9EC335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3BBE-3EDA-4AAF-A62E-C63E1D86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F464-D4C8-4E10-9EF5-65347347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19EC-9685-41E6-BE35-7E421D5D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449B-DDDC-4103-9C59-189D844486B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f5f5f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746748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CBE9-2D52-4A1F-B42F-45F5833A839B}" type="slidenum"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f5f5f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esiones de Partes Bland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19640" y="4221000"/>
            <a:ext cx="503856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gia Capurro Peral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cuela de Enfermerí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CLASIFICACIÓN - SEGÚN AGENTE CAUS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NZA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producidas por objetos con punta. No provocan gran sangramiento. Daño mínimo de la pi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4191120" cy="21333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projctor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CLASIFICACIÓN - SEGÚN AGENTE CAUS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TUS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producidas por objetos romos, caídas, aplastamiento, etc. Tiene bordes irregulares. Hay aumento de volu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29200" y="3276720"/>
            <a:ext cx="1828800" cy="312408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projctor.wav"/>
      </p:stSnd>
    </p:sndAc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HERIDA PENETRANTE ABDOMI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o retirar el objeto que produjo la lesión, ya que se puede realizar más dañ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i ya fue retirado y existe salida de víscer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 intentar volver al interior de la cavidad abdomi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brir con apósito estéril húme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7985160" y="62848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CLASIFICACIÓN - SEGÚN AGENTE CAUS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ENETRA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n comprometer órganos vitales, por lo que es una lesión grave. (cuchillos, fierr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HERIDA PENETRANTE TORAXI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o retirar el objeto que produjo la herida, existe la posibilidad de estar frente a lesión de pulm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i ya fue extraído se deb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errar el sitio de entrada con apósito y sellar con tela dejando una esquina lib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vitando así la entrada de aire al interior de la cavidad torác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GRAVE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ocaliz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fund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xtens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iempo transcurrido desde la les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uevo concepto de cur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herida y la zona de alrededor, será lavada con agua y jabón, que arrastra el 90% de los microorganism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herida debe ser tratada con la menos agres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 desinfectantes de usan alrededor de la herida o sea en la pi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herida se limpiará con suero fisiológico a temperatura amb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TÉCNICA DE CUR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495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vado prolijo de man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 de guantes de procedimi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seo cuidadoso de la herida, dejando correr el agua de la zona limpia a la zona suc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seo de la herida con suero fisiológ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422520" cy="2154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257800" y="4495680"/>
            <a:ext cx="3505320" cy="21830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projctor.wav"/>
      </p:stSnd>
    </p:sndAc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440" y="457200"/>
            <a:ext cx="3429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plicar desinfectante a los bordes de la heri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brir con gasa o apósitos hidrocoloides y fijar con tela adhesiv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181480" y="533520"/>
            <a:ext cx="3090960" cy="2743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800600" y="4724280"/>
            <a:ext cx="4114800" cy="12956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projctor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COMPLICAC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emorrag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fec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ol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umento de temperatura loc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rojecimiento de la zo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umento de volum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alida de liquido amarillento.(pu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CONTUSIONES</a:t>
            </a: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FINI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la lesión producida por objetos romos, sin daño aparente de la piel, con algún grado de hemorrag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nos presenta de dos forma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quimo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emato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unca tocar la herida con los de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unca usar desinfectantes sobre las herid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o toser , estornudar o “soplar”  sobre una les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plicar desinfectante al borde de la piel solamente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QUIMOSIS - coloración violeta o azulada, mancha en la pi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HEMATOMA - aumento de volumen por acumulación de sang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3276720" cy="1438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19720" y="4952880"/>
            <a:ext cx="3429000" cy="13860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projctor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TRATAMI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vocar vasoconstricción del sistema circulatorio a través del hielo. Aplicar compresas frías o hie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poso , zona en al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226120" y="3500280"/>
            <a:ext cx="3770280" cy="31687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projctor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TRATAMIENTO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tinu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uego , aplicar calor para provocar vasodilatación y se produsca el proceso de reabsorción de los tejidos necróticos a través del sistema circulato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132000" y="4005360"/>
            <a:ext cx="3743640" cy="3860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780000" y="4941720"/>
            <a:ext cx="1368360" cy="4597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projctor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HERID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erdida de continuidad de la piel o mucosa, producida por algún agente traumático, en las cuales puede haber perdida  de és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72200" y="3352680"/>
            <a:ext cx="2590920" cy="29718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projctor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CLASIFIC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gún capas de piel comprometid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uperfici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fun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gún grado de contamin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imp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tamina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fecta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CLASIFICACIÓN - SEGÚN AGENTE CAUS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rosiva o Abrasiv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producidas por frotación o roce de la piel con objetos ásperos o superficies áspe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806148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971800" y="3581280"/>
            <a:ext cx="2895480" cy="27669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projctor.wav"/>
      </p:stSnd>
    </p:sndAc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CLASIFICACIÓN - SEGÚN AGENTE CAUS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RTA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on producidas por objetos con filo, de bordes regulares; sangrando en forma profus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9880" y="4114800"/>
            <a:ext cx="2362320" cy="22748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projctor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05:08:51Z</dcterms:created>
  <dc:creator>Packard Bell NEC</dc:creator>
  <dc:description/>
  <dc:language>en-US</dc:language>
  <cp:lastModifiedBy>Fac. de Medicina</cp:lastModifiedBy>
  <dcterms:modified xsi:type="dcterms:W3CDTF">2007-04-02T18:56:53Z</dcterms:modified>
  <cp:revision>33</cp:revision>
  <dc:subject/>
  <dc:title>Presentación de PowerPoint</dc:title>
</cp:coreProperties>
</file>