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A9B-40A8-415E-8EBE-22635293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358-8CC2-4FFF-B7D2-B602DCD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AE0-6655-4BA9-87B5-C16C01D7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3DE-FAE2-4459-80A6-348F690D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6E21-7B2B-4160-B729-704D1008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DB2-7352-4A9C-A248-D579D4B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889-8C85-4257-82C4-0CB6339C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682-F83A-446D-816B-972EF98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C9CD-486E-481D-A9C8-194E1AA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970A-6E4D-4531-B908-86F313F4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43A-F446-4EA5-9001-826B2B1A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754-D46A-4A93-AFDE-8ACC1BC1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69C-D0E7-410E-B74D-D8BC3E4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DC2-F6F5-4957-ACD8-0BDE939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C1CC-70BE-4D8E-B722-5DDB0BE5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E824-5F41-42CC-B031-078C2C34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83B9-D701-42C4-9B16-6F679E92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552-B1C2-4B39-98A6-56FB195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977-0384-4BCC-BED0-1B751A65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F4F-2787-47FF-885D-476C43B2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314-66B4-467F-8134-38BC120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034-D15D-47A8-8254-123FCDE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F57-A1C0-43A4-BC26-408CE5E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204-F087-4747-BF57-1195F33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6F8F-21C2-4A55-BD5D-ED1826358B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f5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376-7FA8-4A0D-B56E-9E3A234346ED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f5f5f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siones de Partes Bla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19640" y="4221000"/>
            <a:ext cx="50385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ia Capurro Pera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uela de Enfermer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Z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objetos con punta. No provocan gran sangramiento. Daño mínimo de la pi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4191120" cy="213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U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objetos romos, caídas, aplastamiento, etc. Tiene bordes irregulares. Hay aumento de vol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182880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HERIDA PENETRANTE ABDO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etirar el objeto que produjo la lesión, ya que se puede realizar más dañ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ya fue retirado y existe salida de vísc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intentar volver al interior de la cavidad abdom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con apósito estéril húme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985160" y="6284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ENETR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comprometer órganos vitales, por lo que es una lesión grave. (cuchillos, fierr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HERIDA PENETRANTE TORAX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etirar el objeto que produjo la herida, existe la posibilidad de estar frente a lesión de pulm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ya fue extraído se de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rar el sitio de entrada con apósito y sellar con tela dejando una esquina lib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itando así la entrada de aire al interior de la cavidad torác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GRAVE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cal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und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xten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iempo transcurrido desde la l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evo concepto de cur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y la zona de alrededor, será lavada con agua y jabón, que arrastra el 90% de los microorganis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debe ser tratada con la menos agre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desinfectantes de usan alrededor de la herida o sea en la pi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herida se limpiará con suero fisiológico a temperatura amb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ÉCNICA DE CU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vado prolijo de 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guantes de proced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o cuidadoso de la herida, dejando correr el agua de la zona limpia a la zona su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o de la herida con suero fisioló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22520" cy="2154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7800" y="4495680"/>
            <a:ext cx="3505320" cy="2183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3429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r desinfectante a los bordes de la her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con gasa o apósitos hidrocoloides y fijar con tela adhes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09096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OMPL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emorrag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e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mento de temperatura loc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rojecimiento de la zo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mento de volu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alida de liquido amarillento.(pu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CONTUSIONES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la lesión producida por objetos romos, sin daño aparente de la piel, con algún grado de hemorrag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os presenta de dos form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mo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mato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unca tocar la herida con los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unca usar desinfectantes sobre las her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toser , estornudar o “soplar”  sobre una l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licar desinfectante al borde de la piel solamente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QUIMOSIS - coloración violeta o azulada, mancha en la pi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EMATOMA - aumento de volumen por acumulación de sang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3276720" cy="1438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4952880"/>
            <a:ext cx="3429000" cy="1386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rojcto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RAT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vocar vasoconstricción del sistema circulatorio a través del hielo. Aplicar compresas frías o hi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poso , zona en al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26120" y="3500280"/>
            <a:ext cx="377028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RATAMIENTO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inu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, aplicar calor para provocar vasodilatación y se produsca el proceso de reabsorción de los tejidos necróticos a través del sistema circulato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743640" cy="3860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80000" y="4941720"/>
            <a:ext cx="136836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HERID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dida de continuidad de la piel o mucosa, producida por algún agente traumático, en las cuales puede haber perdida  de é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gún capas de piel comprometi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erfi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fu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gún grado de contamin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im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amin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ect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osiva o Abras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producidas por frotación o roce de la piel con objetos ásperos o superficies áspe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06148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895480" cy="27669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LASIFICACIÓN - SEGÚN AGENTE CAU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T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producidas por objetos con filo, de bordes regulares; sangrando en forma profu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4114800"/>
            <a:ext cx="2362320" cy="2274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02T18:56:53Z</dcterms:modified>
  <cp:revision>33</cp:revision>
  <dc:subject/>
  <dc:title>Presentación de PowerPoint</dc:title>
</cp:coreProperties>
</file>