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2DB-5420-4F21-85B4-D5979C1F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1C3-F6BF-4D05-8F5B-9C563B8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4A9-B3ED-4C72-9AF7-04DD1276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0D5-1681-482E-B804-152ADAC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182-9D64-4821-AE23-D03CF6F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EBF-3FC3-48C6-80B7-A76561D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A13-A241-47B2-862A-702A183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66E-C1D1-4461-A8DC-05520BAF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84-4F7B-42D7-9B2C-6E9CE6A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436-7843-424E-B276-22DC842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F15-689E-4E21-B807-FC77DAFF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A92-BF91-4C88-9220-84B3DD9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F70-1625-41EF-BCAD-C1B1B3E3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FISIOLOGÍA INTEG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9384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f. Encargado de Curso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r. Sergio Villanuev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cretaria Docente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a. Patricia Campos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(Sector G; Primer 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arreras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nfermería / Obstetricia /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ivel: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gundo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ódigos: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NFFISINT2 / OBSFISINT2 / NUFISI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Docente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grama de Fisiología y Bi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HORARIO Y LUGAR DE ACTIV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341360"/>
          <a:ext cx="8785440" cy="3751200"/>
        </p:xfrm>
        <a:graphic>
          <a:graphicData uri="http://schemas.openxmlformats.org/drawingml/2006/table">
            <a:tbl>
              <a:tblPr/>
              <a:tblGrid>
                <a:gridCol w="1871640"/>
                <a:gridCol w="2305080"/>
                <a:gridCol w="1440000"/>
                <a:gridCol w="316872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ug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l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8:30 - 10:30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uditorio Emilio Croi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minario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:30 - 17:00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:30 - 17:00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iérc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Jue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alas Docencia. Programa de Fisiología y Biofís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valu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er Calendario de Actividades en el Programa de la Asign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0" y="5515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* El día depende de la carrera y semestre (Ver Calendario de Actividades en el Programa de la Asigna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7760"/>
            <a:ext cx="91440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SCRIPCION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n esta asignatura se estudian los principios fundamentales que sustentan el funcionamiento del cuerpo humano sano, analizando la función individual y la interrelación existente entre los distintos sistemas de órganos que desempeñan las funciones vitales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JETIV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ocer y comprender los mecanismos físicos y químicos elementales que determinan los principales procesos bi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zar el funcionamiento normal de los diferentes sistemas del organismo h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ar las funciones de los diferentes sistemas y de los mecanismos que los regu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ORGANIZACIÓN DE LA ASIGN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 DIVIDE EN 8 CAPÍTULOS (UNIDADES TEMÁTIC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I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BI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II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EUROFISI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III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CARDIO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IV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DE LA SANGRE 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V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DEL SISTEM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PI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VI: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RENAL, EQUILIBRI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DROSALINO Y ÁCIDO -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VII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DEL SISTEMA ENDOC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UNIDAD VIII: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ISIOLOGÍA DEL SISTEMA DIGES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ada capítulo tiene su profesor coordinador, a quien se debe dirigir cualquier inquietud relacionada con el contenido del capítulo en cu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Los aspectos reglamentarios del curso (evaluación, requisitos de asistencia, etc.) y otra información relevante (profesores participantes, contenidos específicos, bibliografía, etc.) se encuentran detallados en el programa de la asign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ara recibir el programa y material del curso, el alumno debe estar inscr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La inscripción se realiza en la Secretaría Docente del Programa de Fisiología y Biofísica (Sector G, primer piso; Sra. Patricia Camp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La inscripción requiere una foto color tamaño carnet, indicando nombre completo (con o sin RUT)... ¡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ntre hoy y mañana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8240" y="2816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Arial"/>
              </a:rPr>
              <a:t>¿Pregunta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9:50:43Z</dcterms:created>
  <dc:creator>Sergio R. Villanueva Boratovic</dc:creator>
  <dc:description/>
  <dc:language>en-US</dc:language>
  <cp:lastModifiedBy>Sergio R. Villanueva Boratovic</cp:lastModifiedBy>
  <dcterms:modified xsi:type="dcterms:W3CDTF">2007-03-05T21:19:57Z</dcterms:modified>
  <cp:revision>24</cp:revision>
  <dc:subject/>
  <dc:title>FISIOLOGÍA</dc:title>
</cp:coreProperties>
</file>