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B423-37AC-4F09-B14D-A94F0AD7F01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2A9E-EC5C-4F9A-9D78-951E629C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7B3-4793-440B-A890-487E8F17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126-B44D-467A-B2BF-35B1A8F5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C12A-D620-4E87-85E9-7F7CB4D0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7C3-465D-4BAF-B9EE-FC0B0C4E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EE7-FC97-4EFB-AA81-65D0075D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9FB-4670-4364-A678-30096BDB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3926-613A-4EB2-A8B3-1E2E7072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605-A08C-4491-BB48-1CA74274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14F-B46A-48C4-B2BF-E2D66F9A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FFC-E30F-45DE-8FEA-33248DAE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349A-2051-471F-AAF2-46F9892D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BACF-2286-42A7-A962-AC7EA77B9DB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33640" y="2827440"/>
            <a:ext cx="542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Inmunidad Innata</a:t>
            </a:r>
            <a:r>
              <a:rPr b="1" lang="es-ES" sz="4400" spc="-1" strike="noStrike">
                <a:solidFill>
                  <a:srgbClr val="ffff00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1008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12880" y="2971800"/>
            <a:ext cx="65181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2440" y="216000"/>
            <a:ext cx="834372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57720" y="4699080"/>
            <a:ext cx="6290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rebuchet MS"/>
              </a:rPr>
              <a:t>Marcela Hermoso Ramello, Ph.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rebuchet MS"/>
              </a:rPr>
              <a:t>Programa Disciplinario de Inmunolog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Macrófag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6080" y="1641600"/>
            <a:ext cx="6813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Células sentinelas de larga vi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Fagocitan invasores extraños para su de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Derivan de monocitos sanguí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Se distribuyen en tejido conectivo asociad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tejidos superficiales, hígado y baz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Reconocimiento de patógenos a través de recep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específicos y de manosa y el sistema del comple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89320" y="4467240"/>
            <a:ext cx="25272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25000" y="1464120"/>
            <a:ext cx="662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Tienen una vida media corta de horas y se produc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diariamente en gran número en la médula ó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8320" y="366120"/>
            <a:ext cx="25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Verdana"/>
              </a:rPr>
              <a:t>Neutrófi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43080" y="2813040"/>
            <a:ext cx="8610480" cy="3340080"/>
            <a:chOff x="343080" y="2813040"/>
            <a:chExt cx="8610480" cy="3340080"/>
          </a:xfrm>
        </p:grpSpPr>
        <p:grpSp>
          <p:nvGrpSpPr>
            <p:cNvPr id="150" name=""/>
            <p:cNvGrpSpPr/>
            <p:nvPr/>
          </p:nvGrpSpPr>
          <p:grpSpPr>
            <a:xfrm>
              <a:off x="343080" y="2813040"/>
              <a:ext cx="8610480" cy="3340080"/>
              <a:chOff x="343080" y="2813040"/>
              <a:chExt cx="8610480" cy="3340080"/>
            </a:xfrm>
          </p:grpSpPr>
          <p:pic>
            <p:nvPicPr>
              <p:cNvPr id="1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4240" y="2813040"/>
                <a:ext cx="8599320" cy="334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343080" y="2819520"/>
                <a:ext cx="1143000" cy="2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6019920" y="5842080"/>
              <a:ext cx="292104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48640" y="765720"/>
            <a:ext cx="79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Los neutrófilos migran a través de la circulación al siti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infección en respuesta a la liberación de IL-8 por los macrófag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346040" y="1911240"/>
            <a:ext cx="6527880" cy="4743720"/>
            <a:chOff x="1346040" y="1911240"/>
            <a:chExt cx="6527880" cy="474372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1370160" y="1911240"/>
              <a:ext cx="6503760" cy="473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346040" y="1917720"/>
              <a:ext cx="1016280" cy="20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75320" y="6426360"/>
              <a:ext cx="2260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37440" y="2403720"/>
            <a:ext cx="7497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Linfocitos citotóxicos que no expresan TCR o I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Producidas en la médula ósea, liberados a la cir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y migran al tejido conectivo circundante de las superfici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órga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Atacar y destruir células infectadas  por virus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reducir la propagación de la inf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79812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Verdana"/>
              </a:rPr>
              <a:t>Células</a:t>
            </a:r>
            <a:r>
              <a:rPr b="0" lang="es-MX" sz="3200" spc="-1" strike="noStrike">
                <a:solidFill>
                  <a:srgbClr val="ffff00"/>
                </a:solidFill>
                <a:latin typeface="Verdana"/>
              </a:rPr>
              <a:t> 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254160" y="1650960"/>
            <a:ext cx="8572320" cy="5181480"/>
            <a:chOff x="254160" y="1650960"/>
            <a:chExt cx="8572320" cy="5181480"/>
          </a:xfrm>
        </p:grpSpPr>
        <p:grpSp>
          <p:nvGrpSpPr>
            <p:cNvPr id="162" name=""/>
            <p:cNvGrpSpPr/>
            <p:nvPr/>
          </p:nvGrpSpPr>
          <p:grpSpPr>
            <a:xfrm>
              <a:off x="254160" y="1650960"/>
              <a:ext cx="8572320" cy="5181480"/>
              <a:chOff x="254160" y="1650960"/>
              <a:chExt cx="8572320" cy="518148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254160" y="1650960"/>
                <a:ext cx="8572320" cy="5181480"/>
                <a:chOff x="254160" y="1650960"/>
                <a:chExt cx="8572320" cy="5181480"/>
              </a:xfrm>
            </p:grpSpPr>
            <p:pic>
              <p:nvPicPr>
                <p:cNvPr id="16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97000" y="1681200"/>
                  <a:ext cx="8523360" cy="514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5" name=""/>
                <p:cNvSpPr/>
                <p:nvPr/>
              </p:nvSpPr>
              <p:spPr>
                <a:xfrm>
                  <a:off x="254160" y="1650960"/>
                  <a:ext cx="1104840" cy="228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918400" y="6578640"/>
                  <a:ext cx="2908080" cy="25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266760" y="1994040"/>
                <a:ext cx="4216320" cy="88884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Verdana"/>
                  </a:rPr>
                  <a:t>Virus y bacterias inducen la producció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Verdana"/>
                  </a:rPr>
                  <a:t>de IL-12 por DCs. IL-12 activa a las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Verdana"/>
                  </a:rPr>
                  <a:t>células NK las que producen INF-</a:t>
                </a:r>
                <a:r>
                  <a:rPr b="1" lang="es-ES_tradnl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4686480" y="1994040"/>
              <a:ext cx="4076640" cy="9396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Las células T vírgenes se activan e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respuesta a IL-12 e INF-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65560" y="303840"/>
            <a:ext cx="755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Las NK protegen al huésped contra la infección de bacteri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(tuberculosis o lepra). Las NK responden a la liberación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IL-12 e IL-18 por MCFs y liberan IFN</a:t>
            </a:r>
            <a:r>
              <a:rPr b="0" lang="es-ES_tradnl" sz="2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, una citoquina de ayu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que activa mecanismos antibacteria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08080" y="110160"/>
            <a:ext cx="737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Mecanismos de acción de las N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1: Tienen receptores Fc y reconocen anticuerpos específi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unidos a células infectadas y las destruy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2: reconocen y destruyen células infectadas por vir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con menor expresión de MHC clase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16040" y="1727280"/>
            <a:ext cx="7710480" cy="5130360"/>
            <a:chOff x="716040" y="1727280"/>
            <a:chExt cx="7710480" cy="513036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716040" y="1746720"/>
              <a:ext cx="7710480" cy="511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22880" y="1727280"/>
              <a:ext cx="917280" cy="19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25160" y="6668640"/>
              <a:ext cx="2584440" cy="16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00040" y="12747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17560" y="1206360"/>
            <a:ext cx="7583400" cy="4368960"/>
            <a:chOff x="817560" y="1206360"/>
            <a:chExt cx="7583400" cy="4368960"/>
          </a:xfrm>
        </p:grpSpPr>
        <p:grpSp>
          <p:nvGrpSpPr>
            <p:cNvPr id="177" name=""/>
            <p:cNvGrpSpPr/>
            <p:nvPr/>
          </p:nvGrpSpPr>
          <p:grpSpPr>
            <a:xfrm>
              <a:off x="817560" y="1220760"/>
              <a:ext cx="7583400" cy="4354560"/>
              <a:chOff x="817560" y="1220760"/>
              <a:chExt cx="7583400" cy="4354560"/>
            </a:xfrm>
          </p:grpSpPr>
          <p:pic>
            <p:nvPicPr>
              <p:cNvPr id="1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17560" y="1220760"/>
                <a:ext cx="7583400" cy="435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825480" y="1231920"/>
                <a:ext cx="99072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29120" y="5371920"/>
                <a:ext cx="2565720" cy="20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416400" y="1206360"/>
              <a:ext cx="2374920" cy="5590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Célula infectad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con vir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65640" y="1959480"/>
            <a:ext cx="797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Las NK destruyen las células blanco liberando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erforina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y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granzima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 que ingresa a la célula a través de los po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generados por la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erforina</a:t>
            </a:r>
            <a:r>
              <a:rPr b="0" lang="es-ES_tradnl" sz="2000" spc="-1" strike="noStrike">
                <a:solidFill>
                  <a:srgbClr val="ffff00"/>
                </a:solidFill>
                <a:latin typeface="Verdana"/>
              </a:rPr>
              <a:t> e induce la muerte celular apoptó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386000" y="1866960"/>
          <a:ext cx="632916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6000" y="1866960"/>
                    <a:ext cx="632916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85800" y="519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Efectos antivirales de citoqui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18200" y="1946520"/>
            <a:ext cx="8140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Derivan de monocitos sanguíne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* Captan, procesan y presentan los remanentes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patógeno al nodo linfático local, donde presentan pépt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del patógeno a células T vírgenes, generando linfocitos T efe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Verdana"/>
              </a:rPr>
              <a:t>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Las CDs unen la inmunidad innata con la adquir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5360" y="798120"/>
            <a:ext cx="42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Verdana"/>
              </a:rPr>
              <a:t>Células dendrí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38080" y="380880"/>
            <a:ext cx="55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ivación del sistema Inmune In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064600" y="1549440"/>
            <a:ext cx="5125680" cy="4472640"/>
            <a:chOff x="2064600" y="1549440"/>
            <a:chExt cx="5125680" cy="4472640"/>
          </a:xfrm>
        </p:grpSpPr>
        <p:sp>
          <p:nvSpPr>
            <p:cNvPr id="55" name=""/>
            <p:cNvSpPr/>
            <p:nvPr/>
          </p:nvSpPr>
          <p:spPr>
            <a:xfrm flipV="1">
              <a:off x="2971800" y="3962160"/>
              <a:ext cx="35053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200400" y="4419360"/>
              <a:ext cx="350532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67080" y="43434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14800" y="49528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343400" y="48751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48320" y="472428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48320" y="487692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62520" y="52578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57600" y="52578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4120" y="45720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715000" y="4266720"/>
              <a:ext cx="7621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33720" y="1752480"/>
              <a:ext cx="4038480" cy="1473480"/>
            </a:xfrm>
            <a:custGeom>
              <a:avLst/>
              <a:gdLst/>
              <a:ahLst/>
              <a:rect l="l" t="t" r="r" b="b"/>
              <a:pathLst>
                <a:path w="2544" h="928">
                  <a:moveTo>
                    <a:pt x="0" y="864"/>
                  </a:moveTo>
                  <a:cubicBezTo>
                    <a:pt x="132" y="896"/>
                    <a:pt x="264" y="928"/>
                    <a:pt x="384" y="912"/>
                  </a:cubicBezTo>
                  <a:cubicBezTo>
                    <a:pt x="504" y="896"/>
                    <a:pt x="584" y="856"/>
                    <a:pt x="720" y="768"/>
                  </a:cubicBezTo>
                  <a:cubicBezTo>
                    <a:pt x="856" y="680"/>
                    <a:pt x="1056" y="464"/>
                    <a:pt x="1200" y="384"/>
                  </a:cubicBezTo>
                  <a:cubicBezTo>
                    <a:pt x="1344" y="304"/>
                    <a:pt x="1432" y="304"/>
                    <a:pt x="1584" y="288"/>
                  </a:cubicBezTo>
                  <a:cubicBezTo>
                    <a:pt x="1736" y="272"/>
                    <a:pt x="1952" y="336"/>
                    <a:pt x="2112" y="288"/>
                  </a:cubicBezTo>
                  <a:cubicBezTo>
                    <a:pt x="2272" y="240"/>
                    <a:pt x="2472" y="48"/>
                    <a:pt x="25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505320" y="3276720"/>
              <a:ext cx="380880" cy="457200"/>
              <a:chOff x="3505320" y="3276720"/>
              <a:chExt cx="380880" cy="457200"/>
            </a:xfrm>
          </p:grpSpPr>
          <p:sp>
            <p:nvSpPr>
              <p:cNvPr id="68" name=""/>
              <p:cNvSpPr/>
              <p:nvPr/>
            </p:nvSpPr>
            <p:spPr>
              <a:xfrm>
                <a:off x="3505320" y="3276720"/>
                <a:ext cx="38088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619440" y="3391200"/>
                <a:ext cx="151920" cy="22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4267080" y="3886200"/>
              <a:ext cx="228600" cy="2286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44360" y="3858480"/>
              <a:ext cx="36036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4295880" y="3349800"/>
              <a:ext cx="18720" cy="46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3848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91120" y="3124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19720" y="31240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520" y="3505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4340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38480" y="32004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86200" y="30481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30481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4571640" y="3200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33920" y="20574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9880" y="220968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1676520"/>
              <a:ext cx="3045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352680"/>
              <a:ext cx="3045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268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403848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10080" y="2971800"/>
              <a:ext cx="304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181120" y="3276720"/>
              <a:ext cx="3049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66840" y="1549440"/>
              <a:ext cx="91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Microb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70640" y="2311560"/>
              <a:ext cx="48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Pi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17960" y="3301920"/>
              <a:ext cx="137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Comple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64600" y="388620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Macróf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3800" y="5715000"/>
              <a:ext cx="111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eutrófil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73720" y="5029200"/>
              <a:ext cx="150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Vaso sanguíne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54960" y="1676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54960" y="33526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1900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Inmunidad Innata gatilla la Inmunidad Adapt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74760" y="1628640"/>
            <a:ext cx="855504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P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581120"/>
            <a:ext cx="79250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atógenos son especialmente procariontes, y tienen estructura molecular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son compartidos con su hués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n compartidos por varios patógenos relacio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n relativamente invariables, no evolucionan rápidamente (a diferencia de moléculas de patógenos como hemaglutinina y neuraminidasa de virus influenz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P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9960" y="1676520"/>
            <a:ext cx="81727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lagelina del flagelo bacter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ptidoglicano de bacterias gram-posi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popolisacáridos (LPS o endotoxinas) de bacterias gram-neg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N de doble cadena (algunos virus de animales y plantas tienen genoma dsARN o ARN convertido en huésped a ds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N no metilado (varias de las islas CpG presentan adosados grupos meti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PRRs: Receptores de Reconocimiento de Patóge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360" y="2400480"/>
            <a:ext cx="80582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léculas secretadas que circulan en sangre y lin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eptores de superficie de células fagocíticas como macrófagos que unen al patógeno y lo rod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eptores de superficie celular que unen al patógeno iniciando una señal que provoca la liberación de moléculas efectoras (citoquin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95360" y="2463840"/>
            <a:ext cx="80582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Receptor f-Met-Leu-Phe (une péptidos N-formil, y atrae neutrófi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Receptores scavenger: 6 tipos con diferente especificidad (reconocen polímeros aniónicos y lipoproteínas de baja-densidad acetilad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CD14 (receptor presente en la superficie de pagocitos que facilitan el reconocimiento de LP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1600" y="855720"/>
            <a:ext cx="84582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PRRs: Receptores de Reconocimiento de Patóge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1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1. PRRs secret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26542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roteínas circulantes que unen residuos de manosa presentes en la superficie de patógenos. La interacción gatilla el clivaje de componentes del compl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252960" y="3790800"/>
            <a:ext cx="2409480" cy="2324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266840" y="1424160"/>
            <a:ext cx="63262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33640" y="954000"/>
            <a:ext cx="658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FUNCION EFECTORA D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SISTEMA DEL COMPLE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67840" y="2289240"/>
            <a:ext cx="6668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Opsonización por C3b se dirige a partículas foráne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y las fagocita en el sitio del da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Quimiotaxis por C5a atrae células fagocíticas al si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 la inju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Aumento de la permeabilidad vascular mediado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C3a y C5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06280" y="2314800"/>
            <a:ext cx="7026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Componentes tempranos del C´solubilizan comple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c-Ag favoreciendo su catabolismo y elimin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alteraciones promueve trastornos de complejos inmu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Lisis de células cubiertas por anticuer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nfermedad R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nemia hem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*Promover formación de anticuerpos, C3d aumentan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u reconocimiento por células dendríticas y linfocito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95480" y="585360"/>
            <a:ext cx="658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FUNCION EFECTORA D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Verdana"/>
              </a:rPr>
              <a:t>SISTEMA DEL COMPLE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2. Receptores fagocí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6720" y="2419200"/>
            <a:ext cx="7734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* Receptor de manosa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resentes en la superficie celular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del macróf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* Receptores que reconocen ciertos PAMPs (aquellos que contienen manos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20560" y="520560"/>
            <a:ext cx="7632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hrlich y Metchnikoff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describieron dos sistemas separados por el cual el huésped previene la infecció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hrlich </a:t>
            </a:r>
            <a:r>
              <a:rPr b="1" i="1" lang="es-CL" sz="16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Las ‘</a:t>
            </a:r>
            <a:r>
              <a:rPr b="0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antitoxinas’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(</a:t>
            </a:r>
            <a:r>
              <a:rPr b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anticuerpos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forma de prot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inmunidad adapta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xclusiva de vertebrad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Metchnikoff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Los fagocit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forma de prote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inmunidad innat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Estas células fueron inicialmente identificadas en invertebrados (equinodermos) y están representadas en casi todos los organismos.</a:t>
            </a:r>
            <a:r>
              <a:rPr b="0" lang="es-ES" sz="16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452840" y="0"/>
            <a:ext cx="383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020240" y="143640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Arial"/>
              </a:rPr>
              <a:t>Recept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Arial"/>
              </a:rPr>
              <a:t>de mano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324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3. Receptores tipo Toll (TL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6720" y="2057400"/>
            <a:ext cx="7734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crófagos, Células dendríticas y células Epiteliales presentan un set de receptores de transmemebrana que reconocen diversos PAM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60440" y="4133880"/>
            <a:ext cx="4594320" cy="19368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60440" y="3870360"/>
            <a:ext cx="4594320" cy="26352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2943360" y="2725560"/>
            <a:ext cx="205560" cy="2552040"/>
            <a:chOff x="2943360" y="2725560"/>
            <a:chExt cx="205560" cy="2552040"/>
          </a:xfrm>
        </p:grpSpPr>
        <p:sp>
          <p:nvSpPr>
            <p:cNvPr id="215" name=""/>
            <p:cNvSpPr/>
            <p:nvPr/>
          </p:nvSpPr>
          <p:spPr>
            <a:xfrm>
              <a:off x="2949120" y="2725560"/>
              <a:ext cx="188640" cy="1606320"/>
            </a:xfrm>
            <a:prstGeom prst="ellipse">
              <a:avLst/>
            </a:prstGeom>
            <a:gradFill rotWithShape="0">
              <a:gsLst>
                <a:gs pos="0">
                  <a:srgbClr val="6600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49120" y="4155120"/>
              <a:ext cx="188640" cy="924840"/>
            </a:xfrm>
            <a:custGeom>
              <a:avLst/>
              <a:gdLst>
                <a:gd name="textAreaLeft" fmla="*/ 9000 w 188640"/>
                <a:gd name="textAreaRight" fmla="*/ 179640 w 188640"/>
                <a:gd name="textAreaTop" fmla="*/ 9000 h 924840"/>
                <a:gd name="textAreaBottom" fmla="*/ 915840 h 924840"/>
              </a:gdLst>
              <a:ahLst/>
              <a:rect l="textAreaLeft" t="textAreaTop" r="textAreaRight" b="textAreaBottom"/>
              <a:pathLst>
                <a:path w="21600" h="105737">
                  <a:moveTo>
                    <a:pt x="3600" y="0"/>
                  </a:moveTo>
                  <a:arcTo wR="3600" hR="3600" stAng="16200000" swAng="-5400000"/>
                  <a:lnTo>
                    <a:pt x="0" y="102137"/>
                  </a:lnTo>
                  <a:arcTo wR="3600" hR="3600" stAng="10800000" swAng="-5400000"/>
                  <a:lnTo>
                    <a:pt x="18000" y="1057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6600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49120" y="3895920"/>
              <a:ext cx="199800" cy="272160"/>
            </a:xfrm>
            <a:custGeom>
              <a:avLst/>
              <a:gdLst>
                <a:gd name="textAreaLeft" fmla="*/ 9720 w 199800"/>
                <a:gd name="textAreaRight" fmla="*/ 190080 w 199800"/>
                <a:gd name="textAreaTop" fmla="*/ 9720 h 272160"/>
                <a:gd name="textAreaBottom" fmla="*/ 262440 h 272160"/>
              </a:gdLst>
              <a:ahLst/>
              <a:rect l="textAreaLeft" t="textAreaTop" r="textAreaRight" b="textAreaBottom"/>
              <a:pathLst>
                <a:path w="21600" h="29409">
                  <a:moveTo>
                    <a:pt x="3600" y="0"/>
                  </a:moveTo>
                  <a:arcTo wR="3600" hR="3600" stAng="16200000" swAng="-5400000"/>
                  <a:lnTo>
                    <a:pt x="0" y="25809"/>
                  </a:lnTo>
                  <a:arcTo wR="3600" hR="3600" stAng="10800000" swAng="-5400000"/>
                  <a:lnTo>
                    <a:pt x="18000" y="294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50000">
                  <a:srgbClr val="ffffff"/>
                </a:gs>
                <a:gs pos="100000">
                  <a:srgbClr val="6600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3240" y="29847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73240" y="3202200"/>
              <a:ext cx="14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43360" y="3392640"/>
              <a:ext cx="19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43360" y="355572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43360" y="3719160"/>
              <a:ext cx="17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52360" y="5087160"/>
              <a:ext cx="175680" cy="190440"/>
            </a:xfrm>
            <a:prstGeom prst="flowChartAlternateProcess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462560" y="2197080"/>
            <a:ext cx="190440" cy="188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62560" y="4137120"/>
            <a:ext cx="209520" cy="931680"/>
          </a:xfrm>
          <a:custGeom>
            <a:avLst/>
            <a:gdLst>
              <a:gd name="textAreaLeft" fmla="*/ 10080 w 209520"/>
              <a:gd name="textAreaRight" fmla="*/ 199440 w 209520"/>
              <a:gd name="textAreaTop" fmla="*/ 10080 h 931680"/>
              <a:gd name="textAreaBottom" fmla="*/ 921600 h 931680"/>
            </a:gdLst>
            <a:ahLst/>
            <a:rect l="textAreaLeft" t="textAreaTop" r="textAreaRight" b="textAreaBottom"/>
            <a:pathLst>
              <a:path w="21600" h="95922">
                <a:moveTo>
                  <a:pt x="3600" y="0"/>
                </a:moveTo>
                <a:arcTo wR="3600" hR="3600" stAng="16200000" swAng="-5400000"/>
                <a:lnTo>
                  <a:pt x="0" y="92322"/>
                </a:lnTo>
                <a:arcTo wR="3600" hR="3600" stAng="10800000" swAng="-5400000"/>
                <a:lnTo>
                  <a:pt x="18000" y="95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62560" y="3887640"/>
            <a:ext cx="199800" cy="254160"/>
          </a:xfrm>
          <a:custGeom>
            <a:avLst/>
            <a:gdLst>
              <a:gd name="textAreaLeft" fmla="*/ 9720 w 199800"/>
              <a:gd name="textAreaRight" fmla="*/ 190080 w 199800"/>
              <a:gd name="textAreaTop" fmla="*/ 9720 h 254160"/>
              <a:gd name="textAreaBottom" fmla="*/ 244440 h 254160"/>
            </a:gdLst>
            <a:ahLst/>
            <a:rect l="textAreaLeft" t="textAreaTop" r="textAreaRight" b="textAreaBottom"/>
            <a:pathLst>
              <a:path w="21600" h="27466">
                <a:moveTo>
                  <a:pt x="3600" y="0"/>
                </a:moveTo>
                <a:arcTo wR="3600" hR="3600" stAng="16200000" swAng="-5400000"/>
                <a:lnTo>
                  <a:pt x="0" y="23866"/>
                </a:lnTo>
                <a:arcTo wR="3600" hR="3600" stAng="10800000" swAng="-5400000"/>
                <a:lnTo>
                  <a:pt x="18000" y="274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86320" y="2500200"/>
            <a:ext cx="1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27558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56080" y="2978280"/>
            <a:ext cx="19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56080" y="317196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56080" y="3362400"/>
            <a:ext cx="17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65800" y="5075280"/>
            <a:ext cx="176040" cy="183960"/>
          </a:xfrm>
          <a:prstGeom prst="flowChartAlternateProcess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56080" y="3429000"/>
            <a:ext cx="206280" cy="26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56080" y="3567240"/>
            <a:ext cx="20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57600" y="5264280"/>
            <a:ext cx="0" cy="20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73880" y="23288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044880" y="2680920"/>
            <a:ext cx="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89840" y="17924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59400" y="2152440"/>
            <a:ext cx="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81200" y="54230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67040" y="5283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4880" y="5278320"/>
            <a:ext cx="0" cy="4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09560" y="206856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37000" y="145908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D. melanog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793480" y="3498840"/>
            <a:ext cx="196920" cy="284040"/>
          </a:xfrm>
          <a:prstGeom prst="flowChartDelay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788800" y="3159000"/>
            <a:ext cx="196920" cy="284400"/>
          </a:xfrm>
          <a:prstGeom prst="flowChartDelay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788800" y="2824200"/>
            <a:ext cx="196920" cy="284040"/>
          </a:xfrm>
          <a:prstGeom prst="flowChartDelay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892840" y="4118040"/>
            <a:ext cx="190440" cy="931680"/>
          </a:xfrm>
          <a:custGeom>
            <a:avLst/>
            <a:gdLst>
              <a:gd name="textAreaLeft" fmla="*/ 9000 w 190440"/>
              <a:gd name="textAreaRight" fmla="*/ 181440 w 190440"/>
              <a:gd name="textAreaTop" fmla="*/ 9000 h 931680"/>
              <a:gd name="textAreaBottom" fmla="*/ 922680 h 931680"/>
            </a:gdLst>
            <a:ahLst/>
            <a:rect l="textAreaLeft" t="textAreaTop" r="textAreaRight" b="textAreaBottom"/>
            <a:pathLst>
              <a:path w="21600" h="105514">
                <a:moveTo>
                  <a:pt x="3600" y="0"/>
                </a:moveTo>
                <a:arcTo wR="3600" hR="3600" stAng="16200000" swAng="-5400000"/>
                <a:lnTo>
                  <a:pt x="0" y="101914"/>
                </a:lnTo>
                <a:arcTo wR="3600" hR="3600" stAng="10800000" swAng="-5400000"/>
                <a:lnTo>
                  <a:pt x="18000" y="1055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92840" y="3867120"/>
            <a:ext cx="200160" cy="254160"/>
          </a:xfrm>
          <a:custGeom>
            <a:avLst/>
            <a:gdLst>
              <a:gd name="textAreaLeft" fmla="*/ 9720 w 200160"/>
              <a:gd name="textAreaRight" fmla="*/ 190440 w 200160"/>
              <a:gd name="textAreaTop" fmla="*/ 9720 h 254160"/>
              <a:gd name="textAreaBottom" fmla="*/ 244440 h 254160"/>
            </a:gdLst>
            <a:ahLst/>
            <a:rect l="textAreaLeft" t="textAreaTop" r="textAreaRight" b="textAreaBottom"/>
            <a:pathLst>
              <a:path w="21600" h="27417">
                <a:moveTo>
                  <a:pt x="3600" y="0"/>
                </a:moveTo>
                <a:arcTo wR="3600" hR="3600" stAng="16200000" swAng="-5400000"/>
                <a:lnTo>
                  <a:pt x="0" y="23817"/>
                </a:lnTo>
                <a:arcTo wR="3600" hR="3600" stAng="10800000" swAng="-5400000"/>
                <a:lnTo>
                  <a:pt x="18000" y="274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94280" y="5054760"/>
            <a:ext cx="193680" cy="185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5976720" y="2687400"/>
            <a:ext cx="14040" cy="11746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19760" y="5221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997600" y="5241600"/>
            <a:ext cx="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03560" y="23414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26920" y="175896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Verteb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Verdana"/>
              </a:rPr>
              <a:t>IL1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62280" y="555948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L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81480" y="571356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58520" y="379440"/>
            <a:ext cx="538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Receptores tipo T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8600" y="4048200"/>
            <a:ext cx="8591400" cy="242892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28600" y="3718080"/>
            <a:ext cx="8591400" cy="33012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5425920" y="2629080"/>
            <a:ext cx="177480" cy="2473920"/>
            <a:chOff x="5425920" y="2629080"/>
            <a:chExt cx="177480" cy="2473920"/>
          </a:xfrm>
        </p:grpSpPr>
        <p:sp>
          <p:nvSpPr>
            <p:cNvPr id="262" name=""/>
            <p:cNvSpPr/>
            <p:nvPr/>
          </p:nvSpPr>
          <p:spPr>
            <a:xfrm>
              <a:off x="5430960" y="2629080"/>
              <a:ext cx="162000" cy="155700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30960" y="4014000"/>
              <a:ext cx="162000" cy="89748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897480"/>
                <a:gd name="textAreaBottom" fmla="*/ 889560 h 897480"/>
              </a:gdLst>
              <a:ahLst/>
              <a:rect l="textAreaLeft" t="textAreaTop" r="textAreaRight" b="textAreaBottom"/>
              <a:pathLst>
                <a:path w="21600" h="119447">
                  <a:moveTo>
                    <a:pt x="3600" y="0"/>
                  </a:moveTo>
                  <a:arcTo wR="3600" hR="3600" stAng="16200000" swAng="-5400000"/>
                  <a:lnTo>
                    <a:pt x="0" y="115847"/>
                  </a:lnTo>
                  <a:arcTo wR="3600" hR="3600" stAng="10800000" swAng="-5400000"/>
                  <a:lnTo>
                    <a:pt x="18000" y="1194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30960" y="3763440"/>
              <a:ext cx="172440" cy="263880"/>
            </a:xfrm>
            <a:custGeom>
              <a:avLst/>
              <a:gdLst>
                <a:gd name="textAreaLeft" fmla="*/ 8280 w 172440"/>
                <a:gd name="textAreaRight" fmla="*/ 164160 w 17244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030">
                  <a:moveTo>
                    <a:pt x="3600" y="0"/>
                  </a:moveTo>
                  <a:arcTo wR="3600" hR="3600" stAng="16200000" swAng="-5400000"/>
                  <a:lnTo>
                    <a:pt x="0" y="29430"/>
                  </a:lnTo>
                  <a:arcTo wR="3600" hR="3600" stAng="10800000" swAng="-5400000"/>
                  <a:lnTo>
                    <a:pt x="18000" y="330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51120" y="2879640"/>
              <a:ext cx="13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51120" y="309096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25920" y="327600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25920" y="3433680"/>
              <a:ext cx="17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25920" y="3592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33840" y="4918320"/>
              <a:ext cx="151560" cy="184680"/>
            </a:xfrm>
            <a:prstGeom prst="flowChartAlternate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964640" y="2641680"/>
            <a:ext cx="177120" cy="2475720"/>
            <a:chOff x="7964640" y="2641680"/>
            <a:chExt cx="177120" cy="2475720"/>
          </a:xfrm>
        </p:grpSpPr>
        <p:sp>
          <p:nvSpPr>
            <p:cNvPr id="272" name=""/>
            <p:cNvSpPr/>
            <p:nvPr/>
          </p:nvSpPr>
          <p:spPr>
            <a:xfrm>
              <a:off x="7969680" y="2641680"/>
              <a:ext cx="161640" cy="1558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69680" y="4028400"/>
              <a:ext cx="161640" cy="897120"/>
            </a:xfrm>
            <a:custGeom>
              <a:avLst/>
              <a:gdLst>
                <a:gd name="textAreaLeft" fmla="*/ 7560 w 161640"/>
                <a:gd name="textAreaRight" fmla="*/ 154080 w 161640"/>
                <a:gd name="textAreaTop" fmla="*/ 7560 h 897120"/>
                <a:gd name="textAreaBottom" fmla="*/ 889560 h 897120"/>
              </a:gdLst>
              <a:ahLst/>
              <a:rect l="textAreaLeft" t="textAreaTop" r="textAreaRight" b="textAreaBottom"/>
              <a:pathLst>
                <a:path w="21600" h="119664">
                  <a:moveTo>
                    <a:pt x="3600" y="0"/>
                  </a:moveTo>
                  <a:arcTo wR="3600" hR="3600" stAng="16200000" swAng="-5400000"/>
                  <a:lnTo>
                    <a:pt x="0" y="116064"/>
                  </a:lnTo>
                  <a:arcTo wR="3600" hR="3600" stAng="10800000" swAng="-5400000"/>
                  <a:lnTo>
                    <a:pt x="18000" y="1196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69680" y="3777120"/>
              <a:ext cx="172080" cy="263880"/>
            </a:xfrm>
            <a:custGeom>
              <a:avLst/>
              <a:gdLst>
                <a:gd name="textAreaLeft" fmla="*/ 8280 w 172080"/>
                <a:gd name="textAreaRight" fmla="*/ 163800 w 17208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099">
                  <a:moveTo>
                    <a:pt x="3600" y="0"/>
                  </a:moveTo>
                  <a:arcTo wR="3600" hR="3600" stAng="16200000" swAng="-5400000"/>
                  <a:lnTo>
                    <a:pt x="0" y="29499"/>
                  </a:lnTo>
                  <a:arcTo wR="3600" hR="3600" stAng="10800000" swAng="-5400000"/>
                  <a:lnTo>
                    <a:pt x="18000" y="330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89840" y="2892960"/>
              <a:ext cx="1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89840" y="3103920"/>
              <a:ext cx="12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64640" y="328896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64640" y="3447000"/>
              <a:ext cx="17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64640" y="36054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71840" y="4932720"/>
              <a:ext cx="151920" cy="18468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911160" y="2629080"/>
            <a:ext cx="351720" cy="2473200"/>
            <a:chOff x="911160" y="2629080"/>
            <a:chExt cx="351720" cy="2473200"/>
          </a:xfrm>
        </p:grpSpPr>
        <p:grpSp>
          <p:nvGrpSpPr>
            <p:cNvPr id="282" name=""/>
            <p:cNvGrpSpPr/>
            <p:nvPr/>
          </p:nvGrpSpPr>
          <p:grpSpPr>
            <a:xfrm>
              <a:off x="911160" y="2629080"/>
              <a:ext cx="177120" cy="2473200"/>
              <a:chOff x="911160" y="2629080"/>
              <a:chExt cx="177120" cy="2473200"/>
            </a:xfrm>
          </p:grpSpPr>
          <p:sp>
            <p:nvSpPr>
              <p:cNvPr id="283" name=""/>
              <p:cNvSpPr/>
              <p:nvPr/>
            </p:nvSpPr>
            <p:spPr>
              <a:xfrm>
                <a:off x="916200" y="2629080"/>
                <a:ext cx="161640" cy="15570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16200" y="4014000"/>
                <a:ext cx="161640" cy="897480"/>
              </a:xfrm>
              <a:custGeom>
                <a:avLst/>
                <a:gdLst>
                  <a:gd name="textAreaLeft" fmla="*/ 7560 w 161640"/>
                  <a:gd name="textAreaRight" fmla="*/ 154080 w 161640"/>
                  <a:gd name="textAreaTop" fmla="*/ 7560 h 897480"/>
                  <a:gd name="textAreaBottom" fmla="*/ 889920 h 897480"/>
                </a:gdLst>
                <a:ahLst/>
                <a:rect l="textAreaLeft" t="textAreaTop" r="textAreaRight" b="textAreaBottom"/>
                <a:pathLst>
                  <a:path w="21600" h="119712">
                    <a:moveTo>
                      <a:pt x="3600" y="0"/>
                    </a:moveTo>
                    <a:arcTo wR="3600" hR="3600" stAng="16200000" swAng="-5400000"/>
                    <a:lnTo>
                      <a:pt x="0" y="116112"/>
                    </a:lnTo>
                    <a:arcTo wR="3600" hR="3600" stAng="10800000" swAng="-5400000"/>
                    <a:lnTo>
                      <a:pt x="18000" y="11971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00ff"/>
                  </a:gs>
                  <a:gs pos="50000">
                    <a:srgbClr val="ffffff"/>
                  </a:gs>
                  <a:gs pos="100000">
                    <a:srgbClr val="ff00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916200" y="3763440"/>
                <a:ext cx="172080" cy="263880"/>
              </a:xfrm>
              <a:custGeom>
                <a:avLst/>
                <a:gdLst>
                  <a:gd name="textAreaLeft" fmla="*/ 8280 w 172080"/>
                  <a:gd name="textAreaRight" fmla="*/ 163800 w 172080"/>
                  <a:gd name="textAreaTop" fmla="*/ 8280 h 263880"/>
                  <a:gd name="textAreaBottom" fmla="*/ 255600 h 263880"/>
                </a:gdLst>
                <a:ahLst/>
                <a:rect l="textAreaLeft" t="textAreaTop" r="textAreaRight" b="textAreaBottom"/>
                <a:pathLst>
                  <a:path w="21600" h="33099">
                    <a:moveTo>
                      <a:pt x="3600" y="0"/>
                    </a:moveTo>
                    <a:arcTo wR="3600" hR="3600" stAng="16200000" swAng="-5400000"/>
                    <a:lnTo>
                      <a:pt x="0" y="29499"/>
                    </a:lnTo>
                    <a:arcTo wR="3600" hR="3600" stAng="10800000" swAng="-5400000"/>
                    <a:lnTo>
                      <a:pt x="18000" y="330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00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936360" y="287964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936360" y="3090240"/>
                <a:ext cx="1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911160" y="3275280"/>
                <a:ext cx="1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11160" y="3433680"/>
                <a:ext cx="17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11160" y="359244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18360" y="4917600"/>
                <a:ext cx="151920" cy="184680"/>
              </a:xfrm>
              <a:prstGeom prst="flowChartAlternateProcess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085760" y="2629080"/>
              <a:ext cx="177120" cy="2473200"/>
              <a:chOff x="1085760" y="2629080"/>
              <a:chExt cx="177120" cy="2473200"/>
            </a:xfrm>
          </p:grpSpPr>
          <p:sp>
            <p:nvSpPr>
              <p:cNvPr id="293" name=""/>
              <p:cNvSpPr/>
              <p:nvPr/>
            </p:nvSpPr>
            <p:spPr>
              <a:xfrm>
                <a:off x="1090800" y="2629080"/>
                <a:ext cx="162000" cy="1556640"/>
              </a:xfrm>
              <a:prstGeom prst="ellips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090800" y="4014360"/>
                <a:ext cx="162000" cy="896400"/>
              </a:xfrm>
              <a:custGeom>
                <a:avLst/>
                <a:gdLst>
                  <a:gd name="textAreaLeft" fmla="*/ 7920 w 162000"/>
                  <a:gd name="textAreaRight" fmla="*/ 154080 w 162000"/>
                  <a:gd name="textAreaTop" fmla="*/ 7920 h 896400"/>
                  <a:gd name="textAreaBottom" fmla="*/ 888480 h 896400"/>
                </a:gdLst>
                <a:ahLst/>
                <a:rect l="textAreaLeft" t="textAreaTop" r="textAreaRight" b="textAreaBottom"/>
                <a:pathLst>
                  <a:path w="21600" h="119303">
                    <a:moveTo>
                      <a:pt x="3600" y="0"/>
                    </a:moveTo>
                    <a:arcTo wR="3600" hR="3600" stAng="16200000" swAng="-5400000"/>
                    <a:lnTo>
                      <a:pt x="0" y="115703"/>
                    </a:lnTo>
                    <a:arcTo wR="3600" hR="3600" stAng="10800000" swAng="-5400000"/>
                    <a:lnTo>
                      <a:pt x="18000" y="1193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090800" y="3763080"/>
                <a:ext cx="172080" cy="263880"/>
              </a:xfrm>
              <a:custGeom>
                <a:avLst/>
                <a:gdLst>
                  <a:gd name="textAreaLeft" fmla="*/ 8280 w 172080"/>
                  <a:gd name="textAreaRight" fmla="*/ 163800 w 172080"/>
                  <a:gd name="textAreaTop" fmla="*/ 8280 h 263880"/>
                  <a:gd name="textAreaBottom" fmla="*/ 255600 h 263880"/>
                </a:gdLst>
                <a:ahLst/>
                <a:rect l="textAreaLeft" t="textAreaTop" r="textAreaRight" b="textAreaBottom"/>
                <a:pathLst>
                  <a:path w="21600" h="33099">
                    <a:moveTo>
                      <a:pt x="3600" y="0"/>
                    </a:moveTo>
                    <a:arcTo wR="3600" hR="3600" stAng="16200000" swAng="-5400000"/>
                    <a:lnTo>
                      <a:pt x="0" y="29499"/>
                    </a:lnTo>
                    <a:arcTo wR="3600" hR="3600" stAng="10800000" swAng="-5400000"/>
                    <a:lnTo>
                      <a:pt x="18000" y="330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50000">
                    <a:srgbClr val="ffffff"/>
                  </a:gs>
                  <a:gs pos="100000">
                    <a:srgbClr val="66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11320" y="2880000"/>
                <a:ext cx="13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11320" y="3090960"/>
                <a:ext cx="12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85760" y="3275640"/>
                <a:ext cx="16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85760" y="3433320"/>
                <a:ext cx="1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085760" y="35920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093680" y="4917600"/>
                <a:ext cx="151200" cy="184680"/>
              </a:xfrm>
              <a:prstGeom prst="flowChartAlternateProcess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"/>
          <p:cNvSpPr/>
          <p:nvPr/>
        </p:nvSpPr>
        <p:spPr>
          <a:xfrm>
            <a:off x="321480" y="3138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48840" y="32623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276640" y="2641680"/>
            <a:ext cx="351720" cy="2475720"/>
            <a:chOff x="2276640" y="2641680"/>
            <a:chExt cx="351720" cy="2475720"/>
          </a:xfrm>
        </p:grpSpPr>
        <p:sp>
          <p:nvSpPr>
            <p:cNvPr id="305" name=""/>
            <p:cNvSpPr/>
            <p:nvPr/>
          </p:nvSpPr>
          <p:spPr>
            <a:xfrm>
              <a:off x="2281680" y="2641680"/>
              <a:ext cx="162000" cy="155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1680" y="4027680"/>
              <a:ext cx="162000" cy="89820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898200"/>
                <a:gd name="textAreaBottom" fmla="*/ 890280 h 898200"/>
              </a:gdLst>
              <a:ahLst/>
              <a:rect l="textAreaLeft" t="textAreaTop" r="textAreaRight" b="textAreaBottom"/>
              <a:pathLst>
                <a:path w="21600" h="119542">
                  <a:moveTo>
                    <a:pt x="3600" y="0"/>
                  </a:moveTo>
                  <a:arcTo wR="3600" hR="3600" stAng="16200000" swAng="-5400000"/>
                  <a:lnTo>
                    <a:pt x="0" y="115942"/>
                  </a:lnTo>
                  <a:arcTo wR="3600" hR="3600" stAng="10800000" swAng="-5400000"/>
                  <a:lnTo>
                    <a:pt x="18000" y="1195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81680" y="3777120"/>
              <a:ext cx="171720" cy="263880"/>
            </a:xfrm>
            <a:custGeom>
              <a:avLst/>
              <a:gdLst>
                <a:gd name="textAreaLeft" fmla="*/ 8280 w 171720"/>
                <a:gd name="textAreaRight" fmla="*/ 163440 w 17172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168">
                  <a:moveTo>
                    <a:pt x="3600" y="0"/>
                  </a:moveTo>
                  <a:arcTo wR="3600" hR="3600" stAng="16200000" swAng="-5400000"/>
                  <a:lnTo>
                    <a:pt x="0" y="29568"/>
                  </a:lnTo>
                  <a:arcTo wR="3600" hR="3600" stAng="10800000" swAng="-5400000"/>
                  <a:lnTo>
                    <a:pt x="18000" y="331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01840" y="2892240"/>
              <a:ext cx="13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01840" y="310392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76640" y="328896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76640" y="344700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76640" y="3605400"/>
              <a:ext cx="15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3840" y="4932720"/>
              <a:ext cx="151920" cy="184680"/>
            </a:xfrm>
            <a:prstGeom prst="flowChartAlternateProcess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2451240" y="2641680"/>
              <a:ext cx="177120" cy="2475000"/>
              <a:chOff x="2451240" y="2641680"/>
              <a:chExt cx="177120" cy="2475000"/>
            </a:xfrm>
          </p:grpSpPr>
          <p:sp>
            <p:nvSpPr>
              <p:cNvPr id="315" name=""/>
              <p:cNvSpPr/>
              <p:nvPr/>
            </p:nvSpPr>
            <p:spPr>
              <a:xfrm>
                <a:off x="2456280" y="2641680"/>
                <a:ext cx="162000" cy="1557720"/>
              </a:xfrm>
              <a:prstGeom prst="ellips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56280" y="4028040"/>
                <a:ext cx="162000" cy="897120"/>
              </a:xfrm>
              <a:custGeom>
                <a:avLst/>
                <a:gdLst>
                  <a:gd name="textAreaLeft" fmla="*/ 7920 w 162000"/>
                  <a:gd name="textAreaRight" fmla="*/ 154080 w 162000"/>
                  <a:gd name="textAreaTop" fmla="*/ 7920 h 897120"/>
                  <a:gd name="textAreaBottom" fmla="*/ 889200 h 897120"/>
                </a:gdLst>
                <a:ahLst/>
                <a:rect l="textAreaLeft" t="textAreaTop" r="textAreaRight" b="textAreaBottom"/>
                <a:pathLst>
                  <a:path w="21600" h="119399">
                    <a:moveTo>
                      <a:pt x="3600" y="0"/>
                    </a:moveTo>
                    <a:arcTo wR="3600" hR="3600" stAng="16200000" swAng="-5400000"/>
                    <a:lnTo>
                      <a:pt x="0" y="115799"/>
                    </a:lnTo>
                    <a:arcTo wR="3600" hR="3600" stAng="10800000" swAng="-5400000"/>
                    <a:lnTo>
                      <a:pt x="18000" y="1193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56280" y="3776760"/>
                <a:ext cx="172080" cy="263880"/>
              </a:xfrm>
              <a:custGeom>
                <a:avLst/>
                <a:gdLst>
                  <a:gd name="textAreaLeft" fmla="*/ 8280 w 172080"/>
                  <a:gd name="textAreaRight" fmla="*/ 163800 w 172080"/>
                  <a:gd name="textAreaTop" fmla="*/ 8280 h 263880"/>
                  <a:gd name="textAreaBottom" fmla="*/ 255600 h 263880"/>
                </a:gdLst>
                <a:ahLst/>
                <a:rect l="textAreaLeft" t="textAreaTop" r="textAreaRight" b="textAreaBottom"/>
                <a:pathLst>
                  <a:path w="21600" h="33099">
                    <a:moveTo>
                      <a:pt x="3600" y="0"/>
                    </a:moveTo>
                    <a:arcTo wR="3600" hR="3600" stAng="16200000" swAng="-5400000"/>
                    <a:lnTo>
                      <a:pt x="0" y="29499"/>
                    </a:lnTo>
                    <a:arcTo wR="3600" hR="3600" stAng="10800000" swAng="-5400000"/>
                    <a:lnTo>
                      <a:pt x="18000" y="3309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50000">
                    <a:srgbClr val="ffffff"/>
                  </a:gs>
                  <a:gs pos="100000">
                    <a:srgbClr val="66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476800" y="2892960"/>
                <a:ext cx="13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476800" y="3103920"/>
                <a:ext cx="12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451240" y="3288600"/>
                <a:ext cx="16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451240" y="3446640"/>
                <a:ext cx="1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51240" y="36054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459160" y="4932000"/>
                <a:ext cx="151200" cy="184680"/>
              </a:xfrm>
              <a:prstGeom prst="flowChartAlternateProcess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1661400" y="28908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6560" y="31528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424320" y="2614680"/>
            <a:ext cx="177480" cy="2474280"/>
            <a:chOff x="3424320" y="2614680"/>
            <a:chExt cx="177480" cy="2474280"/>
          </a:xfrm>
        </p:grpSpPr>
        <p:sp>
          <p:nvSpPr>
            <p:cNvPr id="327" name=""/>
            <p:cNvSpPr/>
            <p:nvPr/>
          </p:nvSpPr>
          <p:spPr>
            <a:xfrm>
              <a:off x="3429360" y="2614680"/>
              <a:ext cx="162000" cy="155700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9360" y="4000320"/>
              <a:ext cx="162000" cy="897120"/>
            </a:xfrm>
            <a:custGeom>
              <a:avLst/>
              <a:gdLst>
                <a:gd name="textAreaLeft" fmla="*/ 7920 w 162000"/>
                <a:gd name="textAreaRight" fmla="*/ 154080 w 162000"/>
                <a:gd name="textAreaTop" fmla="*/ 7920 h 897120"/>
                <a:gd name="textAreaBottom" fmla="*/ 889200 h 897120"/>
              </a:gdLst>
              <a:ahLst/>
              <a:rect l="textAreaLeft" t="textAreaTop" r="textAreaRight" b="textAreaBottom"/>
              <a:pathLst>
                <a:path w="21600" h="119399">
                  <a:moveTo>
                    <a:pt x="3600" y="0"/>
                  </a:moveTo>
                  <a:arcTo wR="3600" hR="3600" stAng="16200000" swAng="-5400000"/>
                  <a:lnTo>
                    <a:pt x="0" y="115799"/>
                  </a:lnTo>
                  <a:arcTo wR="3600" hR="3600" stAng="10800000" swAng="-5400000"/>
                  <a:lnTo>
                    <a:pt x="18000" y="1193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29360" y="3749760"/>
              <a:ext cx="172440" cy="263160"/>
            </a:xfrm>
            <a:custGeom>
              <a:avLst/>
              <a:gdLst>
                <a:gd name="textAreaLeft" fmla="*/ 8280 w 172440"/>
                <a:gd name="textAreaRight" fmla="*/ 164160 w 172440"/>
                <a:gd name="textAreaTop" fmla="*/ 8280 h 263160"/>
                <a:gd name="textAreaBottom" fmla="*/ 254880 h 263160"/>
              </a:gdLst>
              <a:ahLst/>
              <a:rect l="textAreaLeft" t="textAreaTop" r="textAreaRight" b="textAreaBottom"/>
              <a:pathLst>
                <a:path w="21600" h="32940">
                  <a:moveTo>
                    <a:pt x="3600" y="0"/>
                  </a:moveTo>
                  <a:arcTo wR="3600" hR="3600" stAng="16200000" swAng="-5400000"/>
                  <a:lnTo>
                    <a:pt x="0" y="29340"/>
                  </a:lnTo>
                  <a:arcTo wR="3600" hR="3600" stAng="10800000" swAng="-5400000"/>
                  <a:lnTo>
                    <a:pt x="18000" y="32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49520" y="2865240"/>
              <a:ext cx="13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49520" y="307620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4320" y="326088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4320" y="3419640"/>
              <a:ext cx="1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24320" y="3577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31520" y="4904280"/>
              <a:ext cx="152280" cy="184680"/>
            </a:xfrm>
            <a:prstGeom prst="flowChartAlternateProcess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561840" y="289404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475160" y="2629080"/>
            <a:ext cx="177120" cy="2473920"/>
            <a:chOff x="4475160" y="2629080"/>
            <a:chExt cx="177120" cy="2473920"/>
          </a:xfrm>
        </p:grpSpPr>
        <p:sp>
          <p:nvSpPr>
            <p:cNvPr id="338" name=""/>
            <p:cNvSpPr/>
            <p:nvPr/>
          </p:nvSpPr>
          <p:spPr>
            <a:xfrm>
              <a:off x="4480200" y="2629080"/>
              <a:ext cx="162360" cy="1557720"/>
            </a:xfrm>
            <a:prstGeom prst="ellips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80200" y="4014720"/>
              <a:ext cx="162360" cy="897480"/>
            </a:xfrm>
            <a:custGeom>
              <a:avLst/>
              <a:gdLst>
                <a:gd name="textAreaLeft" fmla="*/ 7920 w 162360"/>
                <a:gd name="textAreaRight" fmla="*/ 154440 w 162360"/>
                <a:gd name="textAreaTop" fmla="*/ 7920 h 897480"/>
                <a:gd name="textAreaBottom" fmla="*/ 889560 h 897480"/>
              </a:gdLst>
              <a:ahLst/>
              <a:rect l="textAreaLeft" t="textAreaTop" r="textAreaRight" b="textAreaBottom"/>
              <a:pathLst>
                <a:path w="21600" h="119182">
                  <a:moveTo>
                    <a:pt x="3600" y="0"/>
                  </a:moveTo>
                  <a:arcTo wR="3600" hR="3600" stAng="16200000" swAng="-5400000"/>
                  <a:lnTo>
                    <a:pt x="0" y="115582"/>
                  </a:lnTo>
                  <a:arcTo wR="3600" hR="3600" stAng="10800000" swAng="-5400000"/>
                  <a:lnTo>
                    <a:pt x="18000" y="119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80200" y="3763800"/>
              <a:ext cx="172080" cy="263880"/>
            </a:xfrm>
            <a:custGeom>
              <a:avLst/>
              <a:gdLst>
                <a:gd name="textAreaLeft" fmla="*/ 8280 w 172080"/>
                <a:gd name="textAreaRight" fmla="*/ 163800 w 172080"/>
                <a:gd name="textAreaTop" fmla="*/ 8280 h 263880"/>
                <a:gd name="textAreaBottom" fmla="*/ 255600 h 263880"/>
              </a:gdLst>
              <a:ahLst/>
              <a:rect l="textAreaLeft" t="textAreaTop" r="textAreaRight" b="textAreaBottom"/>
              <a:pathLst>
                <a:path w="21600" h="33099">
                  <a:moveTo>
                    <a:pt x="3600" y="0"/>
                  </a:moveTo>
                  <a:arcTo wR="3600" hR="3600" stAng="16200000" swAng="-5400000"/>
                  <a:lnTo>
                    <a:pt x="0" y="29499"/>
                  </a:lnTo>
                  <a:arcTo wR="3600" hR="3600" stAng="10800000" swAng="-5400000"/>
                  <a:lnTo>
                    <a:pt x="18000" y="330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50000">
                  <a:srgbClr val="ffffff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00360" y="2879640"/>
              <a:ext cx="13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00360" y="3090600"/>
              <a:ext cx="12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75160" y="3275280"/>
              <a:ext cx="16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75160" y="3434040"/>
              <a:ext cx="17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75160" y="359244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82360" y="4918320"/>
              <a:ext cx="152640" cy="184680"/>
            </a:xfrm>
            <a:prstGeom prst="flowChartAlternateProcess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622040" y="2922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27160" y="29908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715080" y="2614680"/>
            <a:ext cx="177480" cy="2474280"/>
            <a:chOff x="6715080" y="2614680"/>
            <a:chExt cx="177480" cy="2474280"/>
          </a:xfrm>
        </p:grpSpPr>
        <p:sp>
          <p:nvSpPr>
            <p:cNvPr id="350" name=""/>
            <p:cNvSpPr/>
            <p:nvPr/>
          </p:nvSpPr>
          <p:spPr>
            <a:xfrm>
              <a:off x="6720120" y="2614680"/>
              <a:ext cx="162360" cy="1557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20120" y="4000320"/>
              <a:ext cx="162360" cy="897120"/>
            </a:xfrm>
            <a:custGeom>
              <a:avLst/>
              <a:gdLst>
                <a:gd name="textAreaLeft" fmla="*/ 7920 w 162360"/>
                <a:gd name="textAreaRight" fmla="*/ 154440 w 162360"/>
                <a:gd name="textAreaTop" fmla="*/ 7920 h 897120"/>
                <a:gd name="textAreaBottom" fmla="*/ 889200 h 897120"/>
              </a:gdLst>
              <a:ahLst/>
              <a:rect l="textAreaLeft" t="textAreaTop" r="textAreaRight" b="textAreaBottom"/>
              <a:pathLst>
                <a:path w="21600" h="119135">
                  <a:moveTo>
                    <a:pt x="3600" y="0"/>
                  </a:moveTo>
                  <a:arcTo wR="3600" hR="3600" stAng="16200000" swAng="-5400000"/>
                  <a:lnTo>
                    <a:pt x="0" y="115535"/>
                  </a:lnTo>
                  <a:arcTo wR="3600" hR="3600" stAng="10800000" swAng="-5400000"/>
                  <a:lnTo>
                    <a:pt x="18000" y="1191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20120" y="3749760"/>
              <a:ext cx="172440" cy="263160"/>
            </a:xfrm>
            <a:custGeom>
              <a:avLst/>
              <a:gdLst>
                <a:gd name="textAreaLeft" fmla="*/ 8280 w 172440"/>
                <a:gd name="textAreaRight" fmla="*/ 164160 w 172440"/>
                <a:gd name="textAreaTop" fmla="*/ 8280 h 263160"/>
                <a:gd name="textAreaBottom" fmla="*/ 254880 h 263160"/>
              </a:gdLst>
              <a:ahLst/>
              <a:rect l="textAreaLeft" t="textAreaTop" r="textAreaRight" b="textAreaBottom"/>
              <a:pathLst>
                <a:path w="21600" h="32940">
                  <a:moveTo>
                    <a:pt x="3600" y="0"/>
                  </a:moveTo>
                  <a:arcTo wR="3600" hR="3600" stAng="16200000" swAng="-5400000"/>
                  <a:lnTo>
                    <a:pt x="0" y="29340"/>
                  </a:lnTo>
                  <a:arcTo wR="3600" hR="3600" stAng="10800000" swAng="-5400000"/>
                  <a:lnTo>
                    <a:pt x="18000" y="32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40640" y="2865240"/>
              <a:ext cx="13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40640" y="3076200"/>
              <a:ext cx="1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715080" y="3260880"/>
              <a:ext cx="16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715080" y="3419640"/>
              <a:ext cx="17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15080" y="3577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23000" y="4904280"/>
              <a:ext cx="151560" cy="18468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6881040" y="2922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137440" y="29908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LR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9480" y="139860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Diac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lipo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86760" y="131292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Triac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lipopept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56560" y="1341360"/>
            <a:ext cx="59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287960" y="154764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L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68080" y="15746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flagell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81560" y="1371600"/>
            <a:ext cx="135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anti-vi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comp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768440" y="1376280"/>
            <a:ext cx="63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Cp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00"/>
                </a:solidFill>
                <a:latin typeface="Verdana"/>
              </a:rPr>
              <a:t>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52640" y="1981080"/>
            <a:ext cx="0" cy="5256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336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2116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6084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008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14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067600" y="1967040"/>
            <a:ext cx="0" cy="5252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1560" y="317520"/>
            <a:ext cx="749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</a:rPr>
              <a:t>LIGANDOS RECONOCIDOS POR LA FAMIL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Verdana"/>
              </a:rPr>
              <a:t>DE RECEPTORES TL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635040" y="479520"/>
            <a:ext cx="751356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679480" y="30960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P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72000" y="5796000"/>
            <a:ext cx="18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</a:rPr>
              <a:t>Inmun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00"/>
                </a:solidFill>
                <a:latin typeface="Verdana"/>
              </a:rPr>
              <a:t>Adap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86040" y="4286160"/>
            <a:ext cx="0" cy="12193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084680" y="2895480"/>
            <a:ext cx="7502760" cy="2881080"/>
            <a:chOff x="1084680" y="2895480"/>
            <a:chExt cx="7502760" cy="2881080"/>
          </a:xfrm>
        </p:grpSpPr>
        <p:sp>
          <p:nvSpPr>
            <p:cNvPr id="381" name=""/>
            <p:cNvSpPr/>
            <p:nvPr/>
          </p:nvSpPr>
          <p:spPr>
            <a:xfrm>
              <a:off x="3322440" y="2930040"/>
              <a:ext cx="319680" cy="442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2514240" y="2895480"/>
              <a:ext cx="304920" cy="5335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48120" y="2971800"/>
              <a:ext cx="0" cy="129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84680" y="3473280"/>
              <a:ext cx="184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Inmunida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Inn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14600" y="434340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00"/>
                  </a:solidFill>
                  <a:latin typeface="Verdana"/>
                </a:rPr>
                <a:t>Célu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00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505320" y="4343400"/>
              <a:ext cx="685800" cy="763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05320" y="4978440"/>
              <a:ext cx="609480" cy="304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98200" y="4040280"/>
              <a:ext cx="408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T</a:t>
              </a:r>
              <a:r>
                <a:rPr b="0" lang="es-AR" sz="2400" spc="-1" strike="noStrike" baseline="-25000">
                  <a:solidFill>
                    <a:srgbClr val="ffff00"/>
                  </a:solidFill>
                  <a:latin typeface="Verdana"/>
                </a:rPr>
                <a:t>H1</a:t>
              </a: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: IFN</a:t>
              </a:r>
              <a:r>
                <a:rPr b="0" lang="es-A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</a:t>
              </a: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,inmunidad celu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07840" y="4900680"/>
              <a:ext cx="30398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T</a:t>
              </a:r>
              <a:r>
                <a:rPr b="0" lang="es-AR" sz="2400" spc="-1" strike="noStrike" baseline="-25000">
                  <a:solidFill>
                    <a:srgbClr val="ffff00"/>
                  </a:solidFill>
                  <a:latin typeface="Verdana"/>
                </a:rPr>
                <a:t>H2</a:t>
              </a: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: Interleuquin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inmunidad humor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73880" y="3173400"/>
              <a:ext cx="114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00"/>
                  </a:solidFill>
                  <a:latin typeface="Verdana"/>
                </a:rPr>
                <a:t>Célula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447920" y="965160"/>
            <a:ext cx="3124080" cy="1854360"/>
            <a:chOff x="1447920" y="965160"/>
            <a:chExt cx="3124080" cy="1854360"/>
          </a:xfrm>
        </p:grpSpPr>
        <p:grpSp>
          <p:nvGrpSpPr>
            <p:cNvPr id="392" name=""/>
            <p:cNvGrpSpPr/>
            <p:nvPr/>
          </p:nvGrpSpPr>
          <p:grpSpPr>
            <a:xfrm>
              <a:off x="1447920" y="1371600"/>
              <a:ext cx="3124080" cy="1447920"/>
              <a:chOff x="1447920" y="1371600"/>
              <a:chExt cx="3124080" cy="1447920"/>
            </a:xfrm>
          </p:grpSpPr>
          <p:sp>
            <p:nvSpPr>
              <p:cNvPr id="393" name=""/>
              <p:cNvSpPr/>
              <p:nvPr/>
            </p:nvSpPr>
            <p:spPr>
              <a:xfrm>
                <a:off x="1447920" y="1371600"/>
                <a:ext cx="3124080" cy="144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lin ang="5400000"/>
              </a:gra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20520" y="1943280"/>
                <a:ext cx="2603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2000" spc="-1" strike="noStrike">
                    <a:solidFill>
                      <a:srgbClr val="000000"/>
                    </a:solidFill>
                    <a:latin typeface="Verdana"/>
                  </a:rPr>
                  <a:t>Célula presentador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2000" spc="-1" strike="noStrike">
                    <a:solidFill>
                      <a:srgbClr val="000000"/>
                    </a:solidFill>
                    <a:latin typeface="Verdana"/>
                  </a:rPr>
                  <a:t>de Antíge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3098880" y="965160"/>
              <a:ext cx="101520" cy="800280"/>
            </a:xfrm>
            <a:prstGeom prst="rect">
              <a:avLst/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105000" y="760320"/>
            <a:ext cx="1031400" cy="1190880"/>
            <a:chOff x="3105000" y="760320"/>
            <a:chExt cx="1031400" cy="1190880"/>
          </a:xfrm>
        </p:grpSpPr>
        <p:sp>
          <p:nvSpPr>
            <p:cNvPr id="397" name=""/>
            <p:cNvSpPr/>
            <p:nvPr/>
          </p:nvSpPr>
          <p:spPr>
            <a:xfrm>
              <a:off x="3291120" y="853920"/>
              <a:ext cx="84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400" spc="-1" strike="noStrike">
                  <a:solidFill>
                    <a:srgbClr val="ffff00"/>
                  </a:solidFill>
                  <a:latin typeface="Verdana"/>
                </a:rPr>
                <a:t>TL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105000" y="760320"/>
              <a:ext cx="109440" cy="1190880"/>
              <a:chOff x="3105000" y="760320"/>
              <a:chExt cx="109440" cy="1190880"/>
            </a:xfrm>
          </p:grpSpPr>
          <p:sp>
            <p:nvSpPr>
              <p:cNvPr id="399" name=""/>
              <p:cNvSpPr/>
              <p:nvPr/>
            </p:nvSpPr>
            <p:spPr>
              <a:xfrm>
                <a:off x="3105000" y="760320"/>
                <a:ext cx="101520" cy="749520"/>
              </a:xfrm>
              <a:prstGeom prst="ellipse">
                <a:avLst/>
              </a:prstGeom>
              <a:gradFill rotWithShape="0">
                <a:gsLst>
                  <a:gs pos="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05000" y="1427040"/>
                <a:ext cx="101520" cy="432000"/>
              </a:xfrm>
              <a:custGeom>
                <a:avLst/>
                <a:gdLst>
                  <a:gd name="textAreaLeft" fmla="*/ 4680 w 101520"/>
                  <a:gd name="textAreaRight" fmla="*/ 96840 w 101520"/>
                  <a:gd name="textAreaTop" fmla="*/ 4680 h 432000"/>
                  <a:gd name="textAreaBottom" fmla="*/ 427320 h 432000"/>
                </a:gdLst>
                <a:ahLst/>
                <a:rect l="textAreaLeft" t="textAreaTop" r="textAreaRight" b="textAreaBottom"/>
                <a:pathLst>
                  <a:path w="21600" h="91666">
                    <a:moveTo>
                      <a:pt x="3600" y="0"/>
                    </a:moveTo>
                    <a:arcTo wR="3600" hR="3600" stAng="16200000" swAng="-5400000"/>
                    <a:lnTo>
                      <a:pt x="0" y="88066"/>
                    </a:lnTo>
                    <a:arcTo wR="3600" hR="3600" stAng="10800000" swAng="-5400000"/>
                    <a:lnTo>
                      <a:pt x="18000" y="916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6600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05000" y="1306440"/>
                <a:ext cx="108000" cy="12708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127080"/>
                  <a:gd name="textAreaBottom" fmla="*/ 122040 h 127080"/>
                </a:gdLst>
                <a:ahLst/>
                <a:rect l="textAreaLeft" t="textAreaTop" r="textAreaRight" b="textAreaBottom"/>
                <a:pathLst>
                  <a:path w="21600" h="25403">
                    <a:moveTo>
                      <a:pt x="3600" y="0"/>
                    </a:moveTo>
                    <a:arcTo wR="3600" hR="3600" stAng="16200000" swAng="-5400000"/>
                    <a:lnTo>
                      <a:pt x="0" y="21803"/>
                    </a:lnTo>
                    <a:arcTo wR="3600" hR="3600" stAng="10800000" swAng="-5400000"/>
                    <a:lnTo>
                      <a:pt x="18000" y="254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50000">
                    <a:srgbClr val="ffffff"/>
                  </a:gs>
                  <a:gs pos="100000">
                    <a:srgbClr val="6600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17600" y="98280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06800" y="1862280"/>
                <a:ext cx="95040" cy="88920"/>
              </a:xfrm>
              <a:prstGeom prst="flowChartAlternateProcess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17600" y="8874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3105000" y="1142640"/>
                <a:ext cx="1000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106800" y="1218960"/>
                <a:ext cx="997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114720" y="1066680"/>
                <a:ext cx="9972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s en la inmun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0400" y="2305080"/>
            <a:ext cx="8134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 menos 10 TL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ocenas de liga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AMPs conserv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si todos los TLRs reconocen varios liga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gunos TLRs requieren proteínas acceso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•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Unirían directamente ligandos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 PR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44440" y="534960"/>
            <a:ext cx="62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Péptidos antimicrobia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52560" y="2286000"/>
            <a:ext cx="7753320" cy="32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Vertebrados, invertebrados, y plantas secretan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péptidos antimicrobianos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 Unicode MS"/>
              </a:rPr>
              <a:t>que protegen de la invasión de patógenos. Propiedad de organismos multicel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fens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VIAS DE SEÑALIZACION DE LOS RECEPTORES TIPO TOLL (TL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60240" y="164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 expresa predominantemente en MCFs/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ceptor de L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013120" y="2079720"/>
            <a:ext cx="5035320" cy="4778280"/>
            <a:chOff x="2013120" y="2079720"/>
            <a:chExt cx="5035320" cy="4778280"/>
          </a:xfrm>
        </p:grpSpPr>
        <p:pic>
          <p:nvPicPr>
            <p:cNvPr id="416" name="" descr=""/>
            <p:cNvPicPr/>
            <p:nvPr/>
          </p:nvPicPr>
          <p:blipFill>
            <a:blip r:embed="rId1"/>
            <a:stretch/>
          </p:blipFill>
          <p:spPr>
            <a:xfrm>
              <a:off x="2013120" y="2079720"/>
              <a:ext cx="5035320" cy="47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2231280" y="6545160"/>
              <a:ext cx="269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Verdana"/>
                </a:rPr>
                <a:t>Aderem &amp; Ulevitch, Nature:406, 782 (200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Barreras fisicoquímicas contra infe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6280" y="177156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17715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mponente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1771560"/>
            <a:ext cx="196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canismo e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68596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95520" y="26859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élulas escamosas. su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10120" y="268596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Descamación, Pérdida de ácidos orgá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29580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95520" y="3295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élulas column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10120" y="329580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eristalsis, bajo pH, ácidos biliares, pérdida tiocia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360" y="2571840"/>
            <a:ext cx="7753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03848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ulm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95520" y="4038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ilios tráqu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10120" y="4038480"/>
            <a:ext cx="37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ransporte mucociliar, surfac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610160"/>
            <a:ext cx="196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Nasofaringe y o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95520" y="46101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Moco, saliva, lágr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10120" y="4610160"/>
            <a:ext cx="37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avado, lisoz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8120" y="5315040"/>
            <a:ext cx="19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irculación, órganos linfo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76440" y="53150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élulas fagocíticas, 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91040" y="5315040"/>
            <a:ext cx="37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Fagocitosis y muerte intracel, citólisis directa y dep. de anticuer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resenta un amplio rango de liga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éptido glicano de bacterias gram-posi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lipoproteí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componentes de pared celular de levad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LPS atíp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opera con TLR1 y TL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 heterodímeros aumentan la diversidad de respues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xpresión en D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ceptor de superficie de dsRNA (vir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ctivación de PKR (proteína quinasa dependiente de ds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198108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mbrana basolateral del epitelio intest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-sensa flagelina de salmon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2971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TLR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434340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conoce fragmentos CpG de DNA no metilado de bacte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1060560" y="1539720"/>
            <a:ext cx="69958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787680" y="2244600"/>
            <a:ext cx="74275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PARTICIPACION DE FACTORES DE TRANSCRIP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EN LA SEÑALIZACION DE RECEP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DE TIPO TOLL: PAPEL DE FACTOR NUCLEAR </a:t>
            </a:r>
            <a:r>
              <a:rPr b="0" lang="es-ES_tradnl" sz="24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s-ES_tradnl" sz="24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Verdana"/>
              </a:rPr>
              <a:t>NF</a:t>
            </a:r>
            <a:r>
              <a:rPr b="0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s-ES_tradnl" sz="32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Funciones asociadas a NF</a:t>
            </a:r>
            <a:r>
              <a:rPr b="0" lang="es-MX" sz="4000" spc="-1" strike="noStrike">
                <a:solidFill>
                  <a:srgbClr val="ffff00"/>
                </a:solidFill>
                <a:latin typeface="Symbol"/>
                <a:ea typeface="Symbol"/>
              </a:rPr>
              <a:t></a:t>
            </a: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6720" y="1771560"/>
            <a:ext cx="80582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RO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Intermediarios reactivos de oxígeno) y RNIs (Intermediarios reactivos de nitrógeno) – con alta toxicidad para microorganismos (como defensin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itoqui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facilitan la comunicación intercelula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Quemoqui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facilitan la quimiotaxis de leucocitos) moléculas de adhesión (facilitan la adhesión de leucocitos provocando alteraciones en su migración y tráfic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roteí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de fase aguda (Proteínas sintetizadas en el hígado y secretadas rápidamente post-infec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Señalización TL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dución de citoquinas proinflamatorias, quemoquinas, iNOS,proteasas anti-microbianas, MHC, moléculas coestimulatori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Rs y R-IL1 dependen de la activación de NF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B y MAPK via dominio 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gunas vari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- comparten MyD88, Tollip, IRAK, TRAF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- TLR2 activa NF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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B vía Rac1 y PI3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Verdana"/>
              </a:rPr>
              <a:t>Señalización TL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19080" y="1868400"/>
            <a:ext cx="725796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519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Barreras fisicoquímicas contra infe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6280" y="198612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1880" y="1986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mponente 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40280" y="1986120"/>
            <a:ext cx="196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canismo e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900520"/>
            <a:ext cx="19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Su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05080" y="2900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actoferrina y transfer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29240" y="290052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Unión de Hier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05080" y="3510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Interfer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29240" y="351000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roteínas antivi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360" y="2786040"/>
            <a:ext cx="7753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05080" y="42530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NF</a:t>
            </a:r>
            <a:r>
              <a:rPr b="0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29240" y="425304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Antiviral, activación fagoc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05080" y="4824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isoz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29240" y="4824360"/>
            <a:ext cx="37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Inactivación de peptidoglic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552924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Fibronec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omp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10160" y="5529240"/>
            <a:ext cx="379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Opsonización y fagocit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Opsonización, fagocitosis aumentada e infla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Verdana"/>
              </a:rPr>
              <a:t>Inmunidad innata y adquir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61800" y="1549440"/>
          <a:ext cx="8458200" cy="5529240"/>
        </p:xfrm>
        <a:graphic>
          <a:graphicData uri="http://schemas.openxmlformats.org/drawingml/2006/table">
            <a:tbl>
              <a:tblPr/>
              <a:tblGrid>
                <a:gridCol w="2254320"/>
                <a:gridCol w="3384720"/>
                <a:gridCol w="2819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n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quir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3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rr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el, mucos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creciones de Piel y mucos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teínas circula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emen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ticuer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élu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morfonuclearesMacrófag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élulas N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nfoci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diadores solu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toquinas de Macrófa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toquinas de Linfoci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43080" y="692280"/>
          <a:ext cx="8515080" cy="5562360"/>
        </p:xfrm>
        <a:graphic>
          <a:graphicData uri="http://schemas.openxmlformats.org/drawingml/2006/table">
            <a:tbl>
              <a:tblPr/>
              <a:tblGrid>
                <a:gridCol w="4257360"/>
                <a:gridCol w="4257720"/>
              </a:tblGrid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Inmunidad Inn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Inmunidad Adap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ógenos reconocidos por receptores presentes en la línea germ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ógenos reconocidos por receptores generados azarosam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presentan amplia especificidad (reconocen PAM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presentan estrecha especificidad, reconocen un epit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MPs son polisacáridos y polinucleótidos. Difieren levemente de un patógeno a otro y no están presentes en huesp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chos epitopes derivan de polipéptidos y reflejan la individualidad del patóg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PRR (pathogen recognition recepto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eptores de células B y T para antígenos, BCR y T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uesta inmedi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uesta lenta: 3-5 días, necesario para el desarrollo de clones celulares de respue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in memoria por exposición prev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moria a exposición prev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curre en metazoo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curre únicamente en vertebrados mandibul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2936880" y="219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0600" y="2652480"/>
            <a:ext cx="692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00"/>
                </a:solidFill>
                <a:latin typeface="Verdana"/>
              </a:rPr>
              <a:t>Células de la respuest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00"/>
                </a:solidFill>
                <a:latin typeface="Verdana"/>
              </a:rPr>
              <a:t>inmune inna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División del sistema inmune: Células que particip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84"/>
          <a:stretch/>
        </p:blipFill>
        <p:spPr>
          <a:xfrm>
            <a:off x="868320" y="2290680"/>
            <a:ext cx="745812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22:18:11Z</dcterms:created>
  <dc:creator>Marcela Hermoso</dc:creator>
  <dc:description/>
  <dc:language>en-US</dc:language>
  <cp:lastModifiedBy>Usuario</cp:lastModifiedBy>
  <dcterms:modified xsi:type="dcterms:W3CDTF">2006-07-31T13:55:03Z</dcterms:modified>
  <cp:revision>364</cp:revision>
  <dc:subject/>
  <dc:title>Presentación de PowerPoint</dc:title>
</cp:coreProperties>
</file>