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2FA-3EFC-4D32-B0B4-D1607B2BFAA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EA7-2EE5-4E20-9E7F-BC7F65D5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3C1-EC4E-45DB-94F5-88515326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AA5-0AF6-47F6-BF96-316609C7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6B2-ED40-4C3E-BCB7-84BB439A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46A-8DE8-467D-B574-B558304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8E9-237A-47E5-B5E6-4F665D2B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9F6-591C-4401-B011-0487172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A4D-02B7-4C46-976A-5C290590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4D5-8CA6-4A53-8A39-D3528141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B02-7BBD-4F6E-BEB2-6426D01B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9BD-5C51-4150-933D-4AB3FEE5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68A-28E0-4CAA-BEC1-74D1C41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77F6-CDE6-4A88-9C24-F2FB9756CF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3640" y="28274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munidad Innata</a:t>
            </a:r>
            <a:r>
              <a:rPr b="1" lang="es-E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00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2880" y="2971800"/>
            <a:ext cx="6518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16000"/>
            <a:ext cx="834372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7720" y="4699080"/>
            <a:ext cx="629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Marcela Hermoso Ramello, Ph.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Programa Disciplinario de Inmun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Macrófa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6080" y="1641600"/>
            <a:ext cx="681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élulas sentinelas de larg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Fagocitan invasores extraños para su de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Se distribuyen en tejido conectivo asociad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tejidos superficiales, hígado y b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Reconocimiento de patógenos a través de recep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 y de manosa y el sistema del comple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89320" y="4467240"/>
            <a:ext cx="2527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1464120"/>
            <a:ext cx="66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Tienen una vida media corta de horas y s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iariamente en gran número en la médula ó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8320" y="36612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Neutr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2813040"/>
            <a:ext cx="8610480" cy="3340080"/>
            <a:chOff x="343080" y="2813040"/>
            <a:chExt cx="8610480" cy="3340080"/>
          </a:xfrm>
        </p:grpSpPr>
        <p:grpSp>
          <p:nvGrpSpPr>
            <p:cNvPr id="150" name=""/>
            <p:cNvGrpSpPr/>
            <p:nvPr/>
          </p:nvGrpSpPr>
          <p:grpSpPr>
            <a:xfrm>
              <a:off x="343080" y="2813040"/>
              <a:ext cx="8610480" cy="3340080"/>
              <a:chOff x="343080" y="2813040"/>
              <a:chExt cx="8610480" cy="3340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240" y="2813040"/>
                <a:ext cx="8599320" cy="33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43080" y="2819520"/>
                <a:ext cx="1143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19920" y="5842080"/>
              <a:ext cx="29210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8640" y="7657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os neutrófilos migran a través de la circulación al siti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infección en respuesta a la liberación de IL-8 por los macrófag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46040" y="1911240"/>
            <a:ext cx="6527880" cy="4743720"/>
            <a:chOff x="1346040" y="1911240"/>
            <a:chExt cx="6527880" cy="4743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0160" y="1911240"/>
              <a:ext cx="650376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346040" y="1917720"/>
              <a:ext cx="10162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5320" y="6426360"/>
              <a:ext cx="2260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7440" y="2403720"/>
            <a:ext cx="749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infocitos citotóxicos que no expresan TCR o 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Producidas en la médula ósea, liberados a la 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y migran al tejido conectivo circundante de las superfici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órg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Atacar y destruir células infectadas  por viru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reducir la propagación de la 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7981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4160" y="1650960"/>
            <a:ext cx="8572320" cy="5181480"/>
            <a:chOff x="254160" y="1650960"/>
            <a:chExt cx="8572320" cy="5181480"/>
          </a:xfrm>
        </p:grpSpPr>
        <p:grpSp>
          <p:nvGrpSpPr>
            <p:cNvPr id="162" name=""/>
            <p:cNvGrpSpPr/>
            <p:nvPr/>
          </p:nvGrpSpPr>
          <p:grpSpPr>
            <a:xfrm>
              <a:off x="254160" y="1650960"/>
              <a:ext cx="8572320" cy="5181480"/>
              <a:chOff x="254160" y="1650960"/>
              <a:chExt cx="8572320" cy="5181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54160" y="1650960"/>
                <a:ext cx="8572320" cy="5181480"/>
                <a:chOff x="254160" y="1650960"/>
                <a:chExt cx="8572320" cy="518148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000" y="1681200"/>
                  <a:ext cx="8523360" cy="514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54160" y="1650960"/>
                  <a:ext cx="11048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18400" y="6578640"/>
                  <a:ext cx="290808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66760" y="1994040"/>
                <a:ext cx="4216320" cy="8888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Virus y bacterias inducen la producció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de IL-12 por DCs. IL-12 activa a la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células NK las que producen INF-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686480" y="1994040"/>
              <a:ext cx="4076640" cy="939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Las células T vírgenes se activan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respuesta a IL-12 e INF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5560" y="303840"/>
            <a:ext cx="75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protegen al huésped contra la infección de bacte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(tuberculosis o lepra). Las NK responden a la liber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IL-12 e IL-18 por MCFs y liberan IFN</a:t>
            </a:r>
            <a:r>
              <a:rPr b="0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, una citoquina de ay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que activa mecanismos antibacteria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8080" y="110160"/>
            <a:ext cx="73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Mecanismos de acción de las 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1: Tienen receptores Fc y reconocen anticuerpos específ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unidos a células infectadas y las destruy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2: reconocen y destruyen células infectadas por 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n menor expresión de MHC 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6040" y="1727280"/>
            <a:ext cx="7710480" cy="5130360"/>
            <a:chOff x="716040" y="1727280"/>
            <a:chExt cx="7710480" cy="51303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16040" y="1746720"/>
              <a:ext cx="7710480" cy="51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2880" y="1727280"/>
              <a:ext cx="917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5160" y="6668640"/>
              <a:ext cx="2584440" cy="1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0040" y="127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7560" y="1206360"/>
            <a:ext cx="7583400" cy="4368960"/>
            <a:chOff x="817560" y="1206360"/>
            <a:chExt cx="7583400" cy="4368960"/>
          </a:xfrm>
        </p:grpSpPr>
        <p:grpSp>
          <p:nvGrpSpPr>
            <p:cNvPr id="177" name=""/>
            <p:cNvGrpSpPr/>
            <p:nvPr/>
          </p:nvGrpSpPr>
          <p:grpSpPr>
            <a:xfrm>
              <a:off x="817560" y="1220760"/>
              <a:ext cx="7583400" cy="4354560"/>
              <a:chOff x="817560" y="1220760"/>
              <a:chExt cx="7583400" cy="43545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7560" y="1220760"/>
                <a:ext cx="7583400" cy="43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825480" y="1231920"/>
                <a:ext cx="990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9120" y="5371920"/>
                <a:ext cx="256572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6400" y="1206360"/>
              <a:ext cx="2374920" cy="559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élula infec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on vi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5640" y="1959480"/>
            <a:ext cx="797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destruyen las células blanco liberando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y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ranzim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que ingresa a la célula a través de los po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generados por la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e induce la muerte celular apopt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86000" y="1866960"/>
          <a:ext cx="6329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866960"/>
                    <a:ext cx="6329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Efectos antivirales de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8200" y="1946520"/>
            <a:ext cx="81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aptan, procesan y presentan los remanente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patógeno al nodo linfático local, donde presentan pép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el patógeno a células T vírgenes, generando linfocitos T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s CDs unen la inmunidad innata con la adqui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5360" y="7981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 dendr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8080" y="38088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ción del sistema Inmune In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64600" y="1549440"/>
            <a:ext cx="5125680" cy="4472640"/>
            <a:chOff x="2064600" y="1549440"/>
            <a:chExt cx="5125680" cy="4472640"/>
          </a:xfrm>
        </p:grpSpPr>
        <p:sp>
          <p:nvSpPr>
            <p:cNvPr id="55" name=""/>
            <p:cNvSpPr/>
            <p:nvPr/>
          </p:nvSpPr>
          <p:spPr>
            <a:xfrm flipV="1">
              <a:off x="2971800" y="39621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0400" y="4419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7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4724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5720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15000" y="4266720"/>
              <a:ext cx="762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1752480"/>
              <a:ext cx="4038480" cy="1473480"/>
            </a:xfrm>
            <a:custGeom>
              <a:avLst/>
              <a:gdLst/>
              <a:ahLst/>
              <a:rect l="l" t="t" r="r" b="b"/>
              <a:pathLst>
                <a:path w="2544" h="928">
                  <a:moveTo>
                    <a:pt x="0" y="864"/>
                  </a:moveTo>
                  <a:cubicBezTo>
                    <a:pt x="132" y="896"/>
                    <a:pt x="264" y="928"/>
                    <a:pt x="384" y="912"/>
                  </a:cubicBezTo>
                  <a:cubicBezTo>
                    <a:pt x="504" y="896"/>
                    <a:pt x="584" y="856"/>
                    <a:pt x="720" y="768"/>
                  </a:cubicBezTo>
                  <a:cubicBezTo>
                    <a:pt x="856" y="680"/>
                    <a:pt x="1056" y="464"/>
                    <a:pt x="1200" y="384"/>
                  </a:cubicBezTo>
                  <a:cubicBezTo>
                    <a:pt x="1344" y="304"/>
                    <a:pt x="1432" y="304"/>
                    <a:pt x="1584" y="288"/>
                  </a:cubicBezTo>
                  <a:cubicBezTo>
                    <a:pt x="1736" y="272"/>
                    <a:pt x="1952" y="336"/>
                    <a:pt x="2112" y="288"/>
                  </a:cubicBezTo>
                  <a:cubicBezTo>
                    <a:pt x="2272" y="240"/>
                    <a:pt x="2472" y="48"/>
                    <a:pt x="25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05320" y="3276720"/>
              <a:ext cx="380880" cy="457200"/>
              <a:chOff x="3505320" y="3276720"/>
              <a:chExt cx="380880" cy="457200"/>
            </a:xfrm>
          </p:grpSpPr>
          <p:sp>
            <p:nvSpPr>
              <p:cNvPr id="68" name=""/>
              <p:cNvSpPr/>
              <p:nvPr/>
            </p:nvSpPr>
            <p:spPr>
              <a:xfrm>
                <a:off x="3505320" y="3276720"/>
                <a:ext cx="38088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19440" y="339120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7080" y="3886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44360" y="3858480"/>
              <a:ext cx="36036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95880" y="3349800"/>
              <a:ext cx="18720" cy="46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200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7164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220968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765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0080" y="2971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181120" y="3276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6840" y="15494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icro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0640" y="23115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7960" y="33019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mple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4600" y="388620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acr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3800" y="571500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eutrófi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3720" y="502920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Vaso sanguí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54960" y="1676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96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 gatilla la Inmunidad Adap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4760" y="1628640"/>
            <a:ext cx="8555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811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atógenos son especialmente procariontes, y tienen estructura molecul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on compartidos con su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compartidos por varios patógen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relativamente invariables, no evolucionan rápidamente (a diferencia de moléculas de patógenos como hemaglutinina y neuraminidasa de virus influ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960" y="1676520"/>
            <a:ext cx="817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elina del flagelo bacte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ptidoglicano de bacterias gram-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popolisacáridos (LPS o endotoxinas) de bacterias gram-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N de doble cadena (algunos virus de animales y plantas tienen genoma dsARN o ARN convertido en huésped a ds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N no metilado (varias de las islas CpG presentan adosados grupos met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" y="240048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éculas secretadas que circulan en sangre y 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de células fagocíticas como macrófagos que unen al patógeno y lo rod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celular que unen al patógeno iniciando una señal que provoca la liberación de moléculas efectoras (citoqu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5360" y="246384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 f-Met-Leu-Phe (une péptidos N-formil, y atrae neutró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es scavenger: 6 tipos con diferente especificidad (reconocen polímeros aniónicos y lipoproteínas de baja-densidad acetilad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D14 (receptor presente en la superficie de pagocitos que facilitan el reconocimiento de L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85572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1. PRRs secre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6542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teínas circulantes que unen residuos de manosa presentes en la superficie de patógenos. La interacción gatilla el clivaje de componentes del com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52960" y="3790800"/>
            <a:ext cx="2409480" cy="2324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66840" y="1424160"/>
            <a:ext cx="6326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33640" y="95400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7840" y="2289240"/>
            <a:ext cx="666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Opsonización por C3b se dirige a partículas forán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las fagocita en el sitio del 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Quimiotaxis por C5a atrae células fagocíticas al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la inj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Aumento de la permeabilidad vascular mediad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3a y C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280" y="2314800"/>
            <a:ext cx="702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Componentes tempranos del C´solubilizan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c-Ag favoreciendo su catabolismo y elimi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alteraciones promueve trastornos de complejos inm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Lisis de células cubiertas por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fermedad 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emia hem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Promover formación de anticuerpos, C3d aument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 reconocimiento por células dendríticas y linfocito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5480" y="58536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2. Receptores fagoc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24192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* Receptor de manos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esentes en la superficie celula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 macróf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* Receptores que reconocen ciertos PAMPs (aquellos que contienen manos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0560" y="520560"/>
            <a:ext cx="7632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y 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describieron dos sistemas separados por el cual el huésped previene la infec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</a:t>
            </a:r>
            <a:r>
              <a:rPr b="1" i="1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as ‘</a:t>
            </a:r>
            <a:r>
              <a:rPr b="0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toxinas’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(</a:t>
            </a:r>
            <a:r>
              <a:rPr b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cuerpos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adapt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xclusiva de vertebrad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os fagoci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stas células fueron inicialmente identificadas en invertebrados (equinodermos) y están representadas en casi todos los organismos.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383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20240" y="14364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Recep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de ma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3. Receptores tipo Toll (T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20574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crófagos, Células dendríticas y células Epiteliales presentan un set de receptores de transmemebrana que reconocen diversos PAM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0440" y="4133880"/>
            <a:ext cx="4594320" cy="1936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0440" y="3870360"/>
            <a:ext cx="4594320" cy="2635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943360" y="2725560"/>
            <a:ext cx="205560" cy="2552040"/>
            <a:chOff x="2943360" y="2725560"/>
            <a:chExt cx="205560" cy="2552040"/>
          </a:xfrm>
        </p:grpSpPr>
        <p:sp>
          <p:nvSpPr>
            <p:cNvPr id="215" name=""/>
            <p:cNvSpPr/>
            <p:nvPr/>
          </p:nvSpPr>
          <p:spPr>
            <a:xfrm>
              <a:off x="2949120" y="2725560"/>
              <a:ext cx="188640" cy="16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9120" y="4155120"/>
              <a:ext cx="188640" cy="92484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924840"/>
                <a:gd name="textAreaBottom" fmla="*/ 915840 h 924840"/>
              </a:gdLst>
              <a:ahLst/>
              <a:rect l="textAreaLeft" t="textAreaTop" r="textAreaRight" b="textAreaBottom"/>
              <a:pathLst>
                <a:path w="21600" h="105737">
                  <a:moveTo>
                    <a:pt x="3600" y="0"/>
                  </a:moveTo>
                  <a:arcTo wR="3600" hR="3600" stAng="16200000" swAng="-5400000"/>
                  <a:lnTo>
                    <a:pt x="0" y="102137"/>
                  </a:lnTo>
                  <a:arcTo wR="3600" hR="3600" stAng="10800000" swAng="-5400000"/>
                  <a:lnTo>
                    <a:pt x="18000" y="105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49120" y="3895920"/>
              <a:ext cx="199800" cy="272160"/>
            </a:xfrm>
            <a:custGeom>
              <a:avLst/>
              <a:gdLst>
                <a:gd name="textAreaLeft" fmla="*/ 9720 w 199800"/>
                <a:gd name="textAreaRight" fmla="*/ 190080 w 199800"/>
                <a:gd name="textAreaTop" fmla="*/ 9720 h 272160"/>
                <a:gd name="textAreaBottom" fmla="*/ 262440 h 272160"/>
              </a:gdLst>
              <a:ahLst/>
              <a:rect l="textAreaLeft" t="textAreaTop" r="textAreaRight" b="textAreaBottom"/>
              <a:pathLst>
                <a:path w="21600" h="29409">
                  <a:moveTo>
                    <a:pt x="3600" y="0"/>
                  </a:moveTo>
                  <a:arcTo wR="3600" hR="3600" stAng="16200000" swAng="-5400000"/>
                  <a:lnTo>
                    <a:pt x="0" y="25809"/>
                  </a:lnTo>
                  <a:arcTo wR="3600" hR="3600" stAng="10800000" swAng="-5400000"/>
                  <a:lnTo>
                    <a:pt x="18000" y="294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298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3240" y="32022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3360" y="33926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3360" y="3555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3360" y="3719160"/>
              <a:ext cx="1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360" y="5087160"/>
              <a:ext cx="175680" cy="190440"/>
            </a:xfrm>
            <a:prstGeom prst="flowChartAlternateProcess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62560" y="2197080"/>
            <a:ext cx="190440" cy="18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2560" y="4137120"/>
            <a:ext cx="209520" cy="93168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931680"/>
              <a:gd name="textAreaBottom" fmla="*/ 921600 h 931680"/>
            </a:gdLst>
            <a:ahLst/>
            <a:rect l="textAreaLeft" t="textAreaTop" r="textAreaRight" b="textAreaBottom"/>
            <a:pathLst>
              <a:path w="21600" h="95922">
                <a:moveTo>
                  <a:pt x="3600" y="0"/>
                </a:moveTo>
                <a:arcTo wR="3600" hR="3600" stAng="16200000" swAng="-5400000"/>
                <a:lnTo>
                  <a:pt x="0" y="92322"/>
                </a:lnTo>
                <a:arcTo wR="3600" hR="3600" stAng="10800000" swAng="-5400000"/>
                <a:lnTo>
                  <a:pt x="18000" y="95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62560" y="3887640"/>
            <a:ext cx="199800" cy="254160"/>
          </a:xfrm>
          <a:custGeom>
            <a:avLst/>
            <a:gdLst>
              <a:gd name="textAreaLeft" fmla="*/ 9720 w 199800"/>
              <a:gd name="textAreaRight" fmla="*/ 190080 w 19980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66">
                <a:moveTo>
                  <a:pt x="3600" y="0"/>
                </a:moveTo>
                <a:arcTo wR="3600" hR="3600" stAng="16200000" swAng="-5400000"/>
                <a:lnTo>
                  <a:pt x="0" y="23866"/>
                </a:lnTo>
                <a:arcTo wR="3600" hR="3600" stAng="10800000" swAng="-5400000"/>
                <a:lnTo>
                  <a:pt x="18000" y="27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25002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2755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6080" y="29782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56080" y="31719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6080" y="3362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5800" y="5075280"/>
            <a:ext cx="176040" cy="1839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56080" y="3429000"/>
            <a:ext cx="20628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356724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26428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880" y="2328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4880" y="268092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840" y="1792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59400" y="215244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0" y="542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67040" y="528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4880" y="52783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560" y="20685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7000" y="1459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D.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93480" y="349884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88800" y="3159000"/>
            <a:ext cx="196920" cy="28440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88800" y="282420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92840" y="4118040"/>
            <a:ext cx="190440" cy="9316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931680"/>
              <a:gd name="textAreaBottom" fmla="*/ 922680 h 931680"/>
            </a:gdLst>
            <a:ahLst/>
            <a:rect l="textAreaLeft" t="textAreaTop" r="textAreaRight" b="textAreaBottom"/>
            <a:pathLst>
              <a:path w="21600" h="105514">
                <a:moveTo>
                  <a:pt x="3600" y="0"/>
                </a:moveTo>
                <a:arcTo wR="3600" hR="3600" stAng="16200000" swAng="-5400000"/>
                <a:lnTo>
                  <a:pt x="0" y="101914"/>
                </a:lnTo>
                <a:arcTo wR="3600" hR="3600" stAng="10800000" swAng="-5400000"/>
                <a:lnTo>
                  <a:pt x="18000" y="105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92840" y="3867120"/>
            <a:ext cx="200160" cy="254160"/>
          </a:xfrm>
          <a:custGeom>
            <a:avLst/>
            <a:gdLst>
              <a:gd name="textAreaLeft" fmla="*/ 9720 w 200160"/>
              <a:gd name="textAreaRight" fmla="*/ 190440 w 20016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17">
                <a:moveTo>
                  <a:pt x="3600" y="0"/>
                </a:moveTo>
                <a:arcTo wR="3600" hR="3600" stAng="16200000" swAng="-5400000"/>
                <a:lnTo>
                  <a:pt x="0" y="23817"/>
                </a:lnTo>
                <a:arcTo wR="3600" hR="3600" stAng="10800000" swAng="-5400000"/>
                <a:lnTo>
                  <a:pt x="18000" y="2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94280" y="5054760"/>
            <a:ext cx="193680" cy="185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6720" y="2687400"/>
            <a:ext cx="14040" cy="11746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5221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97600" y="524160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3560" y="2341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26920" y="17589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Verteb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IL1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2280" y="55594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L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1480" y="5713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8520" y="37944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Receptores tipo T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4048200"/>
            <a:ext cx="8591400" cy="2428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3718080"/>
            <a:ext cx="8591400" cy="3301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5425920" y="2629080"/>
            <a:ext cx="177480" cy="2473920"/>
            <a:chOff x="5425920" y="2629080"/>
            <a:chExt cx="177480" cy="2473920"/>
          </a:xfrm>
        </p:grpSpPr>
        <p:sp>
          <p:nvSpPr>
            <p:cNvPr id="262" name=""/>
            <p:cNvSpPr/>
            <p:nvPr/>
          </p:nvSpPr>
          <p:spPr>
            <a:xfrm>
              <a:off x="5430960" y="26290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0960" y="4014000"/>
              <a:ext cx="162000" cy="89748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447">
                  <a:moveTo>
                    <a:pt x="3600" y="0"/>
                  </a:moveTo>
                  <a:arcTo wR="3600" hR="3600" stAng="16200000" swAng="-5400000"/>
                  <a:lnTo>
                    <a:pt x="0" y="115847"/>
                  </a:lnTo>
                  <a:arcTo wR="3600" hR="3600" stAng="10800000" swAng="-5400000"/>
                  <a:lnTo>
                    <a:pt x="18000" y="119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0960" y="3763440"/>
              <a:ext cx="172440" cy="26388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30">
                  <a:moveTo>
                    <a:pt x="3600" y="0"/>
                  </a:moveTo>
                  <a:arcTo wR="3600" hR="3600" stAng="16200000" swAng="-5400000"/>
                  <a:lnTo>
                    <a:pt x="0" y="29430"/>
                  </a:lnTo>
                  <a:arcTo wR="3600" hR="3600" stAng="10800000" swAng="-5400000"/>
                  <a:lnTo>
                    <a:pt x="18000" y="33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120" y="28796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120" y="309096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5920" y="327600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5920" y="343368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5920" y="359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3840" y="4918320"/>
              <a:ext cx="151560" cy="18468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64640" y="2641680"/>
            <a:ext cx="177120" cy="2475720"/>
            <a:chOff x="7964640" y="2641680"/>
            <a:chExt cx="177120" cy="2475720"/>
          </a:xfrm>
        </p:grpSpPr>
        <p:sp>
          <p:nvSpPr>
            <p:cNvPr id="272" name=""/>
            <p:cNvSpPr/>
            <p:nvPr/>
          </p:nvSpPr>
          <p:spPr>
            <a:xfrm>
              <a:off x="7969680" y="2641680"/>
              <a:ext cx="161640" cy="1558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9680" y="4028400"/>
              <a:ext cx="161640" cy="89712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897120"/>
                <a:gd name="textAreaBottom" fmla="*/ 889560 h 897120"/>
              </a:gdLst>
              <a:ahLst/>
              <a:rect l="textAreaLeft" t="textAreaTop" r="textAreaRight" b="textAreaBottom"/>
              <a:pathLst>
                <a:path w="21600" h="119664">
                  <a:moveTo>
                    <a:pt x="3600" y="0"/>
                  </a:moveTo>
                  <a:arcTo wR="3600" hR="3600" stAng="16200000" swAng="-5400000"/>
                  <a:lnTo>
                    <a:pt x="0" y="116064"/>
                  </a:lnTo>
                  <a:arcTo wR="3600" hR="3600" stAng="10800000" swAng="-5400000"/>
                  <a:lnTo>
                    <a:pt x="18000" y="1196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69680" y="377712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9840" y="289296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9840" y="31039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4640" y="3288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4640" y="34470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64640" y="36054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1840" y="4932720"/>
              <a:ext cx="151920" cy="18468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1160" y="2629080"/>
            <a:ext cx="351720" cy="2473200"/>
            <a:chOff x="911160" y="2629080"/>
            <a:chExt cx="351720" cy="2473200"/>
          </a:xfrm>
        </p:grpSpPr>
        <p:grpSp>
          <p:nvGrpSpPr>
            <p:cNvPr id="282" name=""/>
            <p:cNvGrpSpPr/>
            <p:nvPr/>
          </p:nvGrpSpPr>
          <p:grpSpPr>
            <a:xfrm>
              <a:off x="911160" y="2629080"/>
              <a:ext cx="177120" cy="2473200"/>
              <a:chOff x="911160" y="2629080"/>
              <a:chExt cx="177120" cy="2473200"/>
            </a:xfrm>
          </p:grpSpPr>
          <p:sp>
            <p:nvSpPr>
              <p:cNvPr id="283" name=""/>
              <p:cNvSpPr/>
              <p:nvPr/>
            </p:nvSpPr>
            <p:spPr>
              <a:xfrm>
                <a:off x="916200" y="2629080"/>
                <a:ext cx="161640" cy="15570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200" y="4014000"/>
                <a:ext cx="161640" cy="8974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897480"/>
                  <a:gd name="textAreaBottom" fmla="*/ 889920 h 897480"/>
                </a:gdLst>
                <a:ahLst/>
                <a:rect l="textAreaLeft" t="textAreaTop" r="textAreaRight" b="textAreaBottom"/>
                <a:pathLst>
                  <a:path w="21600" h="119712">
                    <a:moveTo>
                      <a:pt x="3600" y="0"/>
                    </a:moveTo>
                    <a:arcTo wR="3600" hR="3600" stAng="16200000" swAng="-5400000"/>
                    <a:lnTo>
                      <a:pt x="0" y="116112"/>
                    </a:lnTo>
                    <a:arcTo wR="3600" hR="3600" stAng="10800000" swAng="-5400000"/>
                    <a:lnTo>
                      <a:pt x="18000" y="119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200" y="376344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6360" y="2879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360" y="30902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11160" y="327528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1160" y="343368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1160" y="359244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8360" y="4917600"/>
                <a:ext cx="151920" cy="1846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85760" y="2629080"/>
              <a:ext cx="177120" cy="2473200"/>
              <a:chOff x="1085760" y="2629080"/>
              <a:chExt cx="177120" cy="2473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90800" y="2629080"/>
                <a:ext cx="162000" cy="155664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0800" y="4014360"/>
                <a:ext cx="162000" cy="89640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6400"/>
                  <a:gd name="textAreaBottom" fmla="*/ 888480 h 896400"/>
                </a:gdLst>
                <a:ahLst/>
                <a:rect l="textAreaLeft" t="textAreaTop" r="textAreaRight" b="textAreaBottom"/>
                <a:pathLst>
                  <a:path w="21600" h="119303">
                    <a:moveTo>
                      <a:pt x="3600" y="0"/>
                    </a:moveTo>
                    <a:arcTo wR="3600" hR="3600" stAng="16200000" swAng="-5400000"/>
                    <a:lnTo>
                      <a:pt x="0" y="115703"/>
                    </a:lnTo>
                    <a:arcTo wR="3600" hR="3600" stAng="10800000" swAng="-5400000"/>
                    <a:lnTo>
                      <a:pt x="18000" y="1193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0800" y="376308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1320" y="288000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1320" y="30909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5760" y="327564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343332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85760" y="3592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93680" y="49176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21480" y="31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8840" y="32623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76640" y="2641680"/>
            <a:ext cx="351720" cy="2475720"/>
            <a:chOff x="2276640" y="2641680"/>
            <a:chExt cx="351720" cy="2475720"/>
          </a:xfrm>
        </p:grpSpPr>
        <p:sp>
          <p:nvSpPr>
            <p:cNvPr id="305" name=""/>
            <p:cNvSpPr/>
            <p:nvPr/>
          </p:nvSpPr>
          <p:spPr>
            <a:xfrm>
              <a:off x="2281680" y="2641680"/>
              <a:ext cx="162000" cy="155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1680" y="4027680"/>
              <a:ext cx="162000" cy="89820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8200"/>
                <a:gd name="textAreaBottom" fmla="*/ 890280 h 898200"/>
              </a:gdLst>
              <a:ahLst/>
              <a:rect l="textAreaLeft" t="textAreaTop" r="textAreaRight" b="textAreaBottom"/>
              <a:pathLst>
                <a:path w="21600" h="119542">
                  <a:moveTo>
                    <a:pt x="3600" y="0"/>
                  </a:moveTo>
                  <a:arcTo wR="3600" hR="3600" stAng="16200000" swAng="-5400000"/>
                  <a:lnTo>
                    <a:pt x="0" y="115942"/>
                  </a:lnTo>
                  <a:arcTo wR="3600" hR="3600" stAng="10800000" swAng="-5400000"/>
                  <a:lnTo>
                    <a:pt x="18000" y="1195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1680" y="3777120"/>
              <a:ext cx="171720" cy="263880"/>
            </a:xfrm>
            <a:custGeom>
              <a:avLst/>
              <a:gdLst>
                <a:gd name="textAreaLeft" fmla="*/ 8280 w 171720"/>
                <a:gd name="textAreaRight" fmla="*/ 163440 w 17172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168">
                  <a:moveTo>
                    <a:pt x="3600" y="0"/>
                  </a:moveTo>
                  <a:arcTo wR="3600" hR="3600" stAng="16200000" swAng="-5400000"/>
                  <a:lnTo>
                    <a:pt x="0" y="29568"/>
                  </a:lnTo>
                  <a:arcTo wR="3600" hR="3600" stAng="10800000" swAng="-5400000"/>
                  <a:lnTo>
                    <a:pt x="18000" y="33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2892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31039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6640" y="328896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6640" y="34470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640" y="36054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3840" y="4932720"/>
              <a:ext cx="151920" cy="184680"/>
            </a:xfrm>
            <a:prstGeom prst="flowChartAlternate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451240" y="2641680"/>
              <a:ext cx="177120" cy="2475000"/>
              <a:chOff x="2451240" y="2641680"/>
              <a:chExt cx="177120" cy="247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456280" y="2641680"/>
                <a:ext cx="162000" cy="15577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56280" y="4028040"/>
                <a:ext cx="162000" cy="89712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7120"/>
                  <a:gd name="textAreaBottom" fmla="*/ 889200 h 897120"/>
                </a:gdLst>
                <a:ahLst/>
                <a:rect l="textAreaLeft" t="textAreaTop" r="textAreaRight" b="textAreaBottom"/>
                <a:pathLst>
                  <a:path w="21600" h="119399">
                    <a:moveTo>
                      <a:pt x="3600" y="0"/>
                    </a:moveTo>
                    <a:arcTo wR="3600" hR="3600" stAng="16200000" swAng="-5400000"/>
                    <a:lnTo>
                      <a:pt x="0" y="115799"/>
                    </a:lnTo>
                    <a:arcTo wR="3600" hR="3600" stAng="10800000" swAng="-5400000"/>
                    <a:lnTo>
                      <a:pt x="18000" y="1193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56280" y="377676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6800" y="289296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6800" y="31039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51240" y="328860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51240" y="344664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51240" y="36054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9160" y="49320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661400" y="2890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6560" y="3152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24320" y="2614680"/>
            <a:ext cx="177480" cy="2474280"/>
            <a:chOff x="3424320" y="2614680"/>
            <a:chExt cx="177480" cy="2474280"/>
          </a:xfrm>
        </p:grpSpPr>
        <p:sp>
          <p:nvSpPr>
            <p:cNvPr id="327" name=""/>
            <p:cNvSpPr/>
            <p:nvPr/>
          </p:nvSpPr>
          <p:spPr>
            <a:xfrm>
              <a:off x="3429360" y="26146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360" y="4000320"/>
              <a:ext cx="162000" cy="89712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399">
                  <a:moveTo>
                    <a:pt x="3600" y="0"/>
                  </a:moveTo>
                  <a:arcTo wR="3600" hR="3600" stAng="16200000" swAng="-5400000"/>
                  <a:lnTo>
                    <a:pt x="0" y="115799"/>
                  </a:lnTo>
                  <a:arcTo wR="3600" hR="3600" stAng="10800000" swAng="-5400000"/>
                  <a:lnTo>
                    <a:pt x="18000" y="119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36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952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9520" y="30762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4320" y="326088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4320" y="3419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432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520" y="4904280"/>
              <a:ext cx="152280" cy="184680"/>
            </a:xfrm>
            <a:prstGeom prst="flowChartAlternateProcess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61840" y="28940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75160" y="2629080"/>
            <a:ext cx="177120" cy="2473920"/>
            <a:chOff x="4475160" y="2629080"/>
            <a:chExt cx="177120" cy="2473920"/>
          </a:xfrm>
        </p:grpSpPr>
        <p:sp>
          <p:nvSpPr>
            <p:cNvPr id="338" name=""/>
            <p:cNvSpPr/>
            <p:nvPr/>
          </p:nvSpPr>
          <p:spPr>
            <a:xfrm>
              <a:off x="4480200" y="2629080"/>
              <a:ext cx="162360" cy="155772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0200" y="4014720"/>
              <a:ext cx="162360" cy="8974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182">
                  <a:moveTo>
                    <a:pt x="3600" y="0"/>
                  </a:moveTo>
                  <a:arcTo wR="3600" hR="3600" stAng="16200000" swAng="-5400000"/>
                  <a:lnTo>
                    <a:pt x="0" y="115582"/>
                  </a:lnTo>
                  <a:arcTo wR="3600" hR="3600" stAng="10800000" swAng="-5400000"/>
                  <a:lnTo>
                    <a:pt x="18000" y="119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0200" y="376380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0360" y="28796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0360" y="309060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5160" y="32752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75160" y="343404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75160" y="35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2360" y="4918320"/>
              <a:ext cx="152640" cy="18468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22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16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715080" y="2614680"/>
            <a:ext cx="177480" cy="2474280"/>
            <a:chOff x="6715080" y="2614680"/>
            <a:chExt cx="177480" cy="2474280"/>
          </a:xfrm>
        </p:grpSpPr>
        <p:sp>
          <p:nvSpPr>
            <p:cNvPr id="350" name=""/>
            <p:cNvSpPr/>
            <p:nvPr/>
          </p:nvSpPr>
          <p:spPr>
            <a:xfrm>
              <a:off x="6720120" y="2614680"/>
              <a:ext cx="162360" cy="1557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0120" y="4000320"/>
              <a:ext cx="162360" cy="8971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135">
                  <a:moveTo>
                    <a:pt x="3600" y="0"/>
                  </a:moveTo>
                  <a:arcTo wR="3600" hR="3600" stAng="16200000" swAng="-5400000"/>
                  <a:lnTo>
                    <a:pt x="0" y="115535"/>
                  </a:lnTo>
                  <a:arcTo wR="3600" hR="3600" stAng="10800000" swAng="-5400000"/>
                  <a:lnTo>
                    <a:pt x="18000" y="119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012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064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40640" y="3076200"/>
              <a:ext cx="1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5080" y="32608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15080" y="341964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508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904280"/>
              <a:ext cx="151560" cy="1846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81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3744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480" y="139860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ia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6760" y="13129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ria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6560" y="1341360"/>
            <a:ext cx="5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87960" y="15476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080" y="157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flagel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1560" y="13716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anti-v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8440" y="1376280"/>
            <a:ext cx="63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2640" y="1981080"/>
            <a:ext cx="0" cy="525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3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6084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7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1560" y="317520"/>
            <a:ext cx="74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LIGANDOS RECONOCIDOS POR LA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DE RECEPTORES T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35040" y="479520"/>
            <a:ext cx="75135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79480" y="3096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57960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6040" y="4286160"/>
            <a:ext cx="0" cy="12193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680" y="2895480"/>
            <a:ext cx="7502760" cy="2881080"/>
            <a:chOff x="1084680" y="2895480"/>
            <a:chExt cx="7502760" cy="2881080"/>
          </a:xfrm>
        </p:grpSpPr>
        <p:sp>
          <p:nvSpPr>
            <p:cNvPr id="381" name=""/>
            <p:cNvSpPr/>
            <p:nvPr/>
          </p:nvSpPr>
          <p:spPr>
            <a:xfrm>
              <a:off x="3322440" y="2930040"/>
              <a:ext cx="319680" cy="44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14240" y="2895480"/>
              <a:ext cx="304920" cy="533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971800"/>
              <a:ext cx="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4680" y="3473280"/>
              <a:ext cx="18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n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05320" y="4343400"/>
              <a:ext cx="68580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05320" y="4978440"/>
              <a:ext cx="60948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8200" y="4040280"/>
              <a:ext cx="408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1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FN</a:t>
              </a:r>
              <a:r>
                <a:rPr b="0" lang="es-A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,inmunidad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4900680"/>
              <a:ext cx="303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2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nterleuqui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hum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73880" y="3173400"/>
              <a:ext cx="114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47920" y="965160"/>
            <a:ext cx="3124080" cy="1854360"/>
            <a:chOff x="1447920" y="965160"/>
            <a:chExt cx="3124080" cy="1854360"/>
          </a:xfrm>
        </p:grpSpPr>
        <p:grpSp>
          <p:nvGrpSpPr>
            <p:cNvPr id="392" name=""/>
            <p:cNvGrpSpPr/>
            <p:nvPr/>
          </p:nvGrpSpPr>
          <p:grpSpPr>
            <a:xfrm>
              <a:off x="1447920" y="1371600"/>
              <a:ext cx="3124080" cy="1447920"/>
              <a:chOff x="1447920" y="1371600"/>
              <a:chExt cx="3124080" cy="14479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7920" y="1371600"/>
                <a:ext cx="3124080" cy="144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0520" y="1943280"/>
                <a:ext cx="260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Célula presentado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de Antíge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98880" y="965160"/>
              <a:ext cx="101520" cy="8002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105000" y="760320"/>
            <a:ext cx="1031400" cy="1190880"/>
            <a:chOff x="3105000" y="760320"/>
            <a:chExt cx="1031400" cy="1190880"/>
          </a:xfrm>
        </p:grpSpPr>
        <p:sp>
          <p:nvSpPr>
            <p:cNvPr id="397" name=""/>
            <p:cNvSpPr/>
            <p:nvPr/>
          </p:nvSpPr>
          <p:spPr>
            <a:xfrm>
              <a:off x="3291120" y="85392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L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5000" y="760320"/>
              <a:ext cx="109440" cy="1190880"/>
              <a:chOff x="3105000" y="760320"/>
              <a:chExt cx="109440" cy="119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3105000" y="760320"/>
                <a:ext cx="101520" cy="7495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5000" y="1427040"/>
                <a:ext cx="101520" cy="432000"/>
              </a:xfrm>
              <a:custGeom>
                <a:avLst/>
                <a:gdLst>
                  <a:gd name="textAreaLeft" fmla="*/ 4680 w 101520"/>
                  <a:gd name="textAreaRight" fmla="*/ 96840 w 101520"/>
                  <a:gd name="textAreaTop" fmla="*/ 4680 h 432000"/>
                  <a:gd name="textAreaBottom" fmla="*/ 427320 h 432000"/>
                </a:gdLst>
                <a:ahLst/>
                <a:rect l="textAreaLeft" t="textAreaTop" r="textAreaRight" b="textAreaBottom"/>
                <a:pathLst>
                  <a:path w="21600" h="91666">
                    <a:moveTo>
                      <a:pt x="3600" y="0"/>
                    </a:moveTo>
                    <a:arcTo wR="3600" hR="3600" stAng="16200000" swAng="-5400000"/>
                    <a:lnTo>
                      <a:pt x="0" y="88066"/>
                    </a:lnTo>
                    <a:arcTo wR="3600" hR="3600" stAng="10800000" swAng="-5400000"/>
                    <a:lnTo>
                      <a:pt x="18000" y="91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05000" y="1306440"/>
                <a:ext cx="108000" cy="12708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127080"/>
                  <a:gd name="textAreaBottom" fmla="*/ 122040 h 127080"/>
                </a:gdLst>
                <a:ahLst/>
                <a:rect l="textAreaLeft" t="textAreaTop" r="textAreaRight" b="textAreaBottom"/>
                <a:pathLst>
                  <a:path w="21600" h="25403">
                    <a:moveTo>
                      <a:pt x="3600" y="0"/>
                    </a:moveTo>
                    <a:arcTo wR="3600" hR="3600" stAng="16200000" swAng="-5400000"/>
                    <a:lnTo>
                      <a:pt x="0" y="21803"/>
                    </a:lnTo>
                    <a:arcTo wR="3600" hR="3600" stAng="10800000" swAng="-5400000"/>
                    <a:lnTo>
                      <a:pt x="18000" y="254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7600" y="982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06800" y="1862280"/>
                <a:ext cx="95040" cy="8892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7600" y="887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05000" y="1142640"/>
                <a:ext cx="1000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06800" y="1218960"/>
                <a:ext cx="9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4720" y="1066680"/>
                <a:ext cx="9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s en la inmu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" y="2305080"/>
            <a:ext cx="8134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 menos 10 TL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cenas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MPs conser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si todos los TLRs reconocen varios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os TLRs requieren proteínas acces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nirían directamente ligando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P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4440" y="53496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éptidos antimicrobi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286000"/>
            <a:ext cx="77533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Vertebrados, invertebrados, y plantas secret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éptidos antimicrobiano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que protegen de la invasión de patógenos. Propiedad de organismos multi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ens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AS DE SEÑALIZACION DE LOS RECEPTORES TIPO TOLL (TL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0240" y="164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expresa predominantemente en MCFs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13120" y="2079720"/>
            <a:ext cx="5035320" cy="4778280"/>
            <a:chOff x="2013120" y="2079720"/>
            <a:chExt cx="5035320" cy="4778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2013120" y="2079720"/>
              <a:ext cx="5035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231280" y="6545160"/>
              <a:ext cx="269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Aderem &amp; Ulevitch, Nature:406, 782 (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17715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7715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77156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859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6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escamosas. s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26859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camación, Pérdida de ácidos orgá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958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329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colum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32958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eristalsis, bajo pH, ácidos biliares, pérdida tioc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25718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552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lios tráqu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0120" y="403848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ransporte mucociliar,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1016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sofaringe y 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5520" y="461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oco, saliva, 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10120" y="46101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vado, 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120" y="531504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rculación, órganos linf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440" y="5315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fagocíticas, 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53150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agocitosis y muerte intracel, citólisis directa y dep. de anticue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esenta un amplio rango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éptido glicano de bacterias gram-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ipo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componentes de pared celular de leva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P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opera con TLR1 y TL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heterodímeros aumentan la diversidad de respue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presión e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superficie de dsRNA (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ctivación de PKR (proteína quinasa dependiente de ds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mbrana basolateral del epitelio 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sensa flagelina de salmo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onoce fragmentos CpG de DNA no metilado de bac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60560" y="1539720"/>
            <a:ext cx="6995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87680" y="2244600"/>
            <a:ext cx="7427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ARTICIPACION DE FACTORES DE 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EN LA SEÑALIZACION DE 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DE TIPO TOLL: PAPEL DE FACTOR NUCLEAR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NF</a:t>
            </a:r>
            <a:r>
              <a:rPr b="0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Funciones asociadas a NF</a:t>
            </a:r>
            <a:r>
              <a:rPr b="0" lang="es-MX" sz="4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1771560"/>
            <a:ext cx="8058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Intermediarios reactivos de oxígeno) y RNIs (Intermediarios reactivos de nitrógeno) – con alta toxicidad para microorganismos (como defensin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t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comunicación intercelul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em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quimiotaxis de leucocitos) moléculas de adhesión (facilitan la adhesión de leucocitos provocando alteraciones en su migración y tráf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fase aguda (Proteínas sintetizadas en el hígado y secretadas rápidamente post-infec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dución de citoquinas proinflamatorias, quemoquinas, iNOS,proteasas anti-microbianas, MHC, moléculas coestimulator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Rs y R-IL1 dependen de la activación de NF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B y MAPK via dominio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a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comparten MyD88, Tollip, IRAK, TRA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TLR2 activa NF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 vía Rac1 y PI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9080" y="1868400"/>
            <a:ext cx="72579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9861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1880" y="19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0280" y="1986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0052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5080" y="290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ctoferrina y transfer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90052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Unión de Hi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5080" y="3510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terfe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9240" y="351000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teínas antivi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27860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5080" y="4253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NF</a:t>
            </a: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425304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tiviral, activación fag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5080" y="4824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9240" y="482436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activación de peptidogl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52924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ibronec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mp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5529240"/>
            <a:ext cx="379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 y fagoci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, fagocitosis aumentada e infl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Inmunidad innata y adquir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1800" y="1549440"/>
          <a:ext cx="8458200" cy="5529240"/>
        </p:xfrm>
        <a:graphic>
          <a:graphicData uri="http://schemas.openxmlformats.org/drawingml/2006/table">
            <a:tbl>
              <a:tblPr/>
              <a:tblGrid>
                <a:gridCol w="2254320"/>
                <a:gridCol w="3384720"/>
                <a:gridCol w="2819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n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qui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r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el,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reciones de Piel y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ínas circul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m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uer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morfonuclearesMacrófag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 N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dores solu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Macrófa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3080" y="692280"/>
          <a:ext cx="8515080" cy="5562360"/>
        </p:xfrm>
        <a:graphic>
          <a:graphicData uri="http://schemas.openxmlformats.org/drawingml/2006/table">
            <a:tbl>
              <a:tblPr/>
              <a:tblGrid>
                <a:gridCol w="4257360"/>
                <a:gridCol w="425772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In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Adap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presentes en la línea ger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generados azaros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amplia especificidad (reconocen P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estrecha especificidad, reconocen un epit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MPs son polisacáridos y polinucleótidos. Difieren levemente de un patógeno a otro y no están presentes en hues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chos epitopes derivan de polipéptidos y reflejan la individualidad del pat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R (pathogen recognition recep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de células B y T para antígenos, BCR y T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inmedi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lenta: 3-5 días, necesario para el desarrollo de clones celulares de 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n memoria por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oria a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en metazoo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únicamente en vertebrados mandibu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9368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0600" y="2652480"/>
            <a:ext cx="692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Células de la respues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inmune inn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ivisión del sistema inmune: Células que partici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84"/>
          <a:stretch/>
        </p:blipFill>
        <p:spPr>
          <a:xfrm>
            <a:off x="868320" y="2290680"/>
            <a:ext cx="7458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2:18:11Z</dcterms:created>
  <dc:creator>Marcela Hermoso</dc:creator>
  <dc:description/>
  <dc:language>en-US</dc:language>
  <cp:lastModifiedBy>Usuario</cp:lastModifiedBy>
  <dcterms:modified xsi:type="dcterms:W3CDTF">2006-07-31T13:55:03Z</dcterms:modified>
  <cp:revision>364</cp:revision>
  <dc:subject/>
  <dc:title>Presentación de PowerPoint</dc:title>
</cp:coreProperties>
</file>