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277-41D9-470C-A281-3A2B1420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E7A-3935-41D9-BCB2-827F92E6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684-81C4-4510-9DBB-13461F0B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320-C05B-4F14-A18E-61B8C25A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598-D176-4412-9E3A-27DEDC28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169-F1C7-472E-B555-B436CFEA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9CC-B062-4C42-925C-D13CEA48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198-FF9A-451D-83F0-F319C14D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C81-29F3-42D9-B730-71CF0F07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499-E9D5-4E96-8667-2AE0A829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947-504F-4BA2-9B6F-9B3679D7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77C-E5DD-4B3F-86C5-2EE0B44B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497-1E48-47CC-A802-E5D9C64A942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722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343080"/>
            <a:ext cx="7772400" cy="799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D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40976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ada individuo pue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roduc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ir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élul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co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10</a:t>
            </a:r>
            <a:r>
              <a:rPr b="0" lang="es-ES" sz="2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15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10</a:t>
            </a:r>
            <a:r>
              <a:rPr b="0" lang="es-ES" sz="2400" spc="-1" strike="noStrike" baseline="30000">
                <a:solidFill>
                  <a:srgbClr val="ffff99"/>
                </a:solidFill>
                <a:latin typeface="Arial"/>
                <a:ea typeface="Arial"/>
              </a:rPr>
              <a:t>18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difer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.  Tenem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ant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uerp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receptores LT (TCR) que reaccionan con prácticamente cualquier compuesto, incluyendo aquellos que son sintéticos y que nunca existirían en la naturaleza.  La mayoría de esta diversidad es generada durante el rearreglo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V(D)J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o cual ocurre </a:t>
            </a:r>
            <a:r>
              <a:rPr b="1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pr</a:t>
            </a:r>
            <a:r>
              <a:rPr b="1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vi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exposición 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a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gen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.  La diversidad de células B y T producidas se llama 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  <a:ea typeface="Arial"/>
              </a:rPr>
              <a:t>REPERTORIO.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De este repertorio, una fracción pequeña (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&lt;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5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%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)  responderá contra un determinado ant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D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An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ticuer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isponibilidad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e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m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ú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ltipl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segmentos génico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iversidad c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ombinatorial diversi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dad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(diferent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combin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s VDJ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Agrupación de cadenas pesadas con 2 tipos de cadenas livia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Mutagénesis insercional y de un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Exclusión alé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Hipermutaciones somá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967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1. M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ú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ltiple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s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Regiones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68320"/>
            <a:ext cx="7772400" cy="4114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Locus de cadena pesad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~50 V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Locus k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app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 lambd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: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40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regiones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V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ada 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Codifican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CDR1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Arial"/>
              </a:rPr>
              <a:t>CD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60480" y="1143000"/>
            <a:ext cx="7223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2.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iver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a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Combinatorial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(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iferent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combina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ion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s VDJ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y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VJ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752480"/>
            <a:ext cx="7772400" cy="4876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Difere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V, D,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J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son 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le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ionadas </a:t>
            </a:r>
            <a:r>
              <a:rPr b="1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al azar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du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nte el desarrollo del linfocito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50 X 20 X 6 = 6000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ombos de cadena pe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~160-200 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VJ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oci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kapp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y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lamb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ec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a diversidad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D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228600"/>
            <a:ext cx="7772400" cy="1341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3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  <a:ea typeface="Arial"/>
              </a:rPr>
              <a:t>. 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Combinación 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diferent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c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dena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H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y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52280"/>
            <a:ext cx="777240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4. 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Mutagénesis insercional y de un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905120"/>
            <a:ext cx="7772400" cy="4647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os sitios de recombinació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(D)J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en el DNA no son preci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Recombin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n algunas pares de base  producen cambios en la secuencia de aminoácidos en región N-ter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se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ione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l azar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ucl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ti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DJ o V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n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 cadena pe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ec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en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a 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DR3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228600"/>
            <a:ext cx="77724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Estadíos del Desarrollo de </a:t>
            </a:r>
            <a:br>
              <a:rPr sz="4400"/>
            </a:b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Linfocitos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002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07_01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78487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914400" y="1143000"/>
          <a:ext cx="72388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27432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362320" y="4343400"/>
          <a:ext cx="437184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343400"/>
                    <a:ext cx="4371840" cy="190512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370520" y="30492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ff33"/>
                </a:solidFill>
                <a:latin typeface="Arial Narrow"/>
              </a:rPr>
              <a:t>MEDULA ÓSEA: ROL DEL ESTR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52280" y="2819520"/>
          <a:ext cx="433404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19520"/>
                    <a:ext cx="4334040" cy="385740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8600"/>
          <a:ext cx="43718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"/>
                    <a:ext cx="4371840" cy="3762360"/>
                  </a:xfrm>
                  <a:prstGeom prst="rect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0440" y="152280"/>
            <a:ext cx="876312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ffff"/>
                </a:solidFill>
                <a:latin typeface="Arial"/>
              </a:rPr>
              <a:t>Cadena Pesada y Rearreglo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</a:rPr>
              <a:t>VDJ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148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eavy Chain Locus" descr=""/>
          <p:cNvPicPr/>
          <p:nvPr/>
        </p:nvPicPr>
        <p:blipFill>
          <a:blip r:embed="rId1"/>
          <a:srcRect l="2727" t="2564" r="1363" b="2564"/>
          <a:stretch/>
        </p:blipFill>
        <p:spPr>
          <a:xfrm>
            <a:off x="304920" y="1371600"/>
            <a:ext cx="85341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362320" y="1905120"/>
            <a:ext cx="1283400" cy="560160"/>
            <a:chOff x="2362320" y="1905120"/>
            <a:chExt cx="1283400" cy="560160"/>
          </a:xfrm>
        </p:grpSpPr>
        <p:sp>
          <p:nvSpPr>
            <p:cNvPr id="46" name=""/>
            <p:cNvSpPr/>
            <p:nvPr/>
          </p:nvSpPr>
          <p:spPr>
            <a:xfrm flipH="1">
              <a:off x="3485880" y="1932120"/>
              <a:ext cx="15228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62320" y="2001960"/>
              <a:ext cx="10666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2240" y="19051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-J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990720" y="2057400"/>
            <a:ext cx="2149200" cy="470520"/>
            <a:chOff x="990720" y="2057400"/>
            <a:chExt cx="2149200" cy="470520"/>
          </a:xfrm>
        </p:grpSpPr>
        <p:sp>
          <p:nvSpPr>
            <p:cNvPr id="50" name=""/>
            <p:cNvSpPr/>
            <p:nvPr/>
          </p:nvSpPr>
          <p:spPr>
            <a:xfrm>
              <a:off x="1082520" y="2057400"/>
              <a:ext cx="20574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0720" y="2220840"/>
              <a:ext cx="105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V-D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152280"/>
            <a:ext cx="8076960" cy="1341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Genera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i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ó</a:t>
            </a:r>
            <a:r>
              <a:rPr b="0" lang="es-ES" sz="2800" spc="-1" strike="noStrike">
                <a:solidFill>
                  <a:srgbClr val="66ffff"/>
                </a:solidFill>
                <a:latin typeface="Arial"/>
              </a:rPr>
              <a:t>n 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de diversidad </a:t>
            </a:r>
            <a:r>
              <a:rPr b="1" lang="es-MX" sz="2800" spc="-1" strike="noStrike">
                <a:solidFill>
                  <a:srgbClr val="66ffff"/>
                </a:solidFill>
                <a:latin typeface="Arial"/>
              </a:rPr>
              <a:t>ocurre antes de la exposición a antígeno</a:t>
            </a:r>
            <a:r>
              <a:rPr b="0" lang="es-MX" sz="2800" spc="-1" strike="noStrike">
                <a:solidFill>
                  <a:srgbClr val="66ffff"/>
                </a:solidFill>
                <a:latin typeface="Arial"/>
              </a:rPr>
              <a:t> a través del rearreglo de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1_01" descr=""/>
          <p:cNvPicPr/>
          <p:nvPr/>
        </p:nvPicPr>
        <p:blipFill>
          <a:blip r:embed="rId1"/>
          <a:srcRect l="-3609" t="0" r="0" b="0"/>
          <a:stretch/>
        </p:blipFill>
        <p:spPr>
          <a:xfrm>
            <a:off x="2438280" y="1676520"/>
            <a:ext cx="6553440" cy="490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2280" y="2300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Rearreglo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VDJ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92572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xpresi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gM/IgD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 en m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de L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6252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Expos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ición a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Ag </a:t>
            </a: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a LT 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l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4678200"/>
            <a:ext cx="2210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Diferenciación de células plasmáticas</a:t>
            </a: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99"/>
                </a:solidFill>
                <a:latin typeface="Arial"/>
              </a:rPr>
              <a:t>Secreción de anticuerp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2544840"/>
            <a:ext cx="1219320" cy="15228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6760" y="152280"/>
            <a:ext cx="861048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5.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Hi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permuta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ion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es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 Som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á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tic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utaciones 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regio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esadas y livian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 ~10,000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veces más frecuentes que lo basal después de la activación de la célul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 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ur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r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spués de la estimulació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ntig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é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i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.  Genera la 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a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ura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de </a:t>
            </a:r>
            <a:r>
              <a:rPr b="1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fini</a:t>
            </a:r>
            <a:r>
              <a:rPr b="1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: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ele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c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muta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que poseen una afinidad p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or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l antígeno en respuestas secund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Switch Isot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í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p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Defini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i</a:t>
            </a:r>
            <a:r>
              <a:rPr b="0" lang="es-MX" sz="2800" spc="-1" strike="noStrike">
                <a:solidFill>
                  <a:srgbClr val="ff6600"/>
                </a:solidFill>
                <a:latin typeface="Arial"/>
                <a:ea typeface="Arial"/>
              </a:rPr>
              <a:t>ó</a:t>
            </a:r>
            <a:r>
              <a:rPr b="0" lang="es-ES" sz="2800" spc="-1" strike="noStrike">
                <a:solidFill>
                  <a:srgbClr val="ff6600"/>
                </a:solidFill>
                <a:latin typeface="Arial"/>
                <a:ea typeface="Arial"/>
              </a:rPr>
              <a:t>n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: Cambi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n el isotipo de cadena pesad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una determinada células B. células B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‘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n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ï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ve’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 sólo expresan 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gM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gD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witch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o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ípic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timula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la exposición 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g + 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to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qu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i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 produc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idas por linfocitos T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specifici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dad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or la unión 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an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í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gen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no camb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8560" y="56196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Mecanism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o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ele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c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i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ó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n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de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DNA 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en </a:t>
            </a:r>
            <a:r>
              <a:rPr b="0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regi</a:t>
            </a:r>
            <a:r>
              <a:rPr b="0" lang="es-MX" sz="3200" spc="-1" strike="noStrike">
                <a:solidFill>
                  <a:srgbClr val="66ffff"/>
                </a:solidFill>
                <a:latin typeface="Arial"/>
                <a:ea typeface="Arial"/>
              </a:rPr>
              <a:t>ón cons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5744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6_05" descr=""/>
          <p:cNvPicPr/>
          <p:nvPr/>
        </p:nvPicPr>
        <p:blipFill>
          <a:blip r:embed="rId1"/>
          <a:stretch/>
        </p:blipFill>
        <p:spPr>
          <a:xfrm>
            <a:off x="247680" y="1943280"/>
            <a:ext cx="86486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77724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Loop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 de 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DNA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d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Arial"/>
              </a:rPr>
              <a:t>ur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Arial"/>
              </a:rPr>
              <a:t>ante el rearreglo de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06_03" descr=""/>
          <p:cNvPicPr/>
          <p:nvPr/>
        </p:nvPicPr>
        <p:blipFill>
          <a:blip r:embed="rId1"/>
          <a:stretch/>
        </p:blipFill>
        <p:spPr>
          <a:xfrm>
            <a:off x="304920" y="2392200"/>
            <a:ext cx="85341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722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ffff"/>
                </a:solidFill>
                <a:latin typeface="Arial"/>
              </a:rPr>
              <a:t>Locus</a:t>
            </a:r>
            <a:r>
              <a:rPr b="0" lang="es-MX" sz="4400" spc="-1" strike="noStrike">
                <a:solidFill>
                  <a:srgbClr val="66ffff"/>
                </a:solidFill>
                <a:latin typeface="Arial"/>
              </a:rPr>
              <a:t> Cadena Pesada </a:t>
            </a:r>
            <a:r>
              <a:rPr b="0" lang="es-ES" sz="4400" spc="-1" strike="noStrike">
                <a:solidFill>
                  <a:srgbClr val="66ffff"/>
                </a:solidFill>
                <a:latin typeface="Arial"/>
              </a:rPr>
              <a:t>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219320"/>
            <a:ext cx="9144000" cy="5638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Ubicada en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cromosom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14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Expres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gM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IgD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en célul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</a:rPr>
              <a:t>B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</a:rPr>
              <a:t>inmunocompe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gene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e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regi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ó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n consta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Presente sin rearreglo en todas las células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except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L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B</a:t>
            </a: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Contiene regiones D (ausentes en cadena livi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Arial"/>
                <a:ea typeface="Arial"/>
              </a:rPr>
              <a:t>Expresa otros isotipos en la maduración de la respuesta </a:t>
            </a:r>
            <a:r>
              <a:rPr b="0" lang="es-ES" sz="2800" spc="-1" strike="noStrike">
                <a:solidFill>
                  <a:srgbClr val="ffff99"/>
                </a:solidFill>
                <a:latin typeface="Arial"/>
                <a:ea typeface="Arial"/>
              </a:rPr>
              <a:t>(IgG1, IgG2, IgG3, and IgG4, IgA1, IgA2, Ig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dificados por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1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2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3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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4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1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2, </a:t>
            </a:r>
            <a:r>
              <a:rPr b="0" lang="es-MX" sz="2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371600"/>
            <a:ext cx="8991000" cy="3481200"/>
            <a:chOff x="76320" y="1371600"/>
            <a:chExt cx="8991000" cy="3481200"/>
          </a:xfrm>
        </p:grpSpPr>
        <p:grpSp>
          <p:nvGrpSpPr>
            <p:cNvPr id="58" name=""/>
            <p:cNvGrpSpPr/>
            <p:nvPr/>
          </p:nvGrpSpPr>
          <p:grpSpPr>
            <a:xfrm>
              <a:off x="82440" y="1376280"/>
              <a:ext cx="8977680" cy="3471840"/>
              <a:chOff x="82440" y="1376280"/>
              <a:chExt cx="8977680" cy="34718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82440" y="1376280"/>
                <a:ext cx="1586160" cy="639720"/>
                <a:chOff x="82440" y="1376280"/>
                <a:chExt cx="1586160" cy="6397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73520" y="1376280"/>
                  <a:ext cx="1404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Letr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440" y="1376280"/>
                  <a:ext cx="1586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668960" y="1376280"/>
                <a:ext cx="1378800" cy="639720"/>
                <a:chOff x="1668960" y="1376280"/>
                <a:chExt cx="1378800" cy="639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760040" y="1376280"/>
                  <a:ext cx="11959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Signif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668960" y="1376280"/>
                  <a:ext cx="1378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048120" y="1376280"/>
                <a:ext cx="1208520" cy="639720"/>
                <a:chOff x="3048120" y="1376280"/>
                <a:chExt cx="1208520" cy="639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138840" y="1376280"/>
                  <a:ext cx="102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  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N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048120" y="1376280"/>
                  <a:ext cx="1208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4257360" y="1376280"/>
                <a:ext cx="1531440" cy="639720"/>
                <a:chOff x="4257360" y="1376280"/>
                <a:chExt cx="1531440" cy="6397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348440" y="1376280"/>
                  <a:ext cx="13492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Tamañ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257360" y="1376280"/>
                  <a:ext cx="1531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789160" y="1376280"/>
                <a:ext cx="3270960" cy="639720"/>
                <a:chOff x="5789160" y="1376280"/>
                <a:chExt cx="3270960" cy="639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880240" y="1376280"/>
                  <a:ext cx="3088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	</a:t>
                  </a: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Func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789160" y="1376280"/>
                  <a:ext cx="32709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82440" y="2016000"/>
                <a:ext cx="1586160" cy="669960"/>
                <a:chOff x="82440" y="2016000"/>
                <a:chExt cx="1586160" cy="6699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73520" y="201600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2440" y="201600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1668960" y="2016000"/>
                <a:ext cx="1378800" cy="669960"/>
                <a:chOff x="1668960" y="2016000"/>
                <a:chExt cx="1378800" cy="6699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1760040" y="201600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Variab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668960" y="201600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048120" y="2016000"/>
                <a:ext cx="1208520" cy="669960"/>
                <a:chOff x="3048120" y="2016000"/>
                <a:chExt cx="1208520" cy="6699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138840" y="201600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048120" y="201600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4257360" y="2016000"/>
                <a:ext cx="1531440" cy="669960"/>
                <a:chOff x="4257360" y="2016000"/>
                <a:chExt cx="1531440" cy="669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348440" y="201600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95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257360" y="201600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789160" y="2016000"/>
                <a:ext cx="3270960" cy="669960"/>
                <a:chOff x="5789160" y="2016000"/>
                <a:chExt cx="3270960" cy="669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880240" y="201600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789160" y="201600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82440" y="2685960"/>
                <a:ext cx="1586160" cy="669960"/>
                <a:chOff x="82440" y="2685960"/>
                <a:chExt cx="1586160" cy="669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73520" y="268596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D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440" y="268596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1668960" y="2685960"/>
                <a:ext cx="1378800" cy="669960"/>
                <a:chOff x="1668960" y="2685960"/>
                <a:chExt cx="1378800" cy="669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760040" y="268596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Dive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rsi-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668960" y="268596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048120" y="2685960"/>
                <a:ext cx="1208520" cy="669960"/>
                <a:chOff x="3048120" y="2685960"/>
                <a:chExt cx="1208520" cy="669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138840" y="268596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48120" y="268596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257360" y="2685960"/>
                <a:ext cx="1531440" cy="669960"/>
                <a:chOff x="4257360" y="2685960"/>
                <a:chExt cx="1531440" cy="669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348440" y="268596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3-6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257360" y="268596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789160" y="2685960"/>
                <a:ext cx="3270960" cy="669960"/>
                <a:chOff x="5789160" y="2685960"/>
                <a:chExt cx="3270960" cy="669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880240" y="268596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789160" y="268596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82440" y="3355920"/>
                <a:ext cx="1586160" cy="669960"/>
                <a:chOff x="82440" y="3355920"/>
                <a:chExt cx="1586160" cy="669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73520" y="3355920"/>
                  <a:ext cx="14040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J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2440" y="3355920"/>
                  <a:ext cx="158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668960" y="3355920"/>
                <a:ext cx="1378800" cy="669960"/>
                <a:chOff x="1668960" y="3355920"/>
                <a:chExt cx="1378800" cy="669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760040" y="3355920"/>
                  <a:ext cx="11959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Un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668960" y="3355920"/>
                  <a:ext cx="13788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048120" y="3355920"/>
                <a:ext cx="1208520" cy="669960"/>
                <a:chOff x="3048120" y="3355920"/>
                <a:chExt cx="1208520" cy="669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138840" y="3355920"/>
                  <a:ext cx="1026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048120" y="3355920"/>
                  <a:ext cx="1208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257360" y="3355920"/>
                <a:ext cx="1531440" cy="669960"/>
                <a:chOff x="4257360" y="3355920"/>
                <a:chExt cx="1531440" cy="669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348440" y="3355920"/>
                  <a:ext cx="13492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13 a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257360" y="3355920"/>
                  <a:ext cx="153144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89160" y="3355920"/>
                <a:ext cx="3270960" cy="669960"/>
                <a:chOff x="5789160" y="3355920"/>
                <a:chExt cx="3270960" cy="669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880240" y="3355920"/>
                  <a:ext cx="3088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 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789160" y="3355920"/>
                  <a:ext cx="3270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82440" y="4025880"/>
                <a:ext cx="1586160" cy="822240"/>
                <a:chOff x="82440" y="4025880"/>
                <a:chExt cx="1586160" cy="822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73520" y="4025880"/>
                  <a:ext cx="1404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99"/>
                      </a:solidFill>
                      <a:latin typeface="Arial"/>
                      <a:ea typeface="Arial"/>
                    </a:rPr>
                    <a:t>C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440" y="4025880"/>
                  <a:ext cx="15861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668960" y="4025880"/>
                <a:ext cx="1378800" cy="822240"/>
                <a:chOff x="1668960" y="4025880"/>
                <a:chExt cx="1378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60040" y="4025880"/>
                  <a:ext cx="1195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Constant</a:t>
                  </a:r>
                  <a:r>
                    <a:rPr b="0" lang="es-MX" sz="20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668960" y="4025880"/>
                  <a:ext cx="1378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048120" y="4025880"/>
                <a:ext cx="1208520" cy="822240"/>
                <a:chOff x="3048120" y="4025880"/>
                <a:chExt cx="120852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138840" y="4025880"/>
                  <a:ext cx="1026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9*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8120" y="4025880"/>
                  <a:ext cx="1208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257360" y="4025880"/>
                <a:ext cx="1531440" cy="822240"/>
                <a:chOff x="4257360" y="4025880"/>
                <a:chExt cx="153144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348440" y="4025880"/>
                  <a:ext cx="13492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~110 a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257360" y="4025880"/>
                  <a:ext cx="15314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789160" y="4025880"/>
                <a:ext cx="3270960" cy="822240"/>
                <a:chOff x="5789160" y="4025880"/>
                <a:chExt cx="327096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880240" y="4025880"/>
                  <a:ext cx="30880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Form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ar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Region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s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s-ES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Constant</a:t>
                  </a:r>
                  <a:r>
                    <a:rPr b="0" lang="es-MX" sz="2400" spc="-1" strike="noStrike">
                      <a:solidFill>
                        <a:srgbClr val="ffff99"/>
                      </a:solidFill>
                      <a:latin typeface="Arial"/>
                      <a:ea typeface="Times New Roman"/>
                    </a:rPr>
                    <a:t>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789160" y="4025880"/>
                  <a:ext cx="3270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6320" y="1371600"/>
              <a:ext cx="8991000" cy="348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562720" y="205596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44"/>
                </a:lnTo>
                <a:cubicBezTo>
                  <a:pt x="10800" y="9744"/>
                  <a:pt x="16200" y="10644"/>
                  <a:pt x="21600" y="10644"/>
                </a:cubicBezTo>
                <a:cubicBezTo>
                  <a:pt x="16200" y="10644"/>
                  <a:pt x="10800" y="11544"/>
                  <a:pt x="10800" y="124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7640" y="5091120"/>
            <a:ext cx="31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*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Un 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locus 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or 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cada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 isot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i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Arial"/>
              </a:rPr>
              <a:t>p</a:t>
            </a:r>
            <a:r>
              <a:rPr b="0" lang="es-MX" sz="2000" spc="-1" strike="noStrike">
                <a:solidFill>
                  <a:srgbClr val="ff66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22860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ffff"/>
                </a:solidFill>
                <a:latin typeface="Arial"/>
              </a:rPr>
              <a:t>Cadena Pes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ffff"/>
                </a:solidFill>
                <a:latin typeface="Arial"/>
                <a:ea typeface="Arial"/>
              </a:rPr>
              <a:t>Cadena Liv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371600"/>
            <a:ext cx="8686800" cy="5181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loci separ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dos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– kapp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n 2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cromosom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 difer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n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kappa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lamb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Tiene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egm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génico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V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y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J (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n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segment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s 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i el rearreglo de la cadena pesada es exitoso, ocurre el rearreglo de cadena kapp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kappa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célul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IgM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n 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kapp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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kappa no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el gen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 se rearreg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Si el rearreglo de lambda es exitoso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la célula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B expres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a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 IgM 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Arial"/>
              </a:rPr>
              <a:t>con cadenas livianas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lambda (</a:t>
            </a:r>
            <a:r>
              <a:rPr b="0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Arial"/>
              </a:rPr>
              <a:t>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04880" y="380880"/>
            <a:ext cx="77724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ff"/>
                </a:solidFill>
                <a:latin typeface="Arial"/>
                <a:ea typeface="Arial"/>
              </a:rPr>
              <a:t>Kappa Gene Re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34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06_02" descr=""/>
          <p:cNvPicPr/>
          <p:nvPr/>
        </p:nvPicPr>
        <p:blipFill>
          <a:blip r:embed="rId1"/>
          <a:stretch/>
        </p:blipFill>
        <p:spPr>
          <a:xfrm>
            <a:off x="285840" y="1676520"/>
            <a:ext cx="857232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1695600" y="2209680"/>
            <a:ext cx="2515320" cy="685800"/>
            <a:chOff x="1695600" y="2209680"/>
            <a:chExt cx="2515320" cy="685800"/>
          </a:xfrm>
        </p:grpSpPr>
        <p:sp>
          <p:nvSpPr>
            <p:cNvPr id="144" name=""/>
            <p:cNvSpPr/>
            <p:nvPr/>
          </p:nvSpPr>
          <p:spPr>
            <a:xfrm flipH="1">
              <a:off x="4057560" y="2209680"/>
              <a:ext cx="1526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95600" y="2286000"/>
              <a:ext cx="2298600" cy="56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87440" y="2292120"/>
              <a:ext cx="102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-J jo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0440" y="228600"/>
            <a:ext cx="876312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Coexpresi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ó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n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d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IgM 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e</a:t>
            </a: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IgD -</a:t>
            </a:r>
            <a:br>
              <a:rPr sz="3600"/>
            </a:br>
            <a:r>
              <a:rPr b="0" lang="es-ES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Splicing</a:t>
            </a:r>
            <a:r>
              <a:rPr b="0" lang="es-MX" sz="3600" spc="-1" strike="noStrike">
                <a:solidFill>
                  <a:srgbClr val="66ffff"/>
                </a:solidFill>
                <a:latin typeface="Arial"/>
                <a:ea typeface="Times New Roman"/>
              </a:rPr>
              <a:t> Altern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Heavy Chain Locus" descr=""/>
          <p:cNvPicPr/>
          <p:nvPr/>
        </p:nvPicPr>
        <p:blipFill>
          <a:blip r:embed="rId1"/>
          <a:srcRect l="27562" t="38451" r="1363" b="13860"/>
          <a:stretch/>
        </p:blipFill>
        <p:spPr>
          <a:xfrm>
            <a:off x="152280" y="2286000"/>
            <a:ext cx="883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5:34:53Z</dcterms:created>
  <dc:creator>Fac. de Medicina</dc:creator>
  <dc:description/>
  <dc:language>en-US</dc:language>
  <cp:lastModifiedBy>Usuario</cp:lastModifiedBy>
  <dcterms:modified xsi:type="dcterms:W3CDTF">2005-09-07T14:59:32Z</dcterms:modified>
  <cp:revision>94</cp:revision>
  <dc:subject/>
  <dc:title>Presentación de PowerPoint</dc:title>
</cp:coreProperties>
</file>