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20B-E2AC-46C7-8FF0-33491751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AD1-4777-490F-87CE-E9363F5A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C32-95AD-4DD7-950A-91BEFCAC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00E-9971-46C9-ADA0-112BC541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102-D3C0-45FB-900B-9342BACC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195-3DF2-4D87-A216-C7314CD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F70-58F0-4228-85D8-7C15EE4E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7A3-FFCB-49A5-AD7A-6C7652CC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7EF-625B-4A52-807C-0426A34A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3FB-3925-424F-A997-6F49DDA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85F-C4E2-428E-BF14-3EFD998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C3B-C96C-4210-9BCE-A397B63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E846-BEEE-45FC-9EB5-6C0C3C52D5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343080"/>
            <a:ext cx="7772400" cy="799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0976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a individuo pue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oduc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ir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élul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co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5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8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.  Tenem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uerp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receptores LT (TCR) que reaccionan con prácticamente cualquier compuesto, incluyendo aquellos que son sintéticos y que nunca existirían en la naturaleza.  La mayoría de esta diversidad es generada durante el rearreglo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(D)J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o cual ocurre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</a:t>
            </a:r>
            <a:r>
              <a:rPr b="1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vi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exposición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.  La diversidad de células B y T producidas se llama 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  <a:ea typeface="Arial"/>
              </a:rPr>
              <a:t>REPERTORIO.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De este repertorio, una fracción pequeña (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&lt;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%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)  responderá contra un determinado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A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ticuer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sponibilidad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m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ú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ltipl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egmentos génico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versidad 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ombinatorial diversi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ad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(diferent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Agrupación de cadenas pesadas con 2 tipos de cadenas livi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Mutagénesis insercional y de un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xclusión alé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Hipermutaciones somá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967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1. M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ú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ltiple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s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Regiones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68320"/>
            <a:ext cx="77724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de cadena pesad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~50 V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k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app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lambd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40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regione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ada 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odifican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1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60480" y="1143000"/>
            <a:ext cx="7223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2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ombinatorial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(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iferent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VJ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752480"/>
            <a:ext cx="7772400" cy="487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, D,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on 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le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adas </a:t>
            </a:r>
            <a:r>
              <a:rPr b="1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al azar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nte el desarrollo del linfocit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50 X 20 X 6 = 6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mbos 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~160-200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ci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y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diversidad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228600"/>
            <a:ext cx="777240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3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ombinación 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feren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dena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H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52280"/>
            <a:ext cx="777240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4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Mutagénesis insercional y de un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s sitios de recombin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(D)J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el DNA no son preci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Re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algunas pares de base  producen cambios en la secuencia de aminoácidos en región N-ter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se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l azar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uc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i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DJ o V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n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en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Estadíos del Desarrollo de </a:t>
            </a:r>
            <a:br>
              <a:rPr sz="4400"/>
            </a:b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Linfocitos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002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07_01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7848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914400" y="1143000"/>
          <a:ext cx="7238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2743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362320" y="4343400"/>
          <a:ext cx="437184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4371840" cy="1905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370520" y="30492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ff33"/>
                </a:solidFill>
                <a:latin typeface="Arial Narrow"/>
              </a:rPr>
              <a:t>MEDULA ÓSEA: ROL DEL ESTR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2280" y="2819520"/>
          <a:ext cx="433404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4334040" cy="385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8600"/>
          <a:ext cx="43718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371840" cy="3762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52280"/>
            <a:ext cx="87631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ffff"/>
                </a:solidFill>
                <a:latin typeface="Arial"/>
              </a:rPr>
              <a:t>Cadena Pesada y Rearreglo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VDJ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148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eavy Chain Locus" descr=""/>
          <p:cNvPicPr/>
          <p:nvPr/>
        </p:nvPicPr>
        <p:blipFill>
          <a:blip r:embed="rId1"/>
          <a:srcRect l="2727" t="2564" r="1363" b="2564"/>
          <a:stretch/>
        </p:blipFill>
        <p:spPr>
          <a:xfrm>
            <a:off x="304920" y="1371600"/>
            <a:ext cx="85341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362320" y="1905120"/>
            <a:ext cx="1283400" cy="560160"/>
            <a:chOff x="2362320" y="1905120"/>
            <a:chExt cx="1283400" cy="560160"/>
          </a:xfrm>
        </p:grpSpPr>
        <p:sp>
          <p:nvSpPr>
            <p:cNvPr id="46" name=""/>
            <p:cNvSpPr/>
            <p:nvPr/>
          </p:nvSpPr>
          <p:spPr>
            <a:xfrm flipH="1">
              <a:off x="3485880" y="1932120"/>
              <a:ext cx="1522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2001960"/>
              <a:ext cx="10666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2240" y="1905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90720" y="2057400"/>
            <a:ext cx="2149200" cy="470520"/>
            <a:chOff x="990720" y="2057400"/>
            <a:chExt cx="2149200" cy="470520"/>
          </a:xfrm>
        </p:grpSpPr>
        <p:sp>
          <p:nvSpPr>
            <p:cNvPr id="50" name=""/>
            <p:cNvSpPr/>
            <p:nvPr/>
          </p:nvSpPr>
          <p:spPr>
            <a:xfrm>
              <a:off x="1082520" y="2057400"/>
              <a:ext cx="20574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2220840"/>
              <a:ext cx="105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V-D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152280"/>
            <a:ext cx="8076960" cy="1341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Genera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i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n 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de diversidad </a:t>
            </a:r>
            <a:r>
              <a:rPr b="1" lang="es-MX" sz="2800" spc="-1" strike="noStrike">
                <a:solidFill>
                  <a:srgbClr val="66ffff"/>
                </a:solidFill>
                <a:latin typeface="Arial"/>
              </a:rPr>
              <a:t>ocurre antes de la exposición a antígeno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 a través del rearreglo de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1_01" descr=""/>
          <p:cNvPicPr/>
          <p:nvPr/>
        </p:nvPicPr>
        <p:blipFill>
          <a:blip r:embed="rId1"/>
          <a:srcRect l="-3609" t="0" r="0" b="0"/>
          <a:stretch/>
        </p:blipFill>
        <p:spPr>
          <a:xfrm>
            <a:off x="2438280" y="1676520"/>
            <a:ext cx="6553440" cy="490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2300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Rearreglo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VDJ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9257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xpresi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gM/IgD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 en m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e L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Expos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ición a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g 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a LT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l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678200"/>
            <a:ext cx="221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iferenciación de células plasmáticas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Secreción de anticuerp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2544840"/>
            <a:ext cx="1219320" cy="1522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6760" y="152280"/>
            <a:ext cx="861048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5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Hi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ermuta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So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á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ti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utaciones 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reg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esadas y livian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 ~10,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veces más frecuentes que lo basal después de la activación de la célu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r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spués de la estimul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ig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é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i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.  Genera la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r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de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in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ut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e poseen una afinidad p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o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l antígeno en respuestas secund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witch Iso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í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Defin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Camb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el isotipo de cadena pesad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una determinada células B. células B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‘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ï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e’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sólo expresan 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g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witch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o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pic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timul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exposic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g + 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o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produ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das por linfocitos T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un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o ca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8560" y="56196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ele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n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n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reg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n con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57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6_05" descr=""/>
          <p:cNvPicPr/>
          <p:nvPr/>
        </p:nvPicPr>
        <p:blipFill>
          <a:blip r:embed="rId1"/>
          <a:stretch/>
        </p:blipFill>
        <p:spPr>
          <a:xfrm>
            <a:off x="247680" y="1943280"/>
            <a:ext cx="86486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Loo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 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ur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nte el rearreglo de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6_03" descr=""/>
          <p:cNvPicPr/>
          <p:nvPr/>
        </p:nvPicPr>
        <p:blipFill>
          <a:blip r:embed="rId1"/>
          <a:stretch/>
        </p:blipFill>
        <p:spPr>
          <a:xfrm>
            <a:off x="304920" y="2392200"/>
            <a:ext cx="85341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Locus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</a:rPr>
              <a:t> Cadena Pesada 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Ubicada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cromoso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14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Expre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D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n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inmunocompe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reg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n const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resente sin rearreglo en todas las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xcep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ntiene regiones D (ausentes en cadena livi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xpresa otros isotipos en la maduración de la respuest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(IgG1, IgG2, IgG3, and IgG4, IgA1, IgA2, Ig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dificados por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3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4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371600"/>
            <a:ext cx="8991000" cy="3481200"/>
            <a:chOff x="76320" y="1371600"/>
            <a:chExt cx="8991000" cy="3481200"/>
          </a:xfrm>
        </p:grpSpPr>
        <p:grpSp>
          <p:nvGrpSpPr>
            <p:cNvPr id="58" name=""/>
            <p:cNvGrpSpPr/>
            <p:nvPr/>
          </p:nvGrpSpPr>
          <p:grpSpPr>
            <a:xfrm>
              <a:off x="82440" y="1376280"/>
              <a:ext cx="8977680" cy="3471840"/>
              <a:chOff x="82440" y="1376280"/>
              <a:chExt cx="8977680" cy="34718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82440" y="1376280"/>
                <a:ext cx="1586160" cy="639720"/>
                <a:chOff x="82440" y="1376280"/>
                <a:chExt cx="1586160" cy="6397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73520" y="1376280"/>
                  <a:ext cx="1404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Let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440" y="1376280"/>
                  <a:ext cx="158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668960" y="1376280"/>
                <a:ext cx="1378800" cy="639720"/>
                <a:chOff x="1668960" y="1376280"/>
                <a:chExt cx="1378800" cy="639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760040" y="1376280"/>
                  <a:ext cx="1195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ignif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668960" y="1376280"/>
                  <a:ext cx="1378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048120" y="1376280"/>
                <a:ext cx="1208520" cy="639720"/>
                <a:chOff x="3048120" y="1376280"/>
                <a:chExt cx="1208520" cy="639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138840" y="1376280"/>
                  <a:ext cx="102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N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048120" y="1376280"/>
                  <a:ext cx="1208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257360" y="1376280"/>
                <a:ext cx="1531440" cy="639720"/>
                <a:chOff x="4257360" y="1376280"/>
                <a:chExt cx="1531440" cy="639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348440" y="1376280"/>
                  <a:ext cx="1349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Tamañ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257360" y="1376280"/>
                  <a:ext cx="1531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789160" y="1376280"/>
                <a:ext cx="3270960" cy="639720"/>
                <a:chOff x="5789160" y="1376280"/>
                <a:chExt cx="3270960" cy="639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880240" y="1376280"/>
                  <a:ext cx="3088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unc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789160" y="1376280"/>
                  <a:ext cx="3270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82440" y="2016000"/>
                <a:ext cx="1586160" cy="669960"/>
                <a:chOff x="82440" y="2016000"/>
                <a:chExt cx="1586160" cy="6699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73520" y="201600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440" y="201600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1668960" y="2016000"/>
                <a:ext cx="1378800" cy="669960"/>
                <a:chOff x="1668960" y="2016000"/>
                <a:chExt cx="1378800" cy="6699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60040" y="201600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Variab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668960" y="201600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048120" y="2016000"/>
                <a:ext cx="1208520" cy="669960"/>
                <a:chOff x="3048120" y="2016000"/>
                <a:chExt cx="1208520" cy="6699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138840" y="201600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048120" y="201600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4257360" y="2016000"/>
                <a:ext cx="1531440" cy="669960"/>
                <a:chOff x="4257360" y="2016000"/>
                <a:chExt cx="1531440" cy="669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348440" y="201600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95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257360" y="201600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789160" y="2016000"/>
                <a:ext cx="3270960" cy="669960"/>
                <a:chOff x="5789160" y="2016000"/>
                <a:chExt cx="3270960" cy="669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880240" y="201600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789160" y="201600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82440" y="2685960"/>
                <a:ext cx="1586160" cy="669960"/>
                <a:chOff x="82440" y="2685960"/>
                <a:chExt cx="1586160" cy="669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73520" y="268596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D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440" y="268596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668960" y="2685960"/>
                <a:ext cx="1378800" cy="669960"/>
                <a:chOff x="1668960" y="2685960"/>
                <a:chExt cx="1378800" cy="669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760040" y="268596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Dive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si-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668960" y="268596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048120" y="2685960"/>
                <a:ext cx="1208520" cy="669960"/>
                <a:chOff x="3048120" y="2685960"/>
                <a:chExt cx="1208520" cy="669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138840" y="268596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48120" y="268596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257360" y="2685960"/>
                <a:ext cx="1531440" cy="669960"/>
                <a:chOff x="4257360" y="2685960"/>
                <a:chExt cx="1531440" cy="669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348440" y="268596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3-6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57360" y="268596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789160" y="2685960"/>
                <a:ext cx="3270960" cy="669960"/>
                <a:chOff x="5789160" y="2685960"/>
                <a:chExt cx="3270960" cy="669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880240" y="268596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789160" y="268596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82440" y="3355920"/>
                <a:ext cx="1586160" cy="669960"/>
                <a:chOff x="82440" y="3355920"/>
                <a:chExt cx="1586160" cy="669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73520" y="335592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J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440" y="335592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668960" y="3355920"/>
                <a:ext cx="1378800" cy="669960"/>
                <a:chOff x="1668960" y="3355920"/>
                <a:chExt cx="1378800" cy="669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760040" y="335592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Un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68960" y="335592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048120" y="3355920"/>
                <a:ext cx="1208520" cy="669960"/>
                <a:chOff x="3048120" y="3355920"/>
                <a:chExt cx="1208520" cy="669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138840" y="335592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48120" y="335592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257360" y="3355920"/>
                <a:ext cx="1531440" cy="669960"/>
                <a:chOff x="4257360" y="3355920"/>
                <a:chExt cx="1531440" cy="669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48440" y="335592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3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257360" y="335592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89160" y="3355920"/>
                <a:ext cx="3270960" cy="669960"/>
                <a:chOff x="5789160" y="3355920"/>
                <a:chExt cx="3270960" cy="669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880240" y="335592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 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789160" y="335592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440" y="4025880"/>
                <a:ext cx="1586160" cy="822240"/>
                <a:chOff x="82440" y="4025880"/>
                <a:chExt cx="1586160" cy="822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73520" y="4025880"/>
                  <a:ext cx="1404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C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440" y="4025880"/>
                  <a:ext cx="15861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668960" y="4025880"/>
                <a:ext cx="1378800" cy="822240"/>
                <a:chOff x="1668960" y="4025880"/>
                <a:chExt cx="1378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60040" y="4025880"/>
                  <a:ext cx="1195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68960" y="4025880"/>
                  <a:ext cx="1378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048120" y="4025880"/>
                <a:ext cx="1208520" cy="822240"/>
                <a:chOff x="3048120" y="4025880"/>
                <a:chExt cx="120852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138840" y="4025880"/>
                  <a:ext cx="1026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9*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8120" y="4025880"/>
                  <a:ext cx="1208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257360" y="4025880"/>
                <a:ext cx="1531440" cy="822240"/>
                <a:chOff x="4257360" y="4025880"/>
                <a:chExt cx="153144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48440" y="4025880"/>
                  <a:ext cx="1349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10 a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257360" y="4025880"/>
                  <a:ext cx="153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789160" y="4025880"/>
                <a:ext cx="3270960" cy="822240"/>
                <a:chOff x="5789160" y="4025880"/>
                <a:chExt cx="327096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880240" y="4025880"/>
                  <a:ext cx="30880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orm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ar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egion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89160" y="4025880"/>
                  <a:ext cx="3270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6320" y="1371600"/>
              <a:ext cx="8991000" cy="348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562720" y="205596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44"/>
                </a:lnTo>
                <a:cubicBezTo>
                  <a:pt x="10800" y="9744"/>
                  <a:pt x="16200" y="10644"/>
                  <a:pt x="21600" y="10644"/>
                </a:cubicBezTo>
                <a:cubicBezTo>
                  <a:pt x="16200" y="10644"/>
                  <a:pt x="10800" y="11544"/>
                  <a:pt x="10800" y="124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7640" y="5091120"/>
            <a:ext cx="31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*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Un 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locus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or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cada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 isot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2286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ffff"/>
                </a:solidFill>
                <a:latin typeface="Arial"/>
              </a:rPr>
              <a:t>Cadena Pes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Cadena Liv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371600"/>
            <a:ext cx="8686800" cy="5181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oci separ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– kapp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n 2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romosom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amb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Tien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génic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J (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i el rearreglo de la cadena pesada es exitoso, ocurre el rearreglo de cadena kapp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no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l g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se rearreg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lambd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04880" y="380880"/>
            <a:ext cx="77724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Kappa Gene Re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34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6_02" descr=""/>
          <p:cNvPicPr/>
          <p:nvPr/>
        </p:nvPicPr>
        <p:blipFill>
          <a:blip r:embed="rId1"/>
          <a:stretch/>
        </p:blipFill>
        <p:spPr>
          <a:xfrm>
            <a:off x="285840" y="1676520"/>
            <a:ext cx="85723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1695600" y="2209680"/>
            <a:ext cx="2515320" cy="685800"/>
            <a:chOff x="1695600" y="2209680"/>
            <a:chExt cx="2515320" cy="685800"/>
          </a:xfrm>
        </p:grpSpPr>
        <p:sp>
          <p:nvSpPr>
            <p:cNvPr id="144" name=""/>
            <p:cNvSpPr/>
            <p:nvPr/>
          </p:nvSpPr>
          <p:spPr>
            <a:xfrm flipH="1">
              <a:off x="4057560" y="2209680"/>
              <a:ext cx="1526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5600" y="2286000"/>
              <a:ext cx="2298600" cy="56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7440" y="2292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440" y="228600"/>
            <a:ext cx="87631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Coexpre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ó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n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M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D -</a:t>
            </a:r>
            <a:br>
              <a:rPr sz="3600"/>
            </a:b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Splicing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Altern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Heavy Chain Locus" descr=""/>
          <p:cNvPicPr/>
          <p:nvPr/>
        </p:nvPicPr>
        <p:blipFill>
          <a:blip r:embed="rId1"/>
          <a:srcRect l="27562" t="38451" r="1363" b="13860"/>
          <a:stretch/>
        </p:blipFill>
        <p:spPr>
          <a:xfrm>
            <a:off x="152280" y="2286000"/>
            <a:ext cx="883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5:34:53Z</dcterms:created>
  <dc:creator>Fac. de Medicina</dc:creator>
  <dc:description/>
  <dc:language>en-US</dc:language>
  <cp:lastModifiedBy>Usuario</cp:lastModifiedBy>
  <dcterms:modified xsi:type="dcterms:W3CDTF">2005-09-07T14:59:32Z</dcterms:modified>
  <cp:revision>94</cp:revision>
  <dc:subject/>
  <dc:title>Presentación de PowerPoint</dc:title>
</cp:coreProperties>
</file>