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3.png" ContentType="image/png"/>
  <Override PartName="/ppt/media/image6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8.png" ContentType="image/png"/>
  <Override PartName="/ppt/media/image50.wmf" ContentType="image/x-wmf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03F3-2B9E-45CA-844B-32DABA40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2891-FFF3-437A-A2C9-04DC1573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6E9D-3268-435C-9DE0-910DB883E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41AB-1CDA-4E81-B8C1-FC4083568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5C7E-199D-41A3-858C-39690BDC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E4F2-5E21-4F98-B84B-E22129A4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D79D-5AD6-421A-A467-BAB5A932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7F04-0E8B-4903-83FF-F0EA3328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4261-AEED-482B-A570-A3B3951B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1E98-F445-49C5-BD92-3FB34B3F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0B18-D848-4BBE-A575-51FD2714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3E74-B476-450A-B7D5-D3639AA7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B820-05C6-43AA-A8B3-C23DB13B5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8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9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0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1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2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3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4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5.png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6.png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7.png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8.png"/><Relationship Id="rId3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6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7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7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7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8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9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9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9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9.png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9.png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49.png"/><Relationship Id="rId3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2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53.png"/><Relationship Id="rId8" Type="http://schemas.openxmlformats.org/officeDocument/2006/relationships/image" Target="../media/image52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54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6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7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8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9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9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0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1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2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3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64.png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65.png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66.png"/><Relationship Id="rId3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0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1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6603480"/>
            <a:ext cx="8686080" cy="229320"/>
            <a:chOff x="304920" y="6603480"/>
            <a:chExt cx="8686080" cy="229320"/>
          </a:xfrm>
        </p:grpSpPr>
        <p:sp>
          <p:nvSpPr>
            <p:cNvPr id="42" name=""/>
            <p:cNvSpPr/>
            <p:nvPr/>
          </p:nvSpPr>
          <p:spPr>
            <a:xfrm rot="5404800">
              <a:off x="8668800" y="6510600"/>
              <a:ext cx="228600" cy="41508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4920" y="6681600"/>
              <a:ext cx="8274600" cy="75960"/>
            </a:xfrm>
            <a:prstGeom prst="rect">
              <a:avLst/>
            </a:prstGeom>
            <a:solidFill>
              <a:srgbClr val="3333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 txBox="1"/>
          <p:nvPr/>
        </p:nvSpPr>
        <p:spPr>
          <a:xfrm>
            <a:off x="304920" y="533520"/>
            <a:ext cx="4698720" cy="37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Fase de Reconocimien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28600" y="5867280"/>
            <a:ext cx="1066680" cy="609480"/>
            <a:chOff x="228600" y="5867280"/>
            <a:chExt cx="1066680" cy="609480"/>
          </a:xfrm>
        </p:grpSpPr>
        <p:sp>
          <p:nvSpPr>
            <p:cNvPr id="46" name=""/>
            <p:cNvSpPr/>
            <p:nvPr/>
          </p:nvSpPr>
          <p:spPr>
            <a:xfrm>
              <a:off x="1066680" y="5867280"/>
              <a:ext cx="228600" cy="2286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228600" y="5867280"/>
              <a:ext cx="609480" cy="609480"/>
              <a:chOff x="228600" y="5867280"/>
              <a:chExt cx="609480" cy="609480"/>
            </a:xfrm>
          </p:grpSpPr>
          <p:sp>
            <p:nvSpPr>
              <p:cNvPr id="48" name=""/>
              <p:cNvSpPr/>
              <p:nvPr/>
            </p:nvSpPr>
            <p:spPr>
              <a:xfrm>
                <a:off x="228600" y="5867280"/>
                <a:ext cx="609480" cy="609480"/>
              </a:xfrm>
              <a:prstGeom prst="ellipse">
                <a:avLst/>
              </a:prstGeom>
              <a:solidFill>
                <a:srgbClr val="d3b1f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82960" y="5921640"/>
                <a:ext cx="507960" cy="5079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01040" y="5988960"/>
                <a:ext cx="253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838440" y="6065640"/>
              <a:ext cx="301680" cy="275400"/>
              <a:chOff x="838440" y="6065640"/>
              <a:chExt cx="301680" cy="275400"/>
            </a:xfrm>
          </p:grpSpPr>
          <p:sp>
            <p:nvSpPr>
              <p:cNvPr id="52" name=""/>
              <p:cNvSpPr/>
              <p:nvPr/>
            </p:nvSpPr>
            <p:spPr>
              <a:xfrm rot="116400">
                <a:off x="838800" y="6177960"/>
                <a:ext cx="158760" cy="1944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20097600">
                <a:off x="984600" y="6136560"/>
                <a:ext cx="158760" cy="1872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116400">
                <a:off x="838440" y="6216480"/>
                <a:ext cx="158760" cy="1872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1139400">
                <a:off x="982440" y="6260040"/>
                <a:ext cx="158400" cy="1872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1139400">
                <a:off x="968040" y="6297120"/>
                <a:ext cx="158400" cy="1872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0097600">
                <a:off x="962280" y="6098040"/>
                <a:ext cx="157320" cy="1872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" name=""/>
          <p:cNvGrpSpPr/>
          <p:nvPr/>
        </p:nvGrpSpPr>
        <p:grpSpPr>
          <a:xfrm>
            <a:off x="228600" y="4849200"/>
            <a:ext cx="1731960" cy="1026360"/>
            <a:chOff x="228600" y="4849200"/>
            <a:chExt cx="1731960" cy="1026360"/>
          </a:xfrm>
        </p:grpSpPr>
        <p:grpSp>
          <p:nvGrpSpPr>
            <p:cNvPr id="59" name=""/>
            <p:cNvGrpSpPr/>
            <p:nvPr/>
          </p:nvGrpSpPr>
          <p:grpSpPr>
            <a:xfrm>
              <a:off x="834480" y="5310720"/>
              <a:ext cx="160200" cy="139680"/>
              <a:chOff x="834480" y="5310720"/>
              <a:chExt cx="160200" cy="139680"/>
            </a:xfrm>
          </p:grpSpPr>
          <p:sp>
            <p:nvSpPr>
              <p:cNvPr id="60" name=""/>
              <p:cNvSpPr/>
              <p:nvPr/>
            </p:nvSpPr>
            <p:spPr>
              <a:xfrm rot="191400">
                <a:off x="841320" y="5314680"/>
                <a:ext cx="152640" cy="3204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191400">
                <a:off x="834840" y="5410800"/>
                <a:ext cx="152640" cy="35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914040" y="5187600"/>
              <a:ext cx="188280" cy="358920"/>
              <a:chOff x="914040" y="5187600"/>
              <a:chExt cx="188280" cy="358920"/>
            </a:xfrm>
          </p:grpSpPr>
          <p:grpSp>
            <p:nvGrpSpPr>
              <p:cNvPr id="63" name=""/>
              <p:cNvGrpSpPr/>
              <p:nvPr/>
            </p:nvGrpSpPr>
            <p:grpSpPr>
              <a:xfrm>
                <a:off x="914040" y="5187600"/>
                <a:ext cx="188280" cy="358920"/>
                <a:chOff x="914040" y="5187600"/>
                <a:chExt cx="188280" cy="358920"/>
              </a:xfrm>
            </p:grpSpPr>
            <p:sp>
              <p:nvSpPr>
                <p:cNvPr id="64" name=""/>
                <p:cNvSpPr/>
                <p:nvPr/>
              </p:nvSpPr>
              <p:spPr>
                <a:xfrm rot="16068000">
                  <a:off x="831600" y="5279760"/>
                  <a:ext cx="352440" cy="174600"/>
                </a:xfrm>
                <a:prstGeom prst="flowChartManualOperation">
                  <a:avLst/>
                </a:prstGeom>
                <a:solidFill>
                  <a:srgbClr val="99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flipV="1">
                  <a:off x="920880" y="5364000"/>
                  <a:ext cx="174600" cy="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flipV="1">
                  <a:off x="923040" y="5425560"/>
                  <a:ext cx="87120" cy="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flipV="1">
                  <a:off x="919080" y="5307840"/>
                  <a:ext cx="87120" cy="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flipH="1" flipV="1">
                  <a:off x="1005840" y="5308560"/>
                  <a:ext cx="4320" cy="11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69" name=""/>
              <p:cNvGraphicFramePr/>
              <p:nvPr/>
            </p:nvGraphicFramePr>
            <p:xfrm>
              <a:off x="914400" y="5315040"/>
              <a:ext cx="117720" cy="968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0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914400" y="5315040"/>
                        <a:ext cx="117720" cy="96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71" name=""/>
            <p:cNvSpPr/>
            <p:nvPr/>
          </p:nvSpPr>
          <p:spPr>
            <a:xfrm>
              <a:off x="914400" y="5315040"/>
              <a:ext cx="96840" cy="9684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228600" y="5086440"/>
              <a:ext cx="609480" cy="609480"/>
              <a:chOff x="228600" y="5086440"/>
              <a:chExt cx="609480" cy="60948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228600" y="5086440"/>
                <a:ext cx="609480" cy="609480"/>
                <a:chOff x="228600" y="5086440"/>
                <a:chExt cx="609480" cy="6094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228600" y="5086440"/>
                  <a:ext cx="609480" cy="60948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284400" y="5149440"/>
                  <a:ext cx="498240" cy="49860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" name=""/>
              <p:cNvSpPr/>
              <p:nvPr/>
            </p:nvSpPr>
            <p:spPr>
              <a:xfrm>
                <a:off x="380880" y="5222880"/>
                <a:ext cx="250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969120" y="4849200"/>
              <a:ext cx="991440" cy="1026360"/>
              <a:chOff x="969120" y="4849200"/>
              <a:chExt cx="991440" cy="1026360"/>
            </a:xfrm>
          </p:grpSpPr>
          <p:sp>
            <p:nvSpPr>
              <p:cNvPr id="78" name=""/>
              <p:cNvSpPr/>
              <p:nvPr/>
            </p:nvSpPr>
            <p:spPr>
              <a:xfrm rot="11630400">
                <a:off x="1059840" y="4933440"/>
                <a:ext cx="809640" cy="857520"/>
              </a:xfrm>
              <a:custGeom>
                <a:avLst/>
                <a:gdLst/>
                <a:ahLst/>
                <a:rect l="l" t="t" r="r" b="b"/>
                <a:pathLst>
                  <a:path w="867" h="594">
                    <a:moveTo>
                      <a:pt x="120" y="109"/>
                    </a:moveTo>
                    <a:cubicBezTo>
                      <a:pt x="101" y="130"/>
                      <a:pt x="79" y="134"/>
                      <a:pt x="55" y="150"/>
                    </a:cubicBezTo>
                    <a:cubicBezTo>
                      <a:pt x="10" y="216"/>
                      <a:pt x="66" y="248"/>
                      <a:pt x="88" y="306"/>
                    </a:cubicBezTo>
                    <a:cubicBezTo>
                      <a:pt x="78" y="360"/>
                      <a:pt x="79" y="364"/>
                      <a:pt x="30" y="380"/>
                    </a:cubicBezTo>
                    <a:cubicBezTo>
                      <a:pt x="1" y="410"/>
                      <a:pt x="0" y="438"/>
                      <a:pt x="14" y="479"/>
                    </a:cubicBezTo>
                    <a:cubicBezTo>
                      <a:pt x="17" y="488"/>
                      <a:pt x="22" y="499"/>
                      <a:pt x="30" y="504"/>
                    </a:cubicBezTo>
                    <a:cubicBezTo>
                      <a:pt x="45" y="513"/>
                      <a:pt x="79" y="520"/>
                      <a:pt x="79" y="520"/>
                    </a:cubicBezTo>
                    <a:cubicBezTo>
                      <a:pt x="98" y="517"/>
                      <a:pt x="118" y="518"/>
                      <a:pt x="137" y="512"/>
                    </a:cubicBezTo>
                    <a:cubicBezTo>
                      <a:pt x="146" y="509"/>
                      <a:pt x="151" y="496"/>
                      <a:pt x="161" y="495"/>
                    </a:cubicBezTo>
                    <a:cubicBezTo>
                      <a:pt x="175" y="493"/>
                      <a:pt x="189" y="500"/>
                      <a:pt x="203" y="504"/>
                    </a:cubicBezTo>
                    <a:cubicBezTo>
                      <a:pt x="220" y="509"/>
                      <a:pt x="252" y="520"/>
                      <a:pt x="252" y="520"/>
                    </a:cubicBezTo>
                    <a:cubicBezTo>
                      <a:pt x="308" y="558"/>
                      <a:pt x="282" y="547"/>
                      <a:pt x="326" y="561"/>
                    </a:cubicBezTo>
                    <a:cubicBezTo>
                      <a:pt x="334" y="567"/>
                      <a:pt x="342" y="574"/>
                      <a:pt x="351" y="578"/>
                    </a:cubicBezTo>
                    <a:cubicBezTo>
                      <a:pt x="367" y="585"/>
                      <a:pt x="400" y="594"/>
                      <a:pt x="400" y="594"/>
                    </a:cubicBezTo>
                    <a:cubicBezTo>
                      <a:pt x="427" y="591"/>
                      <a:pt x="455" y="593"/>
                      <a:pt x="482" y="586"/>
                    </a:cubicBezTo>
                    <a:cubicBezTo>
                      <a:pt x="507" y="580"/>
                      <a:pt x="541" y="508"/>
                      <a:pt x="572" y="495"/>
                    </a:cubicBezTo>
                    <a:cubicBezTo>
                      <a:pt x="593" y="487"/>
                      <a:pt x="638" y="479"/>
                      <a:pt x="638" y="479"/>
                    </a:cubicBezTo>
                    <a:cubicBezTo>
                      <a:pt x="703" y="492"/>
                      <a:pt x="710" y="494"/>
                      <a:pt x="786" y="487"/>
                    </a:cubicBezTo>
                    <a:cubicBezTo>
                      <a:pt x="810" y="464"/>
                      <a:pt x="833" y="448"/>
                      <a:pt x="852" y="421"/>
                    </a:cubicBezTo>
                    <a:cubicBezTo>
                      <a:pt x="862" y="380"/>
                      <a:pt x="867" y="328"/>
                      <a:pt x="844" y="290"/>
                    </a:cubicBezTo>
                    <a:cubicBezTo>
                      <a:pt x="832" y="270"/>
                      <a:pt x="808" y="252"/>
                      <a:pt x="794" y="232"/>
                    </a:cubicBezTo>
                    <a:cubicBezTo>
                      <a:pt x="771" y="164"/>
                      <a:pt x="794" y="35"/>
                      <a:pt x="720" y="11"/>
                    </a:cubicBezTo>
                    <a:cubicBezTo>
                      <a:pt x="704" y="14"/>
                      <a:pt x="685" y="11"/>
                      <a:pt x="671" y="19"/>
                    </a:cubicBezTo>
                    <a:cubicBezTo>
                      <a:pt x="664" y="23"/>
                      <a:pt x="667" y="36"/>
                      <a:pt x="663" y="43"/>
                    </a:cubicBezTo>
                    <a:cubicBezTo>
                      <a:pt x="659" y="50"/>
                      <a:pt x="653" y="56"/>
                      <a:pt x="646" y="60"/>
                    </a:cubicBezTo>
                    <a:cubicBezTo>
                      <a:pt x="631" y="68"/>
                      <a:pt x="597" y="76"/>
                      <a:pt x="597" y="76"/>
                    </a:cubicBezTo>
                    <a:cubicBezTo>
                      <a:pt x="581" y="71"/>
                      <a:pt x="562" y="70"/>
                      <a:pt x="548" y="60"/>
                    </a:cubicBezTo>
                    <a:cubicBezTo>
                      <a:pt x="540" y="54"/>
                      <a:pt x="532" y="47"/>
                      <a:pt x="523" y="43"/>
                    </a:cubicBezTo>
                    <a:cubicBezTo>
                      <a:pt x="507" y="36"/>
                      <a:pt x="490" y="32"/>
                      <a:pt x="474" y="27"/>
                    </a:cubicBezTo>
                    <a:cubicBezTo>
                      <a:pt x="466" y="24"/>
                      <a:pt x="449" y="19"/>
                      <a:pt x="449" y="19"/>
                    </a:cubicBezTo>
                    <a:cubicBezTo>
                      <a:pt x="378" y="22"/>
                      <a:pt x="298" y="0"/>
                      <a:pt x="235" y="35"/>
                    </a:cubicBezTo>
                    <a:cubicBezTo>
                      <a:pt x="201" y="54"/>
                      <a:pt x="170" y="80"/>
                      <a:pt x="137" y="101"/>
                    </a:cubicBezTo>
                    <a:cubicBezTo>
                      <a:pt x="108" y="120"/>
                      <a:pt x="105" y="124"/>
                      <a:pt x="120" y="109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11630400">
                <a:off x="1327320" y="5214960"/>
                <a:ext cx="264240" cy="260640"/>
              </a:xfrm>
              <a:prstGeom prst="ellipse">
                <a:avLst/>
              </a:prstGeom>
              <a:solidFill>
                <a:srgbClr val="7572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" name=""/>
          <p:cNvSpPr/>
          <p:nvPr/>
        </p:nvSpPr>
        <p:spPr>
          <a:xfrm>
            <a:off x="250920" y="476280"/>
            <a:ext cx="4825800" cy="504720"/>
          </a:xfrm>
          <a:prstGeom prst="rect">
            <a:avLst/>
          </a:prstGeom>
          <a:solidFill>
            <a:srgbClr val="e5ffff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03120" y="549360"/>
            <a:ext cx="3692520" cy="37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Fase de Activació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219320" y="3489480"/>
            <a:ext cx="609480" cy="606240"/>
            <a:chOff x="1219320" y="3489480"/>
            <a:chExt cx="609480" cy="606240"/>
          </a:xfrm>
        </p:grpSpPr>
        <p:sp>
          <p:nvSpPr>
            <p:cNvPr id="83" name=""/>
            <p:cNvSpPr/>
            <p:nvPr/>
          </p:nvSpPr>
          <p:spPr>
            <a:xfrm>
              <a:off x="1219320" y="3489480"/>
              <a:ext cx="609480" cy="606240"/>
            </a:xfrm>
            <a:prstGeom prst="ellipse">
              <a:avLst/>
            </a:prstGeom>
            <a:solidFill>
              <a:srgbClr val="d3b1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274400" y="3543840"/>
              <a:ext cx="507960" cy="50508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422360" y="3124080"/>
            <a:ext cx="609480" cy="608040"/>
            <a:chOff x="1422360" y="3124080"/>
            <a:chExt cx="609480" cy="608040"/>
          </a:xfrm>
        </p:grpSpPr>
        <p:sp>
          <p:nvSpPr>
            <p:cNvPr id="86" name=""/>
            <p:cNvSpPr/>
            <p:nvPr/>
          </p:nvSpPr>
          <p:spPr>
            <a:xfrm>
              <a:off x="1422360" y="3124080"/>
              <a:ext cx="609480" cy="608040"/>
            </a:xfrm>
            <a:prstGeom prst="ellipse">
              <a:avLst/>
            </a:prstGeom>
            <a:solidFill>
              <a:srgbClr val="d3b1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77440" y="3178800"/>
              <a:ext cx="507960" cy="50652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828800" y="3489480"/>
            <a:ext cx="609480" cy="606240"/>
            <a:chOff x="1828800" y="3489480"/>
            <a:chExt cx="609480" cy="606240"/>
          </a:xfrm>
        </p:grpSpPr>
        <p:sp>
          <p:nvSpPr>
            <p:cNvPr id="89" name=""/>
            <p:cNvSpPr/>
            <p:nvPr/>
          </p:nvSpPr>
          <p:spPr>
            <a:xfrm>
              <a:off x="1828800" y="3489480"/>
              <a:ext cx="609480" cy="606240"/>
            </a:xfrm>
            <a:prstGeom prst="ellipse">
              <a:avLst/>
            </a:prstGeom>
            <a:solidFill>
              <a:srgbClr val="d3b1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83880" y="3543840"/>
              <a:ext cx="507960" cy="50508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463760" y="3813120"/>
            <a:ext cx="609480" cy="606600"/>
            <a:chOff x="1463760" y="3813120"/>
            <a:chExt cx="609480" cy="606600"/>
          </a:xfrm>
        </p:grpSpPr>
        <p:sp>
          <p:nvSpPr>
            <p:cNvPr id="92" name=""/>
            <p:cNvSpPr/>
            <p:nvPr/>
          </p:nvSpPr>
          <p:spPr>
            <a:xfrm>
              <a:off x="1463760" y="3813120"/>
              <a:ext cx="609480" cy="606600"/>
            </a:xfrm>
            <a:prstGeom prst="ellipse">
              <a:avLst/>
            </a:prstGeom>
            <a:solidFill>
              <a:srgbClr val="d3b1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18840" y="3867480"/>
              <a:ext cx="507960" cy="50544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962520" y="2432160"/>
            <a:ext cx="630000" cy="606240"/>
            <a:chOff x="3962520" y="2432160"/>
            <a:chExt cx="630000" cy="606240"/>
          </a:xfrm>
        </p:grpSpPr>
        <p:sp>
          <p:nvSpPr>
            <p:cNvPr id="95" name=""/>
            <p:cNvSpPr/>
            <p:nvPr/>
          </p:nvSpPr>
          <p:spPr>
            <a:xfrm>
              <a:off x="3962520" y="2432160"/>
              <a:ext cx="630000" cy="60624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20480" y="2494800"/>
              <a:ext cx="515160" cy="49608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170240" y="2057400"/>
            <a:ext cx="630360" cy="606600"/>
            <a:chOff x="4170240" y="2057400"/>
            <a:chExt cx="630360" cy="606600"/>
          </a:xfrm>
        </p:grpSpPr>
        <p:sp>
          <p:nvSpPr>
            <p:cNvPr id="98" name=""/>
            <p:cNvSpPr/>
            <p:nvPr/>
          </p:nvSpPr>
          <p:spPr>
            <a:xfrm>
              <a:off x="4170240" y="2057400"/>
              <a:ext cx="630360" cy="60660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28200" y="2120040"/>
              <a:ext cx="515160" cy="49644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627440" y="2394000"/>
            <a:ext cx="630360" cy="604800"/>
            <a:chOff x="4627440" y="2394000"/>
            <a:chExt cx="630360" cy="604800"/>
          </a:xfrm>
        </p:grpSpPr>
        <p:sp>
          <p:nvSpPr>
            <p:cNvPr id="101" name=""/>
            <p:cNvSpPr/>
            <p:nvPr/>
          </p:nvSpPr>
          <p:spPr>
            <a:xfrm>
              <a:off x="4627440" y="2394000"/>
              <a:ext cx="630360" cy="60480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85400" y="2456640"/>
              <a:ext cx="515160" cy="49500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218120" y="2746440"/>
            <a:ext cx="631800" cy="606240"/>
            <a:chOff x="4218120" y="2746440"/>
            <a:chExt cx="631800" cy="606240"/>
          </a:xfrm>
        </p:grpSpPr>
        <p:sp>
          <p:nvSpPr>
            <p:cNvPr id="104" name=""/>
            <p:cNvSpPr/>
            <p:nvPr/>
          </p:nvSpPr>
          <p:spPr>
            <a:xfrm>
              <a:off x="4218120" y="2746440"/>
              <a:ext cx="631800" cy="60624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76080" y="2809080"/>
              <a:ext cx="516600" cy="49608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605560" y="2514600"/>
            <a:ext cx="622080" cy="609480"/>
            <a:chOff x="5605560" y="2514600"/>
            <a:chExt cx="622080" cy="609480"/>
          </a:xfrm>
        </p:grpSpPr>
        <p:grpSp>
          <p:nvGrpSpPr>
            <p:cNvPr id="107" name=""/>
            <p:cNvGrpSpPr/>
            <p:nvPr/>
          </p:nvGrpSpPr>
          <p:grpSpPr>
            <a:xfrm>
              <a:off x="5605560" y="2514600"/>
              <a:ext cx="622080" cy="609480"/>
              <a:chOff x="5605560" y="2514600"/>
              <a:chExt cx="622080" cy="609480"/>
            </a:xfrm>
          </p:grpSpPr>
          <p:sp>
            <p:nvSpPr>
              <p:cNvPr id="108" name=""/>
              <p:cNvSpPr/>
              <p:nvPr/>
            </p:nvSpPr>
            <p:spPr>
              <a:xfrm>
                <a:off x="5605560" y="2514600"/>
                <a:ext cx="622080" cy="60948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662800" y="2577600"/>
                <a:ext cx="508680" cy="49860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5703480" y="2651040"/>
              <a:ext cx="50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743200" y="3124080"/>
            <a:ext cx="838080" cy="640440"/>
            <a:chOff x="2743200" y="3124080"/>
            <a:chExt cx="838080" cy="640440"/>
          </a:xfrm>
        </p:grpSpPr>
        <p:sp>
          <p:nvSpPr>
            <p:cNvPr id="112" name=""/>
            <p:cNvSpPr/>
            <p:nvPr/>
          </p:nvSpPr>
          <p:spPr>
            <a:xfrm>
              <a:off x="2743200" y="3124080"/>
              <a:ext cx="838080" cy="609840"/>
            </a:xfrm>
            <a:prstGeom prst="ellipse">
              <a:avLst/>
            </a:prstGeom>
            <a:solidFill>
              <a:srgbClr val="fcdc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92160" y="3235320"/>
              <a:ext cx="393840" cy="387360"/>
            </a:xfrm>
            <a:prstGeom prst="ellipse">
              <a:avLst/>
            </a:prstGeom>
            <a:solidFill>
              <a:srgbClr val="cb93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43200" y="3246480"/>
              <a:ext cx="45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536800">
              <a:off x="2941200" y="3209760"/>
              <a:ext cx="38376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536800">
              <a:off x="2883960" y="3209760"/>
              <a:ext cx="38376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2536800">
              <a:off x="2997360" y="3210120"/>
              <a:ext cx="38304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536800">
              <a:off x="3052800" y="3210120"/>
              <a:ext cx="38304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819520" y="4038480"/>
            <a:ext cx="609480" cy="606240"/>
            <a:chOff x="2819520" y="4038480"/>
            <a:chExt cx="609480" cy="606240"/>
          </a:xfrm>
        </p:grpSpPr>
        <p:grpSp>
          <p:nvGrpSpPr>
            <p:cNvPr id="120" name=""/>
            <p:cNvGrpSpPr/>
            <p:nvPr/>
          </p:nvGrpSpPr>
          <p:grpSpPr>
            <a:xfrm>
              <a:off x="2819520" y="4038480"/>
              <a:ext cx="609480" cy="606240"/>
              <a:chOff x="2819520" y="4038480"/>
              <a:chExt cx="609480" cy="606240"/>
            </a:xfrm>
          </p:grpSpPr>
          <p:sp>
            <p:nvSpPr>
              <p:cNvPr id="121" name=""/>
              <p:cNvSpPr/>
              <p:nvPr/>
            </p:nvSpPr>
            <p:spPr>
              <a:xfrm>
                <a:off x="2819520" y="4038480"/>
                <a:ext cx="609480" cy="606240"/>
              </a:xfrm>
              <a:prstGeom prst="ellipse">
                <a:avLst/>
              </a:prstGeom>
              <a:solidFill>
                <a:srgbClr val="d3b1f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874600" y="4092840"/>
                <a:ext cx="507960" cy="50508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2895480" y="4130280"/>
              <a:ext cx="456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616720" y="3355920"/>
            <a:ext cx="631800" cy="606600"/>
            <a:chOff x="5616720" y="3355920"/>
            <a:chExt cx="631800" cy="606600"/>
          </a:xfrm>
        </p:grpSpPr>
        <p:grpSp>
          <p:nvGrpSpPr>
            <p:cNvPr id="125" name=""/>
            <p:cNvGrpSpPr/>
            <p:nvPr/>
          </p:nvGrpSpPr>
          <p:grpSpPr>
            <a:xfrm>
              <a:off x="5616720" y="3355920"/>
              <a:ext cx="631800" cy="606600"/>
              <a:chOff x="5616720" y="3355920"/>
              <a:chExt cx="631800" cy="606600"/>
            </a:xfrm>
          </p:grpSpPr>
          <p:sp>
            <p:nvSpPr>
              <p:cNvPr id="126" name=""/>
              <p:cNvSpPr/>
              <p:nvPr/>
            </p:nvSpPr>
            <p:spPr>
              <a:xfrm>
                <a:off x="5616720" y="3355920"/>
                <a:ext cx="631800" cy="60660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674680" y="3418560"/>
                <a:ext cx="516600" cy="49644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5715360" y="347364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50920" y="476280"/>
            <a:ext cx="3816360" cy="504720"/>
          </a:xfrm>
          <a:prstGeom prst="rect">
            <a:avLst/>
          </a:prstGeom>
          <a:solidFill>
            <a:srgbClr val="e5ffff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91960" y="549360"/>
            <a:ext cx="2767320" cy="37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Fase Efector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934320" y="5987880"/>
            <a:ext cx="838080" cy="640440"/>
            <a:chOff x="6934320" y="5987880"/>
            <a:chExt cx="838080" cy="640440"/>
          </a:xfrm>
        </p:grpSpPr>
        <p:sp>
          <p:nvSpPr>
            <p:cNvPr id="132" name=""/>
            <p:cNvSpPr/>
            <p:nvPr/>
          </p:nvSpPr>
          <p:spPr>
            <a:xfrm>
              <a:off x="6934320" y="5987880"/>
              <a:ext cx="838080" cy="609840"/>
            </a:xfrm>
            <a:prstGeom prst="ellipse">
              <a:avLst/>
            </a:prstGeom>
            <a:solidFill>
              <a:srgbClr val="fcdc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83280" y="6099120"/>
              <a:ext cx="393840" cy="387360"/>
            </a:xfrm>
            <a:prstGeom prst="ellipse">
              <a:avLst/>
            </a:prstGeom>
            <a:solidFill>
              <a:srgbClr val="cb93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34320" y="6110280"/>
              <a:ext cx="45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2536800">
              <a:off x="7132320" y="6073560"/>
              <a:ext cx="38376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2536800">
              <a:off x="7075080" y="6073560"/>
              <a:ext cx="38376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536800">
              <a:off x="7188480" y="6073920"/>
              <a:ext cx="38304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2536800">
              <a:off x="7243920" y="6073920"/>
              <a:ext cx="38304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7931520" y="6006960"/>
            <a:ext cx="456840" cy="473760"/>
            <a:chOff x="7931520" y="6006960"/>
            <a:chExt cx="456840" cy="473760"/>
          </a:xfrm>
        </p:grpSpPr>
        <p:sp>
          <p:nvSpPr>
            <p:cNvPr id="140" name=""/>
            <p:cNvSpPr/>
            <p:nvPr/>
          </p:nvSpPr>
          <p:spPr>
            <a:xfrm>
              <a:off x="8159760" y="6006960"/>
              <a:ext cx="228600" cy="2286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7931520" y="6205320"/>
              <a:ext cx="301680" cy="275400"/>
              <a:chOff x="7931520" y="6205320"/>
              <a:chExt cx="301680" cy="275400"/>
            </a:xfrm>
          </p:grpSpPr>
          <p:sp>
            <p:nvSpPr>
              <p:cNvPr id="142" name=""/>
              <p:cNvSpPr/>
              <p:nvPr/>
            </p:nvSpPr>
            <p:spPr>
              <a:xfrm rot="116400">
                <a:off x="7931880" y="6317640"/>
                <a:ext cx="158760" cy="1944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0097600">
                <a:off x="8077680" y="6276240"/>
                <a:ext cx="158760" cy="1872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16400">
                <a:off x="7931520" y="6356160"/>
                <a:ext cx="158760" cy="1872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139400">
                <a:off x="8075520" y="6399720"/>
                <a:ext cx="158400" cy="1872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139400">
                <a:off x="8061120" y="6436800"/>
                <a:ext cx="158400" cy="1872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0097600">
                <a:off x="8055360" y="6237720"/>
                <a:ext cx="157320" cy="1872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" name=""/>
          <p:cNvGrpSpPr/>
          <p:nvPr/>
        </p:nvGrpSpPr>
        <p:grpSpPr>
          <a:xfrm>
            <a:off x="6948360" y="4863240"/>
            <a:ext cx="1732320" cy="1026000"/>
            <a:chOff x="6948360" y="4863240"/>
            <a:chExt cx="1732320" cy="1026000"/>
          </a:xfrm>
        </p:grpSpPr>
        <p:grpSp>
          <p:nvGrpSpPr>
            <p:cNvPr id="149" name=""/>
            <p:cNvGrpSpPr/>
            <p:nvPr/>
          </p:nvGrpSpPr>
          <p:grpSpPr>
            <a:xfrm>
              <a:off x="7554600" y="5324760"/>
              <a:ext cx="159840" cy="139680"/>
              <a:chOff x="7554600" y="5324760"/>
              <a:chExt cx="159840" cy="139680"/>
            </a:xfrm>
          </p:grpSpPr>
          <p:sp>
            <p:nvSpPr>
              <p:cNvPr id="150" name=""/>
              <p:cNvSpPr/>
              <p:nvPr/>
            </p:nvSpPr>
            <p:spPr>
              <a:xfrm rot="191400">
                <a:off x="7561440" y="5328720"/>
                <a:ext cx="152280" cy="3204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91400">
                <a:off x="7554960" y="5424840"/>
                <a:ext cx="152280" cy="35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7633800" y="5201640"/>
              <a:ext cx="188280" cy="358920"/>
              <a:chOff x="7633800" y="5201640"/>
              <a:chExt cx="188280" cy="358920"/>
            </a:xfrm>
          </p:grpSpPr>
          <p:grpSp>
            <p:nvGrpSpPr>
              <p:cNvPr id="153" name=""/>
              <p:cNvGrpSpPr/>
              <p:nvPr/>
            </p:nvGrpSpPr>
            <p:grpSpPr>
              <a:xfrm>
                <a:off x="7633800" y="5201640"/>
                <a:ext cx="188280" cy="358920"/>
                <a:chOff x="7633800" y="5201640"/>
                <a:chExt cx="188280" cy="358920"/>
              </a:xfrm>
            </p:grpSpPr>
            <p:sp>
              <p:nvSpPr>
                <p:cNvPr id="154" name=""/>
                <p:cNvSpPr/>
                <p:nvPr/>
              </p:nvSpPr>
              <p:spPr>
                <a:xfrm rot="16068000">
                  <a:off x="7551360" y="5293800"/>
                  <a:ext cx="352440" cy="174600"/>
                </a:xfrm>
                <a:prstGeom prst="flowChartManualOperation">
                  <a:avLst/>
                </a:prstGeom>
                <a:solidFill>
                  <a:srgbClr val="99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7640640" y="5378040"/>
                  <a:ext cx="174600" cy="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7642800" y="5439600"/>
                  <a:ext cx="87120" cy="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7638840" y="5321880"/>
                  <a:ext cx="87120" cy="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 flipV="1">
                  <a:off x="7725600" y="5322600"/>
                  <a:ext cx="4320" cy="11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159" name=""/>
              <p:cNvGraphicFramePr/>
              <p:nvPr/>
            </p:nvGraphicFramePr>
            <p:xfrm>
              <a:off x="7634160" y="5329080"/>
              <a:ext cx="117720" cy="968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6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634160" y="5329080"/>
                        <a:ext cx="117720" cy="96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61" name=""/>
            <p:cNvSpPr/>
            <p:nvPr/>
          </p:nvSpPr>
          <p:spPr>
            <a:xfrm>
              <a:off x="7634160" y="5329080"/>
              <a:ext cx="96840" cy="9684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6948360" y="5100480"/>
              <a:ext cx="609840" cy="609480"/>
              <a:chOff x="6948360" y="5100480"/>
              <a:chExt cx="609840" cy="60948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6948360" y="5100480"/>
                <a:ext cx="609840" cy="609480"/>
                <a:chOff x="6948360" y="5100480"/>
                <a:chExt cx="609840" cy="6094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6948360" y="5100480"/>
                  <a:ext cx="609840" cy="60948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004160" y="5163480"/>
                  <a:ext cx="498600" cy="49860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7101000" y="5236920"/>
                <a:ext cx="25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 rot="11630400">
              <a:off x="7779960" y="4947480"/>
              <a:ext cx="809640" cy="85716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1630400">
              <a:off x="8047080" y="5226840"/>
              <a:ext cx="263520" cy="26028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6877080" y="4941720"/>
            <a:ext cx="1798560" cy="863640"/>
          </a:xfrm>
          <a:prstGeom prst="rect">
            <a:avLst/>
          </a:prstGeom>
          <a:solidFill>
            <a:srgbClr val="e5ffff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021440" y="5013360"/>
            <a:ext cx="1438200" cy="695160"/>
            <a:chOff x="7021440" y="5013360"/>
            <a:chExt cx="1438200" cy="695160"/>
          </a:xfrm>
        </p:grpSpPr>
        <p:grpSp>
          <p:nvGrpSpPr>
            <p:cNvPr id="171" name=""/>
            <p:cNvGrpSpPr/>
            <p:nvPr/>
          </p:nvGrpSpPr>
          <p:grpSpPr>
            <a:xfrm>
              <a:off x="7021440" y="5092560"/>
              <a:ext cx="609480" cy="609480"/>
              <a:chOff x="7021440" y="5092560"/>
              <a:chExt cx="609480" cy="60948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7021440" y="5092560"/>
                <a:ext cx="609480" cy="609480"/>
                <a:chOff x="7021440" y="5092560"/>
                <a:chExt cx="609480" cy="6094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7021440" y="5092560"/>
                  <a:ext cx="609480" cy="60948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077240" y="5155560"/>
                  <a:ext cx="498240" cy="49860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7173720" y="5229000"/>
                <a:ext cx="250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76" name="" descr=""/>
            <p:cNvPicPr/>
            <p:nvPr/>
          </p:nvPicPr>
          <p:blipFill>
            <a:blip r:embed="rId5"/>
            <a:stretch/>
          </p:blipFill>
          <p:spPr>
            <a:xfrm>
              <a:off x="7740720" y="5013360"/>
              <a:ext cx="718920" cy="69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"/>
          <p:cNvSpPr/>
          <p:nvPr/>
        </p:nvSpPr>
        <p:spPr>
          <a:xfrm>
            <a:off x="6948360" y="5013360"/>
            <a:ext cx="1584360" cy="720720"/>
          </a:xfrm>
          <a:prstGeom prst="rect">
            <a:avLst/>
          </a:prstGeom>
          <a:solidFill>
            <a:srgbClr val="e5ffff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937200" y="4845960"/>
            <a:ext cx="1619640" cy="1026000"/>
            <a:chOff x="6937200" y="4845960"/>
            <a:chExt cx="1619640" cy="1026000"/>
          </a:xfrm>
        </p:grpSpPr>
        <p:grpSp>
          <p:nvGrpSpPr>
            <p:cNvPr id="179" name=""/>
            <p:cNvGrpSpPr/>
            <p:nvPr/>
          </p:nvGrpSpPr>
          <p:grpSpPr>
            <a:xfrm>
              <a:off x="6937200" y="5083200"/>
              <a:ext cx="609480" cy="609480"/>
              <a:chOff x="6937200" y="5083200"/>
              <a:chExt cx="609480" cy="60948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6937200" y="5083200"/>
                <a:ext cx="609480" cy="609480"/>
                <a:chOff x="6937200" y="5083200"/>
                <a:chExt cx="609480" cy="6094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6937200" y="5083200"/>
                  <a:ext cx="609480" cy="60948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993000" y="5146200"/>
                  <a:ext cx="498240" cy="49860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" name=""/>
              <p:cNvSpPr/>
              <p:nvPr/>
            </p:nvSpPr>
            <p:spPr>
              <a:xfrm>
                <a:off x="7089480" y="5219640"/>
                <a:ext cx="250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7565400" y="4845960"/>
              <a:ext cx="991440" cy="1026000"/>
              <a:chOff x="7565400" y="4845960"/>
              <a:chExt cx="991440" cy="1026000"/>
            </a:xfrm>
          </p:grpSpPr>
          <p:sp>
            <p:nvSpPr>
              <p:cNvPr id="185" name=""/>
              <p:cNvSpPr/>
              <p:nvPr/>
            </p:nvSpPr>
            <p:spPr>
              <a:xfrm rot="11630400">
                <a:off x="7656120" y="4930200"/>
                <a:ext cx="809640" cy="857160"/>
              </a:xfrm>
              <a:custGeom>
                <a:avLst/>
                <a:gdLst/>
                <a:ahLst/>
                <a:rect l="l" t="t" r="r" b="b"/>
                <a:pathLst>
                  <a:path w="867" h="594">
                    <a:moveTo>
                      <a:pt x="120" y="109"/>
                    </a:moveTo>
                    <a:cubicBezTo>
                      <a:pt x="101" y="130"/>
                      <a:pt x="79" y="134"/>
                      <a:pt x="55" y="150"/>
                    </a:cubicBezTo>
                    <a:cubicBezTo>
                      <a:pt x="10" y="216"/>
                      <a:pt x="66" y="248"/>
                      <a:pt x="88" y="306"/>
                    </a:cubicBezTo>
                    <a:cubicBezTo>
                      <a:pt x="78" y="360"/>
                      <a:pt x="79" y="364"/>
                      <a:pt x="30" y="380"/>
                    </a:cubicBezTo>
                    <a:cubicBezTo>
                      <a:pt x="1" y="410"/>
                      <a:pt x="0" y="438"/>
                      <a:pt x="14" y="479"/>
                    </a:cubicBezTo>
                    <a:cubicBezTo>
                      <a:pt x="17" y="488"/>
                      <a:pt x="22" y="499"/>
                      <a:pt x="30" y="504"/>
                    </a:cubicBezTo>
                    <a:cubicBezTo>
                      <a:pt x="45" y="513"/>
                      <a:pt x="79" y="520"/>
                      <a:pt x="79" y="520"/>
                    </a:cubicBezTo>
                    <a:cubicBezTo>
                      <a:pt x="98" y="517"/>
                      <a:pt x="118" y="518"/>
                      <a:pt x="137" y="512"/>
                    </a:cubicBezTo>
                    <a:cubicBezTo>
                      <a:pt x="146" y="509"/>
                      <a:pt x="151" y="496"/>
                      <a:pt x="161" y="495"/>
                    </a:cubicBezTo>
                    <a:cubicBezTo>
                      <a:pt x="175" y="493"/>
                      <a:pt x="189" y="500"/>
                      <a:pt x="203" y="504"/>
                    </a:cubicBezTo>
                    <a:cubicBezTo>
                      <a:pt x="220" y="509"/>
                      <a:pt x="252" y="520"/>
                      <a:pt x="252" y="520"/>
                    </a:cubicBezTo>
                    <a:cubicBezTo>
                      <a:pt x="308" y="558"/>
                      <a:pt x="282" y="547"/>
                      <a:pt x="326" y="561"/>
                    </a:cubicBezTo>
                    <a:cubicBezTo>
                      <a:pt x="334" y="567"/>
                      <a:pt x="342" y="574"/>
                      <a:pt x="351" y="578"/>
                    </a:cubicBezTo>
                    <a:cubicBezTo>
                      <a:pt x="367" y="585"/>
                      <a:pt x="400" y="594"/>
                      <a:pt x="400" y="594"/>
                    </a:cubicBezTo>
                    <a:cubicBezTo>
                      <a:pt x="427" y="591"/>
                      <a:pt x="455" y="593"/>
                      <a:pt x="482" y="586"/>
                    </a:cubicBezTo>
                    <a:cubicBezTo>
                      <a:pt x="507" y="580"/>
                      <a:pt x="541" y="508"/>
                      <a:pt x="572" y="495"/>
                    </a:cubicBezTo>
                    <a:cubicBezTo>
                      <a:pt x="593" y="487"/>
                      <a:pt x="638" y="479"/>
                      <a:pt x="638" y="479"/>
                    </a:cubicBezTo>
                    <a:cubicBezTo>
                      <a:pt x="703" y="492"/>
                      <a:pt x="710" y="494"/>
                      <a:pt x="786" y="487"/>
                    </a:cubicBezTo>
                    <a:cubicBezTo>
                      <a:pt x="810" y="464"/>
                      <a:pt x="833" y="448"/>
                      <a:pt x="852" y="421"/>
                    </a:cubicBezTo>
                    <a:cubicBezTo>
                      <a:pt x="862" y="380"/>
                      <a:pt x="867" y="328"/>
                      <a:pt x="844" y="290"/>
                    </a:cubicBezTo>
                    <a:cubicBezTo>
                      <a:pt x="832" y="270"/>
                      <a:pt x="808" y="252"/>
                      <a:pt x="794" y="232"/>
                    </a:cubicBezTo>
                    <a:cubicBezTo>
                      <a:pt x="771" y="164"/>
                      <a:pt x="794" y="35"/>
                      <a:pt x="720" y="11"/>
                    </a:cubicBezTo>
                    <a:cubicBezTo>
                      <a:pt x="704" y="14"/>
                      <a:pt x="685" y="11"/>
                      <a:pt x="671" y="19"/>
                    </a:cubicBezTo>
                    <a:cubicBezTo>
                      <a:pt x="664" y="23"/>
                      <a:pt x="667" y="36"/>
                      <a:pt x="663" y="43"/>
                    </a:cubicBezTo>
                    <a:cubicBezTo>
                      <a:pt x="659" y="50"/>
                      <a:pt x="653" y="56"/>
                      <a:pt x="646" y="60"/>
                    </a:cubicBezTo>
                    <a:cubicBezTo>
                      <a:pt x="631" y="68"/>
                      <a:pt x="597" y="76"/>
                      <a:pt x="597" y="76"/>
                    </a:cubicBezTo>
                    <a:cubicBezTo>
                      <a:pt x="581" y="71"/>
                      <a:pt x="562" y="70"/>
                      <a:pt x="548" y="60"/>
                    </a:cubicBezTo>
                    <a:cubicBezTo>
                      <a:pt x="540" y="54"/>
                      <a:pt x="532" y="47"/>
                      <a:pt x="523" y="43"/>
                    </a:cubicBezTo>
                    <a:cubicBezTo>
                      <a:pt x="507" y="36"/>
                      <a:pt x="490" y="32"/>
                      <a:pt x="474" y="27"/>
                    </a:cubicBezTo>
                    <a:cubicBezTo>
                      <a:pt x="466" y="24"/>
                      <a:pt x="449" y="19"/>
                      <a:pt x="449" y="19"/>
                    </a:cubicBezTo>
                    <a:cubicBezTo>
                      <a:pt x="378" y="22"/>
                      <a:pt x="298" y="0"/>
                      <a:pt x="235" y="35"/>
                    </a:cubicBezTo>
                    <a:cubicBezTo>
                      <a:pt x="201" y="54"/>
                      <a:pt x="170" y="80"/>
                      <a:pt x="137" y="101"/>
                    </a:cubicBezTo>
                    <a:cubicBezTo>
                      <a:pt x="108" y="120"/>
                      <a:pt x="105" y="124"/>
                      <a:pt x="120" y="109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1630400">
                <a:off x="7923240" y="5212080"/>
                <a:ext cx="264240" cy="260280"/>
              </a:xfrm>
              <a:prstGeom prst="ellipse">
                <a:avLst/>
              </a:prstGeom>
              <a:solidFill>
                <a:srgbClr val="7572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7408440" y="4500000"/>
            <a:ext cx="1705320" cy="1573920"/>
            <a:chOff x="7408440" y="4500000"/>
            <a:chExt cx="1705320" cy="1573920"/>
          </a:xfrm>
        </p:grpSpPr>
        <p:sp>
          <p:nvSpPr>
            <p:cNvPr id="188" name=""/>
            <p:cNvSpPr/>
            <p:nvPr/>
          </p:nvSpPr>
          <p:spPr>
            <a:xfrm rot="11630400">
              <a:off x="7538760" y="4654440"/>
              <a:ext cx="1444320" cy="126504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1630400">
              <a:off x="8013960" y="5068440"/>
              <a:ext cx="471240" cy="38448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5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e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"/>
          <p:cNvGrpSpPr/>
          <p:nvPr/>
        </p:nvGrpSpPr>
        <p:grpSpPr>
          <a:xfrm>
            <a:off x="-365760" y="1082160"/>
            <a:ext cx="4995000" cy="5079960"/>
            <a:chOff x="-365760" y="1082160"/>
            <a:chExt cx="4995000" cy="5079960"/>
          </a:xfrm>
        </p:grpSpPr>
        <p:sp>
          <p:nvSpPr>
            <p:cNvPr id="752" name=""/>
            <p:cNvSpPr/>
            <p:nvPr/>
          </p:nvSpPr>
          <p:spPr>
            <a:xfrm flipV="1" rot="13899000">
              <a:off x="208800" y="1958400"/>
              <a:ext cx="3845160" cy="332712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 rot="15842400">
              <a:off x="884520" y="3197880"/>
              <a:ext cx="1466640" cy="101124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2994120" y="2347920"/>
            <a:ext cx="1803960" cy="725760"/>
            <a:chOff x="2994120" y="2347920"/>
            <a:chExt cx="1803960" cy="725760"/>
          </a:xfrm>
        </p:grpSpPr>
        <p:sp>
          <p:nvSpPr>
            <p:cNvPr id="755" name=""/>
            <p:cNvSpPr/>
            <p:nvPr/>
          </p:nvSpPr>
          <p:spPr>
            <a:xfrm>
              <a:off x="2994120" y="2706480"/>
              <a:ext cx="1076760" cy="111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15966000">
              <a:off x="4077720" y="2351520"/>
              <a:ext cx="678600" cy="71784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3723840" y="3234240"/>
            <a:ext cx="635040" cy="807840"/>
            <a:chOff x="3723840" y="3234240"/>
            <a:chExt cx="635040" cy="807840"/>
          </a:xfrm>
        </p:grpSpPr>
        <p:grpSp>
          <p:nvGrpSpPr>
            <p:cNvPr id="758" name=""/>
            <p:cNvGrpSpPr/>
            <p:nvPr/>
          </p:nvGrpSpPr>
          <p:grpSpPr>
            <a:xfrm>
              <a:off x="3723840" y="3234240"/>
              <a:ext cx="567720" cy="807840"/>
              <a:chOff x="3723840" y="3234240"/>
              <a:chExt cx="567720" cy="807840"/>
            </a:xfrm>
          </p:grpSpPr>
          <p:sp>
            <p:nvSpPr>
              <p:cNvPr id="759" name=""/>
              <p:cNvSpPr/>
              <p:nvPr/>
            </p:nvSpPr>
            <p:spPr>
              <a:xfrm rot="5329200">
                <a:off x="3609000" y="3362400"/>
                <a:ext cx="796680" cy="551160"/>
              </a:xfrm>
              <a:prstGeom prst="flowChartManualOperation">
                <a:avLst/>
              </a:prstGeom>
              <a:solidFill>
                <a:srgbClr val="99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3731760" y="3632400"/>
                <a:ext cx="5511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4004640" y="3501000"/>
                <a:ext cx="27540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4008960" y="3766680"/>
                <a:ext cx="27504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05000" y="3504960"/>
                <a:ext cx="5400" cy="26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4" name=""/>
            <p:cNvSpPr/>
            <p:nvPr/>
          </p:nvSpPr>
          <p:spPr>
            <a:xfrm rot="21570600">
              <a:off x="4059000" y="3543120"/>
              <a:ext cx="298440" cy="251280"/>
            </a:xfrm>
            <a:prstGeom prst="rect">
              <a:avLst/>
            </a:prstGeom>
            <a:solidFill>
              <a:srgbClr val="ea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4073400" y="3483000"/>
            <a:ext cx="365400" cy="33984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03640" y="206532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D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5322960" y="1994040"/>
            <a:ext cx="3282840" cy="3225600"/>
            <a:chOff x="5322960" y="1994040"/>
            <a:chExt cx="3282840" cy="3225600"/>
          </a:xfrm>
        </p:grpSpPr>
        <p:sp>
          <p:nvSpPr>
            <p:cNvPr id="768" name=""/>
            <p:cNvSpPr/>
            <p:nvPr/>
          </p:nvSpPr>
          <p:spPr>
            <a:xfrm>
              <a:off x="5322960" y="1994040"/>
              <a:ext cx="3282840" cy="322560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546520" y="2208960"/>
              <a:ext cx="2835000" cy="286704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4805280" y="4606920"/>
            <a:ext cx="10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D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4122000" y="4004280"/>
            <a:ext cx="2028600" cy="817560"/>
            <a:chOff x="4122000" y="4004280"/>
            <a:chExt cx="2028600" cy="817560"/>
          </a:xfrm>
        </p:grpSpPr>
        <p:sp>
          <p:nvSpPr>
            <p:cNvPr id="772" name=""/>
            <p:cNvSpPr/>
            <p:nvPr/>
          </p:nvSpPr>
          <p:spPr>
            <a:xfrm flipH="1">
              <a:off x="4938840" y="4367160"/>
              <a:ext cx="1211400" cy="127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 rot="5634000">
              <a:off x="4168080" y="4008960"/>
              <a:ext cx="764640" cy="80784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4040280" y="2328120"/>
            <a:ext cx="2070000" cy="731160"/>
            <a:chOff x="4040280" y="2328120"/>
            <a:chExt cx="2070000" cy="731160"/>
          </a:xfrm>
        </p:grpSpPr>
        <p:sp>
          <p:nvSpPr>
            <p:cNvPr id="775" name=""/>
            <p:cNvSpPr/>
            <p:nvPr/>
          </p:nvSpPr>
          <p:spPr>
            <a:xfrm flipH="1" flipV="1">
              <a:off x="4444920" y="2622600"/>
              <a:ext cx="1665360" cy="147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 rot="5634000">
              <a:off x="4114800" y="2301480"/>
              <a:ext cx="679320" cy="78444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2192400" y="2425680"/>
            <a:ext cx="547560" cy="679320"/>
          </a:xfrm>
          <a:prstGeom prst="leftArrow">
            <a:avLst>
              <a:gd name="adj1" fmla="val 55833"/>
              <a:gd name="adj2" fmla="val 4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4583520" y="3295800"/>
            <a:ext cx="759600" cy="623160"/>
            <a:chOff x="4583520" y="3295800"/>
            <a:chExt cx="759600" cy="623160"/>
          </a:xfrm>
        </p:grpSpPr>
        <p:sp>
          <p:nvSpPr>
            <p:cNvPr id="779" name=""/>
            <p:cNvSpPr/>
            <p:nvPr/>
          </p:nvSpPr>
          <p:spPr>
            <a:xfrm rot="10824600">
              <a:off x="4583880" y="3746520"/>
              <a:ext cx="750600" cy="169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10824600">
              <a:off x="4591440" y="3298320"/>
              <a:ext cx="750600" cy="1872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3081240" y="4001040"/>
            <a:ext cx="1735560" cy="812520"/>
            <a:chOff x="3081240" y="4001040"/>
            <a:chExt cx="1735560" cy="812520"/>
          </a:xfrm>
        </p:grpSpPr>
        <p:sp>
          <p:nvSpPr>
            <p:cNvPr id="782" name=""/>
            <p:cNvSpPr/>
            <p:nvPr/>
          </p:nvSpPr>
          <p:spPr>
            <a:xfrm flipV="1">
              <a:off x="3081240" y="4330080"/>
              <a:ext cx="1384560" cy="1666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15966000">
              <a:off x="4080600" y="4081680"/>
              <a:ext cx="770040" cy="65088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3514680" y="4606920"/>
            <a:ext cx="9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B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5406480" y="3313080"/>
            <a:ext cx="547560" cy="679320"/>
          </a:xfrm>
          <a:prstGeom prst="leftArrow">
            <a:avLst>
              <a:gd name="adj1" fmla="val 55833"/>
              <a:gd name="adj2" fmla="val 4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5631840" y="4895640"/>
            <a:ext cx="924840" cy="905040"/>
            <a:chOff x="5631840" y="4895640"/>
            <a:chExt cx="924840" cy="905040"/>
          </a:xfrm>
        </p:grpSpPr>
        <p:sp>
          <p:nvSpPr>
            <p:cNvPr id="787" name=""/>
            <p:cNvSpPr/>
            <p:nvPr/>
          </p:nvSpPr>
          <p:spPr>
            <a:xfrm flipH="1" rot="18967200">
              <a:off x="6233400" y="4953960"/>
              <a:ext cx="272160" cy="2570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 rot="3001200">
              <a:off x="5787360" y="5072040"/>
              <a:ext cx="515520" cy="646560"/>
            </a:xfrm>
            <a:prstGeom prst="blockArc">
              <a:avLst>
                <a:gd name="adj1" fmla="val 9632758"/>
                <a:gd name="adj2" fmla="val 1167242"/>
                <a:gd name="adj3" fmla="val 22671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9" name=""/>
          <p:cNvSpPr/>
          <p:nvPr/>
        </p:nvSpPr>
        <p:spPr>
          <a:xfrm>
            <a:off x="2587680" y="487980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038400" y="518328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500720" y="5729400"/>
            <a:ext cx="1807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973840" y="5291280"/>
            <a:ext cx="182520" cy="169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 rot="18681000">
            <a:off x="6527520" y="4331880"/>
            <a:ext cx="509760" cy="728640"/>
          </a:xfrm>
          <a:prstGeom prst="leftArrow">
            <a:avLst>
              <a:gd name="adj1" fmla="val 55833"/>
              <a:gd name="adj2" fmla="val 4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35600" y="3195720"/>
            <a:ext cx="240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T-CD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924360" y="5157720"/>
            <a:ext cx="11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IL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084720" y="3164040"/>
            <a:ext cx="1872000" cy="803160"/>
          </a:xfrm>
          <a:prstGeom prst="rect">
            <a:avLst/>
          </a:prstGeom>
          <a:solidFill>
            <a:srgbClr val="7e04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156360" y="3164040"/>
            <a:ext cx="1655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s-ES_tradnl" sz="4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452760" y="541980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957480" y="5594400"/>
            <a:ext cx="18288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091120" y="5713560"/>
            <a:ext cx="181080" cy="169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553000" y="5557680"/>
            <a:ext cx="18108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176560" y="3325680"/>
            <a:ext cx="145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99"/>
                </a:solidFill>
                <a:latin typeface="Times New Roman"/>
              </a:rPr>
              <a:t>CP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664160" y="20764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D40-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 rot="18681000">
            <a:off x="6121080" y="3796920"/>
            <a:ext cx="509760" cy="728640"/>
          </a:xfrm>
          <a:prstGeom prst="leftArrow">
            <a:avLst>
              <a:gd name="adj1" fmla="val 55833"/>
              <a:gd name="adj2" fmla="val 4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372360" y="530064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IL-12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476360" y="404640"/>
            <a:ext cx="6264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ació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e T-CD4 hacia T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500"/>
                            </p:stCondLst>
                            <p:childTnLst>
                              <p:par>
                                <p:cTn id="7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500"/>
                            </p:stCondLst>
                            <p:childTnLst>
                              <p:par>
                                <p:cTn id="7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5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000"/>
                            </p:stCondLst>
                            <p:childTnLst>
                              <p:par>
                                <p:cTn id="7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5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7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8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500"/>
                            </p:stCondLst>
                            <p:childTnLst>
                              <p:par>
                                <p:cTn id="7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7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0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0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000"/>
                            </p:stCondLst>
                            <p:childTnLst>
                              <p:par>
                                <p:cTn id="7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0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500"/>
                            </p:stCondLst>
                            <p:childTnLst>
                              <p:par>
                                <p:cTn id="7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3000"/>
                            </p:stCondLst>
                            <p:childTnLst>
                              <p:par>
                                <p:cTn id="7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3500"/>
                            </p:stCondLst>
                            <p:childTnLst>
                              <p:par>
                                <p:cTn id="7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4500"/>
                            </p:stCondLst>
                            <p:childTnLst>
                              <p:par>
                                <p:cTn id="8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000"/>
                            </p:stCondLst>
                            <p:childTnLst>
                              <p:par>
                                <p:cTn id="8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5500"/>
                            </p:stCondLst>
                            <p:childTnLst>
                              <p:par>
                                <p:cTn id="8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6000"/>
                            </p:stCondLst>
                            <p:childTnLst>
                              <p:par>
                                <p:cTn id="8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65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7000"/>
                            </p:stCondLst>
                            <p:childTnLst>
                              <p:par>
                                <p:cTn id="8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8000"/>
                            </p:stCondLst>
                            <p:childTnLst>
                              <p:par>
                                <p:cTn id="8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e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7" name=""/>
          <p:cNvGrpSpPr/>
          <p:nvPr/>
        </p:nvGrpSpPr>
        <p:grpSpPr>
          <a:xfrm>
            <a:off x="4511520" y="325440"/>
            <a:ext cx="4733280" cy="4543560"/>
            <a:chOff x="4511520" y="325440"/>
            <a:chExt cx="4733280" cy="4543560"/>
          </a:xfrm>
        </p:grpSpPr>
        <p:sp>
          <p:nvSpPr>
            <p:cNvPr id="808" name=""/>
            <p:cNvSpPr/>
            <p:nvPr/>
          </p:nvSpPr>
          <p:spPr>
            <a:xfrm>
              <a:off x="4511520" y="325440"/>
              <a:ext cx="4453200" cy="4543560"/>
            </a:xfrm>
            <a:custGeom>
              <a:avLst/>
              <a:gdLst/>
              <a:ahLst/>
              <a:rect l="l" t="t" r="r" b="b"/>
              <a:pathLst>
                <a:path w="2640" h="2611">
                  <a:moveTo>
                    <a:pt x="192" y="1177"/>
                  </a:moveTo>
                  <a:cubicBezTo>
                    <a:pt x="103" y="1311"/>
                    <a:pt x="238" y="1113"/>
                    <a:pt x="128" y="1254"/>
                  </a:cubicBezTo>
                  <a:cubicBezTo>
                    <a:pt x="47" y="1358"/>
                    <a:pt x="112" y="1306"/>
                    <a:pt x="38" y="1357"/>
                  </a:cubicBezTo>
                  <a:cubicBezTo>
                    <a:pt x="26" y="1404"/>
                    <a:pt x="11" y="1450"/>
                    <a:pt x="0" y="1497"/>
                  </a:cubicBezTo>
                  <a:cubicBezTo>
                    <a:pt x="4" y="1591"/>
                    <a:pt x="5" y="1685"/>
                    <a:pt x="12" y="1779"/>
                  </a:cubicBezTo>
                  <a:cubicBezTo>
                    <a:pt x="18" y="1855"/>
                    <a:pt x="63" y="1934"/>
                    <a:pt x="76" y="2009"/>
                  </a:cubicBezTo>
                  <a:cubicBezTo>
                    <a:pt x="96" y="2126"/>
                    <a:pt x="84" y="2162"/>
                    <a:pt x="153" y="2265"/>
                  </a:cubicBezTo>
                  <a:cubicBezTo>
                    <a:pt x="163" y="2280"/>
                    <a:pt x="212" y="2302"/>
                    <a:pt x="230" y="2304"/>
                  </a:cubicBezTo>
                  <a:cubicBezTo>
                    <a:pt x="302" y="2311"/>
                    <a:pt x="375" y="2313"/>
                    <a:pt x="448" y="2317"/>
                  </a:cubicBezTo>
                  <a:cubicBezTo>
                    <a:pt x="516" y="2339"/>
                    <a:pt x="474" y="2321"/>
                    <a:pt x="563" y="2381"/>
                  </a:cubicBezTo>
                  <a:cubicBezTo>
                    <a:pt x="576" y="2389"/>
                    <a:pt x="601" y="2406"/>
                    <a:pt x="601" y="2406"/>
                  </a:cubicBezTo>
                  <a:cubicBezTo>
                    <a:pt x="630" y="2492"/>
                    <a:pt x="590" y="2407"/>
                    <a:pt x="652" y="2457"/>
                  </a:cubicBezTo>
                  <a:cubicBezTo>
                    <a:pt x="730" y="2519"/>
                    <a:pt x="597" y="2493"/>
                    <a:pt x="755" y="2547"/>
                  </a:cubicBezTo>
                  <a:cubicBezTo>
                    <a:pt x="846" y="2578"/>
                    <a:pt x="943" y="2587"/>
                    <a:pt x="1036" y="2611"/>
                  </a:cubicBezTo>
                  <a:cubicBezTo>
                    <a:pt x="1113" y="2607"/>
                    <a:pt x="1190" y="2606"/>
                    <a:pt x="1267" y="2598"/>
                  </a:cubicBezTo>
                  <a:cubicBezTo>
                    <a:pt x="1360" y="2588"/>
                    <a:pt x="1434" y="2551"/>
                    <a:pt x="1523" y="2534"/>
                  </a:cubicBezTo>
                  <a:cubicBezTo>
                    <a:pt x="1656" y="2509"/>
                    <a:pt x="1700" y="2508"/>
                    <a:pt x="1830" y="2496"/>
                  </a:cubicBezTo>
                  <a:cubicBezTo>
                    <a:pt x="1871" y="2488"/>
                    <a:pt x="1905" y="2482"/>
                    <a:pt x="1945" y="2470"/>
                  </a:cubicBezTo>
                  <a:cubicBezTo>
                    <a:pt x="1971" y="2462"/>
                    <a:pt x="2022" y="2445"/>
                    <a:pt x="2022" y="2445"/>
                  </a:cubicBezTo>
                  <a:cubicBezTo>
                    <a:pt x="2035" y="2436"/>
                    <a:pt x="2046" y="2425"/>
                    <a:pt x="2060" y="2419"/>
                  </a:cubicBezTo>
                  <a:cubicBezTo>
                    <a:pt x="2076" y="2412"/>
                    <a:pt x="2096" y="2415"/>
                    <a:pt x="2112" y="2406"/>
                  </a:cubicBezTo>
                  <a:cubicBezTo>
                    <a:pt x="2128" y="2397"/>
                    <a:pt x="2135" y="2378"/>
                    <a:pt x="2150" y="2368"/>
                  </a:cubicBezTo>
                  <a:cubicBezTo>
                    <a:pt x="2218" y="2319"/>
                    <a:pt x="2202" y="2367"/>
                    <a:pt x="2278" y="2291"/>
                  </a:cubicBezTo>
                  <a:cubicBezTo>
                    <a:pt x="2291" y="2278"/>
                    <a:pt x="2305" y="2267"/>
                    <a:pt x="2316" y="2253"/>
                  </a:cubicBezTo>
                  <a:cubicBezTo>
                    <a:pt x="2335" y="2229"/>
                    <a:pt x="2368" y="2176"/>
                    <a:pt x="2368" y="2176"/>
                  </a:cubicBezTo>
                  <a:cubicBezTo>
                    <a:pt x="2385" y="2121"/>
                    <a:pt x="2413" y="2078"/>
                    <a:pt x="2432" y="2022"/>
                  </a:cubicBezTo>
                  <a:cubicBezTo>
                    <a:pt x="2442" y="1993"/>
                    <a:pt x="2473" y="1974"/>
                    <a:pt x="2483" y="1945"/>
                  </a:cubicBezTo>
                  <a:cubicBezTo>
                    <a:pt x="2491" y="1920"/>
                    <a:pt x="2493" y="1891"/>
                    <a:pt x="2508" y="1869"/>
                  </a:cubicBezTo>
                  <a:cubicBezTo>
                    <a:pt x="2517" y="1856"/>
                    <a:pt x="2528" y="1844"/>
                    <a:pt x="2534" y="1830"/>
                  </a:cubicBezTo>
                  <a:cubicBezTo>
                    <a:pt x="2545" y="1805"/>
                    <a:pt x="2545" y="1776"/>
                    <a:pt x="2560" y="1753"/>
                  </a:cubicBezTo>
                  <a:cubicBezTo>
                    <a:pt x="2587" y="1712"/>
                    <a:pt x="2585" y="1722"/>
                    <a:pt x="2598" y="1677"/>
                  </a:cubicBezTo>
                  <a:cubicBezTo>
                    <a:pt x="2621" y="1597"/>
                    <a:pt x="2627" y="1515"/>
                    <a:pt x="2636" y="1433"/>
                  </a:cubicBezTo>
                  <a:cubicBezTo>
                    <a:pt x="2628" y="1302"/>
                    <a:pt x="2640" y="1108"/>
                    <a:pt x="2572" y="985"/>
                  </a:cubicBezTo>
                  <a:cubicBezTo>
                    <a:pt x="2557" y="958"/>
                    <a:pt x="2534" y="936"/>
                    <a:pt x="2521" y="909"/>
                  </a:cubicBezTo>
                  <a:cubicBezTo>
                    <a:pt x="2495" y="855"/>
                    <a:pt x="2494" y="826"/>
                    <a:pt x="2444" y="793"/>
                  </a:cubicBezTo>
                  <a:cubicBezTo>
                    <a:pt x="2413" y="695"/>
                    <a:pt x="2460" y="808"/>
                    <a:pt x="2393" y="742"/>
                  </a:cubicBezTo>
                  <a:cubicBezTo>
                    <a:pt x="2323" y="673"/>
                    <a:pt x="2445" y="726"/>
                    <a:pt x="2342" y="691"/>
                  </a:cubicBezTo>
                  <a:cubicBezTo>
                    <a:pt x="2307" y="588"/>
                    <a:pt x="2360" y="710"/>
                    <a:pt x="2291" y="640"/>
                  </a:cubicBezTo>
                  <a:cubicBezTo>
                    <a:pt x="2225" y="573"/>
                    <a:pt x="2338" y="620"/>
                    <a:pt x="2240" y="589"/>
                  </a:cubicBezTo>
                  <a:cubicBezTo>
                    <a:pt x="2214" y="572"/>
                    <a:pt x="2189" y="554"/>
                    <a:pt x="2163" y="537"/>
                  </a:cubicBezTo>
                  <a:cubicBezTo>
                    <a:pt x="2150" y="528"/>
                    <a:pt x="2124" y="512"/>
                    <a:pt x="2124" y="512"/>
                  </a:cubicBezTo>
                  <a:cubicBezTo>
                    <a:pt x="2091" y="444"/>
                    <a:pt x="2059" y="400"/>
                    <a:pt x="1996" y="358"/>
                  </a:cubicBezTo>
                  <a:cubicBezTo>
                    <a:pt x="1954" y="294"/>
                    <a:pt x="1984" y="330"/>
                    <a:pt x="1894" y="269"/>
                  </a:cubicBezTo>
                  <a:cubicBezTo>
                    <a:pt x="1881" y="260"/>
                    <a:pt x="1869" y="252"/>
                    <a:pt x="1856" y="243"/>
                  </a:cubicBezTo>
                  <a:cubicBezTo>
                    <a:pt x="1843" y="234"/>
                    <a:pt x="1817" y="217"/>
                    <a:pt x="1817" y="217"/>
                  </a:cubicBezTo>
                  <a:cubicBezTo>
                    <a:pt x="1810" y="196"/>
                    <a:pt x="1793" y="142"/>
                    <a:pt x="1779" y="128"/>
                  </a:cubicBezTo>
                  <a:cubicBezTo>
                    <a:pt x="1672" y="21"/>
                    <a:pt x="1466" y="15"/>
                    <a:pt x="1331" y="0"/>
                  </a:cubicBezTo>
                  <a:cubicBezTo>
                    <a:pt x="1186" y="8"/>
                    <a:pt x="1083" y="21"/>
                    <a:pt x="947" y="38"/>
                  </a:cubicBezTo>
                  <a:cubicBezTo>
                    <a:pt x="934" y="42"/>
                    <a:pt x="920" y="44"/>
                    <a:pt x="908" y="51"/>
                  </a:cubicBezTo>
                  <a:cubicBezTo>
                    <a:pt x="881" y="66"/>
                    <a:pt x="832" y="102"/>
                    <a:pt x="832" y="102"/>
                  </a:cubicBezTo>
                  <a:cubicBezTo>
                    <a:pt x="811" y="165"/>
                    <a:pt x="793" y="217"/>
                    <a:pt x="780" y="281"/>
                  </a:cubicBezTo>
                  <a:cubicBezTo>
                    <a:pt x="771" y="519"/>
                    <a:pt x="794" y="611"/>
                    <a:pt x="704" y="793"/>
                  </a:cubicBezTo>
                  <a:cubicBezTo>
                    <a:pt x="682" y="838"/>
                    <a:pt x="698" y="872"/>
                    <a:pt x="640" y="909"/>
                  </a:cubicBezTo>
                  <a:cubicBezTo>
                    <a:pt x="592" y="940"/>
                    <a:pt x="531" y="943"/>
                    <a:pt x="486" y="973"/>
                  </a:cubicBezTo>
                  <a:cubicBezTo>
                    <a:pt x="473" y="981"/>
                    <a:pt x="462" y="992"/>
                    <a:pt x="448" y="998"/>
                  </a:cubicBezTo>
                  <a:cubicBezTo>
                    <a:pt x="447" y="998"/>
                    <a:pt x="351" y="1031"/>
                    <a:pt x="332" y="1037"/>
                  </a:cubicBezTo>
                  <a:cubicBezTo>
                    <a:pt x="319" y="1041"/>
                    <a:pt x="294" y="1049"/>
                    <a:pt x="294" y="1049"/>
                  </a:cubicBezTo>
                  <a:cubicBezTo>
                    <a:pt x="266" y="1091"/>
                    <a:pt x="232" y="1110"/>
                    <a:pt x="204" y="1152"/>
                  </a:cubicBezTo>
                  <a:cubicBezTo>
                    <a:pt x="191" y="1194"/>
                    <a:pt x="192" y="1203"/>
                    <a:pt x="192" y="1177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2211600">
              <a:off x="6581880" y="1628640"/>
              <a:ext cx="2166840" cy="2376720"/>
            </a:xfrm>
            <a:custGeom>
              <a:avLst/>
              <a:gdLst/>
              <a:ahLst/>
              <a:rect l="l" t="t" r="r" b="b"/>
              <a:pathLst>
                <a:path w="947" h="922">
                  <a:moveTo>
                    <a:pt x="205" y="0"/>
                  </a:moveTo>
                  <a:cubicBezTo>
                    <a:pt x="130" y="19"/>
                    <a:pt x="167" y="9"/>
                    <a:pt x="77" y="38"/>
                  </a:cubicBezTo>
                  <a:cubicBezTo>
                    <a:pt x="64" y="42"/>
                    <a:pt x="38" y="51"/>
                    <a:pt x="38" y="51"/>
                  </a:cubicBezTo>
                  <a:cubicBezTo>
                    <a:pt x="27" y="69"/>
                    <a:pt x="0" y="103"/>
                    <a:pt x="0" y="128"/>
                  </a:cubicBezTo>
                  <a:cubicBezTo>
                    <a:pt x="0" y="158"/>
                    <a:pt x="7" y="188"/>
                    <a:pt x="13" y="218"/>
                  </a:cubicBezTo>
                  <a:cubicBezTo>
                    <a:pt x="54" y="419"/>
                    <a:pt x="266" y="376"/>
                    <a:pt x="422" y="384"/>
                  </a:cubicBezTo>
                  <a:cubicBezTo>
                    <a:pt x="490" y="407"/>
                    <a:pt x="504" y="452"/>
                    <a:pt x="525" y="512"/>
                  </a:cubicBezTo>
                  <a:cubicBezTo>
                    <a:pt x="521" y="550"/>
                    <a:pt x="518" y="589"/>
                    <a:pt x="512" y="627"/>
                  </a:cubicBezTo>
                  <a:cubicBezTo>
                    <a:pt x="510" y="641"/>
                    <a:pt x="499" y="652"/>
                    <a:pt x="499" y="666"/>
                  </a:cubicBezTo>
                  <a:cubicBezTo>
                    <a:pt x="499" y="781"/>
                    <a:pt x="528" y="884"/>
                    <a:pt x="640" y="922"/>
                  </a:cubicBezTo>
                  <a:cubicBezTo>
                    <a:pt x="710" y="913"/>
                    <a:pt x="767" y="905"/>
                    <a:pt x="832" y="883"/>
                  </a:cubicBezTo>
                  <a:cubicBezTo>
                    <a:pt x="841" y="870"/>
                    <a:pt x="847" y="856"/>
                    <a:pt x="858" y="845"/>
                  </a:cubicBezTo>
                  <a:cubicBezTo>
                    <a:pt x="869" y="834"/>
                    <a:pt x="888" y="832"/>
                    <a:pt x="896" y="819"/>
                  </a:cubicBezTo>
                  <a:cubicBezTo>
                    <a:pt x="910" y="796"/>
                    <a:pt x="907" y="765"/>
                    <a:pt x="922" y="742"/>
                  </a:cubicBezTo>
                  <a:cubicBezTo>
                    <a:pt x="930" y="729"/>
                    <a:pt x="939" y="717"/>
                    <a:pt x="947" y="704"/>
                  </a:cubicBezTo>
                  <a:cubicBezTo>
                    <a:pt x="936" y="502"/>
                    <a:pt x="941" y="277"/>
                    <a:pt x="755" y="154"/>
                  </a:cubicBezTo>
                  <a:cubicBezTo>
                    <a:pt x="744" y="147"/>
                    <a:pt x="729" y="147"/>
                    <a:pt x="717" y="141"/>
                  </a:cubicBezTo>
                  <a:cubicBezTo>
                    <a:pt x="648" y="106"/>
                    <a:pt x="565" y="65"/>
                    <a:pt x="486" y="51"/>
                  </a:cubicBezTo>
                  <a:cubicBezTo>
                    <a:pt x="439" y="43"/>
                    <a:pt x="393" y="34"/>
                    <a:pt x="346" y="26"/>
                  </a:cubicBezTo>
                  <a:cubicBezTo>
                    <a:pt x="319" y="21"/>
                    <a:pt x="269" y="0"/>
                    <a:pt x="269" y="0"/>
                  </a:cubicBezTo>
                  <a:cubicBezTo>
                    <a:pt x="201" y="14"/>
                    <a:pt x="205" y="35"/>
                    <a:pt x="205" y="0"/>
                  </a:cubicBezTo>
                  <a:close/>
                </a:path>
              </a:pathLst>
            </a:custGeom>
            <a:solidFill>
              <a:srgbClr val="66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5292720" y="2349360"/>
            <a:ext cx="1224000" cy="1150920"/>
          </a:xfrm>
          <a:prstGeom prst="ellipse">
            <a:avLst/>
          </a:prstGeom>
          <a:solidFill>
            <a:srgbClr val="e2fe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179280" y="1224000"/>
            <a:ext cx="3138480" cy="3225600"/>
            <a:chOff x="179280" y="1224000"/>
            <a:chExt cx="3138480" cy="3225600"/>
          </a:xfrm>
        </p:grpSpPr>
        <p:sp>
          <p:nvSpPr>
            <p:cNvPr id="812" name=""/>
            <p:cNvSpPr/>
            <p:nvPr/>
          </p:nvSpPr>
          <p:spPr>
            <a:xfrm>
              <a:off x="179280" y="1224000"/>
              <a:ext cx="3138480" cy="322560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93120" y="1438920"/>
              <a:ext cx="2710440" cy="286704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4" name=""/>
          <p:cNvSpPr/>
          <p:nvPr/>
        </p:nvSpPr>
        <p:spPr>
          <a:xfrm>
            <a:off x="971640" y="2492280"/>
            <a:ext cx="1655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s-ES_tradnl" sz="4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3994200" y="2459520"/>
            <a:ext cx="635400" cy="808200"/>
            <a:chOff x="3994200" y="2459520"/>
            <a:chExt cx="635400" cy="808200"/>
          </a:xfrm>
        </p:grpSpPr>
        <p:grpSp>
          <p:nvGrpSpPr>
            <p:cNvPr id="816" name=""/>
            <p:cNvGrpSpPr/>
            <p:nvPr/>
          </p:nvGrpSpPr>
          <p:grpSpPr>
            <a:xfrm>
              <a:off x="3994560" y="2459520"/>
              <a:ext cx="635040" cy="808200"/>
              <a:chOff x="3994560" y="2459520"/>
              <a:chExt cx="635040" cy="808200"/>
            </a:xfrm>
          </p:grpSpPr>
          <p:grpSp>
            <p:nvGrpSpPr>
              <p:cNvPr id="817" name=""/>
              <p:cNvGrpSpPr/>
              <p:nvPr/>
            </p:nvGrpSpPr>
            <p:grpSpPr>
              <a:xfrm>
                <a:off x="4061880" y="2459520"/>
                <a:ext cx="567720" cy="808200"/>
                <a:chOff x="4061880" y="2459520"/>
                <a:chExt cx="567720" cy="808200"/>
              </a:xfrm>
            </p:grpSpPr>
            <p:sp>
              <p:nvSpPr>
                <p:cNvPr id="818" name=""/>
                <p:cNvSpPr/>
                <p:nvPr/>
              </p:nvSpPr>
              <p:spPr>
                <a:xfrm flipH="1" rot="16270800">
                  <a:off x="3947040" y="2587680"/>
                  <a:ext cx="796680" cy="551160"/>
                </a:xfrm>
                <a:prstGeom prst="flowChartManualOperation">
                  <a:avLst/>
                </a:prstGeom>
                <a:solidFill>
                  <a:srgbClr val="99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070520" y="2857680"/>
                  <a:ext cx="55116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4073400" y="2726280"/>
                  <a:ext cx="27540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4069440" y="2991960"/>
                  <a:ext cx="27504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flipH="1">
                  <a:off x="4343040" y="2730240"/>
                  <a:ext cx="5400" cy="26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3" name=""/>
              <p:cNvSpPr/>
              <p:nvPr/>
            </p:nvSpPr>
            <p:spPr>
              <a:xfrm flipH="1" rot="29400">
                <a:off x="3994920" y="2768400"/>
                <a:ext cx="298440" cy="251280"/>
              </a:xfrm>
              <a:prstGeom prst="rect">
                <a:avLst/>
              </a:prstGeom>
              <a:solidFill>
                <a:srgbClr val="eafc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4" name=""/>
            <p:cNvSpPr/>
            <p:nvPr/>
          </p:nvSpPr>
          <p:spPr>
            <a:xfrm flipH="1">
              <a:off x="3994200" y="2708280"/>
              <a:ext cx="365040" cy="339840"/>
            </a:xfrm>
            <a:prstGeom prst="cube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3202920" y="2622960"/>
            <a:ext cx="759240" cy="480960"/>
            <a:chOff x="3202920" y="2622960"/>
            <a:chExt cx="759240" cy="480960"/>
          </a:xfrm>
        </p:grpSpPr>
        <p:sp>
          <p:nvSpPr>
            <p:cNvPr id="826" name=""/>
            <p:cNvSpPr/>
            <p:nvPr/>
          </p:nvSpPr>
          <p:spPr>
            <a:xfrm rot="10824600">
              <a:off x="3203280" y="2970360"/>
              <a:ext cx="750600" cy="1306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rot="10824600">
              <a:off x="3210840" y="2625480"/>
              <a:ext cx="750600" cy="1440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3597840" y="3289680"/>
            <a:ext cx="1167480" cy="534600"/>
            <a:chOff x="3597840" y="3289680"/>
            <a:chExt cx="1167480" cy="534600"/>
          </a:xfrm>
        </p:grpSpPr>
        <p:sp>
          <p:nvSpPr>
            <p:cNvPr id="829" name=""/>
            <p:cNvSpPr/>
            <p:nvPr/>
          </p:nvSpPr>
          <p:spPr>
            <a:xfrm flipH="1">
              <a:off x="4069800" y="3553920"/>
              <a:ext cx="695160" cy="82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 rot="5634000">
              <a:off x="3593880" y="3324960"/>
              <a:ext cx="504360" cy="46368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2970720" y="3302640"/>
            <a:ext cx="1101240" cy="491040"/>
            <a:chOff x="2970720" y="3302640"/>
            <a:chExt cx="1101240" cy="491040"/>
          </a:xfrm>
        </p:grpSpPr>
        <p:sp>
          <p:nvSpPr>
            <p:cNvPr id="832" name=""/>
            <p:cNvSpPr/>
            <p:nvPr/>
          </p:nvSpPr>
          <p:spPr>
            <a:xfrm flipV="1">
              <a:off x="2970720" y="3498480"/>
              <a:ext cx="882720" cy="100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15966000">
              <a:off x="3616560" y="3339720"/>
              <a:ext cx="463680" cy="41616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4715280" y="4322880"/>
            <a:ext cx="833400" cy="973800"/>
            <a:chOff x="4715280" y="4322880"/>
            <a:chExt cx="833400" cy="973800"/>
          </a:xfrm>
        </p:grpSpPr>
        <p:sp>
          <p:nvSpPr>
            <p:cNvPr id="835" name=""/>
            <p:cNvSpPr/>
            <p:nvPr/>
          </p:nvSpPr>
          <p:spPr>
            <a:xfrm flipH="1" rot="18223200">
              <a:off x="5229720" y="4379040"/>
              <a:ext cx="272520" cy="2570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 rot="2257200">
              <a:off x="4858920" y="4559760"/>
              <a:ext cx="515520" cy="646560"/>
            </a:xfrm>
            <a:prstGeom prst="blockArc">
              <a:avLst>
                <a:gd name="adj1" fmla="val 9632758"/>
                <a:gd name="adj2" fmla="val 1167242"/>
                <a:gd name="adj3" fmla="val 22671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7" name=""/>
          <p:cNvSpPr/>
          <p:nvPr/>
        </p:nvSpPr>
        <p:spPr>
          <a:xfrm>
            <a:off x="1465200" y="383076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5355720" y="2533320"/>
            <a:ext cx="914040" cy="880560"/>
            <a:chOff x="5355720" y="2533320"/>
            <a:chExt cx="914040" cy="880560"/>
          </a:xfrm>
        </p:grpSpPr>
        <p:sp>
          <p:nvSpPr>
            <p:cNvPr id="839" name=""/>
            <p:cNvSpPr/>
            <p:nvPr/>
          </p:nvSpPr>
          <p:spPr>
            <a:xfrm rot="2776200">
              <a:off x="5333760" y="2997000"/>
              <a:ext cx="647640" cy="216000"/>
            </a:xfrm>
            <a:prstGeom prst="roundRect">
              <a:avLst>
                <a:gd name="adj" fmla="val 500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rot="4940400">
              <a:off x="5795640" y="2760480"/>
              <a:ext cx="647640" cy="215640"/>
            </a:xfrm>
            <a:prstGeom prst="roundRect">
              <a:avLst>
                <a:gd name="adj" fmla="val 500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1650960" y="412920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908000" y="4437000"/>
            <a:ext cx="18288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165400" y="4694400"/>
            <a:ext cx="182520" cy="169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484360" y="494172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916360" y="515772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389400" y="526104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871800" y="524016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356000" y="512604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757760" y="496260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048280" y="4756320"/>
            <a:ext cx="182520" cy="169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987640" y="51465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IFN-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862440" y="371628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884320" y="3716280"/>
            <a:ext cx="11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CD40-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219640" y="51577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IFN-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-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2fe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900000" y="260280"/>
            <a:ext cx="7300080" cy="6337080"/>
            <a:chOff x="900000" y="260280"/>
            <a:chExt cx="7300080" cy="6337080"/>
          </a:xfrm>
        </p:grpSpPr>
        <p:grpSp>
          <p:nvGrpSpPr>
            <p:cNvPr id="857" name=""/>
            <p:cNvGrpSpPr/>
            <p:nvPr/>
          </p:nvGrpSpPr>
          <p:grpSpPr>
            <a:xfrm>
              <a:off x="900000" y="260280"/>
              <a:ext cx="7300080" cy="6337080"/>
              <a:chOff x="900000" y="260280"/>
              <a:chExt cx="7300080" cy="6337080"/>
            </a:xfrm>
          </p:grpSpPr>
          <p:sp>
            <p:nvSpPr>
              <p:cNvPr id="858" name=""/>
              <p:cNvSpPr/>
              <p:nvPr/>
            </p:nvSpPr>
            <p:spPr>
              <a:xfrm>
                <a:off x="900000" y="260280"/>
                <a:ext cx="6984720" cy="6337080"/>
              </a:xfrm>
              <a:custGeom>
                <a:avLst/>
                <a:gdLst/>
                <a:ahLst/>
                <a:rect l="l" t="t" r="r" b="b"/>
                <a:pathLst>
                  <a:path w="2640" h="2611">
                    <a:moveTo>
                      <a:pt x="192" y="1177"/>
                    </a:moveTo>
                    <a:cubicBezTo>
                      <a:pt x="103" y="1311"/>
                      <a:pt x="238" y="1113"/>
                      <a:pt x="128" y="1254"/>
                    </a:cubicBezTo>
                    <a:cubicBezTo>
                      <a:pt x="47" y="1358"/>
                      <a:pt x="112" y="1306"/>
                      <a:pt x="38" y="1357"/>
                    </a:cubicBezTo>
                    <a:cubicBezTo>
                      <a:pt x="26" y="1404"/>
                      <a:pt x="11" y="1450"/>
                      <a:pt x="0" y="1497"/>
                    </a:cubicBezTo>
                    <a:cubicBezTo>
                      <a:pt x="4" y="1591"/>
                      <a:pt x="5" y="1685"/>
                      <a:pt x="12" y="1779"/>
                    </a:cubicBezTo>
                    <a:cubicBezTo>
                      <a:pt x="18" y="1855"/>
                      <a:pt x="63" y="1934"/>
                      <a:pt x="76" y="2009"/>
                    </a:cubicBezTo>
                    <a:cubicBezTo>
                      <a:pt x="96" y="2126"/>
                      <a:pt x="84" y="2162"/>
                      <a:pt x="153" y="2265"/>
                    </a:cubicBezTo>
                    <a:cubicBezTo>
                      <a:pt x="163" y="2280"/>
                      <a:pt x="212" y="2302"/>
                      <a:pt x="230" y="2304"/>
                    </a:cubicBezTo>
                    <a:cubicBezTo>
                      <a:pt x="302" y="2311"/>
                      <a:pt x="375" y="2313"/>
                      <a:pt x="448" y="2317"/>
                    </a:cubicBezTo>
                    <a:cubicBezTo>
                      <a:pt x="516" y="2339"/>
                      <a:pt x="474" y="2321"/>
                      <a:pt x="563" y="2381"/>
                    </a:cubicBezTo>
                    <a:cubicBezTo>
                      <a:pt x="576" y="2389"/>
                      <a:pt x="601" y="2406"/>
                      <a:pt x="601" y="2406"/>
                    </a:cubicBezTo>
                    <a:cubicBezTo>
                      <a:pt x="630" y="2492"/>
                      <a:pt x="590" y="2407"/>
                      <a:pt x="652" y="2457"/>
                    </a:cubicBezTo>
                    <a:cubicBezTo>
                      <a:pt x="730" y="2519"/>
                      <a:pt x="597" y="2493"/>
                      <a:pt x="755" y="2547"/>
                    </a:cubicBezTo>
                    <a:cubicBezTo>
                      <a:pt x="846" y="2578"/>
                      <a:pt x="943" y="2587"/>
                      <a:pt x="1036" y="2611"/>
                    </a:cubicBezTo>
                    <a:cubicBezTo>
                      <a:pt x="1113" y="2607"/>
                      <a:pt x="1190" y="2606"/>
                      <a:pt x="1267" y="2598"/>
                    </a:cubicBezTo>
                    <a:cubicBezTo>
                      <a:pt x="1360" y="2588"/>
                      <a:pt x="1434" y="2551"/>
                      <a:pt x="1523" y="2534"/>
                    </a:cubicBezTo>
                    <a:cubicBezTo>
                      <a:pt x="1656" y="2509"/>
                      <a:pt x="1700" y="2508"/>
                      <a:pt x="1830" y="2496"/>
                    </a:cubicBezTo>
                    <a:cubicBezTo>
                      <a:pt x="1871" y="2488"/>
                      <a:pt x="1905" y="2482"/>
                      <a:pt x="1945" y="2470"/>
                    </a:cubicBezTo>
                    <a:cubicBezTo>
                      <a:pt x="1971" y="2462"/>
                      <a:pt x="2022" y="2445"/>
                      <a:pt x="2022" y="2445"/>
                    </a:cubicBezTo>
                    <a:cubicBezTo>
                      <a:pt x="2035" y="2436"/>
                      <a:pt x="2046" y="2425"/>
                      <a:pt x="2060" y="2419"/>
                    </a:cubicBezTo>
                    <a:cubicBezTo>
                      <a:pt x="2076" y="2412"/>
                      <a:pt x="2096" y="2415"/>
                      <a:pt x="2112" y="2406"/>
                    </a:cubicBezTo>
                    <a:cubicBezTo>
                      <a:pt x="2128" y="2397"/>
                      <a:pt x="2135" y="2378"/>
                      <a:pt x="2150" y="2368"/>
                    </a:cubicBezTo>
                    <a:cubicBezTo>
                      <a:pt x="2218" y="2319"/>
                      <a:pt x="2202" y="2367"/>
                      <a:pt x="2278" y="2291"/>
                    </a:cubicBezTo>
                    <a:cubicBezTo>
                      <a:pt x="2291" y="2278"/>
                      <a:pt x="2305" y="2267"/>
                      <a:pt x="2316" y="2253"/>
                    </a:cubicBezTo>
                    <a:cubicBezTo>
                      <a:pt x="2335" y="2229"/>
                      <a:pt x="2368" y="2176"/>
                      <a:pt x="2368" y="2176"/>
                    </a:cubicBezTo>
                    <a:cubicBezTo>
                      <a:pt x="2385" y="2121"/>
                      <a:pt x="2413" y="2078"/>
                      <a:pt x="2432" y="2022"/>
                    </a:cubicBezTo>
                    <a:cubicBezTo>
                      <a:pt x="2442" y="1993"/>
                      <a:pt x="2473" y="1974"/>
                      <a:pt x="2483" y="1945"/>
                    </a:cubicBezTo>
                    <a:cubicBezTo>
                      <a:pt x="2491" y="1920"/>
                      <a:pt x="2493" y="1891"/>
                      <a:pt x="2508" y="1869"/>
                    </a:cubicBezTo>
                    <a:cubicBezTo>
                      <a:pt x="2517" y="1856"/>
                      <a:pt x="2528" y="1844"/>
                      <a:pt x="2534" y="1830"/>
                    </a:cubicBezTo>
                    <a:cubicBezTo>
                      <a:pt x="2545" y="1805"/>
                      <a:pt x="2545" y="1776"/>
                      <a:pt x="2560" y="1753"/>
                    </a:cubicBezTo>
                    <a:cubicBezTo>
                      <a:pt x="2587" y="1712"/>
                      <a:pt x="2585" y="1722"/>
                      <a:pt x="2598" y="1677"/>
                    </a:cubicBezTo>
                    <a:cubicBezTo>
                      <a:pt x="2621" y="1597"/>
                      <a:pt x="2627" y="1515"/>
                      <a:pt x="2636" y="1433"/>
                    </a:cubicBezTo>
                    <a:cubicBezTo>
                      <a:pt x="2628" y="1302"/>
                      <a:pt x="2640" y="1108"/>
                      <a:pt x="2572" y="985"/>
                    </a:cubicBezTo>
                    <a:cubicBezTo>
                      <a:pt x="2557" y="958"/>
                      <a:pt x="2534" y="936"/>
                      <a:pt x="2521" y="909"/>
                    </a:cubicBezTo>
                    <a:cubicBezTo>
                      <a:pt x="2495" y="855"/>
                      <a:pt x="2494" y="826"/>
                      <a:pt x="2444" y="793"/>
                    </a:cubicBezTo>
                    <a:cubicBezTo>
                      <a:pt x="2413" y="695"/>
                      <a:pt x="2460" y="808"/>
                      <a:pt x="2393" y="742"/>
                    </a:cubicBezTo>
                    <a:cubicBezTo>
                      <a:pt x="2323" y="673"/>
                      <a:pt x="2445" y="726"/>
                      <a:pt x="2342" y="691"/>
                    </a:cubicBezTo>
                    <a:cubicBezTo>
                      <a:pt x="2307" y="588"/>
                      <a:pt x="2360" y="710"/>
                      <a:pt x="2291" y="640"/>
                    </a:cubicBezTo>
                    <a:cubicBezTo>
                      <a:pt x="2225" y="573"/>
                      <a:pt x="2338" y="620"/>
                      <a:pt x="2240" y="589"/>
                    </a:cubicBezTo>
                    <a:cubicBezTo>
                      <a:pt x="2214" y="572"/>
                      <a:pt x="2189" y="554"/>
                      <a:pt x="2163" y="537"/>
                    </a:cubicBezTo>
                    <a:cubicBezTo>
                      <a:pt x="2150" y="528"/>
                      <a:pt x="2124" y="512"/>
                      <a:pt x="2124" y="512"/>
                    </a:cubicBezTo>
                    <a:cubicBezTo>
                      <a:pt x="2091" y="444"/>
                      <a:pt x="2059" y="400"/>
                      <a:pt x="1996" y="358"/>
                    </a:cubicBezTo>
                    <a:cubicBezTo>
                      <a:pt x="1954" y="294"/>
                      <a:pt x="1984" y="330"/>
                      <a:pt x="1894" y="269"/>
                    </a:cubicBezTo>
                    <a:cubicBezTo>
                      <a:pt x="1881" y="260"/>
                      <a:pt x="1869" y="252"/>
                      <a:pt x="1856" y="243"/>
                    </a:cubicBezTo>
                    <a:cubicBezTo>
                      <a:pt x="1843" y="234"/>
                      <a:pt x="1817" y="217"/>
                      <a:pt x="1817" y="217"/>
                    </a:cubicBezTo>
                    <a:cubicBezTo>
                      <a:pt x="1810" y="196"/>
                      <a:pt x="1793" y="142"/>
                      <a:pt x="1779" y="128"/>
                    </a:cubicBezTo>
                    <a:cubicBezTo>
                      <a:pt x="1672" y="21"/>
                      <a:pt x="1466" y="15"/>
                      <a:pt x="1331" y="0"/>
                    </a:cubicBezTo>
                    <a:cubicBezTo>
                      <a:pt x="1186" y="8"/>
                      <a:pt x="1083" y="21"/>
                      <a:pt x="947" y="38"/>
                    </a:cubicBezTo>
                    <a:cubicBezTo>
                      <a:pt x="934" y="42"/>
                      <a:pt x="920" y="44"/>
                      <a:pt x="908" y="51"/>
                    </a:cubicBezTo>
                    <a:cubicBezTo>
                      <a:pt x="881" y="66"/>
                      <a:pt x="832" y="102"/>
                      <a:pt x="832" y="102"/>
                    </a:cubicBezTo>
                    <a:cubicBezTo>
                      <a:pt x="811" y="165"/>
                      <a:pt x="793" y="217"/>
                      <a:pt x="780" y="281"/>
                    </a:cubicBezTo>
                    <a:cubicBezTo>
                      <a:pt x="771" y="519"/>
                      <a:pt x="794" y="611"/>
                      <a:pt x="704" y="793"/>
                    </a:cubicBezTo>
                    <a:cubicBezTo>
                      <a:pt x="682" y="838"/>
                      <a:pt x="698" y="872"/>
                      <a:pt x="640" y="909"/>
                    </a:cubicBezTo>
                    <a:cubicBezTo>
                      <a:pt x="592" y="940"/>
                      <a:pt x="531" y="943"/>
                      <a:pt x="486" y="973"/>
                    </a:cubicBezTo>
                    <a:cubicBezTo>
                      <a:pt x="473" y="981"/>
                      <a:pt x="462" y="992"/>
                      <a:pt x="448" y="998"/>
                    </a:cubicBezTo>
                    <a:cubicBezTo>
                      <a:pt x="447" y="998"/>
                      <a:pt x="351" y="1031"/>
                      <a:pt x="332" y="1037"/>
                    </a:cubicBezTo>
                    <a:cubicBezTo>
                      <a:pt x="319" y="1041"/>
                      <a:pt x="294" y="1049"/>
                      <a:pt x="294" y="1049"/>
                    </a:cubicBezTo>
                    <a:cubicBezTo>
                      <a:pt x="266" y="1091"/>
                      <a:pt x="232" y="1110"/>
                      <a:pt x="204" y="1152"/>
                    </a:cubicBezTo>
                    <a:cubicBezTo>
                      <a:pt x="191" y="1194"/>
                      <a:pt x="192" y="1203"/>
                      <a:pt x="192" y="117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2211600">
                <a:off x="4146840" y="2077560"/>
                <a:ext cx="3398400" cy="3314880"/>
              </a:xfrm>
              <a:custGeom>
                <a:avLst/>
                <a:gdLst/>
                <a:ahLst/>
                <a:rect l="l" t="t" r="r" b="b"/>
                <a:pathLst>
                  <a:path w="947" h="922">
                    <a:moveTo>
                      <a:pt x="205" y="0"/>
                    </a:moveTo>
                    <a:cubicBezTo>
                      <a:pt x="130" y="19"/>
                      <a:pt x="167" y="9"/>
                      <a:pt x="77" y="38"/>
                    </a:cubicBezTo>
                    <a:cubicBezTo>
                      <a:pt x="64" y="42"/>
                      <a:pt x="38" y="51"/>
                      <a:pt x="38" y="51"/>
                    </a:cubicBezTo>
                    <a:cubicBezTo>
                      <a:pt x="27" y="69"/>
                      <a:pt x="0" y="103"/>
                      <a:pt x="0" y="128"/>
                    </a:cubicBezTo>
                    <a:cubicBezTo>
                      <a:pt x="0" y="158"/>
                      <a:pt x="7" y="188"/>
                      <a:pt x="13" y="218"/>
                    </a:cubicBezTo>
                    <a:cubicBezTo>
                      <a:pt x="54" y="419"/>
                      <a:pt x="266" y="376"/>
                      <a:pt x="422" y="384"/>
                    </a:cubicBezTo>
                    <a:cubicBezTo>
                      <a:pt x="490" y="407"/>
                      <a:pt x="504" y="452"/>
                      <a:pt x="525" y="512"/>
                    </a:cubicBezTo>
                    <a:cubicBezTo>
                      <a:pt x="521" y="550"/>
                      <a:pt x="518" y="589"/>
                      <a:pt x="512" y="627"/>
                    </a:cubicBezTo>
                    <a:cubicBezTo>
                      <a:pt x="510" y="641"/>
                      <a:pt x="499" y="652"/>
                      <a:pt x="499" y="666"/>
                    </a:cubicBezTo>
                    <a:cubicBezTo>
                      <a:pt x="499" y="781"/>
                      <a:pt x="528" y="884"/>
                      <a:pt x="640" y="922"/>
                    </a:cubicBezTo>
                    <a:cubicBezTo>
                      <a:pt x="710" y="913"/>
                      <a:pt x="767" y="905"/>
                      <a:pt x="832" y="883"/>
                    </a:cubicBezTo>
                    <a:cubicBezTo>
                      <a:pt x="841" y="870"/>
                      <a:pt x="847" y="856"/>
                      <a:pt x="858" y="845"/>
                    </a:cubicBezTo>
                    <a:cubicBezTo>
                      <a:pt x="869" y="834"/>
                      <a:pt x="888" y="832"/>
                      <a:pt x="896" y="819"/>
                    </a:cubicBezTo>
                    <a:cubicBezTo>
                      <a:pt x="910" y="796"/>
                      <a:pt x="907" y="765"/>
                      <a:pt x="922" y="742"/>
                    </a:cubicBezTo>
                    <a:cubicBezTo>
                      <a:pt x="930" y="729"/>
                      <a:pt x="939" y="717"/>
                      <a:pt x="947" y="704"/>
                    </a:cubicBezTo>
                    <a:cubicBezTo>
                      <a:pt x="936" y="502"/>
                      <a:pt x="941" y="277"/>
                      <a:pt x="755" y="154"/>
                    </a:cubicBezTo>
                    <a:cubicBezTo>
                      <a:pt x="744" y="147"/>
                      <a:pt x="729" y="147"/>
                      <a:pt x="717" y="141"/>
                    </a:cubicBezTo>
                    <a:cubicBezTo>
                      <a:pt x="648" y="106"/>
                      <a:pt x="565" y="65"/>
                      <a:pt x="486" y="51"/>
                    </a:cubicBezTo>
                    <a:cubicBezTo>
                      <a:pt x="439" y="43"/>
                      <a:pt x="393" y="34"/>
                      <a:pt x="346" y="26"/>
                    </a:cubicBezTo>
                    <a:cubicBezTo>
                      <a:pt x="319" y="21"/>
                      <a:pt x="269" y="0"/>
                      <a:pt x="269" y="0"/>
                    </a:cubicBezTo>
                    <a:cubicBezTo>
                      <a:pt x="201" y="14"/>
                      <a:pt x="205" y="35"/>
                      <a:pt x="205" y="0"/>
                    </a:cubicBezTo>
                    <a:close/>
                  </a:path>
                </a:pathLst>
              </a:custGeom>
              <a:solidFill>
                <a:srgbClr val="66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0" name=""/>
            <p:cNvSpPr/>
            <p:nvPr/>
          </p:nvSpPr>
          <p:spPr>
            <a:xfrm>
              <a:off x="2298600" y="3809880"/>
              <a:ext cx="1224000" cy="1150920"/>
            </a:xfrm>
            <a:prstGeom prst="ellipse">
              <a:avLst/>
            </a:prstGeom>
            <a:solidFill>
              <a:srgbClr val="e2fe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1" name=""/>
            <p:cNvGrpSpPr/>
            <p:nvPr/>
          </p:nvGrpSpPr>
          <p:grpSpPr>
            <a:xfrm>
              <a:off x="2361960" y="3993840"/>
              <a:ext cx="914040" cy="880560"/>
              <a:chOff x="2361960" y="3993840"/>
              <a:chExt cx="914040" cy="880560"/>
            </a:xfrm>
          </p:grpSpPr>
          <p:sp>
            <p:nvSpPr>
              <p:cNvPr id="862" name=""/>
              <p:cNvSpPr/>
              <p:nvPr/>
            </p:nvSpPr>
            <p:spPr>
              <a:xfrm rot="2776200">
                <a:off x="2340000" y="4457520"/>
                <a:ext cx="647640" cy="216000"/>
              </a:xfrm>
              <a:prstGeom prst="roundRect">
                <a:avLst>
                  <a:gd name="adj" fmla="val 50000"/>
                </a:avLst>
              </a:prstGeom>
              <a:solidFill>
                <a:srgbClr val="99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4940400">
                <a:off x="2801880" y="4221000"/>
                <a:ext cx="647640" cy="215640"/>
              </a:xfrm>
              <a:prstGeom prst="roundRect">
                <a:avLst>
                  <a:gd name="adj" fmla="val 50000"/>
                </a:avLst>
              </a:prstGeom>
              <a:solidFill>
                <a:srgbClr val="99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4" name=""/>
          <p:cNvSpPr/>
          <p:nvPr/>
        </p:nvSpPr>
        <p:spPr>
          <a:xfrm>
            <a:off x="2340000" y="3840120"/>
            <a:ext cx="1152360" cy="1079640"/>
          </a:xfrm>
          <a:prstGeom prst="ellipse">
            <a:avLst/>
          </a:prstGeom>
          <a:solidFill>
            <a:srgbClr val="e2fe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203640" y="1125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203640" y="14590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203640" y="177336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Times New Roman"/>
              </a:rPr>
              <a:t>Enzimas lisoso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171960" y="1125360"/>
            <a:ext cx="1728720" cy="151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476360" y="3500280"/>
            <a:ext cx="21600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332000" y="3141720"/>
            <a:ext cx="21564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177920" y="2781360"/>
            <a:ext cx="21600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012680" y="2390760"/>
            <a:ext cx="21600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06400" y="1978200"/>
            <a:ext cx="216000" cy="215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22440" y="1494000"/>
            <a:ext cx="215640" cy="215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68360" y="1052640"/>
            <a:ext cx="216000" cy="215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24000" y="620640"/>
            <a:ext cx="21564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89000" y="168120"/>
            <a:ext cx="21564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2560" y="586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TN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722600" y="3417840"/>
            <a:ext cx="215640" cy="216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495440" y="3006720"/>
            <a:ext cx="216000" cy="216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279440" y="2616120"/>
            <a:ext cx="216000" cy="216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084320" y="2235240"/>
            <a:ext cx="216000" cy="216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857160" y="1793880"/>
            <a:ext cx="216000" cy="216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41520" y="1330200"/>
            <a:ext cx="215640" cy="216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36680" y="887400"/>
            <a:ext cx="215640" cy="216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00160" y="476280"/>
            <a:ext cx="215640" cy="216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04880" y="368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IL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031840" y="3316320"/>
            <a:ext cx="216000" cy="2160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692360" y="2924280"/>
            <a:ext cx="215640" cy="215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382760" y="2523960"/>
            <a:ext cx="216000" cy="2160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104840" y="2112840"/>
            <a:ext cx="216000" cy="2160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65000" y="1658880"/>
            <a:ext cx="216000" cy="2160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57200" y="1197000"/>
            <a:ext cx="216000" cy="2160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00160" y="795240"/>
            <a:ext cx="215640" cy="2160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04880" y="676440"/>
            <a:ext cx="8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L-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1772280" y="918360"/>
            <a:ext cx="6760440" cy="5859360"/>
            <a:chOff x="1772280" y="918360"/>
            <a:chExt cx="6760440" cy="5859360"/>
          </a:xfrm>
        </p:grpSpPr>
        <p:grpSp>
          <p:nvGrpSpPr>
            <p:cNvPr id="897" name=""/>
            <p:cNvGrpSpPr/>
            <p:nvPr/>
          </p:nvGrpSpPr>
          <p:grpSpPr>
            <a:xfrm>
              <a:off x="7818120" y="3450240"/>
              <a:ext cx="714600" cy="807840"/>
              <a:chOff x="7818120" y="3450240"/>
              <a:chExt cx="714600" cy="807840"/>
            </a:xfrm>
          </p:grpSpPr>
          <p:grpSp>
            <p:nvGrpSpPr>
              <p:cNvPr id="898" name=""/>
              <p:cNvGrpSpPr/>
              <p:nvPr/>
            </p:nvGrpSpPr>
            <p:grpSpPr>
              <a:xfrm>
                <a:off x="7818120" y="3450240"/>
                <a:ext cx="635040" cy="807840"/>
                <a:chOff x="7818120" y="3450240"/>
                <a:chExt cx="635040" cy="807840"/>
              </a:xfrm>
            </p:grpSpPr>
            <p:grpSp>
              <p:nvGrpSpPr>
                <p:cNvPr id="899" name=""/>
                <p:cNvGrpSpPr/>
                <p:nvPr/>
              </p:nvGrpSpPr>
              <p:grpSpPr>
                <a:xfrm>
                  <a:off x="7818120" y="3450240"/>
                  <a:ext cx="567720" cy="807840"/>
                  <a:chOff x="7818120" y="3450240"/>
                  <a:chExt cx="567720" cy="807840"/>
                </a:xfrm>
              </p:grpSpPr>
              <p:sp>
                <p:nvSpPr>
                  <p:cNvPr id="900" name=""/>
                  <p:cNvSpPr/>
                  <p:nvPr/>
                </p:nvSpPr>
                <p:spPr>
                  <a:xfrm rot="5329200">
                    <a:off x="7703280" y="3578400"/>
                    <a:ext cx="796680" cy="551160"/>
                  </a:xfrm>
                  <a:prstGeom prst="flowChartManualOperation">
                    <a:avLst/>
                  </a:prstGeom>
                  <a:solidFill>
                    <a:srgbClr val="99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 flipH="1">
                    <a:off x="7826040" y="3848400"/>
                    <a:ext cx="551160" cy="10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 flipH="1">
                    <a:off x="8098920" y="3717000"/>
                    <a:ext cx="275400" cy="5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 flipH="1">
                    <a:off x="8103240" y="3982680"/>
                    <a:ext cx="275040" cy="5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8099280" y="3720960"/>
                    <a:ext cx="5400" cy="265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5" name=""/>
                <p:cNvSpPr/>
                <p:nvPr/>
              </p:nvSpPr>
              <p:spPr>
                <a:xfrm rot="21570600">
                  <a:off x="8153280" y="3759120"/>
                  <a:ext cx="298440" cy="251280"/>
                </a:xfrm>
                <a:prstGeom prst="rect">
                  <a:avLst/>
                </a:prstGeom>
                <a:solidFill>
                  <a:srgbClr val="eafc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6" name=""/>
              <p:cNvSpPr/>
              <p:nvPr/>
            </p:nvSpPr>
            <p:spPr>
              <a:xfrm>
                <a:off x="8167680" y="3699000"/>
                <a:ext cx="365040" cy="339480"/>
              </a:xfrm>
              <a:prstGeom prst="cube">
                <a:avLst>
                  <a:gd name="adj" fmla="val 25000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6293520" y="918360"/>
              <a:ext cx="965520" cy="930600"/>
              <a:chOff x="6293520" y="918360"/>
              <a:chExt cx="965520" cy="930600"/>
            </a:xfrm>
          </p:grpSpPr>
          <p:grpSp>
            <p:nvGrpSpPr>
              <p:cNvPr id="908" name=""/>
              <p:cNvGrpSpPr/>
              <p:nvPr/>
            </p:nvGrpSpPr>
            <p:grpSpPr>
              <a:xfrm>
                <a:off x="6293520" y="918360"/>
                <a:ext cx="965520" cy="930600"/>
                <a:chOff x="6293520" y="918360"/>
                <a:chExt cx="965520" cy="930600"/>
              </a:xfrm>
            </p:grpSpPr>
            <p:grpSp>
              <p:nvGrpSpPr>
                <p:cNvPr id="909" name=""/>
                <p:cNvGrpSpPr/>
                <p:nvPr/>
              </p:nvGrpSpPr>
              <p:grpSpPr>
                <a:xfrm>
                  <a:off x="6293520" y="918360"/>
                  <a:ext cx="965520" cy="930600"/>
                  <a:chOff x="6293520" y="918360"/>
                  <a:chExt cx="965520" cy="930600"/>
                </a:xfrm>
              </p:grpSpPr>
              <p:sp>
                <p:nvSpPr>
                  <p:cNvPr id="910" name=""/>
                  <p:cNvSpPr/>
                  <p:nvPr/>
                </p:nvSpPr>
                <p:spPr>
                  <a:xfrm rot="2351400">
                    <a:off x="6377760" y="1107720"/>
                    <a:ext cx="796680" cy="551160"/>
                  </a:xfrm>
                  <a:prstGeom prst="flowChartManualOperation">
                    <a:avLst/>
                  </a:prstGeom>
                  <a:solidFill>
                    <a:srgbClr val="99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 flipH="1">
                    <a:off x="6601680" y="1170000"/>
                    <a:ext cx="348480" cy="426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 flipH="1">
                    <a:off x="6673680" y="1087200"/>
                    <a:ext cx="174240" cy="213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 flipH="1">
                    <a:off x="6878880" y="1256400"/>
                    <a:ext cx="174240" cy="213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6672960" y="1299600"/>
                    <a:ext cx="205920" cy="167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5" name=""/>
                <p:cNvSpPr/>
                <p:nvPr/>
              </p:nvSpPr>
              <p:spPr>
                <a:xfrm rot="18592800">
                  <a:off x="6780600" y="1124640"/>
                  <a:ext cx="298440" cy="251280"/>
                </a:xfrm>
                <a:prstGeom prst="rect">
                  <a:avLst/>
                </a:prstGeom>
                <a:solidFill>
                  <a:srgbClr val="eafc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6" name=""/>
              <p:cNvSpPr/>
              <p:nvPr/>
            </p:nvSpPr>
            <p:spPr>
              <a:xfrm rot="18622200">
                <a:off x="6765480" y="1033920"/>
                <a:ext cx="365040" cy="339480"/>
              </a:xfrm>
              <a:prstGeom prst="cube">
                <a:avLst>
                  <a:gd name="adj" fmla="val 25000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"/>
            <p:cNvGrpSpPr/>
            <p:nvPr/>
          </p:nvGrpSpPr>
          <p:grpSpPr>
            <a:xfrm>
              <a:off x="6045480" y="5866560"/>
              <a:ext cx="968040" cy="911160"/>
              <a:chOff x="6045480" y="5866560"/>
              <a:chExt cx="968040" cy="911160"/>
            </a:xfrm>
          </p:grpSpPr>
          <p:grpSp>
            <p:nvGrpSpPr>
              <p:cNvPr id="918" name=""/>
              <p:cNvGrpSpPr/>
              <p:nvPr/>
            </p:nvGrpSpPr>
            <p:grpSpPr>
              <a:xfrm>
                <a:off x="6045480" y="5866560"/>
                <a:ext cx="968040" cy="894600"/>
                <a:chOff x="6045480" y="5866560"/>
                <a:chExt cx="968040" cy="894600"/>
              </a:xfrm>
            </p:grpSpPr>
            <p:grpSp>
              <p:nvGrpSpPr>
                <p:cNvPr id="919" name=""/>
                <p:cNvGrpSpPr/>
                <p:nvPr/>
              </p:nvGrpSpPr>
              <p:grpSpPr>
                <a:xfrm>
                  <a:off x="6045480" y="5866560"/>
                  <a:ext cx="968040" cy="894600"/>
                  <a:chOff x="6045480" y="5866560"/>
                  <a:chExt cx="968040" cy="894600"/>
                </a:xfrm>
              </p:grpSpPr>
              <p:sp>
                <p:nvSpPr>
                  <p:cNvPr id="920" name=""/>
                  <p:cNvSpPr/>
                  <p:nvPr/>
                </p:nvSpPr>
                <p:spPr>
                  <a:xfrm rot="8835600">
                    <a:off x="6130800" y="6038280"/>
                    <a:ext cx="796680" cy="551160"/>
                  </a:xfrm>
                  <a:prstGeom prst="flowChartManualOperation">
                    <a:avLst/>
                  </a:prstGeom>
                  <a:solidFill>
                    <a:srgbClr val="99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 flipH="1" flipV="1">
                    <a:off x="6380640" y="6081480"/>
                    <a:ext cx="297720" cy="464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 flipH="1" flipV="1">
                    <a:off x="6640200" y="6242400"/>
                    <a:ext cx="148680" cy="231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 flipH="1" flipV="1">
                    <a:off x="6415920" y="6384960"/>
                    <a:ext cx="148680" cy="231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 flipH="1">
                    <a:off x="6417720" y="6242040"/>
                    <a:ext cx="223920" cy="143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5" name=""/>
                <p:cNvSpPr/>
                <p:nvPr/>
              </p:nvSpPr>
              <p:spPr>
                <a:xfrm rot="3477000">
                  <a:off x="6458760" y="6375240"/>
                  <a:ext cx="298440" cy="251280"/>
                </a:xfrm>
                <a:prstGeom prst="rect">
                  <a:avLst/>
                </a:prstGeom>
                <a:solidFill>
                  <a:srgbClr val="eafc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6" name=""/>
              <p:cNvSpPr/>
              <p:nvPr/>
            </p:nvSpPr>
            <p:spPr>
              <a:xfrm rot="3506400">
                <a:off x="6464160" y="6363360"/>
                <a:ext cx="365040" cy="339480"/>
              </a:xfrm>
              <a:prstGeom prst="cube">
                <a:avLst>
                  <a:gd name="adj" fmla="val 25000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7" name=""/>
            <p:cNvGrpSpPr/>
            <p:nvPr/>
          </p:nvGrpSpPr>
          <p:grpSpPr>
            <a:xfrm>
              <a:off x="1806120" y="5801040"/>
              <a:ext cx="968400" cy="904680"/>
              <a:chOff x="1806120" y="5801040"/>
              <a:chExt cx="968400" cy="904680"/>
            </a:xfrm>
          </p:grpSpPr>
          <p:grpSp>
            <p:nvGrpSpPr>
              <p:cNvPr id="928" name=""/>
              <p:cNvGrpSpPr/>
              <p:nvPr/>
            </p:nvGrpSpPr>
            <p:grpSpPr>
              <a:xfrm>
                <a:off x="1806120" y="5801040"/>
                <a:ext cx="968400" cy="904680"/>
                <a:chOff x="1806120" y="5801040"/>
                <a:chExt cx="968400" cy="904680"/>
              </a:xfrm>
            </p:grpSpPr>
            <p:grpSp>
              <p:nvGrpSpPr>
                <p:cNvPr id="929" name=""/>
                <p:cNvGrpSpPr/>
                <p:nvPr/>
              </p:nvGrpSpPr>
              <p:grpSpPr>
                <a:xfrm>
                  <a:off x="1806120" y="5801040"/>
                  <a:ext cx="968400" cy="904680"/>
                  <a:chOff x="1806120" y="5801040"/>
                  <a:chExt cx="968400" cy="904680"/>
                </a:xfrm>
              </p:grpSpPr>
              <p:sp>
                <p:nvSpPr>
                  <p:cNvPr id="930" name=""/>
                  <p:cNvSpPr/>
                  <p:nvPr/>
                </p:nvSpPr>
                <p:spPr>
                  <a:xfrm rot="12863400">
                    <a:off x="1891800" y="5977800"/>
                    <a:ext cx="796320" cy="551160"/>
                  </a:xfrm>
                  <a:prstGeom prst="flowChartManualOperation">
                    <a:avLst/>
                  </a:prstGeom>
                  <a:solidFill>
                    <a:srgbClr val="99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 flipV="1">
                    <a:off x="2134800" y="6026040"/>
                    <a:ext cx="311760" cy="454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 flipV="1">
                    <a:off x="2243160" y="6327360"/>
                    <a:ext cx="155880" cy="227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 flipV="1">
                    <a:off x="2025000" y="6176520"/>
                    <a:ext cx="155520" cy="226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 flipH="1" flipV="1">
                    <a:off x="2180160" y="6177960"/>
                    <a:ext cx="218880" cy="150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5" name=""/>
                <p:cNvSpPr/>
                <p:nvPr/>
              </p:nvSpPr>
              <p:spPr>
                <a:xfrm rot="7504800">
                  <a:off x="1998720" y="6273360"/>
                  <a:ext cx="298440" cy="251280"/>
                </a:xfrm>
                <a:prstGeom prst="rect">
                  <a:avLst/>
                </a:prstGeom>
                <a:solidFill>
                  <a:srgbClr val="eafc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6" name=""/>
              <p:cNvSpPr/>
              <p:nvPr/>
            </p:nvSpPr>
            <p:spPr>
              <a:xfrm rot="7534200">
                <a:off x="1951200" y="6277680"/>
                <a:ext cx="365040" cy="339120"/>
              </a:xfrm>
              <a:prstGeom prst="cube">
                <a:avLst>
                  <a:gd name="adj" fmla="val 25000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"/>
            <p:cNvGrpSpPr/>
            <p:nvPr/>
          </p:nvGrpSpPr>
          <p:grpSpPr>
            <a:xfrm>
              <a:off x="1772280" y="1920600"/>
              <a:ext cx="949320" cy="879480"/>
              <a:chOff x="1772280" y="1920600"/>
              <a:chExt cx="949320" cy="879480"/>
            </a:xfrm>
          </p:grpSpPr>
          <p:grpSp>
            <p:nvGrpSpPr>
              <p:cNvPr id="938" name=""/>
              <p:cNvGrpSpPr/>
              <p:nvPr/>
            </p:nvGrpSpPr>
            <p:grpSpPr>
              <a:xfrm>
                <a:off x="1772280" y="1978560"/>
                <a:ext cx="949320" cy="821520"/>
                <a:chOff x="1772280" y="1978560"/>
                <a:chExt cx="949320" cy="821520"/>
              </a:xfrm>
            </p:grpSpPr>
            <p:grpSp>
              <p:nvGrpSpPr>
                <p:cNvPr id="939" name=""/>
                <p:cNvGrpSpPr/>
                <p:nvPr/>
              </p:nvGrpSpPr>
              <p:grpSpPr>
                <a:xfrm>
                  <a:off x="1772280" y="1978560"/>
                  <a:ext cx="949320" cy="821520"/>
                  <a:chOff x="1772280" y="1978560"/>
                  <a:chExt cx="949320" cy="821520"/>
                </a:xfrm>
              </p:grpSpPr>
              <p:sp>
                <p:nvSpPr>
                  <p:cNvPr id="940" name=""/>
                  <p:cNvSpPr/>
                  <p:nvPr/>
                </p:nvSpPr>
                <p:spPr>
                  <a:xfrm rot="20200800">
                    <a:off x="1848600" y="2113560"/>
                    <a:ext cx="796320" cy="551160"/>
                  </a:xfrm>
                  <a:prstGeom prst="flowChartManualOperation">
                    <a:avLst/>
                  </a:prstGeom>
                  <a:solidFill>
                    <a:srgbClr val="99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2138040" y="2136240"/>
                    <a:ext cx="217800" cy="506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2017800" y="2188440"/>
                    <a:ext cx="108720" cy="253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2261880" y="2084760"/>
                    <a:ext cx="108720" cy="252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 flipV="1">
                    <a:off x="2125800" y="2336400"/>
                    <a:ext cx="243720" cy="104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45" name=""/>
                <p:cNvSpPr/>
                <p:nvPr/>
              </p:nvSpPr>
              <p:spPr>
                <a:xfrm rot="14842200">
                  <a:off x="2050560" y="2065320"/>
                  <a:ext cx="298440" cy="251280"/>
                </a:xfrm>
                <a:prstGeom prst="rect">
                  <a:avLst/>
                </a:prstGeom>
                <a:solidFill>
                  <a:srgbClr val="eafc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6" name=""/>
              <p:cNvSpPr/>
              <p:nvPr/>
            </p:nvSpPr>
            <p:spPr>
              <a:xfrm rot="14871600">
                <a:off x="1983960" y="1983600"/>
                <a:ext cx="365040" cy="339120"/>
              </a:xfrm>
              <a:prstGeom prst="cube">
                <a:avLst>
                  <a:gd name="adj" fmla="val 25000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7" name=""/>
          <p:cNvGrpSpPr/>
          <p:nvPr/>
        </p:nvGrpSpPr>
        <p:grpSpPr>
          <a:xfrm>
            <a:off x="-51480" y="749160"/>
            <a:ext cx="8723160" cy="4976280"/>
            <a:chOff x="-51480" y="749160"/>
            <a:chExt cx="8723160" cy="4976280"/>
          </a:xfrm>
        </p:grpSpPr>
        <p:grpSp>
          <p:nvGrpSpPr>
            <p:cNvPr id="948" name=""/>
            <p:cNvGrpSpPr/>
            <p:nvPr/>
          </p:nvGrpSpPr>
          <p:grpSpPr>
            <a:xfrm>
              <a:off x="7366320" y="1704960"/>
              <a:ext cx="1305360" cy="1000800"/>
              <a:chOff x="7366320" y="1704960"/>
              <a:chExt cx="1305360" cy="1000800"/>
            </a:xfrm>
          </p:grpSpPr>
          <p:sp>
            <p:nvSpPr>
              <p:cNvPr id="949" name=""/>
              <p:cNvSpPr/>
              <p:nvPr/>
            </p:nvSpPr>
            <p:spPr>
              <a:xfrm flipV="1" rot="19744200">
                <a:off x="7328520" y="2309040"/>
                <a:ext cx="1034640" cy="14004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14110200">
                <a:off x="7962840" y="1866240"/>
                <a:ext cx="648000" cy="486360"/>
              </a:xfrm>
              <a:prstGeom prst="blockArc">
                <a:avLst>
                  <a:gd name="adj1" fmla="val 12478582"/>
                  <a:gd name="adj2" fmla="val 19921418"/>
                  <a:gd name="adj3" fmla="val 31171"/>
                </a:avLst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1" name=""/>
            <p:cNvGrpSpPr/>
            <p:nvPr/>
          </p:nvGrpSpPr>
          <p:grpSpPr>
            <a:xfrm>
              <a:off x="7282080" y="4723560"/>
              <a:ext cx="1313280" cy="880560"/>
              <a:chOff x="7282080" y="4723560"/>
              <a:chExt cx="1313280" cy="880560"/>
            </a:xfrm>
          </p:grpSpPr>
          <p:sp>
            <p:nvSpPr>
              <p:cNvPr id="952" name=""/>
              <p:cNvSpPr/>
              <p:nvPr/>
            </p:nvSpPr>
            <p:spPr>
              <a:xfrm flipV="1" rot="1483800">
                <a:off x="7263720" y="4933440"/>
                <a:ext cx="1034640" cy="14004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17450400">
                <a:off x="7929000" y="4971600"/>
                <a:ext cx="647640" cy="486360"/>
              </a:xfrm>
              <a:prstGeom prst="blockArc">
                <a:avLst>
                  <a:gd name="adj1" fmla="val 12478582"/>
                  <a:gd name="adj2" fmla="val 19921418"/>
                  <a:gd name="adj3" fmla="val 31171"/>
                </a:avLst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-51480" y="4899600"/>
              <a:ext cx="1347120" cy="825840"/>
              <a:chOff x="-51480" y="4899600"/>
              <a:chExt cx="1347120" cy="825840"/>
            </a:xfrm>
          </p:grpSpPr>
          <p:sp>
            <p:nvSpPr>
              <p:cNvPr id="955" name=""/>
              <p:cNvSpPr/>
              <p:nvPr/>
            </p:nvSpPr>
            <p:spPr>
              <a:xfrm flipV="1" rot="9577200">
                <a:off x="268560" y="5075280"/>
                <a:ext cx="1034640" cy="14004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3943800">
                <a:off x="-20520" y="5087160"/>
                <a:ext cx="647640" cy="486360"/>
              </a:xfrm>
              <a:prstGeom prst="blockArc">
                <a:avLst>
                  <a:gd name="adj1" fmla="val 12478582"/>
                  <a:gd name="adj2" fmla="val 19921418"/>
                  <a:gd name="adj3" fmla="val 31171"/>
                </a:avLst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1810080" y="749160"/>
              <a:ext cx="1306440" cy="691920"/>
              <a:chOff x="1810080" y="749160"/>
              <a:chExt cx="1306440" cy="691920"/>
            </a:xfrm>
          </p:grpSpPr>
          <p:sp>
            <p:nvSpPr>
              <p:cNvPr id="958" name=""/>
              <p:cNvSpPr/>
              <p:nvPr/>
            </p:nvSpPr>
            <p:spPr>
              <a:xfrm flipV="1" rot="11370000">
                <a:off x="2077560" y="1104840"/>
                <a:ext cx="1034280" cy="14004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5736600">
                <a:off x="1759320" y="852120"/>
                <a:ext cx="647640" cy="486000"/>
              </a:xfrm>
              <a:prstGeom prst="blockArc">
                <a:avLst>
                  <a:gd name="adj1" fmla="val 12478582"/>
                  <a:gd name="adj2" fmla="val 19921418"/>
                  <a:gd name="adj3" fmla="val 31171"/>
                </a:avLst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8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7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1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000"/>
                            </p:stCondLst>
                            <p:childTnLst>
                              <p:par>
                                <p:cTn id="8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0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500"/>
                            </p:stCondLst>
                            <p:childTnLst>
                              <p:par>
                                <p:cTn id="8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4000"/>
                            </p:stCondLst>
                            <p:childTnLst>
                              <p:par>
                                <p:cTn id="8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4500"/>
                            </p:stCondLst>
                            <p:childTnLst>
                              <p:par>
                                <p:cTn id="8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500"/>
                            </p:stCondLst>
                            <p:childTnLst>
                              <p:par>
                                <p:cTn id="9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6000"/>
                            </p:stCondLst>
                            <p:childTnLst>
                              <p:par>
                                <p:cTn id="9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6500"/>
                            </p:stCondLst>
                            <p:childTnLst>
                              <p:par>
                                <p:cTn id="9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7000"/>
                            </p:stCondLst>
                            <p:childTnLst>
                              <p:par>
                                <p:cTn id="9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7500"/>
                            </p:stCondLst>
                            <p:childTnLst>
                              <p:par>
                                <p:cTn id="9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8000"/>
                            </p:stCondLst>
                            <p:childTnLst>
                              <p:par>
                                <p:cTn id="9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8000"/>
                            </p:stCondLst>
                            <p:childTnLst>
                              <p:par>
                                <p:cTn id="9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500"/>
                            </p:stCondLst>
                            <p:childTnLst>
                              <p:par>
                                <p:cTn id="9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500"/>
                            </p:stCondLst>
                            <p:childTnLst>
                              <p:par>
                                <p:cTn id="9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500"/>
                            </p:stCondLst>
                            <p:childTnLst>
                              <p:par>
                                <p:cTn id="9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2700"/>
                            </p:stCondLst>
                            <p:childTnLst>
                              <p:par>
                                <p:cTn id="9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500"/>
                            </p:stCondLst>
                            <p:childTnLst>
                              <p:par>
                                <p:cTn id="9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2000"/>
                            </p:stCondLst>
                            <p:childTnLst>
                              <p:par>
                                <p:cTn id="9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2500"/>
                            </p:stCondLst>
                            <p:childTnLst>
                              <p:par>
                                <p:cTn id="9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000"/>
                            </p:stCondLst>
                            <p:childTnLst>
                              <p:par>
                                <p:cTn id="9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3500"/>
                            </p:stCondLst>
                            <p:childTnLst>
                              <p:par>
                                <p:cTn id="9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4000"/>
                            </p:stCondLst>
                            <p:childTnLst>
                              <p:par>
                                <p:cTn id="9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4000"/>
                            </p:stCondLst>
                            <p:childTnLst>
                              <p:par>
                                <p:cTn id="9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5500"/>
                            </p:stCondLst>
                            <p:childTnLst>
                              <p:par>
                                <p:cTn id="9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6000"/>
                            </p:stCondLst>
                            <p:childTnLst>
                              <p:par>
                                <p:cTn id="9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7500"/>
                            </p:stCondLst>
                            <p:childTnLst>
                              <p:par>
                                <p:cTn id="10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9500"/>
                            </p:stCondLst>
                            <p:childTnLst>
                              <p:par>
                                <p:cTn id="10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th1macro" descr=""/>
          <p:cNvPicPr/>
          <p:nvPr/>
        </p:nvPicPr>
        <p:blipFill>
          <a:blip r:embed=""/>
          <a:stretch/>
        </p:blipFill>
        <p:spPr>
          <a:xfrm>
            <a:off x="1116000" y="54000"/>
            <a:ext cx="684072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eeafe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2428920" y="3584520"/>
            <a:ext cx="4733280" cy="2016000"/>
            <a:chOff x="2428920" y="3584520"/>
            <a:chExt cx="4733280" cy="2016000"/>
          </a:xfrm>
        </p:grpSpPr>
        <p:sp>
          <p:nvSpPr>
            <p:cNvPr id="963" name=""/>
            <p:cNvSpPr/>
            <p:nvPr/>
          </p:nvSpPr>
          <p:spPr>
            <a:xfrm>
              <a:off x="5209560" y="3584520"/>
              <a:ext cx="1952640" cy="2016000"/>
            </a:xfrm>
            <a:custGeom>
              <a:avLst/>
              <a:gdLst/>
              <a:ahLst/>
              <a:rect l="l" t="t" r="r" b="b"/>
              <a:pathLst>
                <a:path w="844" h="960">
                  <a:moveTo>
                    <a:pt x="106" y="299"/>
                  </a:moveTo>
                  <a:cubicBezTo>
                    <a:pt x="114" y="252"/>
                    <a:pt x="113" y="238"/>
                    <a:pt x="155" y="217"/>
                  </a:cubicBezTo>
                  <a:cubicBezTo>
                    <a:pt x="178" y="205"/>
                    <a:pt x="229" y="192"/>
                    <a:pt x="229" y="192"/>
                  </a:cubicBezTo>
                  <a:cubicBezTo>
                    <a:pt x="244" y="177"/>
                    <a:pt x="265" y="167"/>
                    <a:pt x="279" y="151"/>
                  </a:cubicBezTo>
                  <a:cubicBezTo>
                    <a:pt x="292" y="136"/>
                    <a:pt x="300" y="117"/>
                    <a:pt x="311" y="101"/>
                  </a:cubicBezTo>
                  <a:cubicBezTo>
                    <a:pt x="316" y="93"/>
                    <a:pt x="319" y="80"/>
                    <a:pt x="328" y="77"/>
                  </a:cubicBezTo>
                  <a:cubicBezTo>
                    <a:pt x="361" y="66"/>
                    <a:pt x="345" y="72"/>
                    <a:pt x="377" y="60"/>
                  </a:cubicBezTo>
                  <a:cubicBezTo>
                    <a:pt x="766" y="70"/>
                    <a:pt x="638" y="0"/>
                    <a:pt x="772" y="126"/>
                  </a:cubicBezTo>
                  <a:cubicBezTo>
                    <a:pt x="781" y="154"/>
                    <a:pt x="795" y="180"/>
                    <a:pt x="805" y="208"/>
                  </a:cubicBezTo>
                  <a:cubicBezTo>
                    <a:pt x="811" y="225"/>
                    <a:pt x="821" y="258"/>
                    <a:pt x="821" y="258"/>
                  </a:cubicBezTo>
                  <a:cubicBezTo>
                    <a:pt x="818" y="373"/>
                    <a:pt x="816" y="488"/>
                    <a:pt x="813" y="603"/>
                  </a:cubicBezTo>
                  <a:cubicBezTo>
                    <a:pt x="807" y="798"/>
                    <a:pt x="844" y="841"/>
                    <a:pt x="665" y="858"/>
                  </a:cubicBezTo>
                  <a:cubicBezTo>
                    <a:pt x="627" y="862"/>
                    <a:pt x="588" y="864"/>
                    <a:pt x="550" y="866"/>
                  </a:cubicBezTo>
                  <a:cubicBezTo>
                    <a:pt x="506" y="869"/>
                    <a:pt x="462" y="871"/>
                    <a:pt x="418" y="874"/>
                  </a:cubicBezTo>
                  <a:cubicBezTo>
                    <a:pt x="191" y="869"/>
                    <a:pt x="0" y="960"/>
                    <a:pt x="98" y="816"/>
                  </a:cubicBezTo>
                  <a:cubicBezTo>
                    <a:pt x="113" y="770"/>
                    <a:pt x="107" y="723"/>
                    <a:pt x="122" y="677"/>
                  </a:cubicBezTo>
                  <a:cubicBezTo>
                    <a:pt x="131" y="533"/>
                    <a:pt x="138" y="504"/>
                    <a:pt x="122" y="348"/>
                  </a:cubicBezTo>
                  <a:cubicBezTo>
                    <a:pt x="120" y="331"/>
                    <a:pt x="106" y="299"/>
                    <a:pt x="106" y="299"/>
                  </a:cubicBezTo>
                  <a:cubicBezTo>
                    <a:pt x="114" y="291"/>
                    <a:pt x="124" y="283"/>
                    <a:pt x="131" y="274"/>
                  </a:cubicBezTo>
                  <a:cubicBezTo>
                    <a:pt x="143" y="259"/>
                    <a:pt x="164" y="225"/>
                    <a:pt x="164" y="225"/>
                  </a:cubicBezTo>
                </a:path>
              </a:pathLst>
            </a:custGeom>
            <a:solidFill>
              <a:srgbClr val="0fff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527280" y="4142880"/>
              <a:ext cx="1975680" cy="1257840"/>
            </a:xfrm>
            <a:custGeom>
              <a:avLst/>
              <a:gdLst/>
              <a:ahLst/>
              <a:rect l="l" t="t" r="r" b="b"/>
              <a:pathLst>
                <a:path w="854" h="599">
                  <a:moveTo>
                    <a:pt x="0" y="24"/>
                  </a:moveTo>
                  <a:cubicBezTo>
                    <a:pt x="49" y="27"/>
                    <a:pt x="99" y="27"/>
                    <a:pt x="148" y="32"/>
                  </a:cubicBezTo>
                  <a:cubicBezTo>
                    <a:pt x="176" y="35"/>
                    <a:pt x="222" y="74"/>
                    <a:pt x="222" y="74"/>
                  </a:cubicBezTo>
                  <a:cubicBezTo>
                    <a:pt x="249" y="115"/>
                    <a:pt x="253" y="114"/>
                    <a:pt x="304" y="131"/>
                  </a:cubicBezTo>
                  <a:cubicBezTo>
                    <a:pt x="312" y="134"/>
                    <a:pt x="328" y="139"/>
                    <a:pt x="328" y="139"/>
                  </a:cubicBezTo>
                  <a:cubicBezTo>
                    <a:pt x="359" y="135"/>
                    <a:pt x="393" y="140"/>
                    <a:pt x="419" y="123"/>
                  </a:cubicBezTo>
                  <a:cubicBezTo>
                    <a:pt x="456" y="98"/>
                    <a:pt x="405" y="70"/>
                    <a:pt x="485" y="65"/>
                  </a:cubicBezTo>
                  <a:cubicBezTo>
                    <a:pt x="529" y="62"/>
                    <a:pt x="572" y="60"/>
                    <a:pt x="616" y="57"/>
                  </a:cubicBezTo>
                  <a:cubicBezTo>
                    <a:pt x="664" y="41"/>
                    <a:pt x="708" y="29"/>
                    <a:pt x="756" y="16"/>
                  </a:cubicBezTo>
                  <a:cubicBezTo>
                    <a:pt x="773" y="12"/>
                    <a:pt x="805" y="0"/>
                    <a:pt x="805" y="0"/>
                  </a:cubicBezTo>
                  <a:cubicBezTo>
                    <a:pt x="834" y="28"/>
                    <a:pt x="820" y="9"/>
                    <a:pt x="838" y="65"/>
                  </a:cubicBezTo>
                  <a:cubicBezTo>
                    <a:pt x="841" y="73"/>
                    <a:pt x="843" y="82"/>
                    <a:pt x="846" y="90"/>
                  </a:cubicBezTo>
                  <a:cubicBezTo>
                    <a:pt x="849" y="98"/>
                    <a:pt x="854" y="115"/>
                    <a:pt x="854" y="115"/>
                  </a:cubicBezTo>
                  <a:cubicBezTo>
                    <a:pt x="852" y="170"/>
                    <a:pt x="843" y="415"/>
                    <a:pt x="838" y="484"/>
                  </a:cubicBezTo>
                  <a:cubicBezTo>
                    <a:pt x="836" y="513"/>
                    <a:pt x="837" y="546"/>
                    <a:pt x="813" y="567"/>
                  </a:cubicBezTo>
                  <a:cubicBezTo>
                    <a:pt x="798" y="580"/>
                    <a:pt x="764" y="599"/>
                    <a:pt x="764" y="599"/>
                  </a:cubicBezTo>
                  <a:cubicBezTo>
                    <a:pt x="564" y="592"/>
                    <a:pt x="369" y="588"/>
                    <a:pt x="181" y="517"/>
                  </a:cubicBezTo>
                  <a:cubicBezTo>
                    <a:pt x="172" y="509"/>
                    <a:pt x="123" y="484"/>
                    <a:pt x="148" y="484"/>
                  </a:cubicBezTo>
                  <a:cubicBezTo>
                    <a:pt x="127" y="394"/>
                    <a:pt x="137" y="276"/>
                    <a:pt x="98" y="197"/>
                  </a:cubicBezTo>
                  <a:cubicBezTo>
                    <a:pt x="89" y="179"/>
                    <a:pt x="63" y="161"/>
                    <a:pt x="49" y="147"/>
                  </a:cubicBezTo>
                  <a:cubicBezTo>
                    <a:pt x="46" y="139"/>
                    <a:pt x="45" y="131"/>
                    <a:pt x="41" y="123"/>
                  </a:cubicBezTo>
                  <a:cubicBezTo>
                    <a:pt x="36" y="114"/>
                    <a:pt x="28" y="107"/>
                    <a:pt x="24" y="98"/>
                  </a:cubicBezTo>
                  <a:cubicBezTo>
                    <a:pt x="23" y="95"/>
                    <a:pt x="4" y="38"/>
                    <a:pt x="0" y="24"/>
                  </a:cubicBezTo>
                  <a:close/>
                </a:path>
              </a:pathLst>
            </a:custGeom>
            <a:solidFill>
              <a:srgbClr val="0fff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428920" y="4023360"/>
              <a:ext cx="1434240" cy="1555920"/>
            </a:xfrm>
            <a:custGeom>
              <a:avLst/>
              <a:gdLst/>
              <a:ahLst/>
              <a:rect l="l" t="t" r="r" b="b"/>
              <a:pathLst>
                <a:path w="620" h="741">
                  <a:moveTo>
                    <a:pt x="426" y="0"/>
                  </a:moveTo>
                  <a:cubicBezTo>
                    <a:pt x="336" y="7"/>
                    <a:pt x="250" y="10"/>
                    <a:pt x="163" y="33"/>
                  </a:cubicBezTo>
                  <a:cubicBezTo>
                    <a:pt x="130" y="54"/>
                    <a:pt x="126" y="69"/>
                    <a:pt x="138" y="107"/>
                  </a:cubicBezTo>
                  <a:cubicBezTo>
                    <a:pt x="148" y="741"/>
                    <a:pt x="0" y="528"/>
                    <a:pt x="204" y="633"/>
                  </a:cubicBezTo>
                  <a:cubicBezTo>
                    <a:pt x="321" y="629"/>
                    <a:pt x="443" y="636"/>
                    <a:pt x="557" y="600"/>
                  </a:cubicBezTo>
                  <a:cubicBezTo>
                    <a:pt x="588" y="569"/>
                    <a:pt x="595" y="580"/>
                    <a:pt x="606" y="534"/>
                  </a:cubicBezTo>
                  <a:cubicBezTo>
                    <a:pt x="602" y="470"/>
                    <a:pt x="620" y="307"/>
                    <a:pt x="565" y="255"/>
                  </a:cubicBezTo>
                  <a:cubicBezTo>
                    <a:pt x="553" y="217"/>
                    <a:pt x="538" y="226"/>
                    <a:pt x="516" y="197"/>
                  </a:cubicBezTo>
                  <a:cubicBezTo>
                    <a:pt x="499" y="175"/>
                    <a:pt x="500" y="173"/>
                    <a:pt x="491" y="148"/>
                  </a:cubicBezTo>
                  <a:cubicBezTo>
                    <a:pt x="480" y="82"/>
                    <a:pt x="488" y="115"/>
                    <a:pt x="467" y="49"/>
                  </a:cubicBezTo>
                  <a:cubicBezTo>
                    <a:pt x="463" y="38"/>
                    <a:pt x="403" y="0"/>
                    <a:pt x="426" y="0"/>
                  </a:cubicBezTo>
                  <a:close/>
                </a:path>
              </a:pathLst>
            </a:custGeom>
            <a:solidFill>
              <a:srgbClr val="0fff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rot="21123000">
              <a:off x="3108240" y="4840560"/>
              <a:ext cx="555480" cy="302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rot="78000">
              <a:off x="4441320" y="4840200"/>
              <a:ext cx="666360" cy="403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rot="19831200">
              <a:off x="5996520" y="4537440"/>
              <a:ext cx="888120" cy="503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2754360" y="2590920"/>
            <a:ext cx="2998800" cy="1612800"/>
          </a:xfrm>
          <a:custGeom>
            <a:avLst/>
            <a:gdLst/>
            <a:ahLst/>
            <a:rect l="l" t="t" r="r" b="b"/>
            <a:pathLst>
              <a:path w="1151" h="680">
                <a:moveTo>
                  <a:pt x="238" y="506"/>
                </a:moveTo>
                <a:cubicBezTo>
                  <a:pt x="242" y="526"/>
                  <a:pt x="244" y="557"/>
                  <a:pt x="263" y="572"/>
                </a:cubicBezTo>
                <a:cubicBezTo>
                  <a:pt x="279" y="585"/>
                  <a:pt x="302" y="583"/>
                  <a:pt x="321" y="589"/>
                </a:cubicBezTo>
                <a:cubicBezTo>
                  <a:pt x="357" y="600"/>
                  <a:pt x="391" y="612"/>
                  <a:pt x="427" y="621"/>
                </a:cubicBezTo>
                <a:cubicBezTo>
                  <a:pt x="472" y="666"/>
                  <a:pt x="412" y="611"/>
                  <a:pt x="469" y="646"/>
                </a:cubicBezTo>
                <a:cubicBezTo>
                  <a:pt x="525" y="680"/>
                  <a:pt x="439" y="648"/>
                  <a:pt x="510" y="671"/>
                </a:cubicBezTo>
                <a:cubicBezTo>
                  <a:pt x="589" y="661"/>
                  <a:pt x="565" y="657"/>
                  <a:pt x="625" y="638"/>
                </a:cubicBezTo>
                <a:cubicBezTo>
                  <a:pt x="682" y="577"/>
                  <a:pt x="742" y="594"/>
                  <a:pt x="830" y="589"/>
                </a:cubicBezTo>
                <a:cubicBezTo>
                  <a:pt x="846" y="586"/>
                  <a:pt x="863" y="584"/>
                  <a:pt x="879" y="580"/>
                </a:cubicBezTo>
                <a:cubicBezTo>
                  <a:pt x="896" y="576"/>
                  <a:pt x="929" y="564"/>
                  <a:pt x="929" y="564"/>
                </a:cubicBezTo>
                <a:cubicBezTo>
                  <a:pt x="934" y="558"/>
                  <a:pt x="938" y="550"/>
                  <a:pt x="945" y="547"/>
                </a:cubicBezTo>
                <a:cubicBezTo>
                  <a:pt x="961" y="539"/>
                  <a:pt x="995" y="531"/>
                  <a:pt x="995" y="531"/>
                </a:cubicBezTo>
                <a:cubicBezTo>
                  <a:pt x="1034" y="505"/>
                  <a:pt x="1079" y="499"/>
                  <a:pt x="1118" y="474"/>
                </a:cubicBezTo>
                <a:cubicBezTo>
                  <a:pt x="1128" y="443"/>
                  <a:pt x="1133" y="418"/>
                  <a:pt x="1151" y="391"/>
                </a:cubicBezTo>
                <a:cubicBezTo>
                  <a:pt x="1148" y="364"/>
                  <a:pt x="1146" y="336"/>
                  <a:pt x="1142" y="309"/>
                </a:cubicBezTo>
                <a:cubicBezTo>
                  <a:pt x="1141" y="302"/>
                  <a:pt x="1128" y="262"/>
                  <a:pt x="1118" y="260"/>
                </a:cubicBezTo>
                <a:cubicBezTo>
                  <a:pt x="1064" y="250"/>
                  <a:pt x="1008" y="255"/>
                  <a:pt x="953" y="252"/>
                </a:cubicBezTo>
                <a:cubicBezTo>
                  <a:pt x="920" y="240"/>
                  <a:pt x="905" y="236"/>
                  <a:pt x="879" y="211"/>
                </a:cubicBezTo>
                <a:cubicBezTo>
                  <a:pt x="870" y="182"/>
                  <a:pt x="855" y="170"/>
                  <a:pt x="838" y="145"/>
                </a:cubicBezTo>
                <a:cubicBezTo>
                  <a:pt x="807" y="100"/>
                  <a:pt x="777" y="34"/>
                  <a:pt x="715" y="22"/>
                </a:cubicBezTo>
                <a:cubicBezTo>
                  <a:pt x="682" y="16"/>
                  <a:pt x="649" y="16"/>
                  <a:pt x="616" y="13"/>
                </a:cubicBezTo>
                <a:cubicBezTo>
                  <a:pt x="573" y="2"/>
                  <a:pt x="581" y="0"/>
                  <a:pt x="526" y="13"/>
                </a:cubicBezTo>
                <a:cubicBezTo>
                  <a:pt x="509" y="17"/>
                  <a:pt x="493" y="24"/>
                  <a:pt x="477" y="30"/>
                </a:cubicBezTo>
                <a:cubicBezTo>
                  <a:pt x="469" y="33"/>
                  <a:pt x="452" y="38"/>
                  <a:pt x="452" y="38"/>
                </a:cubicBezTo>
                <a:cubicBezTo>
                  <a:pt x="365" y="30"/>
                  <a:pt x="295" y="19"/>
                  <a:pt x="206" y="13"/>
                </a:cubicBezTo>
                <a:cubicBezTo>
                  <a:pt x="164" y="28"/>
                  <a:pt x="146" y="44"/>
                  <a:pt x="132" y="87"/>
                </a:cubicBezTo>
                <a:cubicBezTo>
                  <a:pt x="135" y="95"/>
                  <a:pt x="135" y="105"/>
                  <a:pt x="140" y="112"/>
                </a:cubicBezTo>
                <a:cubicBezTo>
                  <a:pt x="152" y="128"/>
                  <a:pt x="181" y="153"/>
                  <a:pt x="181" y="153"/>
                </a:cubicBezTo>
                <a:cubicBezTo>
                  <a:pt x="178" y="175"/>
                  <a:pt x="181" y="198"/>
                  <a:pt x="173" y="219"/>
                </a:cubicBezTo>
                <a:cubicBezTo>
                  <a:pt x="161" y="250"/>
                  <a:pt x="44" y="252"/>
                  <a:pt x="41" y="252"/>
                </a:cubicBezTo>
                <a:cubicBezTo>
                  <a:pt x="33" y="255"/>
                  <a:pt x="21" y="253"/>
                  <a:pt x="16" y="260"/>
                </a:cubicBezTo>
                <a:cubicBezTo>
                  <a:pt x="6" y="274"/>
                  <a:pt x="0" y="309"/>
                  <a:pt x="0" y="309"/>
                </a:cubicBezTo>
                <a:cubicBezTo>
                  <a:pt x="16" y="377"/>
                  <a:pt x="37" y="402"/>
                  <a:pt x="107" y="424"/>
                </a:cubicBezTo>
                <a:cubicBezTo>
                  <a:pt x="177" y="472"/>
                  <a:pt x="62" y="399"/>
                  <a:pt x="222" y="449"/>
                </a:cubicBezTo>
                <a:cubicBezTo>
                  <a:pt x="239" y="454"/>
                  <a:pt x="251" y="495"/>
                  <a:pt x="238" y="506"/>
                </a:cubicBezTo>
                <a:close/>
              </a:path>
            </a:pathLst>
          </a:custGeom>
          <a:solidFill>
            <a:srgbClr val="ffcf8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97440" y="3181320"/>
            <a:ext cx="555480" cy="504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7023960" y="4505040"/>
            <a:ext cx="523800" cy="302040"/>
            <a:chOff x="7023960" y="4505040"/>
            <a:chExt cx="523800" cy="302040"/>
          </a:xfrm>
        </p:grpSpPr>
        <p:grpSp>
          <p:nvGrpSpPr>
            <p:cNvPr id="972" name=""/>
            <p:cNvGrpSpPr/>
            <p:nvPr/>
          </p:nvGrpSpPr>
          <p:grpSpPr>
            <a:xfrm>
              <a:off x="7023960" y="4505040"/>
              <a:ext cx="403920" cy="302040"/>
              <a:chOff x="7023960" y="4505040"/>
              <a:chExt cx="403920" cy="302040"/>
            </a:xfrm>
          </p:grpSpPr>
          <p:sp>
            <p:nvSpPr>
              <p:cNvPr id="973" name=""/>
              <p:cNvSpPr/>
              <p:nvPr/>
            </p:nvSpPr>
            <p:spPr>
              <a:xfrm rot="5100000">
                <a:off x="7094880" y="446040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rot="5100000">
                <a:off x="7124040" y="4669920"/>
                <a:ext cx="16056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5" name=""/>
            <p:cNvSpPr/>
            <p:nvPr/>
          </p:nvSpPr>
          <p:spPr>
            <a:xfrm rot="14272800">
              <a:off x="7368120" y="4588560"/>
              <a:ext cx="16056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2717640" y="2308320"/>
            <a:ext cx="448920" cy="412920"/>
            <a:chOff x="2717640" y="2308320"/>
            <a:chExt cx="448920" cy="412920"/>
          </a:xfrm>
        </p:grpSpPr>
        <p:grpSp>
          <p:nvGrpSpPr>
            <p:cNvPr id="977" name=""/>
            <p:cNvGrpSpPr/>
            <p:nvPr/>
          </p:nvGrpSpPr>
          <p:grpSpPr>
            <a:xfrm>
              <a:off x="2725560" y="2308320"/>
              <a:ext cx="441000" cy="412920"/>
              <a:chOff x="2725560" y="2308320"/>
              <a:chExt cx="441000" cy="412920"/>
            </a:xfrm>
          </p:grpSpPr>
          <p:sp>
            <p:nvSpPr>
              <p:cNvPr id="978" name=""/>
              <p:cNvSpPr/>
              <p:nvPr/>
            </p:nvSpPr>
            <p:spPr>
              <a:xfrm rot="18448800">
                <a:off x="2851920" y="2365200"/>
                <a:ext cx="124920" cy="380880"/>
              </a:xfrm>
              <a:custGeom>
                <a:avLst/>
                <a:gdLst/>
                <a:ahLst/>
                <a:rect l="l" t="t" r="r" b="b"/>
                <a:pathLst>
                  <a:path w="155" h="396">
                    <a:moveTo>
                      <a:pt x="13" y="202"/>
                    </a:moveTo>
                    <a:cubicBezTo>
                      <a:pt x="10" y="158"/>
                      <a:pt x="5" y="115"/>
                      <a:pt x="5" y="71"/>
                    </a:cubicBezTo>
                    <a:cubicBezTo>
                      <a:pt x="5" y="51"/>
                      <a:pt x="0" y="28"/>
                      <a:pt x="13" y="13"/>
                    </a:cubicBezTo>
                    <a:cubicBezTo>
                      <a:pt x="24" y="0"/>
                      <a:pt x="46" y="8"/>
                      <a:pt x="62" y="5"/>
                    </a:cubicBezTo>
                    <a:cubicBezTo>
                      <a:pt x="75" y="45"/>
                      <a:pt x="84" y="71"/>
                      <a:pt x="120" y="96"/>
                    </a:cubicBezTo>
                    <a:cubicBezTo>
                      <a:pt x="155" y="148"/>
                      <a:pt x="122" y="161"/>
                      <a:pt x="95" y="202"/>
                    </a:cubicBezTo>
                    <a:cubicBezTo>
                      <a:pt x="92" y="210"/>
                      <a:pt x="92" y="220"/>
                      <a:pt x="87" y="227"/>
                    </a:cubicBezTo>
                    <a:cubicBezTo>
                      <a:pt x="83" y="234"/>
                      <a:pt x="73" y="236"/>
                      <a:pt x="70" y="243"/>
                    </a:cubicBezTo>
                    <a:cubicBezTo>
                      <a:pt x="51" y="282"/>
                      <a:pt x="58" y="305"/>
                      <a:pt x="29" y="334"/>
                    </a:cubicBezTo>
                    <a:cubicBezTo>
                      <a:pt x="26" y="353"/>
                      <a:pt x="39" y="385"/>
                      <a:pt x="21" y="391"/>
                    </a:cubicBezTo>
                    <a:cubicBezTo>
                      <a:pt x="5" y="396"/>
                      <a:pt x="5" y="342"/>
                      <a:pt x="5" y="342"/>
                    </a:cubicBezTo>
                    <a:cubicBezTo>
                      <a:pt x="13" y="287"/>
                      <a:pt x="22" y="257"/>
                      <a:pt x="13" y="20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H="1" rot="18448800">
                <a:off x="2932200" y="2274480"/>
                <a:ext cx="103320" cy="380880"/>
              </a:xfrm>
              <a:custGeom>
                <a:avLst/>
                <a:gdLst/>
                <a:ahLst/>
                <a:rect l="l" t="t" r="r" b="b"/>
                <a:pathLst>
                  <a:path w="155" h="396">
                    <a:moveTo>
                      <a:pt x="13" y="202"/>
                    </a:moveTo>
                    <a:cubicBezTo>
                      <a:pt x="10" y="158"/>
                      <a:pt x="5" y="115"/>
                      <a:pt x="5" y="71"/>
                    </a:cubicBezTo>
                    <a:cubicBezTo>
                      <a:pt x="5" y="51"/>
                      <a:pt x="0" y="28"/>
                      <a:pt x="13" y="13"/>
                    </a:cubicBezTo>
                    <a:cubicBezTo>
                      <a:pt x="24" y="0"/>
                      <a:pt x="46" y="8"/>
                      <a:pt x="62" y="5"/>
                    </a:cubicBezTo>
                    <a:cubicBezTo>
                      <a:pt x="75" y="45"/>
                      <a:pt x="84" y="71"/>
                      <a:pt x="120" y="96"/>
                    </a:cubicBezTo>
                    <a:cubicBezTo>
                      <a:pt x="155" y="148"/>
                      <a:pt x="122" y="161"/>
                      <a:pt x="95" y="202"/>
                    </a:cubicBezTo>
                    <a:cubicBezTo>
                      <a:pt x="92" y="210"/>
                      <a:pt x="92" y="220"/>
                      <a:pt x="87" y="227"/>
                    </a:cubicBezTo>
                    <a:cubicBezTo>
                      <a:pt x="83" y="234"/>
                      <a:pt x="73" y="236"/>
                      <a:pt x="70" y="243"/>
                    </a:cubicBezTo>
                    <a:cubicBezTo>
                      <a:pt x="51" y="282"/>
                      <a:pt x="58" y="305"/>
                      <a:pt x="29" y="334"/>
                    </a:cubicBezTo>
                    <a:cubicBezTo>
                      <a:pt x="26" y="353"/>
                      <a:pt x="39" y="385"/>
                      <a:pt x="21" y="391"/>
                    </a:cubicBezTo>
                    <a:cubicBezTo>
                      <a:pt x="5" y="396"/>
                      <a:pt x="5" y="342"/>
                      <a:pt x="5" y="342"/>
                    </a:cubicBezTo>
                    <a:cubicBezTo>
                      <a:pt x="13" y="287"/>
                      <a:pt x="22" y="257"/>
                      <a:pt x="13" y="20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>
              <a:off x="2717640" y="2333520"/>
              <a:ext cx="139680" cy="117720"/>
            </a:xfrm>
            <a:custGeom>
              <a:avLst/>
              <a:gdLst/>
              <a:ahLst/>
              <a:rect l="l" t="t" r="r" b="b"/>
              <a:pathLst>
                <a:path w="88" h="74">
                  <a:moveTo>
                    <a:pt x="47" y="0"/>
                  </a:moveTo>
                  <a:cubicBezTo>
                    <a:pt x="0" y="15"/>
                    <a:pt x="0" y="57"/>
                    <a:pt x="47" y="74"/>
                  </a:cubicBezTo>
                  <a:cubicBezTo>
                    <a:pt x="84" y="60"/>
                    <a:pt x="77" y="51"/>
                    <a:pt x="88" y="16"/>
                  </a:cubicBezTo>
                  <a:cubicBezTo>
                    <a:pt x="57" y="6"/>
                    <a:pt x="71" y="12"/>
                    <a:pt x="47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5484240" y="2821320"/>
            <a:ext cx="419760" cy="482400"/>
            <a:chOff x="5484240" y="2821320"/>
            <a:chExt cx="419760" cy="482400"/>
          </a:xfrm>
        </p:grpSpPr>
        <p:grpSp>
          <p:nvGrpSpPr>
            <p:cNvPr id="982" name=""/>
            <p:cNvGrpSpPr/>
            <p:nvPr/>
          </p:nvGrpSpPr>
          <p:grpSpPr>
            <a:xfrm>
              <a:off x="5484240" y="2841840"/>
              <a:ext cx="416160" cy="461880"/>
              <a:chOff x="5484240" y="2841840"/>
              <a:chExt cx="416160" cy="461880"/>
            </a:xfrm>
          </p:grpSpPr>
          <p:sp>
            <p:nvSpPr>
              <p:cNvPr id="983" name=""/>
              <p:cNvSpPr/>
              <p:nvPr/>
            </p:nvSpPr>
            <p:spPr>
              <a:xfrm rot="1770000">
                <a:off x="5561280" y="288144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1770000">
                <a:off x="5657400" y="3077640"/>
                <a:ext cx="16056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 rot="10942800">
              <a:off x="5740560" y="2824200"/>
              <a:ext cx="16056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4863960" y="2657160"/>
            <a:ext cx="423360" cy="441000"/>
            <a:chOff x="4863960" y="2657160"/>
            <a:chExt cx="423360" cy="441000"/>
          </a:xfrm>
        </p:grpSpPr>
        <p:grpSp>
          <p:nvGrpSpPr>
            <p:cNvPr id="987" name=""/>
            <p:cNvGrpSpPr/>
            <p:nvPr/>
          </p:nvGrpSpPr>
          <p:grpSpPr>
            <a:xfrm>
              <a:off x="4863960" y="2662200"/>
              <a:ext cx="423360" cy="435960"/>
              <a:chOff x="4863960" y="2662200"/>
              <a:chExt cx="423360" cy="435960"/>
            </a:xfrm>
          </p:grpSpPr>
          <p:sp>
            <p:nvSpPr>
              <p:cNvPr id="988" name=""/>
              <p:cNvSpPr/>
              <p:nvPr/>
            </p:nvSpPr>
            <p:spPr>
              <a:xfrm rot="2503800">
                <a:off x="4974480" y="2655360"/>
                <a:ext cx="124920" cy="380880"/>
              </a:xfrm>
              <a:custGeom>
                <a:avLst/>
                <a:gdLst/>
                <a:ahLst/>
                <a:rect l="l" t="t" r="r" b="b"/>
                <a:pathLst>
                  <a:path w="155" h="396">
                    <a:moveTo>
                      <a:pt x="13" y="202"/>
                    </a:moveTo>
                    <a:cubicBezTo>
                      <a:pt x="10" y="158"/>
                      <a:pt x="5" y="115"/>
                      <a:pt x="5" y="71"/>
                    </a:cubicBezTo>
                    <a:cubicBezTo>
                      <a:pt x="5" y="51"/>
                      <a:pt x="0" y="28"/>
                      <a:pt x="13" y="13"/>
                    </a:cubicBezTo>
                    <a:cubicBezTo>
                      <a:pt x="24" y="0"/>
                      <a:pt x="46" y="8"/>
                      <a:pt x="62" y="5"/>
                    </a:cubicBezTo>
                    <a:cubicBezTo>
                      <a:pt x="75" y="45"/>
                      <a:pt x="84" y="71"/>
                      <a:pt x="120" y="96"/>
                    </a:cubicBezTo>
                    <a:cubicBezTo>
                      <a:pt x="155" y="148"/>
                      <a:pt x="122" y="161"/>
                      <a:pt x="95" y="202"/>
                    </a:cubicBezTo>
                    <a:cubicBezTo>
                      <a:pt x="92" y="210"/>
                      <a:pt x="92" y="220"/>
                      <a:pt x="87" y="227"/>
                    </a:cubicBezTo>
                    <a:cubicBezTo>
                      <a:pt x="83" y="234"/>
                      <a:pt x="73" y="236"/>
                      <a:pt x="70" y="243"/>
                    </a:cubicBezTo>
                    <a:cubicBezTo>
                      <a:pt x="51" y="282"/>
                      <a:pt x="58" y="305"/>
                      <a:pt x="29" y="334"/>
                    </a:cubicBezTo>
                    <a:cubicBezTo>
                      <a:pt x="26" y="353"/>
                      <a:pt x="39" y="385"/>
                      <a:pt x="21" y="391"/>
                    </a:cubicBezTo>
                    <a:cubicBezTo>
                      <a:pt x="5" y="396"/>
                      <a:pt x="5" y="342"/>
                      <a:pt x="5" y="342"/>
                    </a:cubicBezTo>
                    <a:cubicBezTo>
                      <a:pt x="13" y="287"/>
                      <a:pt x="22" y="257"/>
                      <a:pt x="13" y="20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 rot="2503800">
                <a:off x="5070240" y="2730960"/>
                <a:ext cx="102960" cy="380880"/>
              </a:xfrm>
              <a:custGeom>
                <a:avLst/>
                <a:gdLst/>
                <a:ahLst/>
                <a:rect l="l" t="t" r="r" b="b"/>
                <a:pathLst>
                  <a:path w="155" h="396">
                    <a:moveTo>
                      <a:pt x="13" y="202"/>
                    </a:moveTo>
                    <a:cubicBezTo>
                      <a:pt x="10" y="158"/>
                      <a:pt x="5" y="115"/>
                      <a:pt x="5" y="71"/>
                    </a:cubicBezTo>
                    <a:cubicBezTo>
                      <a:pt x="5" y="51"/>
                      <a:pt x="0" y="28"/>
                      <a:pt x="13" y="13"/>
                    </a:cubicBezTo>
                    <a:cubicBezTo>
                      <a:pt x="24" y="0"/>
                      <a:pt x="46" y="8"/>
                      <a:pt x="62" y="5"/>
                    </a:cubicBezTo>
                    <a:cubicBezTo>
                      <a:pt x="75" y="45"/>
                      <a:pt x="84" y="71"/>
                      <a:pt x="120" y="96"/>
                    </a:cubicBezTo>
                    <a:cubicBezTo>
                      <a:pt x="155" y="148"/>
                      <a:pt x="122" y="161"/>
                      <a:pt x="95" y="202"/>
                    </a:cubicBezTo>
                    <a:cubicBezTo>
                      <a:pt x="92" y="210"/>
                      <a:pt x="92" y="220"/>
                      <a:pt x="87" y="227"/>
                    </a:cubicBezTo>
                    <a:cubicBezTo>
                      <a:pt x="83" y="234"/>
                      <a:pt x="73" y="236"/>
                      <a:pt x="70" y="243"/>
                    </a:cubicBezTo>
                    <a:cubicBezTo>
                      <a:pt x="51" y="282"/>
                      <a:pt x="58" y="305"/>
                      <a:pt x="29" y="334"/>
                    </a:cubicBezTo>
                    <a:cubicBezTo>
                      <a:pt x="26" y="353"/>
                      <a:pt x="39" y="385"/>
                      <a:pt x="21" y="391"/>
                    </a:cubicBezTo>
                    <a:cubicBezTo>
                      <a:pt x="5" y="396"/>
                      <a:pt x="5" y="342"/>
                      <a:pt x="5" y="342"/>
                    </a:cubicBezTo>
                    <a:cubicBezTo>
                      <a:pt x="13" y="287"/>
                      <a:pt x="22" y="257"/>
                      <a:pt x="13" y="20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0" name=""/>
            <p:cNvSpPr/>
            <p:nvPr/>
          </p:nvSpPr>
          <p:spPr>
            <a:xfrm rot="5655000">
              <a:off x="5139360" y="2672280"/>
              <a:ext cx="139680" cy="117360"/>
            </a:xfrm>
            <a:custGeom>
              <a:avLst/>
              <a:gdLst/>
              <a:ahLst/>
              <a:rect l="l" t="t" r="r" b="b"/>
              <a:pathLst>
                <a:path w="88" h="74">
                  <a:moveTo>
                    <a:pt x="47" y="0"/>
                  </a:moveTo>
                  <a:cubicBezTo>
                    <a:pt x="0" y="15"/>
                    <a:pt x="0" y="57"/>
                    <a:pt x="47" y="74"/>
                  </a:cubicBezTo>
                  <a:cubicBezTo>
                    <a:pt x="84" y="60"/>
                    <a:pt x="77" y="51"/>
                    <a:pt x="88" y="16"/>
                  </a:cubicBezTo>
                  <a:cubicBezTo>
                    <a:pt x="57" y="6"/>
                    <a:pt x="71" y="12"/>
                    <a:pt x="47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6392880" y="5284440"/>
            <a:ext cx="344880" cy="540360"/>
            <a:chOff x="6392880" y="5284440"/>
            <a:chExt cx="344880" cy="540360"/>
          </a:xfrm>
        </p:grpSpPr>
        <p:grpSp>
          <p:nvGrpSpPr>
            <p:cNvPr id="992" name=""/>
            <p:cNvGrpSpPr/>
            <p:nvPr/>
          </p:nvGrpSpPr>
          <p:grpSpPr>
            <a:xfrm>
              <a:off x="6392880" y="5284440"/>
              <a:ext cx="344880" cy="433800"/>
              <a:chOff x="6392880" y="5284440"/>
              <a:chExt cx="344880" cy="433800"/>
            </a:xfrm>
          </p:grpSpPr>
          <p:sp>
            <p:nvSpPr>
              <p:cNvPr id="993" name=""/>
              <p:cNvSpPr/>
              <p:nvPr/>
            </p:nvSpPr>
            <p:spPr>
              <a:xfrm rot="9979200">
                <a:off x="6434280" y="531000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rot="9979200">
                <a:off x="6411960" y="5437800"/>
                <a:ext cx="16056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5" name=""/>
            <p:cNvSpPr/>
            <p:nvPr/>
          </p:nvSpPr>
          <p:spPr>
            <a:xfrm rot="19152000">
              <a:off x="6515640" y="5654880"/>
              <a:ext cx="16056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4617000" y="5307120"/>
            <a:ext cx="344880" cy="539280"/>
            <a:chOff x="4617000" y="5307120"/>
            <a:chExt cx="344880" cy="539280"/>
          </a:xfrm>
        </p:grpSpPr>
        <p:grpSp>
          <p:nvGrpSpPr>
            <p:cNvPr id="997" name=""/>
            <p:cNvGrpSpPr/>
            <p:nvPr/>
          </p:nvGrpSpPr>
          <p:grpSpPr>
            <a:xfrm>
              <a:off x="4617000" y="5307120"/>
              <a:ext cx="344880" cy="433440"/>
              <a:chOff x="4617000" y="5307120"/>
              <a:chExt cx="344880" cy="433440"/>
            </a:xfrm>
          </p:grpSpPr>
          <p:sp>
            <p:nvSpPr>
              <p:cNvPr id="998" name=""/>
              <p:cNvSpPr/>
              <p:nvPr/>
            </p:nvSpPr>
            <p:spPr>
              <a:xfrm rot="9979200">
                <a:off x="4658400" y="5332680"/>
                <a:ext cx="261720" cy="38232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9979200">
                <a:off x="4636440" y="5460840"/>
                <a:ext cx="160560" cy="10440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0" name=""/>
            <p:cNvSpPr/>
            <p:nvPr/>
          </p:nvSpPr>
          <p:spPr>
            <a:xfrm rot="19152000">
              <a:off x="4739040" y="5676840"/>
              <a:ext cx="160560" cy="13320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3168720" y="5230440"/>
            <a:ext cx="344880" cy="540360"/>
            <a:chOff x="3168720" y="5230440"/>
            <a:chExt cx="344880" cy="540360"/>
          </a:xfrm>
        </p:grpSpPr>
        <p:grpSp>
          <p:nvGrpSpPr>
            <p:cNvPr id="1002" name=""/>
            <p:cNvGrpSpPr/>
            <p:nvPr/>
          </p:nvGrpSpPr>
          <p:grpSpPr>
            <a:xfrm>
              <a:off x="3168720" y="5230440"/>
              <a:ext cx="344880" cy="433800"/>
              <a:chOff x="3168720" y="5230440"/>
              <a:chExt cx="344880" cy="433800"/>
            </a:xfrm>
          </p:grpSpPr>
          <p:sp>
            <p:nvSpPr>
              <p:cNvPr id="1003" name=""/>
              <p:cNvSpPr/>
              <p:nvPr/>
            </p:nvSpPr>
            <p:spPr>
              <a:xfrm rot="9979200">
                <a:off x="3210120" y="525600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9979200">
                <a:off x="3187800" y="5383800"/>
                <a:ext cx="16056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5" name=""/>
            <p:cNvSpPr/>
            <p:nvPr/>
          </p:nvSpPr>
          <p:spPr>
            <a:xfrm rot="19152000">
              <a:off x="3291480" y="5600880"/>
              <a:ext cx="16056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2163240" y="4400280"/>
            <a:ext cx="535680" cy="326520"/>
            <a:chOff x="2163240" y="4400280"/>
            <a:chExt cx="535680" cy="326520"/>
          </a:xfrm>
        </p:grpSpPr>
        <p:grpSp>
          <p:nvGrpSpPr>
            <p:cNvPr id="1007" name=""/>
            <p:cNvGrpSpPr/>
            <p:nvPr/>
          </p:nvGrpSpPr>
          <p:grpSpPr>
            <a:xfrm>
              <a:off x="2275200" y="4400280"/>
              <a:ext cx="423720" cy="326520"/>
              <a:chOff x="2275200" y="4400280"/>
              <a:chExt cx="423720" cy="326520"/>
            </a:xfrm>
          </p:grpSpPr>
          <p:sp>
            <p:nvSpPr>
              <p:cNvPr id="1008" name=""/>
              <p:cNvSpPr/>
              <p:nvPr/>
            </p:nvSpPr>
            <p:spPr>
              <a:xfrm rot="15576000">
                <a:off x="2355840" y="437184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rot="15576000">
                <a:off x="2421360" y="4438800"/>
                <a:ext cx="16056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0" name=""/>
            <p:cNvSpPr/>
            <p:nvPr/>
          </p:nvSpPr>
          <p:spPr>
            <a:xfrm rot="3148800">
              <a:off x="2184480" y="4514400"/>
              <a:ext cx="16056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1" name=""/>
          <p:cNvSpPr/>
          <p:nvPr/>
        </p:nvSpPr>
        <p:spPr>
          <a:xfrm rot="19906800">
            <a:off x="2793600" y="1358640"/>
            <a:ext cx="152280" cy="304560"/>
          </a:xfrm>
          <a:custGeom>
            <a:avLst/>
            <a:gdLst/>
            <a:ahLst/>
            <a:rect l="l" t="t" r="r" b="b"/>
            <a:pathLst>
              <a:path w="196" h="247">
                <a:moveTo>
                  <a:pt x="139" y="8"/>
                </a:moveTo>
                <a:cubicBezTo>
                  <a:pt x="92" y="14"/>
                  <a:pt x="44" y="8"/>
                  <a:pt x="16" y="49"/>
                </a:cubicBezTo>
                <a:cubicBezTo>
                  <a:pt x="0" y="122"/>
                  <a:pt x="2" y="92"/>
                  <a:pt x="16" y="205"/>
                </a:cubicBezTo>
                <a:cubicBezTo>
                  <a:pt x="17" y="214"/>
                  <a:pt x="17" y="225"/>
                  <a:pt x="24" y="230"/>
                </a:cubicBezTo>
                <a:cubicBezTo>
                  <a:pt x="38" y="240"/>
                  <a:pt x="73" y="246"/>
                  <a:pt x="73" y="246"/>
                </a:cubicBezTo>
                <a:cubicBezTo>
                  <a:pt x="100" y="243"/>
                  <a:pt x="129" y="247"/>
                  <a:pt x="155" y="238"/>
                </a:cubicBezTo>
                <a:cubicBezTo>
                  <a:pt x="174" y="231"/>
                  <a:pt x="160" y="195"/>
                  <a:pt x="155" y="189"/>
                </a:cubicBezTo>
                <a:cubicBezTo>
                  <a:pt x="135" y="164"/>
                  <a:pt x="89" y="167"/>
                  <a:pt x="65" y="164"/>
                </a:cubicBezTo>
                <a:cubicBezTo>
                  <a:pt x="77" y="79"/>
                  <a:pt x="71" y="85"/>
                  <a:pt x="139" y="107"/>
                </a:cubicBezTo>
                <a:cubicBezTo>
                  <a:pt x="178" y="98"/>
                  <a:pt x="184" y="94"/>
                  <a:pt x="196" y="57"/>
                </a:cubicBezTo>
                <a:cubicBezTo>
                  <a:pt x="177" y="0"/>
                  <a:pt x="196" y="13"/>
                  <a:pt x="155" y="0"/>
                </a:cubicBezTo>
                <a:cubicBezTo>
                  <a:pt x="106" y="10"/>
                  <a:pt x="100" y="8"/>
                  <a:pt x="139" y="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819520" y="1143000"/>
            <a:ext cx="7596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073320" y="1028880"/>
            <a:ext cx="76320" cy="75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352680" y="939960"/>
            <a:ext cx="76320" cy="75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645000" y="863640"/>
            <a:ext cx="7596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962520" y="825480"/>
            <a:ext cx="7596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733920" y="4572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e7100"/>
                </a:solidFill>
                <a:latin typeface="Times New Roman"/>
              </a:rPr>
              <a:t>IL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rot="13626000">
            <a:off x="5968800" y="1777680"/>
            <a:ext cx="152280" cy="304920"/>
          </a:xfrm>
          <a:custGeom>
            <a:avLst/>
            <a:gdLst/>
            <a:ahLst/>
            <a:rect l="l" t="t" r="r" b="b"/>
            <a:pathLst>
              <a:path w="196" h="247">
                <a:moveTo>
                  <a:pt x="139" y="8"/>
                </a:moveTo>
                <a:cubicBezTo>
                  <a:pt x="92" y="14"/>
                  <a:pt x="44" y="8"/>
                  <a:pt x="16" y="49"/>
                </a:cubicBezTo>
                <a:cubicBezTo>
                  <a:pt x="0" y="122"/>
                  <a:pt x="2" y="92"/>
                  <a:pt x="16" y="205"/>
                </a:cubicBezTo>
                <a:cubicBezTo>
                  <a:pt x="17" y="214"/>
                  <a:pt x="17" y="225"/>
                  <a:pt x="24" y="230"/>
                </a:cubicBezTo>
                <a:cubicBezTo>
                  <a:pt x="38" y="240"/>
                  <a:pt x="73" y="246"/>
                  <a:pt x="73" y="246"/>
                </a:cubicBezTo>
                <a:cubicBezTo>
                  <a:pt x="100" y="243"/>
                  <a:pt x="129" y="247"/>
                  <a:pt x="155" y="238"/>
                </a:cubicBezTo>
                <a:cubicBezTo>
                  <a:pt x="174" y="231"/>
                  <a:pt x="160" y="195"/>
                  <a:pt x="155" y="189"/>
                </a:cubicBezTo>
                <a:cubicBezTo>
                  <a:pt x="135" y="164"/>
                  <a:pt x="89" y="167"/>
                  <a:pt x="65" y="164"/>
                </a:cubicBezTo>
                <a:cubicBezTo>
                  <a:pt x="77" y="79"/>
                  <a:pt x="71" y="85"/>
                  <a:pt x="139" y="107"/>
                </a:cubicBezTo>
                <a:cubicBezTo>
                  <a:pt x="178" y="98"/>
                  <a:pt x="184" y="94"/>
                  <a:pt x="196" y="57"/>
                </a:cubicBezTo>
                <a:cubicBezTo>
                  <a:pt x="177" y="0"/>
                  <a:pt x="196" y="13"/>
                  <a:pt x="155" y="0"/>
                </a:cubicBezTo>
                <a:cubicBezTo>
                  <a:pt x="106" y="10"/>
                  <a:pt x="100" y="8"/>
                  <a:pt x="139" y="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962520" y="825480"/>
            <a:ext cx="75960" cy="76320"/>
          </a:xfrm>
          <a:prstGeom prst="ellipse">
            <a:avLst/>
          </a:prstGeom>
          <a:solidFill>
            <a:srgbClr val="ffeaff"/>
          </a:solidFill>
          <a:ln w="38160">
            <a:solidFill>
              <a:srgbClr val="ffe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4114800" y="977760"/>
            <a:ext cx="380880" cy="88920"/>
            <a:chOff x="4114800" y="977760"/>
            <a:chExt cx="380880" cy="88920"/>
          </a:xfrm>
        </p:grpSpPr>
        <p:sp>
          <p:nvSpPr>
            <p:cNvPr id="1021" name=""/>
            <p:cNvSpPr/>
            <p:nvPr/>
          </p:nvSpPr>
          <p:spPr>
            <a:xfrm>
              <a:off x="4114800" y="977760"/>
              <a:ext cx="7596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419360" y="990720"/>
              <a:ext cx="76320" cy="759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4038480" y="1092240"/>
            <a:ext cx="736560" cy="152280"/>
            <a:chOff x="4038480" y="1092240"/>
            <a:chExt cx="736560" cy="152280"/>
          </a:xfrm>
        </p:grpSpPr>
        <p:sp>
          <p:nvSpPr>
            <p:cNvPr id="1024" name=""/>
            <p:cNvSpPr/>
            <p:nvPr/>
          </p:nvSpPr>
          <p:spPr>
            <a:xfrm>
              <a:off x="4038480" y="1168560"/>
              <a:ext cx="76320" cy="759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698720" y="1092240"/>
              <a:ext cx="7632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3797280" y="1231920"/>
            <a:ext cx="1257120" cy="139680"/>
            <a:chOff x="3797280" y="1231920"/>
            <a:chExt cx="1257120" cy="139680"/>
          </a:xfrm>
        </p:grpSpPr>
        <p:sp>
          <p:nvSpPr>
            <p:cNvPr id="1027" name=""/>
            <p:cNvSpPr/>
            <p:nvPr/>
          </p:nvSpPr>
          <p:spPr>
            <a:xfrm>
              <a:off x="3797280" y="1295280"/>
              <a:ext cx="7596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978440" y="1231920"/>
              <a:ext cx="7596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3505320" y="1371600"/>
            <a:ext cx="1828800" cy="76320"/>
            <a:chOff x="3505320" y="1371600"/>
            <a:chExt cx="1828800" cy="76320"/>
          </a:xfrm>
        </p:grpSpPr>
        <p:sp>
          <p:nvSpPr>
            <p:cNvPr id="1030" name=""/>
            <p:cNvSpPr/>
            <p:nvPr/>
          </p:nvSpPr>
          <p:spPr>
            <a:xfrm>
              <a:off x="3505320" y="1371600"/>
              <a:ext cx="7632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258160" y="1371600"/>
              <a:ext cx="7596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3174840" y="1447920"/>
            <a:ext cx="2400480" cy="126720"/>
            <a:chOff x="3174840" y="1447920"/>
            <a:chExt cx="2400480" cy="126720"/>
          </a:xfrm>
        </p:grpSpPr>
        <p:sp>
          <p:nvSpPr>
            <p:cNvPr id="1033" name=""/>
            <p:cNvSpPr/>
            <p:nvPr/>
          </p:nvSpPr>
          <p:spPr>
            <a:xfrm>
              <a:off x="3174840" y="1447920"/>
              <a:ext cx="76320" cy="759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499000" y="1498680"/>
              <a:ext cx="76320" cy="759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5" name=""/>
          <p:cNvSpPr/>
          <p:nvPr/>
        </p:nvSpPr>
        <p:spPr>
          <a:xfrm>
            <a:off x="2857680" y="1460520"/>
            <a:ext cx="7596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753160" y="1676520"/>
            <a:ext cx="76320" cy="75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981760" y="1841400"/>
            <a:ext cx="7632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1066680" y="762120"/>
            <a:ext cx="6934320" cy="1828800"/>
            <a:chOff x="1066680" y="762120"/>
            <a:chExt cx="6934320" cy="1828800"/>
          </a:xfrm>
        </p:grpSpPr>
        <p:grpSp>
          <p:nvGrpSpPr>
            <p:cNvPr id="1039" name=""/>
            <p:cNvGrpSpPr/>
            <p:nvPr/>
          </p:nvGrpSpPr>
          <p:grpSpPr>
            <a:xfrm>
              <a:off x="6781680" y="1371600"/>
              <a:ext cx="1219320" cy="1219320"/>
              <a:chOff x="6781680" y="1371600"/>
              <a:chExt cx="1219320" cy="1219320"/>
            </a:xfrm>
          </p:grpSpPr>
          <p:grpSp>
            <p:nvGrpSpPr>
              <p:cNvPr id="1040" name=""/>
              <p:cNvGrpSpPr/>
              <p:nvPr/>
            </p:nvGrpSpPr>
            <p:grpSpPr>
              <a:xfrm>
                <a:off x="6781680" y="1371600"/>
                <a:ext cx="1219320" cy="1219320"/>
                <a:chOff x="6781680" y="1371600"/>
                <a:chExt cx="1219320" cy="1219320"/>
              </a:xfrm>
            </p:grpSpPr>
            <p:sp>
              <p:nvSpPr>
                <p:cNvPr id="1041" name=""/>
                <p:cNvSpPr/>
                <p:nvPr/>
              </p:nvSpPr>
              <p:spPr>
                <a:xfrm>
                  <a:off x="6781680" y="1371600"/>
                  <a:ext cx="1219320" cy="121932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6892560" y="1477440"/>
                  <a:ext cx="997560" cy="100728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3" name=""/>
              <p:cNvSpPr/>
              <p:nvPr/>
            </p:nvSpPr>
            <p:spPr>
              <a:xfrm>
                <a:off x="6933960" y="181296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T-CD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4" name=""/>
            <p:cNvGrpSpPr/>
            <p:nvPr/>
          </p:nvGrpSpPr>
          <p:grpSpPr>
            <a:xfrm>
              <a:off x="1066680" y="762120"/>
              <a:ext cx="1219320" cy="1218960"/>
              <a:chOff x="1066680" y="762120"/>
              <a:chExt cx="1219320" cy="1218960"/>
            </a:xfrm>
          </p:grpSpPr>
          <p:grpSp>
            <p:nvGrpSpPr>
              <p:cNvPr id="1045" name=""/>
              <p:cNvGrpSpPr/>
              <p:nvPr/>
            </p:nvGrpSpPr>
            <p:grpSpPr>
              <a:xfrm>
                <a:off x="1066680" y="762120"/>
                <a:ext cx="1219320" cy="1218960"/>
                <a:chOff x="1066680" y="762120"/>
                <a:chExt cx="1219320" cy="1218960"/>
              </a:xfrm>
            </p:grpSpPr>
            <p:sp>
              <p:nvSpPr>
                <p:cNvPr id="1046" name=""/>
                <p:cNvSpPr/>
                <p:nvPr/>
              </p:nvSpPr>
              <p:spPr>
                <a:xfrm>
                  <a:off x="1066680" y="762120"/>
                  <a:ext cx="1219320" cy="121896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1177560" y="867960"/>
                  <a:ext cx="997560" cy="100692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8" name=""/>
              <p:cNvSpPr/>
              <p:nvPr/>
            </p:nvSpPr>
            <p:spPr>
              <a:xfrm>
                <a:off x="1219320" y="1203120"/>
                <a:ext cx="9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T-CD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9" name=""/>
          <p:cNvGrpSpPr/>
          <p:nvPr/>
        </p:nvGrpSpPr>
        <p:grpSpPr>
          <a:xfrm>
            <a:off x="990720" y="1523880"/>
            <a:ext cx="7543800" cy="2286000"/>
            <a:chOff x="990720" y="1523880"/>
            <a:chExt cx="7543800" cy="2286000"/>
          </a:xfrm>
        </p:grpSpPr>
        <p:grpSp>
          <p:nvGrpSpPr>
            <p:cNvPr id="1050" name=""/>
            <p:cNvGrpSpPr/>
            <p:nvPr/>
          </p:nvGrpSpPr>
          <p:grpSpPr>
            <a:xfrm>
              <a:off x="7315200" y="2590920"/>
              <a:ext cx="1219320" cy="1218960"/>
              <a:chOff x="7315200" y="2590920"/>
              <a:chExt cx="1219320" cy="1218960"/>
            </a:xfrm>
          </p:grpSpPr>
          <p:grpSp>
            <p:nvGrpSpPr>
              <p:cNvPr id="1051" name=""/>
              <p:cNvGrpSpPr/>
              <p:nvPr/>
            </p:nvGrpSpPr>
            <p:grpSpPr>
              <a:xfrm>
                <a:off x="7315200" y="2590920"/>
                <a:ext cx="1219320" cy="1218960"/>
                <a:chOff x="7315200" y="2590920"/>
                <a:chExt cx="1219320" cy="121896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7315200" y="2590920"/>
                  <a:ext cx="1219320" cy="121896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7426080" y="2696760"/>
                  <a:ext cx="997560" cy="100692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4" name=""/>
              <p:cNvSpPr/>
              <p:nvPr/>
            </p:nvSpPr>
            <p:spPr>
              <a:xfrm>
                <a:off x="7467480" y="303192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T-CD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990720" y="1523880"/>
              <a:ext cx="1218960" cy="1219320"/>
              <a:chOff x="990720" y="1523880"/>
              <a:chExt cx="1218960" cy="1219320"/>
            </a:xfrm>
          </p:grpSpPr>
          <p:grpSp>
            <p:nvGrpSpPr>
              <p:cNvPr id="1056" name=""/>
              <p:cNvGrpSpPr/>
              <p:nvPr/>
            </p:nvGrpSpPr>
            <p:grpSpPr>
              <a:xfrm>
                <a:off x="990720" y="1523880"/>
                <a:ext cx="1218960" cy="1219320"/>
                <a:chOff x="990720" y="1523880"/>
                <a:chExt cx="1218960" cy="121932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990720" y="1523880"/>
                  <a:ext cx="1218960" cy="121932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1101600" y="1629720"/>
                  <a:ext cx="997200" cy="100728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9" name=""/>
              <p:cNvSpPr/>
              <p:nvPr/>
            </p:nvSpPr>
            <p:spPr>
              <a:xfrm>
                <a:off x="1143000" y="1965240"/>
                <a:ext cx="99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T-CD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0" name=""/>
          <p:cNvGrpSpPr/>
          <p:nvPr/>
        </p:nvGrpSpPr>
        <p:grpSpPr>
          <a:xfrm>
            <a:off x="533520" y="152280"/>
            <a:ext cx="7315200" cy="3200400"/>
            <a:chOff x="533520" y="152280"/>
            <a:chExt cx="7315200" cy="3200400"/>
          </a:xfrm>
        </p:grpSpPr>
        <p:grpSp>
          <p:nvGrpSpPr>
            <p:cNvPr id="1061" name=""/>
            <p:cNvGrpSpPr/>
            <p:nvPr/>
          </p:nvGrpSpPr>
          <p:grpSpPr>
            <a:xfrm>
              <a:off x="6629400" y="2133720"/>
              <a:ext cx="1219320" cy="1218960"/>
              <a:chOff x="6629400" y="2133720"/>
              <a:chExt cx="1219320" cy="1218960"/>
            </a:xfrm>
          </p:grpSpPr>
          <p:grpSp>
            <p:nvGrpSpPr>
              <p:cNvPr id="1062" name=""/>
              <p:cNvGrpSpPr/>
              <p:nvPr/>
            </p:nvGrpSpPr>
            <p:grpSpPr>
              <a:xfrm>
                <a:off x="6629400" y="2133720"/>
                <a:ext cx="1219320" cy="1218960"/>
                <a:chOff x="6629400" y="2133720"/>
                <a:chExt cx="1219320" cy="121896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6629400" y="2133720"/>
                  <a:ext cx="1219320" cy="121896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6740280" y="2239560"/>
                  <a:ext cx="997560" cy="100692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5" name=""/>
              <p:cNvSpPr/>
              <p:nvPr/>
            </p:nvSpPr>
            <p:spPr>
              <a:xfrm>
                <a:off x="6781680" y="257472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T-CD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6" name=""/>
            <p:cNvGrpSpPr/>
            <p:nvPr/>
          </p:nvGrpSpPr>
          <p:grpSpPr>
            <a:xfrm>
              <a:off x="533520" y="152280"/>
              <a:ext cx="1218960" cy="1219320"/>
              <a:chOff x="533520" y="152280"/>
              <a:chExt cx="1218960" cy="1219320"/>
            </a:xfrm>
          </p:grpSpPr>
          <p:grpSp>
            <p:nvGrpSpPr>
              <p:cNvPr id="1067" name=""/>
              <p:cNvGrpSpPr/>
              <p:nvPr/>
            </p:nvGrpSpPr>
            <p:grpSpPr>
              <a:xfrm>
                <a:off x="533520" y="152280"/>
                <a:ext cx="1218960" cy="1219320"/>
                <a:chOff x="533520" y="152280"/>
                <a:chExt cx="1218960" cy="1219320"/>
              </a:xfrm>
            </p:grpSpPr>
            <p:sp>
              <p:nvSpPr>
                <p:cNvPr id="1068" name=""/>
                <p:cNvSpPr/>
                <p:nvPr/>
              </p:nvSpPr>
              <p:spPr>
                <a:xfrm>
                  <a:off x="533520" y="152280"/>
                  <a:ext cx="1218960" cy="121932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644400" y="258120"/>
                  <a:ext cx="997200" cy="100728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0" name=""/>
              <p:cNvSpPr/>
              <p:nvPr/>
            </p:nvSpPr>
            <p:spPr>
              <a:xfrm>
                <a:off x="685800" y="593640"/>
                <a:ext cx="99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T-CD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1" name=""/>
          <p:cNvGrpSpPr/>
          <p:nvPr/>
        </p:nvGrpSpPr>
        <p:grpSpPr>
          <a:xfrm>
            <a:off x="304920" y="1066680"/>
            <a:ext cx="8458200" cy="1905120"/>
            <a:chOff x="304920" y="1066680"/>
            <a:chExt cx="8458200" cy="1905120"/>
          </a:xfrm>
        </p:grpSpPr>
        <p:grpSp>
          <p:nvGrpSpPr>
            <p:cNvPr id="1072" name=""/>
            <p:cNvGrpSpPr/>
            <p:nvPr/>
          </p:nvGrpSpPr>
          <p:grpSpPr>
            <a:xfrm>
              <a:off x="7543800" y="1752480"/>
              <a:ext cx="1219320" cy="1219320"/>
              <a:chOff x="7543800" y="1752480"/>
              <a:chExt cx="1219320" cy="1219320"/>
            </a:xfrm>
          </p:grpSpPr>
          <p:grpSp>
            <p:nvGrpSpPr>
              <p:cNvPr id="1073" name=""/>
              <p:cNvGrpSpPr/>
              <p:nvPr/>
            </p:nvGrpSpPr>
            <p:grpSpPr>
              <a:xfrm>
                <a:off x="7543800" y="1752480"/>
                <a:ext cx="1219320" cy="1219320"/>
                <a:chOff x="7543800" y="1752480"/>
                <a:chExt cx="1219320" cy="1219320"/>
              </a:xfrm>
            </p:grpSpPr>
            <p:sp>
              <p:nvSpPr>
                <p:cNvPr id="1074" name=""/>
                <p:cNvSpPr/>
                <p:nvPr/>
              </p:nvSpPr>
              <p:spPr>
                <a:xfrm>
                  <a:off x="7543800" y="1752480"/>
                  <a:ext cx="1219320" cy="121932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7654680" y="1858320"/>
                  <a:ext cx="997560" cy="100728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6" name=""/>
              <p:cNvSpPr/>
              <p:nvPr/>
            </p:nvSpPr>
            <p:spPr>
              <a:xfrm>
                <a:off x="7696080" y="219384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T-CD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7" name=""/>
            <p:cNvGrpSpPr/>
            <p:nvPr/>
          </p:nvGrpSpPr>
          <p:grpSpPr>
            <a:xfrm>
              <a:off x="304920" y="1066680"/>
              <a:ext cx="1218960" cy="1219320"/>
              <a:chOff x="304920" y="1066680"/>
              <a:chExt cx="1218960" cy="1219320"/>
            </a:xfrm>
          </p:grpSpPr>
          <p:grpSp>
            <p:nvGrpSpPr>
              <p:cNvPr id="1078" name=""/>
              <p:cNvGrpSpPr/>
              <p:nvPr/>
            </p:nvGrpSpPr>
            <p:grpSpPr>
              <a:xfrm>
                <a:off x="304920" y="1066680"/>
                <a:ext cx="1218960" cy="1219320"/>
                <a:chOff x="304920" y="1066680"/>
                <a:chExt cx="1218960" cy="1219320"/>
              </a:xfrm>
            </p:grpSpPr>
            <p:sp>
              <p:nvSpPr>
                <p:cNvPr id="1079" name=""/>
                <p:cNvSpPr/>
                <p:nvPr/>
              </p:nvSpPr>
              <p:spPr>
                <a:xfrm>
                  <a:off x="304920" y="1066680"/>
                  <a:ext cx="1218960" cy="121932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415800" y="1172520"/>
                  <a:ext cx="997200" cy="100728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1" name=""/>
              <p:cNvSpPr/>
              <p:nvPr/>
            </p:nvSpPr>
            <p:spPr>
              <a:xfrm>
                <a:off x="457200" y="1508040"/>
                <a:ext cx="99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T-CD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2" name=""/>
          <p:cNvGrpSpPr/>
          <p:nvPr/>
        </p:nvGrpSpPr>
        <p:grpSpPr>
          <a:xfrm>
            <a:off x="6689880" y="1860840"/>
            <a:ext cx="1576800" cy="1576800"/>
            <a:chOff x="6689880" y="1860840"/>
            <a:chExt cx="1576800" cy="1576800"/>
          </a:xfrm>
        </p:grpSpPr>
        <p:grpSp>
          <p:nvGrpSpPr>
            <p:cNvPr id="1083" name=""/>
            <p:cNvGrpSpPr/>
            <p:nvPr/>
          </p:nvGrpSpPr>
          <p:grpSpPr>
            <a:xfrm>
              <a:off x="6689880" y="1860840"/>
              <a:ext cx="1576800" cy="1576800"/>
              <a:chOff x="6689880" y="1860840"/>
              <a:chExt cx="1576800" cy="1576800"/>
            </a:xfrm>
          </p:grpSpPr>
          <p:sp>
            <p:nvSpPr>
              <p:cNvPr id="1084" name=""/>
              <p:cNvSpPr/>
              <p:nvPr/>
            </p:nvSpPr>
            <p:spPr>
              <a:xfrm rot="4133400">
                <a:off x="6868440" y="2039400"/>
                <a:ext cx="121932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rot="4133400">
                <a:off x="6979680" y="2145240"/>
                <a:ext cx="99756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6" name=""/>
            <p:cNvGrpSpPr/>
            <p:nvPr/>
          </p:nvGrpSpPr>
          <p:grpSpPr>
            <a:xfrm>
              <a:off x="6706080" y="2094120"/>
              <a:ext cx="380160" cy="371520"/>
              <a:chOff x="6706080" y="2094120"/>
              <a:chExt cx="380160" cy="371520"/>
            </a:xfrm>
          </p:grpSpPr>
          <p:sp>
            <p:nvSpPr>
              <p:cNvPr id="1087" name=""/>
              <p:cNvSpPr/>
              <p:nvPr/>
            </p:nvSpPr>
            <p:spPr>
              <a:xfrm rot="7338600">
                <a:off x="6845760" y="210348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rot="16678200">
                <a:off x="6763680" y="223236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9" name=""/>
            <p:cNvSpPr/>
            <p:nvPr/>
          </p:nvSpPr>
          <p:spPr>
            <a:xfrm rot="4133400">
              <a:off x="6967440" y="249624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7058160" y="2025360"/>
            <a:ext cx="1698120" cy="1697760"/>
            <a:chOff x="7058160" y="2025360"/>
            <a:chExt cx="1698120" cy="1697760"/>
          </a:xfrm>
        </p:grpSpPr>
        <p:grpSp>
          <p:nvGrpSpPr>
            <p:cNvPr id="1091" name=""/>
            <p:cNvGrpSpPr/>
            <p:nvPr/>
          </p:nvGrpSpPr>
          <p:grpSpPr>
            <a:xfrm>
              <a:off x="7058160" y="2025360"/>
              <a:ext cx="1698120" cy="1697760"/>
              <a:chOff x="7058160" y="2025360"/>
              <a:chExt cx="1698120" cy="1697760"/>
            </a:xfrm>
          </p:grpSpPr>
          <p:sp>
            <p:nvSpPr>
              <p:cNvPr id="1092" name=""/>
              <p:cNvSpPr/>
              <p:nvPr/>
            </p:nvSpPr>
            <p:spPr>
              <a:xfrm rot="7498200">
                <a:off x="7297560" y="2264400"/>
                <a:ext cx="121932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rot="7498200">
                <a:off x="7408080" y="2370600"/>
                <a:ext cx="99756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7659000" y="2036880"/>
              <a:ext cx="373320" cy="310680"/>
              <a:chOff x="7659000" y="2036880"/>
              <a:chExt cx="373320" cy="310680"/>
            </a:xfrm>
          </p:grpSpPr>
          <p:sp>
            <p:nvSpPr>
              <p:cNvPr id="1095" name=""/>
              <p:cNvSpPr/>
              <p:nvPr/>
            </p:nvSpPr>
            <p:spPr>
              <a:xfrm rot="10703400">
                <a:off x="7860240" y="205596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rot="20043000">
                <a:off x="7707960" y="206028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7" name=""/>
            <p:cNvSpPr/>
            <p:nvPr/>
          </p:nvSpPr>
          <p:spPr>
            <a:xfrm rot="7498200">
              <a:off x="7364160" y="26881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7647840" y="2525760"/>
            <a:ext cx="1364040" cy="1334520"/>
            <a:chOff x="7647840" y="2525760"/>
            <a:chExt cx="1364040" cy="1334520"/>
          </a:xfrm>
        </p:grpSpPr>
        <p:grpSp>
          <p:nvGrpSpPr>
            <p:cNvPr id="1099" name=""/>
            <p:cNvGrpSpPr/>
            <p:nvPr/>
          </p:nvGrpSpPr>
          <p:grpSpPr>
            <a:xfrm>
              <a:off x="7647840" y="2545200"/>
              <a:ext cx="1315080" cy="1315080"/>
              <a:chOff x="7647840" y="2545200"/>
              <a:chExt cx="1315080" cy="1315080"/>
            </a:xfrm>
          </p:grpSpPr>
          <p:sp>
            <p:nvSpPr>
              <p:cNvPr id="1100" name=""/>
              <p:cNvSpPr/>
              <p:nvPr/>
            </p:nvSpPr>
            <p:spPr>
              <a:xfrm rot="10518000">
                <a:off x="7695360" y="2593080"/>
                <a:ext cx="1219320" cy="121896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rot="10518000">
                <a:off x="7806600" y="2699640"/>
                <a:ext cx="997560" cy="100692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2" name=""/>
            <p:cNvGrpSpPr/>
            <p:nvPr/>
          </p:nvGrpSpPr>
          <p:grpSpPr>
            <a:xfrm>
              <a:off x="8626680" y="2525760"/>
              <a:ext cx="385200" cy="418320"/>
              <a:chOff x="8626680" y="2525760"/>
              <a:chExt cx="385200" cy="418320"/>
            </a:xfrm>
          </p:grpSpPr>
          <p:sp>
            <p:nvSpPr>
              <p:cNvPr id="1103" name=""/>
              <p:cNvSpPr/>
              <p:nvPr/>
            </p:nvSpPr>
            <p:spPr>
              <a:xfrm rot="13723800">
                <a:off x="8773560" y="2662200"/>
                <a:ext cx="16776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rot="1462800">
                <a:off x="8673480" y="254844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5" name=""/>
            <p:cNvSpPr/>
            <p:nvPr/>
          </p:nvSpPr>
          <p:spPr>
            <a:xfrm rot="10518000">
              <a:off x="7769520" y="29754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7573320" y="2863440"/>
            <a:ext cx="1594080" cy="1593720"/>
            <a:chOff x="7573320" y="2863440"/>
            <a:chExt cx="1594080" cy="1593720"/>
          </a:xfrm>
        </p:grpSpPr>
        <p:grpSp>
          <p:nvGrpSpPr>
            <p:cNvPr id="1107" name=""/>
            <p:cNvGrpSpPr/>
            <p:nvPr/>
          </p:nvGrpSpPr>
          <p:grpSpPr>
            <a:xfrm>
              <a:off x="7573320" y="2863440"/>
              <a:ext cx="1594080" cy="1593720"/>
              <a:chOff x="7573320" y="2863440"/>
              <a:chExt cx="1594080" cy="1593720"/>
            </a:xfrm>
          </p:grpSpPr>
          <p:sp>
            <p:nvSpPr>
              <p:cNvPr id="1108" name=""/>
              <p:cNvSpPr/>
              <p:nvPr/>
            </p:nvSpPr>
            <p:spPr>
              <a:xfrm rot="14844600">
                <a:off x="7760880" y="305028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rot="14844600">
                <a:off x="7871400" y="315648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0" name=""/>
            <p:cNvGrpSpPr/>
            <p:nvPr/>
          </p:nvGrpSpPr>
          <p:grpSpPr>
            <a:xfrm>
              <a:off x="8773200" y="3830040"/>
              <a:ext cx="374400" cy="369720"/>
              <a:chOff x="8773200" y="3830040"/>
              <a:chExt cx="374400" cy="369720"/>
            </a:xfrm>
          </p:grpSpPr>
          <p:sp>
            <p:nvSpPr>
              <p:cNvPr id="1111" name=""/>
              <p:cNvSpPr/>
              <p:nvPr/>
            </p:nvSpPr>
            <p:spPr>
              <a:xfrm rot="18050400">
                <a:off x="8845200" y="3928320"/>
                <a:ext cx="16812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rot="5788800">
                <a:off x="8922960" y="3796920"/>
                <a:ext cx="16848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3" name=""/>
            <p:cNvSpPr/>
            <p:nvPr/>
          </p:nvSpPr>
          <p:spPr>
            <a:xfrm rot="14844600">
              <a:off x="7889400" y="341352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7535520" y="3260880"/>
            <a:ext cx="1560240" cy="1602000"/>
            <a:chOff x="7535520" y="3260880"/>
            <a:chExt cx="1560240" cy="1602000"/>
          </a:xfrm>
        </p:grpSpPr>
        <p:grpSp>
          <p:nvGrpSpPr>
            <p:cNvPr id="1115" name=""/>
            <p:cNvGrpSpPr/>
            <p:nvPr/>
          </p:nvGrpSpPr>
          <p:grpSpPr>
            <a:xfrm>
              <a:off x="7535520" y="3260880"/>
              <a:ext cx="1560240" cy="1559880"/>
              <a:chOff x="7535520" y="3260880"/>
              <a:chExt cx="1560240" cy="1559880"/>
            </a:xfrm>
          </p:grpSpPr>
          <p:sp>
            <p:nvSpPr>
              <p:cNvPr id="1116" name=""/>
              <p:cNvSpPr/>
              <p:nvPr/>
            </p:nvSpPr>
            <p:spPr>
              <a:xfrm rot="17389200">
                <a:off x="7706160" y="343080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17389200">
                <a:off x="7816680" y="353700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"/>
            <p:cNvGrpSpPr/>
            <p:nvPr/>
          </p:nvGrpSpPr>
          <p:grpSpPr>
            <a:xfrm>
              <a:off x="8340480" y="4513680"/>
              <a:ext cx="414360" cy="349200"/>
              <a:chOff x="8340480" y="4513680"/>
              <a:chExt cx="414360" cy="349200"/>
            </a:xfrm>
          </p:grpSpPr>
          <p:sp>
            <p:nvSpPr>
              <p:cNvPr id="1119" name=""/>
              <p:cNvSpPr/>
              <p:nvPr/>
            </p:nvSpPr>
            <p:spPr>
              <a:xfrm rot="20595000">
                <a:off x="8374680" y="4581000"/>
                <a:ext cx="16812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rot="8334000">
                <a:off x="8520480" y="4536360"/>
                <a:ext cx="16848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1" name=""/>
            <p:cNvSpPr/>
            <p:nvPr/>
          </p:nvSpPr>
          <p:spPr>
            <a:xfrm rot="17389200">
              <a:off x="7862760" y="381564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2" name=""/>
          <p:cNvSpPr/>
          <p:nvPr/>
        </p:nvSpPr>
        <p:spPr>
          <a:xfrm>
            <a:off x="762120" y="2232000"/>
            <a:ext cx="75960" cy="76320"/>
          </a:xfrm>
          <a:prstGeom prst="ellipse">
            <a:avLst/>
          </a:prstGeom>
          <a:solidFill>
            <a:srgbClr val="bfb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62120" y="2460600"/>
            <a:ext cx="75960" cy="76320"/>
          </a:xfrm>
          <a:prstGeom prst="ellipse">
            <a:avLst/>
          </a:prstGeom>
          <a:solidFill>
            <a:srgbClr val="bfb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62120" y="2765520"/>
            <a:ext cx="75960" cy="75960"/>
          </a:xfrm>
          <a:prstGeom prst="ellipse">
            <a:avLst/>
          </a:prstGeom>
          <a:solidFill>
            <a:srgbClr val="bfb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62120" y="3070080"/>
            <a:ext cx="75960" cy="76320"/>
          </a:xfrm>
          <a:prstGeom prst="ellipse">
            <a:avLst/>
          </a:prstGeom>
          <a:solidFill>
            <a:srgbClr val="bfb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6320" y="3222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131ff"/>
                </a:solidFill>
                <a:latin typeface="Times New Roman"/>
              </a:rPr>
              <a:t>IFN-</a:t>
            </a:r>
            <a:r>
              <a:rPr b="1" lang="es-ES_tradnl" sz="2000" spc="-1" strike="noStrike">
                <a:solidFill>
                  <a:srgbClr val="3131ff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914400" y="3298680"/>
            <a:ext cx="76320" cy="76320"/>
          </a:xfrm>
          <a:prstGeom prst="ellipse">
            <a:avLst/>
          </a:prstGeom>
          <a:solidFill>
            <a:srgbClr val="bfb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914400" y="3298680"/>
            <a:ext cx="76320" cy="76320"/>
          </a:xfrm>
          <a:prstGeom prst="ellipse">
            <a:avLst/>
          </a:prstGeom>
          <a:solidFill>
            <a:srgbClr val="ffeaff"/>
          </a:solidFill>
          <a:ln w="38160">
            <a:solidFill>
              <a:srgbClr val="ffe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9" name=""/>
          <p:cNvGrpSpPr/>
          <p:nvPr/>
        </p:nvGrpSpPr>
        <p:grpSpPr>
          <a:xfrm>
            <a:off x="914400" y="3298680"/>
            <a:ext cx="228600" cy="304560"/>
            <a:chOff x="914400" y="3298680"/>
            <a:chExt cx="228600" cy="304560"/>
          </a:xfrm>
        </p:grpSpPr>
        <p:sp>
          <p:nvSpPr>
            <p:cNvPr id="1130" name=""/>
            <p:cNvSpPr/>
            <p:nvPr/>
          </p:nvSpPr>
          <p:spPr>
            <a:xfrm>
              <a:off x="1066680" y="3298680"/>
              <a:ext cx="76320" cy="7596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914400" y="3527280"/>
              <a:ext cx="76320" cy="7596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990720" y="3298680"/>
            <a:ext cx="457200" cy="609480"/>
            <a:chOff x="990720" y="3298680"/>
            <a:chExt cx="457200" cy="609480"/>
          </a:xfrm>
        </p:grpSpPr>
        <p:sp>
          <p:nvSpPr>
            <p:cNvPr id="1133" name=""/>
            <p:cNvSpPr/>
            <p:nvPr/>
          </p:nvSpPr>
          <p:spPr>
            <a:xfrm>
              <a:off x="1371600" y="3298680"/>
              <a:ext cx="76320" cy="7596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990720" y="3831840"/>
              <a:ext cx="75960" cy="7632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5" name=""/>
          <p:cNvGrpSpPr/>
          <p:nvPr/>
        </p:nvGrpSpPr>
        <p:grpSpPr>
          <a:xfrm>
            <a:off x="1054080" y="3298680"/>
            <a:ext cx="698400" cy="863640"/>
            <a:chOff x="1054080" y="3298680"/>
            <a:chExt cx="698400" cy="863640"/>
          </a:xfrm>
        </p:grpSpPr>
        <p:sp>
          <p:nvSpPr>
            <p:cNvPr id="1136" name=""/>
            <p:cNvSpPr/>
            <p:nvPr/>
          </p:nvSpPr>
          <p:spPr>
            <a:xfrm>
              <a:off x="1676520" y="3298680"/>
              <a:ext cx="75960" cy="7596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054080" y="4086000"/>
              <a:ext cx="76320" cy="7632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8" name=""/>
          <p:cNvGrpSpPr/>
          <p:nvPr/>
        </p:nvGrpSpPr>
        <p:grpSpPr>
          <a:xfrm>
            <a:off x="336960" y="4957200"/>
            <a:ext cx="2374200" cy="1591920"/>
            <a:chOff x="336960" y="4957200"/>
            <a:chExt cx="2374200" cy="1591920"/>
          </a:xfrm>
        </p:grpSpPr>
        <p:sp>
          <p:nvSpPr>
            <p:cNvPr id="1139" name=""/>
            <p:cNvSpPr/>
            <p:nvPr/>
          </p:nvSpPr>
          <p:spPr>
            <a:xfrm rot="10579200">
              <a:off x="380880" y="5028840"/>
              <a:ext cx="2286000" cy="1447920"/>
            </a:xfrm>
            <a:custGeom>
              <a:avLst/>
              <a:gdLst/>
              <a:ahLst/>
              <a:rect l="l" t="t" r="r" b="b"/>
              <a:pathLst>
                <a:path w="1266" h="1133">
                  <a:moveTo>
                    <a:pt x="411" y="51"/>
                  </a:moveTo>
                  <a:cubicBezTo>
                    <a:pt x="423" y="110"/>
                    <a:pt x="433" y="139"/>
                    <a:pt x="493" y="158"/>
                  </a:cubicBezTo>
                  <a:cubicBezTo>
                    <a:pt x="518" y="155"/>
                    <a:pt x="543" y="155"/>
                    <a:pt x="567" y="150"/>
                  </a:cubicBezTo>
                  <a:cubicBezTo>
                    <a:pt x="584" y="147"/>
                    <a:pt x="616" y="134"/>
                    <a:pt x="616" y="134"/>
                  </a:cubicBezTo>
                  <a:cubicBezTo>
                    <a:pt x="635" y="115"/>
                    <a:pt x="655" y="103"/>
                    <a:pt x="674" y="84"/>
                  </a:cubicBezTo>
                  <a:cubicBezTo>
                    <a:pt x="762" y="90"/>
                    <a:pt x="789" y="71"/>
                    <a:pt x="830" y="134"/>
                  </a:cubicBezTo>
                  <a:cubicBezTo>
                    <a:pt x="842" y="184"/>
                    <a:pt x="823" y="226"/>
                    <a:pt x="805" y="273"/>
                  </a:cubicBezTo>
                  <a:cubicBezTo>
                    <a:pt x="815" y="310"/>
                    <a:pt x="814" y="326"/>
                    <a:pt x="846" y="347"/>
                  </a:cubicBezTo>
                  <a:cubicBezTo>
                    <a:pt x="914" y="325"/>
                    <a:pt x="875" y="292"/>
                    <a:pt x="929" y="257"/>
                  </a:cubicBezTo>
                  <a:cubicBezTo>
                    <a:pt x="965" y="261"/>
                    <a:pt x="1011" y="247"/>
                    <a:pt x="1036" y="273"/>
                  </a:cubicBezTo>
                  <a:cubicBezTo>
                    <a:pt x="1084" y="322"/>
                    <a:pt x="1089" y="401"/>
                    <a:pt x="1109" y="462"/>
                  </a:cubicBezTo>
                  <a:cubicBezTo>
                    <a:pt x="1116" y="483"/>
                    <a:pt x="1188" y="491"/>
                    <a:pt x="1208" y="495"/>
                  </a:cubicBezTo>
                  <a:cubicBezTo>
                    <a:pt x="1240" y="520"/>
                    <a:pt x="1253" y="532"/>
                    <a:pt x="1266" y="569"/>
                  </a:cubicBezTo>
                  <a:cubicBezTo>
                    <a:pt x="1254" y="622"/>
                    <a:pt x="1248" y="637"/>
                    <a:pt x="1216" y="684"/>
                  </a:cubicBezTo>
                  <a:cubicBezTo>
                    <a:pt x="1201" y="706"/>
                    <a:pt x="1144" y="732"/>
                    <a:pt x="1118" y="750"/>
                  </a:cubicBezTo>
                  <a:cubicBezTo>
                    <a:pt x="1076" y="871"/>
                    <a:pt x="1080" y="1016"/>
                    <a:pt x="962" y="1095"/>
                  </a:cubicBezTo>
                  <a:cubicBezTo>
                    <a:pt x="912" y="1079"/>
                    <a:pt x="882" y="1049"/>
                    <a:pt x="846" y="1013"/>
                  </a:cubicBezTo>
                  <a:cubicBezTo>
                    <a:pt x="829" y="996"/>
                    <a:pt x="781" y="980"/>
                    <a:pt x="781" y="980"/>
                  </a:cubicBezTo>
                  <a:cubicBezTo>
                    <a:pt x="530" y="991"/>
                    <a:pt x="666" y="981"/>
                    <a:pt x="518" y="1029"/>
                  </a:cubicBezTo>
                  <a:cubicBezTo>
                    <a:pt x="489" y="1058"/>
                    <a:pt x="468" y="1065"/>
                    <a:pt x="427" y="1079"/>
                  </a:cubicBezTo>
                  <a:cubicBezTo>
                    <a:pt x="411" y="1095"/>
                    <a:pt x="400" y="1133"/>
                    <a:pt x="378" y="1128"/>
                  </a:cubicBezTo>
                  <a:cubicBezTo>
                    <a:pt x="345" y="1120"/>
                    <a:pt x="312" y="1111"/>
                    <a:pt x="279" y="1103"/>
                  </a:cubicBezTo>
                  <a:cubicBezTo>
                    <a:pt x="222" y="1065"/>
                    <a:pt x="241" y="1086"/>
                    <a:pt x="214" y="1046"/>
                  </a:cubicBezTo>
                  <a:cubicBezTo>
                    <a:pt x="222" y="920"/>
                    <a:pt x="261" y="833"/>
                    <a:pt x="164" y="742"/>
                  </a:cubicBezTo>
                  <a:cubicBezTo>
                    <a:pt x="153" y="708"/>
                    <a:pt x="136" y="695"/>
                    <a:pt x="107" y="676"/>
                  </a:cubicBezTo>
                  <a:cubicBezTo>
                    <a:pt x="69" y="620"/>
                    <a:pt x="21" y="594"/>
                    <a:pt x="0" y="528"/>
                  </a:cubicBezTo>
                  <a:cubicBezTo>
                    <a:pt x="3" y="501"/>
                    <a:pt x="2" y="473"/>
                    <a:pt x="8" y="446"/>
                  </a:cubicBezTo>
                  <a:cubicBezTo>
                    <a:pt x="22" y="387"/>
                    <a:pt x="167" y="379"/>
                    <a:pt x="214" y="364"/>
                  </a:cubicBezTo>
                  <a:cubicBezTo>
                    <a:pt x="263" y="312"/>
                    <a:pt x="226" y="236"/>
                    <a:pt x="214" y="175"/>
                  </a:cubicBezTo>
                  <a:cubicBezTo>
                    <a:pt x="222" y="73"/>
                    <a:pt x="207" y="31"/>
                    <a:pt x="312" y="10"/>
                  </a:cubicBezTo>
                  <a:cubicBezTo>
                    <a:pt x="351" y="14"/>
                    <a:pt x="411" y="0"/>
                    <a:pt x="411" y="51"/>
                  </a:cubicBez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rot="20424000">
              <a:off x="1478520" y="5721480"/>
              <a:ext cx="445320" cy="251280"/>
            </a:xfrm>
            <a:prstGeom prst="ellipse">
              <a:avLst/>
            </a:prstGeom>
            <a:solidFill>
              <a:srgbClr val="985a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1143000" y="3301920"/>
            <a:ext cx="927000" cy="1117800"/>
            <a:chOff x="1143000" y="3301920"/>
            <a:chExt cx="927000" cy="1117800"/>
          </a:xfrm>
        </p:grpSpPr>
        <p:sp>
          <p:nvSpPr>
            <p:cNvPr id="1142" name=""/>
            <p:cNvSpPr/>
            <p:nvPr/>
          </p:nvSpPr>
          <p:spPr>
            <a:xfrm>
              <a:off x="1994040" y="3301920"/>
              <a:ext cx="75960" cy="7632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143000" y="4343400"/>
              <a:ext cx="76320" cy="7632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1244520" y="3314880"/>
            <a:ext cx="1117800" cy="1358640"/>
            <a:chOff x="1244520" y="3314880"/>
            <a:chExt cx="1117800" cy="1358640"/>
          </a:xfrm>
        </p:grpSpPr>
        <p:sp>
          <p:nvSpPr>
            <p:cNvPr id="1145" name=""/>
            <p:cNvSpPr/>
            <p:nvPr/>
          </p:nvSpPr>
          <p:spPr>
            <a:xfrm>
              <a:off x="2286000" y="3314880"/>
              <a:ext cx="76320" cy="7596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244520" y="4597560"/>
              <a:ext cx="76320" cy="7596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1320840" y="3327480"/>
            <a:ext cx="1346040" cy="1574640"/>
            <a:chOff x="1320840" y="3327480"/>
            <a:chExt cx="1346040" cy="1574640"/>
          </a:xfrm>
        </p:grpSpPr>
        <p:sp>
          <p:nvSpPr>
            <p:cNvPr id="1148" name=""/>
            <p:cNvSpPr/>
            <p:nvPr/>
          </p:nvSpPr>
          <p:spPr>
            <a:xfrm>
              <a:off x="2590920" y="3327480"/>
              <a:ext cx="75960" cy="7596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320840" y="4826160"/>
              <a:ext cx="76320" cy="7596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0" name=""/>
          <p:cNvGrpSpPr/>
          <p:nvPr/>
        </p:nvGrpSpPr>
        <p:grpSpPr>
          <a:xfrm>
            <a:off x="1409760" y="3352680"/>
            <a:ext cx="1562040" cy="1803600"/>
            <a:chOff x="1409760" y="3352680"/>
            <a:chExt cx="1562040" cy="1803600"/>
          </a:xfrm>
        </p:grpSpPr>
        <p:sp>
          <p:nvSpPr>
            <p:cNvPr id="1151" name=""/>
            <p:cNvSpPr/>
            <p:nvPr/>
          </p:nvSpPr>
          <p:spPr>
            <a:xfrm>
              <a:off x="2895480" y="3352680"/>
              <a:ext cx="76320" cy="7632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409760" y="5079960"/>
              <a:ext cx="76320" cy="7632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41400" y="4417560"/>
            <a:ext cx="2813040" cy="2527560"/>
            <a:chOff x="41400" y="4417560"/>
            <a:chExt cx="2813040" cy="2527560"/>
          </a:xfrm>
        </p:grpSpPr>
        <p:sp>
          <p:nvSpPr>
            <p:cNvPr id="1154" name=""/>
            <p:cNvSpPr/>
            <p:nvPr/>
          </p:nvSpPr>
          <p:spPr>
            <a:xfrm rot="10579200">
              <a:off x="114480" y="4500360"/>
              <a:ext cx="2666880" cy="2361600"/>
            </a:xfrm>
            <a:custGeom>
              <a:avLst/>
              <a:gdLst/>
              <a:ahLst/>
              <a:rect l="l" t="t" r="r" b="b"/>
              <a:pathLst>
                <a:path w="1266" h="1133">
                  <a:moveTo>
                    <a:pt x="411" y="51"/>
                  </a:moveTo>
                  <a:cubicBezTo>
                    <a:pt x="423" y="110"/>
                    <a:pt x="433" y="139"/>
                    <a:pt x="493" y="158"/>
                  </a:cubicBezTo>
                  <a:cubicBezTo>
                    <a:pt x="518" y="155"/>
                    <a:pt x="543" y="155"/>
                    <a:pt x="567" y="150"/>
                  </a:cubicBezTo>
                  <a:cubicBezTo>
                    <a:pt x="584" y="147"/>
                    <a:pt x="616" y="134"/>
                    <a:pt x="616" y="134"/>
                  </a:cubicBezTo>
                  <a:cubicBezTo>
                    <a:pt x="635" y="115"/>
                    <a:pt x="655" y="103"/>
                    <a:pt x="674" y="84"/>
                  </a:cubicBezTo>
                  <a:cubicBezTo>
                    <a:pt x="762" y="90"/>
                    <a:pt x="789" y="71"/>
                    <a:pt x="830" y="134"/>
                  </a:cubicBezTo>
                  <a:cubicBezTo>
                    <a:pt x="842" y="184"/>
                    <a:pt x="823" y="226"/>
                    <a:pt x="805" y="273"/>
                  </a:cubicBezTo>
                  <a:cubicBezTo>
                    <a:pt x="815" y="310"/>
                    <a:pt x="814" y="326"/>
                    <a:pt x="846" y="347"/>
                  </a:cubicBezTo>
                  <a:cubicBezTo>
                    <a:pt x="914" y="325"/>
                    <a:pt x="875" y="292"/>
                    <a:pt x="929" y="257"/>
                  </a:cubicBezTo>
                  <a:cubicBezTo>
                    <a:pt x="965" y="261"/>
                    <a:pt x="1011" y="247"/>
                    <a:pt x="1036" y="273"/>
                  </a:cubicBezTo>
                  <a:cubicBezTo>
                    <a:pt x="1084" y="322"/>
                    <a:pt x="1089" y="401"/>
                    <a:pt x="1109" y="462"/>
                  </a:cubicBezTo>
                  <a:cubicBezTo>
                    <a:pt x="1116" y="483"/>
                    <a:pt x="1188" y="491"/>
                    <a:pt x="1208" y="495"/>
                  </a:cubicBezTo>
                  <a:cubicBezTo>
                    <a:pt x="1240" y="520"/>
                    <a:pt x="1253" y="532"/>
                    <a:pt x="1266" y="569"/>
                  </a:cubicBezTo>
                  <a:cubicBezTo>
                    <a:pt x="1254" y="622"/>
                    <a:pt x="1248" y="637"/>
                    <a:pt x="1216" y="684"/>
                  </a:cubicBezTo>
                  <a:cubicBezTo>
                    <a:pt x="1201" y="706"/>
                    <a:pt x="1144" y="732"/>
                    <a:pt x="1118" y="750"/>
                  </a:cubicBezTo>
                  <a:cubicBezTo>
                    <a:pt x="1076" y="871"/>
                    <a:pt x="1080" y="1016"/>
                    <a:pt x="962" y="1095"/>
                  </a:cubicBezTo>
                  <a:cubicBezTo>
                    <a:pt x="912" y="1079"/>
                    <a:pt x="882" y="1049"/>
                    <a:pt x="846" y="1013"/>
                  </a:cubicBezTo>
                  <a:cubicBezTo>
                    <a:pt x="829" y="996"/>
                    <a:pt x="781" y="980"/>
                    <a:pt x="781" y="980"/>
                  </a:cubicBezTo>
                  <a:cubicBezTo>
                    <a:pt x="530" y="991"/>
                    <a:pt x="666" y="981"/>
                    <a:pt x="518" y="1029"/>
                  </a:cubicBezTo>
                  <a:cubicBezTo>
                    <a:pt x="489" y="1058"/>
                    <a:pt x="468" y="1065"/>
                    <a:pt x="427" y="1079"/>
                  </a:cubicBezTo>
                  <a:cubicBezTo>
                    <a:pt x="411" y="1095"/>
                    <a:pt x="400" y="1133"/>
                    <a:pt x="378" y="1128"/>
                  </a:cubicBezTo>
                  <a:cubicBezTo>
                    <a:pt x="345" y="1120"/>
                    <a:pt x="312" y="1111"/>
                    <a:pt x="279" y="1103"/>
                  </a:cubicBezTo>
                  <a:cubicBezTo>
                    <a:pt x="222" y="1065"/>
                    <a:pt x="241" y="1086"/>
                    <a:pt x="214" y="1046"/>
                  </a:cubicBezTo>
                  <a:cubicBezTo>
                    <a:pt x="222" y="920"/>
                    <a:pt x="261" y="833"/>
                    <a:pt x="164" y="742"/>
                  </a:cubicBezTo>
                  <a:cubicBezTo>
                    <a:pt x="153" y="708"/>
                    <a:pt x="136" y="695"/>
                    <a:pt x="107" y="676"/>
                  </a:cubicBezTo>
                  <a:cubicBezTo>
                    <a:pt x="69" y="620"/>
                    <a:pt x="21" y="594"/>
                    <a:pt x="0" y="528"/>
                  </a:cubicBezTo>
                  <a:cubicBezTo>
                    <a:pt x="3" y="501"/>
                    <a:pt x="2" y="473"/>
                    <a:pt x="8" y="446"/>
                  </a:cubicBezTo>
                  <a:cubicBezTo>
                    <a:pt x="22" y="387"/>
                    <a:pt x="167" y="379"/>
                    <a:pt x="214" y="364"/>
                  </a:cubicBezTo>
                  <a:cubicBezTo>
                    <a:pt x="263" y="312"/>
                    <a:pt x="226" y="236"/>
                    <a:pt x="214" y="175"/>
                  </a:cubicBezTo>
                  <a:cubicBezTo>
                    <a:pt x="222" y="73"/>
                    <a:pt x="207" y="31"/>
                    <a:pt x="312" y="10"/>
                  </a:cubicBezTo>
                  <a:cubicBezTo>
                    <a:pt x="351" y="14"/>
                    <a:pt x="411" y="0"/>
                    <a:pt x="411" y="51"/>
                  </a:cubicBezTo>
                  <a:close/>
                </a:path>
              </a:pathLst>
            </a:custGeom>
            <a:solidFill>
              <a:srgbClr val="ffeaff"/>
            </a:solidFill>
            <a:ln w="9360">
              <a:solidFill>
                <a:srgbClr val="ffea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rot="20424000">
              <a:off x="1395000" y="5630040"/>
              <a:ext cx="519840" cy="41004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6" name=""/>
          <p:cNvGrpSpPr/>
          <p:nvPr/>
        </p:nvGrpSpPr>
        <p:grpSpPr>
          <a:xfrm>
            <a:off x="268200" y="3886200"/>
            <a:ext cx="3313080" cy="2454120"/>
            <a:chOff x="268200" y="3886200"/>
            <a:chExt cx="3313080" cy="2454120"/>
          </a:xfrm>
        </p:grpSpPr>
        <p:sp>
          <p:nvSpPr>
            <p:cNvPr id="1157" name=""/>
            <p:cNvSpPr/>
            <p:nvPr/>
          </p:nvSpPr>
          <p:spPr>
            <a:xfrm>
              <a:off x="268200" y="3886200"/>
              <a:ext cx="3313080" cy="2454120"/>
            </a:xfrm>
            <a:custGeom>
              <a:avLst/>
              <a:gdLst/>
              <a:ahLst/>
              <a:rect l="l" t="t" r="r" b="b"/>
              <a:pathLst>
                <a:path w="1533" h="1416">
                  <a:moveTo>
                    <a:pt x="134" y="781"/>
                  </a:moveTo>
                  <a:cubicBezTo>
                    <a:pt x="122" y="841"/>
                    <a:pt x="136" y="812"/>
                    <a:pt x="84" y="863"/>
                  </a:cubicBezTo>
                  <a:cubicBezTo>
                    <a:pt x="70" y="877"/>
                    <a:pt x="35" y="896"/>
                    <a:pt x="35" y="896"/>
                  </a:cubicBezTo>
                  <a:cubicBezTo>
                    <a:pt x="0" y="949"/>
                    <a:pt x="42" y="974"/>
                    <a:pt x="84" y="1002"/>
                  </a:cubicBezTo>
                  <a:cubicBezTo>
                    <a:pt x="136" y="996"/>
                    <a:pt x="200" y="978"/>
                    <a:pt x="241" y="1019"/>
                  </a:cubicBezTo>
                  <a:cubicBezTo>
                    <a:pt x="261" y="1099"/>
                    <a:pt x="248" y="1133"/>
                    <a:pt x="175" y="1159"/>
                  </a:cubicBezTo>
                  <a:cubicBezTo>
                    <a:pt x="153" y="1179"/>
                    <a:pt x="134" y="1200"/>
                    <a:pt x="117" y="1224"/>
                  </a:cubicBezTo>
                  <a:cubicBezTo>
                    <a:pt x="114" y="1232"/>
                    <a:pt x="109" y="1240"/>
                    <a:pt x="109" y="1249"/>
                  </a:cubicBezTo>
                  <a:cubicBezTo>
                    <a:pt x="109" y="1276"/>
                    <a:pt x="111" y="1304"/>
                    <a:pt x="117" y="1331"/>
                  </a:cubicBezTo>
                  <a:cubicBezTo>
                    <a:pt x="135" y="1407"/>
                    <a:pt x="271" y="1408"/>
                    <a:pt x="323" y="1413"/>
                  </a:cubicBezTo>
                  <a:cubicBezTo>
                    <a:pt x="371" y="1407"/>
                    <a:pt x="382" y="1416"/>
                    <a:pt x="413" y="1389"/>
                  </a:cubicBezTo>
                  <a:cubicBezTo>
                    <a:pt x="428" y="1376"/>
                    <a:pt x="454" y="1348"/>
                    <a:pt x="454" y="1348"/>
                  </a:cubicBezTo>
                  <a:cubicBezTo>
                    <a:pt x="472" y="1298"/>
                    <a:pt x="451" y="1266"/>
                    <a:pt x="504" y="1249"/>
                  </a:cubicBezTo>
                  <a:cubicBezTo>
                    <a:pt x="520" y="1254"/>
                    <a:pt x="537" y="1260"/>
                    <a:pt x="553" y="1265"/>
                  </a:cubicBezTo>
                  <a:cubicBezTo>
                    <a:pt x="560" y="1267"/>
                    <a:pt x="562" y="1278"/>
                    <a:pt x="569" y="1282"/>
                  </a:cubicBezTo>
                  <a:cubicBezTo>
                    <a:pt x="576" y="1287"/>
                    <a:pt x="586" y="1287"/>
                    <a:pt x="594" y="1290"/>
                  </a:cubicBezTo>
                  <a:cubicBezTo>
                    <a:pt x="624" y="1320"/>
                    <a:pt x="653" y="1343"/>
                    <a:pt x="693" y="1356"/>
                  </a:cubicBezTo>
                  <a:cubicBezTo>
                    <a:pt x="726" y="1389"/>
                    <a:pt x="763" y="1404"/>
                    <a:pt x="808" y="1413"/>
                  </a:cubicBezTo>
                  <a:cubicBezTo>
                    <a:pt x="879" y="1403"/>
                    <a:pt x="877" y="1400"/>
                    <a:pt x="923" y="1356"/>
                  </a:cubicBezTo>
                  <a:cubicBezTo>
                    <a:pt x="948" y="1279"/>
                    <a:pt x="934" y="1333"/>
                    <a:pt x="947" y="1249"/>
                  </a:cubicBezTo>
                  <a:cubicBezTo>
                    <a:pt x="951" y="1224"/>
                    <a:pt x="948" y="1195"/>
                    <a:pt x="964" y="1175"/>
                  </a:cubicBezTo>
                  <a:cubicBezTo>
                    <a:pt x="981" y="1154"/>
                    <a:pt x="1017" y="1154"/>
                    <a:pt x="1038" y="1150"/>
                  </a:cubicBezTo>
                  <a:cubicBezTo>
                    <a:pt x="1095" y="1122"/>
                    <a:pt x="1096" y="1126"/>
                    <a:pt x="1169" y="1134"/>
                  </a:cubicBezTo>
                  <a:cubicBezTo>
                    <a:pt x="1200" y="1154"/>
                    <a:pt x="1201" y="1161"/>
                    <a:pt x="1219" y="1191"/>
                  </a:cubicBezTo>
                  <a:cubicBezTo>
                    <a:pt x="1231" y="1210"/>
                    <a:pt x="1254" y="1223"/>
                    <a:pt x="1268" y="1241"/>
                  </a:cubicBezTo>
                  <a:cubicBezTo>
                    <a:pt x="1298" y="1279"/>
                    <a:pt x="1327" y="1311"/>
                    <a:pt x="1375" y="1323"/>
                  </a:cubicBezTo>
                  <a:cubicBezTo>
                    <a:pt x="1438" y="1316"/>
                    <a:pt x="1457" y="1314"/>
                    <a:pt x="1506" y="1282"/>
                  </a:cubicBezTo>
                  <a:cubicBezTo>
                    <a:pt x="1513" y="1262"/>
                    <a:pt x="1530" y="1245"/>
                    <a:pt x="1531" y="1224"/>
                  </a:cubicBezTo>
                  <a:cubicBezTo>
                    <a:pt x="1533" y="1175"/>
                    <a:pt x="1530" y="1125"/>
                    <a:pt x="1523" y="1076"/>
                  </a:cubicBezTo>
                  <a:cubicBezTo>
                    <a:pt x="1519" y="1050"/>
                    <a:pt x="1483" y="1025"/>
                    <a:pt x="1465" y="1011"/>
                  </a:cubicBezTo>
                  <a:cubicBezTo>
                    <a:pt x="1436" y="988"/>
                    <a:pt x="1423" y="958"/>
                    <a:pt x="1383" y="945"/>
                  </a:cubicBezTo>
                  <a:cubicBezTo>
                    <a:pt x="1332" y="929"/>
                    <a:pt x="1280" y="902"/>
                    <a:pt x="1227" y="896"/>
                  </a:cubicBezTo>
                  <a:cubicBezTo>
                    <a:pt x="1189" y="892"/>
                    <a:pt x="1150" y="891"/>
                    <a:pt x="1112" y="887"/>
                  </a:cubicBezTo>
                  <a:cubicBezTo>
                    <a:pt x="1093" y="885"/>
                    <a:pt x="1073" y="882"/>
                    <a:pt x="1054" y="879"/>
                  </a:cubicBezTo>
                  <a:cubicBezTo>
                    <a:pt x="1015" y="866"/>
                    <a:pt x="992" y="842"/>
                    <a:pt x="964" y="813"/>
                  </a:cubicBezTo>
                  <a:cubicBezTo>
                    <a:pt x="944" y="756"/>
                    <a:pt x="952" y="780"/>
                    <a:pt x="939" y="739"/>
                  </a:cubicBezTo>
                  <a:cubicBezTo>
                    <a:pt x="942" y="711"/>
                    <a:pt x="944" y="646"/>
                    <a:pt x="964" y="616"/>
                  </a:cubicBezTo>
                  <a:cubicBezTo>
                    <a:pt x="975" y="600"/>
                    <a:pt x="993" y="591"/>
                    <a:pt x="1005" y="575"/>
                  </a:cubicBezTo>
                  <a:cubicBezTo>
                    <a:pt x="1036" y="534"/>
                    <a:pt x="1064" y="490"/>
                    <a:pt x="1087" y="444"/>
                  </a:cubicBezTo>
                  <a:cubicBezTo>
                    <a:pt x="1095" y="392"/>
                    <a:pt x="1105" y="340"/>
                    <a:pt x="1112" y="287"/>
                  </a:cubicBezTo>
                  <a:cubicBezTo>
                    <a:pt x="1108" y="168"/>
                    <a:pt x="1154" y="41"/>
                    <a:pt x="1030" y="0"/>
                  </a:cubicBezTo>
                  <a:cubicBezTo>
                    <a:pt x="987" y="8"/>
                    <a:pt x="984" y="12"/>
                    <a:pt x="956" y="41"/>
                  </a:cubicBezTo>
                  <a:cubicBezTo>
                    <a:pt x="950" y="57"/>
                    <a:pt x="945" y="74"/>
                    <a:pt x="939" y="90"/>
                  </a:cubicBezTo>
                  <a:cubicBezTo>
                    <a:pt x="936" y="98"/>
                    <a:pt x="931" y="115"/>
                    <a:pt x="931" y="115"/>
                  </a:cubicBezTo>
                  <a:cubicBezTo>
                    <a:pt x="929" y="133"/>
                    <a:pt x="920" y="239"/>
                    <a:pt x="915" y="263"/>
                  </a:cubicBezTo>
                  <a:cubicBezTo>
                    <a:pt x="910" y="291"/>
                    <a:pt x="873" y="337"/>
                    <a:pt x="873" y="337"/>
                  </a:cubicBezTo>
                  <a:cubicBezTo>
                    <a:pt x="860" y="375"/>
                    <a:pt x="838" y="389"/>
                    <a:pt x="800" y="402"/>
                  </a:cubicBezTo>
                  <a:cubicBezTo>
                    <a:pt x="792" y="399"/>
                    <a:pt x="783" y="396"/>
                    <a:pt x="775" y="394"/>
                  </a:cubicBezTo>
                  <a:cubicBezTo>
                    <a:pt x="764" y="391"/>
                    <a:pt x="753" y="389"/>
                    <a:pt x="742" y="386"/>
                  </a:cubicBezTo>
                  <a:cubicBezTo>
                    <a:pt x="726" y="381"/>
                    <a:pt x="693" y="370"/>
                    <a:pt x="693" y="370"/>
                  </a:cubicBezTo>
                  <a:cubicBezTo>
                    <a:pt x="636" y="332"/>
                    <a:pt x="662" y="343"/>
                    <a:pt x="619" y="329"/>
                  </a:cubicBezTo>
                  <a:cubicBezTo>
                    <a:pt x="478" y="340"/>
                    <a:pt x="527" y="318"/>
                    <a:pt x="454" y="386"/>
                  </a:cubicBezTo>
                  <a:cubicBezTo>
                    <a:pt x="445" y="415"/>
                    <a:pt x="436" y="439"/>
                    <a:pt x="413" y="460"/>
                  </a:cubicBezTo>
                  <a:cubicBezTo>
                    <a:pt x="388" y="537"/>
                    <a:pt x="324" y="599"/>
                    <a:pt x="265" y="649"/>
                  </a:cubicBezTo>
                  <a:cubicBezTo>
                    <a:pt x="256" y="656"/>
                    <a:pt x="251" y="668"/>
                    <a:pt x="241" y="674"/>
                  </a:cubicBezTo>
                  <a:cubicBezTo>
                    <a:pt x="234" y="679"/>
                    <a:pt x="224" y="678"/>
                    <a:pt x="216" y="682"/>
                  </a:cubicBezTo>
                  <a:cubicBezTo>
                    <a:pt x="183" y="698"/>
                    <a:pt x="151" y="721"/>
                    <a:pt x="126" y="748"/>
                  </a:cubicBezTo>
                  <a:cubicBezTo>
                    <a:pt x="115" y="778"/>
                    <a:pt x="109" y="768"/>
                    <a:pt x="134" y="781"/>
                  </a:cubicBezTo>
                  <a:close/>
                </a:path>
              </a:pathLst>
            </a:custGeom>
            <a:solidFill>
              <a:srgbClr val="be71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rot="20424000">
              <a:off x="1123920" y="5333760"/>
              <a:ext cx="749160" cy="355320"/>
            </a:xfrm>
            <a:prstGeom prst="ellipse">
              <a:avLst/>
            </a:prstGeom>
            <a:solidFill>
              <a:srgbClr val="985a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9" name=""/>
          <p:cNvGrpSpPr/>
          <p:nvPr/>
        </p:nvGrpSpPr>
        <p:grpSpPr>
          <a:xfrm>
            <a:off x="3172320" y="2023560"/>
            <a:ext cx="327600" cy="536040"/>
            <a:chOff x="3172320" y="2023560"/>
            <a:chExt cx="327600" cy="536040"/>
          </a:xfrm>
        </p:grpSpPr>
        <p:grpSp>
          <p:nvGrpSpPr>
            <p:cNvPr id="1160" name=""/>
            <p:cNvGrpSpPr/>
            <p:nvPr/>
          </p:nvGrpSpPr>
          <p:grpSpPr>
            <a:xfrm>
              <a:off x="3172320" y="2135520"/>
              <a:ext cx="327600" cy="424080"/>
              <a:chOff x="3172320" y="2135520"/>
              <a:chExt cx="327600" cy="424080"/>
            </a:xfrm>
          </p:grpSpPr>
          <p:sp>
            <p:nvSpPr>
              <p:cNvPr id="1161" name=""/>
              <p:cNvSpPr/>
              <p:nvPr/>
            </p:nvSpPr>
            <p:spPr>
              <a:xfrm rot="20966400">
                <a:off x="3205080" y="215604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rot="20966400">
                <a:off x="3327480" y="2309400"/>
                <a:ext cx="16056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3" name=""/>
            <p:cNvSpPr/>
            <p:nvPr/>
          </p:nvSpPr>
          <p:spPr>
            <a:xfrm rot="8538600">
              <a:off x="3237480" y="2058840"/>
              <a:ext cx="16056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4124160" y="2087280"/>
            <a:ext cx="259200" cy="489240"/>
            <a:chOff x="4124160" y="2087280"/>
            <a:chExt cx="259200" cy="489240"/>
          </a:xfrm>
        </p:grpSpPr>
        <p:grpSp>
          <p:nvGrpSpPr>
            <p:cNvPr id="1165" name=""/>
            <p:cNvGrpSpPr/>
            <p:nvPr/>
          </p:nvGrpSpPr>
          <p:grpSpPr>
            <a:xfrm>
              <a:off x="4124160" y="2178000"/>
              <a:ext cx="259200" cy="398520"/>
              <a:chOff x="4124160" y="2178000"/>
              <a:chExt cx="259200" cy="398520"/>
            </a:xfrm>
          </p:grpSpPr>
          <p:sp>
            <p:nvSpPr>
              <p:cNvPr id="1166" name=""/>
              <p:cNvSpPr/>
              <p:nvPr/>
            </p:nvSpPr>
            <p:spPr>
              <a:xfrm rot="286800">
                <a:off x="4139640" y="2182320"/>
                <a:ext cx="124920" cy="380880"/>
              </a:xfrm>
              <a:custGeom>
                <a:avLst/>
                <a:gdLst/>
                <a:ahLst/>
                <a:rect l="l" t="t" r="r" b="b"/>
                <a:pathLst>
                  <a:path w="155" h="396">
                    <a:moveTo>
                      <a:pt x="13" y="202"/>
                    </a:moveTo>
                    <a:cubicBezTo>
                      <a:pt x="10" y="158"/>
                      <a:pt x="5" y="115"/>
                      <a:pt x="5" y="71"/>
                    </a:cubicBezTo>
                    <a:cubicBezTo>
                      <a:pt x="5" y="51"/>
                      <a:pt x="0" y="28"/>
                      <a:pt x="13" y="13"/>
                    </a:cubicBezTo>
                    <a:cubicBezTo>
                      <a:pt x="24" y="0"/>
                      <a:pt x="46" y="8"/>
                      <a:pt x="62" y="5"/>
                    </a:cubicBezTo>
                    <a:cubicBezTo>
                      <a:pt x="75" y="45"/>
                      <a:pt x="84" y="71"/>
                      <a:pt x="120" y="96"/>
                    </a:cubicBezTo>
                    <a:cubicBezTo>
                      <a:pt x="155" y="148"/>
                      <a:pt x="122" y="161"/>
                      <a:pt x="95" y="202"/>
                    </a:cubicBezTo>
                    <a:cubicBezTo>
                      <a:pt x="92" y="210"/>
                      <a:pt x="92" y="220"/>
                      <a:pt x="87" y="227"/>
                    </a:cubicBezTo>
                    <a:cubicBezTo>
                      <a:pt x="83" y="234"/>
                      <a:pt x="73" y="236"/>
                      <a:pt x="70" y="243"/>
                    </a:cubicBezTo>
                    <a:cubicBezTo>
                      <a:pt x="51" y="282"/>
                      <a:pt x="58" y="305"/>
                      <a:pt x="29" y="334"/>
                    </a:cubicBezTo>
                    <a:cubicBezTo>
                      <a:pt x="26" y="353"/>
                      <a:pt x="39" y="385"/>
                      <a:pt x="21" y="391"/>
                    </a:cubicBezTo>
                    <a:cubicBezTo>
                      <a:pt x="5" y="396"/>
                      <a:pt x="5" y="342"/>
                      <a:pt x="5" y="342"/>
                    </a:cubicBezTo>
                    <a:cubicBezTo>
                      <a:pt x="13" y="287"/>
                      <a:pt x="22" y="257"/>
                      <a:pt x="13" y="20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H="1" rot="286800">
                <a:off x="4264200" y="2192040"/>
                <a:ext cx="103320" cy="380880"/>
              </a:xfrm>
              <a:custGeom>
                <a:avLst/>
                <a:gdLst/>
                <a:ahLst/>
                <a:rect l="l" t="t" r="r" b="b"/>
                <a:pathLst>
                  <a:path w="155" h="396">
                    <a:moveTo>
                      <a:pt x="13" y="202"/>
                    </a:moveTo>
                    <a:cubicBezTo>
                      <a:pt x="10" y="158"/>
                      <a:pt x="5" y="115"/>
                      <a:pt x="5" y="71"/>
                    </a:cubicBezTo>
                    <a:cubicBezTo>
                      <a:pt x="5" y="51"/>
                      <a:pt x="0" y="28"/>
                      <a:pt x="13" y="13"/>
                    </a:cubicBezTo>
                    <a:cubicBezTo>
                      <a:pt x="24" y="0"/>
                      <a:pt x="46" y="8"/>
                      <a:pt x="62" y="5"/>
                    </a:cubicBezTo>
                    <a:cubicBezTo>
                      <a:pt x="75" y="45"/>
                      <a:pt x="84" y="71"/>
                      <a:pt x="120" y="96"/>
                    </a:cubicBezTo>
                    <a:cubicBezTo>
                      <a:pt x="155" y="148"/>
                      <a:pt x="122" y="161"/>
                      <a:pt x="95" y="202"/>
                    </a:cubicBezTo>
                    <a:cubicBezTo>
                      <a:pt x="92" y="210"/>
                      <a:pt x="92" y="220"/>
                      <a:pt x="87" y="227"/>
                    </a:cubicBezTo>
                    <a:cubicBezTo>
                      <a:pt x="83" y="234"/>
                      <a:pt x="73" y="236"/>
                      <a:pt x="70" y="243"/>
                    </a:cubicBezTo>
                    <a:cubicBezTo>
                      <a:pt x="51" y="282"/>
                      <a:pt x="58" y="305"/>
                      <a:pt x="29" y="334"/>
                    </a:cubicBezTo>
                    <a:cubicBezTo>
                      <a:pt x="26" y="353"/>
                      <a:pt x="39" y="385"/>
                      <a:pt x="21" y="391"/>
                    </a:cubicBezTo>
                    <a:cubicBezTo>
                      <a:pt x="5" y="396"/>
                      <a:pt x="5" y="342"/>
                      <a:pt x="5" y="342"/>
                    </a:cubicBezTo>
                    <a:cubicBezTo>
                      <a:pt x="13" y="287"/>
                      <a:pt x="22" y="257"/>
                      <a:pt x="13" y="20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8" name=""/>
            <p:cNvSpPr/>
            <p:nvPr/>
          </p:nvSpPr>
          <p:spPr>
            <a:xfrm rot="3438000">
              <a:off x="4201200" y="2118960"/>
              <a:ext cx="139680" cy="117720"/>
            </a:xfrm>
            <a:custGeom>
              <a:avLst/>
              <a:gdLst/>
              <a:ahLst/>
              <a:rect l="l" t="t" r="r" b="b"/>
              <a:pathLst>
                <a:path w="88" h="74">
                  <a:moveTo>
                    <a:pt x="47" y="0"/>
                  </a:moveTo>
                  <a:cubicBezTo>
                    <a:pt x="0" y="15"/>
                    <a:pt x="0" y="57"/>
                    <a:pt x="47" y="74"/>
                  </a:cubicBezTo>
                  <a:cubicBezTo>
                    <a:pt x="84" y="60"/>
                    <a:pt x="77" y="51"/>
                    <a:pt x="88" y="16"/>
                  </a:cubicBezTo>
                  <a:cubicBezTo>
                    <a:pt x="57" y="6"/>
                    <a:pt x="71" y="12"/>
                    <a:pt x="47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4516920" y="2216160"/>
            <a:ext cx="380880" cy="499320"/>
            <a:chOff x="4516920" y="2216160"/>
            <a:chExt cx="380880" cy="499320"/>
          </a:xfrm>
        </p:grpSpPr>
        <p:grpSp>
          <p:nvGrpSpPr>
            <p:cNvPr id="1170" name=""/>
            <p:cNvGrpSpPr/>
            <p:nvPr/>
          </p:nvGrpSpPr>
          <p:grpSpPr>
            <a:xfrm>
              <a:off x="4516920" y="2264760"/>
              <a:ext cx="380880" cy="450720"/>
              <a:chOff x="4516920" y="2264760"/>
              <a:chExt cx="380880" cy="450720"/>
            </a:xfrm>
          </p:grpSpPr>
          <p:sp>
            <p:nvSpPr>
              <p:cNvPr id="1171" name=""/>
              <p:cNvSpPr/>
              <p:nvPr/>
            </p:nvSpPr>
            <p:spPr>
              <a:xfrm rot="1252200">
                <a:off x="4576320" y="229860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rot="1252200">
                <a:off x="4681080" y="2487600"/>
                <a:ext cx="16056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3" name=""/>
            <p:cNvSpPr/>
            <p:nvPr/>
          </p:nvSpPr>
          <p:spPr>
            <a:xfrm rot="10425000">
              <a:off x="4727520" y="2224440"/>
              <a:ext cx="16056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4" name=""/>
          <p:cNvGrpSpPr/>
          <p:nvPr/>
        </p:nvGrpSpPr>
        <p:grpSpPr>
          <a:xfrm>
            <a:off x="2678760" y="2722320"/>
            <a:ext cx="509040" cy="283320"/>
            <a:chOff x="2678760" y="2722320"/>
            <a:chExt cx="509040" cy="283320"/>
          </a:xfrm>
        </p:grpSpPr>
        <p:grpSp>
          <p:nvGrpSpPr>
            <p:cNvPr id="1175" name=""/>
            <p:cNvGrpSpPr/>
            <p:nvPr/>
          </p:nvGrpSpPr>
          <p:grpSpPr>
            <a:xfrm>
              <a:off x="2800440" y="2722320"/>
              <a:ext cx="387360" cy="283320"/>
              <a:chOff x="2800440" y="2722320"/>
              <a:chExt cx="387360" cy="283320"/>
            </a:xfrm>
          </p:grpSpPr>
          <p:sp>
            <p:nvSpPr>
              <p:cNvPr id="1176" name=""/>
              <p:cNvSpPr/>
              <p:nvPr/>
            </p:nvSpPr>
            <p:spPr>
              <a:xfrm rot="16266600">
                <a:off x="2863080" y="2679840"/>
                <a:ext cx="261720" cy="38232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rot="16266600">
                <a:off x="2942280" y="2751120"/>
                <a:ext cx="160560" cy="10440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8" name=""/>
            <p:cNvSpPr/>
            <p:nvPr/>
          </p:nvSpPr>
          <p:spPr>
            <a:xfrm rot="3838800">
              <a:off x="2693160" y="2777760"/>
              <a:ext cx="160560" cy="13320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2241360" y="3040920"/>
            <a:ext cx="491040" cy="267480"/>
            <a:chOff x="2241360" y="3040920"/>
            <a:chExt cx="491040" cy="267480"/>
          </a:xfrm>
        </p:grpSpPr>
        <p:grpSp>
          <p:nvGrpSpPr>
            <p:cNvPr id="1180" name=""/>
            <p:cNvGrpSpPr/>
            <p:nvPr/>
          </p:nvGrpSpPr>
          <p:grpSpPr>
            <a:xfrm>
              <a:off x="2328840" y="3040920"/>
              <a:ext cx="403560" cy="267480"/>
              <a:chOff x="2328840" y="3040920"/>
              <a:chExt cx="403560" cy="267480"/>
            </a:xfrm>
          </p:grpSpPr>
          <p:sp>
            <p:nvSpPr>
              <p:cNvPr id="1181" name=""/>
              <p:cNvSpPr/>
              <p:nvPr/>
            </p:nvSpPr>
            <p:spPr>
              <a:xfrm rot="16572600">
                <a:off x="2462400" y="3035160"/>
                <a:ext cx="124920" cy="380880"/>
              </a:xfrm>
              <a:custGeom>
                <a:avLst/>
                <a:gdLst/>
                <a:ahLst/>
                <a:rect l="l" t="t" r="r" b="b"/>
                <a:pathLst>
                  <a:path w="155" h="396">
                    <a:moveTo>
                      <a:pt x="13" y="202"/>
                    </a:moveTo>
                    <a:cubicBezTo>
                      <a:pt x="10" y="158"/>
                      <a:pt x="5" y="115"/>
                      <a:pt x="5" y="71"/>
                    </a:cubicBezTo>
                    <a:cubicBezTo>
                      <a:pt x="5" y="51"/>
                      <a:pt x="0" y="28"/>
                      <a:pt x="13" y="13"/>
                    </a:cubicBezTo>
                    <a:cubicBezTo>
                      <a:pt x="24" y="0"/>
                      <a:pt x="46" y="8"/>
                      <a:pt x="62" y="5"/>
                    </a:cubicBezTo>
                    <a:cubicBezTo>
                      <a:pt x="75" y="45"/>
                      <a:pt x="84" y="71"/>
                      <a:pt x="120" y="96"/>
                    </a:cubicBezTo>
                    <a:cubicBezTo>
                      <a:pt x="155" y="148"/>
                      <a:pt x="122" y="161"/>
                      <a:pt x="95" y="202"/>
                    </a:cubicBezTo>
                    <a:cubicBezTo>
                      <a:pt x="92" y="210"/>
                      <a:pt x="92" y="220"/>
                      <a:pt x="87" y="227"/>
                    </a:cubicBezTo>
                    <a:cubicBezTo>
                      <a:pt x="83" y="234"/>
                      <a:pt x="73" y="236"/>
                      <a:pt x="70" y="243"/>
                    </a:cubicBezTo>
                    <a:cubicBezTo>
                      <a:pt x="51" y="282"/>
                      <a:pt x="58" y="305"/>
                      <a:pt x="29" y="334"/>
                    </a:cubicBezTo>
                    <a:cubicBezTo>
                      <a:pt x="26" y="353"/>
                      <a:pt x="39" y="385"/>
                      <a:pt x="21" y="391"/>
                    </a:cubicBezTo>
                    <a:cubicBezTo>
                      <a:pt x="5" y="396"/>
                      <a:pt x="5" y="342"/>
                      <a:pt x="5" y="342"/>
                    </a:cubicBezTo>
                    <a:cubicBezTo>
                      <a:pt x="13" y="287"/>
                      <a:pt x="22" y="257"/>
                      <a:pt x="13" y="20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H="1" rot="16572600">
                <a:off x="2485440" y="2922120"/>
                <a:ext cx="103320" cy="380880"/>
              </a:xfrm>
              <a:custGeom>
                <a:avLst/>
                <a:gdLst/>
                <a:ahLst/>
                <a:rect l="l" t="t" r="r" b="b"/>
                <a:pathLst>
                  <a:path w="155" h="396">
                    <a:moveTo>
                      <a:pt x="13" y="202"/>
                    </a:moveTo>
                    <a:cubicBezTo>
                      <a:pt x="10" y="158"/>
                      <a:pt x="5" y="115"/>
                      <a:pt x="5" y="71"/>
                    </a:cubicBezTo>
                    <a:cubicBezTo>
                      <a:pt x="5" y="51"/>
                      <a:pt x="0" y="28"/>
                      <a:pt x="13" y="13"/>
                    </a:cubicBezTo>
                    <a:cubicBezTo>
                      <a:pt x="24" y="0"/>
                      <a:pt x="46" y="8"/>
                      <a:pt x="62" y="5"/>
                    </a:cubicBezTo>
                    <a:cubicBezTo>
                      <a:pt x="75" y="45"/>
                      <a:pt x="84" y="71"/>
                      <a:pt x="120" y="96"/>
                    </a:cubicBezTo>
                    <a:cubicBezTo>
                      <a:pt x="155" y="148"/>
                      <a:pt x="122" y="161"/>
                      <a:pt x="95" y="202"/>
                    </a:cubicBezTo>
                    <a:cubicBezTo>
                      <a:pt x="92" y="210"/>
                      <a:pt x="92" y="220"/>
                      <a:pt x="87" y="227"/>
                    </a:cubicBezTo>
                    <a:cubicBezTo>
                      <a:pt x="83" y="234"/>
                      <a:pt x="73" y="236"/>
                      <a:pt x="70" y="243"/>
                    </a:cubicBezTo>
                    <a:cubicBezTo>
                      <a:pt x="51" y="282"/>
                      <a:pt x="58" y="305"/>
                      <a:pt x="29" y="334"/>
                    </a:cubicBezTo>
                    <a:cubicBezTo>
                      <a:pt x="26" y="353"/>
                      <a:pt x="39" y="385"/>
                      <a:pt x="21" y="391"/>
                    </a:cubicBezTo>
                    <a:cubicBezTo>
                      <a:pt x="5" y="396"/>
                      <a:pt x="5" y="342"/>
                      <a:pt x="5" y="342"/>
                    </a:cubicBezTo>
                    <a:cubicBezTo>
                      <a:pt x="13" y="287"/>
                      <a:pt x="22" y="257"/>
                      <a:pt x="13" y="20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3" name=""/>
            <p:cNvSpPr/>
            <p:nvPr/>
          </p:nvSpPr>
          <p:spPr>
            <a:xfrm rot="19723800">
              <a:off x="2261520" y="3093480"/>
              <a:ext cx="139680" cy="117720"/>
            </a:xfrm>
            <a:custGeom>
              <a:avLst/>
              <a:gdLst/>
              <a:ahLst/>
              <a:rect l="l" t="t" r="r" b="b"/>
              <a:pathLst>
                <a:path w="88" h="74">
                  <a:moveTo>
                    <a:pt x="47" y="0"/>
                  </a:moveTo>
                  <a:cubicBezTo>
                    <a:pt x="0" y="15"/>
                    <a:pt x="0" y="57"/>
                    <a:pt x="47" y="74"/>
                  </a:cubicBezTo>
                  <a:cubicBezTo>
                    <a:pt x="84" y="60"/>
                    <a:pt x="77" y="51"/>
                    <a:pt x="88" y="16"/>
                  </a:cubicBezTo>
                  <a:cubicBezTo>
                    <a:pt x="57" y="6"/>
                    <a:pt x="71" y="12"/>
                    <a:pt x="47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2581200" y="3353400"/>
            <a:ext cx="435240" cy="480600"/>
            <a:chOff x="2581200" y="3353400"/>
            <a:chExt cx="435240" cy="480600"/>
          </a:xfrm>
        </p:grpSpPr>
        <p:grpSp>
          <p:nvGrpSpPr>
            <p:cNvPr id="1185" name=""/>
            <p:cNvGrpSpPr/>
            <p:nvPr/>
          </p:nvGrpSpPr>
          <p:grpSpPr>
            <a:xfrm>
              <a:off x="2591280" y="3353400"/>
              <a:ext cx="425160" cy="463320"/>
              <a:chOff x="2591280" y="3353400"/>
              <a:chExt cx="425160" cy="463320"/>
            </a:xfrm>
          </p:grpSpPr>
          <p:sp>
            <p:nvSpPr>
              <p:cNvPr id="1186" name=""/>
              <p:cNvSpPr/>
              <p:nvPr/>
            </p:nvSpPr>
            <p:spPr>
              <a:xfrm rot="12726600">
                <a:off x="2673000" y="339372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rot="12726600">
                <a:off x="2680200" y="3472920"/>
                <a:ext cx="16056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8" name=""/>
            <p:cNvSpPr/>
            <p:nvPr/>
          </p:nvSpPr>
          <p:spPr>
            <a:xfrm rot="298800">
              <a:off x="2586600" y="3693600"/>
              <a:ext cx="16056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1676520" y="1219320"/>
            <a:ext cx="1218960" cy="1265400"/>
            <a:chOff x="1676520" y="1219320"/>
            <a:chExt cx="1218960" cy="1265400"/>
          </a:xfrm>
        </p:grpSpPr>
        <p:grpSp>
          <p:nvGrpSpPr>
            <p:cNvPr id="1190" name=""/>
            <p:cNvGrpSpPr/>
            <p:nvPr/>
          </p:nvGrpSpPr>
          <p:grpSpPr>
            <a:xfrm>
              <a:off x="1676520" y="1219320"/>
              <a:ext cx="1218960" cy="1218960"/>
              <a:chOff x="1676520" y="1219320"/>
              <a:chExt cx="1218960" cy="1218960"/>
            </a:xfrm>
          </p:grpSpPr>
          <p:sp>
            <p:nvSpPr>
              <p:cNvPr id="1191" name=""/>
              <p:cNvSpPr/>
              <p:nvPr/>
            </p:nvSpPr>
            <p:spPr>
              <a:xfrm>
                <a:off x="1676520" y="1219320"/>
                <a:ext cx="1218960" cy="121896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787400" y="1325160"/>
                <a:ext cx="997200" cy="100692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2481120" y="2100240"/>
              <a:ext cx="410760" cy="384480"/>
              <a:chOff x="2481120" y="2100240"/>
              <a:chExt cx="410760" cy="384480"/>
            </a:xfrm>
          </p:grpSpPr>
          <p:sp>
            <p:nvSpPr>
              <p:cNvPr id="1194" name=""/>
              <p:cNvSpPr/>
              <p:nvPr/>
            </p:nvSpPr>
            <p:spPr>
              <a:xfrm rot="18863400">
                <a:off x="2549880" y="2201040"/>
                <a:ext cx="16776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rot="6603000">
                <a:off x="2655360" y="2092320"/>
                <a:ext cx="16812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6" name=""/>
            <p:cNvSpPr/>
            <p:nvPr/>
          </p:nvSpPr>
          <p:spPr>
            <a:xfrm>
              <a:off x="1828800" y="1660680"/>
              <a:ext cx="99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6068160" y="1609920"/>
            <a:ext cx="1689840" cy="1689840"/>
            <a:chOff x="6068160" y="1609920"/>
            <a:chExt cx="1689840" cy="1689840"/>
          </a:xfrm>
        </p:grpSpPr>
        <p:grpSp>
          <p:nvGrpSpPr>
            <p:cNvPr id="1198" name=""/>
            <p:cNvGrpSpPr/>
            <p:nvPr/>
          </p:nvGrpSpPr>
          <p:grpSpPr>
            <a:xfrm>
              <a:off x="6068160" y="1609920"/>
              <a:ext cx="1689840" cy="1689840"/>
              <a:chOff x="6068160" y="1609920"/>
              <a:chExt cx="1689840" cy="1689840"/>
            </a:xfrm>
          </p:grpSpPr>
          <p:sp>
            <p:nvSpPr>
              <p:cNvPr id="1199" name=""/>
              <p:cNvSpPr/>
              <p:nvPr/>
            </p:nvSpPr>
            <p:spPr>
              <a:xfrm rot="2014200">
                <a:off x="6303600" y="184500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rot="2014200">
                <a:off x="6414480" y="195084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1" name=""/>
            <p:cNvGrpSpPr/>
            <p:nvPr/>
          </p:nvGrpSpPr>
          <p:grpSpPr>
            <a:xfrm>
              <a:off x="6079320" y="2343240"/>
              <a:ext cx="311040" cy="378360"/>
              <a:chOff x="6079320" y="2343240"/>
              <a:chExt cx="311040" cy="378360"/>
            </a:xfrm>
          </p:grpSpPr>
          <p:sp>
            <p:nvSpPr>
              <p:cNvPr id="1202" name=""/>
              <p:cNvSpPr/>
              <p:nvPr/>
            </p:nvSpPr>
            <p:spPr>
              <a:xfrm rot="5219400">
                <a:off x="6141960" y="2302200"/>
                <a:ext cx="16812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rot="14559000">
                <a:off x="6150600" y="2454480"/>
                <a:ext cx="16848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4" name=""/>
            <p:cNvSpPr/>
            <p:nvPr/>
          </p:nvSpPr>
          <p:spPr>
            <a:xfrm rot="2014200">
              <a:off x="6432120" y="230256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5" name=""/>
          <p:cNvSpPr/>
          <p:nvPr/>
        </p:nvSpPr>
        <p:spPr>
          <a:xfrm>
            <a:off x="2590920" y="1295280"/>
            <a:ext cx="7596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105520" y="3352680"/>
            <a:ext cx="2438280" cy="2590920"/>
          </a:xfrm>
          <a:custGeom>
            <a:avLst/>
            <a:gdLst/>
            <a:ahLst/>
            <a:rect l="l" t="t" r="r" b="b"/>
            <a:pathLst>
              <a:path w="1226" h="1289">
                <a:moveTo>
                  <a:pt x="353" y="66"/>
                </a:moveTo>
                <a:cubicBezTo>
                  <a:pt x="341" y="101"/>
                  <a:pt x="318" y="112"/>
                  <a:pt x="296" y="140"/>
                </a:cubicBezTo>
                <a:cubicBezTo>
                  <a:pt x="290" y="148"/>
                  <a:pt x="288" y="158"/>
                  <a:pt x="280" y="164"/>
                </a:cubicBezTo>
                <a:cubicBezTo>
                  <a:pt x="273" y="169"/>
                  <a:pt x="263" y="169"/>
                  <a:pt x="255" y="172"/>
                </a:cubicBezTo>
                <a:cubicBezTo>
                  <a:pt x="206" y="221"/>
                  <a:pt x="124" y="210"/>
                  <a:pt x="74" y="263"/>
                </a:cubicBezTo>
                <a:cubicBezTo>
                  <a:pt x="58" y="313"/>
                  <a:pt x="41" y="283"/>
                  <a:pt x="58" y="345"/>
                </a:cubicBezTo>
                <a:cubicBezTo>
                  <a:pt x="63" y="362"/>
                  <a:pt x="74" y="394"/>
                  <a:pt x="74" y="394"/>
                </a:cubicBezTo>
                <a:cubicBezTo>
                  <a:pt x="83" y="457"/>
                  <a:pt x="77" y="524"/>
                  <a:pt x="99" y="583"/>
                </a:cubicBezTo>
                <a:cubicBezTo>
                  <a:pt x="86" y="705"/>
                  <a:pt x="80" y="834"/>
                  <a:pt x="49" y="953"/>
                </a:cubicBezTo>
                <a:cubicBezTo>
                  <a:pt x="40" y="989"/>
                  <a:pt x="29" y="1025"/>
                  <a:pt x="17" y="1060"/>
                </a:cubicBezTo>
                <a:cubicBezTo>
                  <a:pt x="12" y="1076"/>
                  <a:pt x="0" y="1109"/>
                  <a:pt x="0" y="1109"/>
                </a:cubicBezTo>
                <a:cubicBezTo>
                  <a:pt x="39" y="1148"/>
                  <a:pt x="77" y="1192"/>
                  <a:pt x="115" y="1233"/>
                </a:cubicBezTo>
                <a:cubicBezTo>
                  <a:pt x="134" y="1289"/>
                  <a:pt x="164" y="1241"/>
                  <a:pt x="214" y="1257"/>
                </a:cubicBezTo>
                <a:cubicBezTo>
                  <a:pt x="479" y="1240"/>
                  <a:pt x="744" y="1209"/>
                  <a:pt x="1011" y="1200"/>
                </a:cubicBezTo>
                <a:cubicBezTo>
                  <a:pt x="1038" y="1197"/>
                  <a:pt x="1066" y="1197"/>
                  <a:pt x="1093" y="1192"/>
                </a:cubicBezTo>
                <a:cubicBezTo>
                  <a:pt x="1110" y="1189"/>
                  <a:pt x="1126" y="1181"/>
                  <a:pt x="1142" y="1175"/>
                </a:cubicBezTo>
                <a:cubicBezTo>
                  <a:pt x="1150" y="1172"/>
                  <a:pt x="1167" y="1167"/>
                  <a:pt x="1167" y="1167"/>
                </a:cubicBezTo>
                <a:cubicBezTo>
                  <a:pt x="1173" y="1161"/>
                  <a:pt x="1180" y="1157"/>
                  <a:pt x="1184" y="1150"/>
                </a:cubicBezTo>
                <a:cubicBezTo>
                  <a:pt x="1192" y="1135"/>
                  <a:pt x="1200" y="1101"/>
                  <a:pt x="1200" y="1101"/>
                </a:cubicBezTo>
                <a:cubicBezTo>
                  <a:pt x="1178" y="918"/>
                  <a:pt x="1202" y="726"/>
                  <a:pt x="1216" y="542"/>
                </a:cubicBezTo>
                <a:cubicBezTo>
                  <a:pt x="1213" y="479"/>
                  <a:pt x="1226" y="343"/>
                  <a:pt x="1167" y="288"/>
                </a:cubicBezTo>
                <a:cubicBezTo>
                  <a:pt x="1149" y="231"/>
                  <a:pt x="1164" y="250"/>
                  <a:pt x="1134" y="222"/>
                </a:cubicBezTo>
                <a:cubicBezTo>
                  <a:pt x="1127" y="201"/>
                  <a:pt x="1126" y="168"/>
                  <a:pt x="1101" y="156"/>
                </a:cubicBezTo>
                <a:cubicBezTo>
                  <a:pt x="1086" y="149"/>
                  <a:pt x="1052" y="140"/>
                  <a:pt x="1052" y="140"/>
                </a:cubicBezTo>
                <a:cubicBezTo>
                  <a:pt x="1041" y="129"/>
                  <a:pt x="1027" y="120"/>
                  <a:pt x="1019" y="107"/>
                </a:cubicBezTo>
                <a:cubicBezTo>
                  <a:pt x="998" y="73"/>
                  <a:pt x="1009" y="66"/>
                  <a:pt x="970" y="41"/>
                </a:cubicBezTo>
                <a:cubicBezTo>
                  <a:pt x="964" y="33"/>
                  <a:pt x="962" y="21"/>
                  <a:pt x="953" y="16"/>
                </a:cubicBezTo>
                <a:cubicBezTo>
                  <a:pt x="938" y="7"/>
                  <a:pt x="904" y="0"/>
                  <a:pt x="904" y="0"/>
                </a:cubicBezTo>
                <a:cubicBezTo>
                  <a:pt x="783" y="29"/>
                  <a:pt x="622" y="20"/>
                  <a:pt x="501" y="25"/>
                </a:cubicBezTo>
                <a:cubicBezTo>
                  <a:pt x="460" y="31"/>
                  <a:pt x="425" y="37"/>
                  <a:pt x="386" y="49"/>
                </a:cubicBezTo>
                <a:cubicBezTo>
                  <a:pt x="373" y="58"/>
                  <a:pt x="333" y="107"/>
                  <a:pt x="353" y="66"/>
                </a:cubicBezTo>
                <a:close/>
              </a:path>
            </a:pathLst>
          </a:custGeom>
          <a:solidFill>
            <a:srgbClr val="ffeaff"/>
          </a:solidFill>
          <a:ln w="28440">
            <a:solidFill>
              <a:srgbClr val="ffea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7" name=""/>
          <p:cNvGrpSpPr/>
          <p:nvPr/>
        </p:nvGrpSpPr>
        <p:grpSpPr>
          <a:xfrm>
            <a:off x="7074000" y="4457880"/>
            <a:ext cx="75960" cy="380880"/>
            <a:chOff x="7074000" y="4457880"/>
            <a:chExt cx="75960" cy="380880"/>
          </a:xfrm>
        </p:grpSpPr>
        <p:sp>
          <p:nvSpPr>
            <p:cNvPr id="1208" name=""/>
            <p:cNvSpPr/>
            <p:nvPr/>
          </p:nvSpPr>
          <p:spPr>
            <a:xfrm>
              <a:off x="7074000" y="4457880"/>
              <a:ext cx="7596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074000" y="4610160"/>
              <a:ext cx="7596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074000" y="4762800"/>
              <a:ext cx="7596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6921360" y="4457880"/>
            <a:ext cx="76320" cy="380880"/>
            <a:chOff x="6921360" y="4457880"/>
            <a:chExt cx="76320" cy="380880"/>
          </a:xfrm>
        </p:grpSpPr>
        <p:sp>
          <p:nvSpPr>
            <p:cNvPr id="1212" name=""/>
            <p:cNvSpPr/>
            <p:nvPr/>
          </p:nvSpPr>
          <p:spPr>
            <a:xfrm>
              <a:off x="6921360" y="445788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921360" y="461016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921360" y="4762800"/>
              <a:ext cx="7632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5" name=""/>
          <p:cNvGrpSpPr/>
          <p:nvPr/>
        </p:nvGrpSpPr>
        <p:grpSpPr>
          <a:xfrm>
            <a:off x="5410080" y="3865680"/>
            <a:ext cx="1523880" cy="1620720"/>
            <a:chOff x="5410080" y="3865680"/>
            <a:chExt cx="1523880" cy="1620720"/>
          </a:xfrm>
        </p:grpSpPr>
        <p:sp>
          <p:nvSpPr>
            <p:cNvPr id="1216" name=""/>
            <p:cNvSpPr/>
            <p:nvPr/>
          </p:nvSpPr>
          <p:spPr>
            <a:xfrm>
              <a:off x="5410080" y="3865680"/>
              <a:ext cx="1523880" cy="1620720"/>
            </a:xfrm>
            <a:custGeom>
              <a:avLst/>
              <a:gdLst/>
              <a:ahLst/>
              <a:rect l="l" t="t" r="r" b="b"/>
              <a:pathLst>
                <a:path w="1184" h="1324">
                  <a:moveTo>
                    <a:pt x="379" y="182"/>
                  </a:moveTo>
                  <a:cubicBezTo>
                    <a:pt x="372" y="203"/>
                    <a:pt x="360" y="237"/>
                    <a:pt x="338" y="248"/>
                  </a:cubicBezTo>
                  <a:cubicBezTo>
                    <a:pt x="323" y="256"/>
                    <a:pt x="289" y="264"/>
                    <a:pt x="289" y="264"/>
                  </a:cubicBezTo>
                  <a:cubicBezTo>
                    <a:pt x="231" y="245"/>
                    <a:pt x="227" y="205"/>
                    <a:pt x="182" y="190"/>
                  </a:cubicBezTo>
                  <a:cubicBezTo>
                    <a:pt x="137" y="196"/>
                    <a:pt x="101" y="201"/>
                    <a:pt x="59" y="215"/>
                  </a:cubicBezTo>
                  <a:cubicBezTo>
                    <a:pt x="11" y="261"/>
                    <a:pt x="0" y="370"/>
                    <a:pt x="67" y="404"/>
                  </a:cubicBezTo>
                  <a:cubicBezTo>
                    <a:pt x="143" y="442"/>
                    <a:pt x="213" y="434"/>
                    <a:pt x="248" y="527"/>
                  </a:cubicBezTo>
                  <a:cubicBezTo>
                    <a:pt x="243" y="549"/>
                    <a:pt x="247" y="577"/>
                    <a:pt x="231" y="593"/>
                  </a:cubicBezTo>
                  <a:cubicBezTo>
                    <a:pt x="187" y="637"/>
                    <a:pt x="125" y="662"/>
                    <a:pt x="75" y="700"/>
                  </a:cubicBezTo>
                  <a:cubicBezTo>
                    <a:pt x="51" y="750"/>
                    <a:pt x="29" y="858"/>
                    <a:pt x="91" y="889"/>
                  </a:cubicBezTo>
                  <a:cubicBezTo>
                    <a:pt x="114" y="901"/>
                    <a:pt x="139" y="910"/>
                    <a:pt x="165" y="913"/>
                  </a:cubicBezTo>
                  <a:cubicBezTo>
                    <a:pt x="223" y="919"/>
                    <a:pt x="338" y="930"/>
                    <a:pt x="338" y="930"/>
                  </a:cubicBezTo>
                  <a:cubicBezTo>
                    <a:pt x="377" y="955"/>
                    <a:pt x="372" y="943"/>
                    <a:pt x="379" y="1012"/>
                  </a:cubicBezTo>
                  <a:cubicBezTo>
                    <a:pt x="384" y="1059"/>
                    <a:pt x="367" y="1257"/>
                    <a:pt x="437" y="1300"/>
                  </a:cubicBezTo>
                  <a:cubicBezTo>
                    <a:pt x="446" y="1305"/>
                    <a:pt x="488" y="1315"/>
                    <a:pt x="494" y="1316"/>
                  </a:cubicBezTo>
                  <a:cubicBezTo>
                    <a:pt x="536" y="1313"/>
                    <a:pt x="686" y="1324"/>
                    <a:pt x="724" y="1283"/>
                  </a:cubicBezTo>
                  <a:cubicBezTo>
                    <a:pt x="730" y="1267"/>
                    <a:pt x="733" y="1249"/>
                    <a:pt x="741" y="1234"/>
                  </a:cubicBezTo>
                  <a:cubicBezTo>
                    <a:pt x="797" y="1132"/>
                    <a:pt x="741" y="1272"/>
                    <a:pt x="774" y="1185"/>
                  </a:cubicBezTo>
                  <a:cubicBezTo>
                    <a:pt x="737" y="1112"/>
                    <a:pt x="758" y="1136"/>
                    <a:pt x="724" y="1102"/>
                  </a:cubicBezTo>
                  <a:cubicBezTo>
                    <a:pt x="714" y="1072"/>
                    <a:pt x="699" y="1051"/>
                    <a:pt x="691" y="1020"/>
                  </a:cubicBezTo>
                  <a:cubicBezTo>
                    <a:pt x="704" y="940"/>
                    <a:pt x="702" y="948"/>
                    <a:pt x="774" y="930"/>
                  </a:cubicBezTo>
                  <a:cubicBezTo>
                    <a:pt x="785" y="924"/>
                    <a:pt x="794" y="917"/>
                    <a:pt x="806" y="913"/>
                  </a:cubicBezTo>
                  <a:cubicBezTo>
                    <a:pt x="822" y="908"/>
                    <a:pt x="840" y="911"/>
                    <a:pt x="856" y="905"/>
                  </a:cubicBezTo>
                  <a:cubicBezTo>
                    <a:pt x="869" y="900"/>
                    <a:pt x="877" y="887"/>
                    <a:pt x="889" y="881"/>
                  </a:cubicBezTo>
                  <a:cubicBezTo>
                    <a:pt x="899" y="876"/>
                    <a:pt x="910" y="875"/>
                    <a:pt x="921" y="872"/>
                  </a:cubicBezTo>
                  <a:cubicBezTo>
                    <a:pt x="938" y="856"/>
                    <a:pt x="954" y="839"/>
                    <a:pt x="971" y="823"/>
                  </a:cubicBezTo>
                  <a:cubicBezTo>
                    <a:pt x="974" y="815"/>
                    <a:pt x="979" y="807"/>
                    <a:pt x="979" y="798"/>
                  </a:cubicBezTo>
                  <a:cubicBezTo>
                    <a:pt x="979" y="663"/>
                    <a:pt x="977" y="673"/>
                    <a:pt x="864" y="659"/>
                  </a:cubicBezTo>
                  <a:cubicBezTo>
                    <a:pt x="819" y="647"/>
                    <a:pt x="802" y="635"/>
                    <a:pt x="782" y="593"/>
                  </a:cubicBezTo>
                  <a:cubicBezTo>
                    <a:pt x="761" y="439"/>
                    <a:pt x="831" y="493"/>
                    <a:pt x="1004" y="486"/>
                  </a:cubicBezTo>
                  <a:cubicBezTo>
                    <a:pt x="1017" y="485"/>
                    <a:pt x="1114" y="482"/>
                    <a:pt x="1135" y="461"/>
                  </a:cubicBezTo>
                  <a:cubicBezTo>
                    <a:pt x="1147" y="449"/>
                    <a:pt x="1146" y="428"/>
                    <a:pt x="1152" y="412"/>
                  </a:cubicBezTo>
                  <a:cubicBezTo>
                    <a:pt x="1171" y="364"/>
                    <a:pt x="1177" y="336"/>
                    <a:pt x="1184" y="281"/>
                  </a:cubicBezTo>
                  <a:cubicBezTo>
                    <a:pt x="1179" y="214"/>
                    <a:pt x="1183" y="148"/>
                    <a:pt x="1143" y="92"/>
                  </a:cubicBezTo>
                  <a:cubicBezTo>
                    <a:pt x="1126" y="39"/>
                    <a:pt x="1079" y="13"/>
                    <a:pt x="1028" y="1"/>
                  </a:cubicBezTo>
                  <a:cubicBezTo>
                    <a:pt x="998" y="4"/>
                    <a:pt x="967" y="0"/>
                    <a:pt x="938" y="9"/>
                  </a:cubicBezTo>
                  <a:cubicBezTo>
                    <a:pt x="921" y="14"/>
                    <a:pt x="911" y="57"/>
                    <a:pt x="872" y="67"/>
                  </a:cubicBezTo>
                  <a:cubicBezTo>
                    <a:pt x="829" y="78"/>
                    <a:pt x="783" y="78"/>
                    <a:pt x="741" y="92"/>
                  </a:cubicBezTo>
                  <a:cubicBezTo>
                    <a:pt x="733" y="95"/>
                    <a:pt x="724" y="97"/>
                    <a:pt x="716" y="100"/>
                  </a:cubicBezTo>
                  <a:cubicBezTo>
                    <a:pt x="631" y="88"/>
                    <a:pt x="565" y="85"/>
                    <a:pt x="478" y="92"/>
                  </a:cubicBezTo>
                  <a:cubicBezTo>
                    <a:pt x="451" y="109"/>
                    <a:pt x="452" y="104"/>
                    <a:pt x="437" y="133"/>
                  </a:cubicBezTo>
                  <a:cubicBezTo>
                    <a:pt x="433" y="141"/>
                    <a:pt x="433" y="150"/>
                    <a:pt x="428" y="157"/>
                  </a:cubicBezTo>
                  <a:cubicBezTo>
                    <a:pt x="422" y="165"/>
                    <a:pt x="413" y="170"/>
                    <a:pt x="404" y="174"/>
                  </a:cubicBezTo>
                  <a:cubicBezTo>
                    <a:pt x="396" y="178"/>
                    <a:pt x="379" y="182"/>
                    <a:pt x="379" y="182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230520" y="4132800"/>
              <a:ext cx="314640" cy="233640"/>
            </a:xfrm>
            <a:custGeom>
              <a:avLst/>
              <a:gdLst/>
              <a:ahLst/>
              <a:rect l="l" t="t" r="r" b="b"/>
              <a:pathLst>
                <a:path w="198" h="175">
                  <a:moveTo>
                    <a:pt x="99" y="11"/>
                  </a:moveTo>
                  <a:cubicBezTo>
                    <a:pt x="53" y="26"/>
                    <a:pt x="19" y="0"/>
                    <a:pt x="0" y="52"/>
                  </a:cubicBezTo>
                  <a:cubicBezTo>
                    <a:pt x="4" y="79"/>
                    <a:pt x="6" y="138"/>
                    <a:pt x="33" y="159"/>
                  </a:cubicBezTo>
                  <a:cubicBezTo>
                    <a:pt x="38" y="163"/>
                    <a:pt x="89" y="175"/>
                    <a:pt x="91" y="175"/>
                  </a:cubicBezTo>
                  <a:cubicBezTo>
                    <a:pt x="154" y="166"/>
                    <a:pt x="176" y="169"/>
                    <a:pt x="198" y="109"/>
                  </a:cubicBezTo>
                  <a:cubicBezTo>
                    <a:pt x="189" y="62"/>
                    <a:pt x="190" y="19"/>
                    <a:pt x="140" y="3"/>
                  </a:cubicBezTo>
                  <a:cubicBezTo>
                    <a:pt x="60" y="12"/>
                    <a:pt x="88" y="0"/>
                    <a:pt x="50" y="19"/>
                  </a:cubicBezTo>
                </a:path>
              </a:pathLst>
            </a:custGeom>
            <a:solidFill>
              <a:srgbClr val="00443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790960" y="4635000"/>
              <a:ext cx="171360" cy="173520"/>
            </a:xfrm>
            <a:custGeom>
              <a:avLst/>
              <a:gdLst/>
              <a:ahLst/>
              <a:rect l="l" t="t" r="r" b="b"/>
              <a:pathLst>
                <a:path w="108" h="130">
                  <a:moveTo>
                    <a:pt x="42" y="32"/>
                  </a:moveTo>
                  <a:cubicBezTo>
                    <a:pt x="0" y="74"/>
                    <a:pt x="12" y="92"/>
                    <a:pt x="51" y="130"/>
                  </a:cubicBezTo>
                  <a:cubicBezTo>
                    <a:pt x="66" y="125"/>
                    <a:pt x="84" y="123"/>
                    <a:pt x="92" y="106"/>
                  </a:cubicBezTo>
                  <a:cubicBezTo>
                    <a:pt x="100" y="90"/>
                    <a:pt x="108" y="56"/>
                    <a:pt x="108" y="56"/>
                  </a:cubicBezTo>
                  <a:cubicBezTo>
                    <a:pt x="105" y="48"/>
                    <a:pt x="106" y="38"/>
                    <a:pt x="100" y="32"/>
                  </a:cubicBezTo>
                  <a:cubicBezTo>
                    <a:pt x="68" y="0"/>
                    <a:pt x="80" y="34"/>
                    <a:pt x="59" y="40"/>
                  </a:cubicBezTo>
                  <a:cubicBezTo>
                    <a:pt x="53" y="42"/>
                    <a:pt x="48" y="35"/>
                    <a:pt x="42" y="32"/>
                  </a:cubicBezTo>
                  <a:close/>
                </a:path>
              </a:pathLst>
            </a:custGeom>
            <a:solidFill>
              <a:srgbClr val="00443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790960" y="4250160"/>
              <a:ext cx="360360" cy="243000"/>
            </a:xfrm>
            <a:custGeom>
              <a:avLst/>
              <a:gdLst/>
              <a:ahLst/>
              <a:rect l="l" t="t" r="r" b="b"/>
              <a:pathLst>
                <a:path w="227" h="182">
                  <a:moveTo>
                    <a:pt x="58" y="0"/>
                  </a:moveTo>
                  <a:cubicBezTo>
                    <a:pt x="28" y="11"/>
                    <a:pt x="22" y="28"/>
                    <a:pt x="0" y="50"/>
                  </a:cubicBezTo>
                  <a:cubicBezTo>
                    <a:pt x="6" y="101"/>
                    <a:pt x="3" y="155"/>
                    <a:pt x="58" y="173"/>
                  </a:cubicBezTo>
                  <a:cubicBezTo>
                    <a:pt x="126" y="168"/>
                    <a:pt x="169" y="182"/>
                    <a:pt x="214" y="140"/>
                  </a:cubicBezTo>
                  <a:cubicBezTo>
                    <a:pt x="227" y="98"/>
                    <a:pt x="216" y="61"/>
                    <a:pt x="181" y="33"/>
                  </a:cubicBezTo>
                  <a:cubicBezTo>
                    <a:pt x="160" y="16"/>
                    <a:pt x="107" y="0"/>
                    <a:pt x="107" y="0"/>
                  </a:cubicBezTo>
                  <a:cubicBezTo>
                    <a:pt x="55" y="10"/>
                    <a:pt x="58" y="26"/>
                    <a:pt x="58" y="0"/>
                  </a:cubicBezTo>
                  <a:close/>
                </a:path>
              </a:pathLst>
            </a:custGeom>
            <a:solidFill>
              <a:srgbClr val="00443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95880" y="4699440"/>
              <a:ext cx="334800" cy="262800"/>
            </a:xfrm>
            <a:custGeom>
              <a:avLst/>
              <a:gdLst/>
              <a:ahLst/>
              <a:rect l="l" t="t" r="r" b="b"/>
              <a:pathLst>
                <a:path w="211" h="197">
                  <a:moveTo>
                    <a:pt x="90" y="8"/>
                  </a:moveTo>
                  <a:cubicBezTo>
                    <a:pt x="50" y="21"/>
                    <a:pt x="23" y="56"/>
                    <a:pt x="0" y="90"/>
                  </a:cubicBezTo>
                  <a:cubicBezTo>
                    <a:pt x="9" y="146"/>
                    <a:pt x="10" y="167"/>
                    <a:pt x="57" y="197"/>
                  </a:cubicBezTo>
                  <a:cubicBezTo>
                    <a:pt x="119" y="188"/>
                    <a:pt x="144" y="183"/>
                    <a:pt x="189" y="140"/>
                  </a:cubicBezTo>
                  <a:cubicBezTo>
                    <a:pt x="194" y="129"/>
                    <a:pt x="204" y="119"/>
                    <a:pt x="205" y="107"/>
                  </a:cubicBezTo>
                  <a:cubicBezTo>
                    <a:pt x="211" y="34"/>
                    <a:pt x="178" y="30"/>
                    <a:pt x="131" y="0"/>
                  </a:cubicBezTo>
                  <a:cubicBezTo>
                    <a:pt x="79" y="8"/>
                    <a:pt x="65" y="8"/>
                    <a:pt x="90" y="8"/>
                  </a:cubicBezTo>
                  <a:close/>
                </a:path>
              </a:pathLst>
            </a:custGeom>
            <a:solidFill>
              <a:srgbClr val="00443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1" name=""/>
          <p:cNvGrpSpPr/>
          <p:nvPr/>
        </p:nvGrpSpPr>
        <p:grpSpPr>
          <a:xfrm>
            <a:off x="7305840" y="3691800"/>
            <a:ext cx="1645920" cy="1634760"/>
            <a:chOff x="7305840" y="3691800"/>
            <a:chExt cx="1645920" cy="1634760"/>
          </a:xfrm>
        </p:grpSpPr>
        <p:grpSp>
          <p:nvGrpSpPr>
            <p:cNvPr id="1222" name=""/>
            <p:cNvGrpSpPr/>
            <p:nvPr/>
          </p:nvGrpSpPr>
          <p:grpSpPr>
            <a:xfrm>
              <a:off x="7317000" y="3691800"/>
              <a:ext cx="1634760" cy="1634760"/>
              <a:chOff x="7317000" y="3691800"/>
              <a:chExt cx="1634760" cy="1634760"/>
            </a:xfrm>
          </p:grpSpPr>
          <p:sp>
            <p:nvSpPr>
              <p:cNvPr id="1223" name=""/>
              <p:cNvSpPr/>
              <p:nvPr/>
            </p:nvSpPr>
            <p:spPr>
              <a:xfrm rot="1587600">
                <a:off x="7524720" y="3899520"/>
                <a:ext cx="121932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rot="1587600">
                <a:off x="7635600" y="4005360"/>
                <a:ext cx="99756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5" name=""/>
            <p:cNvGrpSpPr/>
            <p:nvPr/>
          </p:nvGrpSpPr>
          <p:grpSpPr>
            <a:xfrm>
              <a:off x="7305840" y="4467960"/>
              <a:ext cx="327600" cy="399960"/>
              <a:chOff x="7305840" y="4467960"/>
              <a:chExt cx="327600" cy="399960"/>
            </a:xfrm>
          </p:grpSpPr>
          <p:sp>
            <p:nvSpPr>
              <p:cNvPr id="1226" name=""/>
              <p:cNvSpPr/>
              <p:nvPr/>
            </p:nvSpPr>
            <p:spPr>
              <a:xfrm rot="4792800">
                <a:off x="7366320" y="444204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rot="14132400">
                <a:off x="7392600" y="459180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8" name=""/>
            <p:cNvSpPr/>
            <p:nvPr/>
          </p:nvSpPr>
          <p:spPr>
            <a:xfrm rot="1587600">
              <a:off x="7659000" y="435456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7543800" y="4444920"/>
            <a:ext cx="76320" cy="380880"/>
            <a:chOff x="7543800" y="4444920"/>
            <a:chExt cx="76320" cy="380880"/>
          </a:xfrm>
        </p:grpSpPr>
        <p:sp>
          <p:nvSpPr>
            <p:cNvPr id="1230" name=""/>
            <p:cNvSpPr/>
            <p:nvPr/>
          </p:nvSpPr>
          <p:spPr>
            <a:xfrm>
              <a:off x="7543800" y="444492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543800" y="459720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543800" y="4749840"/>
              <a:ext cx="7632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3" name=""/>
          <p:cNvGrpSpPr/>
          <p:nvPr/>
        </p:nvGrpSpPr>
        <p:grpSpPr>
          <a:xfrm>
            <a:off x="7391520" y="4444920"/>
            <a:ext cx="75960" cy="380880"/>
            <a:chOff x="7391520" y="4444920"/>
            <a:chExt cx="75960" cy="380880"/>
          </a:xfrm>
        </p:grpSpPr>
        <p:sp>
          <p:nvSpPr>
            <p:cNvPr id="1234" name=""/>
            <p:cNvSpPr/>
            <p:nvPr/>
          </p:nvSpPr>
          <p:spPr>
            <a:xfrm>
              <a:off x="7391520" y="4444920"/>
              <a:ext cx="7596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391520" y="4597200"/>
              <a:ext cx="7596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391520" y="4749840"/>
              <a:ext cx="7596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7238880" y="4457880"/>
            <a:ext cx="76320" cy="380880"/>
            <a:chOff x="7238880" y="4457880"/>
            <a:chExt cx="76320" cy="380880"/>
          </a:xfrm>
        </p:grpSpPr>
        <p:sp>
          <p:nvSpPr>
            <p:cNvPr id="1238" name=""/>
            <p:cNvSpPr/>
            <p:nvPr/>
          </p:nvSpPr>
          <p:spPr>
            <a:xfrm>
              <a:off x="7238880" y="445788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238880" y="461016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238880" y="4762800"/>
              <a:ext cx="7632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5632920" y="3294720"/>
            <a:ext cx="486000" cy="244800"/>
            <a:chOff x="5632920" y="3294720"/>
            <a:chExt cx="486000" cy="244800"/>
          </a:xfrm>
        </p:grpSpPr>
        <p:grpSp>
          <p:nvGrpSpPr>
            <p:cNvPr id="1242" name=""/>
            <p:cNvGrpSpPr/>
            <p:nvPr/>
          </p:nvGrpSpPr>
          <p:grpSpPr>
            <a:xfrm>
              <a:off x="5632920" y="3294720"/>
              <a:ext cx="390240" cy="244800"/>
              <a:chOff x="5632920" y="3294720"/>
              <a:chExt cx="390240" cy="244800"/>
            </a:xfrm>
          </p:grpSpPr>
          <p:sp>
            <p:nvSpPr>
              <p:cNvPr id="1243" name=""/>
              <p:cNvSpPr/>
              <p:nvPr/>
            </p:nvSpPr>
            <p:spPr>
              <a:xfrm rot="5551200">
                <a:off x="5767560" y="3175200"/>
                <a:ext cx="124920" cy="380880"/>
              </a:xfrm>
              <a:custGeom>
                <a:avLst/>
                <a:gdLst/>
                <a:ahLst/>
                <a:rect l="l" t="t" r="r" b="b"/>
                <a:pathLst>
                  <a:path w="155" h="396">
                    <a:moveTo>
                      <a:pt x="13" y="202"/>
                    </a:moveTo>
                    <a:cubicBezTo>
                      <a:pt x="10" y="158"/>
                      <a:pt x="5" y="115"/>
                      <a:pt x="5" y="71"/>
                    </a:cubicBezTo>
                    <a:cubicBezTo>
                      <a:pt x="5" y="51"/>
                      <a:pt x="0" y="28"/>
                      <a:pt x="13" y="13"/>
                    </a:cubicBezTo>
                    <a:cubicBezTo>
                      <a:pt x="24" y="0"/>
                      <a:pt x="46" y="8"/>
                      <a:pt x="62" y="5"/>
                    </a:cubicBezTo>
                    <a:cubicBezTo>
                      <a:pt x="75" y="45"/>
                      <a:pt x="84" y="71"/>
                      <a:pt x="120" y="96"/>
                    </a:cubicBezTo>
                    <a:cubicBezTo>
                      <a:pt x="155" y="148"/>
                      <a:pt x="122" y="161"/>
                      <a:pt x="95" y="202"/>
                    </a:cubicBezTo>
                    <a:cubicBezTo>
                      <a:pt x="92" y="210"/>
                      <a:pt x="92" y="220"/>
                      <a:pt x="87" y="227"/>
                    </a:cubicBezTo>
                    <a:cubicBezTo>
                      <a:pt x="83" y="234"/>
                      <a:pt x="73" y="236"/>
                      <a:pt x="70" y="243"/>
                    </a:cubicBezTo>
                    <a:cubicBezTo>
                      <a:pt x="51" y="282"/>
                      <a:pt x="58" y="305"/>
                      <a:pt x="29" y="334"/>
                    </a:cubicBezTo>
                    <a:cubicBezTo>
                      <a:pt x="26" y="353"/>
                      <a:pt x="39" y="385"/>
                      <a:pt x="21" y="391"/>
                    </a:cubicBezTo>
                    <a:cubicBezTo>
                      <a:pt x="5" y="396"/>
                      <a:pt x="5" y="342"/>
                      <a:pt x="5" y="342"/>
                    </a:cubicBezTo>
                    <a:cubicBezTo>
                      <a:pt x="13" y="287"/>
                      <a:pt x="22" y="257"/>
                      <a:pt x="13" y="20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flipH="1" rot="5551200">
                <a:off x="5774040" y="3288960"/>
                <a:ext cx="102960" cy="380880"/>
              </a:xfrm>
              <a:custGeom>
                <a:avLst/>
                <a:gdLst/>
                <a:ahLst/>
                <a:rect l="l" t="t" r="r" b="b"/>
                <a:pathLst>
                  <a:path w="155" h="396">
                    <a:moveTo>
                      <a:pt x="13" y="202"/>
                    </a:moveTo>
                    <a:cubicBezTo>
                      <a:pt x="10" y="158"/>
                      <a:pt x="5" y="115"/>
                      <a:pt x="5" y="71"/>
                    </a:cubicBezTo>
                    <a:cubicBezTo>
                      <a:pt x="5" y="51"/>
                      <a:pt x="0" y="28"/>
                      <a:pt x="13" y="13"/>
                    </a:cubicBezTo>
                    <a:cubicBezTo>
                      <a:pt x="24" y="0"/>
                      <a:pt x="46" y="8"/>
                      <a:pt x="62" y="5"/>
                    </a:cubicBezTo>
                    <a:cubicBezTo>
                      <a:pt x="75" y="45"/>
                      <a:pt x="84" y="71"/>
                      <a:pt x="120" y="96"/>
                    </a:cubicBezTo>
                    <a:cubicBezTo>
                      <a:pt x="155" y="148"/>
                      <a:pt x="122" y="161"/>
                      <a:pt x="95" y="202"/>
                    </a:cubicBezTo>
                    <a:cubicBezTo>
                      <a:pt x="92" y="210"/>
                      <a:pt x="92" y="220"/>
                      <a:pt x="87" y="227"/>
                    </a:cubicBezTo>
                    <a:cubicBezTo>
                      <a:pt x="83" y="234"/>
                      <a:pt x="73" y="236"/>
                      <a:pt x="70" y="243"/>
                    </a:cubicBezTo>
                    <a:cubicBezTo>
                      <a:pt x="51" y="282"/>
                      <a:pt x="58" y="305"/>
                      <a:pt x="29" y="334"/>
                    </a:cubicBezTo>
                    <a:cubicBezTo>
                      <a:pt x="26" y="353"/>
                      <a:pt x="39" y="385"/>
                      <a:pt x="21" y="391"/>
                    </a:cubicBezTo>
                    <a:cubicBezTo>
                      <a:pt x="5" y="396"/>
                      <a:pt x="5" y="342"/>
                      <a:pt x="5" y="342"/>
                    </a:cubicBezTo>
                    <a:cubicBezTo>
                      <a:pt x="13" y="287"/>
                      <a:pt x="22" y="257"/>
                      <a:pt x="13" y="20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5" name=""/>
            <p:cNvSpPr/>
            <p:nvPr/>
          </p:nvSpPr>
          <p:spPr>
            <a:xfrm rot="8702400">
              <a:off x="5958000" y="3367800"/>
              <a:ext cx="139680" cy="117360"/>
            </a:xfrm>
            <a:custGeom>
              <a:avLst/>
              <a:gdLst/>
              <a:ahLst/>
              <a:rect l="l" t="t" r="r" b="b"/>
              <a:pathLst>
                <a:path w="88" h="74">
                  <a:moveTo>
                    <a:pt x="47" y="0"/>
                  </a:moveTo>
                  <a:cubicBezTo>
                    <a:pt x="0" y="15"/>
                    <a:pt x="0" y="57"/>
                    <a:pt x="47" y="74"/>
                  </a:cubicBezTo>
                  <a:cubicBezTo>
                    <a:pt x="84" y="60"/>
                    <a:pt x="77" y="51"/>
                    <a:pt x="88" y="16"/>
                  </a:cubicBezTo>
                  <a:cubicBezTo>
                    <a:pt x="57" y="6"/>
                    <a:pt x="71" y="12"/>
                    <a:pt x="47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5737320" y="1828800"/>
            <a:ext cx="1348920" cy="1250280"/>
            <a:chOff x="5737320" y="1828800"/>
            <a:chExt cx="1348920" cy="1250280"/>
          </a:xfrm>
        </p:grpSpPr>
        <p:grpSp>
          <p:nvGrpSpPr>
            <p:cNvPr id="1247" name=""/>
            <p:cNvGrpSpPr/>
            <p:nvPr/>
          </p:nvGrpSpPr>
          <p:grpSpPr>
            <a:xfrm>
              <a:off x="5867280" y="1828800"/>
              <a:ext cx="1218960" cy="1219320"/>
              <a:chOff x="5867280" y="1828800"/>
              <a:chExt cx="1218960" cy="1219320"/>
            </a:xfrm>
          </p:grpSpPr>
          <p:sp>
            <p:nvSpPr>
              <p:cNvPr id="1248" name=""/>
              <p:cNvSpPr/>
              <p:nvPr/>
            </p:nvSpPr>
            <p:spPr>
              <a:xfrm>
                <a:off x="5867280" y="182880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978160" y="193464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0" name=""/>
            <p:cNvGrpSpPr/>
            <p:nvPr/>
          </p:nvGrpSpPr>
          <p:grpSpPr>
            <a:xfrm>
              <a:off x="5737320" y="2655000"/>
              <a:ext cx="384480" cy="424080"/>
              <a:chOff x="5737320" y="2655000"/>
              <a:chExt cx="384480" cy="424080"/>
            </a:xfrm>
          </p:grpSpPr>
          <p:sp>
            <p:nvSpPr>
              <p:cNvPr id="1251" name=""/>
              <p:cNvSpPr/>
              <p:nvPr/>
            </p:nvSpPr>
            <p:spPr>
              <a:xfrm rot="3205200">
                <a:off x="5808960" y="2669040"/>
                <a:ext cx="16812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rot="12544800">
                <a:off x="5900040" y="2791440"/>
                <a:ext cx="16848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3" name=""/>
            <p:cNvSpPr/>
            <p:nvPr/>
          </p:nvSpPr>
          <p:spPr>
            <a:xfrm>
              <a:off x="6019560" y="227016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6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500"/>
                            </p:stCondLst>
                            <p:childTnLst>
                              <p:par>
                                <p:cTn id="10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0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13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6500"/>
                            </p:stCondLst>
                            <p:childTnLst>
                              <p:par>
                                <p:cTn id="1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7500"/>
                            </p:stCondLst>
                            <p:childTnLst>
                              <p:par>
                                <p:cTn id="11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8500"/>
                            </p:stCondLst>
                            <p:childTnLst>
                              <p:par>
                                <p:cTn id="11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9500"/>
                            </p:stCondLst>
                            <p:childTnLst>
                              <p:par>
                                <p:cTn id="1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500"/>
                            </p:stCondLst>
                            <p:childTnLst>
                              <p:par>
                                <p:cTn id="1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500"/>
                            </p:stCondLst>
                            <p:childTnLst>
                              <p:par>
                                <p:cTn id="12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5500"/>
                            </p:stCondLst>
                            <p:childTnLst>
                              <p:par>
                                <p:cTn id="12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6500"/>
                            </p:stCondLst>
                            <p:childTnLst>
                              <p:par>
                                <p:cTn id="1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3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5500"/>
                            </p:stCondLst>
                            <p:childTnLst>
                              <p:par>
                                <p:cTn id="12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6500"/>
                            </p:stCondLst>
                            <p:childTnLst>
                              <p:par>
                                <p:cTn id="12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7000"/>
                            </p:stCondLst>
                            <p:childTnLst>
                              <p:par>
                                <p:cTn id="13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8500"/>
                            </p:stCondLst>
                            <p:childTnLst>
                              <p:par>
                                <p:cTn id="1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9500"/>
                            </p:stCondLst>
                            <p:childTnLst>
                              <p:par>
                                <p:cTn id="131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3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3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5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5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4" name="" descr=""/>
          <p:cNvPicPr/>
          <p:nvPr/>
        </p:nvPicPr>
        <p:blipFill>
          <a:blip r:embed="rId1"/>
          <a:stretch/>
        </p:blipFill>
        <p:spPr>
          <a:xfrm>
            <a:off x="6635880" y="5486400"/>
            <a:ext cx="1104840" cy="828720"/>
          </a:xfrm>
          <a:prstGeom prst="rect">
            <a:avLst/>
          </a:prstGeom>
          <a:ln w="0">
            <a:noFill/>
          </a:ln>
        </p:spPr>
      </p:pic>
      <p:pic>
        <p:nvPicPr>
          <p:cNvPr id="1255" name="" descr=""/>
          <p:cNvPicPr/>
          <p:nvPr/>
        </p:nvPicPr>
        <p:blipFill>
          <a:blip r:embed="rId2"/>
          <a:stretch/>
        </p:blipFill>
        <p:spPr>
          <a:xfrm>
            <a:off x="5029200" y="533520"/>
            <a:ext cx="3962520" cy="3043080"/>
          </a:xfrm>
          <a:prstGeom prst="rect">
            <a:avLst/>
          </a:prstGeom>
          <a:ln w="0">
            <a:noFill/>
          </a:ln>
        </p:spPr>
      </p:pic>
      <p:pic>
        <p:nvPicPr>
          <p:cNvPr id="1256" name="" descr=""/>
          <p:cNvPicPr/>
          <p:nvPr/>
        </p:nvPicPr>
        <p:blipFill>
          <a:blip r:embed="rId3"/>
          <a:stretch/>
        </p:blipFill>
        <p:spPr>
          <a:xfrm>
            <a:off x="6645240" y="5238720"/>
            <a:ext cx="1104840" cy="1085760"/>
          </a:xfrm>
          <a:prstGeom prst="rect">
            <a:avLst/>
          </a:prstGeom>
          <a:ln w="0">
            <a:noFill/>
          </a:ln>
        </p:spPr>
      </p:pic>
      <p:pic>
        <p:nvPicPr>
          <p:cNvPr id="1257" name="" descr=""/>
          <p:cNvPicPr/>
          <p:nvPr/>
        </p:nvPicPr>
        <p:blipFill>
          <a:blip r:embed="rId4"/>
          <a:stretch/>
        </p:blipFill>
        <p:spPr>
          <a:xfrm>
            <a:off x="6635880" y="5249880"/>
            <a:ext cx="1114200" cy="1324080"/>
          </a:xfrm>
          <a:prstGeom prst="rect">
            <a:avLst/>
          </a:prstGeom>
          <a:ln w="0">
            <a:noFill/>
          </a:ln>
        </p:spPr>
      </p:pic>
      <p:pic>
        <p:nvPicPr>
          <p:cNvPr id="1258" name="" descr=""/>
          <p:cNvPicPr/>
          <p:nvPr/>
        </p:nvPicPr>
        <p:blipFill>
          <a:blip r:embed="rId5"/>
          <a:stretch/>
        </p:blipFill>
        <p:spPr>
          <a:xfrm>
            <a:off x="6629400" y="3998880"/>
            <a:ext cx="1143000" cy="1106640"/>
          </a:xfrm>
          <a:prstGeom prst="rect">
            <a:avLst/>
          </a:prstGeom>
          <a:ln w="0">
            <a:noFill/>
          </a:ln>
        </p:spPr>
      </p:pic>
      <p:pic>
        <p:nvPicPr>
          <p:cNvPr id="1259" name="" descr=""/>
          <p:cNvPicPr/>
          <p:nvPr/>
        </p:nvPicPr>
        <p:blipFill>
          <a:blip r:embed="rId6"/>
          <a:stretch/>
        </p:blipFill>
        <p:spPr>
          <a:xfrm>
            <a:off x="6568920" y="5229360"/>
            <a:ext cx="1171800" cy="1361880"/>
          </a:xfrm>
          <a:prstGeom prst="rect">
            <a:avLst/>
          </a:prstGeom>
          <a:ln w="0">
            <a:noFill/>
          </a:ln>
        </p:spPr>
      </p:pic>
      <p:pic>
        <p:nvPicPr>
          <p:cNvPr id="1260" name="" descr=""/>
          <p:cNvPicPr/>
          <p:nvPr/>
        </p:nvPicPr>
        <p:blipFill>
          <a:blip r:embed="rId7"/>
          <a:stretch/>
        </p:blipFill>
        <p:spPr>
          <a:xfrm>
            <a:off x="6588000" y="3995640"/>
            <a:ext cx="1173240" cy="2590920"/>
          </a:xfrm>
          <a:prstGeom prst="rect">
            <a:avLst/>
          </a:prstGeom>
          <a:ln w="0">
            <a:noFill/>
          </a:ln>
        </p:spPr>
      </p:pic>
      <p:pic>
        <p:nvPicPr>
          <p:cNvPr id="1261" name="" descr=""/>
          <p:cNvPicPr/>
          <p:nvPr/>
        </p:nvPicPr>
        <p:blipFill>
          <a:blip r:embed="rId8"/>
          <a:stretch/>
        </p:blipFill>
        <p:spPr>
          <a:xfrm>
            <a:off x="6558120" y="3933720"/>
            <a:ext cx="1253880" cy="2684520"/>
          </a:xfrm>
          <a:prstGeom prst="rect">
            <a:avLst/>
          </a:prstGeom>
          <a:ln w="0">
            <a:noFill/>
          </a:ln>
        </p:spPr>
      </p:pic>
      <p:pic>
        <p:nvPicPr>
          <p:cNvPr id="1262" name="" descr=""/>
          <p:cNvPicPr/>
          <p:nvPr/>
        </p:nvPicPr>
        <p:blipFill>
          <a:blip r:embed="rId9"/>
          <a:stretch/>
        </p:blipFill>
        <p:spPr>
          <a:xfrm>
            <a:off x="6546960" y="3860640"/>
            <a:ext cx="1338120" cy="2467080"/>
          </a:xfrm>
          <a:prstGeom prst="rect">
            <a:avLst/>
          </a:prstGeom>
          <a:ln w="0">
            <a:noFill/>
          </a:ln>
        </p:spPr>
      </p:pic>
      <p:sp>
        <p:nvSpPr>
          <p:cNvPr id="1263" name=""/>
          <p:cNvSpPr/>
          <p:nvPr/>
        </p:nvSpPr>
        <p:spPr>
          <a:xfrm>
            <a:off x="324000" y="1268280"/>
            <a:ext cx="3600360" cy="396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4" name=""/>
          <p:cNvGrpSpPr/>
          <p:nvPr/>
        </p:nvGrpSpPr>
        <p:grpSpPr>
          <a:xfrm>
            <a:off x="324000" y="5229360"/>
            <a:ext cx="3600360" cy="144360"/>
            <a:chOff x="324000" y="5229360"/>
            <a:chExt cx="3600360" cy="144360"/>
          </a:xfrm>
        </p:grpSpPr>
        <p:sp>
          <p:nvSpPr>
            <p:cNvPr id="1265" name=""/>
            <p:cNvSpPr/>
            <p:nvPr/>
          </p:nvSpPr>
          <p:spPr>
            <a:xfrm>
              <a:off x="324000" y="522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84360" y="522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042920" y="522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403280" y="522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763640" y="522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124000" y="522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484360" y="522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843280" y="522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203640" y="522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564000" y="522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924360" y="522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6" name=""/>
          <p:cNvSpPr/>
          <p:nvPr/>
        </p:nvSpPr>
        <p:spPr>
          <a:xfrm>
            <a:off x="0" y="5373720"/>
            <a:ext cx="421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       1      2      3      4      5      6      7      8      9    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258920" y="5716440"/>
            <a:ext cx="28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Días después de la infección vi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8" name=""/>
          <p:cNvGraphicFramePr/>
          <p:nvPr/>
        </p:nvGraphicFramePr>
        <p:xfrm>
          <a:off x="1258920" y="1527120"/>
          <a:ext cx="493560" cy="533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7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58920" y="1527120"/>
                    <a:ext cx="4935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0" name=""/>
          <p:cNvSpPr/>
          <p:nvPr/>
        </p:nvSpPr>
        <p:spPr>
          <a:xfrm>
            <a:off x="344520" y="3889440"/>
            <a:ext cx="3168720" cy="1319040"/>
          </a:xfrm>
          <a:custGeom>
            <a:avLst/>
            <a:gdLst/>
            <a:ahLst/>
            <a:rect l="l" t="t" r="r" b="b"/>
            <a:pathLst>
              <a:path w="1996" h="831">
                <a:moveTo>
                  <a:pt x="0" y="831"/>
                </a:moveTo>
                <a:cubicBezTo>
                  <a:pt x="83" y="698"/>
                  <a:pt x="167" y="566"/>
                  <a:pt x="227" y="468"/>
                </a:cubicBezTo>
                <a:cubicBezTo>
                  <a:pt x="287" y="370"/>
                  <a:pt x="310" y="309"/>
                  <a:pt x="363" y="241"/>
                </a:cubicBezTo>
                <a:cubicBezTo>
                  <a:pt x="416" y="173"/>
                  <a:pt x="446" y="98"/>
                  <a:pt x="544" y="60"/>
                </a:cubicBezTo>
                <a:cubicBezTo>
                  <a:pt x="642" y="22"/>
                  <a:pt x="839" y="0"/>
                  <a:pt x="952" y="15"/>
                </a:cubicBezTo>
                <a:cubicBezTo>
                  <a:pt x="1065" y="30"/>
                  <a:pt x="1142" y="53"/>
                  <a:pt x="1225" y="151"/>
                </a:cubicBezTo>
                <a:cubicBezTo>
                  <a:pt x="1308" y="249"/>
                  <a:pt x="1322" y="491"/>
                  <a:pt x="1451" y="604"/>
                </a:cubicBezTo>
                <a:cubicBezTo>
                  <a:pt x="1580" y="717"/>
                  <a:pt x="1905" y="793"/>
                  <a:pt x="1996" y="831"/>
                </a:cubicBezTo>
              </a:path>
            </a:pathLst>
          </a:cu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1" name="" descr=""/>
          <p:cNvPicPr/>
          <p:nvPr/>
        </p:nvPicPr>
        <p:blipFill>
          <a:blip r:embed="rId12"/>
          <a:stretch/>
        </p:blipFill>
        <p:spPr>
          <a:xfrm>
            <a:off x="1979640" y="1413000"/>
            <a:ext cx="762120" cy="736560"/>
          </a:xfrm>
          <a:prstGeom prst="rect">
            <a:avLst/>
          </a:prstGeom>
          <a:ln w="0">
            <a:noFill/>
          </a:ln>
        </p:spPr>
      </p:pic>
      <p:pic>
        <p:nvPicPr>
          <p:cNvPr id="1282" name="" descr=""/>
          <p:cNvPicPr/>
          <p:nvPr/>
        </p:nvPicPr>
        <p:blipFill>
          <a:blip r:embed="rId13"/>
          <a:stretch/>
        </p:blipFill>
        <p:spPr>
          <a:xfrm>
            <a:off x="2987640" y="1413000"/>
            <a:ext cx="817560" cy="784080"/>
          </a:xfrm>
          <a:prstGeom prst="rect">
            <a:avLst/>
          </a:prstGeom>
          <a:ln w="0">
            <a:noFill/>
          </a:ln>
        </p:spPr>
      </p:pic>
      <p:sp>
        <p:nvSpPr>
          <p:cNvPr id="1283" name=""/>
          <p:cNvSpPr/>
          <p:nvPr/>
        </p:nvSpPr>
        <p:spPr>
          <a:xfrm>
            <a:off x="425520" y="14302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6600"/>
                </a:solidFill>
                <a:latin typeface="Times New Roman"/>
              </a:rPr>
              <a:t>IFN-</a:t>
            </a:r>
            <a:r>
              <a:rPr b="1" lang="es-ES_tradnl" sz="1400" spc="-1" strike="noStrike">
                <a:solidFill>
                  <a:srgbClr val="0066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25520" y="1658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6600"/>
                </a:solidFill>
                <a:latin typeface="Times New Roman"/>
              </a:rPr>
              <a:t>IFN-</a:t>
            </a:r>
            <a:r>
              <a:rPr b="1" lang="es-ES_tradnl" sz="1400" spc="-1" strike="noStrike">
                <a:solidFill>
                  <a:srgbClr val="006600"/>
                </a:solidFill>
                <a:latin typeface="Symbol"/>
                <a:ea typeface="Symbol"/>
              </a:rPr>
              <a:t>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04640" y="1887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6600"/>
                </a:solidFill>
                <a:latin typeface="Times New Roman"/>
              </a:rPr>
              <a:t>TNF-</a:t>
            </a:r>
            <a:r>
              <a:rPr b="1" lang="es-ES_tradnl" sz="1400" spc="-1" strike="noStrike">
                <a:solidFill>
                  <a:srgbClr val="0066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25520" y="2116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6600"/>
                </a:solidFill>
                <a:latin typeface="Times New Roman"/>
              </a:rPr>
              <a:t>IL-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24000" y="3002040"/>
            <a:ext cx="1800000" cy="2197080"/>
          </a:xfrm>
          <a:custGeom>
            <a:avLst/>
            <a:gdLst/>
            <a:ahLst/>
            <a:rect l="l" t="t" r="r" b="b"/>
            <a:pathLst>
              <a:path w="1134" h="1384">
                <a:moveTo>
                  <a:pt x="0" y="1384"/>
                </a:moveTo>
                <a:cubicBezTo>
                  <a:pt x="94" y="1225"/>
                  <a:pt x="189" y="1067"/>
                  <a:pt x="272" y="840"/>
                </a:cubicBezTo>
                <a:cubicBezTo>
                  <a:pt x="355" y="613"/>
                  <a:pt x="431" y="0"/>
                  <a:pt x="499" y="23"/>
                </a:cubicBezTo>
                <a:cubicBezTo>
                  <a:pt x="567" y="46"/>
                  <a:pt x="574" y="749"/>
                  <a:pt x="680" y="976"/>
                </a:cubicBezTo>
                <a:cubicBezTo>
                  <a:pt x="786" y="1203"/>
                  <a:pt x="1058" y="1316"/>
                  <a:pt x="1134" y="1384"/>
                </a:cubicBezTo>
              </a:path>
            </a:pathLst>
          </a:custGeom>
          <a:noFill/>
          <a:ln w="7632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24000" y="3068640"/>
            <a:ext cx="2232000" cy="2160720"/>
          </a:xfrm>
          <a:custGeom>
            <a:avLst/>
            <a:gdLst/>
            <a:ahLst/>
            <a:rect l="l" t="t" r="r" b="b"/>
            <a:pathLst>
              <a:path w="1406" h="1413">
                <a:moveTo>
                  <a:pt x="0" y="1413"/>
                </a:moveTo>
                <a:cubicBezTo>
                  <a:pt x="143" y="1258"/>
                  <a:pt x="287" y="1103"/>
                  <a:pt x="408" y="869"/>
                </a:cubicBezTo>
                <a:cubicBezTo>
                  <a:pt x="529" y="635"/>
                  <a:pt x="620" y="0"/>
                  <a:pt x="726" y="7"/>
                </a:cubicBezTo>
                <a:cubicBezTo>
                  <a:pt x="832" y="14"/>
                  <a:pt x="968" y="702"/>
                  <a:pt x="1043" y="914"/>
                </a:cubicBezTo>
                <a:cubicBezTo>
                  <a:pt x="1118" y="1126"/>
                  <a:pt x="1119" y="1194"/>
                  <a:pt x="1179" y="1277"/>
                </a:cubicBezTo>
                <a:cubicBezTo>
                  <a:pt x="1239" y="1360"/>
                  <a:pt x="1368" y="1390"/>
                  <a:pt x="1406" y="1413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971640" y="3017880"/>
            <a:ext cx="2952720" cy="2227320"/>
          </a:xfrm>
          <a:custGeom>
            <a:avLst/>
            <a:gdLst/>
            <a:ahLst/>
            <a:rect l="l" t="t" r="r" b="b"/>
            <a:pathLst>
              <a:path w="1860" h="1459">
                <a:moveTo>
                  <a:pt x="0" y="1436"/>
                </a:moveTo>
                <a:cubicBezTo>
                  <a:pt x="147" y="1447"/>
                  <a:pt x="295" y="1459"/>
                  <a:pt x="408" y="1300"/>
                </a:cubicBezTo>
                <a:cubicBezTo>
                  <a:pt x="521" y="1141"/>
                  <a:pt x="589" y="680"/>
                  <a:pt x="680" y="483"/>
                </a:cubicBezTo>
                <a:cubicBezTo>
                  <a:pt x="771" y="286"/>
                  <a:pt x="832" y="196"/>
                  <a:pt x="953" y="121"/>
                </a:cubicBezTo>
                <a:cubicBezTo>
                  <a:pt x="1074" y="46"/>
                  <a:pt x="1255" y="0"/>
                  <a:pt x="1406" y="30"/>
                </a:cubicBezTo>
                <a:cubicBezTo>
                  <a:pt x="1557" y="60"/>
                  <a:pt x="1792" y="249"/>
                  <a:pt x="1860" y="302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4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9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500"/>
                            </p:stCondLst>
                            <p:childTnLst>
                              <p:par>
                                <p:cTn id="1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8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3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8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500"/>
                            </p:stCondLst>
                            <p:childTnLst>
                              <p:par>
                                <p:cTn id="1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1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5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0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500"/>
                            </p:stCondLst>
                            <p:childTnLst>
                              <p:par>
                                <p:cTn id="1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4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9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500"/>
                            </p:stCondLst>
                            <p:childTnLst>
                              <p:par>
                                <p:cTn id="1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4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500"/>
                            </p:stCondLst>
                            <p:childTnLst>
                              <p:par>
                                <p:cTn id="1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3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"/>
          <p:cNvSpPr/>
          <p:nvPr/>
        </p:nvSpPr>
        <p:spPr>
          <a:xfrm>
            <a:off x="1295280" y="457200"/>
            <a:ext cx="99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3300"/>
                </a:solidFill>
                <a:latin typeface="Times New Roman"/>
              </a:rPr>
              <a:t>Principal anticuerpo en el su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715000" y="15228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Times New Roman"/>
              </a:rPr>
              <a:t>Concentración sérica (mgs/100 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7176960" y="838080"/>
            <a:ext cx="824040" cy="884520"/>
            <a:chOff x="7176960" y="838080"/>
            <a:chExt cx="824040" cy="884520"/>
          </a:xfrm>
        </p:grpSpPr>
        <p:graphicFrame>
          <p:nvGraphicFramePr>
            <p:cNvPr id="1293" name=""/>
            <p:cNvGraphicFramePr/>
            <p:nvPr/>
          </p:nvGraphicFramePr>
          <p:xfrm>
            <a:off x="7176960" y="838080"/>
            <a:ext cx="824040" cy="884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176960" y="838080"/>
                      <a:ext cx="824040" cy="88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95" name=""/>
            <p:cNvSpPr/>
            <p:nvPr/>
          </p:nvSpPr>
          <p:spPr>
            <a:xfrm>
              <a:off x="7315200" y="99072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3300"/>
                  </a:solidFill>
                  <a:latin typeface="Times New Roman"/>
                </a:rPr>
                <a:t>IgG</a:t>
              </a:r>
              <a:r>
                <a:rPr b="1" lang="es-ES_tradnl" sz="14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391520" y="11574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8053560" y="932040"/>
            <a:ext cx="556920" cy="517680"/>
            <a:chOff x="8053560" y="932040"/>
            <a:chExt cx="556920" cy="517680"/>
          </a:xfrm>
        </p:grpSpPr>
        <p:graphicFrame>
          <p:nvGraphicFramePr>
            <p:cNvPr id="1298" name=""/>
            <p:cNvGraphicFramePr/>
            <p:nvPr/>
          </p:nvGraphicFramePr>
          <p:xfrm>
            <a:off x="8053560" y="932040"/>
            <a:ext cx="480960" cy="515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053560" y="932040"/>
                      <a:ext cx="480960" cy="51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0" name=""/>
            <p:cNvSpPr/>
            <p:nvPr/>
          </p:nvSpPr>
          <p:spPr>
            <a:xfrm>
              <a:off x="8077320" y="990720"/>
              <a:ext cx="533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3300"/>
                  </a:solidFill>
                  <a:latin typeface="Times New Roman"/>
                </a:rPr>
                <a:t>IgG</a:t>
              </a:r>
              <a:r>
                <a:rPr b="1" lang="es-ES_tradnl" sz="1200" spc="-1" strike="noStrike" baseline="-25000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8153280" y="117324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33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8610480" y="990720"/>
            <a:ext cx="457200" cy="399960"/>
            <a:chOff x="8610480" y="990720"/>
            <a:chExt cx="457200" cy="399960"/>
          </a:xfrm>
        </p:grpSpPr>
        <p:graphicFrame>
          <p:nvGraphicFramePr>
            <p:cNvPr id="1303" name=""/>
            <p:cNvGraphicFramePr/>
            <p:nvPr/>
          </p:nvGraphicFramePr>
          <p:xfrm>
            <a:off x="8610480" y="990720"/>
            <a:ext cx="368280" cy="39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0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610480" y="990720"/>
                      <a:ext cx="36828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5" name=""/>
            <p:cNvSpPr/>
            <p:nvPr/>
          </p:nvSpPr>
          <p:spPr>
            <a:xfrm>
              <a:off x="8686800" y="114300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8610480" y="990720"/>
              <a:ext cx="457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3300"/>
                  </a:solidFill>
                  <a:latin typeface="Times New Roman"/>
                </a:rPr>
                <a:t>IgG</a:t>
              </a:r>
              <a:r>
                <a:rPr b="1" lang="es-ES_tradnl" sz="1000" spc="-1" strike="noStrike" baseline="-25000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7" name=""/>
          <p:cNvSpPr/>
          <p:nvPr/>
        </p:nvSpPr>
        <p:spPr>
          <a:xfrm>
            <a:off x="152280" y="1447920"/>
            <a:ext cx="2133720" cy="307080"/>
          </a:xfrm>
          <a:prstGeom prst="rect">
            <a:avLst/>
          </a:prstGeom>
          <a:solidFill>
            <a:srgbClr val="fdfa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Inmunoglobulina A (Ig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52280" y="2590920"/>
            <a:ext cx="2210040" cy="307080"/>
          </a:xfrm>
          <a:prstGeom prst="rect">
            <a:avLst/>
          </a:prstGeom>
          <a:solidFill>
            <a:srgbClr val="8312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Inmunoglobulina M (Ig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9" name=""/>
          <p:cNvGrpSpPr/>
          <p:nvPr/>
        </p:nvGrpSpPr>
        <p:grpSpPr>
          <a:xfrm>
            <a:off x="7253280" y="1905120"/>
            <a:ext cx="824040" cy="884160"/>
            <a:chOff x="7253280" y="1905120"/>
            <a:chExt cx="824040" cy="884160"/>
          </a:xfrm>
        </p:grpSpPr>
        <p:graphicFrame>
          <p:nvGraphicFramePr>
            <p:cNvPr id="1310" name=""/>
            <p:cNvGraphicFramePr/>
            <p:nvPr/>
          </p:nvGraphicFramePr>
          <p:xfrm>
            <a:off x="7253280" y="1905120"/>
            <a:ext cx="824040" cy="884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1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253280" y="1905120"/>
                      <a:ext cx="824040" cy="88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2" name=""/>
            <p:cNvSpPr/>
            <p:nvPr/>
          </p:nvSpPr>
          <p:spPr>
            <a:xfrm>
              <a:off x="7391520" y="205740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3300"/>
                  </a:solidFill>
                  <a:latin typeface="Times New Roman"/>
                </a:rPr>
                <a:t>IgA</a:t>
              </a:r>
              <a:r>
                <a:rPr b="1" lang="es-ES_tradnl" sz="14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467480" y="2286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8610480" y="2117880"/>
            <a:ext cx="457200" cy="398520"/>
            <a:chOff x="8610480" y="2117880"/>
            <a:chExt cx="457200" cy="398520"/>
          </a:xfrm>
        </p:grpSpPr>
        <p:graphicFrame>
          <p:nvGraphicFramePr>
            <p:cNvPr id="1315" name=""/>
            <p:cNvGraphicFramePr/>
            <p:nvPr/>
          </p:nvGraphicFramePr>
          <p:xfrm>
            <a:off x="8610480" y="2133720"/>
            <a:ext cx="381240" cy="380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1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610480" y="2133720"/>
                      <a:ext cx="3812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7" name=""/>
            <p:cNvSpPr/>
            <p:nvPr/>
          </p:nvSpPr>
          <p:spPr>
            <a:xfrm>
              <a:off x="8610480" y="2117880"/>
              <a:ext cx="457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3300"/>
                  </a:solidFill>
                  <a:latin typeface="Times New Roman"/>
                </a:rPr>
                <a:t>IgA</a:t>
              </a:r>
              <a:r>
                <a:rPr b="1" lang="es-ES_tradnl" sz="10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8686800" y="227016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9" name=""/>
          <p:cNvSpPr/>
          <p:nvPr/>
        </p:nvSpPr>
        <p:spPr>
          <a:xfrm>
            <a:off x="685800" y="1828800"/>
            <a:ext cx="114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3300"/>
                </a:solidFill>
                <a:latin typeface="Times New Roman"/>
              </a:rPr>
              <a:t>Principal anticuerpo en secre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0" name=""/>
          <p:cNvGraphicFramePr/>
          <p:nvPr/>
        </p:nvGraphicFramePr>
        <p:xfrm>
          <a:off x="66600" y="3422520"/>
          <a:ext cx="1990800" cy="1911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2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6600" y="3422520"/>
                    <a:ext cx="1990800" cy="19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22" name=""/>
          <p:cNvGrpSpPr/>
          <p:nvPr/>
        </p:nvGrpSpPr>
        <p:grpSpPr>
          <a:xfrm>
            <a:off x="7794720" y="2971800"/>
            <a:ext cx="663480" cy="685800"/>
            <a:chOff x="7794720" y="2971800"/>
            <a:chExt cx="663480" cy="685800"/>
          </a:xfrm>
        </p:grpSpPr>
        <p:graphicFrame>
          <p:nvGraphicFramePr>
            <p:cNvPr id="1323" name=""/>
            <p:cNvGraphicFramePr/>
            <p:nvPr/>
          </p:nvGraphicFramePr>
          <p:xfrm>
            <a:off x="7794720" y="2971800"/>
            <a:ext cx="663480" cy="6858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32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794720" y="2971800"/>
                      <a:ext cx="66348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25" name=""/>
            <p:cNvSpPr/>
            <p:nvPr/>
          </p:nvSpPr>
          <p:spPr>
            <a:xfrm>
              <a:off x="7870680" y="307800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imes New Roman"/>
                </a:rPr>
                <a:t>Ig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947000" y="33066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7" name=""/>
          <p:cNvSpPr/>
          <p:nvPr/>
        </p:nvSpPr>
        <p:spPr>
          <a:xfrm>
            <a:off x="152280" y="5400720"/>
            <a:ext cx="2210040" cy="307080"/>
          </a:xfrm>
          <a:prstGeom prst="rect">
            <a:avLst/>
          </a:prstGeom>
          <a:solidFill>
            <a:srgbClr val="dfd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Inmunoglobulina D (Ig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8" name=""/>
          <p:cNvGraphicFramePr/>
          <p:nvPr/>
        </p:nvGraphicFramePr>
        <p:xfrm>
          <a:off x="8686800" y="3886200"/>
          <a:ext cx="147600" cy="152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2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686800" y="3886200"/>
                    <a:ext cx="14760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"/>
          <p:cNvSpPr/>
          <p:nvPr/>
        </p:nvSpPr>
        <p:spPr>
          <a:xfrm>
            <a:off x="457200" y="5715000"/>
            <a:ext cx="1219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3300"/>
                </a:solidFill>
                <a:latin typeface="Times New Roman"/>
              </a:rPr>
              <a:t>Receptor antigénico de linfocitos B junto con IgM monomé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657600" y="6467400"/>
            <a:ext cx="2133720" cy="307080"/>
          </a:xfrm>
          <a:prstGeom prst="rect">
            <a:avLst/>
          </a:prstGeom>
          <a:solidFill>
            <a:srgbClr val="ff6f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Inmunoglobulina E (I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315200" y="5442120"/>
            <a:ext cx="1447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3300"/>
                </a:solidFill>
                <a:latin typeface="Times New Roman"/>
              </a:rPr>
              <a:t>Antiparasitaria y participa en reacciones de hipersensibilidad por unión a células ceba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3" name=""/>
          <p:cNvGraphicFramePr/>
          <p:nvPr/>
        </p:nvGraphicFramePr>
        <p:xfrm rot="10800000">
          <a:off x="8763120" y="4871520"/>
          <a:ext cx="77760" cy="81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3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 rot="10800000">
                    <a:off x="8763120" y="4871520"/>
                    <a:ext cx="77760" cy="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5" name=""/>
          <p:cNvGraphicFramePr/>
          <p:nvPr/>
        </p:nvGraphicFramePr>
        <p:xfrm>
          <a:off x="76320" y="76320"/>
          <a:ext cx="907920" cy="1295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3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6320" y="76320"/>
                    <a:ext cx="9079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7" name=""/>
          <p:cNvGraphicFramePr/>
          <p:nvPr/>
        </p:nvGraphicFramePr>
        <p:xfrm>
          <a:off x="2608200" y="380880"/>
          <a:ext cx="3448080" cy="5943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3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08200" y="380880"/>
                    <a:ext cx="344808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9" name=""/>
          <p:cNvGraphicFramePr/>
          <p:nvPr/>
        </p:nvGraphicFramePr>
        <p:xfrm>
          <a:off x="2608200" y="393840"/>
          <a:ext cx="3476520" cy="5918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4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608200" y="393840"/>
                    <a:ext cx="347652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1" name=""/>
          <p:cNvGraphicFramePr/>
          <p:nvPr/>
        </p:nvGraphicFramePr>
        <p:xfrm>
          <a:off x="2608200" y="428760"/>
          <a:ext cx="3476520" cy="58957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34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08200" y="428760"/>
                    <a:ext cx="3476520" cy="58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3" name=""/>
          <p:cNvSpPr/>
          <p:nvPr/>
        </p:nvSpPr>
        <p:spPr>
          <a:xfrm>
            <a:off x="1143000" y="76320"/>
            <a:ext cx="2209680" cy="307080"/>
          </a:xfrm>
          <a:prstGeom prst="rect">
            <a:avLst/>
          </a:prstGeom>
          <a:solidFill>
            <a:srgbClr val="fdea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Inmunoglobulina G (Ig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4" name=""/>
          <p:cNvGraphicFramePr/>
          <p:nvPr/>
        </p:nvGraphicFramePr>
        <p:xfrm>
          <a:off x="2608200" y="380880"/>
          <a:ext cx="3476520" cy="59184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34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08200" y="380880"/>
                    <a:ext cx="347652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6" name=""/>
          <p:cNvGraphicFramePr/>
          <p:nvPr/>
        </p:nvGraphicFramePr>
        <p:xfrm>
          <a:off x="2514600" y="380880"/>
          <a:ext cx="3564000" cy="5943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34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514600" y="380880"/>
                    <a:ext cx="3564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8" name=""/>
          <p:cNvGraphicFramePr/>
          <p:nvPr/>
        </p:nvGraphicFramePr>
        <p:xfrm>
          <a:off x="2300400" y="4943520"/>
          <a:ext cx="1204920" cy="18381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34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300400" y="4943520"/>
                    <a:ext cx="1204920" cy="18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0" name=""/>
          <p:cNvGraphicFramePr/>
          <p:nvPr/>
        </p:nvGraphicFramePr>
        <p:xfrm>
          <a:off x="5943600" y="5029200"/>
          <a:ext cx="1179360" cy="16765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5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943600" y="5029200"/>
                    <a:ext cx="11793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2" name=""/>
          <p:cNvGraphicFramePr/>
          <p:nvPr/>
        </p:nvGraphicFramePr>
        <p:xfrm>
          <a:off x="2286000" y="457200"/>
          <a:ext cx="922320" cy="28954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5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286000" y="457200"/>
                    <a:ext cx="92232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54" name=""/>
          <p:cNvGrpSpPr/>
          <p:nvPr/>
        </p:nvGrpSpPr>
        <p:grpSpPr>
          <a:xfrm>
            <a:off x="5715000" y="609480"/>
            <a:ext cx="1371600" cy="1474920"/>
            <a:chOff x="5715000" y="609480"/>
            <a:chExt cx="1371600" cy="1474920"/>
          </a:xfrm>
        </p:grpSpPr>
        <p:graphicFrame>
          <p:nvGraphicFramePr>
            <p:cNvPr id="1355" name=""/>
            <p:cNvGraphicFramePr/>
            <p:nvPr/>
          </p:nvGraphicFramePr>
          <p:xfrm>
            <a:off x="5715000" y="609480"/>
            <a:ext cx="1371600" cy="147492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1356" name="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5715000" y="609480"/>
                      <a:ext cx="1371600" cy="147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57" name=""/>
            <p:cNvSpPr/>
            <p:nvPr/>
          </p:nvSpPr>
          <p:spPr>
            <a:xfrm>
              <a:off x="6095880" y="100476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IgG</a:t>
              </a:r>
              <a:r>
                <a:rPr b="1" lang="es-ES_tradnl" sz="18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172200" y="12794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3300"/>
                  </a:solidFill>
                  <a:latin typeface="Times New Roman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9" name=""/>
          <p:cNvSpPr/>
          <p:nvPr/>
        </p:nvSpPr>
        <p:spPr>
          <a:xfrm>
            <a:off x="1447920" y="2971800"/>
            <a:ext cx="12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3300"/>
                </a:solidFill>
                <a:latin typeface="Times New Roman"/>
              </a:rPr>
              <a:t>Primer anticuerpo producido en las respuestas inm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8534520" y="35812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imes New Roman"/>
              </a:rPr>
              <a:t>Ig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8610480" y="4556160"/>
            <a:ext cx="45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imes New Roman"/>
              </a:rPr>
              <a:t>I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6" dur="75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575"/>
                            </p:stCondLst>
                            <p:childTnLst>
                              <p:par>
                                <p:cTn id="148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2075"/>
                            </p:stCondLst>
                            <p:childTnLst>
                              <p:par>
                                <p:cTn id="1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5" dur="3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3575"/>
                            </p:stCondLst>
                            <p:childTnLst>
                              <p:par>
                                <p:cTn id="1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9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4075"/>
                            </p:stCondLst>
                            <p:childTnLst>
                              <p:par>
                                <p:cTn id="1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3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4575"/>
                            </p:stCondLst>
                            <p:childTnLst>
                              <p:par>
                                <p:cTn id="15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5075"/>
                            </p:stCondLst>
                            <p:childTnLst>
                              <p:par>
                                <p:cTn id="15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5575"/>
                            </p:stCondLst>
                            <p:childTnLst>
                              <p:par>
                                <p:cTn id="15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6075"/>
                            </p:stCondLst>
                            <p:childTnLst>
                              <p:par>
                                <p:cTn id="15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8" dur="75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1575"/>
                            </p:stCondLst>
                            <p:childTnLst>
                              <p:par>
                                <p:cTn id="153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2075"/>
                            </p:stCondLst>
                            <p:childTnLst>
                              <p:par>
                                <p:cTn id="1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7" dur="3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3275"/>
                            </p:stCondLst>
                            <p:childTnLst>
                              <p:par>
                                <p:cTn id="1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1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3775"/>
                            </p:stCondLst>
                            <p:childTnLst>
                              <p:par>
                                <p:cTn id="15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4275"/>
                            </p:stCondLst>
                            <p:childTnLst>
                              <p:par>
                                <p:cTn id="15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6" dur="3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5" dur="3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4100"/>
                            </p:stCondLst>
                            <p:childTnLst>
                              <p:par>
                                <p:cTn id="15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9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4600"/>
                            </p:stCondLst>
                            <p:childTnLst>
                              <p:par>
                                <p:cTn id="1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9" dur="75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1575"/>
                            </p:stCondLst>
                            <p:childTnLst>
                              <p:par>
                                <p:cTn id="158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2075"/>
                            </p:stCondLst>
                            <p:childTnLst>
                              <p:par>
                                <p:cTn id="1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8" dur="3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4775"/>
                            </p:stCondLst>
                            <p:childTnLst>
                              <p:par>
                                <p:cTn id="159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5275"/>
                            </p:stCondLst>
                            <p:childTnLst>
                              <p:par>
                                <p:cTn id="1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1" dur="3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0" dur="3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5600"/>
                            </p:stCondLst>
                            <p:childTnLst>
                              <p:par>
                                <p:cTn id="1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4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6100"/>
                            </p:stCondLst>
                            <p:childTnLst>
                              <p:par>
                                <p:cTn id="161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6600"/>
                            </p:stCondLst>
                            <p:childTnLst>
                              <p:par>
                                <p:cTn id="16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e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2" name=""/>
          <p:cNvGraphicFramePr/>
          <p:nvPr/>
        </p:nvGraphicFramePr>
        <p:xfrm>
          <a:off x="2647800" y="3760920"/>
          <a:ext cx="1011240" cy="14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7800" y="3760920"/>
                    <a:ext cx="101124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4" name=""/>
          <p:cNvGraphicFramePr/>
          <p:nvPr/>
        </p:nvGraphicFramePr>
        <p:xfrm>
          <a:off x="0" y="2057400"/>
          <a:ext cx="6019920" cy="380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057400"/>
                    <a:ext cx="6019920" cy="38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66" name=""/>
          <p:cNvGrpSpPr/>
          <p:nvPr/>
        </p:nvGrpSpPr>
        <p:grpSpPr>
          <a:xfrm>
            <a:off x="76320" y="3657600"/>
            <a:ext cx="1066680" cy="609480"/>
            <a:chOff x="76320" y="3657600"/>
            <a:chExt cx="1066680" cy="609480"/>
          </a:xfrm>
        </p:grpSpPr>
        <p:sp>
          <p:nvSpPr>
            <p:cNvPr id="1367" name=""/>
            <p:cNvSpPr/>
            <p:nvPr/>
          </p:nvSpPr>
          <p:spPr>
            <a:xfrm>
              <a:off x="76320" y="3657600"/>
              <a:ext cx="1066680" cy="609480"/>
            </a:xfrm>
            <a:custGeom>
              <a:avLst/>
              <a:gdLst/>
              <a:ahLst/>
              <a:rect l="l" t="t" r="r" b="b"/>
              <a:pathLst>
                <a:path w="3021" h="2490">
                  <a:moveTo>
                    <a:pt x="656" y="235"/>
                  </a:moveTo>
                  <a:cubicBezTo>
                    <a:pt x="638" y="229"/>
                    <a:pt x="620" y="223"/>
                    <a:pt x="602" y="217"/>
                  </a:cubicBezTo>
                  <a:cubicBezTo>
                    <a:pt x="593" y="214"/>
                    <a:pt x="575" y="208"/>
                    <a:pt x="575" y="208"/>
                  </a:cubicBezTo>
                  <a:cubicBezTo>
                    <a:pt x="520" y="236"/>
                    <a:pt x="487" y="266"/>
                    <a:pt x="467" y="325"/>
                  </a:cubicBezTo>
                  <a:cubicBezTo>
                    <a:pt x="492" y="399"/>
                    <a:pt x="517" y="469"/>
                    <a:pt x="584" y="514"/>
                  </a:cubicBezTo>
                  <a:cubicBezTo>
                    <a:pt x="648" y="610"/>
                    <a:pt x="548" y="464"/>
                    <a:pt x="629" y="568"/>
                  </a:cubicBezTo>
                  <a:cubicBezTo>
                    <a:pt x="686" y="641"/>
                    <a:pt x="640" y="605"/>
                    <a:pt x="692" y="640"/>
                  </a:cubicBezTo>
                  <a:cubicBezTo>
                    <a:pt x="728" y="693"/>
                    <a:pt x="780" y="724"/>
                    <a:pt x="827" y="766"/>
                  </a:cubicBezTo>
                  <a:cubicBezTo>
                    <a:pt x="827" y="766"/>
                    <a:pt x="894" y="833"/>
                    <a:pt x="908" y="847"/>
                  </a:cubicBezTo>
                  <a:cubicBezTo>
                    <a:pt x="951" y="890"/>
                    <a:pt x="962" y="970"/>
                    <a:pt x="971" y="1027"/>
                  </a:cubicBezTo>
                  <a:cubicBezTo>
                    <a:pt x="961" y="1096"/>
                    <a:pt x="950" y="1149"/>
                    <a:pt x="890" y="1189"/>
                  </a:cubicBezTo>
                  <a:cubicBezTo>
                    <a:pt x="878" y="1207"/>
                    <a:pt x="861" y="1222"/>
                    <a:pt x="854" y="1243"/>
                  </a:cubicBezTo>
                  <a:cubicBezTo>
                    <a:pt x="851" y="1252"/>
                    <a:pt x="850" y="1262"/>
                    <a:pt x="845" y="1270"/>
                  </a:cubicBezTo>
                  <a:cubicBezTo>
                    <a:pt x="834" y="1289"/>
                    <a:pt x="816" y="1303"/>
                    <a:pt x="809" y="1324"/>
                  </a:cubicBezTo>
                  <a:cubicBezTo>
                    <a:pt x="796" y="1363"/>
                    <a:pt x="786" y="1402"/>
                    <a:pt x="773" y="1441"/>
                  </a:cubicBezTo>
                  <a:cubicBezTo>
                    <a:pt x="773" y="1448"/>
                    <a:pt x="773" y="1604"/>
                    <a:pt x="755" y="1657"/>
                  </a:cubicBezTo>
                  <a:cubicBezTo>
                    <a:pt x="719" y="1765"/>
                    <a:pt x="585" y="1891"/>
                    <a:pt x="476" y="1918"/>
                  </a:cubicBezTo>
                  <a:cubicBezTo>
                    <a:pt x="364" y="1992"/>
                    <a:pt x="218" y="1997"/>
                    <a:pt x="107" y="2071"/>
                  </a:cubicBezTo>
                  <a:cubicBezTo>
                    <a:pt x="101" y="2080"/>
                    <a:pt x="97" y="2091"/>
                    <a:pt x="89" y="2098"/>
                  </a:cubicBezTo>
                  <a:cubicBezTo>
                    <a:pt x="79" y="2107"/>
                    <a:pt x="61" y="2105"/>
                    <a:pt x="53" y="2116"/>
                  </a:cubicBezTo>
                  <a:cubicBezTo>
                    <a:pt x="35" y="2140"/>
                    <a:pt x="25" y="2201"/>
                    <a:pt x="17" y="2233"/>
                  </a:cubicBezTo>
                  <a:cubicBezTo>
                    <a:pt x="24" y="2334"/>
                    <a:pt x="0" y="2366"/>
                    <a:pt x="71" y="2413"/>
                  </a:cubicBezTo>
                  <a:cubicBezTo>
                    <a:pt x="173" y="2404"/>
                    <a:pt x="215" y="2395"/>
                    <a:pt x="305" y="2359"/>
                  </a:cubicBezTo>
                  <a:cubicBezTo>
                    <a:pt x="340" y="2306"/>
                    <a:pt x="301" y="2356"/>
                    <a:pt x="359" y="2314"/>
                  </a:cubicBezTo>
                  <a:cubicBezTo>
                    <a:pt x="398" y="2286"/>
                    <a:pt x="431" y="2243"/>
                    <a:pt x="476" y="2224"/>
                  </a:cubicBezTo>
                  <a:cubicBezTo>
                    <a:pt x="480" y="2222"/>
                    <a:pt x="531" y="2209"/>
                    <a:pt x="539" y="2206"/>
                  </a:cubicBezTo>
                  <a:cubicBezTo>
                    <a:pt x="578" y="2189"/>
                    <a:pt x="616" y="2174"/>
                    <a:pt x="656" y="2161"/>
                  </a:cubicBezTo>
                  <a:cubicBezTo>
                    <a:pt x="704" y="2145"/>
                    <a:pt x="783" y="2133"/>
                    <a:pt x="818" y="2098"/>
                  </a:cubicBezTo>
                  <a:cubicBezTo>
                    <a:pt x="896" y="2020"/>
                    <a:pt x="941" y="1921"/>
                    <a:pt x="1016" y="1846"/>
                  </a:cubicBezTo>
                  <a:cubicBezTo>
                    <a:pt x="1037" y="1825"/>
                    <a:pt x="1072" y="1818"/>
                    <a:pt x="1097" y="1801"/>
                  </a:cubicBezTo>
                  <a:cubicBezTo>
                    <a:pt x="1161" y="1822"/>
                    <a:pt x="1140" y="1803"/>
                    <a:pt x="1169" y="1846"/>
                  </a:cubicBezTo>
                  <a:cubicBezTo>
                    <a:pt x="1197" y="1956"/>
                    <a:pt x="1185" y="2081"/>
                    <a:pt x="1250" y="2179"/>
                  </a:cubicBezTo>
                  <a:cubicBezTo>
                    <a:pt x="1264" y="2236"/>
                    <a:pt x="1252" y="2205"/>
                    <a:pt x="1295" y="2269"/>
                  </a:cubicBezTo>
                  <a:cubicBezTo>
                    <a:pt x="1321" y="2308"/>
                    <a:pt x="1315" y="2340"/>
                    <a:pt x="1358" y="2368"/>
                  </a:cubicBezTo>
                  <a:cubicBezTo>
                    <a:pt x="1389" y="2415"/>
                    <a:pt x="1475" y="2440"/>
                    <a:pt x="1529" y="2458"/>
                  </a:cubicBezTo>
                  <a:cubicBezTo>
                    <a:pt x="1571" y="2452"/>
                    <a:pt x="1614" y="2450"/>
                    <a:pt x="1655" y="2440"/>
                  </a:cubicBezTo>
                  <a:cubicBezTo>
                    <a:pt x="1683" y="2434"/>
                    <a:pt x="1700" y="2368"/>
                    <a:pt x="1700" y="2368"/>
                  </a:cubicBezTo>
                  <a:cubicBezTo>
                    <a:pt x="1690" y="2278"/>
                    <a:pt x="1698" y="2255"/>
                    <a:pt x="1610" y="2233"/>
                  </a:cubicBezTo>
                  <a:cubicBezTo>
                    <a:pt x="1578" y="2211"/>
                    <a:pt x="1575" y="2189"/>
                    <a:pt x="1547" y="2161"/>
                  </a:cubicBezTo>
                  <a:cubicBezTo>
                    <a:pt x="1532" y="2117"/>
                    <a:pt x="1520" y="2072"/>
                    <a:pt x="1511" y="2026"/>
                  </a:cubicBezTo>
                  <a:cubicBezTo>
                    <a:pt x="1517" y="1990"/>
                    <a:pt x="1519" y="1946"/>
                    <a:pt x="1547" y="1918"/>
                  </a:cubicBezTo>
                  <a:cubicBezTo>
                    <a:pt x="1569" y="1896"/>
                    <a:pt x="1610" y="1886"/>
                    <a:pt x="1637" y="1873"/>
                  </a:cubicBezTo>
                  <a:cubicBezTo>
                    <a:pt x="1697" y="1877"/>
                    <a:pt x="1763" y="1864"/>
                    <a:pt x="1817" y="1891"/>
                  </a:cubicBezTo>
                  <a:cubicBezTo>
                    <a:pt x="1855" y="1910"/>
                    <a:pt x="1982" y="1993"/>
                    <a:pt x="2006" y="2017"/>
                  </a:cubicBezTo>
                  <a:cubicBezTo>
                    <a:pt x="2040" y="2051"/>
                    <a:pt x="2056" y="2090"/>
                    <a:pt x="2096" y="2116"/>
                  </a:cubicBezTo>
                  <a:cubicBezTo>
                    <a:pt x="2122" y="2156"/>
                    <a:pt x="2193" y="2259"/>
                    <a:pt x="2231" y="2278"/>
                  </a:cubicBezTo>
                  <a:cubicBezTo>
                    <a:pt x="2266" y="2296"/>
                    <a:pt x="2264" y="2293"/>
                    <a:pt x="2294" y="2314"/>
                  </a:cubicBezTo>
                  <a:cubicBezTo>
                    <a:pt x="2338" y="2345"/>
                    <a:pt x="2376" y="2382"/>
                    <a:pt x="2429" y="2395"/>
                  </a:cubicBezTo>
                  <a:cubicBezTo>
                    <a:pt x="2520" y="2456"/>
                    <a:pt x="2620" y="2468"/>
                    <a:pt x="2726" y="2476"/>
                  </a:cubicBezTo>
                  <a:cubicBezTo>
                    <a:pt x="2777" y="2472"/>
                    <a:pt x="2839" y="2490"/>
                    <a:pt x="2879" y="2458"/>
                  </a:cubicBezTo>
                  <a:cubicBezTo>
                    <a:pt x="2887" y="2451"/>
                    <a:pt x="2889" y="2439"/>
                    <a:pt x="2897" y="2431"/>
                  </a:cubicBezTo>
                  <a:cubicBezTo>
                    <a:pt x="2908" y="2420"/>
                    <a:pt x="2921" y="2413"/>
                    <a:pt x="2933" y="2404"/>
                  </a:cubicBezTo>
                  <a:cubicBezTo>
                    <a:pt x="2939" y="2386"/>
                    <a:pt x="2952" y="2369"/>
                    <a:pt x="2951" y="2350"/>
                  </a:cubicBezTo>
                  <a:cubicBezTo>
                    <a:pt x="2948" y="2311"/>
                    <a:pt x="2952" y="2271"/>
                    <a:pt x="2942" y="2233"/>
                  </a:cubicBezTo>
                  <a:cubicBezTo>
                    <a:pt x="2918" y="2143"/>
                    <a:pt x="2751" y="2142"/>
                    <a:pt x="2681" y="2134"/>
                  </a:cubicBezTo>
                  <a:cubicBezTo>
                    <a:pt x="2657" y="2131"/>
                    <a:pt x="2633" y="2128"/>
                    <a:pt x="2609" y="2125"/>
                  </a:cubicBezTo>
                  <a:cubicBezTo>
                    <a:pt x="2586" y="2114"/>
                    <a:pt x="2560" y="2109"/>
                    <a:pt x="2537" y="2098"/>
                  </a:cubicBezTo>
                  <a:cubicBezTo>
                    <a:pt x="2475" y="2067"/>
                    <a:pt x="2432" y="2010"/>
                    <a:pt x="2375" y="1972"/>
                  </a:cubicBezTo>
                  <a:cubicBezTo>
                    <a:pt x="2369" y="1963"/>
                    <a:pt x="2365" y="1953"/>
                    <a:pt x="2357" y="1945"/>
                  </a:cubicBezTo>
                  <a:cubicBezTo>
                    <a:pt x="2349" y="1937"/>
                    <a:pt x="2337" y="1935"/>
                    <a:pt x="2330" y="1927"/>
                  </a:cubicBezTo>
                  <a:cubicBezTo>
                    <a:pt x="2324" y="1920"/>
                    <a:pt x="2326" y="1908"/>
                    <a:pt x="2321" y="1900"/>
                  </a:cubicBezTo>
                  <a:cubicBezTo>
                    <a:pt x="2310" y="1881"/>
                    <a:pt x="2292" y="1867"/>
                    <a:pt x="2285" y="1846"/>
                  </a:cubicBezTo>
                  <a:cubicBezTo>
                    <a:pt x="2279" y="1828"/>
                    <a:pt x="2267" y="1792"/>
                    <a:pt x="2267" y="1792"/>
                  </a:cubicBezTo>
                  <a:cubicBezTo>
                    <a:pt x="2271" y="1738"/>
                    <a:pt x="2259" y="1677"/>
                    <a:pt x="2285" y="1630"/>
                  </a:cubicBezTo>
                  <a:cubicBezTo>
                    <a:pt x="2329" y="1550"/>
                    <a:pt x="2302" y="1597"/>
                    <a:pt x="2348" y="1558"/>
                  </a:cubicBezTo>
                  <a:cubicBezTo>
                    <a:pt x="2376" y="1534"/>
                    <a:pt x="2386" y="1503"/>
                    <a:pt x="2420" y="1486"/>
                  </a:cubicBezTo>
                  <a:cubicBezTo>
                    <a:pt x="2490" y="1451"/>
                    <a:pt x="2568" y="1425"/>
                    <a:pt x="2636" y="1387"/>
                  </a:cubicBezTo>
                  <a:cubicBezTo>
                    <a:pt x="2655" y="1376"/>
                    <a:pt x="2670" y="1359"/>
                    <a:pt x="2690" y="1351"/>
                  </a:cubicBezTo>
                  <a:cubicBezTo>
                    <a:pt x="2706" y="1345"/>
                    <a:pt x="2755" y="1326"/>
                    <a:pt x="2771" y="1315"/>
                  </a:cubicBezTo>
                  <a:cubicBezTo>
                    <a:pt x="2781" y="1308"/>
                    <a:pt x="2787" y="1295"/>
                    <a:pt x="2798" y="1288"/>
                  </a:cubicBezTo>
                  <a:cubicBezTo>
                    <a:pt x="2831" y="1266"/>
                    <a:pt x="2847" y="1266"/>
                    <a:pt x="2879" y="1234"/>
                  </a:cubicBezTo>
                  <a:cubicBezTo>
                    <a:pt x="2891" y="1198"/>
                    <a:pt x="2915" y="1176"/>
                    <a:pt x="2933" y="1144"/>
                  </a:cubicBezTo>
                  <a:cubicBezTo>
                    <a:pt x="2946" y="1120"/>
                    <a:pt x="2969" y="1072"/>
                    <a:pt x="2969" y="1072"/>
                  </a:cubicBezTo>
                  <a:cubicBezTo>
                    <a:pt x="2995" y="940"/>
                    <a:pt x="3021" y="798"/>
                    <a:pt x="2870" y="748"/>
                  </a:cubicBezTo>
                  <a:cubicBezTo>
                    <a:pt x="2846" y="751"/>
                    <a:pt x="2821" y="751"/>
                    <a:pt x="2798" y="757"/>
                  </a:cubicBezTo>
                  <a:cubicBezTo>
                    <a:pt x="2769" y="765"/>
                    <a:pt x="2742" y="803"/>
                    <a:pt x="2717" y="820"/>
                  </a:cubicBezTo>
                  <a:cubicBezTo>
                    <a:pt x="2691" y="859"/>
                    <a:pt x="2658" y="892"/>
                    <a:pt x="2627" y="928"/>
                  </a:cubicBezTo>
                  <a:cubicBezTo>
                    <a:pt x="2593" y="968"/>
                    <a:pt x="2563" y="1016"/>
                    <a:pt x="2519" y="1045"/>
                  </a:cubicBezTo>
                  <a:cubicBezTo>
                    <a:pt x="2477" y="1108"/>
                    <a:pt x="2432" y="1158"/>
                    <a:pt x="2384" y="1216"/>
                  </a:cubicBezTo>
                  <a:cubicBezTo>
                    <a:pt x="2352" y="1254"/>
                    <a:pt x="2327" y="1296"/>
                    <a:pt x="2285" y="1324"/>
                  </a:cubicBezTo>
                  <a:cubicBezTo>
                    <a:pt x="2204" y="1304"/>
                    <a:pt x="2236" y="1314"/>
                    <a:pt x="2186" y="1297"/>
                  </a:cubicBezTo>
                  <a:cubicBezTo>
                    <a:pt x="2177" y="1288"/>
                    <a:pt x="2165" y="1281"/>
                    <a:pt x="2159" y="1270"/>
                  </a:cubicBezTo>
                  <a:cubicBezTo>
                    <a:pt x="2150" y="1253"/>
                    <a:pt x="2141" y="1216"/>
                    <a:pt x="2141" y="1216"/>
                  </a:cubicBezTo>
                  <a:cubicBezTo>
                    <a:pt x="2147" y="1145"/>
                    <a:pt x="2148" y="1093"/>
                    <a:pt x="2186" y="1036"/>
                  </a:cubicBezTo>
                  <a:cubicBezTo>
                    <a:pt x="2183" y="997"/>
                    <a:pt x="2184" y="957"/>
                    <a:pt x="2177" y="919"/>
                  </a:cubicBezTo>
                  <a:cubicBezTo>
                    <a:pt x="2172" y="891"/>
                    <a:pt x="2105" y="874"/>
                    <a:pt x="2105" y="874"/>
                  </a:cubicBezTo>
                  <a:cubicBezTo>
                    <a:pt x="2069" y="877"/>
                    <a:pt x="2033" y="889"/>
                    <a:pt x="1997" y="883"/>
                  </a:cubicBezTo>
                  <a:cubicBezTo>
                    <a:pt x="1976" y="879"/>
                    <a:pt x="1943" y="847"/>
                    <a:pt x="1943" y="847"/>
                  </a:cubicBezTo>
                  <a:cubicBezTo>
                    <a:pt x="1918" y="771"/>
                    <a:pt x="1950" y="713"/>
                    <a:pt x="1979" y="649"/>
                  </a:cubicBezTo>
                  <a:cubicBezTo>
                    <a:pt x="1998" y="605"/>
                    <a:pt x="2006" y="572"/>
                    <a:pt x="2033" y="532"/>
                  </a:cubicBezTo>
                  <a:cubicBezTo>
                    <a:pt x="2042" y="496"/>
                    <a:pt x="2049" y="473"/>
                    <a:pt x="2069" y="442"/>
                  </a:cubicBezTo>
                  <a:cubicBezTo>
                    <a:pt x="2094" y="341"/>
                    <a:pt x="2099" y="238"/>
                    <a:pt x="2069" y="136"/>
                  </a:cubicBezTo>
                  <a:cubicBezTo>
                    <a:pt x="2058" y="99"/>
                    <a:pt x="2044" y="49"/>
                    <a:pt x="2006" y="28"/>
                  </a:cubicBezTo>
                  <a:cubicBezTo>
                    <a:pt x="1980" y="14"/>
                    <a:pt x="1936" y="7"/>
                    <a:pt x="1907" y="1"/>
                  </a:cubicBezTo>
                  <a:cubicBezTo>
                    <a:pt x="1861" y="16"/>
                    <a:pt x="1896" y="0"/>
                    <a:pt x="1853" y="37"/>
                  </a:cubicBezTo>
                  <a:cubicBezTo>
                    <a:pt x="1763" y="114"/>
                    <a:pt x="1750" y="185"/>
                    <a:pt x="1727" y="298"/>
                  </a:cubicBezTo>
                  <a:cubicBezTo>
                    <a:pt x="1709" y="390"/>
                    <a:pt x="1678" y="478"/>
                    <a:pt x="1655" y="568"/>
                  </a:cubicBezTo>
                  <a:cubicBezTo>
                    <a:pt x="1641" y="623"/>
                    <a:pt x="1633" y="656"/>
                    <a:pt x="1610" y="703"/>
                  </a:cubicBezTo>
                  <a:cubicBezTo>
                    <a:pt x="1573" y="777"/>
                    <a:pt x="1556" y="844"/>
                    <a:pt x="1484" y="892"/>
                  </a:cubicBezTo>
                  <a:cubicBezTo>
                    <a:pt x="1430" y="879"/>
                    <a:pt x="1374" y="858"/>
                    <a:pt x="1340" y="811"/>
                  </a:cubicBezTo>
                  <a:cubicBezTo>
                    <a:pt x="1332" y="800"/>
                    <a:pt x="1329" y="787"/>
                    <a:pt x="1322" y="775"/>
                  </a:cubicBezTo>
                  <a:cubicBezTo>
                    <a:pt x="1317" y="766"/>
                    <a:pt x="1310" y="757"/>
                    <a:pt x="1304" y="748"/>
                  </a:cubicBezTo>
                  <a:cubicBezTo>
                    <a:pt x="1268" y="698"/>
                    <a:pt x="1233" y="660"/>
                    <a:pt x="1196" y="613"/>
                  </a:cubicBezTo>
                  <a:cubicBezTo>
                    <a:pt x="1110" y="505"/>
                    <a:pt x="1201" y="600"/>
                    <a:pt x="1133" y="532"/>
                  </a:cubicBezTo>
                  <a:cubicBezTo>
                    <a:pt x="1116" y="480"/>
                    <a:pt x="1136" y="529"/>
                    <a:pt x="1097" y="478"/>
                  </a:cubicBezTo>
                  <a:cubicBezTo>
                    <a:pt x="1063" y="434"/>
                    <a:pt x="1054" y="410"/>
                    <a:pt x="1007" y="379"/>
                  </a:cubicBezTo>
                  <a:cubicBezTo>
                    <a:pt x="950" y="293"/>
                    <a:pt x="812" y="284"/>
                    <a:pt x="719" y="271"/>
                  </a:cubicBezTo>
                  <a:cubicBezTo>
                    <a:pt x="701" y="265"/>
                    <a:pt x="683" y="259"/>
                    <a:pt x="665" y="253"/>
                  </a:cubicBezTo>
                  <a:cubicBezTo>
                    <a:pt x="632" y="242"/>
                    <a:pt x="630" y="248"/>
                    <a:pt x="656" y="235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rot="650400">
              <a:off x="532800" y="3940200"/>
              <a:ext cx="14904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9" name=""/>
          <p:cNvSpPr/>
          <p:nvPr/>
        </p:nvSpPr>
        <p:spPr>
          <a:xfrm>
            <a:off x="855720" y="2133720"/>
            <a:ext cx="7632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797040" y="2438280"/>
            <a:ext cx="7596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20720" y="2743200"/>
            <a:ext cx="7632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68160" y="3089160"/>
            <a:ext cx="7632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09480" y="3429000"/>
            <a:ext cx="7632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03360" y="3786120"/>
            <a:ext cx="7596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328680" y="3886200"/>
            <a:ext cx="515880" cy="249120"/>
            <a:chOff x="328680" y="3886200"/>
            <a:chExt cx="515880" cy="249120"/>
          </a:xfrm>
        </p:grpSpPr>
        <p:sp>
          <p:nvSpPr>
            <p:cNvPr id="1376" name=""/>
            <p:cNvSpPr/>
            <p:nvPr/>
          </p:nvSpPr>
          <p:spPr>
            <a:xfrm flipH="1">
              <a:off x="716040" y="4038480"/>
              <a:ext cx="46080" cy="381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H="1">
              <a:off x="328680" y="4097160"/>
              <a:ext cx="46080" cy="381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H="1">
              <a:off x="762120" y="3962520"/>
              <a:ext cx="46080" cy="381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>
              <a:off x="708120" y="3886200"/>
              <a:ext cx="46080" cy="381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457200" y="3886200"/>
              <a:ext cx="46080" cy="381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422280" y="4000680"/>
              <a:ext cx="46080" cy="37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H="1">
              <a:off x="798480" y="4083120"/>
              <a:ext cx="46080" cy="381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3" name=""/>
          <p:cNvSpPr/>
          <p:nvPr/>
        </p:nvSpPr>
        <p:spPr>
          <a:xfrm>
            <a:off x="914400" y="3962520"/>
            <a:ext cx="304920" cy="304560"/>
          </a:xfrm>
          <a:prstGeom prst="ellipse">
            <a:avLst/>
          </a:prstGeom>
          <a:gradFill rotWithShape="0">
            <a:gsLst>
              <a:gs pos="0">
                <a:srgbClr val="ff23ff"/>
              </a:gs>
              <a:gs pos="100000">
                <a:srgbClr val="751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752480" y="3962520"/>
            <a:ext cx="304920" cy="304560"/>
          </a:xfrm>
          <a:prstGeom prst="ellipse">
            <a:avLst/>
          </a:prstGeom>
          <a:gradFill rotWithShape="0">
            <a:gsLst>
              <a:gs pos="0">
                <a:srgbClr val="ff23ff"/>
              </a:gs>
              <a:gs pos="100000">
                <a:srgbClr val="751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590920" y="3962520"/>
            <a:ext cx="304560" cy="304560"/>
          </a:xfrm>
          <a:prstGeom prst="ellipse">
            <a:avLst/>
          </a:prstGeom>
          <a:gradFill rotWithShape="0">
            <a:gsLst>
              <a:gs pos="0">
                <a:srgbClr val="ff23ff"/>
              </a:gs>
              <a:gs pos="100000">
                <a:srgbClr val="751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505320" y="3962520"/>
            <a:ext cx="304560" cy="304560"/>
          </a:xfrm>
          <a:prstGeom prst="ellipse">
            <a:avLst/>
          </a:prstGeom>
          <a:gradFill rotWithShape="0">
            <a:gsLst>
              <a:gs pos="0">
                <a:srgbClr val="ff23ff"/>
              </a:gs>
              <a:gs pos="100000">
                <a:srgbClr val="751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952880" y="7920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8" name=""/>
          <p:cNvGraphicFramePr/>
          <p:nvPr/>
        </p:nvGraphicFramePr>
        <p:xfrm>
          <a:off x="6119640" y="228600"/>
          <a:ext cx="966960" cy="142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9640" y="228600"/>
                    <a:ext cx="96696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0" name=""/>
          <p:cNvGraphicFramePr/>
          <p:nvPr/>
        </p:nvGraphicFramePr>
        <p:xfrm>
          <a:off x="6095880" y="228600"/>
          <a:ext cx="1149480" cy="14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5880" y="228600"/>
                    <a:ext cx="11494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2" name=""/>
          <p:cNvSpPr/>
          <p:nvPr/>
        </p:nvSpPr>
        <p:spPr>
          <a:xfrm>
            <a:off x="5638680" y="335268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5181480" y="35053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4724280" y="36576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267080" y="380988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809880" y="39625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7" name=""/>
          <p:cNvGraphicFramePr/>
          <p:nvPr/>
        </p:nvGraphicFramePr>
        <p:xfrm>
          <a:off x="2666880" y="228600"/>
          <a:ext cx="1830600" cy="1420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228600"/>
                    <a:ext cx="1830600" cy="14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9" name=""/>
          <p:cNvGraphicFramePr/>
          <p:nvPr/>
        </p:nvGraphicFramePr>
        <p:xfrm>
          <a:off x="2658960" y="228600"/>
          <a:ext cx="1905120" cy="1428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0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58960" y="228600"/>
                    <a:ext cx="190512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1" name=""/>
          <p:cNvGraphicFramePr/>
          <p:nvPr/>
        </p:nvGraphicFramePr>
        <p:xfrm>
          <a:off x="2590920" y="166680"/>
          <a:ext cx="1981080" cy="1603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0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90920" y="166680"/>
                    <a:ext cx="198108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3" name=""/>
          <p:cNvSpPr/>
          <p:nvPr/>
        </p:nvSpPr>
        <p:spPr>
          <a:xfrm>
            <a:off x="4114800" y="1523880"/>
            <a:ext cx="76320" cy="76320"/>
          </a:xfrm>
          <a:prstGeom prst="ellipse">
            <a:avLst/>
          </a:prstGeom>
          <a:solidFill>
            <a:srgbClr val="ffe6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886200" y="1600200"/>
            <a:ext cx="76320" cy="76320"/>
          </a:xfrm>
          <a:prstGeom prst="ellipse">
            <a:avLst/>
          </a:prstGeom>
          <a:solidFill>
            <a:srgbClr val="ffe6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657600" y="1676520"/>
            <a:ext cx="76320" cy="75960"/>
          </a:xfrm>
          <a:prstGeom prst="ellipse">
            <a:avLst/>
          </a:prstGeom>
          <a:solidFill>
            <a:srgbClr val="ffe6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352680" y="1711440"/>
            <a:ext cx="76320" cy="75960"/>
          </a:xfrm>
          <a:prstGeom prst="ellipse">
            <a:avLst/>
          </a:prstGeom>
          <a:solidFill>
            <a:srgbClr val="ffe6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3048120" y="1635120"/>
            <a:ext cx="75960" cy="76320"/>
          </a:xfrm>
          <a:prstGeom prst="ellipse">
            <a:avLst/>
          </a:prstGeom>
          <a:solidFill>
            <a:srgbClr val="ffe6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rot="2919000">
            <a:off x="2604960" y="1181160"/>
            <a:ext cx="228600" cy="304560"/>
          </a:xfrm>
          <a:prstGeom prst="leftArrow">
            <a:avLst>
              <a:gd name="adj1" fmla="val 55833"/>
              <a:gd name="adj2" fmla="val 4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768840" y="4419720"/>
            <a:ext cx="30456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692520" y="495288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581280" y="54864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429000" y="60199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3200400" y="64771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03848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249800" y="3182760"/>
            <a:ext cx="30456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495680" y="27432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800600" y="22860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5181480" y="19051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638680" y="152388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0" name=""/>
          <p:cNvGraphicFramePr/>
          <p:nvPr/>
        </p:nvGraphicFramePr>
        <p:xfrm>
          <a:off x="6095880" y="228600"/>
          <a:ext cx="2743200" cy="2209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2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5880" y="228600"/>
                    <a:ext cx="27432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2" name=""/>
          <p:cNvSpPr/>
          <p:nvPr/>
        </p:nvSpPr>
        <p:spPr>
          <a:xfrm>
            <a:off x="613728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178680" y="966960"/>
            <a:ext cx="30456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254640" y="16002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500880" y="928800"/>
            <a:ext cx="30456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681960" y="692280"/>
            <a:ext cx="30456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6330960" y="67932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6477120" y="1846440"/>
            <a:ext cx="30456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086600" y="1905120"/>
            <a:ext cx="304920" cy="304560"/>
          </a:xfrm>
          <a:prstGeom prst="ellipse">
            <a:avLst/>
          </a:prstGeom>
          <a:gradFill rotWithShape="0">
            <a:gsLst>
              <a:gs pos="0">
                <a:srgbClr val="ff23ff"/>
              </a:gs>
              <a:gs pos="100000">
                <a:srgbClr val="751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7162920" y="838080"/>
            <a:ext cx="304560" cy="304920"/>
          </a:xfrm>
          <a:prstGeom prst="ellipse">
            <a:avLst/>
          </a:prstGeom>
          <a:gradFill rotWithShape="0">
            <a:gsLst>
              <a:gs pos="0">
                <a:srgbClr val="ff23ff"/>
              </a:gs>
              <a:gs pos="100000">
                <a:srgbClr val="751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424560" y="12193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6548400" y="4525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718320" y="117792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507000" y="147636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746760" y="20304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735600" y="171144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818400" y="1424160"/>
            <a:ext cx="30456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6816600" y="94932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9" name=""/>
          <p:cNvGraphicFramePr/>
          <p:nvPr/>
        </p:nvGraphicFramePr>
        <p:xfrm>
          <a:off x="7010280" y="304920"/>
          <a:ext cx="533520" cy="504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4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10280" y="304920"/>
                    <a:ext cx="5335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1" name=""/>
          <p:cNvGraphicFramePr/>
          <p:nvPr/>
        </p:nvGraphicFramePr>
        <p:xfrm>
          <a:off x="7086600" y="1143000"/>
          <a:ext cx="533520" cy="504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4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086600" y="1143000"/>
                    <a:ext cx="5335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3" name=""/>
          <p:cNvGraphicFramePr/>
          <p:nvPr/>
        </p:nvGraphicFramePr>
        <p:xfrm>
          <a:off x="7080120" y="1828800"/>
          <a:ext cx="533520" cy="504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4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080120" y="1828800"/>
                    <a:ext cx="5335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5" name=""/>
          <p:cNvGraphicFramePr/>
          <p:nvPr/>
        </p:nvGraphicFramePr>
        <p:xfrm>
          <a:off x="6324480" y="3505320"/>
          <a:ext cx="2390760" cy="2571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44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324480" y="3505320"/>
                    <a:ext cx="239076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7" name=""/>
          <p:cNvSpPr/>
          <p:nvPr/>
        </p:nvSpPr>
        <p:spPr>
          <a:xfrm>
            <a:off x="6781680" y="43956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086600" y="4572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7391520" y="457200"/>
            <a:ext cx="30456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696080" y="4572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8001000" y="4572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8305920" y="457200"/>
            <a:ext cx="30456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3" name=""/>
          <p:cNvGrpSpPr/>
          <p:nvPr/>
        </p:nvGrpSpPr>
        <p:grpSpPr>
          <a:xfrm>
            <a:off x="8582040" y="457200"/>
            <a:ext cx="457200" cy="338400"/>
            <a:chOff x="8582040" y="457200"/>
            <a:chExt cx="457200" cy="338400"/>
          </a:xfrm>
        </p:grpSpPr>
        <p:sp>
          <p:nvSpPr>
            <p:cNvPr id="1454" name=""/>
            <p:cNvSpPr/>
            <p:nvPr/>
          </p:nvSpPr>
          <p:spPr>
            <a:xfrm>
              <a:off x="8582040" y="457200"/>
              <a:ext cx="457200" cy="322200"/>
            </a:xfrm>
            <a:prstGeom prst="ellipse">
              <a:avLst/>
            </a:prstGeom>
            <a:solidFill>
              <a:srgbClr val="fcdc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609040" y="515880"/>
              <a:ext cx="214920" cy="204120"/>
            </a:xfrm>
            <a:prstGeom prst="ellipse">
              <a:avLst/>
            </a:prstGeom>
            <a:solidFill>
              <a:srgbClr val="cb93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582040" y="521640"/>
              <a:ext cx="326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C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rot="2536800">
              <a:off x="8690760" y="501840"/>
              <a:ext cx="208800" cy="25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rot="2536800">
              <a:off x="8660880" y="501840"/>
              <a:ext cx="208800" cy="25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rot="2536800">
              <a:off x="8722440" y="501480"/>
              <a:ext cx="208080" cy="25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rot="2536800">
              <a:off x="8752320" y="501480"/>
              <a:ext cx="208080" cy="25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1" name=""/>
          <p:cNvSpPr/>
          <p:nvPr/>
        </p:nvSpPr>
        <p:spPr>
          <a:xfrm>
            <a:off x="7010280" y="12193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315200" y="12193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620120" y="1219320"/>
            <a:ext cx="30456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7924680" y="12193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8229600" y="12193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8534520" y="1219320"/>
            <a:ext cx="30456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8769240" y="12193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086600" y="154764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378560" y="155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672320" y="157644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7977240" y="159372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2" name=""/>
          <p:cNvGraphicFramePr/>
          <p:nvPr/>
        </p:nvGraphicFramePr>
        <p:xfrm>
          <a:off x="7924680" y="1503360"/>
          <a:ext cx="457200" cy="425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47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924680" y="1503360"/>
                    <a:ext cx="45720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4" name=""/>
          <p:cNvGraphicFramePr/>
          <p:nvPr/>
        </p:nvGraphicFramePr>
        <p:xfrm>
          <a:off x="7643880" y="1913040"/>
          <a:ext cx="457200" cy="425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47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643880" y="1913040"/>
                    <a:ext cx="45720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6" name=""/>
          <p:cNvGraphicFramePr/>
          <p:nvPr/>
        </p:nvGraphicFramePr>
        <p:xfrm>
          <a:off x="7696080" y="990720"/>
          <a:ext cx="457200" cy="425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47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696080" y="990720"/>
                    <a:ext cx="45720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8" name=""/>
          <p:cNvGraphicFramePr/>
          <p:nvPr/>
        </p:nvGraphicFramePr>
        <p:xfrm>
          <a:off x="8077320" y="762120"/>
          <a:ext cx="457200" cy="4251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47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8077320" y="762120"/>
                    <a:ext cx="45720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0" name=""/>
          <p:cNvGraphicFramePr/>
          <p:nvPr/>
        </p:nvGraphicFramePr>
        <p:xfrm>
          <a:off x="8305920" y="1295280"/>
          <a:ext cx="457200" cy="4255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48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8305920" y="1295280"/>
                    <a:ext cx="45720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2" name=""/>
          <p:cNvGraphicFramePr/>
          <p:nvPr/>
        </p:nvGraphicFramePr>
        <p:xfrm>
          <a:off x="7620120" y="380880"/>
          <a:ext cx="457200" cy="4255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620120" y="380880"/>
                    <a:ext cx="45720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3" dur="indefinite" restart="never" nodeType="tmRoot">
          <p:childTnLst>
            <p:seq>
              <p:cTn id="1624" dur="indefinite" nodeType="mainSeq">
                <p:childTnLst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500"/>
                            </p:stCondLst>
                            <p:childTnLst>
                              <p:par>
                                <p:cTn id="16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5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500"/>
                            </p:stCondLst>
                            <p:childTnLst>
                              <p:par>
                                <p:cTn id="16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7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500"/>
                            </p:stCondLst>
                            <p:childTnLst>
                              <p:par>
                                <p:cTn id="17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4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9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500"/>
                            </p:stCondLst>
                            <p:childTnLst>
                              <p:par>
                                <p:cTn id="17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0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500"/>
                            </p:stCondLst>
                            <p:childTnLst>
                              <p:par>
                                <p:cTn id="17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0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fill="hold">
                            <p:stCondLst>
                              <p:cond delay="500"/>
                            </p:stCondLst>
                            <p:childTnLst>
                              <p:par>
                                <p:cTn id="17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3" fill="hold">
                            <p:stCondLst>
                              <p:cond delay="6500"/>
                            </p:stCondLst>
                            <p:childTnLst>
                              <p:par>
                                <p:cTn id="18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fill="hold">
                            <p:stCondLst>
                              <p:cond delay="9500"/>
                            </p:stCondLst>
                            <p:childTnLst>
                              <p:par>
                                <p:cTn id="18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fill="hold">
                            <p:stCondLst>
                              <p:cond delay="18500"/>
                            </p:stCondLst>
                            <p:childTnLst>
                              <p:par>
                                <p:cTn id="18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3" fill="hold">
                            <p:stCondLst>
                              <p:cond delay="21500"/>
                            </p:stCondLst>
                            <p:childTnLst>
                              <p:par>
                                <p:cTn id="18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6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500"/>
                            </p:stCondLst>
                            <p:childTnLst>
                              <p:par>
                                <p:cTn id="18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0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4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9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500"/>
                            </p:stCondLst>
                            <p:childTnLst>
                              <p:par>
                                <p:cTn id="18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7" fill="hold">
                            <p:stCondLst>
                              <p:cond delay="500"/>
                            </p:stCondLst>
                            <p:childTnLst>
                              <p:par>
                                <p:cTn id="18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9" fill="hold">
                            <p:stCondLst>
                              <p:cond delay="500"/>
                            </p:stCondLst>
                            <p:childTnLst>
                              <p:par>
                                <p:cTn id="19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1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5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9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3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7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1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e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"/>
          <p:cNvSpPr/>
          <p:nvPr/>
        </p:nvSpPr>
        <p:spPr>
          <a:xfrm>
            <a:off x="882720" y="2730600"/>
            <a:ext cx="761760" cy="761760"/>
          </a:xfrm>
          <a:prstGeom prst="ellipse">
            <a:avLst/>
          </a:prstGeom>
          <a:gradFill rotWithShape="0">
            <a:gsLst>
              <a:gs pos="0">
                <a:srgbClr val="ffc9c9"/>
              </a:gs>
              <a:gs pos="100000">
                <a:srgbClr val="755c5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670040" y="339084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c9c9"/>
              </a:gs>
              <a:gs pos="100000">
                <a:srgbClr val="755c5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920880" y="4191120"/>
            <a:ext cx="761760" cy="761760"/>
          </a:xfrm>
          <a:prstGeom prst="ellipse">
            <a:avLst/>
          </a:prstGeom>
          <a:gradFill rotWithShape="0">
            <a:gsLst>
              <a:gs pos="0">
                <a:srgbClr val="ffc9c9"/>
              </a:gs>
              <a:gs pos="100000">
                <a:srgbClr val="755c5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52280" y="3454560"/>
            <a:ext cx="762120" cy="761760"/>
          </a:xfrm>
          <a:prstGeom prst="ellipse">
            <a:avLst/>
          </a:prstGeom>
          <a:gradFill rotWithShape="0">
            <a:gsLst>
              <a:gs pos="0">
                <a:srgbClr val="ffc9c9"/>
              </a:gs>
              <a:gs pos="100000">
                <a:srgbClr val="755c5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8" name="" descr=""/>
          <p:cNvPicPr/>
          <p:nvPr/>
        </p:nvPicPr>
        <p:blipFill>
          <a:blip r:embed="rId1"/>
          <a:stretch/>
        </p:blipFill>
        <p:spPr>
          <a:xfrm>
            <a:off x="7620120" y="5380200"/>
            <a:ext cx="1218960" cy="1172880"/>
          </a:xfrm>
          <a:prstGeom prst="rect">
            <a:avLst/>
          </a:prstGeom>
          <a:ln w="0">
            <a:noFill/>
          </a:ln>
        </p:spPr>
      </p:pic>
      <p:grpSp>
        <p:nvGrpSpPr>
          <p:cNvPr id="1489" name=""/>
          <p:cNvGrpSpPr/>
          <p:nvPr/>
        </p:nvGrpSpPr>
        <p:grpSpPr>
          <a:xfrm>
            <a:off x="883800" y="3469680"/>
            <a:ext cx="824400" cy="744480"/>
            <a:chOff x="883800" y="3469680"/>
            <a:chExt cx="824400" cy="744480"/>
          </a:xfrm>
        </p:grpSpPr>
        <p:grpSp>
          <p:nvGrpSpPr>
            <p:cNvPr id="1490" name=""/>
            <p:cNvGrpSpPr/>
            <p:nvPr/>
          </p:nvGrpSpPr>
          <p:grpSpPr>
            <a:xfrm>
              <a:off x="1335240" y="3922560"/>
              <a:ext cx="291240" cy="291600"/>
              <a:chOff x="1335240" y="3922560"/>
              <a:chExt cx="291240" cy="291600"/>
            </a:xfrm>
          </p:grpSpPr>
          <p:sp>
            <p:nvSpPr>
              <p:cNvPr id="1491" name=""/>
              <p:cNvSpPr/>
              <p:nvPr/>
            </p:nvSpPr>
            <p:spPr>
              <a:xfrm rot="2583600">
                <a:off x="1354320" y="3971880"/>
                <a:ext cx="153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rot="21011400">
                <a:off x="1499040" y="4020480"/>
                <a:ext cx="12636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rot="2583600">
                <a:off x="1321200" y="4005360"/>
                <a:ext cx="153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rot="21011400">
                <a:off x="1493640" y="397872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rot="5782200">
                <a:off x="1399320" y="413784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rot="5782200">
                <a:off x="1357200" y="413496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7" name=""/>
            <p:cNvSpPr/>
            <p:nvPr/>
          </p:nvSpPr>
          <p:spPr>
            <a:xfrm>
              <a:off x="1174680" y="3733920"/>
              <a:ext cx="228600" cy="228600"/>
            </a:xfrm>
            <a:prstGeom prst="ellipse">
              <a:avLst/>
            </a:prstGeom>
            <a:solidFill>
              <a:srgbClr val="ffe7c3"/>
            </a:solidFill>
            <a:ln w="9360">
              <a:solidFill>
                <a:srgbClr val="b2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8" name=""/>
            <p:cNvGrpSpPr/>
            <p:nvPr/>
          </p:nvGrpSpPr>
          <p:grpSpPr>
            <a:xfrm>
              <a:off x="883800" y="3585960"/>
              <a:ext cx="294480" cy="303120"/>
              <a:chOff x="883800" y="3585960"/>
              <a:chExt cx="294480" cy="303120"/>
            </a:xfrm>
          </p:grpSpPr>
          <p:sp>
            <p:nvSpPr>
              <p:cNvPr id="1499" name=""/>
              <p:cNvSpPr/>
              <p:nvPr/>
            </p:nvSpPr>
            <p:spPr>
              <a:xfrm rot="12084000">
                <a:off x="1008360" y="3797640"/>
                <a:ext cx="153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rot="8911200">
                <a:off x="880920" y="3796200"/>
                <a:ext cx="12636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rot="12084000">
                <a:off x="1026720" y="3754080"/>
                <a:ext cx="153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rot="8911200">
                <a:off x="901800" y="383328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rot="15282600">
                <a:off x="930600" y="365112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rot="15282600">
                <a:off x="970560" y="363780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5" name=""/>
            <p:cNvGrpSpPr/>
            <p:nvPr/>
          </p:nvGrpSpPr>
          <p:grpSpPr>
            <a:xfrm>
              <a:off x="947520" y="3917160"/>
              <a:ext cx="290160" cy="293040"/>
              <a:chOff x="947520" y="3917160"/>
              <a:chExt cx="290160" cy="293040"/>
            </a:xfrm>
          </p:grpSpPr>
          <p:sp>
            <p:nvSpPr>
              <p:cNvPr id="1506" name=""/>
              <p:cNvSpPr/>
              <p:nvPr/>
            </p:nvSpPr>
            <p:spPr>
              <a:xfrm rot="7933800">
                <a:off x="1101960" y="4003200"/>
                <a:ext cx="153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rot="4761600">
                <a:off x="1066320" y="4133160"/>
                <a:ext cx="12636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rot="7933800">
                <a:off x="1068120" y="3970440"/>
                <a:ext cx="153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rot="4761600">
                <a:off x="1108080" y="412704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rot="11133000">
                <a:off x="948240" y="403524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rot="11133000">
                <a:off x="950400" y="399312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2" name=""/>
            <p:cNvGrpSpPr/>
            <p:nvPr/>
          </p:nvGrpSpPr>
          <p:grpSpPr>
            <a:xfrm>
              <a:off x="1405440" y="3564720"/>
              <a:ext cx="302760" cy="276480"/>
              <a:chOff x="1405440" y="3564720"/>
              <a:chExt cx="302760" cy="276480"/>
            </a:xfrm>
          </p:grpSpPr>
          <p:sp>
            <p:nvSpPr>
              <p:cNvPr id="1513" name=""/>
              <p:cNvSpPr/>
              <p:nvPr/>
            </p:nvSpPr>
            <p:spPr>
              <a:xfrm rot="19494000">
                <a:off x="1397160" y="3738960"/>
                <a:ext cx="153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rot="16321200">
                <a:off x="1487160" y="3618720"/>
                <a:ext cx="12636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rot="19494000">
                <a:off x="1423080" y="3778560"/>
                <a:ext cx="153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rot="16321200">
                <a:off x="1445760" y="361584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rot="1092600">
                <a:off x="1581480" y="374040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rot="1092600">
                <a:off x="1570320" y="378108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9" name=""/>
            <p:cNvGrpSpPr/>
            <p:nvPr/>
          </p:nvGrpSpPr>
          <p:grpSpPr>
            <a:xfrm>
              <a:off x="1103760" y="3469680"/>
              <a:ext cx="322200" cy="263880"/>
              <a:chOff x="1103760" y="3469680"/>
              <a:chExt cx="322200" cy="263880"/>
            </a:xfrm>
          </p:grpSpPr>
          <p:sp>
            <p:nvSpPr>
              <p:cNvPr id="1520" name=""/>
              <p:cNvSpPr/>
              <p:nvPr/>
            </p:nvSpPr>
            <p:spPr>
              <a:xfrm rot="16177200">
                <a:off x="1164600" y="3645720"/>
                <a:ext cx="153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rot="13004400">
                <a:off x="1124640" y="3512880"/>
                <a:ext cx="12636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rot="16177200">
                <a:off x="1211760" y="3646800"/>
                <a:ext cx="153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rot="13004400">
                <a:off x="1098360" y="354600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rot="19375800">
                <a:off x="1278360" y="350496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rot="19375800">
                <a:off x="1305360" y="353736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26" name=""/>
          <p:cNvGrpSpPr/>
          <p:nvPr/>
        </p:nvGrpSpPr>
        <p:grpSpPr>
          <a:xfrm>
            <a:off x="830520" y="123840"/>
            <a:ext cx="705240" cy="691920"/>
            <a:chOff x="830520" y="123840"/>
            <a:chExt cx="705240" cy="691920"/>
          </a:xfrm>
        </p:grpSpPr>
        <p:sp>
          <p:nvSpPr>
            <p:cNvPr id="1527" name=""/>
            <p:cNvSpPr/>
            <p:nvPr/>
          </p:nvSpPr>
          <p:spPr>
            <a:xfrm rot="20035800">
              <a:off x="823320" y="524880"/>
              <a:ext cx="348840" cy="486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rot="16863000">
              <a:off x="1058400" y="276480"/>
              <a:ext cx="30492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rot="20035800">
              <a:off x="871200" y="628200"/>
              <a:ext cx="348480" cy="486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rot="16863000">
              <a:off x="963360" y="25056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rot="1633800">
              <a:off x="1235160" y="60192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rot="1633800">
              <a:off x="1196640" y="69300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235440" y="1352160"/>
            <a:ext cx="665280" cy="479160"/>
            <a:chOff x="235440" y="1352160"/>
            <a:chExt cx="665280" cy="479160"/>
          </a:xfrm>
        </p:grpSpPr>
        <p:sp>
          <p:nvSpPr>
            <p:cNvPr id="1534" name=""/>
            <p:cNvSpPr/>
            <p:nvPr/>
          </p:nvSpPr>
          <p:spPr>
            <a:xfrm rot="5503800">
              <a:off x="488880" y="1473120"/>
              <a:ext cx="273240" cy="41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rot="2331000">
              <a:off x="596520" y="1710360"/>
              <a:ext cx="26244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rot="5503800">
              <a:off x="391320" y="1468080"/>
              <a:ext cx="273240" cy="41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rot="2331000">
              <a:off x="653760" y="1653480"/>
              <a:ext cx="26208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rot="8701800">
              <a:off x="277920" y="1712520"/>
              <a:ext cx="26208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rot="8701800">
              <a:off x="224280" y="1652040"/>
              <a:ext cx="26208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1119600" y="1953360"/>
            <a:ext cx="664920" cy="484200"/>
            <a:chOff x="1119600" y="1953360"/>
            <a:chExt cx="664920" cy="484200"/>
          </a:xfrm>
        </p:grpSpPr>
        <p:sp>
          <p:nvSpPr>
            <p:cNvPr id="1541" name=""/>
            <p:cNvSpPr/>
            <p:nvPr/>
          </p:nvSpPr>
          <p:spPr>
            <a:xfrm rot="16141800">
              <a:off x="1269360" y="2279160"/>
              <a:ext cx="273240" cy="41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rot="12969000">
              <a:off x="1161360" y="2045880"/>
              <a:ext cx="26244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rot="16141800">
              <a:off x="1367280" y="2279880"/>
              <a:ext cx="272880" cy="41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rot="12969000">
              <a:off x="1107000" y="2104920"/>
              <a:ext cx="26208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rot="19339800">
              <a:off x="1479960" y="2028600"/>
              <a:ext cx="26208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rot="19339800">
              <a:off x="1536480" y="2086200"/>
              <a:ext cx="26208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1976760" y="1341000"/>
            <a:ext cx="663840" cy="478800"/>
            <a:chOff x="1976760" y="1341000"/>
            <a:chExt cx="663840" cy="478800"/>
          </a:xfrm>
        </p:grpSpPr>
        <p:sp>
          <p:nvSpPr>
            <p:cNvPr id="1548" name=""/>
            <p:cNvSpPr/>
            <p:nvPr/>
          </p:nvSpPr>
          <p:spPr>
            <a:xfrm rot="5503800">
              <a:off x="2229480" y="1461960"/>
              <a:ext cx="273240" cy="41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rot="2331000">
              <a:off x="2337120" y="1698840"/>
              <a:ext cx="26172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rot="5503800">
              <a:off x="2132280" y="1456920"/>
              <a:ext cx="272880" cy="41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rot="2331000">
              <a:off x="2394360" y="1642320"/>
              <a:ext cx="26136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rot="8701800">
              <a:off x="2019240" y="1701000"/>
              <a:ext cx="26136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 rot="8701800">
              <a:off x="1965240" y="1640520"/>
              <a:ext cx="26136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4" name=""/>
          <p:cNvGrpSpPr/>
          <p:nvPr/>
        </p:nvGrpSpPr>
        <p:grpSpPr>
          <a:xfrm>
            <a:off x="2865960" y="1944000"/>
            <a:ext cx="663480" cy="484200"/>
            <a:chOff x="2865960" y="1944000"/>
            <a:chExt cx="663480" cy="484200"/>
          </a:xfrm>
        </p:grpSpPr>
        <p:sp>
          <p:nvSpPr>
            <p:cNvPr id="1555" name=""/>
            <p:cNvSpPr/>
            <p:nvPr/>
          </p:nvSpPr>
          <p:spPr>
            <a:xfrm rot="16141800">
              <a:off x="3015000" y="2269800"/>
              <a:ext cx="273240" cy="41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rot="12969000">
              <a:off x="2907720" y="2036520"/>
              <a:ext cx="26172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rot="16141800">
              <a:off x="3112560" y="2270520"/>
              <a:ext cx="272880" cy="41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rot="12969000">
              <a:off x="2853360" y="2095560"/>
              <a:ext cx="26136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rot="19339800">
              <a:off x="3225240" y="2019240"/>
              <a:ext cx="26136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rot="19339800">
              <a:off x="3281760" y="2076840"/>
              <a:ext cx="26136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1" name=""/>
          <p:cNvGrpSpPr/>
          <p:nvPr/>
        </p:nvGrpSpPr>
        <p:grpSpPr>
          <a:xfrm>
            <a:off x="3721680" y="1331280"/>
            <a:ext cx="665280" cy="478800"/>
            <a:chOff x="3721680" y="1331280"/>
            <a:chExt cx="665280" cy="478800"/>
          </a:xfrm>
        </p:grpSpPr>
        <p:sp>
          <p:nvSpPr>
            <p:cNvPr id="1562" name=""/>
            <p:cNvSpPr/>
            <p:nvPr/>
          </p:nvSpPr>
          <p:spPr>
            <a:xfrm rot="5503800">
              <a:off x="3975480" y="1452240"/>
              <a:ext cx="273240" cy="41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rot="2331000">
              <a:off x="4082760" y="1688760"/>
              <a:ext cx="26208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rot="5503800">
              <a:off x="3877920" y="1447200"/>
              <a:ext cx="272880" cy="41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rot="2331000">
              <a:off x="4140000" y="1632240"/>
              <a:ext cx="26208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rot="8701800">
              <a:off x="3764520" y="1691280"/>
              <a:ext cx="26208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rot="8701800">
              <a:off x="3710520" y="1630800"/>
              <a:ext cx="26208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8" name=""/>
          <p:cNvSpPr/>
          <p:nvPr/>
        </p:nvSpPr>
        <p:spPr>
          <a:xfrm rot="2039400">
            <a:off x="809280" y="1790280"/>
            <a:ext cx="419040" cy="225360"/>
          </a:xfrm>
          <a:prstGeom prst="ellipse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 rot="2039400">
            <a:off x="2552400" y="1790280"/>
            <a:ext cx="419040" cy="225360"/>
          </a:xfrm>
          <a:prstGeom prst="ellipse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rot="19788000">
            <a:off x="1689120" y="1765080"/>
            <a:ext cx="419040" cy="225360"/>
          </a:xfrm>
          <a:prstGeom prst="ellipse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rot="19788000">
            <a:off x="3429000" y="1755360"/>
            <a:ext cx="419040" cy="225360"/>
          </a:xfrm>
          <a:prstGeom prst="ellipse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2" name=""/>
          <p:cNvGraphicFramePr/>
          <p:nvPr/>
        </p:nvGraphicFramePr>
        <p:xfrm>
          <a:off x="4344840" y="3017880"/>
          <a:ext cx="1370160" cy="140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4840" y="3017880"/>
                    <a:ext cx="137016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74" name=""/>
          <p:cNvGrpSpPr/>
          <p:nvPr/>
        </p:nvGrpSpPr>
        <p:grpSpPr>
          <a:xfrm>
            <a:off x="4148280" y="2480760"/>
            <a:ext cx="676440" cy="740520"/>
            <a:chOff x="4148280" y="2480760"/>
            <a:chExt cx="676440" cy="740520"/>
          </a:xfrm>
        </p:grpSpPr>
        <p:sp>
          <p:nvSpPr>
            <p:cNvPr id="1575" name=""/>
            <p:cNvSpPr/>
            <p:nvPr/>
          </p:nvSpPr>
          <p:spPr>
            <a:xfrm rot="11917800">
              <a:off x="4439160" y="2978640"/>
              <a:ext cx="348480" cy="486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rot="8745000">
              <a:off x="4137120" y="2999160"/>
              <a:ext cx="30492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rot="11917800">
              <a:off x="4477680" y="2871720"/>
              <a:ext cx="348120" cy="486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rot="8745000">
              <a:off x="4186800" y="308448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rot="15116400">
              <a:off x="4241160" y="264348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rot="15116400">
              <a:off x="4332240" y="260604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1" name=""/>
          <p:cNvGrpSpPr/>
          <p:nvPr/>
        </p:nvGrpSpPr>
        <p:grpSpPr>
          <a:xfrm>
            <a:off x="4233600" y="4139280"/>
            <a:ext cx="666360" cy="757440"/>
            <a:chOff x="4233600" y="4139280"/>
            <a:chExt cx="666360" cy="757440"/>
          </a:xfrm>
        </p:grpSpPr>
        <p:sp>
          <p:nvSpPr>
            <p:cNvPr id="1582" name=""/>
            <p:cNvSpPr/>
            <p:nvPr/>
          </p:nvSpPr>
          <p:spPr>
            <a:xfrm rot="10086600">
              <a:off x="4550040" y="4489200"/>
              <a:ext cx="348480" cy="486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rot="6913800">
              <a:off x="4304880" y="4670640"/>
              <a:ext cx="30492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rot="10086600">
              <a:off x="4528800" y="4377600"/>
              <a:ext cx="348120" cy="486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rot="6913800">
              <a:off x="4391280" y="471924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rot="13284600">
              <a:off x="4213800" y="431172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rot="13284600">
              <a:off x="4273560" y="423288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8" name=""/>
          <p:cNvSpPr/>
          <p:nvPr/>
        </p:nvSpPr>
        <p:spPr>
          <a:xfrm rot="16035000">
            <a:off x="3300480" y="3307680"/>
            <a:ext cx="1600200" cy="7621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3240">
            <a:solidFill>
              <a:srgbClr val="a5a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rot="2112600">
            <a:off x="7391520" y="456840"/>
            <a:ext cx="1542960" cy="8064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0" name=""/>
          <p:cNvGraphicFramePr/>
          <p:nvPr/>
        </p:nvGraphicFramePr>
        <p:xfrm>
          <a:off x="1816200" y="5219640"/>
          <a:ext cx="1384200" cy="1371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16200" y="5219640"/>
                    <a:ext cx="13842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92" name=""/>
          <p:cNvGrpSpPr/>
          <p:nvPr/>
        </p:nvGrpSpPr>
        <p:grpSpPr>
          <a:xfrm>
            <a:off x="1141920" y="5709960"/>
            <a:ext cx="687600" cy="394200"/>
            <a:chOff x="1141920" y="5709960"/>
            <a:chExt cx="687600" cy="394200"/>
          </a:xfrm>
        </p:grpSpPr>
        <p:sp>
          <p:nvSpPr>
            <p:cNvPr id="1593" name=""/>
            <p:cNvSpPr/>
            <p:nvPr/>
          </p:nvSpPr>
          <p:spPr>
            <a:xfrm rot="5420400">
              <a:off x="1263960" y="5590440"/>
              <a:ext cx="390600" cy="6328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617a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rot="5420400">
              <a:off x="1555560" y="5802840"/>
              <a:ext cx="334800" cy="210960"/>
            </a:xfrm>
            <a:prstGeom prst="rect">
              <a:avLst/>
            </a:prstGeom>
            <a:solidFill>
              <a:srgbClr val="617a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5" name=""/>
          <p:cNvGrpSpPr/>
          <p:nvPr/>
        </p:nvGrpSpPr>
        <p:grpSpPr>
          <a:xfrm>
            <a:off x="945720" y="5517720"/>
            <a:ext cx="603360" cy="776880"/>
            <a:chOff x="945720" y="5517720"/>
            <a:chExt cx="603360" cy="776880"/>
          </a:xfrm>
        </p:grpSpPr>
        <p:sp>
          <p:nvSpPr>
            <p:cNvPr id="1596" name=""/>
            <p:cNvSpPr/>
            <p:nvPr/>
          </p:nvSpPr>
          <p:spPr>
            <a:xfrm rot="10811400">
              <a:off x="1198440" y="5941440"/>
              <a:ext cx="348480" cy="486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rot="7638600">
              <a:off x="920520" y="6063120"/>
              <a:ext cx="30492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rot="10811400">
              <a:off x="1200960" y="5827680"/>
              <a:ext cx="348120" cy="486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rot="7638600">
              <a:off x="994320" y="612828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rot="14010000">
              <a:off x="906120" y="569304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rot="14010000">
              <a:off x="981000" y="562860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2" name=""/>
          <p:cNvSpPr/>
          <p:nvPr/>
        </p:nvSpPr>
        <p:spPr>
          <a:xfrm rot="13249200">
            <a:off x="533160" y="6199920"/>
            <a:ext cx="723960" cy="42876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3240">
            <a:solidFill>
              <a:srgbClr val="a5a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3" name=""/>
          <p:cNvGraphicFramePr/>
          <p:nvPr/>
        </p:nvGraphicFramePr>
        <p:xfrm>
          <a:off x="7467480" y="2819520"/>
          <a:ext cx="1371600" cy="135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67480" y="2819520"/>
                    <a:ext cx="1371600" cy="13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5" name=""/>
          <p:cNvSpPr/>
          <p:nvPr/>
        </p:nvSpPr>
        <p:spPr>
          <a:xfrm>
            <a:off x="7074000" y="3363840"/>
            <a:ext cx="433440" cy="371520"/>
          </a:xfrm>
          <a:custGeom>
            <a:avLst/>
            <a:gdLst/>
            <a:ahLst/>
            <a:rect l="l" t="t" r="r" b="b"/>
            <a:pathLst>
              <a:path w="356" h="294">
                <a:moveTo>
                  <a:pt x="97" y="44"/>
                </a:moveTo>
                <a:cubicBezTo>
                  <a:pt x="128" y="54"/>
                  <a:pt x="136" y="66"/>
                  <a:pt x="154" y="93"/>
                </a:cubicBezTo>
                <a:cubicBezTo>
                  <a:pt x="157" y="101"/>
                  <a:pt x="162" y="109"/>
                  <a:pt x="162" y="118"/>
                </a:cubicBezTo>
                <a:cubicBezTo>
                  <a:pt x="162" y="140"/>
                  <a:pt x="162" y="163"/>
                  <a:pt x="154" y="184"/>
                </a:cubicBezTo>
                <a:cubicBezTo>
                  <a:pt x="150" y="193"/>
                  <a:pt x="94" y="220"/>
                  <a:pt x="80" y="233"/>
                </a:cubicBezTo>
                <a:cubicBezTo>
                  <a:pt x="83" y="249"/>
                  <a:pt x="72" y="277"/>
                  <a:pt x="88" y="282"/>
                </a:cubicBezTo>
                <a:cubicBezTo>
                  <a:pt x="124" y="294"/>
                  <a:pt x="165" y="274"/>
                  <a:pt x="203" y="274"/>
                </a:cubicBezTo>
                <a:cubicBezTo>
                  <a:pt x="239" y="274"/>
                  <a:pt x="274" y="279"/>
                  <a:pt x="310" y="282"/>
                </a:cubicBezTo>
                <a:cubicBezTo>
                  <a:pt x="321" y="279"/>
                  <a:pt x="341" y="285"/>
                  <a:pt x="343" y="274"/>
                </a:cubicBezTo>
                <a:cubicBezTo>
                  <a:pt x="356" y="184"/>
                  <a:pt x="334" y="90"/>
                  <a:pt x="310" y="3"/>
                </a:cubicBezTo>
                <a:cubicBezTo>
                  <a:pt x="242" y="10"/>
                  <a:pt x="171" y="0"/>
                  <a:pt x="105" y="19"/>
                </a:cubicBezTo>
                <a:cubicBezTo>
                  <a:pt x="0" y="49"/>
                  <a:pt x="192" y="44"/>
                  <a:pt x="97" y="44"/>
                </a:cubicBez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 rot="10744200">
            <a:off x="6400440" y="3296880"/>
            <a:ext cx="723960" cy="42876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3240">
            <a:solidFill>
              <a:srgbClr val="a5a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 rot="21444600">
            <a:off x="7048080" y="3417480"/>
            <a:ext cx="190440" cy="225360"/>
          </a:xfrm>
          <a:prstGeom prst="ellipse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 rot="19272600">
            <a:off x="6514920" y="3185640"/>
            <a:ext cx="190440" cy="225360"/>
          </a:xfrm>
          <a:prstGeom prst="ellipse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498680" y="673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1905120" y="3049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antitox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495680" y="16002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precipi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905120" y="4343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agluti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3352680" y="5867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opso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4952880" y="4191120"/>
            <a:ext cx="1447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Activación del complemento por la vía clás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66294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Lisis osmótica por M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7543800" y="4343400"/>
            <a:ext cx="144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CL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b opso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019920" y="609588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Activación de fagoc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2" dur="indefinite" restart="never" nodeType="tmRoot">
          <p:childTnLst>
            <p:seq>
              <p:cTn id="1953" dur="indefinite" nodeType="mainSeq">
                <p:childTnLst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8" dur="1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1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1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1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5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2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8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500"/>
                            </p:stCondLst>
                            <p:childTnLst>
                              <p:par>
                                <p:cTn id="19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2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6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0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4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1" dur="1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1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1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1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10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10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10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10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10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10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2" dur="1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1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1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1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02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9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0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5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6" fill="hold">
                            <p:stCondLst>
                              <p:cond delay="500"/>
                            </p:stCondLst>
                            <p:childTnLst>
                              <p:par>
                                <p:cTn id="20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0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4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9" dur="5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5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5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6" fill="hold">
                            <p:stCondLst>
                              <p:cond delay="500"/>
                            </p:stCondLst>
                            <p:childTnLst>
                              <p:par>
                                <p:cTn id="20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9" dur="1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1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1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1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1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5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8" dur="5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4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5" fill="hold">
                            <p:stCondLst>
                              <p:cond delay="500"/>
                            </p:stCondLst>
                            <p:childTnLst>
                              <p:par>
                                <p:cTn id="20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8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5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5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2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6" dur="5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5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2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3" fill="hold">
                            <p:stCondLst>
                              <p:cond delay="500"/>
                            </p:stCondLst>
                            <p:childTnLst>
                              <p:par>
                                <p:cTn id="213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6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3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5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0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1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5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2" dur="5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3" dur="5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fill="hold">
                      <p:stCondLst>
                        <p:cond delay="indefinite"/>
                      </p:stCondLst>
                      <p:childTnLst>
                        <p:par>
                          <p:cTn id="2165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8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1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500"/>
                            </p:stCondLst>
                            <p:childTnLst>
                              <p:par>
                                <p:cTn id="217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5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4140360" y="3933720"/>
            <a:ext cx="288720" cy="2890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3794" y="3807"/>
                </a:moveTo>
                <a:lnTo>
                  <a:pt x="17806" y="10813"/>
                </a:lnTo>
                <a:lnTo>
                  <a:pt x="3794" y="1782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542880" y="3110040"/>
            <a:ext cx="805824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RESPUESTA INMUNE HUMOR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a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/>
          <p:nvPr/>
        </p:nvSpPr>
        <p:spPr>
          <a:xfrm>
            <a:off x="2329920" y="2943360"/>
            <a:ext cx="174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Bacteria intracelular entra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2403000" y="3108240"/>
            <a:ext cx="1598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citoplasma del macrófag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7032600" y="2560680"/>
            <a:ext cx="1959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7371720" y="2209680"/>
            <a:ext cx="1278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Bacteria extracelul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201800" y="2371680"/>
            <a:ext cx="1504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ingerida y  destruida p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7676280" y="2535120"/>
            <a:ext cx="663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acrófag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551320" y="3557520"/>
            <a:ext cx="1308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Péptidos bacterian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385000" y="3719520"/>
            <a:ext cx="163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presentados en molécul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741400" y="3876840"/>
            <a:ext cx="764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HC clase 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7237440" y="2971800"/>
            <a:ext cx="1308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Péptidos bacterian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7084080" y="3133800"/>
            <a:ext cx="163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presentados en molécul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8558280" y="3402000"/>
            <a:ext cx="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2" name=""/>
          <p:cNvGrpSpPr/>
          <p:nvPr/>
        </p:nvGrpSpPr>
        <p:grpSpPr>
          <a:xfrm>
            <a:off x="7120800" y="3770280"/>
            <a:ext cx="1608480" cy="182880"/>
            <a:chOff x="7120800" y="3770280"/>
            <a:chExt cx="1608480" cy="182880"/>
          </a:xfrm>
        </p:grpSpPr>
        <p:sp>
          <p:nvSpPr>
            <p:cNvPr id="1633" name=""/>
            <p:cNvSpPr/>
            <p:nvPr/>
          </p:nvSpPr>
          <p:spPr>
            <a:xfrm>
              <a:off x="7120800" y="3778200"/>
              <a:ext cx="52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éptido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657200" y="37702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H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8009280" y="3778200"/>
              <a:ext cx="72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I, estimul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7542720" y="3946680"/>
            <a:ext cx="950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T Helper (CD4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7" name=""/>
          <p:cNvGrpSpPr/>
          <p:nvPr/>
        </p:nvGrpSpPr>
        <p:grpSpPr>
          <a:xfrm>
            <a:off x="2432880" y="4343400"/>
            <a:ext cx="1581480" cy="182880"/>
            <a:chOff x="2432880" y="4343400"/>
            <a:chExt cx="1581480" cy="182880"/>
          </a:xfrm>
        </p:grpSpPr>
        <p:sp>
          <p:nvSpPr>
            <p:cNvPr id="1638" name=""/>
            <p:cNvSpPr/>
            <p:nvPr/>
          </p:nvSpPr>
          <p:spPr>
            <a:xfrm>
              <a:off x="2432880" y="4352760"/>
              <a:ext cx="52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éptido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954880" y="434340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H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294360" y="4352760"/>
              <a:ext cx="72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, estimul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1" name=""/>
          <p:cNvSpPr/>
          <p:nvPr/>
        </p:nvSpPr>
        <p:spPr>
          <a:xfrm>
            <a:off x="2318040" y="4521240"/>
            <a:ext cx="177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linfocitos T citotóxicos (CD8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2185920" y="4971960"/>
            <a:ext cx="208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Linfocitos T citotóxicos activados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2417760" y="5130720"/>
            <a:ext cx="1619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destruyen algunas célul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2245320" y="5291280"/>
            <a:ext cx="2024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huésped que expresan complej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5" name=""/>
          <p:cNvGrpSpPr/>
          <p:nvPr/>
        </p:nvGrpSpPr>
        <p:grpSpPr>
          <a:xfrm>
            <a:off x="2414520" y="5452920"/>
            <a:ext cx="1625400" cy="186120"/>
            <a:chOff x="2414520" y="5452920"/>
            <a:chExt cx="1625400" cy="186120"/>
          </a:xfrm>
        </p:grpSpPr>
        <p:sp>
          <p:nvSpPr>
            <p:cNvPr id="1646" name=""/>
            <p:cNvSpPr/>
            <p:nvPr/>
          </p:nvSpPr>
          <p:spPr>
            <a:xfrm>
              <a:off x="2414520" y="5465520"/>
              <a:ext cx="1152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éptido bacterian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566520" y="54655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612240" y="54561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H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957480" y="5452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999600" y="54655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1" name=""/>
          <p:cNvSpPr/>
          <p:nvPr/>
        </p:nvSpPr>
        <p:spPr>
          <a:xfrm>
            <a:off x="7114320" y="4921200"/>
            <a:ext cx="1808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T helper (TH2) estimula a l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363800" y="5079960"/>
            <a:ext cx="1419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linfocitos B a produci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7657200" y="5241960"/>
            <a:ext cx="724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anticuerp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7464960" y="5867280"/>
            <a:ext cx="1418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Thelper (TH1) produ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463520" y="6026040"/>
            <a:ext cx="1419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IFN-gamma que activ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868520" y="6191280"/>
            <a:ext cx="811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al macrófag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7" name=""/>
          <p:cNvGrpSpPr/>
          <p:nvPr/>
        </p:nvGrpSpPr>
        <p:grpSpPr>
          <a:xfrm>
            <a:off x="228600" y="4343400"/>
            <a:ext cx="1905120" cy="1371600"/>
            <a:chOff x="228600" y="4343400"/>
            <a:chExt cx="1905120" cy="1371600"/>
          </a:xfrm>
        </p:grpSpPr>
        <p:sp>
          <p:nvSpPr>
            <p:cNvPr id="1658" name=""/>
            <p:cNvSpPr/>
            <p:nvPr/>
          </p:nvSpPr>
          <p:spPr>
            <a:xfrm>
              <a:off x="228600" y="4343400"/>
              <a:ext cx="1905120" cy="137160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rot="16375800">
              <a:off x="1310400" y="4748760"/>
              <a:ext cx="619200" cy="41724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0" name=""/>
          <p:cNvGrpSpPr/>
          <p:nvPr/>
        </p:nvGrpSpPr>
        <p:grpSpPr>
          <a:xfrm>
            <a:off x="528120" y="4736880"/>
            <a:ext cx="158760" cy="598320"/>
            <a:chOff x="528120" y="4736880"/>
            <a:chExt cx="158760" cy="598320"/>
          </a:xfrm>
        </p:grpSpPr>
        <p:sp>
          <p:nvSpPr>
            <p:cNvPr id="1661" name=""/>
            <p:cNvSpPr/>
            <p:nvPr/>
          </p:nvSpPr>
          <p:spPr>
            <a:xfrm rot="16262400">
              <a:off x="418320" y="5074200"/>
              <a:ext cx="372600" cy="146880"/>
            </a:xfrm>
            <a:prstGeom prst="ellipse">
              <a:avLst/>
            </a:prstGeom>
            <a:solidFill>
              <a:srgbClr val="fff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rot="16262400">
              <a:off x="471960" y="4836600"/>
              <a:ext cx="208800" cy="43200"/>
            </a:xfrm>
            <a:custGeom>
              <a:avLst/>
              <a:gdLst/>
              <a:ahLst/>
              <a:rect l="l" t="t" r="r" b="b"/>
              <a:pathLst>
                <a:path w="345" h="96">
                  <a:moveTo>
                    <a:pt x="0" y="74"/>
                  </a:moveTo>
                  <a:cubicBezTo>
                    <a:pt x="91" y="96"/>
                    <a:pt x="106" y="49"/>
                    <a:pt x="172" y="24"/>
                  </a:cubicBezTo>
                  <a:cubicBezTo>
                    <a:pt x="224" y="43"/>
                    <a:pt x="230" y="40"/>
                    <a:pt x="296" y="33"/>
                  </a:cubicBezTo>
                  <a:cubicBezTo>
                    <a:pt x="307" y="30"/>
                    <a:pt x="320" y="30"/>
                    <a:pt x="329" y="24"/>
                  </a:cubicBezTo>
                  <a:cubicBezTo>
                    <a:pt x="337" y="19"/>
                    <a:pt x="345" y="0"/>
                    <a:pt x="34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rot="16262400">
              <a:off x="513000" y="4823280"/>
              <a:ext cx="226080" cy="54000"/>
            </a:xfrm>
            <a:custGeom>
              <a:avLst/>
              <a:gdLst/>
              <a:ahLst/>
              <a:rect l="l" t="t" r="r" b="b"/>
              <a:pathLst>
                <a:path w="345" h="107">
                  <a:moveTo>
                    <a:pt x="0" y="0"/>
                  </a:moveTo>
                  <a:cubicBezTo>
                    <a:pt x="18" y="28"/>
                    <a:pt x="26" y="38"/>
                    <a:pt x="57" y="50"/>
                  </a:cubicBezTo>
                  <a:cubicBezTo>
                    <a:pt x="92" y="37"/>
                    <a:pt x="111" y="32"/>
                    <a:pt x="148" y="41"/>
                  </a:cubicBezTo>
                  <a:cubicBezTo>
                    <a:pt x="194" y="90"/>
                    <a:pt x="131" y="31"/>
                    <a:pt x="271" y="66"/>
                  </a:cubicBezTo>
                  <a:cubicBezTo>
                    <a:pt x="282" y="69"/>
                    <a:pt x="286" y="85"/>
                    <a:pt x="296" y="91"/>
                  </a:cubicBezTo>
                  <a:cubicBezTo>
                    <a:pt x="311" y="99"/>
                    <a:pt x="330" y="99"/>
                    <a:pt x="345" y="10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rot="819600">
              <a:off x="651240" y="5237280"/>
              <a:ext cx="23760" cy="41760"/>
            </a:xfrm>
            <a:prstGeom prst="flowChartDelay">
              <a:avLst/>
            </a:prstGeom>
            <a:solidFill>
              <a:srgbClr val="fff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 rot="21346200">
              <a:off x="661680" y="5028120"/>
              <a:ext cx="23760" cy="41760"/>
            </a:xfrm>
            <a:prstGeom prst="flowChartDelay">
              <a:avLst/>
            </a:prstGeom>
            <a:solidFill>
              <a:srgbClr val="fff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6" name=""/>
          <p:cNvSpPr/>
          <p:nvPr/>
        </p:nvSpPr>
        <p:spPr>
          <a:xfrm rot="10425600">
            <a:off x="533160" y="5175360"/>
            <a:ext cx="160200" cy="133200"/>
          </a:xfrm>
          <a:custGeom>
            <a:avLst/>
            <a:gdLst/>
            <a:ahLst/>
            <a:rect l="l" t="t" r="r" b="b"/>
            <a:pathLst>
              <a:path w="113" h="118">
                <a:moveTo>
                  <a:pt x="58" y="0"/>
                </a:moveTo>
                <a:cubicBezTo>
                  <a:pt x="38" y="21"/>
                  <a:pt x="28" y="32"/>
                  <a:pt x="0" y="41"/>
                </a:cubicBezTo>
                <a:cubicBezTo>
                  <a:pt x="27" y="50"/>
                  <a:pt x="39" y="65"/>
                  <a:pt x="66" y="74"/>
                </a:cubicBezTo>
                <a:cubicBezTo>
                  <a:pt x="113" y="118"/>
                  <a:pt x="87" y="25"/>
                  <a:pt x="83" y="17"/>
                </a:cubicBezTo>
                <a:cubicBezTo>
                  <a:pt x="78" y="8"/>
                  <a:pt x="66" y="6"/>
                  <a:pt x="58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 rot="8723400">
            <a:off x="609480" y="5175360"/>
            <a:ext cx="160560" cy="133200"/>
          </a:xfrm>
          <a:custGeom>
            <a:avLst/>
            <a:gdLst/>
            <a:ahLst/>
            <a:rect l="l" t="t" r="r" b="b"/>
            <a:pathLst>
              <a:path w="113" h="118">
                <a:moveTo>
                  <a:pt x="58" y="0"/>
                </a:moveTo>
                <a:cubicBezTo>
                  <a:pt x="38" y="21"/>
                  <a:pt x="28" y="32"/>
                  <a:pt x="0" y="41"/>
                </a:cubicBezTo>
                <a:cubicBezTo>
                  <a:pt x="27" y="50"/>
                  <a:pt x="39" y="65"/>
                  <a:pt x="66" y="74"/>
                </a:cubicBezTo>
                <a:cubicBezTo>
                  <a:pt x="113" y="118"/>
                  <a:pt x="87" y="25"/>
                  <a:pt x="83" y="17"/>
                </a:cubicBezTo>
                <a:cubicBezTo>
                  <a:pt x="78" y="8"/>
                  <a:pt x="66" y="6"/>
                  <a:pt x="58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rot="10425600">
            <a:off x="685440" y="5175360"/>
            <a:ext cx="160200" cy="133200"/>
          </a:xfrm>
          <a:custGeom>
            <a:avLst/>
            <a:gdLst/>
            <a:ahLst/>
            <a:rect l="l" t="t" r="r" b="b"/>
            <a:pathLst>
              <a:path w="113" h="118">
                <a:moveTo>
                  <a:pt x="58" y="0"/>
                </a:moveTo>
                <a:cubicBezTo>
                  <a:pt x="38" y="21"/>
                  <a:pt x="28" y="32"/>
                  <a:pt x="0" y="41"/>
                </a:cubicBezTo>
                <a:cubicBezTo>
                  <a:pt x="27" y="50"/>
                  <a:pt x="39" y="65"/>
                  <a:pt x="66" y="74"/>
                </a:cubicBezTo>
                <a:cubicBezTo>
                  <a:pt x="113" y="118"/>
                  <a:pt x="87" y="25"/>
                  <a:pt x="83" y="17"/>
                </a:cubicBezTo>
                <a:cubicBezTo>
                  <a:pt x="78" y="8"/>
                  <a:pt x="66" y="6"/>
                  <a:pt x="58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rot="7543800">
            <a:off x="762120" y="5173920"/>
            <a:ext cx="160200" cy="133560"/>
          </a:xfrm>
          <a:custGeom>
            <a:avLst/>
            <a:gdLst/>
            <a:ahLst/>
            <a:rect l="l" t="t" r="r" b="b"/>
            <a:pathLst>
              <a:path w="113" h="118">
                <a:moveTo>
                  <a:pt x="58" y="0"/>
                </a:moveTo>
                <a:cubicBezTo>
                  <a:pt x="38" y="21"/>
                  <a:pt x="28" y="32"/>
                  <a:pt x="0" y="41"/>
                </a:cubicBezTo>
                <a:cubicBezTo>
                  <a:pt x="27" y="50"/>
                  <a:pt x="39" y="65"/>
                  <a:pt x="66" y="74"/>
                </a:cubicBezTo>
                <a:cubicBezTo>
                  <a:pt x="113" y="118"/>
                  <a:pt x="87" y="25"/>
                  <a:pt x="83" y="17"/>
                </a:cubicBezTo>
                <a:cubicBezTo>
                  <a:pt x="78" y="8"/>
                  <a:pt x="66" y="6"/>
                  <a:pt x="58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0" name=""/>
          <p:cNvGrpSpPr/>
          <p:nvPr/>
        </p:nvGrpSpPr>
        <p:grpSpPr>
          <a:xfrm>
            <a:off x="1021320" y="5146560"/>
            <a:ext cx="461880" cy="415800"/>
            <a:chOff x="1021320" y="5146560"/>
            <a:chExt cx="461880" cy="415800"/>
          </a:xfrm>
        </p:grpSpPr>
        <p:sp>
          <p:nvSpPr>
            <p:cNvPr id="1671" name=""/>
            <p:cNvSpPr/>
            <p:nvPr/>
          </p:nvSpPr>
          <p:spPr>
            <a:xfrm rot="17961600">
              <a:off x="1121040" y="5163120"/>
              <a:ext cx="261720" cy="382680"/>
            </a:xfrm>
            <a:custGeom>
              <a:avLst/>
              <a:gdLst/>
              <a:ahLst/>
              <a:rect l="l" t="t" r="r" b="b"/>
              <a:pathLst>
                <a:path w="168" h="180">
                  <a:moveTo>
                    <a:pt x="30" y="148"/>
                  </a:moveTo>
                  <a:cubicBezTo>
                    <a:pt x="48" y="99"/>
                    <a:pt x="0" y="21"/>
                    <a:pt x="63" y="0"/>
                  </a:cubicBezTo>
                  <a:cubicBezTo>
                    <a:pt x="86" y="33"/>
                    <a:pt x="94" y="38"/>
                    <a:pt x="129" y="16"/>
                  </a:cubicBezTo>
                  <a:cubicBezTo>
                    <a:pt x="137" y="21"/>
                    <a:pt x="150" y="23"/>
                    <a:pt x="154" y="32"/>
                  </a:cubicBezTo>
                  <a:cubicBezTo>
                    <a:pt x="168" y="67"/>
                    <a:pt x="91" y="72"/>
                    <a:pt x="80" y="74"/>
                  </a:cubicBezTo>
                  <a:cubicBezTo>
                    <a:pt x="63" y="121"/>
                    <a:pt x="74" y="152"/>
                    <a:pt x="30" y="180"/>
                  </a:cubicBezTo>
                  <a:cubicBezTo>
                    <a:pt x="27" y="172"/>
                    <a:pt x="20" y="164"/>
                    <a:pt x="22" y="156"/>
                  </a:cubicBezTo>
                  <a:cubicBezTo>
                    <a:pt x="24" y="148"/>
                    <a:pt x="33" y="145"/>
                    <a:pt x="39" y="139"/>
                  </a:cubicBezTo>
                  <a:cubicBezTo>
                    <a:pt x="42" y="136"/>
                    <a:pt x="33" y="145"/>
                    <a:pt x="30" y="148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 rot="17961600">
              <a:off x="1229400" y="5256000"/>
              <a:ext cx="160560" cy="104760"/>
            </a:xfrm>
            <a:custGeom>
              <a:avLst/>
              <a:gdLst/>
              <a:ahLst/>
              <a:rect l="l" t="t" r="r" b="b"/>
              <a:pathLst>
                <a:path w="101" h="66">
                  <a:moveTo>
                    <a:pt x="29" y="0"/>
                  </a:moveTo>
                  <a:cubicBezTo>
                    <a:pt x="6" y="36"/>
                    <a:pt x="0" y="51"/>
                    <a:pt x="46" y="66"/>
                  </a:cubicBezTo>
                  <a:cubicBezTo>
                    <a:pt x="54" y="63"/>
                    <a:pt x="65" y="64"/>
                    <a:pt x="71" y="58"/>
                  </a:cubicBezTo>
                  <a:cubicBezTo>
                    <a:pt x="101" y="28"/>
                    <a:pt x="54" y="0"/>
                    <a:pt x="29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3" name=""/>
          <p:cNvSpPr/>
          <p:nvPr/>
        </p:nvSpPr>
        <p:spPr>
          <a:xfrm rot="10425600">
            <a:off x="838080" y="5175360"/>
            <a:ext cx="160560" cy="133200"/>
          </a:xfrm>
          <a:custGeom>
            <a:avLst/>
            <a:gdLst/>
            <a:ahLst/>
            <a:rect l="l" t="t" r="r" b="b"/>
            <a:pathLst>
              <a:path w="113" h="118">
                <a:moveTo>
                  <a:pt x="58" y="0"/>
                </a:moveTo>
                <a:cubicBezTo>
                  <a:pt x="38" y="21"/>
                  <a:pt x="28" y="32"/>
                  <a:pt x="0" y="41"/>
                </a:cubicBezTo>
                <a:cubicBezTo>
                  <a:pt x="27" y="50"/>
                  <a:pt x="39" y="65"/>
                  <a:pt x="66" y="74"/>
                </a:cubicBezTo>
                <a:cubicBezTo>
                  <a:pt x="113" y="118"/>
                  <a:pt x="87" y="25"/>
                  <a:pt x="83" y="17"/>
                </a:cubicBezTo>
                <a:cubicBezTo>
                  <a:pt x="78" y="8"/>
                  <a:pt x="66" y="6"/>
                  <a:pt x="58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 rot="8614800">
            <a:off x="913680" y="5175360"/>
            <a:ext cx="160200" cy="133200"/>
          </a:xfrm>
          <a:custGeom>
            <a:avLst/>
            <a:gdLst/>
            <a:ahLst/>
            <a:rect l="l" t="t" r="r" b="b"/>
            <a:pathLst>
              <a:path w="113" h="118">
                <a:moveTo>
                  <a:pt x="58" y="0"/>
                </a:moveTo>
                <a:cubicBezTo>
                  <a:pt x="38" y="21"/>
                  <a:pt x="28" y="32"/>
                  <a:pt x="0" y="41"/>
                </a:cubicBezTo>
                <a:cubicBezTo>
                  <a:pt x="27" y="50"/>
                  <a:pt x="39" y="65"/>
                  <a:pt x="66" y="74"/>
                </a:cubicBezTo>
                <a:cubicBezTo>
                  <a:pt x="113" y="118"/>
                  <a:pt x="87" y="25"/>
                  <a:pt x="83" y="17"/>
                </a:cubicBezTo>
                <a:cubicBezTo>
                  <a:pt x="78" y="8"/>
                  <a:pt x="66" y="6"/>
                  <a:pt x="58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 rot="6514800">
            <a:off x="1016280" y="5187240"/>
            <a:ext cx="160560" cy="133200"/>
          </a:xfrm>
          <a:custGeom>
            <a:avLst/>
            <a:gdLst/>
            <a:ahLst/>
            <a:rect l="l" t="t" r="r" b="b"/>
            <a:pathLst>
              <a:path w="113" h="118">
                <a:moveTo>
                  <a:pt x="58" y="0"/>
                </a:moveTo>
                <a:cubicBezTo>
                  <a:pt x="38" y="21"/>
                  <a:pt x="28" y="32"/>
                  <a:pt x="0" y="41"/>
                </a:cubicBezTo>
                <a:cubicBezTo>
                  <a:pt x="27" y="50"/>
                  <a:pt x="39" y="65"/>
                  <a:pt x="66" y="74"/>
                </a:cubicBezTo>
                <a:cubicBezTo>
                  <a:pt x="113" y="118"/>
                  <a:pt x="87" y="25"/>
                  <a:pt x="83" y="17"/>
                </a:cubicBezTo>
                <a:cubicBezTo>
                  <a:pt x="78" y="8"/>
                  <a:pt x="66" y="6"/>
                  <a:pt x="58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6" name=""/>
          <p:cNvGrpSpPr/>
          <p:nvPr/>
        </p:nvGrpSpPr>
        <p:grpSpPr>
          <a:xfrm>
            <a:off x="1018800" y="5137560"/>
            <a:ext cx="475560" cy="424800"/>
            <a:chOff x="1018800" y="5137560"/>
            <a:chExt cx="475560" cy="424800"/>
          </a:xfrm>
        </p:grpSpPr>
        <p:grpSp>
          <p:nvGrpSpPr>
            <p:cNvPr id="1677" name=""/>
            <p:cNvGrpSpPr/>
            <p:nvPr/>
          </p:nvGrpSpPr>
          <p:grpSpPr>
            <a:xfrm>
              <a:off x="1032480" y="5146560"/>
              <a:ext cx="461880" cy="415800"/>
              <a:chOff x="1032480" y="5146560"/>
              <a:chExt cx="461880" cy="415800"/>
            </a:xfrm>
          </p:grpSpPr>
          <p:sp>
            <p:nvSpPr>
              <p:cNvPr id="1678" name=""/>
              <p:cNvSpPr/>
              <p:nvPr/>
            </p:nvSpPr>
            <p:spPr>
              <a:xfrm rot="17961600">
                <a:off x="1132200" y="516312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d3ce00"/>
              </a:solidFill>
              <a:ln w="38160">
                <a:solidFill>
                  <a:srgbClr val="d3c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rot="17961600">
                <a:off x="1240560" y="5256000"/>
                <a:ext cx="16056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d3ce00"/>
              </a:solidFill>
              <a:ln w="38160">
                <a:solidFill>
                  <a:srgbClr val="d3c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0" name=""/>
            <p:cNvSpPr/>
            <p:nvPr/>
          </p:nvSpPr>
          <p:spPr>
            <a:xfrm rot="6514800">
              <a:off x="1027440" y="5167800"/>
              <a:ext cx="16056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d3ce00"/>
            </a:solidFill>
            <a:ln w="38160">
              <a:solidFill>
                <a:srgbClr val="d3c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1" name=""/>
          <p:cNvGrpSpPr/>
          <p:nvPr/>
        </p:nvGrpSpPr>
        <p:grpSpPr>
          <a:xfrm>
            <a:off x="974880" y="4837680"/>
            <a:ext cx="459360" cy="475920"/>
            <a:chOff x="974880" y="4837680"/>
            <a:chExt cx="459360" cy="475920"/>
          </a:xfrm>
        </p:grpSpPr>
        <p:grpSp>
          <p:nvGrpSpPr>
            <p:cNvPr id="1682" name=""/>
            <p:cNvGrpSpPr/>
            <p:nvPr/>
          </p:nvGrpSpPr>
          <p:grpSpPr>
            <a:xfrm>
              <a:off x="974880" y="4864320"/>
              <a:ext cx="459360" cy="449280"/>
              <a:chOff x="974880" y="4864320"/>
              <a:chExt cx="459360" cy="449280"/>
            </a:xfrm>
          </p:grpSpPr>
          <p:sp>
            <p:nvSpPr>
              <p:cNvPr id="1683" name=""/>
              <p:cNvSpPr/>
              <p:nvPr/>
            </p:nvSpPr>
            <p:spPr>
              <a:xfrm rot="18690000">
                <a:off x="1073880" y="4897440"/>
                <a:ext cx="261360" cy="38232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rot="18690000">
                <a:off x="1189800" y="5004000"/>
                <a:ext cx="160200" cy="10440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5" name=""/>
            <p:cNvSpPr/>
            <p:nvPr/>
          </p:nvSpPr>
          <p:spPr>
            <a:xfrm rot="7243800">
              <a:off x="997920" y="4873680"/>
              <a:ext cx="160200" cy="13320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6" name=""/>
          <p:cNvGrpSpPr/>
          <p:nvPr/>
        </p:nvGrpSpPr>
        <p:grpSpPr>
          <a:xfrm>
            <a:off x="983880" y="4652640"/>
            <a:ext cx="417960" cy="515520"/>
            <a:chOff x="983880" y="4652640"/>
            <a:chExt cx="417960" cy="515520"/>
          </a:xfrm>
        </p:grpSpPr>
        <p:grpSp>
          <p:nvGrpSpPr>
            <p:cNvPr id="1687" name=""/>
            <p:cNvGrpSpPr/>
            <p:nvPr/>
          </p:nvGrpSpPr>
          <p:grpSpPr>
            <a:xfrm>
              <a:off x="983880" y="4706280"/>
              <a:ext cx="417960" cy="461880"/>
              <a:chOff x="983880" y="4706280"/>
              <a:chExt cx="417960" cy="461880"/>
            </a:xfrm>
          </p:grpSpPr>
          <p:sp>
            <p:nvSpPr>
              <p:cNvPr id="1688" name=""/>
              <p:cNvSpPr/>
              <p:nvPr/>
            </p:nvSpPr>
            <p:spPr>
              <a:xfrm rot="19796400">
                <a:off x="1062000" y="4745880"/>
                <a:ext cx="261720" cy="38232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rot="19796400">
                <a:off x="1185120" y="4874400"/>
                <a:ext cx="160560" cy="10440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0" name=""/>
            <p:cNvSpPr/>
            <p:nvPr/>
          </p:nvSpPr>
          <p:spPr>
            <a:xfrm rot="8349600">
              <a:off x="1040040" y="4688640"/>
              <a:ext cx="160560" cy="13320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1" name=""/>
          <p:cNvGrpSpPr/>
          <p:nvPr/>
        </p:nvGrpSpPr>
        <p:grpSpPr>
          <a:xfrm>
            <a:off x="1004760" y="4443480"/>
            <a:ext cx="360720" cy="510480"/>
            <a:chOff x="1004760" y="4443480"/>
            <a:chExt cx="360720" cy="510480"/>
          </a:xfrm>
        </p:grpSpPr>
        <p:grpSp>
          <p:nvGrpSpPr>
            <p:cNvPr id="1692" name=""/>
            <p:cNvGrpSpPr/>
            <p:nvPr/>
          </p:nvGrpSpPr>
          <p:grpSpPr>
            <a:xfrm>
              <a:off x="1004760" y="4512600"/>
              <a:ext cx="360720" cy="441360"/>
              <a:chOff x="1004760" y="4512600"/>
              <a:chExt cx="360720" cy="441360"/>
            </a:xfrm>
          </p:grpSpPr>
          <p:sp>
            <p:nvSpPr>
              <p:cNvPr id="1693" name=""/>
              <p:cNvSpPr/>
              <p:nvPr/>
            </p:nvSpPr>
            <p:spPr>
              <a:xfrm rot="20598600">
                <a:off x="1054080" y="4542120"/>
                <a:ext cx="261720" cy="38232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rot="20598600">
                <a:off x="1177560" y="4687200"/>
                <a:ext cx="160560" cy="10440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5" name=""/>
            <p:cNvSpPr/>
            <p:nvPr/>
          </p:nvSpPr>
          <p:spPr>
            <a:xfrm rot="9151200">
              <a:off x="1075680" y="4472640"/>
              <a:ext cx="160560" cy="13320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6" name=""/>
          <p:cNvGrpSpPr/>
          <p:nvPr/>
        </p:nvGrpSpPr>
        <p:grpSpPr>
          <a:xfrm>
            <a:off x="1020600" y="4265640"/>
            <a:ext cx="321480" cy="496440"/>
            <a:chOff x="1020600" y="4265640"/>
            <a:chExt cx="321480" cy="496440"/>
          </a:xfrm>
        </p:grpSpPr>
        <p:grpSp>
          <p:nvGrpSpPr>
            <p:cNvPr id="1697" name=""/>
            <p:cNvGrpSpPr/>
            <p:nvPr/>
          </p:nvGrpSpPr>
          <p:grpSpPr>
            <a:xfrm>
              <a:off x="1020600" y="4341240"/>
              <a:ext cx="321480" cy="420840"/>
              <a:chOff x="1020600" y="4341240"/>
              <a:chExt cx="321480" cy="420840"/>
            </a:xfrm>
          </p:grpSpPr>
          <p:sp>
            <p:nvSpPr>
              <p:cNvPr id="1698" name=""/>
              <p:cNvSpPr/>
              <p:nvPr/>
            </p:nvSpPr>
            <p:spPr>
              <a:xfrm rot="21025200">
                <a:off x="1050480" y="4360320"/>
                <a:ext cx="26136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rot="21025200">
                <a:off x="1172880" y="4515120"/>
                <a:ext cx="16020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0" name=""/>
            <p:cNvSpPr/>
            <p:nvPr/>
          </p:nvSpPr>
          <p:spPr>
            <a:xfrm rot="9577800">
              <a:off x="1095840" y="4289400"/>
              <a:ext cx="16020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1" name=""/>
          <p:cNvGrpSpPr/>
          <p:nvPr/>
        </p:nvGrpSpPr>
        <p:grpSpPr>
          <a:xfrm>
            <a:off x="1053360" y="4030200"/>
            <a:ext cx="321840" cy="497160"/>
            <a:chOff x="1053360" y="4030200"/>
            <a:chExt cx="321840" cy="497160"/>
          </a:xfrm>
        </p:grpSpPr>
        <p:grpSp>
          <p:nvGrpSpPr>
            <p:cNvPr id="1702" name=""/>
            <p:cNvGrpSpPr/>
            <p:nvPr/>
          </p:nvGrpSpPr>
          <p:grpSpPr>
            <a:xfrm>
              <a:off x="1053360" y="4106520"/>
              <a:ext cx="321840" cy="420840"/>
              <a:chOff x="1053360" y="4106520"/>
              <a:chExt cx="321840" cy="420840"/>
            </a:xfrm>
          </p:grpSpPr>
          <p:sp>
            <p:nvSpPr>
              <p:cNvPr id="1703" name=""/>
              <p:cNvSpPr/>
              <p:nvPr/>
            </p:nvSpPr>
            <p:spPr>
              <a:xfrm rot="21025200">
                <a:off x="1083240" y="412560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rot="21025200">
                <a:off x="1206000" y="4280040"/>
                <a:ext cx="16056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5" name=""/>
            <p:cNvSpPr/>
            <p:nvPr/>
          </p:nvSpPr>
          <p:spPr>
            <a:xfrm rot="9577800">
              <a:off x="1129320" y="4053960"/>
              <a:ext cx="16056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527040" y="56160"/>
            <a:ext cx="1383480" cy="1261440"/>
            <a:chOff x="527040" y="56160"/>
            <a:chExt cx="1383480" cy="1261440"/>
          </a:xfrm>
        </p:grpSpPr>
        <p:grpSp>
          <p:nvGrpSpPr>
            <p:cNvPr id="1707" name=""/>
            <p:cNvGrpSpPr/>
            <p:nvPr/>
          </p:nvGrpSpPr>
          <p:grpSpPr>
            <a:xfrm>
              <a:off x="648360" y="56160"/>
              <a:ext cx="1262160" cy="1261440"/>
              <a:chOff x="648360" y="56160"/>
              <a:chExt cx="1262160" cy="1261440"/>
            </a:xfrm>
          </p:grpSpPr>
          <p:sp>
            <p:nvSpPr>
              <p:cNvPr id="1708" name=""/>
              <p:cNvSpPr/>
              <p:nvPr/>
            </p:nvSpPr>
            <p:spPr>
              <a:xfrm rot="122400">
                <a:off x="669600" y="77400"/>
                <a:ext cx="1219320" cy="121896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rot="122400">
                <a:off x="780840" y="183240"/>
                <a:ext cx="997560" cy="100692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0" name=""/>
            <p:cNvGrpSpPr/>
            <p:nvPr/>
          </p:nvGrpSpPr>
          <p:grpSpPr>
            <a:xfrm>
              <a:off x="527040" y="884160"/>
              <a:ext cx="382320" cy="424800"/>
              <a:chOff x="527040" y="884160"/>
              <a:chExt cx="382320" cy="424800"/>
            </a:xfrm>
          </p:grpSpPr>
          <p:sp>
            <p:nvSpPr>
              <p:cNvPr id="1711" name=""/>
              <p:cNvSpPr/>
              <p:nvPr/>
            </p:nvSpPr>
            <p:spPr>
              <a:xfrm rot="3328200">
                <a:off x="599040" y="896040"/>
                <a:ext cx="16776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rot="12667200">
                <a:off x="685080" y="102060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3" name=""/>
            <p:cNvSpPr/>
            <p:nvPr/>
          </p:nvSpPr>
          <p:spPr>
            <a:xfrm rot="122400">
              <a:off x="820800" y="51948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4" name=""/>
          <p:cNvGrpSpPr/>
          <p:nvPr/>
        </p:nvGrpSpPr>
        <p:grpSpPr>
          <a:xfrm>
            <a:off x="423000" y="274320"/>
            <a:ext cx="1701720" cy="1701720"/>
            <a:chOff x="423000" y="274320"/>
            <a:chExt cx="1701720" cy="1701720"/>
          </a:xfrm>
        </p:grpSpPr>
        <p:grpSp>
          <p:nvGrpSpPr>
            <p:cNvPr id="1715" name=""/>
            <p:cNvGrpSpPr/>
            <p:nvPr/>
          </p:nvGrpSpPr>
          <p:grpSpPr>
            <a:xfrm>
              <a:off x="423000" y="274320"/>
              <a:ext cx="1701720" cy="1701720"/>
              <a:chOff x="423000" y="274320"/>
              <a:chExt cx="1701720" cy="1701720"/>
            </a:xfrm>
          </p:grpSpPr>
          <p:sp>
            <p:nvSpPr>
              <p:cNvPr id="1716" name=""/>
              <p:cNvSpPr/>
              <p:nvPr/>
            </p:nvSpPr>
            <p:spPr>
              <a:xfrm rot="19454400">
                <a:off x="664200" y="515520"/>
                <a:ext cx="1219320" cy="121896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rot="19454400">
                <a:off x="775080" y="621360"/>
                <a:ext cx="997560" cy="100692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8" name=""/>
            <p:cNvGrpSpPr/>
            <p:nvPr/>
          </p:nvGrpSpPr>
          <p:grpSpPr>
            <a:xfrm>
              <a:off x="892080" y="1609200"/>
              <a:ext cx="362880" cy="337320"/>
              <a:chOff x="892080" y="1609200"/>
              <a:chExt cx="362880" cy="337320"/>
            </a:xfrm>
          </p:grpSpPr>
          <p:sp>
            <p:nvSpPr>
              <p:cNvPr id="1719" name=""/>
              <p:cNvSpPr/>
              <p:nvPr/>
            </p:nvSpPr>
            <p:spPr>
              <a:xfrm rot="1059600">
                <a:off x="927720" y="1628280"/>
                <a:ext cx="16776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rot="10399200">
                <a:off x="1072080" y="167400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1" name=""/>
            <p:cNvSpPr/>
            <p:nvPr/>
          </p:nvSpPr>
          <p:spPr>
            <a:xfrm rot="19454400">
              <a:off x="827280" y="92844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2" name=""/>
          <p:cNvGrpSpPr/>
          <p:nvPr/>
        </p:nvGrpSpPr>
        <p:grpSpPr>
          <a:xfrm>
            <a:off x="577080" y="864720"/>
            <a:ext cx="1351440" cy="1452960"/>
            <a:chOff x="577080" y="864720"/>
            <a:chExt cx="1351440" cy="1452960"/>
          </a:xfrm>
        </p:grpSpPr>
        <p:grpSp>
          <p:nvGrpSpPr>
            <p:cNvPr id="1723" name=""/>
            <p:cNvGrpSpPr/>
            <p:nvPr/>
          </p:nvGrpSpPr>
          <p:grpSpPr>
            <a:xfrm>
              <a:off x="577080" y="864720"/>
              <a:ext cx="1351440" cy="1351080"/>
              <a:chOff x="577080" y="864720"/>
              <a:chExt cx="1351440" cy="1351080"/>
            </a:xfrm>
          </p:grpSpPr>
          <p:sp>
            <p:nvSpPr>
              <p:cNvPr id="1724" name=""/>
              <p:cNvSpPr/>
              <p:nvPr/>
            </p:nvSpPr>
            <p:spPr>
              <a:xfrm rot="16596000">
                <a:off x="642960" y="93060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rot="16596000">
                <a:off x="753840" y="103644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6" name=""/>
            <p:cNvGrpSpPr/>
            <p:nvPr/>
          </p:nvGrpSpPr>
          <p:grpSpPr>
            <a:xfrm>
              <a:off x="1407240" y="1940040"/>
              <a:ext cx="426600" cy="377640"/>
              <a:chOff x="1407240" y="1940040"/>
              <a:chExt cx="426600" cy="377640"/>
            </a:xfrm>
          </p:grpSpPr>
          <p:sp>
            <p:nvSpPr>
              <p:cNvPr id="1727" name=""/>
              <p:cNvSpPr/>
              <p:nvPr/>
            </p:nvSpPr>
            <p:spPr>
              <a:xfrm rot="19801200">
                <a:off x="1461600" y="2030040"/>
                <a:ext cx="16812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rot="7540800">
                <a:off x="1593360" y="1953360"/>
                <a:ext cx="16848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9" name=""/>
            <p:cNvSpPr/>
            <p:nvPr/>
          </p:nvSpPr>
          <p:spPr>
            <a:xfrm rot="16596000">
              <a:off x="792720" y="130644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0" name=""/>
          <p:cNvGrpSpPr/>
          <p:nvPr/>
        </p:nvGrpSpPr>
        <p:grpSpPr>
          <a:xfrm>
            <a:off x="404280" y="1131120"/>
            <a:ext cx="1668960" cy="1668960"/>
            <a:chOff x="404280" y="1131120"/>
            <a:chExt cx="1668960" cy="1668960"/>
          </a:xfrm>
        </p:grpSpPr>
        <p:grpSp>
          <p:nvGrpSpPr>
            <p:cNvPr id="1731" name=""/>
            <p:cNvGrpSpPr/>
            <p:nvPr/>
          </p:nvGrpSpPr>
          <p:grpSpPr>
            <a:xfrm>
              <a:off x="404280" y="1131120"/>
              <a:ext cx="1668960" cy="1668960"/>
              <a:chOff x="404280" y="1131120"/>
              <a:chExt cx="1668960" cy="1668960"/>
            </a:xfrm>
          </p:grpSpPr>
          <p:sp>
            <p:nvSpPr>
              <p:cNvPr id="1732" name=""/>
              <p:cNvSpPr/>
              <p:nvPr/>
            </p:nvSpPr>
            <p:spPr>
              <a:xfrm rot="12627000">
                <a:off x="628920" y="1355760"/>
                <a:ext cx="121932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rot="12627000">
                <a:off x="740160" y="1461600"/>
                <a:ext cx="99756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4" name=""/>
            <p:cNvGrpSpPr/>
            <p:nvPr/>
          </p:nvGrpSpPr>
          <p:grpSpPr>
            <a:xfrm>
              <a:off x="1753200" y="1657800"/>
              <a:ext cx="312480" cy="388440"/>
              <a:chOff x="1753200" y="1657800"/>
              <a:chExt cx="312480" cy="388440"/>
            </a:xfrm>
          </p:grpSpPr>
          <p:sp>
            <p:nvSpPr>
              <p:cNvPr id="1735" name=""/>
              <p:cNvSpPr/>
              <p:nvPr/>
            </p:nvSpPr>
            <p:spPr>
              <a:xfrm rot="15832200">
                <a:off x="1841400" y="181656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rot="3571800">
                <a:off x="1825200" y="166536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7" name=""/>
            <p:cNvSpPr/>
            <p:nvPr/>
          </p:nvSpPr>
          <p:spPr>
            <a:xfrm rot="12627000">
              <a:off x="726480" y="172008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447120" y="1611360"/>
            <a:ext cx="1581480" cy="1615680"/>
            <a:chOff x="447120" y="1611360"/>
            <a:chExt cx="1581480" cy="1615680"/>
          </a:xfrm>
        </p:grpSpPr>
        <p:grpSp>
          <p:nvGrpSpPr>
            <p:cNvPr id="1739" name=""/>
            <p:cNvGrpSpPr/>
            <p:nvPr/>
          </p:nvGrpSpPr>
          <p:grpSpPr>
            <a:xfrm>
              <a:off x="447120" y="1645560"/>
              <a:ext cx="1581480" cy="1581480"/>
              <a:chOff x="447120" y="1645560"/>
              <a:chExt cx="1581480" cy="1581480"/>
            </a:xfrm>
          </p:grpSpPr>
          <p:sp>
            <p:nvSpPr>
              <p:cNvPr id="1740" name=""/>
              <p:cNvSpPr/>
              <p:nvPr/>
            </p:nvSpPr>
            <p:spPr>
              <a:xfrm rot="6691200">
                <a:off x="627840" y="1826280"/>
                <a:ext cx="121932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rot="6691200">
                <a:off x="739080" y="1932480"/>
                <a:ext cx="99756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2" name=""/>
            <p:cNvGrpSpPr/>
            <p:nvPr/>
          </p:nvGrpSpPr>
          <p:grpSpPr>
            <a:xfrm>
              <a:off x="819000" y="1611360"/>
              <a:ext cx="411120" cy="343800"/>
              <a:chOff x="819000" y="1611360"/>
              <a:chExt cx="411120" cy="343800"/>
            </a:xfrm>
          </p:grpSpPr>
          <p:sp>
            <p:nvSpPr>
              <p:cNvPr id="1743" name=""/>
              <p:cNvSpPr/>
              <p:nvPr/>
            </p:nvSpPr>
            <p:spPr>
              <a:xfrm rot="9897000">
                <a:off x="1030320" y="162864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 rot="19236000">
                <a:off x="883440" y="166788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5" name=""/>
            <p:cNvSpPr/>
            <p:nvPr/>
          </p:nvSpPr>
          <p:spPr>
            <a:xfrm rot="6691200">
              <a:off x="699480" y="226044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6" name=""/>
          <p:cNvGrpSpPr/>
          <p:nvPr/>
        </p:nvGrpSpPr>
        <p:grpSpPr>
          <a:xfrm>
            <a:off x="405720" y="2072520"/>
            <a:ext cx="1677600" cy="1677600"/>
            <a:chOff x="405720" y="2072520"/>
            <a:chExt cx="1677600" cy="1677600"/>
          </a:xfrm>
        </p:grpSpPr>
        <p:grpSp>
          <p:nvGrpSpPr>
            <p:cNvPr id="1747" name=""/>
            <p:cNvGrpSpPr/>
            <p:nvPr/>
          </p:nvGrpSpPr>
          <p:grpSpPr>
            <a:xfrm>
              <a:off x="405720" y="2072520"/>
              <a:ext cx="1677600" cy="1677600"/>
              <a:chOff x="405720" y="2072520"/>
              <a:chExt cx="1677600" cy="1677600"/>
            </a:xfrm>
          </p:grpSpPr>
          <p:sp>
            <p:nvSpPr>
              <p:cNvPr id="1748" name=""/>
              <p:cNvSpPr/>
              <p:nvPr/>
            </p:nvSpPr>
            <p:spPr>
              <a:xfrm rot="1898400">
                <a:off x="634680" y="230148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rot="1898400">
                <a:off x="745920" y="240732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0" name=""/>
            <p:cNvGrpSpPr/>
            <p:nvPr/>
          </p:nvGrpSpPr>
          <p:grpSpPr>
            <a:xfrm>
              <a:off x="415080" y="2818800"/>
              <a:ext cx="312120" cy="384840"/>
              <a:chOff x="415080" y="2818800"/>
              <a:chExt cx="312120" cy="384840"/>
            </a:xfrm>
          </p:grpSpPr>
          <p:sp>
            <p:nvSpPr>
              <p:cNvPr id="1751" name=""/>
              <p:cNvSpPr/>
              <p:nvPr/>
            </p:nvSpPr>
            <p:spPr>
              <a:xfrm rot="5103600">
                <a:off x="473400" y="2782080"/>
                <a:ext cx="16812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rot="14443200">
                <a:off x="486720" y="2934000"/>
                <a:ext cx="16848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3" name=""/>
            <p:cNvSpPr/>
            <p:nvPr/>
          </p:nvSpPr>
          <p:spPr>
            <a:xfrm rot="1898400">
              <a:off x="765000" y="275832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4" name=""/>
          <p:cNvGrpSpPr/>
          <p:nvPr/>
        </p:nvGrpSpPr>
        <p:grpSpPr>
          <a:xfrm>
            <a:off x="1014840" y="3727440"/>
            <a:ext cx="383040" cy="88200"/>
            <a:chOff x="1014840" y="3727440"/>
            <a:chExt cx="383040" cy="88200"/>
          </a:xfrm>
        </p:grpSpPr>
        <p:sp>
          <p:nvSpPr>
            <p:cNvPr id="1755" name=""/>
            <p:cNvSpPr/>
            <p:nvPr/>
          </p:nvSpPr>
          <p:spPr>
            <a:xfrm rot="16310400">
              <a:off x="1015920" y="3728160"/>
              <a:ext cx="7596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rot="16310400">
              <a:off x="1168200" y="3733200"/>
              <a:ext cx="7596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rot="16310400">
              <a:off x="1320480" y="3738240"/>
              <a:ext cx="7596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8" name=""/>
          <p:cNvGrpSpPr/>
          <p:nvPr/>
        </p:nvGrpSpPr>
        <p:grpSpPr>
          <a:xfrm>
            <a:off x="1014840" y="3880080"/>
            <a:ext cx="383040" cy="88560"/>
            <a:chOff x="1014840" y="3880080"/>
            <a:chExt cx="383040" cy="88560"/>
          </a:xfrm>
        </p:grpSpPr>
        <p:sp>
          <p:nvSpPr>
            <p:cNvPr id="1759" name=""/>
            <p:cNvSpPr/>
            <p:nvPr/>
          </p:nvSpPr>
          <p:spPr>
            <a:xfrm rot="16310400">
              <a:off x="1015920" y="388116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rot="16310400">
              <a:off x="1168200" y="388620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rot="16310400">
              <a:off x="1320120" y="3890880"/>
              <a:ext cx="7632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2" name=""/>
          <p:cNvGrpSpPr/>
          <p:nvPr/>
        </p:nvGrpSpPr>
        <p:grpSpPr>
          <a:xfrm>
            <a:off x="1014840" y="4032360"/>
            <a:ext cx="383040" cy="88560"/>
            <a:chOff x="1014840" y="4032360"/>
            <a:chExt cx="383040" cy="88560"/>
          </a:xfrm>
        </p:grpSpPr>
        <p:sp>
          <p:nvSpPr>
            <p:cNvPr id="1763" name=""/>
            <p:cNvSpPr/>
            <p:nvPr/>
          </p:nvSpPr>
          <p:spPr>
            <a:xfrm rot="16310400">
              <a:off x="1015920" y="403344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rot="16310400">
              <a:off x="1168200" y="403848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rot="16310400">
              <a:off x="1320120" y="4043160"/>
              <a:ext cx="7632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6" name=""/>
          <p:cNvGrpSpPr/>
          <p:nvPr/>
        </p:nvGrpSpPr>
        <p:grpSpPr>
          <a:xfrm>
            <a:off x="1014840" y="4184640"/>
            <a:ext cx="383040" cy="88200"/>
            <a:chOff x="1014840" y="4184640"/>
            <a:chExt cx="383040" cy="88200"/>
          </a:xfrm>
        </p:grpSpPr>
        <p:sp>
          <p:nvSpPr>
            <p:cNvPr id="1767" name=""/>
            <p:cNvSpPr/>
            <p:nvPr/>
          </p:nvSpPr>
          <p:spPr>
            <a:xfrm rot="16310400">
              <a:off x="1015920" y="4185360"/>
              <a:ext cx="7596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rot="16310400">
              <a:off x="1168200" y="4190400"/>
              <a:ext cx="7596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rot="16310400">
              <a:off x="1320480" y="4195440"/>
              <a:ext cx="7596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0" name=""/>
          <p:cNvGrpSpPr/>
          <p:nvPr/>
        </p:nvGrpSpPr>
        <p:grpSpPr>
          <a:xfrm>
            <a:off x="1014840" y="4337280"/>
            <a:ext cx="383040" cy="88560"/>
            <a:chOff x="1014840" y="4337280"/>
            <a:chExt cx="383040" cy="88560"/>
          </a:xfrm>
        </p:grpSpPr>
        <p:sp>
          <p:nvSpPr>
            <p:cNvPr id="1771" name=""/>
            <p:cNvSpPr/>
            <p:nvPr/>
          </p:nvSpPr>
          <p:spPr>
            <a:xfrm rot="16310400">
              <a:off x="1015920" y="433836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rot="16310400">
              <a:off x="1168200" y="434340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rot="16310400">
              <a:off x="1320120" y="4348080"/>
              <a:ext cx="7632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4" name=""/>
          <p:cNvGrpSpPr/>
          <p:nvPr/>
        </p:nvGrpSpPr>
        <p:grpSpPr>
          <a:xfrm>
            <a:off x="1014840" y="4489560"/>
            <a:ext cx="383040" cy="88560"/>
            <a:chOff x="1014840" y="4489560"/>
            <a:chExt cx="383040" cy="88560"/>
          </a:xfrm>
        </p:grpSpPr>
        <p:sp>
          <p:nvSpPr>
            <p:cNvPr id="1775" name=""/>
            <p:cNvSpPr/>
            <p:nvPr/>
          </p:nvSpPr>
          <p:spPr>
            <a:xfrm rot="16310400">
              <a:off x="1015920" y="449064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rot="16310400">
              <a:off x="1168200" y="449568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rot="16310400">
              <a:off x="1320120" y="4500360"/>
              <a:ext cx="7632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8" name=""/>
          <p:cNvGrpSpPr/>
          <p:nvPr/>
        </p:nvGrpSpPr>
        <p:grpSpPr>
          <a:xfrm>
            <a:off x="1002240" y="4641840"/>
            <a:ext cx="383040" cy="88200"/>
            <a:chOff x="1002240" y="4641840"/>
            <a:chExt cx="383040" cy="88200"/>
          </a:xfrm>
        </p:grpSpPr>
        <p:sp>
          <p:nvSpPr>
            <p:cNvPr id="1779" name=""/>
            <p:cNvSpPr/>
            <p:nvPr/>
          </p:nvSpPr>
          <p:spPr>
            <a:xfrm rot="16310400">
              <a:off x="1003320" y="4642560"/>
              <a:ext cx="7596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rot="16310400">
              <a:off x="1155600" y="4647600"/>
              <a:ext cx="7596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rot="16310400">
              <a:off x="1307880" y="4652640"/>
              <a:ext cx="7596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2" name=""/>
          <p:cNvGrpSpPr/>
          <p:nvPr/>
        </p:nvGrpSpPr>
        <p:grpSpPr>
          <a:xfrm>
            <a:off x="228600" y="4343400"/>
            <a:ext cx="1905120" cy="1371600"/>
            <a:chOff x="228600" y="4343400"/>
            <a:chExt cx="1905120" cy="1371600"/>
          </a:xfrm>
        </p:grpSpPr>
        <p:sp>
          <p:nvSpPr>
            <p:cNvPr id="1783" name=""/>
            <p:cNvSpPr/>
            <p:nvPr/>
          </p:nvSpPr>
          <p:spPr>
            <a:xfrm>
              <a:off x="228600" y="4343400"/>
              <a:ext cx="1905120" cy="137160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feeafe"/>
            </a:solidFill>
            <a:ln w="9360">
              <a:solidFill>
                <a:srgbClr val="feeaf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rot="16375800">
              <a:off x="1310400" y="4748760"/>
              <a:ext cx="619200" cy="417240"/>
            </a:xfrm>
            <a:prstGeom prst="ellipse">
              <a:avLst/>
            </a:prstGeom>
            <a:solidFill>
              <a:srgbClr val="feeafe"/>
            </a:solidFill>
            <a:ln w="9360">
              <a:solidFill>
                <a:srgbClr val="feea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5" name=""/>
          <p:cNvGrpSpPr/>
          <p:nvPr/>
        </p:nvGrpSpPr>
        <p:grpSpPr>
          <a:xfrm>
            <a:off x="1053360" y="4030200"/>
            <a:ext cx="321840" cy="497160"/>
            <a:chOff x="1053360" y="4030200"/>
            <a:chExt cx="321840" cy="497160"/>
          </a:xfrm>
        </p:grpSpPr>
        <p:grpSp>
          <p:nvGrpSpPr>
            <p:cNvPr id="1786" name=""/>
            <p:cNvGrpSpPr/>
            <p:nvPr/>
          </p:nvGrpSpPr>
          <p:grpSpPr>
            <a:xfrm>
              <a:off x="1053360" y="4106520"/>
              <a:ext cx="321840" cy="420840"/>
              <a:chOff x="1053360" y="4106520"/>
              <a:chExt cx="321840" cy="420840"/>
            </a:xfrm>
          </p:grpSpPr>
          <p:sp>
            <p:nvSpPr>
              <p:cNvPr id="1787" name=""/>
              <p:cNvSpPr/>
              <p:nvPr/>
            </p:nvSpPr>
            <p:spPr>
              <a:xfrm rot="21025200">
                <a:off x="1083240" y="412560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eeafe"/>
              </a:solidFill>
              <a:ln w="9360">
                <a:solidFill>
                  <a:srgbClr val="feea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rot="21025200">
                <a:off x="1206000" y="4280040"/>
                <a:ext cx="16056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eeafe"/>
              </a:solidFill>
              <a:ln w="9360">
                <a:solidFill>
                  <a:srgbClr val="feea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9" name=""/>
            <p:cNvSpPr/>
            <p:nvPr/>
          </p:nvSpPr>
          <p:spPr>
            <a:xfrm rot="9577800">
              <a:off x="1129320" y="4053960"/>
              <a:ext cx="16056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feeafe"/>
            </a:solidFill>
            <a:ln w="9360">
              <a:solidFill>
                <a:srgbClr val="feeaf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0" name=""/>
          <p:cNvGrpSpPr/>
          <p:nvPr/>
        </p:nvGrpSpPr>
        <p:grpSpPr>
          <a:xfrm>
            <a:off x="457200" y="4322880"/>
            <a:ext cx="1523880" cy="1620720"/>
            <a:chOff x="457200" y="4322880"/>
            <a:chExt cx="1523880" cy="1620720"/>
          </a:xfrm>
        </p:grpSpPr>
        <p:sp>
          <p:nvSpPr>
            <p:cNvPr id="1791" name=""/>
            <p:cNvSpPr/>
            <p:nvPr/>
          </p:nvSpPr>
          <p:spPr>
            <a:xfrm>
              <a:off x="457200" y="4322880"/>
              <a:ext cx="1523880" cy="1620720"/>
            </a:xfrm>
            <a:custGeom>
              <a:avLst/>
              <a:gdLst/>
              <a:ahLst/>
              <a:rect l="l" t="t" r="r" b="b"/>
              <a:pathLst>
                <a:path w="1184" h="1324">
                  <a:moveTo>
                    <a:pt x="379" y="182"/>
                  </a:moveTo>
                  <a:cubicBezTo>
                    <a:pt x="372" y="203"/>
                    <a:pt x="360" y="237"/>
                    <a:pt x="338" y="248"/>
                  </a:cubicBezTo>
                  <a:cubicBezTo>
                    <a:pt x="323" y="256"/>
                    <a:pt x="289" y="264"/>
                    <a:pt x="289" y="264"/>
                  </a:cubicBezTo>
                  <a:cubicBezTo>
                    <a:pt x="231" y="245"/>
                    <a:pt x="227" y="205"/>
                    <a:pt x="182" y="190"/>
                  </a:cubicBezTo>
                  <a:cubicBezTo>
                    <a:pt x="137" y="196"/>
                    <a:pt x="101" y="201"/>
                    <a:pt x="59" y="215"/>
                  </a:cubicBezTo>
                  <a:cubicBezTo>
                    <a:pt x="11" y="261"/>
                    <a:pt x="0" y="370"/>
                    <a:pt x="67" y="404"/>
                  </a:cubicBezTo>
                  <a:cubicBezTo>
                    <a:pt x="143" y="442"/>
                    <a:pt x="213" y="434"/>
                    <a:pt x="248" y="527"/>
                  </a:cubicBezTo>
                  <a:cubicBezTo>
                    <a:pt x="243" y="549"/>
                    <a:pt x="247" y="577"/>
                    <a:pt x="231" y="593"/>
                  </a:cubicBezTo>
                  <a:cubicBezTo>
                    <a:pt x="187" y="637"/>
                    <a:pt x="125" y="662"/>
                    <a:pt x="75" y="700"/>
                  </a:cubicBezTo>
                  <a:cubicBezTo>
                    <a:pt x="51" y="750"/>
                    <a:pt x="29" y="858"/>
                    <a:pt x="91" y="889"/>
                  </a:cubicBezTo>
                  <a:cubicBezTo>
                    <a:pt x="114" y="901"/>
                    <a:pt x="139" y="910"/>
                    <a:pt x="165" y="913"/>
                  </a:cubicBezTo>
                  <a:cubicBezTo>
                    <a:pt x="223" y="919"/>
                    <a:pt x="338" y="930"/>
                    <a:pt x="338" y="930"/>
                  </a:cubicBezTo>
                  <a:cubicBezTo>
                    <a:pt x="377" y="955"/>
                    <a:pt x="372" y="943"/>
                    <a:pt x="379" y="1012"/>
                  </a:cubicBezTo>
                  <a:cubicBezTo>
                    <a:pt x="384" y="1059"/>
                    <a:pt x="367" y="1257"/>
                    <a:pt x="437" y="1300"/>
                  </a:cubicBezTo>
                  <a:cubicBezTo>
                    <a:pt x="446" y="1305"/>
                    <a:pt x="488" y="1315"/>
                    <a:pt x="494" y="1316"/>
                  </a:cubicBezTo>
                  <a:cubicBezTo>
                    <a:pt x="536" y="1313"/>
                    <a:pt x="686" y="1324"/>
                    <a:pt x="724" y="1283"/>
                  </a:cubicBezTo>
                  <a:cubicBezTo>
                    <a:pt x="730" y="1267"/>
                    <a:pt x="733" y="1249"/>
                    <a:pt x="741" y="1234"/>
                  </a:cubicBezTo>
                  <a:cubicBezTo>
                    <a:pt x="797" y="1132"/>
                    <a:pt x="741" y="1272"/>
                    <a:pt x="774" y="1185"/>
                  </a:cubicBezTo>
                  <a:cubicBezTo>
                    <a:pt x="737" y="1112"/>
                    <a:pt x="758" y="1136"/>
                    <a:pt x="724" y="1102"/>
                  </a:cubicBezTo>
                  <a:cubicBezTo>
                    <a:pt x="714" y="1072"/>
                    <a:pt x="699" y="1051"/>
                    <a:pt x="691" y="1020"/>
                  </a:cubicBezTo>
                  <a:cubicBezTo>
                    <a:pt x="704" y="940"/>
                    <a:pt x="702" y="948"/>
                    <a:pt x="774" y="930"/>
                  </a:cubicBezTo>
                  <a:cubicBezTo>
                    <a:pt x="785" y="924"/>
                    <a:pt x="794" y="917"/>
                    <a:pt x="806" y="913"/>
                  </a:cubicBezTo>
                  <a:cubicBezTo>
                    <a:pt x="822" y="908"/>
                    <a:pt x="840" y="911"/>
                    <a:pt x="856" y="905"/>
                  </a:cubicBezTo>
                  <a:cubicBezTo>
                    <a:pt x="869" y="900"/>
                    <a:pt x="877" y="887"/>
                    <a:pt x="889" y="881"/>
                  </a:cubicBezTo>
                  <a:cubicBezTo>
                    <a:pt x="899" y="876"/>
                    <a:pt x="910" y="875"/>
                    <a:pt x="921" y="872"/>
                  </a:cubicBezTo>
                  <a:cubicBezTo>
                    <a:pt x="938" y="856"/>
                    <a:pt x="954" y="839"/>
                    <a:pt x="971" y="823"/>
                  </a:cubicBezTo>
                  <a:cubicBezTo>
                    <a:pt x="974" y="815"/>
                    <a:pt x="979" y="807"/>
                    <a:pt x="979" y="798"/>
                  </a:cubicBezTo>
                  <a:cubicBezTo>
                    <a:pt x="979" y="663"/>
                    <a:pt x="977" y="673"/>
                    <a:pt x="864" y="659"/>
                  </a:cubicBezTo>
                  <a:cubicBezTo>
                    <a:pt x="819" y="647"/>
                    <a:pt x="802" y="635"/>
                    <a:pt x="782" y="593"/>
                  </a:cubicBezTo>
                  <a:cubicBezTo>
                    <a:pt x="761" y="439"/>
                    <a:pt x="831" y="493"/>
                    <a:pt x="1004" y="486"/>
                  </a:cubicBezTo>
                  <a:cubicBezTo>
                    <a:pt x="1017" y="485"/>
                    <a:pt x="1114" y="482"/>
                    <a:pt x="1135" y="461"/>
                  </a:cubicBezTo>
                  <a:cubicBezTo>
                    <a:pt x="1147" y="449"/>
                    <a:pt x="1146" y="428"/>
                    <a:pt x="1152" y="412"/>
                  </a:cubicBezTo>
                  <a:cubicBezTo>
                    <a:pt x="1171" y="364"/>
                    <a:pt x="1177" y="336"/>
                    <a:pt x="1184" y="281"/>
                  </a:cubicBezTo>
                  <a:cubicBezTo>
                    <a:pt x="1179" y="214"/>
                    <a:pt x="1183" y="148"/>
                    <a:pt x="1143" y="92"/>
                  </a:cubicBezTo>
                  <a:cubicBezTo>
                    <a:pt x="1126" y="39"/>
                    <a:pt x="1079" y="13"/>
                    <a:pt x="1028" y="1"/>
                  </a:cubicBezTo>
                  <a:cubicBezTo>
                    <a:pt x="998" y="4"/>
                    <a:pt x="967" y="0"/>
                    <a:pt x="938" y="9"/>
                  </a:cubicBezTo>
                  <a:cubicBezTo>
                    <a:pt x="921" y="14"/>
                    <a:pt x="911" y="57"/>
                    <a:pt x="872" y="67"/>
                  </a:cubicBezTo>
                  <a:cubicBezTo>
                    <a:pt x="829" y="78"/>
                    <a:pt x="783" y="78"/>
                    <a:pt x="741" y="92"/>
                  </a:cubicBezTo>
                  <a:cubicBezTo>
                    <a:pt x="733" y="95"/>
                    <a:pt x="724" y="97"/>
                    <a:pt x="716" y="100"/>
                  </a:cubicBezTo>
                  <a:cubicBezTo>
                    <a:pt x="631" y="88"/>
                    <a:pt x="565" y="85"/>
                    <a:pt x="478" y="92"/>
                  </a:cubicBezTo>
                  <a:cubicBezTo>
                    <a:pt x="451" y="109"/>
                    <a:pt x="452" y="104"/>
                    <a:pt x="437" y="133"/>
                  </a:cubicBezTo>
                  <a:cubicBezTo>
                    <a:pt x="433" y="141"/>
                    <a:pt x="433" y="150"/>
                    <a:pt x="428" y="157"/>
                  </a:cubicBezTo>
                  <a:cubicBezTo>
                    <a:pt x="422" y="165"/>
                    <a:pt x="413" y="170"/>
                    <a:pt x="404" y="174"/>
                  </a:cubicBezTo>
                  <a:cubicBezTo>
                    <a:pt x="396" y="178"/>
                    <a:pt x="379" y="182"/>
                    <a:pt x="379" y="182"/>
                  </a:cubicBezTo>
                  <a:close/>
                </a:path>
              </a:pathLst>
            </a:custGeom>
            <a:solidFill>
              <a:srgbClr val="d3ce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295280" y="4572000"/>
              <a:ext cx="314280" cy="235080"/>
            </a:xfrm>
            <a:custGeom>
              <a:avLst/>
              <a:gdLst/>
              <a:ahLst/>
              <a:rect l="l" t="t" r="r" b="b"/>
              <a:pathLst>
                <a:path w="198" h="175">
                  <a:moveTo>
                    <a:pt x="99" y="11"/>
                  </a:moveTo>
                  <a:cubicBezTo>
                    <a:pt x="53" y="26"/>
                    <a:pt x="19" y="0"/>
                    <a:pt x="0" y="52"/>
                  </a:cubicBezTo>
                  <a:cubicBezTo>
                    <a:pt x="4" y="79"/>
                    <a:pt x="6" y="138"/>
                    <a:pt x="33" y="159"/>
                  </a:cubicBezTo>
                  <a:cubicBezTo>
                    <a:pt x="38" y="163"/>
                    <a:pt x="89" y="175"/>
                    <a:pt x="91" y="175"/>
                  </a:cubicBezTo>
                  <a:cubicBezTo>
                    <a:pt x="154" y="166"/>
                    <a:pt x="176" y="169"/>
                    <a:pt x="198" y="109"/>
                  </a:cubicBezTo>
                  <a:cubicBezTo>
                    <a:pt x="189" y="62"/>
                    <a:pt x="190" y="19"/>
                    <a:pt x="140" y="3"/>
                  </a:cubicBezTo>
                  <a:cubicBezTo>
                    <a:pt x="60" y="12"/>
                    <a:pt x="88" y="0"/>
                    <a:pt x="50" y="19"/>
                  </a:cubicBezTo>
                </a:path>
              </a:pathLst>
            </a:custGeom>
            <a:solidFill>
              <a:srgbClr val="585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838080" y="5092560"/>
              <a:ext cx="171720" cy="173160"/>
            </a:xfrm>
            <a:custGeom>
              <a:avLst/>
              <a:gdLst/>
              <a:ahLst/>
              <a:rect l="l" t="t" r="r" b="b"/>
              <a:pathLst>
                <a:path w="108" h="130">
                  <a:moveTo>
                    <a:pt x="42" y="32"/>
                  </a:moveTo>
                  <a:cubicBezTo>
                    <a:pt x="0" y="74"/>
                    <a:pt x="12" y="92"/>
                    <a:pt x="51" y="130"/>
                  </a:cubicBezTo>
                  <a:cubicBezTo>
                    <a:pt x="66" y="125"/>
                    <a:pt x="84" y="123"/>
                    <a:pt x="92" y="106"/>
                  </a:cubicBezTo>
                  <a:cubicBezTo>
                    <a:pt x="100" y="90"/>
                    <a:pt x="108" y="56"/>
                    <a:pt x="108" y="56"/>
                  </a:cubicBezTo>
                  <a:cubicBezTo>
                    <a:pt x="105" y="48"/>
                    <a:pt x="106" y="38"/>
                    <a:pt x="100" y="32"/>
                  </a:cubicBezTo>
                  <a:cubicBezTo>
                    <a:pt x="68" y="0"/>
                    <a:pt x="80" y="34"/>
                    <a:pt x="59" y="40"/>
                  </a:cubicBezTo>
                  <a:cubicBezTo>
                    <a:pt x="53" y="42"/>
                    <a:pt x="48" y="35"/>
                    <a:pt x="42" y="32"/>
                  </a:cubicBezTo>
                  <a:close/>
                </a:path>
              </a:pathLst>
            </a:custGeom>
            <a:solidFill>
              <a:srgbClr val="585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838080" y="4707000"/>
              <a:ext cx="360360" cy="244440"/>
            </a:xfrm>
            <a:custGeom>
              <a:avLst/>
              <a:gdLst/>
              <a:ahLst/>
              <a:rect l="l" t="t" r="r" b="b"/>
              <a:pathLst>
                <a:path w="227" h="182">
                  <a:moveTo>
                    <a:pt x="58" y="0"/>
                  </a:moveTo>
                  <a:cubicBezTo>
                    <a:pt x="28" y="11"/>
                    <a:pt x="22" y="28"/>
                    <a:pt x="0" y="50"/>
                  </a:cubicBezTo>
                  <a:cubicBezTo>
                    <a:pt x="6" y="101"/>
                    <a:pt x="3" y="155"/>
                    <a:pt x="58" y="173"/>
                  </a:cubicBezTo>
                  <a:cubicBezTo>
                    <a:pt x="126" y="168"/>
                    <a:pt x="169" y="182"/>
                    <a:pt x="214" y="140"/>
                  </a:cubicBezTo>
                  <a:cubicBezTo>
                    <a:pt x="227" y="98"/>
                    <a:pt x="216" y="61"/>
                    <a:pt x="181" y="33"/>
                  </a:cubicBezTo>
                  <a:cubicBezTo>
                    <a:pt x="160" y="16"/>
                    <a:pt x="107" y="0"/>
                    <a:pt x="107" y="0"/>
                  </a:cubicBezTo>
                  <a:cubicBezTo>
                    <a:pt x="55" y="10"/>
                    <a:pt x="58" y="26"/>
                    <a:pt x="58" y="0"/>
                  </a:cubicBezTo>
                  <a:close/>
                </a:path>
              </a:pathLst>
            </a:custGeom>
            <a:solidFill>
              <a:srgbClr val="585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143000" y="5156280"/>
              <a:ext cx="334800" cy="263520"/>
            </a:xfrm>
            <a:custGeom>
              <a:avLst/>
              <a:gdLst/>
              <a:ahLst/>
              <a:rect l="l" t="t" r="r" b="b"/>
              <a:pathLst>
                <a:path w="211" h="197">
                  <a:moveTo>
                    <a:pt x="90" y="8"/>
                  </a:moveTo>
                  <a:cubicBezTo>
                    <a:pt x="50" y="21"/>
                    <a:pt x="23" y="56"/>
                    <a:pt x="0" y="90"/>
                  </a:cubicBezTo>
                  <a:cubicBezTo>
                    <a:pt x="9" y="146"/>
                    <a:pt x="10" y="167"/>
                    <a:pt x="57" y="197"/>
                  </a:cubicBezTo>
                  <a:cubicBezTo>
                    <a:pt x="119" y="188"/>
                    <a:pt x="144" y="183"/>
                    <a:pt x="189" y="140"/>
                  </a:cubicBezTo>
                  <a:cubicBezTo>
                    <a:pt x="194" y="129"/>
                    <a:pt x="204" y="119"/>
                    <a:pt x="205" y="107"/>
                  </a:cubicBezTo>
                  <a:cubicBezTo>
                    <a:pt x="211" y="34"/>
                    <a:pt x="178" y="30"/>
                    <a:pt x="131" y="0"/>
                  </a:cubicBezTo>
                  <a:cubicBezTo>
                    <a:pt x="79" y="8"/>
                    <a:pt x="65" y="8"/>
                    <a:pt x="90" y="8"/>
                  </a:cubicBezTo>
                  <a:close/>
                </a:path>
              </a:pathLst>
            </a:custGeom>
            <a:solidFill>
              <a:srgbClr val="585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6" name=""/>
          <p:cNvGrpSpPr/>
          <p:nvPr/>
        </p:nvGrpSpPr>
        <p:grpSpPr>
          <a:xfrm>
            <a:off x="333000" y="2487600"/>
            <a:ext cx="1696320" cy="1696320"/>
            <a:chOff x="333000" y="2487600"/>
            <a:chExt cx="1696320" cy="1696320"/>
          </a:xfrm>
        </p:grpSpPr>
        <p:grpSp>
          <p:nvGrpSpPr>
            <p:cNvPr id="1797" name=""/>
            <p:cNvGrpSpPr/>
            <p:nvPr/>
          </p:nvGrpSpPr>
          <p:grpSpPr>
            <a:xfrm>
              <a:off x="333000" y="2487600"/>
              <a:ext cx="1696320" cy="1696320"/>
              <a:chOff x="333000" y="2487600"/>
              <a:chExt cx="1696320" cy="1696320"/>
            </a:xfrm>
          </p:grpSpPr>
          <p:sp>
            <p:nvSpPr>
              <p:cNvPr id="1798" name=""/>
              <p:cNvSpPr/>
              <p:nvPr/>
            </p:nvSpPr>
            <p:spPr>
              <a:xfrm rot="18277800">
                <a:off x="571320" y="2725920"/>
                <a:ext cx="121932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rot="18277800">
                <a:off x="681840" y="2831400"/>
                <a:ext cx="99756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0" name=""/>
            <p:cNvGrpSpPr/>
            <p:nvPr/>
          </p:nvGrpSpPr>
          <p:grpSpPr>
            <a:xfrm>
              <a:off x="1059120" y="3861360"/>
              <a:ext cx="374760" cy="310680"/>
              <a:chOff x="1059120" y="3861360"/>
              <a:chExt cx="374760" cy="310680"/>
            </a:xfrm>
          </p:grpSpPr>
          <p:sp>
            <p:nvSpPr>
              <p:cNvPr id="1801" name=""/>
              <p:cNvSpPr/>
              <p:nvPr/>
            </p:nvSpPr>
            <p:spPr>
              <a:xfrm rot="21483600">
                <a:off x="1063440" y="388980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rot="9222600">
                <a:off x="1215720" y="388476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3" name=""/>
            <p:cNvSpPr/>
            <p:nvPr/>
          </p:nvSpPr>
          <p:spPr>
            <a:xfrm rot="18277800">
              <a:off x="732600" y="312264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4" name=""/>
          <p:cNvGrpSpPr/>
          <p:nvPr/>
        </p:nvGrpSpPr>
        <p:grpSpPr>
          <a:xfrm>
            <a:off x="4800600" y="4191120"/>
            <a:ext cx="1905120" cy="1447560"/>
            <a:chOff x="4800600" y="4191120"/>
            <a:chExt cx="1905120" cy="1447560"/>
          </a:xfrm>
        </p:grpSpPr>
        <p:sp>
          <p:nvSpPr>
            <p:cNvPr id="1805" name=""/>
            <p:cNvSpPr/>
            <p:nvPr/>
          </p:nvSpPr>
          <p:spPr>
            <a:xfrm>
              <a:off x="4800600" y="4191120"/>
              <a:ext cx="1905120" cy="144756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 rot="15561000">
              <a:off x="5973840" y="4638600"/>
              <a:ext cx="575280" cy="40392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7" name=""/>
          <p:cNvSpPr/>
          <p:nvPr/>
        </p:nvSpPr>
        <p:spPr>
          <a:xfrm>
            <a:off x="5003640" y="4406760"/>
            <a:ext cx="685800" cy="660600"/>
          </a:xfrm>
          <a:prstGeom prst="ellipse">
            <a:avLst/>
          </a:prstGeom>
          <a:solidFill>
            <a:srgbClr val="d5fb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8" name=""/>
          <p:cNvGrpSpPr/>
          <p:nvPr/>
        </p:nvGrpSpPr>
        <p:grpSpPr>
          <a:xfrm>
            <a:off x="5265000" y="4419360"/>
            <a:ext cx="159120" cy="598320"/>
            <a:chOff x="5265000" y="4419360"/>
            <a:chExt cx="159120" cy="598320"/>
          </a:xfrm>
        </p:grpSpPr>
        <p:sp>
          <p:nvSpPr>
            <p:cNvPr id="1809" name=""/>
            <p:cNvSpPr/>
            <p:nvPr/>
          </p:nvSpPr>
          <p:spPr>
            <a:xfrm rot="16262400">
              <a:off x="5155560" y="4756320"/>
              <a:ext cx="372600" cy="147240"/>
            </a:xfrm>
            <a:prstGeom prst="ellipse">
              <a:avLst/>
            </a:prstGeom>
            <a:solidFill>
              <a:srgbClr val="fff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 rot="16262400">
              <a:off x="5209200" y="4519080"/>
              <a:ext cx="208800" cy="43200"/>
            </a:xfrm>
            <a:custGeom>
              <a:avLst/>
              <a:gdLst/>
              <a:ahLst/>
              <a:rect l="l" t="t" r="r" b="b"/>
              <a:pathLst>
                <a:path w="345" h="96">
                  <a:moveTo>
                    <a:pt x="0" y="74"/>
                  </a:moveTo>
                  <a:cubicBezTo>
                    <a:pt x="91" y="96"/>
                    <a:pt x="106" y="49"/>
                    <a:pt x="172" y="24"/>
                  </a:cubicBezTo>
                  <a:cubicBezTo>
                    <a:pt x="224" y="43"/>
                    <a:pt x="230" y="40"/>
                    <a:pt x="296" y="33"/>
                  </a:cubicBezTo>
                  <a:cubicBezTo>
                    <a:pt x="307" y="30"/>
                    <a:pt x="320" y="30"/>
                    <a:pt x="329" y="24"/>
                  </a:cubicBezTo>
                  <a:cubicBezTo>
                    <a:pt x="337" y="19"/>
                    <a:pt x="345" y="0"/>
                    <a:pt x="34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 rot="16262400">
              <a:off x="5249880" y="4505760"/>
              <a:ext cx="226080" cy="54000"/>
            </a:xfrm>
            <a:custGeom>
              <a:avLst/>
              <a:gdLst/>
              <a:ahLst/>
              <a:rect l="l" t="t" r="r" b="b"/>
              <a:pathLst>
                <a:path w="345" h="107">
                  <a:moveTo>
                    <a:pt x="0" y="0"/>
                  </a:moveTo>
                  <a:cubicBezTo>
                    <a:pt x="18" y="28"/>
                    <a:pt x="26" y="38"/>
                    <a:pt x="57" y="50"/>
                  </a:cubicBezTo>
                  <a:cubicBezTo>
                    <a:pt x="92" y="37"/>
                    <a:pt x="111" y="32"/>
                    <a:pt x="148" y="41"/>
                  </a:cubicBezTo>
                  <a:cubicBezTo>
                    <a:pt x="194" y="90"/>
                    <a:pt x="131" y="31"/>
                    <a:pt x="271" y="66"/>
                  </a:cubicBezTo>
                  <a:cubicBezTo>
                    <a:pt x="282" y="69"/>
                    <a:pt x="286" y="85"/>
                    <a:pt x="296" y="91"/>
                  </a:cubicBezTo>
                  <a:cubicBezTo>
                    <a:pt x="311" y="99"/>
                    <a:pt x="330" y="99"/>
                    <a:pt x="345" y="10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rot="819600">
              <a:off x="5388480" y="4919760"/>
              <a:ext cx="23760" cy="41760"/>
            </a:xfrm>
            <a:prstGeom prst="flowChartDelay">
              <a:avLst/>
            </a:prstGeom>
            <a:solidFill>
              <a:srgbClr val="fff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 rot="21346200">
              <a:off x="5398920" y="4710600"/>
              <a:ext cx="23760" cy="41760"/>
            </a:xfrm>
            <a:prstGeom prst="flowChartDelay">
              <a:avLst/>
            </a:prstGeom>
            <a:solidFill>
              <a:srgbClr val="fff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4" name=""/>
          <p:cNvGrpSpPr/>
          <p:nvPr/>
        </p:nvGrpSpPr>
        <p:grpSpPr>
          <a:xfrm>
            <a:off x="5524560" y="4597560"/>
            <a:ext cx="609120" cy="685440"/>
            <a:chOff x="5524560" y="4597560"/>
            <a:chExt cx="609120" cy="685440"/>
          </a:xfrm>
        </p:grpSpPr>
        <p:sp>
          <p:nvSpPr>
            <p:cNvPr id="1815" name=""/>
            <p:cNvSpPr/>
            <p:nvPr/>
          </p:nvSpPr>
          <p:spPr>
            <a:xfrm>
              <a:off x="5801400" y="4597560"/>
              <a:ext cx="165960" cy="15804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745960" y="4914000"/>
              <a:ext cx="165960" cy="15804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967720" y="5124960"/>
              <a:ext cx="165960" cy="15804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524560" y="5124960"/>
              <a:ext cx="165960" cy="15804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9" name=""/>
          <p:cNvGrpSpPr/>
          <p:nvPr/>
        </p:nvGrpSpPr>
        <p:grpSpPr>
          <a:xfrm>
            <a:off x="4800600" y="4191120"/>
            <a:ext cx="1905120" cy="1447560"/>
            <a:chOff x="4800600" y="4191120"/>
            <a:chExt cx="1905120" cy="1447560"/>
          </a:xfrm>
        </p:grpSpPr>
        <p:grpSp>
          <p:nvGrpSpPr>
            <p:cNvPr id="1820" name=""/>
            <p:cNvGrpSpPr/>
            <p:nvPr/>
          </p:nvGrpSpPr>
          <p:grpSpPr>
            <a:xfrm>
              <a:off x="4800600" y="4191120"/>
              <a:ext cx="1905120" cy="1447560"/>
              <a:chOff x="4800600" y="4191120"/>
              <a:chExt cx="1905120" cy="1447560"/>
            </a:xfrm>
          </p:grpSpPr>
          <p:sp>
            <p:nvSpPr>
              <p:cNvPr id="1821" name=""/>
              <p:cNvSpPr/>
              <p:nvPr/>
            </p:nvSpPr>
            <p:spPr>
              <a:xfrm>
                <a:off x="4800600" y="4191120"/>
                <a:ext cx="1905120" cy="1447560"/>
              </a:xfrm>
              <a:custGeom>
                <a:avLst/>
                <a:gdLst/>
                <a:ahLst/>
                <a:rect l="l" t="t" r="r" b="b"/>
                <a:pathLst>
                  <a:path w="867" h="594">
                    <a:moveTo>
                      <a:pt x="120" y="109"/>
                    </a:moveTo>
                    <a:cubicBezTo>
                      <a:pt x="101" y="130"/>
                      <a:pt x="79" y="134"/>
                      <a:pt x="55" y="150"/>
                    </a:cubicBezTo>
                    <a:cubicBezTo>
                      <a:pt x="10" y="216"/>
                      <a:pt x="66" y="248"/>
                      <a:pt x="88" y="306"/>
                    </a:cubicBezTo>
                    <a:cubicBezTo>
                      <a:pt x="78" y="360"/>
                      <a:pt x="79" y="364"/>
                      <a:pt x="30" y="380"/>
                    </a:cubicBezTo>
                    <a:cubicBezTo>
                      <a:pt x="1" y="410"/>
                      <a:pt x="0" y="438"/>
                      <a:pt x="14" y="479"/>
                    </a:cubicBezTo>
                    <a:cubicBezTo>
                      <a:pt x="17" y="488"/>
                      <a:pt x="22" y="499"/>
                      <a:pt x="30" y="504"/>
                    </a:cubicBezTo>
                    <a:cubicBezTo>
                      <a:pt x="45" y="513"/>
                      <a:pt x="79" y="520"/>
                      <a:pt x="79" y="520"/>
                    </a:cubicBezTo>
                    <a:cubicBezTo>
                      <a:pt x="98" y="517"/>
                      <a:pt x="118" y="518"/>
                      <a:pt x="137" y="512"/>
                    </a:cubicBezTo>
                    <a:cubicBezTo>
                      <a:pt x="146" y="509"/>
                      <a:pt x="151" y="496"/>
                      <a:pt x="161" y="495"/>
                    </a:cubicBezTo>
                    <a:cubicBezTo>
                      <a:pt x="175" y="493"/>
                      <a:pt x="189" y="500"/>
                      <a:pt x="203" y="504"/>
                    </a:cubicBezTo>
                    <a:cubicBezTo>
                      <a:pt x="220" y="509"/>
                      <a:pt x="252" y="520"/>
                      <a:pt x="252" y="520"/>
                    </a:cubicBezTo>
                    <a:cubicBezTo>
                      <a:pt x="308" y="558"/>
                      <a:pt x="282" y="547"/>
                      <a:pt x="326" y="561"/>
                    </a:cubicBezTo>
                    <a:cubicBezTo>
                      <a:pt x="334" y="567"/>
                      <a:pt x="342" y="574"/>
                      <a:pt x="351" y="578"/>
                    </a:cubicBezTo>
                    <a:cubicBezTo>
                      <a:pt x="367" y="585"/>
                      <a:pt x="400" y="594"/>
                      <a:pt x="400" y="594"/>
                    </a:cubicBezTo>
                    <a:cubicBezTo>
                      <a:pt x="427" y="591"/>
                      <a:pt x="455" y="593"/>
                      <a:pt x="482" y="586"/>
                    </a:cubicBezTo>
                    <a:cubicBezTo>
                      <a:pt x="507" y="580"/>
                      <a:pt x="541" y="508"/>
                      <a:pt x="572" y="495"/>
                    </a:cubicBezTo>
                    <a:cubicBezTo>
                      <a:pt x="593" y="487"/>
                      <a:pt x="638" y="479"/>
                      <a:pt x="638" y="479"/>
                    </a:cubicBezTo>
                    <a:cubicBezTo>
                      <a:pt x="703" y="492"/>
                      <a:pt x="710" y="494"/>
                      <a:pt x="786" y="487"/>
                    </a:cubicBezTo>
                    <a:cubicBezTo>
                      <a:pt x="810" y="464"/>
                      <a:pt x="833" y="448"/>
                      <a:pt x="852" y="421"/>
                    </a:cubicBezTo>
                    <a:cubicBezTo>
                      <a:pt x="862" y="380"/>
                      <a:pt x="867" y="328"/>
                      <a:pt x="844" y="290"/>
                    </a:cubicBezTo>
                    <a:cubicBezTo>
                      <a:pt x="832" y="270"/>
                      <a:pt x="808" y="252"/>
                      <a:pt x="794" y="232"/>
                    </a:cubicBezTo>
                    <a:cubicBezTo>
                      <a:pt x="771" y="164"/>
                      <a:pt x="794" y="35"/>
                      <a:pt x="720" y="11"/>
                    </a:cubicBezTo>
                    <a:cubicBezTo>
                      <a:pt x="704" y="14"/>
                      <a:pt x="685" y="11"/>
                      <a:pt x="671" y="19"/>
                    </a:cubicBezTo>
                    <a:cubicBezTo>
                      <a:pt x="664" y="23"/>
                      <a:pt x="667" y="36"/>
                      <a:pt x="663" y="43"/>
                    </a:cubicBezTo>
                    <a:cubicBezTo>
                      <a:pt x="659" y="50"/>
                      <a:pt x="653" y="56"/>
                      <a:pt x="646" y="60"/>
                    </a:cubicBezTo>
                    <a:cubicBezTo>
                      <a:pt x="631" y="68"/>
                      <a:pt x="597" y="76"/>
                      <a:pt x="597" y="76"/>
                    </a:cubicBezTo>
                    <a:cubicBezTo>
                      <a:pt x="581" y="71"/>
                      <a:pt x="562" y="70"/>
                      <a:pt x="548" y="60"/>
                    </a:cubicBezTo>
                    <a:cubicBezTo>
                      <a:pt x="540" y="54"/>
                      <a:pt x="532" y="47"/>
                      <a:pt x="523" y="43"/>
                    </a:cubicBezTo>
                    <a:cubicBezTo>
                      <a:pt x="507" y="36"/>
                      <a:pt x="490" y="32"/>
                      <a:pt x="474" y="27"/>
                    </a:cubicBezTo>
                    <a:cubicBezTo>
                      <a:pt x="466" y="24"/>
                      <a:pt x="449" y="19"/>
                      <a:pt x="449" y="19"/>
                    </a:cubicBezTo>
                    <a:cubicBezTo>
                      <a:pt x="378" y="22"/>
                      <a:pt x="298" y="0"/>
                      <a:pt x="235" y="35"/>
                    </a:cubicBezTo>
                    <a:cubicBezTo>
                      <a:pt x="201" y="54"/>
                      <a:pt x="170" y="80"/>
                      <a:pt x="137" y="101"/>
                    </a:cubicBezTo>
                    <a:cubicBezTo>
                      <a:pt x="108" y="120"/>
                      <a:pt x="105" y="124"/>
                      <a:pt x="120" y="109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rot="15561000">
                <a:off x="5973840" y="4638600"/>
                <a:ext cx="575280" cy="403920"/>
              </a:xfrm>
              <a:prstGeom prst="ellipse">
                <a:avLst/>
              </a:prstGeom>
              <a:solidFill>
                <a:srgbClr val="7572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3" name=""/>
            <p:cNvSpPr/>
            <p:nvPr/>
          </p:nvSpPr>
          <p:spPr>
            <a:xfrm>
              <a:off x="5030640" y="4431960"/>
              <a:ext cx="578160" cy="6030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491080" y="4431960"/>
              <a:ext cx="17460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491080" y="4794120"/>
              <a:ext cx="174600" cy="1803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607000" y="5035320"/>
              <a:ext cx="17316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7" name=""/>
            <p:cNvGrpSpPr/>
            <p:nvPr/>
          </p:nvGrpSpPr>
          <p:grpSpPr>
            <a:xfrm>
              <a:off x="5252400" y="4431240"/>
              <a:ext cx="158760" cy="597960"/>
              <a:chOff x="5252400" y="4431240"/>
              <a:chExt cx="158760" cy="597960"/>
            </a:xfrm>
          </p:grpSpPr>
          <p:sp>
            <p:nvSpPr>
              <p:cNvPr id="1828" name=""/>
              <p:cNvSpPr/>
              <p:nvPr/>
            </p:nvSpPr>
            <p:spPr>
              <a:xfrm rot="16262400">
                <a:off x="5142960" y="4768200"/>
                <a:ext cx="372240" cy="146880"/>
              </a:xfrm>
              <a:prstGeom prst="ellipse">
                <a:avLst/>
              </a:pr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rot="16262400">
                <a:off x="5196240" y="4530600"/>
                <a:ext cx="208440" cy="43200"/>
              </a:xfrm>
              <a:custGeom>
                <a:avLst/>
                <a:gdLst/>
                <a:ahLst/>
                <a:rect l="l" t="t" r="r" b="b"/>
                <a:pathLst>
                  <a:path w="345" h="96">
                    <a:moveTo>
                      <a:pt x="0" y="74"/>
                    </a:moveTo>
                    <a:cubicBezTo>
                      <a:pt x="91" y="96"/>
                      <a:pt x="106" y="49"/>
                      <a:pt x="172" y="24"/>
                    </a:cubicBezTo>
                    <a:cubicBezTo>
                      <a:pt x="224" y="43"/>
                      <a:pt x="230" y="40"/>
                      <a:pt x="296" y="33"/>
                    </a:cubicBezTo>
                    <a:cubicBezTo>
                      <a:pt x="307" y="30"/>
                      <a:pt x="320" y="30"/>
                      <a:pt x="329" y="24"/>
                    </a:cubicBezTo>
                    <a:cubicBezTo>
                      <a:pt x="337" y="19"/>
                      <a:pt x="345" y="0"/>
                      <a:pt x="345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rot="16262400">
                <a:off x="5237640" y="4517280"/>
                <a:ext cx="225720" cy="54000"/>
              </a:xfrm>
              <a:custGeom>
                <a:avLst/>
                <a:gdLst/>
                <a:ahLst/>
                <a:rect l="l" t="t" r="r" b="b"/>
                <a:pathLst>
                  <a:path w="345" h="107">
                    <a:moveTo>
                      <a:pt x="0" y="0"/>
                    </a:moveTo>
                    <a:cubicBezTo>
                      <a:pt x="18" y="28"/>
                      <a:pt x="26" y="38"/>
                      <a:pt x="57" y="50"/>
                    </a:cubicBezTo>
                    <a:cubicBezTo>
                      <a:pt x="92" y="37"/>
                      <a:pt x="111" y="32"/>
                      <a:pt x="148" y="41"/>
                    </a:cubicBezTo>
                    <a:cubicBezTo>
                      <a:pt x="194" y="90"/>
                      <a:pt x="131" y="31"/>
                      <a:pt x="271" y="66"/>
                    </a:cubicBezTo>
                    <a:cubicBezTo>
                      <a:pt x="282" y="69"/>
                      <a:pt x="286" y="85"/>
                      <a:pt x="296" y="91"/>
                    </a:cubicBezTo>
                    <a:cubicBezTo>
                      <a:pt x="311" y="99"/>
                      <a:pt x="330" y="99"/>
                      <a:pt x="345" y="10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rot="819600">
                <a:off x="5375520" y="4931280"/>
                <a:ext cx="23760" cy="41760"/>
              </a:xfrm>
              <a:prstGeom prst="flowChartDelay">
                <a:avLst/>
              </a:pr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rot="21346200">
                <a:off x="5385960" y="4722480"/>
                <a:ext cx="23760" cy="41760"/>
              </a:xfrm>
              <a:prstGeom prst="flowChartDelay">
                <a:avLst/>
              </a:pr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3" name=""/>
            <p:cNvSpPr/>
            <p:nvPr/>
          </p:nvSpPr>
          <p:spPr>
            <a:xfrm>
              <a:off x="5145120" y="4914720"/>
              <a:ext cx="17460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4800600" y="4191120"/>
            <a:ext cx="1905120" cy="1447560"/>
            <a:chOff x="4800600" y="4191120"/>
            <a:chExt cx="1905120" cy="1447560"/>
          </a:xfrm>
        </p:grpSpPr>
        <p:grpSp>
          <p:nvGrpSpPr>
            <p:cNvPr id="1835" name=""/>
            <p:cNvGrpSpPr/>
            <p:nvPr/>
          </p:nvGrpSpPr>
          <p:grpSpPr>
            <a:xfrm>
              <a:off x="4800600" y="4191120"/>
              <a:ext cx="1905120" cy="1447560"/>
              <a:chOff x="4800600" y="4191120"/>
              <a:chExt cx="1905120" cy="1447560"/>
            </a:xfrm>
          </p:grpSpPr>
          <p:sp>
            <p:nvSpPr>
              <p:cNvPr id="1836" name=""/>
              <p:cNvSpPr/>
              <p:nvPr/>
            </p:nvSpPr>
            <p:spPr>
              <a:xfrm>
                <a:off x="4800600" y="4191120"/>
                <a:ext cx="1905120" cy="1447560"/>
              </a:xfrm>
              <a:custGeom>
                <a:avLst/>
                <a:gdLst/>
                <a:ahLst/>
                <a:rect l="l" t="t" r="r" b="b"/>
                <a:pathLst>
                  <a:path w="867" h="594">
                    <a:moveTo>
                      <a:pt x="120" y="109"/>
                    </a:moveTo>
                    <a:cubicBezTo>
                      <a:pt x="101" y="130"/>
                      <a:pt x="79" y="134"/>
                      <a:pt x="55" y="150"/>
                    </a:cubicBezTo>
                    <a:cubicBezTo>
                      <a:pt x="10" y="216"/>
                      <a:pt x="66" y="248"/>
                      <a:pt x="88" y="306"/>
                    </a:cubicBezTo>
                    <a:cubicBezTo>
                      <a:pt x="78" y="360"/>
                      <a:pt x="79" y="364"/>
                      <a:pt x="30" y="380"/>
                    </a:cubicBezTo>
                    <a:cubicBezTo>
                      <a:pt x="1" y="410"/>
                      <a:pt x="0" y="438"/>
                      <a:pt x="14" y="479"/>
                    </a:cubicBezTo>
                    <a:cubicBezTo>
                      <a:pt x="17" y="488"/>
                      <a:pt x="22" y="499"/>
                      <a:pt x="30" y="504"/>
                    </a:cubicBezTo>
                    <a:cubicBezTo>
                      <a:pt x="45" y="513"/>
                      <a:pt x="79" y="520"/>
                      <a:pt x="79" y="520"/>
                    </a:cubicBezTo>
                    <a:cubicBezTo>
                      <a:pt x="98" y="517"/>
                      <a:pt x="118" y="518"/>
                      <a:pt x="137" y="512"/>
                    </a:cubicBezTo>
                    <a:cubicBezTo>
                      <a:pt x="146" y="509"/>
                      <a:pt x="151" y="496"/>
                      <a:pt x="161" y="495"/>
                    </a:cubicBezTo>
                    <a:cubicBezTo>
                      <a:pt x="175" y="493"/>
                      <a:pt x="189" y="500"/>
                      <a:pt x="203" y="504"/>
                    </a:cubicBezTo>
                    <a:cubicBezTo>
                      <a:pt x="220" y="509"/>
                      <a:pt x="252" y="520"/>
                      <a:pt x="252" y="520"/>
                    </a:cubicBezTo>
                    <a:cubicBezTo>
                      <a:pt x="308" y="558"/>
                      <a:pt x="282" y="547"/>
                      <a:pt x="326" y="561"/>
                    </a:cubicBezTo>
                    <a:cubicBezTo>
                      <a:pt x="334" y="567"/>
                      <a:pt x="342" y="574"/>
                      <a:pt x="351" y="578"/>
                    </a:cubicBezTo>
                    <a:cubicBezTo>
                      <a:pt x="367" y="585"/>
                      <a:pt x="400" y="594"/>
                      <a:pt x="400" y="594"/>
                    </a:cubicBezTo>
                    <a:cubicBezTo>
                      <a:pt x="427" y="591"/>
                      <a:pt x="455" y="593"/>
                      <a:pt x="482" y="586"/>
                    </a:cubicBezTo>
                    <a:cubicBezTo>
                      <a:pt x="507" y="580"/>
                      <a:pt x="541" y="508"/>
                      <a:pt x="572" y="495"/>
                    </a:cubicBezTo>
                    <a:cubicBezTo>
                      <a:pt x="593" y="487"/>
                      <a:pt x="638" y="479"/>
                      <a:pt x="638" y="479"/>
                    </a:cubicBezTo>
                    <a:cubicBezTo>
                      <a:pt x="703" y="492"/>
                      <a:pt x="710" y="494"/>
                      <a:pt x="786" y="487"/>
                    </a:cubicBezTo>
                    <a:cubicBezTo>
                      <a:pt x="810" y="464"/>
                      <a:pt x="833" y="448"/>
                      <a:pt x="852" y="421"/>
                    </a:cubicBezTo>
                    <a:cubicBezTo>
                      <a:pt x="862" y="380"/>
                      <a:pt x="867" y="328"/>
                      <a:pt x="844" y="290"/>
                    </a:cubicBezTo>
                    <a:cubicBezTo>
                      <a:pt x="832" y="270"/>
                      <a:pt x="808" y="252"/>
                      <a:pt x="794" y="232"/>
                    </a:cubicBezTo>
                    <a:cubicBezTo>
                      <a:pt x="771" y="164"/>
                      <a:pt x="794" y="35"/>
                      <a:pt x="720" y="11"/>
                    </a:cubicBezTo>
                    <a:cubicBezTo>
                      <a:pt x="704" y="14"/>
                      <a:pt x="685" y="11"/>
                      <a:pt x="671" y="19"/>
                    </a:cubicBezTo>
                    <a:cubicBezTo>
                      <a:pt x="664" y="23"/>
                      <a:pt x="667" y="36"/>
                      <a:pt x="663" y="43"/>
                    </a:cubicBezTo>
                    <a:cubicBezTo>
                      <a:pt x="659" y="50"/>
                      <a:pt x="653" y="56"/>
                      <a:pt x="646" y="60"/>
                    </a:cubicBezTo>
                    <a:cubicBezTo>
                      <a:pt x="631" y="68"/>
                      <a:pt x="597" y="76"/>
                      <a:pt x="597" y="76"/>
                    </a:cubicBezTo>
                    <a:cubicBezTo>
                      <a:pt x="581" y="71"/>
                      <a:pt x="562" y="70"/>
                      <a:pt x="548" y="60"/>
                    </a:cubicBezTo>
                    <a:cubicBezTo>
                      <a:pt x="540" y="54"/>
                      <a:pt x="532" y="47"/>
                      <a:pt x="523" y="43"/>
                    </a:cubicBezTo>
                    <a:cubicBezTo>
                      <a:pt x="507" y="36"/>
                      <a:pt x="490" y="32"/>
                      <a:pt x="474" y="27"/>
                    </a:cubicBezTo>
                    <a:cubicBezTo>
                      <a:pt x="466" y="24"/>
                      <a:pt x="449" y="19"/>
                      <a:pt x="449" y="19"/>
                    </a:cubicBezTo>
                    <a:cubicBezTo>
                      <a:pt x="378" y="22"/>
                      <a:pt x="298" y="0"/>
                      <a:pt x="235" y="35"/>
                    </a:cubicBezTo>
                    <a:cubicBezTo>
                      <a:pt x="201" y="54"/>
                      <a:pt x="170" y="80"/>
                      <a:pt x="137" y="101"/>
                    </a:cubicBezTo>
                    <a:cubicBezTo>
                      <a:pt x="108" y="120"/>
                      <a:pt x="105" y="124"/>
                      <a:pt x="120" y="109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rot="15561000">
                <a:off x="5973840" y="4638600"/>
                <a:ext cx="575280" cy="403920"/>
              </a:xfrm>
              <a:prstGeom prst="ellipse">
                <a:avLst/>
              </a:prstGeom>
              <a:solidFill>
                <a:srgbClr val="7572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8" name=""/>
            <p:cNvSpPr/>
            <p:nvPr/>
          </p:nvSpPr>
          <p:spPr>
            <a:xfrm>
              <a:off x="5030640" y="4460760"/>
              <a:ext cx="578160" cy="6030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9" name=""/>
            <p:cNvGrpSpPr/>
            <p:nvPr/>
          </p:nvGrpSpPr>
          <p:grpSpPr>
            <a:xfrm>
              <a:off x="5252400" y="4456800"/>
              <a:ext cx="158760" cy="597960"/>
              <a:chOff x="5252400" y="4456800"/>
              <a:chExt cx="158760" cy="597960"/>
            </a:xfrm>
          </p:grpSpPr>
          <p:sp>
            <p:nvSpPr>
              <p:cNvPr id="1840" name=""/>
              <p:cNvSpPr/>
              <p:nvPr/>
            </p:nvSpPr>
            <p:spPr>
              <a:xfrm rot="16262400">
                <a:off x="5142960" y="4793760"/>
                <a:ext cx="372240" cy="146880"/>
              </a:xfrm>
              <a:prstGeom prst="ellipse">
                <a:avLst/>
              </a:pr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 rot="16262400">
                <a:off x="5196240" y="4556160"/>
                <a:ext cx="208440" cy="43200"/>
              </a:xfrm>
              <a:custGeom>
                <a:avLst/>
                <a:gdLst/>
                <a:ahLst/>
                <a:rect l="l" t="t" r="r" b="b"/>
                <a:pathLst>
                  <a:path w="345" h="96">
                    <a:moveTo>
                      <a:pt x="0" y="74"/>
                    </a:moveTo>
                    <a:cubicBezTo>
                      <a:pt x="91" y="96"/>
                      <a:pt x="106" y="49"/>
                      <a:pt x="172" y="24"/>
                    </a:cubicBezTo>
                    <a:cubicBezTo>
                      <a:pt x="224" y="43"/>
                      <a:pt x="230" y="40"/>
                      <a:pt x="296" y="33"/>
                    </a:cubicBezTo>
                    <a:cubicBezTo>
                      <a:pt x="307" y="30"/>
                      <a:pt x="320" y="30"/>
                      <a:pt x="329" y="24"/>
                    </a:cubicBezTo>
                    <a:cubicBezTo>
                      <a:pt x="337" y="19"/>
                      <a:pt x="345" y="0"/>
                      <a:pt x="345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rot="16262400">
                <a:off x="5237640" y="4542840"/>
                <a:ext cx="225720" cy="54000"/>
              </a:xfrm>
              <a:custGeom>
                <a:avLst/>
                <a:gdLst/>
                <a:ahLst/>
                <a:rect l="l" t="t" r="r" b="b"/>
                <a:pathLst>
                  <a:path w="345" h="107">
                    <a:moveTo>
                      <a:pt x="0" y="0"/>
                    </a:moveTo>
                    <a:cubicBezTo>
                      <a:pt x="18" y="28"/>
                      <a:pt x="26" y="38"/>
                      <a:pt x="57" y="50"/>
                    </a:cubicBezTo>
                    <a:cubicBezTo>
                      <a:pt x="92" y="37"/>
                      <a:pt x="111" y="32"/>
                      <a:pt x="148" y="41"/>
                    </a:cubicBezTo>
                    <a:cubicBezTo>
                      <a:pt x="194" y="90"/>
                      <a:pt x="131" y="31"/>
                      <a:pt x="271" y="66"/>
                    </a:cubicBezTo>
                    <a:cubicBezTo>
                      <a:pt x="282" y="69"/>
                      <a:pt x="286" y="85"/>
                      <a:pt x="296" y="91"/>
                    </a:cubicBezTo>
                    <a:cubicBezTo>
                      <a:pt x="311" y="99"/>
                      <a:pt x="330" y="99"/>
                      <a:pt x="345" y="10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rot="819600">
                <a:off x="5375520" y="4956840"/>
                <a:ext cx="23760" cy="41760"/>
              </a:xfrm>
              <a:prstGeom prst="flowChartDelay">
                <a:avLst/>
              </a:pr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rot="21346200">
                <a:off x="5385960" y="4748040"/>
                <a:ext cx="23760" cy="41760"/>
              </a:xfrm>
              <a:prstGeom prst="flowChartDelay">
                <a:avLst/>
              </a:pr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5" name=""/>
            <p:cNvSpPr/>
            <p:nvPr/>
          </p:nvSpPr>
          <p:spPr>
            <a:xfrm>
              <a:off x="5607000" y="5095800"/>
              <a:ext cx="17316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5145120" y="4762440"/>
              <a:ext cx="58680" cy="597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261040" y="4883040"/>
              <a:ext cx="5868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376960" y="4762440"/>
              <a:ext cx="56880" cy="597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5491080" y="4701960"/>
              <a:ext cx="5868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203800" y="4521240"/>
              <a:ext cx="57240" cy="597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261040" y="4641840"/>
              <a:ext cx="58680" cy="597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433840" y="4883040"/>
              <a:ext cx="5724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145120" y="4943520"/>
              <a:ext cx="58680" cy="597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433840" y="4539960"/>
              <a:ext cx="5724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319720" y="4984560"/>
              <a:ext cx="5724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5059440" y="4690800"/>
              <a:ext cx="5724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540400" y="4792680"/>
              <a:ext cx="57240" cy="597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329080" y="4471920"/>
              <a:ext cx="57240" cy="597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097600" y="4562280"/>
              <a:ext cx="5688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078520" y="4822560"/>
              <a:ext cx="5868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270400" y="4743360"/>
              <a:ext cx="58680" cy="597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386320" y="4641840"/>
              <a:ext cx="57240" cy="597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3" name=""/>
          <p:cNvGrpSpPr/>
          <p:nvPr/>
        </p:nvGrpSpPr>
        <p:grpSpPr>
          <a:xfrm>
            <a:off x="4800600" y="4191120"/>
            <a:ext cx="1905120" cy="1447560"/>
            <a:chOff x="4800600" y="4191120"/>
            <a:chExt cx="1905120" cy="1447560"/>
          </a:xfrm>
        </p:grpSpPr>
        <p:grpSp>
          <p:nvGrpSpPr>
            <p:cNvPr id="1864" name=""/>
            <p:cNvGrpSpPr/>
            <p:nvPr/>
          </p:nvGrpSpPr>
          <p:grpSpPr>
            <a:xfrm>
              <a:off x="4800600" y="4191120"/>
              <a:ext cx="1905120" cy="1447560"/>
              <a:chOff x="4800600" y="4191120"/>
              <a:chExt cx="1905120" cy="1447560"/>
            </a:xfrm>
          </p:grpSpPr>
          <p:sp>
            <p:nvSpPr>
              <p:cNvPr id="1865" name=""/>
              <p:cNvSpPr/>
              <p:nvPr/>
            </p:nvSpPr>
            <p:spPr>
              <a:xfrm>
                <a:off x="4800600" y="4191120"/>
                <a:ext cx="1905120" cy="1447560"/>
              </a:xfrm>
              <a:custGeom>
                <a:avLst/>
                <a:gdLst/>
                <a:ahLst/>
                <a:rect l="l" t="t" r="r" b="b"/>
                <a:pathLst>
                  <a:path w="867" h="594">
                    <a:moveTo>
                      <a:pt x="120" y="109"/>
                    </a:moveTo>
                    <a:cubicBezTo>
                      <a:pt x="101" y="130"/>
                      <a:pt x="79" y="134"/>
                      <a:pt x="55" y="150"/>
                    </a:cubicBezTo>
                    <a:cubicBezTo>
                      <a:pt x="10" y="216"/>
                      <a:pt x="66" y="248"/>
                      <a:pt x="88" y="306"/>
                    </a:cubicBezTo>
                    <a:cubicBezTo>
                      <a:pt x="78" y="360"/>
                      <a:pt x="79" y="364"/>
                      <a:pt x="30" y="380"/>
                    </a:cubicBezTo>
                    <a:cubicBezTo>
                      <a:pt x="1" y="410"/>
                      <a:pt x="0" y="438"/>
                      <a:pt x="14" y="479"/>
                    </a:cubicBezTo>
                    <a:cubicBezTo>
                      <a:pt x="17" y="488"/>
                      <a:pt x="22" y="499"/>
                      <a:pt x="30" y="504"/>
                    </a:cubicBezTo>
                    <a:cubicBezTo>
                      <a:pt x="45" y="513"/>
                      <a:pt x="79" y="520"/>
                      <a:pt x="79" y="520"/>
                    </a:cubicBezTo>
                    <a:cubicBezTo>
                      <a:pt x="98" y="517"/>
                      <a:pt x="118" y="518"/>
                      <a:pt x="137" y="512"/>
                    </a:cubicBezTo>
                    <a:cubicBezTo>
                      <a:pt x="146" y="509"/>
                      <a:pt x="151" y="496"/>
                      <a:pt x="161" y="495"/>
                    </a:cubicBezTo>
                    <a:cubicBezTo>
                      <a:pt x="175" y="493"/>
                      <a:pt x="189" y="500"/>
                      <a:pt x="203" y="504"/>
                    </a:cubicBezTo>
                    <a:cubicBezTo>
                      <a:pt x="220" y="509"/>
                      <a:pt x="252" y="520"/>
                      <a:pt x="252" y="520"/>
                    </a:cubicBezTo>
                    <a:cubicBezTo>
                      <a:pt x="308" y="558"/>
                      <a:pt x="282" y="547"/>
                      <a:pt x="326" y="561"/>
                    </a:cubicBezTo>
                    <a:cubicBezTo>
                      <a:pt x="334" y="567"/>
                      <a:pt x="342" y="574"/>
                      <a:pt x="351" y="578"/>
                    </a:cubicBezTo>
                    <a:cubicBezTo>
                      <a:pt x="367" y="585"/>
                      <a:pt x="400" y="594"/>
                      <a:pt x="400" y="594"/>
                    </a:cubicBezTo>
                    <a:cubicBezTo>
                      <a:pt x="427" y="591"/>
                      <a:pt x="455" y="593"/>
                      <a:pt x="482" y="586"/>
                    </a:cubicBezTo>
                    <a:cubicBezTo>
                      <a:pt x="507" y="580"/>
                      <a:pt x="541" y="508"/>
                      <a:pt x="572" y="495"/>
                    </a:cubicBezTo>
                    <a:cubicBezTo>
                      <a:pt x="593" y="487"/>
                      <a:pt x="638" y="479"/>
                      <a:pt x="638" y="479"/>
                    </a:cubicBezTo>
                    <a:cubicBezTo>
                      <a:pt x="703" y="492"/>
                      <a:pt x="710" y="494"/>
                      <a:pt x="786" y="487"/>
                    </a:cubicBezTo>
                    <a:cubicBezTo>
                      <a:pt x="810" y="464"/>
                      <a:pt x="833" y="448"/>
                      <a:pt x="852" y="421"/>
                    </a:cubicBezTo>
                    <a:cubicBezTo>
                      <a:pt x="862" y="380"/>
                      <a:pt x="867" y="328"/>
                      <a:pt x="844" y="290"/>
                    </a:cubicBezTo>
                    <a:cubicBezTo>
                      <a:pt x="832" y="270"/>
                      <a:pt x="808" y="252"/>
                      <a:pt x="794" y="232"/>
                    </a:cubicBezTo>
                    <a:cubicBezTo>
                      <a:pt x="771" y="164"/>
                      <a:pt x="794" y="35"/>
                      <a:pt x="720" y="11"/>
                    </a:cubicBezTo>
                    <a:cubicBezTo>
                      <a:pt x="704" y="14"/>
                      <a:pt x="685" y="11"/>
                      <a:pt x="671" y="19"/>
                    </a:cubicBezTo>
                    <a:cubicBezTo>
                      <a:pt x="664" y="23"/>
                      <a:pt x="667" y="36"/>
                      <a:pt x="663" y="43"/>
                    </a:cubicBezTo>
                    <a:cubicBezTo>
                      <a:pt x="659" y="50"/>
                      <a:pt x="653" y="56"/>
                      <a:pt x="646" y="60"/>
                    </a:cubicBezTo>
                    <a:cubicBezTo>
                      <a:pt x="631" y="68"/>
                      <a:pt x="597" y="76"/>
                      <a:pt x="597" y="76"/>
                    </a:cubicBezTo>
                    <a:cubicBezTo>
                      <a:pt x="581" y="71"/>
                      <a:pt x="562" y="70"/>
                      <a:pt x="548" y="60"/>
                    </a:cubicBezTo>
                    <a:cubicBezTo>
                      <a:pt x="540" y="54"/>
                      <a:pt x="532" y="47"/>
                      <a:pt x="523" y="43"/>
                    </a:cubicBezTo>
                    <a:cubicBezTo>
                      <a:pt x="507" y="36"/>
                      <a:pt x="490" y="32"/>
                      <a:pt x="474" y="27"/>
                    </a:cubicBezTo>
                    <a:cubicBezTo>
                      <a:pt x="466" y="24"/>
                      <a:pt x="449" y="19"/>
                      <a:pt x="449" y="19"/>
                    </a:cubicBezTo>
                    <a:cubicBezTo>
                      <a:pt x="378" y="22"/>
                      <a:pt x="298" y="0"/>
                      <a:pt x="235" y="35"/>
                    </a:cubicBezTo>
                    <a:cubicBezTo>
                      <a:pt x="201" y="54"/>
                      <a:pt x="170" y="80"/>
                      <a:pt x="137" y="101"/>
                    </a:cubicBezTo>
                    <a:cubicBezTo>
                      <a:pt x="108" y="120"/>
                      <a:pt x="105" y="124"/>
                      <a:pt x="120" y="109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rot="15561000">
                <a:off x="5973840" y="4638600"/>
                <a:ext cx="575280" cy="403920"/>
              </a:xfrm>
              <a:prstGeom prst="ellipse">
                <a:avLst/>
              </a:prstGeom>
              <a:solidFill>
                <a:srgbClr val="7572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7" name=""/>
            <p:cNvSpPr/>
            <p:nvPr/>
          </p:nvSpPr>
          <p:spPr>
            <a:xfrm>
              <a:off x="5031000" y="4432320"/>
              <a:ext cx="577800" cy="6030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rot="14290200">
              <a:off x="5185440" y="447048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607000" y="5035320"/>
              <a:ext cx="17352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145480" y="4734000"/>
              <a:ext cx="5796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261040" y="4854240"/>
              <a:ext cx="5796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376600" y="4734000"/>
              <a:ext cx="5796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491800" y="4673520"/>
              <a:ext cx="57960" cy="6048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5203800" y="4492440"/>
              <a:ext cx="5688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261040" y="4613040"/>
              <a:ext cx="5796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434560" y="4854240"/>
              <a:ext cx="5724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145480" y="4914720"/>
              <a:ext cx="57960" cy="6048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434560" y="4512240"/>
              <a:ext cx="57240" cy="6048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319000" y="4955400"/>
              <a:ext cx="5724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059080" y="4663080"/>
              <a:ext cx="5796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539680" y="4763880"/>
              <a:ext cx="5796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328360" y="4442400"/>
              <a:ext cx="5796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097600" y="4532760"/>
              <a:ext cx="56880" cy="6048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078160" y="4794120"/>
              <a:ext cx="5796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270400" y="4713840"/>
              <a:ext cx="5796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386680" y="4613040"/>
              <a:ext cx="5724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 rot="14290200">
              <a:off x="5464440" y="4650480"/>
              <a:ext cx="120600" cy="10512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 rot="14290200">
              <a:off x="5088960" y="481212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 rot="14290200">
              <a:off x="5253120" y="4902480"/>
              <a:ext cx="12024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 rot="14290200">
              <a:off x="5281560" y="4741560"/>
              <a:ext cx="120240" cy="10512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 rot="14290200">
              <a:off x="5079600" y="4560480"/>
              <a:ext cx="120240" cy="10512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rot="14290200">
              <a:off x="5166360" y="4670640"/>
              <a:ext cx="120240" cy="10512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rot="14290200">
              <a:off x="5406480" y="481212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rot="14290200">
              <a:off x="5387400" y="4489560"/>
              <a:ext cx="12060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rot="14290200">
              <a:off x="5320440" y="4610520"/>
              <a:ext cx="12024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6" name=""/>
          <p:cNvGrpSpPr/>
          <p:nvPr/>
        </p:nvGrpSpPr>
        <p:grpSpPr>
          <a:xfrm>
            <a:off x="4800600" y="4191120"/>
            <a:ext cx="1905120" cy="1447560"/>
            <a:chOff x="4800600" y="4191120"/>
            <a:chExt cx="1905120" cy="1447560"/>
          </a:xfrm>
        </p:grpSpPr>
        <p:grpSp>
          <p:nvGrpSpPr>
            <p:cNvPr id="1897" name=""/>
            <p:cNvGrpSpPr/>
            <p:nvPr/>
          </p:nvGrpSpPr>
          <p:grpSpPr>
            <a:xfrm>
              <a:off x="4800600" y="4191120"/>
              <a:ext cx="1905120" cy="1447560"/>
              <a:chOff x="4800600" y="4191120"/>
              <a:chExt cx="1905120" cy="1447560"/>
            </a:xfrm>
          </p:grpSpPr>
          <p:sp>
            <p:nvSpPr>
              <p:cNvPr id="1898" name=""/>
              <p:cNvSpPr/>
              <p:nvPr/>
            </p:nvSpPr>
            <p:spPr>
              <a:xfrm>
                <a:off x="4800600" y="4191120"/>
                <a:ext cx="1905120" cy="1447560"/>
              </a:xfrm>
              <a:custGeom>
                <a:avLst/>
                <a:gdLst/>
                <a:ahLst/>
                <a:rect l="l" t="t" r="r" b="b"/>
                <a:pathLst>
                  <a:path w="867" h="594">
                    <a:moveTo>
                      <a:pt x="120" y="109"/>
                    </a:moveTo>
                    <a:cubicBezTo>
                      <a:pt x="101" y="130"/>
                      <a:pt x="79" y="134"/>
                      <a:pt x="55" y="150"/>
                    </a:cubicBezTo>
                    <a:cubicBezTo>
                      <a:pt x="10" y="216"/>
                      <a:pt x="66" y="248"/>
                      <a:pt x="88" y="306"/>
                    </a:cubicBezTo>
                    <a:cubicBezTo>
                      <a:pt x="78" y="360"/>
                      <a:pt x="79" y="364"/>
                      <a:pt x="30" y="380"/>
                    </a:cubicBezTo>
                    <a:cubicBezTo>
                      <a:pt x="1" y="410"/>
                      <a:pt x="0" y="438"/>
                      <a:pt x="14" y="479"/>
                    </a:cubicBezTo>
                    <a:cubicBezTo>
                      <a:pt x="17" y="488"/>
                      <a:pt x="22" y="499"/>
                      <a:pt x="30" y="504"/>
                    </a:cubicBezTo>
                    <a:cubicBezTo>
                      <a:pt x="45" y="513"/>
                      <a:pt x="79" y="520"/>
                      <a:pt x="79" y="520"/>
                    </a:cubicBezTo>
                    <a:cubicBezTo>
                      <a:pt x="98" y="517"/>
                      <a:pt x="118" y="518"/>
                      <a:pt x="137" y="512"/>
                    </a:cubicBezTo>
                    <a:cubicBezTo>
                      <a:pt x="146" y="509"/>
                      <a:pt x="151" y="496"/>
                      <a:pt x="161" y="495"/>
                    </a:cubicBezTo>
                    <a:cubicBezTo>
                      <a:pt x="175" y="493"/>
                      <a:pt x="189" y="500"/>
                      <a:pt x="203" y="504"/>
                    </a:cubicBezTo>
                    <a:cubicBezTo>
                      <a:pt x="220" y="509"/>
                      <a:pt x="252" y="520"/>
                      <a:pt x="252" y="520"/>
                    </a:cubicBezTo>
                    <a:cubicBezTo>
                      <a:pt x="308" y="558"/>
                      <a:pt x="282" y="547"/>
                      <a:pt x="326" y="561"/>
                    </a:cubicBezTo>
                    <a:cubicBezTo>
                      <a:pt x="334" y="567"/>
                      <a:pt x="342" y="574"/>
                      <a:pt x="351" y="578"/>
                    </a:cubicBezTo>
                    <a:cubicBezTo>
                      <a:pt x="367" y="585"/>
                      <a:pt x="400" y="594"/>
                      <a:pt x="400" y="594"/>
                    </a:cubicBezTo>
                    <a:cubicBezTo>
                      <a:pt x="427" y="591"/>
                      <a:pt x="455" y="593"/>
                      <a:pt x="482" y="586"/>
                    </a:cubicBezTo>
                    <a:cubicBezTo>
                      <a:pt x="507" y="580"/>
                      <a:pt x="541" y="508"/>
                      <a:pt x="572" y="495"/>
                    </a:cubicBezTo>
                    <a:cubicBezTo>
                      <a:pt x="593" y="487"/>
                      <a:pt x="638" y="479"/>
                      <a:pt x="638" y="479"/>
                    </a:cubicBezTo>
                    <a:cubicBezTo>
                      <a:pt x="703" y="492"/>
                      <a:pt x="710" y="494"/>
                      <a:pt x="786" y="487"/>
                    </a:cubicBezTo>
                    <a:cubicBezTo>
                      <a:pt x="810" y="464"/>
                      <a:pt x="833" y="448"/>
                      <a:pt x="852" y="421"/>
                    </a:cubicBezTo>
                    <a:cubicBezTo>
                      <a:pt x="862" y="380"/>
                      <a:pt x="867" y="328"/>
                      <a:pt x="844" y="290"/>
                    </a:cubicBezTo>
                    <a:cubicBezTo>
                      <a:pt x="832" y="270"/>
                      <a:pt x="808" y="252"/>
                      <a:pt x="794" y="232"/>
                    </a:cubicBezTo>
                    <a:cubicBezTo>
                      <a:pt x="771" y="164"/>
                      <a:pt x="794" y="35"/>
                      <a:pt x="720" y="11"/>
                    </a:cubicBezTo>
                    <a:cubicBezTo>
                      <a:pt x="704" y="14"/>
                      <a:pt x="685" y="11"/>
                      <a:pt x="671" y="19"/>
                    </a:cubicBezTo>
                    <a:cubicBezTo>
                      <a:pt x="664" y="23"/>
                      <a:pt x="667" y="36"/>
                      <a:pt x="663" y="43"/>
                    </a:cubicBezTo>
                    <a:cubicBezTo>
                      <a:pt x="659" y="50"/>
                      <a:pt x="653" y="56"/>
                      <a:pt x="646" y="60"/>
                    </a:cubicBezTo>
                    <a:cubicBezTo>
                      <a:pt x="631" y="68"/>
                      <a:pt x="597" y="76"/>
                      <a:pt x="597" y="76"/>
                    </a:cubicBezTo>
                    <a:cubicBezTo>
                      <a:pt x="581" y="71"/>
                      <a:pt x="562" y="70"/>
                      <a:pt x="548" y="60"/>
                    </a:cubicBezTo>
                    <a:cubicBezTo>
                      <a:pt x="540" y="54"/>
                      <a:pt x="532" y="47"/>
                      <a:pt x="523" y="43"/>
                    </a:cubicBezTo>
                    <a:cubicBezTo>
                      <a:pt x="507" y="36"/>
                      <a:pt x="490" y="32"/>
                      <a:pt x="474" y="27"/>
                    </a:cubicBezTo>
                    <a:cubicBezTo>
                      <a:pt x="466" y="24"/>
                      <a:pt x="449" y="19"/>
                      <a:pt x="449" y="19"/>
                    </a:cubicBezTo>
                    <a:cubicBezTo>
                      <a:pt x="378" y="22"/>
                      <a:pt x="298" y="0"/>
                      <a:pt x="235" y="35"/>
                    </a:cubicBezTo>
                    <a:cubicBezTo>
                      <a:pt x="201" y="54"/>
                      <a:pt x="170" y="80"/>
                      <a:pt x="137" y="101"/>
                    </a:cubicBezTo>
                    <a:cubicBezTo>
                      <a:pt x="108" y="120"/>
                      <a:pt x="105" y="124"/>
                      <a:pt x="120" y="109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 rot="15561000">
                <a:off x="5973840" y="4638600"/>
                <a:ext cx="575280" cy="403920"/>
              </a:xfrm>
              <a:prstGeom prst="ellipse">
                <a:avLst/>
              </a:prstGeom>
              <a:solidFill>
                <a:srgbClr val="7572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0" name=""/>
            <p:cNvSpPr/>
            <p:nvPr/>
          </p:nvSpPr>
          <p:spPr>
            <a:xfrm>
              <a:off x="5031000" y="4432320"/>
              <a:ext cx="577800" cy="6030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rot="14290200">
              <a:off x="5100480" y="457128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5607000" y="5035320"/>
              <a:ext cx="17352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434560" y="4854240"/>
              <a:ext cx="57240" cy="6048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 rot="14290200">
              <a:off x="5438160" y="465120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 rot="14290200">
              <a:off x="5138280" y="4861440"/>
              <a:ext cx="120600" cy="1047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 rot="14290200">
              <a:off x="5406840" y="481248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 rot="14290200">
              <a:off x="5322600" y="450000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 rot="14290200">
              <a:off x="5207760" y="4681080"/>
              <a:ext cx="12024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9" name=""/>
          <p:cNvGrpSpPr/>
          <p:nvPr/>
        </p:nvGrpSpPr>
        <p:grpSpPr>
          <a:xfrm>
            <a:off x="4800600" y="4191120"/>
            <a:ext cx="1905120" cy="1447560"/>
            <a:chOff x="4800600" y="4191120"/>
            <a:chExt cx="1905120" cy="1447560"/>
          </a:xfrm>
        </p:grpSpPr>
        <p:sp>
          <p:nvSpPr>
            <p:cNvPr id="1910" name=""/>
            <p:cNvSpPr/>
            <p:nvPr/>
          </p:nvSpPr>
          <p:spPr>
            <a:xfrm>
              <a:off x="4800600" y="4191120"/>
              <a:ext cx="1905120" cy="144756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rot="15033000">
              <a:off x="6002640" y="4518000"/>
              <a:ext cx="575640" cy="40320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031000" y="4432320"/>
              <a:ext cx="577800" cy="6030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rot="14290200">
              <a:off x="5100480" y="457128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204520" y="5155920"/>
              <a:ext cx="17244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434560" y="4854240"/>
              <a:ext cx="5724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rot="14290200">
              <a:off x="5438160" y="4650840"/>
              <a:ext cx="12060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 rot="14290200">
              <a:off x="5138640" y="4861440"/>
              <a:ext cx="120600" cy="10512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 rot="14290200">
              <a:off x="5406480" y="481212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 rot="14290200">
              <a:off x="5323320" y="4500000"/>
              <a:ext cx="12024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rot="14290200">
              <a:off x="5207040" y="468108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1" name=""/>
            <p:cNvGrpSpPr/>
            <p:nvPr/>
          </p:nvGrpSpPr>
          <p:grpSpPr>
            <a:xfrm>
              <a:off x="5805720" y="4669560"/>
              <a:ext cx="474120" cy="676440"/>
              <a:chOff x="5805720" y="4669560"/>
              <a:chExt cx="474120" cy="676440"/>
            </a:xfrm>
          </p:grpSpPr>
          <p:sp>
            <p:nvSpPr>
              <p:cNvPr id="1922" name=""/>
              <p:cNvSpPr/>
              <p:nvPr/>
            </p:nvSpPr>
            <p:spPr>
              <a:xfrm rot="20790000">
                <a:off x="5852880" y="4862880"/>
                <a:ext cx="246240" cy="434160"/>
              </a:xfrm>
              <a:custGeom>
                <a:avLst/>
                <a:gdLst/>
                <a:ahLst/>
                <a:rect l="l" t="t" r="r" b="b"/>
                <a:pathLst>
                  <a:path w="296" h="428">
                    <a:moveTo>
                      <a:pt x="33" y="59"/>
                    </a:moveTo>
                    <a:cubicBezTo>
                      <a:pt x="60" y="77"/>
                      <a:pt x="92" y="106"/>
                      <a:pt x="123" y="116"/>
                    </a:cubicBezTo>
                    <a:cubicBezTo>
                      <a:pt x="142" y="135"/>
                      <a:pt x="154" y="155"/>
                      <a:pt x="173" y="174"/>
                    </a:cubicBezTo>
                    <a:cubicBezTo>
                      <a:pt x="185" y="211"/>
                      <a:pt x="187" y="238"/>
                      <a:pt x="214" y="264"/>
                    </a:cubicBezTo>
                    <a:cubicBezTo>
                      <a:pt x="231" y="317"/>
                      <a:pt x="219" y="394"/>
                      <a:pt x="255" y="428"/>
                    </a:cubicBezTo>
                    <a:cubicBezTo>
                      <a:pt x="266" y="425"/>
                      <a:pt x="280" y="428"/>
                      <a:pt x="288" y="420"/>
                    </a:cubicBezTo>
                    <a:cubicBezTo>
                      <a:pt x="296" y="412"/>
                      <a:pt x="296" y="398"/>
                      <a:pt x="296" y="387"/>
                    </a:cubicBezTo>
                    <a:cubicBezTo>
                      <a:pt x="296" y="349"/>
                      <a:pt x="295" y="255"/>
                      <a:pt x="271" y="207"/>
                    </a:cubicBezTo>
                    <a:cubicBezTo>
                      <a:pt x="263" y="191"/>
                      <a:pt x="248" y="180"/>
                      <a:pt x="238" y="165"/>
                    </a:cubicBezTo>
                    <a:cubicBezTo>
                      <a:pt x="227" y="133"/>
                      <a:pt x="204" y="108"/>
                      <a:pt x="181" y="83"/>
                    </a:cubicBezTo>
                    <a:cubicBezTo>
                      <a:pt x="168" y="44"/>
                      <a:pt x="129" y="14"/>
                      <a:pt x="91" y="1"/>
                    </a:cubicBezTo>
                    <a:cubicBezTo>
                      <a:pt x="66" y="4"/>
                      <a:pt x="40" y="0"/>
                      <a:pt x="17" y="9"/>
                    </a:cubicBezTo>
                    <a:cubicBezTo>
                      <a:pt x="0" y="16"/>
                      <a:pt x="3" y="59"/>
                      <a:pt x="33" y="59"/>
                    </a:cubicBezTo>
                    <a:close/>
                  </a:path>
                </a:pathLst>
              </a:custGeom>
              <a:solidFill>
                <a:srgbClr val="d5fb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rot="20467800">
                <a:off x="5944320" y="4691160"/>
                <a:ext cx="239400" cy="633240"/>
              </a:xfrm>
              <a:custGeom>
                <a:avLst/>
                <a:gdLst/>
                <a:ahLst/>
                <a:rect l="l" t="t" r="r" b="b"/>
                <a:pathLst>
                  <a:path w="296" h="428">
                    <a:moveTo>
                      <a:pt x="33" y="59"/>
                    </a:moveTo>
                    <a:cubicBezTo>
                      <a:pt x="60" y="77"/>
                      <a:pt x="92" y="106"/>
                      <a:pt x="123" y="116"/>
                    </a:cubicBezTo>
                    <a:cubicBezTo>
                      <a:pt x="142" y="135"/>
                      <a:pt x="154" y="155"/>
                      <a:pt x="173" y="174"/>
                    </a:cubicBezTo>
                    <a:cubicBezTo>
                      <a:pt x="185" y="211"/>
                      <a:pt x="187" y="238"/>
                      <a:pt x="214" y="264"/>
                    </a:cubicBezTo>
                    <a:cubicBezTo>
                      <a:pt x="231" y="317"/>
                      <a:pt x="219" y="394"/>
                      <a:pt x="255" y="428"/>
                    </a:cubicBezTo>
                    <a:cubicBezTo>
                      <a:pt x="266" y="425"/>
                      <a:pt x="280" y="428"/>
                      <a:pt x="288" y="420"/>
                    </a:cubicBezTo>
                    <a:cubicBezTo>
                      <a:pt x="296" y="412"/>
                      <a:pt x="296" y="398"/>
                      <a:pt x="296" y="387"/>
                    </a:cubicBezTo>
                    <a:cubicBezTo>
                      <a:pt x="296" y="349"/>
                      <a:pt x="295" y="255"/>
                      <a:pt x="271" y="207"/>
                    </a:cubicBezTo>
                    <a:cubicBezTo>
                      <a:pt x="263" y="191"/>
                      <a:pt x="248" y="180"/>
                      <a:pt x="238" y="165"/>
                    </a:cubicBezTo>
                    <a:cubicBezTo>
                      <a:pt x="227" y="133"/>
                      <a:pt x="204" y="108"/>
                      <a:pt x="181" y="83"/>
                    </a:cubicBezTo>
                    <a:cubicBezTo>
                      <a:pt x="168" y="44"/>
                      <a:pt x="129" y="14"/>
                      <a:pt x="91" y="1"/>
                    </a:cubicBezTo>
                    <a:cubicBezTo>
                      <a:pt x="66" y="4"/>
                      <a:pt x="40" y="0"/>
                      <a:pt x="17" y="9"/>
                    </a:cubicBezTo>
                    <a:cubicBezTo>
                      <a:pt x="0" y="16"/>
                      <a:pt x="3" y="59"/>
                      <a:pt x="33" y="59"/>
                    </a:cubicBezTo>
                    <a:close/>
                  </a:path>
                </a:pathLst>
              </a:custGeom>
              <a:solidFill>
                <a:srgbClr val="d5fb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4" name=""/>
          <p:cNvGrpSpPr/>
          <p:nvPr/>
        </p:nvGrpSpPr>
        <p:grpSpPr>
          <a:xfrm>
            <a:off x="4800600" y="4191120"/>
            <a:ext cx="1905120" cy="1447560"/>
            <a:chOff x="4800600" y="4191120"/>
            <a:chExt cx="1905120" cy="1447560"/>
          </a:xfrm>
        </p:grpSpPr>
        <p:sp>
          <p:nvSpPr>
            <p:cNvPr id="1925" name=""/>
            <p:cNvSpPr/>
            <p:nvPr/>
          </p:nvSpPr>
          <p:spPr>
            <a:xfrm>
              <a:off x="4800600" y="4191120"/>
              <a:ext cx="1905120" cy="144756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rot="15033000">
              <a:off x="6002640" y="4518000"/>
              <a:ext cx="575640" cy="40320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031000" y="4432320"/>
              <a:ext cx="577800" cy="6030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 rot="14290200">
              <a:off x="5100480" y="457128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204520" y="5155920"/>
              <a:ext cx="17244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434560" y="4854240"/>
              <a:ext cx="5724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 rot="14290200">
              <a:off x="5438160" y="4650840"/>
              <a:ext cx="12060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rot="14290200">
              <a:off x="5138640" y="4861440"/>
              <a:ext cx="120600" cy="10512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rot="14290200">
              <a:off x="5406480" y="481212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 rot="14290200">
              <a:off x="5323320" y="4500000"/>
              <a:ext cx="12024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 rot="14290200">
              <a:off x="5207040" y="468108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rot="20468400">
              <a:off x="5943960" y="4689360"/>
              <a:ext cx="239040" cy="633240"/>
            </a:xfrm>
            <a:custGeom>
              <a:avLst/>
              <a:gdLst/>
              <a:ahLst/>
              <a:rect l="l" t="t" r="r" b="b"/>
              <a:pathLst>
                <a:path w="296" h="428">
                  <a:moveTo>
                    <a:pt x="33" y="59"/>
                  </a:moveTo>
                  <a:cubicBezTo>
                    <a:pt x="60" y="77"/>
                    <a:pt x="92" y="106"/>
                    <a:pt x="123" y="116"/>
                  </a:cubicBezTo>
                  <a:cubicBezTo>
                    <a:pt x="142" y="135"/>
                    <a:pt x="154" y="155"/>
                    <a:pt x="173" y="174"/>
                  </a:cubicBezTo>
                  <a:cubicBezTo>
                    <a:pt x="185" y="211"/>
                    <a:pt x="187" y="238"/>
                    <a:pt x="214" y="264"/>
                  </a:cubicBezTo>
                  <a:cubicBezTo>
                    <a:pt x="231" y="317"/>
                    <a:pt x="219" y="394"/>
                    <a:pt x="255" y="428"/>
                  </a:cubicBezTo>
                  <a:cubicBezTo>
                    <a:pt x="266" y="425"/>
                    <a:pt x="280" y="428"/>
                    <a:pt x="288" y="420"/>
                  </a:cubicBezTo>
                  <a:cubicBezTo>
                    <a:pt x="296" y="412"/>
                    <a:pt x="296" y="398"/>
                    <a:pt x="296" y="387"/>
                  </a:cubicBezTo>
                  <a:cubicBezTo>
                    <a:pt x="296" y="349"/>
                    <a:pt x="295" y="255"/>
                    <a:pt x="271" y="207"/>
                  </a:cubicBezTo>
                  <a:cubicBezTo>
                    <a:pt x="263" y="191"/>
                    <a:pt x="248" y="180"/>
                    <a:pt x="238" y="165"/>
                  </a:cubicBezTo>
                  <a:cubicBezTo>
                    <a:pt x="227" y="133"/>
                    <a:pt x="204" y="108"/>
                    <a:pt x="181" y="83"/>
                  </a:cubicBezTo>
                  <a:cubicBezTo>
                    <a:pt x="168" y="44"/>
                    <a:pt x="129" y="14"/>
                    <a:pt x="91" y="1"/>
                  </a:cubicBezTo>
                  <a:cubicBezTo>
                    <a:pt x="66" y="4"/>
                    <a:pt x="40" y="0"/>
                    <a:pt x="17" y="9"/>
                  </a:cubicBezTo>
                  <a:cubicBezTo>
                    <a:pt x="0" y="16"/>
                    <a:pt x="3" y="59"/>
                    <a:pt x="33" y="59"/>
                  </a:cubicBezTo>
                  <a:close/>
                </a:path>
              </a:pathLst>
            </a:custGeom>
            <a:solidFill>
              <a:srgbClr val="d5fb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609160" y="4914720"/>
              <a:ext cx="461160" cy="4824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38" name=""/>
          <p:cNvGraphicFramePr/>
          <p:nvPr/>
        </p:nvGraphicFramePr>
        <p:xfrm>
          <a:off x="5727600" y="5016600"/>
          <a:ext cx="222480" cy="30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7600" y="5016600"/>
                    <a:ext cx="22248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0" name=""/>
          <p:cNvSpPr/>
          <p:nvPr/>
        </p:nvSpPr>
        <p:spPr>
          <a:xfrm>
            <a:off x="5829480" y="4978440"/>
            <a:ext cx="0" cy="119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1" name=""/>
          <p:cNvGrpSpPr/>
          <p:nvPr/>
        </p:nvGrpSpPr>
        <p:grpSpPr>
          <a:xfrm>
            <a:off x="4800600" y="4191120"/>
            <a:ext cx="1905120" cy="1447560"/>
            <a:chOff x="4800600" y="4191120"/>
            <a:chExt cx="1905120" cy="1447560"/>
          </a:xfrm>
        </p:grpSpPr>
        <p:sp>
          <p:nvSpPr>
            <p:cNvPr id="1942" name=""/>
            <p:cNvSpPr/>
            <p:nvPr/>
          </p:nvSpPr>
          <p:spPr>
            <a:xfrm>
              <a:off x="4800600" y="4191120"/>
              <a:ext cx="1905120" cy="144756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rot="15033000">
              <a:off x="6002640" y="4518000"/>
              <a:ext cx="575640" cy="40320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031360" y="4432320"/>
              <a:ext cx="577440" cy="6030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 rot="14290200">
              <a:off x="5100480" y="457128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204880" y="5155920"/>
              <a:ext cx="17244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434560" y="4854240"/>
              <a:ext cx="5688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rot="14290200">
              <a:off x="5437800" y="465084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rot="14290200">
              <a:off x="5138640" y="4861440"/>
              <a:ext cx="120600" cy="10512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rot="14290200">
              <a:off x="5406840" y="4812120"/>
              <a:ext cx="12060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rot="14290200">
              <a:off x="5322960" y="450036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rot="14290200">
              <a:off x="5207400" y="468108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rot="20468400">
              <a:off x="5944320" y="4689360"/>
              <a:ext cx="239040" cy="633240"/>
            </a:xfrm>
            <a:custGeom>
              <a:avLst/>
              <a:gdLst/>
              <a:ahLst/>
              <a:rect l="l" t="t" r="r" b="b"/>
              <a:pathLst>
                <a:path w="296" h="428">
                  <a:moveTo>
                    <a:pt x="33" y="59"/>
                  </a:moveTo>
                  <a:cubicBezTo>
                    <a:pt x="60" y="77"/>
                    <a:pt x="92" y="106"/>
                    <a:pt x="123" y="116"/>
                  </a:cubicBezTo>
                  <a:cubicBezTo>
                    <a:pt x="142" y="135"/>
                    <a:pt x="154" y="155"/>
                    <a:pt x="173" y="174"/>
                  </a:cubicBezTo>
                  <a:cubicBezTo>
                    <a:pt x="185" y="211"/>
                    <a:pt x="187" y="238"/>
                    <a:pt x="214" y="264"/>
                  </a:cubicBezTo>
                  <a:cubicBezTo>
                    <a:pt x="231" y="317"/>
                    <a:pt x="219" y="394"/>
                    <a:pt x="255" y="428"/>
                  </a:cubicBezTo>
                  <a:cubicBezTo>
                    <a:pt x="266" y="425"/>
                    <a:pt x="280" y="428"/>
                    <a:pt x="288" y="420"/>
                  </a:cubicBezTo>
                  <a:cubicBezTo>
                    <a:pt x="296" y="412"/>
                    <a:pt x="296" y="398"/>
                    <a:pt x="296" y="387"/>
                  </a:cubicBezTo>
                  <a:cubicBezTo>
                    <a:pt x="296" y="349"/>
                    <a:pt x="295" y="255"/>
                    <a:pt x="271" y="207"/>
                  </a:cubicBezTo>
                  <a:cubicBezTo>
                    <a:pt x="263" y="191"/>
                    <a:pt x="248" y="180"/>
                    <a:pt x="238" y="165"/>
                  </a:cubicBezTo>
                  <a:cubicBezTo>
                    <a:pt x="227" y="133"/>
                    <a:pt x="204" y="108"/>
                    <a:pt x="181" y="83"/>
                  </a:cubicBezTo>
                  <a:cubicBezTo>
                    <a:pt x="168" y="44"/>
                    <a:pt x="129" y="14"/>
                    <a:pt x="91" y="1"/>
                  </a:cubicBezTo>
                  <a:cubicBezTo>
                    <a:pt x="66" y="4"/>
                    <a:pt x="40" y="0"/>
                    <a:pt x="17" y="9"/>
                  </a:cubicBezTo>
                  <a:cubicBezTo>
                    <a:pt x="0" y="16"/>
                    <a:pt x="3" y="59"/>
                    <a:pt x="33" y="59"/>
                  </a:cubicBezTo>
                  <a:close/>
                </a:path>
              </a:pathLst>
            </a:custGeom>
            <a:solidFill>
              <a:srgbClr val="d5fb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589720" y="4884480"/>
              <a:ext cx="461520" cy="4824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5" name=""/>
            <p:cNvGraphicFramePr/>
            <p:nvPr/>
          </p:nvGraphicFramePr>
          <p:xfrm>
            <a:off x="5733720" y="4985280"/>
            <a:ext cx="216720" cy="301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33720" y="4985280"/>
                      <a:ext cx="216720" cy="30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57" name=""/>
            <p:cNvSpPr/>
            <p:nvPr/>
          </p:nvSpPr>
          <p:spPr>
            <a:xfrm>
              <a:off x="5839920" y="4934520"/>
              <a:ext cx="0" cy="120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8" name=""/>
          <p:cNvGrpSpPr/>
          <p:nvPr/>
        </p:nvGrpSpPr>
        <p:grpSpPr>
          <a:xfrm>
            <a:off x="4800600" y="4191120"/>
            <a:ext cx="1905120" cy="1447560"/>
            <a:chOff x="4800600" y="4191120"/>
            <a:chExt cx="1905120" cy="1447560"/>
          </a:xfrm>
        </p:grpSpPr>
        <p:sp>
          <p:nvSpPr>
            <p:cNvPr id="1959" name=""/>
            <p:cNvSpPr/>
            <p:nvPr/>
          </p:nvSpPr>
          <p:spPr>
            <a:xfrm>
              <a:off x="4800600" y="4191120"/>
              <a:ext cx="1905120" cy="144756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 rot="15033000">
              <a:off x="6002640" y="4518000"/>
              <a:ext cx="575640" cy="40320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031000" y="4432320"/>
              <a:ext cx="577800" cy="6030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rot="14290200">
              <a:off x="5100120" y="457092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204520" y="5155920"/>
              <a:ext cx="17244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434560" y="4854600"/>
              <a:ext cx="5724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rot="14290200">
              <a:off x="5438520" y="4650840"/>
              <a:ext cx="12024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rot="14290200">
              <a:off x="5138640" y="4862160"/>
              <a:ext cx="120240" cy="10512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rot="14290200">
              <a:off x="5406480" y="481212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rot="14290200">
              <a:off x="5322960" y="4500000"/>
              <a:ext cx="12060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rot="14290200">
              <a:off x="5207040" y="468108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rot="20468400">
              <a:off x="5943960" y="4689360"/>
              <a:ext cx="239040" cy="632880"/>
            </a:xfrm>
            <a:custGeom>
              <a:avLst/>
              <a:gdLst/>
              <a:ahLst/>
              <a:rect l="l" t="t" r="r" b="b"/>
              <a:pathLst>
                <a:path w="296" h="428">
                  <a:moveTo>
                    <a:pt x="33" y="59"/>
                  </a:moveTo>
                  <a:cubicBezTo>
                    <a:pt x="60" y="77"/>
                    <a:pt x="92" y="106"/>
                    <a:pt x="123" y="116"/>
                  </a:cubicBezTo>
                  <a:cubicBezTo>
                    <a:pt x="142" y="135"/>
                    <a:pt x="154" y="155"/>
                    <a:pt x="173" y="174"/>
                  </a:cubicBezTo>
                  <a:cubicBezTo>
                    <a:pt x="185" y="211"/>
                    <a:pt x="187" y="238"/>
                    <a:pt x="214" y="264"/>
                  </a:cubicBezTo>
                  <a:cubicBezTo>
                    <a:pt x="231" y="317"/>
                    <a:pt x="219" y="394"/>
                    <a:pt x="255" y="428"/>
                  </a:cubicBezTo>
                  <a:cubicBezTo>
                    <a:pt x="266" y="425"/>
                    <a:pt x="280" y="428"/>
                    <a:pt x="288" y="420"/>
                  </a:cubicBezTo>
                  <a:cubicBezTo>
                    <a:pt x="296" y="412"/>
                    <a:pt x="296" y="398"/>
                    <a:pt x="296" y="387"/>
                  </a:cubicBezTo>
                  <a:cubicBezTo>
                    <a:pt x="296" y="349"/>
                    <a:pt x="295" y="255"/>
                    <a:pt x="271" y="207"/>
                  </a:cubicBezTo>
                  <a:cubicBezTo>
                    <a:pt x="263" y="191"/>
                    <a:pt x="248" y="180"/>
                    <a:pt x="238" y="165"/>
                  </a:cubicBezTo>
                  <a:cubicBezTo>
                    <a:pt x="227" y="133"/>
                    <a:pt x="204" y="108"/>
                    <a:pt x="181" y="83"/>
                  </a:cubicBezTo>
                  <a:cubicBezTo>
                    <a:pt x="168" y="44"/>
                    <a:pt x="129" y="14"/>
                    <a:pt x="91" y="1"/>
                  </a:cubicBezTo>
                  <a:cubicBezTo>
                    <a:pt x="66" y="4"/>
                    <a:pt x="40" y="0"/>
                    <a:pt x="17" y="9"/>
                  </a:cubicBezTo>
                  <a:cubicBezTo>
                    <a:pt x="0" y="16"/>
                    <a:pt x="3" y="59"/>
                    <a:pt x="33" y="59"/>
                  </a:cubicBezTo>
                  <a:close/>
                </a:path>
              </a:pathLst>
            </a:custGeom>
            <a:solidFill>
              <a:srgbClr val="d5fb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560920" y="4854600"/>
              <a:ext cx="461520" cy="4824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72" name=""/>
            <p:cNvGraphicFramePr/>
            <p:nvPr/>
          </p:nvGraphicFramePr>
          <p:xfrm>
            <a:off x="5704920" y="4955400"/>
            <a:ext cx="216720" cy="301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7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04920" y="4955400"/>
                      <a:ext cx="216720" cy="30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74" name=""/>
            <p:cNvSpPr/>
            <p:nvPr/>
          </p:nvSpPr>
          <p:spPr>
            <a:xfrm>
              <a:off x="5811120" y="4904280"/>
              <a:ext cx="0" cy="120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5" name=""/>
          <p:cNvGrpSpPr/>
          <p:nvPr/>
        </p:nvGrpSpPr>
        <p:grpSpPr>
          <a:xfrm>
            <a:off x="4800600" y="4191120"/>
            <a:ext cx="1905120" cy="1447560"/>
            <a:chOff x="4800600" y="4191120"/>
            <a:chExt cx="1905120" cy="1447560"/>
          </a:xfrm>
        </p:grpSpPr>
        <p:sp>
          <p:nvSpPr>
            <p:cNvPr id="1976" name=""/>
            <p:cNvSpPr/>
            <p:nvPr/>
          </p:nvSpPr>
          <p:spPr>
            <a:xfrm>
              <a:off x="4800600" y="4191120"/>
              <a:ext cx="1905120" cy="144756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rot="15033000">
              <a:off x="6002640" y="4518000"/>
              <a:ext cx="575640" cy="40320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031000" y="4432320"/>
              <a:ext cx="577800" cy="6030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 rot="14290200">
              <a:off x="5100480" y="457128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204520" y="5156280"/>
              <a:ext cx="17244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434560" y="4854240"/>
              <a:ext cx="57240" cy="6048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rot="14290200">
              <a:off x="5438520" y="4650840"/>
              <a:ext cx="12024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rot="14290200">
              <a:off x="5138640" y="4861440"/>
              <a:ext cx="120600" cy="10512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rot="14290200">
              <a:off x="5406840" y="481248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rot="14290200">
              <a:off x="5322960" y="4500000"/>
              <a:ext cx="12060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rot="14290200">
              <a:off x="5207400" y="468144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rot="20468400">
              <a:off x="5943960" y="4689720"/>
              <a:ext cx="239040" cy="633240"/>
            </a:xfrm>
            <a:custGeom>
              <a:avLst/>
              <a:gdLst/>
              <a:ahLst/>
              <a:rect l="l" t="t" r="r" b="b"/>
              <a:pathLst>
                <a:path w="296" h="428">
                  <a:moveTo>
                    <a:pt x="33" y="59"/>
                  </a:moveTo>
                  <a:cubicBezTo>
                    <a:pt x="60" y="77"/>
                    <a:pt x="92" y="106"/>
                    <a:pt x="123" y="116"/>
                  </a:cubicBezTo>
                  <a:cubicBezTo>
                    <a:pt x="142" y="135"/>
                    <a:pt x="154" y="155"/>
                    <a:pt x="173" y="174"/>
                  </a:cubicBezTo>
                  <a:cubicBezTo>
                    <a:pt x="185" y="211"/>
                    <a:pt x="187" y="238"/>
                    <a:pt x="214" y="264"/>
                  </a:cubicBezTo>
                  <a:cubicBezTo>
                    <a:pt x="231" y="317"/>
                    <a:pt x="219" y="394"/>
                    <a:pt x="255" y="428"/>
                  </a:cubicBezTo>
                  <a:cubicBezTo>
                    <a:pt x="266" y="425"/>
                    <a:pt x="280" y="428"/>
                    <a:pt x="288" y="420"/>
                  </a:cubicBezTo>
                  <a:cubicBezTo>
                    <a:pt x="296" y="412"/>
                    <a:pt x="296" y="398"/>
                    <a:pt x="296" y="387"/>
                  </a:cubicBezTo>
                  <a:cubicBezTo>
                    <a:pt x="296" y="349"/>
                    <a:pt x="295" y="255"/>
                    <a:pt x="271" y="207"/>
                  </a:cubicBezTo>
                  <a:cubicBezTo>
                    <a:pt x="263" y="191"/>
                    <a:pt x="248" y="180"/>
                    <a:pt x="238" y="165"/>
                  </a:cubicBezTo>
                  <a:cubicBezTo>
                    <a:pt x="227" y="133"/>
                    <a:pt x="204" y="108"/>
                    <a:pt x="181" y="83"/>
                  </a:cubicBezTo>
                  <a:cubicBezTo>
                    <a:pt x="168" y="44"/>
                    <a:pt x="129" y="14"/>
                    <a:pt x="91" y="1"/>
                  </a:cubicBezTo>
                  <a:cubicBezTo>
                    <a:pt x="66" y="4"/>
                    <a:pt x="40" y="0"/>
                    <a:pt x="17" y="9"/>
                  </a:cubicBezTo>
                  <a:cubicBezTo>
                    <a:pt x="0" y="16"/>
                    <a:pt x="3" y="59"/>
                    <a:pt x="33" y="59"/>
                  </a:cubicBezTo>
                  <a:close/>
                </a:path>
              </a:pathLst>
            </a:custGeom>
            <a:solidFill>
              <a:srgbClr val="d5fb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531400" y="4824360"/>
              <a:ext cx="462240" cy="4824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89" name=""/>
            <p:cNvGraphicFramePr/>
            <p:nvPr/>
          </p:nvGraphicFramePr>
          <p:xfrm>
            <a:off x="5676480" y="4925160"/>
            <a:ext cx="216000" cy="301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9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676480" y="4925160"/>
                      <a:ext cx="216000" cy="30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91" name=""/>
            <p:cNvSpPr/>
            <p:nvPr/>
          </p:nvSpPr>
          <p:spPr>
            <a:xfrm>
              <a:off x="5781600" y="4874400"/>
              <a:ext cx="0" cy="120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2" name=""/>
          <p:cNvGrpSpPr/>
          <p:nvPr/>
        </p:nvGrpSpPr>
        <p:grpSpPr>
          <a:xfrm>
            <a:off x="4800600" y="4191120"/>
            <a:ext cx="1905120" cy="1447560"/>
            <a:chOff x="4800600" y="4191120"/>
            <a:chExt cx="1905120" cy="1447560"/>
          </a:xfrm>
        </p:grpSpPr>
        <p:sp>
          <p:nvSpPr>
            <p:cNvPr id="1993" name=""/>
            <p:cNvSpPr/>
            <p:nvPr/>
          </p:nvSpPr>
          <p:spPr>
            <a:xfrm>
              <a:off x="4800600" y="4191120"/>
              <a:ext cx="1905120" cy="144756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rot="15033000">
              <a:off x="6002640" y="4518000"/>
              <a:ext cx="575640" cy="40320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031000" y="4432320"/>
              <a:ext cx="577800" cy="6030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rot="14290200">
              <a:off x="5100120" y="457092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204520" y="5155920"/>
              <a:ext cx="17244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434560" y="4854600"/>
              <a:ext cx="5724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rot="14290200">
              <a:off x="5438160" y="465120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rot="14290200">
              <a:off x="5138640" y="4861800"/>
              <a:ext cx="120240" cy="1047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rot="14290200">
              <a:off x="5406480" y="481212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rot="14290200">
              <a:off x="5322600" y="450000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rot="14290200">
              <a:off x="5207400" y="4681080"/>
              <a:ext cx="12060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rot="20468400">
              <a:off x="5944320" y="4689360"/>
              <a:ext cx="239040" cy="632880"/>
            </a:xfrm>
            <a:custGeom>
              <a:avLst/>
              <a:gdLst/>
              <a:ahLst/>
              <a:rect l="l" t="t" r="r" b="b"/>
              <a:pathLst>
                <a:path w="296" h="428">
                  <a:moveTo>
                    <a:pt x="33" y="59"/>
                  </a:moveTo>
                  <a:cubicBezTo>
                    <a:pt x="60" y="77"/>
                    <a:pt x="92" y="106"/>
                    <a:pt x="123" y="116"/>
                  </a:cubicBezTo>
                  <a:cubicBezTo>
                    <a:pt x="142" y="135"/>
                    <a:pt x="154" y="155"/>
                    <a:pt x="173" y="174"/>
                  </a:cubicBezTo>
                  <a:cubicBezTo>
                    <a:pt x="185" y="211"/>
                    <a:pt x="187" y="238"/>
                    <a:pt x="214" y="264"/>
                  </a:cubicBezTo>
                  <a:cubicBezTo>
                    <a:pt x="231" y="317"/>
                    <a:pt x="219" y="394"/>
                    <a:pt x="255" y="428"/>
                  </a:cubicBezTo>
                  <a:cubicBezTo>
                    <a:pt x="266" y="425"/>
                    <a:pt x="280" y="428"/>
                    <a:pt x="288" y="420"/>
                  </a:cubicBezTo>
                  <a:cubicBezTo>
                    <a:pt x="296" y="412"/>
                    <a:pt x="296" y="398"/>
                    <a:pt x="296" y="387"/>
                  </a:cubicBezTo>
                  <a:cubicBezTo>
                    <a:pt x="296" y="349"/>
                    <a:pt x="295" y="255"/>
                    <a:pt x="271" y="207"/>
                  </a:cubicBezTo>
                  <a:cubicBezTo>
                    <a:pt x="263" y="191"/>
                    <a:pt x="248" y="180"/>
                    <a:pt x="238" y="165"/>
                  </a:cubicBezTo>
                  <a:cubicBezTo>
                    <a:pt x="227" y="133"/>
                    <a:pt x="204" y="108"/>
                    <a:pt x="181" y="83"/>
                  </a:cubicBezTo>
                  <a:cubicBezTo>
                    <a:pt x="168" y="44"/>
                    <a:pt x="129" y="14"/>
                    <a:pt x="91" y="1"/>
                  </a:cubicBezTo>
                  <a:cubicBezTo>
                    <a:pt x="66" y="4"/>
                    <a:pt x="40" y="0"/>
                    <a:pt x="17" y="9"/>
                  </a:cubicBezTo>
                  <a:cubicBezTo>
                    <a:pt x="0" y="16"/>
                    <a:pt x="3" y="59"/>
                    <a:pt x="33" y="59"/>
                  </a:cubicBezTo>
                  <a:close/>
                </a:path>
              </a:pathLst>
            </a:custGeom>
            <a:solidFill>
              <a:srgbClr val="d5fb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5502960" y="4794120"/>
              <a:ext cx="461520" cy="48204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06" name=""/>
            <p:cNvGraphicFramePr/>
            <p:nvPr/>
          </p:nvGraphicFramePr>
          <p:xfrm>
            <a:off x="5646960" y="4894920"/>
            <a:ext cx="216720" cy="301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0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646960" y="4894920"/>
                      <a:ext cx="216720" cy="30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08" name=""/>
            <p:cNvSpPr/>
            <p:nvPr/>
          </p:nvSpPr>
          <p:spPr>
            <a:xfrm>
              <a:off x="5753160" y="4844160"/>
              <a:ext cx="0" cy="120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9" name=""/>
          <p:cNvGrpSpPr/>
          <p:nvPr/>
        </p:nvGrpSpPr>
        <p:grpSpPr>
          <a:xfrm>
            <a:off x="4788000" y="4102200"/>
            <a:ext cx="1917720" cy="1600200"/>
            <a:chOff x="4788000" y="4102200"/>
            <a:chExt cx="1917720" cy="1600200"/>
          </a:xfrm>
        </p:grpSpPr>
        <p:sp>
          <p:nvSpPr>
            <p:cNvPr id="2010" name=""/>
            <p:cNvSpPr/>
            <p:nvPr/>
          </p:nvSpPr>
          <p:spPr>
            <a:xfrm>
              <a:off x="4788000" y="4102200"/>
              <a:ext cx="1917720" cy="160020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 rot="15033000">
              <a:off x="5969160" y="4484160"/>
              <a:ext cx="636480" cy="40572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020200" y="4368960"/>
              <a:ext cx="581760" cy="66672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 rot="14290200">
              <a:off x="5083920" y="4527720"/>
              <a:ext cx="133200" cy="1047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194800" y="5168880"/>
              <a:ext cx="173520" cy="19980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425920" y="4835520"/>
              <a:ext cx="57600" cy="6660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 rot="14290200">
              <a:off x="5423760" y="4615920"/>
              <a:ext cx="133200" cy="1047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 rot="14290200">
              <a:off x="5122440" y="4849200"/>
              <a:ext cx="133200" cy="10548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 rot="14290200">
              <a:off x="5392440" y="4794120"/>
              <a:ext cx="133200" cy="1047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 rot="14290200">
              <a:off x="5307840" y="4449600"/>
              <a:ext cx="133200" cy="1047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 rot="14290200">
              <a:off x="5191920" y="4649040"/>
              <a:ext cx="133200" cy="10512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rot="20468400">
              <a:off x="5939280" y="4652640"/>
              <a:ext cx="240480" cy="700200"/>
            </a:xfrm>
            <a:custGeom>
              <a:avLst/>
              <a:gdLst/>
              <a:ahLst/>
              <a:rect l="l" t="t" r="r" b="b"/>
              <a:pathLst>
                <a:path w="296" h="428">
                  <a:moveTo>
                    <a:pt x="33" y="59"/>
                  </a:moveTo>
                  <a:cubicBezTo>
                    <a:pt x="60" y="77"/>
                    <a:pt x="92" y="106"/>
                    <a:pt x="123" y="116"/>
                  </a:cubicBezTo>
                  <a:cubicBezTo>
                    <a:pt x="142" y="135"/>
                    <a:pt x="154" y="155"/>
                    <a:pt x="173" y="174"/>
                  </a:cubicBezTo>
                  <a:cubicBezTo>
                    <a:pt x="185" y="211"/>
                    <a:pt x="187" y="238"/>
                    <a:pt x="214" y="264"/>
                  </a:cubicBezTo>
                  <a:cubicBezTo>
                    <a:pt x="231" y="317"/>
                    <a:pt x="219" y="394"/>
                    <a:pt x="255" y="428"/>
                  </a:cubicBezTo>
                  <a:cubicBezTo>
                    <a:pt x="266" y="425"/>
                    <a:pt x="280" y="428"/>
                    <a:pt x="288" y="420"/>
                  </a:cubicBezTo>
                  <a:cubicBezTo>
                    <a:pt x="296" y="412"/>
                    <a:pt x="296" y="398"/>
                    <a:pt x="296" y="387"/>
                  </a:cubicBezTo>
                  <a:cubicBezTo>
                    <a:pt x="296" y="349"/>
                    <a:pt x="295" y="255"/>
                    <a:pt x="271" y="207"/>
                  </a:cubicBezTo>
                  <a:cubicBezTo>
                    <a:pt x="263" y="191"/>
                    <a:pt x="248" y="180"/>
                    <a:pt x="238" y="165"/>
                  </a:cubicBezTo>
                  <a:cubicBezTo>
                    <a:pt x="227" y="133"/>
                    <a:pt x="204" y="108"/>
                    <a:pt x="181" y="83"/>
                  </a:cubicBezTo>
                  <a:cubicBezTo>
                    <a:pt x="168" y="44"/>
                    <a:pt x="129" y="14"/>
                    <a:pt x="91" y="1"/>
                  </a:cubicBezTo>
                  <a:cubicBezTo>
                    <a:pt x="66" y="4"/>
                    <a:pt x="40" y="0"/>
                    <a:pt x="17" y="9"/>
                  </a:cubicBezTo>
                  <a:cubicBezTo>
                    <a:pt x="0" y="16"/>
                    <a:pt x="3" y="59"/>
                    <a:pt x="33" y="59"/>
                  </a:cubicBezTo>
                  <a:close/>
                </a:path>
              </a:pathLst>
            </a:custGeom>
            <a:solidFill>
              <a:srgbClr val="d5fb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412240" y="4702320"/>
              <a:ext cx="464400" cy="53316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23" name=""/>
            <p:cNvGraphicFramePr/>
            <p:nvPr/>
          </p:nvGraphicFramePr>
          <p:xfrm>
            <a:off x="5545800" y="4852080"/>
            <a:ext cx="218160" cy="333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02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545800" y="4852080"/>
                      <a:ext cx="218160" cy="33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25" name=""/>
            <p:cNvSpPr/>
            <p:nvPr/>
          </p:nvSpPr>
          <p:spPr>
            <a:xfrm flipH="1">
              <a:off x="5647680" y="4865400"/>
              <a:ext cx="3960" cy="63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26" name=""/>
          <p:cNvGraphicFramePr/>
          <p:nvPr/>
        </p:nvGraphicFramePr>
        <p:xfrm>
          <a:off x="4724280" y="4114800"/>
          <a:ext cx="1981440" cy="1600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2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4280" y="4114800"/>
                    <a:ext cx="19814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28" name=""/>
          <p:cNvGrpSpPr/>
          <p:nvPr/>
        </p:nvGrpSpPr>
        <p:grpSpPr>
          <a:xfrm>
            <a:off x="4724280" y="4127400"/>
            <a:ext cx="2057400" cy="1600200"/>
            <a:chOff x="4724280" y="4127400"/>
            <a:chExt cx="2057400" cy="1600200"/>
          </a:xfrm>
        </p:grpSpPr>
        <p:graphicFrame>
          <p:nvGraphicFramePr>
            <p:cNvPr id="2029" name=""/>
            <p:cNvGraphicFramePr/>
            <p:nvPr/>
          </p:nvGraphicFramePr>
          <p:xfrm>
            <a:off x="4724280" y="4127400"/>
            <a:ext cx="2057400" cy="16002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030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724280" y="4127400"/>
                      <a:ext cx="205740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1" name=""/>
            <p:cNvSpPr/>
            <p:nvPr/>
          </p:nvSpPr>
          <p:spPr>
            <a:xfrm rot="8868000">
              <a:off x="5259240" y="4426200"/>
              <a:ext cx="123120" cy="1245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 rot="8868000">
              <a:off x="5053320" y="4592520"/>
              <a:ext cx="123120" cy="1245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 rot="8868000">
              <a:off x="5670720" y="4842000"/>
              <a:ext cx="123120" cy="1245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rot="8868000">
              <a:off x="5615640" y="5029200"/>
              <a:ext cx="123120" cy="1245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rot="8868000">
              <a:off x="5094360" y="4800600"/>
              <a:ext cx="123120" cy="1245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rot="8868000">
              <a:off x="5505840" y="4883760"/>
              <a:ext cx="123120" cy="1245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7" name=""/>
          <p:cNvGrpSpPr/>
          <p:nvPr/>
        </p:nvGrpSpPr>
        <p:grpSpPr>
          <a:xfrm>
            <a:off x="4724280" y="4114800"/>
            <a:ext cx="2057400" cy="1600200"/>
            <a:chOff x="4724280" y="4114800"/>
            <a:chExt cx="2057400" cy="1600200"/>
          </a:xfrm>
        </p:grpSpPr>
        <p:graphicFrame>
          <p:nvGraphicFramePr>
            <p:cNvPr id="2038" name=""/>
            <p:cNvGraphicFramePr/>
            <p:nvPr/>
          </p:nvGraphicFramePr>
          <p:xfrm>
            <a:off x="4724280" y="4114800"/>
            <a:ext cx="2057400" cy="16002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039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724280" y="4114800"/>
                      <a:ext cx="205740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0" name=""/>
            <p:cNvSpPr/>
            <p:nvPr/>
          </p:nvSpPr>
          <p:spPr>
            <a:xfrm rot="8868000">
              <a:off x="5373000" y="4527720"/>
              <a:ext cx="95760" cy="921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rot="8868000">
              <a:off x="5195520" y="4470480"/>
              <a:ext cx="95760" cy="932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rot="8868000">
              <a:off x="5520240" y="4802760"/>
              <a:ext cx="95400" cy="921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rot="8868000">
              <a:off x="5137200" y="4754880"/>
              <a:ext cx="94320" cy="932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rot="8868000">
              <a:off x="5018760" y="4584240"/>
              <a:ext cx="95760" cy="932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 rot="8868000">
              <a:off x="5373000" y="4925520"/>
              <a:ext cx="95760" cy="921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4724280" y="4114800"/>
            <a:ext cx="2057040" cy="1600200"/>
            <a:chOff x="4724280" y="4114800"/>
            <a:chExt cx="2057040" cy="1600200"/>
          </a:xfrm>
        </p:grpSpPr>
        <p:graphicFrame>
          <p:nvGraphicFramePr>
            <p:cNvPr id="2047" name=""/>
            <p:cNvGraphicFramePr/>
            <p:nvPr/>
          </p:nvGraphicFramePr>
          <p:xfrm>
            <a:off x="4724280" y="4114800"/>
            <a:ext cx="2057040" cy="16002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048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724280" y="4114800"/>
                      <a:ext cx="205704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9" name=""/>
            <p:cNvSpPr/>
            <p:nvPr/>
          </p:nvSpPr>
          <p:spPr>
            <a:xfrm rot="8868000">
              <a:off x="5194080" y="4419720"/>
              <a:ext cx="97560" cy="936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 rot="8868000">
              <a:off x="5350680" y="4494960"/>
              <a:ext cx="99360" cy="939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rot="8868000">
              <a:off x="5429160" y="4648320"/>
              <a:ext cx="97560" cy="936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 rot="8868000">
              <a:off x="5037120" y="4723920"/>
              <a:ext cx="97920" cy="939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rot="8868000">
              <a:off x="5037120" y="4572000"/>
              <a:ext cx="97920" cy="936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 rot="8868000">
              <a:off x="5272200" y="4800600"/>
              <a:ext cx="97920" cy="921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5" name=""/>
          <p:cNvGrpSpPr/>
          <p:nvPr/>
        </p:nvGrpSpPr>
        <p:grpSpPr>
          <a:xfrm>
            <a:off x="4724280" y="4114800"/>
            <a:ext cx="2057400" cy="1600200"/>
            <a:chOff x="4724280" y="4114800"/>
            <a:chExt cx="2057400" cy="1600200"/>
          </a:xfrm>
        </p:grpSpPr>
        <p:graphicFrame>
          <p:nvGraphicFramePr>
            <p:cNvPr id="2056" name=""/>
            <p:cNvGraphicFramePr/>
            <p:nvPr/>
          </p:nvGraphicFramePr>
          <p:xfrm>
            <a:off x="4724280" y="4114800"/>
            <a:ext cx="2057400" cy="16002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057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724280" y="4114800"/>
                      <a:ext cx="205740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58" name=""/>
            <p:cNvSpPr/>
            <p:nvPr/>
          </p:nvSpPr>
          <p:spPr>
            <a:xfrm rot="6715800">
              <a:off x="5256360" y="4559760"/>
              <a:ext cx="98280" cy="939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59" name=""/>
          <p:cNvGraphicFramePr/>
          <p:nvPr/>
        </p:nvGraphicFramePr>
        <p:xfrm>
          <a:off x="4705200" y="4121280"/>
          <a:ext cx="2076480" cy="15811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06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705200" y="4121280"/>
                    <a:ext cx="207648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1" name=""/>
          <p:cNvGraphicFramePr/>
          <p:nvPr/>
        </p:nvGraphicFramePr>
        <p:xfrm>
          <a:off x="4724280" y="4114800"/>
          <a:ext cx="2057400" cy="15908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06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724280" y="4114800"/>
                    <a:ext cx="205740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3" name=""/>
          <p:cNvGraphicFramePr/>
          <p:nvPr/>
        </p:nvGraphicFramePr>
        <p:xfrm>
          <a:off x="4724280" y="4114800"/>
          <a:ext cx="2057400" cy="1600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06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724280" y="4114800"/>
                    <a:ext cx="20574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5" name=""/>
          <p:cNvGraphicFramePr/>
          <p:nvPr/>
        </p:nvGraphicFramePr>
        <p:xfrm>
          <a:off x="4714920" y="4124160"/>
          <a:ext cx="2066760" cy="15908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066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714920" y="4124160"/>
                    <a:ext cx="206676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7" name=""/>
          <p:cNvGraphicFramePr/>
          <p:nvPr/>
        </p:nvGraphicFramePr>
        <p:xfrm>
          <a:off x="4737240" y="4124160"/>
          <a:ext cx="2047680" cy="15908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068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737240" y="4124160"/>
                    <a:ext cx="204768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9" name=""/>
          <p:cNvGraphicFramePr/>
          <p:nvPr/>
        </p:nvGraphicFramePr>
        <p:xfrm>
          <a:off x="4737240" y="4076640"/>
          <a:ext cx="2047680" cy="16383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070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737240" y="4076640"/>
                    <a:ext cx="20476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1" name=""/>
          <p:cNvGraphicFramePr/>
          <p:nvPr/>
        </p:nvGraphicFramePr>
        <p:xfrm>
          <a:off x="4724280" y="3828960"/>
          <a:ext cx="2057400" cy="18860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72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724280" y="3828960"/>
                    <a:ext cx="205740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73" name=""/>
          <p:cNvGrpSpPr/>
          <p:nvPr/>
        </p:nvGrpSpPr>
        <p:grpSpPr>
          <a:xfrm>
            <a:off x="5037480" y="0"/>
            <a:ext cx="1658880" cy="1658880"/>
            <a:chOff x="5037480" y="0"/>
            <a:chExt cx="1658880" cy="1658880"/>
          </a:xfrm>
        </p:grpSpPr>
        <p:grpSp>
          <p:nvGrpSpPr>
            <p:cNvPr id="2074" name=""/>
            <p:cNvGrpSpPr/>
            <p:nvPr/>
          </p:nvGrpSpPr>
          <p:grpSpPr>
            <a:xfrm>
              <a:off x="5037480" y="0"/>
              <a:ext cx="1658880" cy="1658880"/>
              <a:chOff x="5037480" y="0"/>
              <a:chExt cx="1658880" cy="1658880"/>
            </a:xfrm>
          </p:grpSpPr>
          <p:sp>
            <p:nvSpPr>
              <p:cNvPr id="2075" name=""/>
              <p:cNvSpPr/>
              <p:nvPr/>
            </p:nvSpPr>
            <p:spPr>
              <a:xfrm rot="1751400">
                <a:off x="5257440" y="21960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 rot="1751400">
                <a:off x="5367960" y="32544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7" name=""/>
            <p:cNvGrpSpPr/>
            <p:nvPr/>
          </p:nvGrpSpPr>
          <p:grpSpPr>
            <a:xfrm>
              <a:off x="5056200" y="746640"/>
              <a:ext cx="317520" cy="392400"/>
              <a:chOff x="5056200" y="746640"/>
              <a:chExt cx="317520" cy="392400"/>
            </a:xfrm>
          </p:grpSpPr>
          <p:sp>
            <p:nvSpPr>
              <p:cNvPr id="2078" name=""/>
              <p:cNvSpPr/>
              <p:nvPr/>
            </p:nvSpPr>
            <p:spPr>
              <a:xfrm rot="4956600">
                <a:off x="5113440" y="71496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rot="14295600">
                <a:off x="5132880" y="86616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0" name=""/>
            <p:cNvSpPr/>
            <p:nvPr/>
          </p:nvSpPr>
          <p:spPr>
            <a:xfrm rot="1751400">
              <a:off x="5411880" y="6570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1" name=""/>
          <p:cNvGrpSpPr/>
          <p:nvPr/>
        </p:nvGrpSpPr>
        <p:grpSpPr>
          <a:xfrm>
            <a:off x="4782960" y="295920"/>
            <a:ext cx="1646280" cy="1646280"/>
            <a:chOff x="4782960" y="295920"/>
            <a:chExt cx="1646280" cy="1646280"/>
          </a:xfrm>
        </p:grpSpPr>
        <p:grpSp>
          <p:nvGrpSpPr>
            <p:cNvPr id="2082" name=""/>
            <p:cNvGrpSpPr/>
            <p:nvPr/>
          </p:nvGrpSpPr>
          <p:grpSpPr>
            <a:xfrm>
              <a:off x="4782960" y="295920"/>
              <a:ext cx="1646280" cy="1646280"/>
              <a:chOff x="4782960" y="295920"/>
              <a:chExt cx="1646280" cy="1646280"/>
            </a:xfrm>
          </p:grpSpPr>
          <p:sp>
            <p:nvSpPr>
              <p:cNvPr id="2083" name=""/>
              <p:cNvSpPr/>
              <p:nvPr/>
            </p:nvSpPr>
            <p:spPr>
              <a:xfrm rot="19936800">
                <a:off x="4996440" y="50940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 rot="19936800">
                <a:off x="5106960" y="61524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5" name=""/>
            <p:cNvGrpSpPr/>
            <p:nvPr/>
          </p:nvGrpSpPr>
          <p:grpSpPr>
            <a:xfrm>
              <a:off x="5122800" y="1533960"/>
              <a:ext cx="357120" cy="354960"/>
              <a:chOff x="5122800" y="1533960"/>
              <a:chExt cx="357120" cy="354960"/>
            </a:xfrm>
          </p:grpSpPr>
          <p:sp>
            <p:nvSpPr>
              <p:cNvPr id="2086" name=""/>
              <p:cNvSpPr/>
              <p:nvPr/>
            </p:nvSpPr>
            <p:spPr>
              <a:xfrm rot="1542000">
                <a:off x="5171400" y="155736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 rot="10881600">
                <a:off x="5308200" y="162324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8" name=""/>
            <p:cNvSpPr/>
            <p:nvPr/>
          </p:nvSpPr>
          <p:spPr>
            <a:xfrm rot="19936800">
              <a:off x="5155200" y="90036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9" name=""/>
          <p:cNvGrpSpPr/>
          <p:nvPr/>
        </p:nvGrpSpPr>
        <p:grpSpPr>
          <a:xfrm>
            <a:off x="4755600" y="863640"/>
            <a:ext cx="1420200" cy="1492920"/>
            <a:chOff x="4755600" y="863640"/>
            <a:chExt cx="1420200" cy="1492920"/>
          </a:xfrm>
        </p:grpSpPr>
        <p:grpSp>
          <p:nvGrpSpPr>
            <p:cNvPr id="2090" name=""/>
            <p:cNvGrpSpPr/>
            <p:nvPr/>
          </p:nvGrpSpPr>
          <p:grpSpPr>
            <a:xfrm>
              <a:off x="4755600" y="863640"/>
              <a:ext cx="1420200" cy="1419840"/>
              <a:chOff x="4755600" y="863640"/>
              <a:chExt cx="1420200" cy="1419840"/>
            </a:xfrm>
          </p:grpSpPr>
          <p:sp>
            <p:nvSpPr>
              <p:cNvPr id="2091" name=""/>
              <p:cNvSpPr/>
              <p:nvPr/>
            </p:nvSpPr>
            <p:spPr>
              <a:xfrm rot="16827000">
                <a:off x="4856040" y="96372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rot="16827000">
                <a:off x="4966920" y="106956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3" name=""/>
            <p:cNvGrpSpPr/>
            <p:nvPr/>
          </p:nvGrpSpPr>
          <p:grpSpPr>
            <a:xfrm>
              <a:off x="5563440" y="1985400"/>
              <a:ext cx="425880" cy="371160"/>
              <a:chOff x="5563440" y="1985400"/>
              <a:chExt cx="425880" cy="371160"/>
            </a:xfrm>
          </p:grpSpPr>
          <p:sp>
            <p:nvSpPr>
              <p:cNvPr id="2094" name=""/>
              <p:cNvSpPr/>
              <p:nvPr/>
            </p:nvSpPr>
            <p:spPr>
              <a:xfrm rot="20032200">
                <a:off x="5612760" y="206928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rot="7771200">
                <a:off x="5749560" y="200232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6" name=""/>
            <p:cNvSpPr/>
            <p:nvPr/>
          </p:nvSpPr>
          <p:spPr>
            <a:xfrm rot="16827000">
              <a:off x="4983120" y="132696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7" name=""/>
          <p:cNvGrpSpPr/>
          <p:nvPr/>
        </p:nvGrpSpPr>
        <p:grpSpPr>
          <a:xfrm>
            <a:off x="4633200" y="1169280"/>
            <a:ext cx="1566720" cy="1526760"/>
            <a:chOff x="4633200" y="1169280"/>
            <a:chExt cx="1566720" cy="1526760"/>
          </a:xfrm>
        </p:grpSpPr>
        <p:grpSp>
          <p:nvGrpSpPr>
            <p:cNvPr id="2098" name=""/>
            <p:cNvGrpSpPr/>
            <p:nvPr/>
          </p:nvGrpSpPr>
          <p:grpSpPr>
            <a:xfrm>
              <a:off x="4633200" y="1169280"/>
              <a:ext cx="1526760" cy="1526760"/>
              <a:chOff x="4633200" y="1169280"/>
              <a:chExt cx="1526760" cy="1526760"/>
            </a:xfrm>
          </p:grpSpPr>
          <p:sp>
            <p:nvSpPr>
              <p:cNvPr id="2099" name=""/>
              <p:cNvSpPr/>
              <p:nvPr/>
            </p:nvSpPr>
            <p:spPr>
              <a:xfrm rot="11838600">
                <a:off x="4786920" y="132264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rot="11838600">
                <a:off x="4897800" y="142884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1" name=""/>
            <p:cNvGrpSpPr/>
            <p:nvPr/>
          </p:nvGrpSpPr>
          <p:grpSpPr>
            <a:xfrm>
              <a:off x="5843880" y="1481760"/>
              <a:ext cx="356040" cy="418680"/>
              <a:chOff x="5843880" y="1481760"/>
              <a:chExt cx="356040" cy="418680"/>
            </a:xfrm>
          </p:grpSpPr>
          <p:sp>
            <p:nvSpPr>
              <p:cNvPr id="2102" name=""/>
              <p:cNvSpPr/>
              <p:nvPr/>
            </p:nvSpPr>
            <p:spPr>
              <a:xfrm rot="15043800">
                <a:off x="5963400" y="164556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rot="2782800">
                <a:off x="5913000" y="150156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4" name=""/>
            <p:cNvSpPr/>
            <p:nvPr/>
          </p:nvSpPr>
          <p:spPr>
            <a:xfrm rot="11838600">
              <a:off x="4856040" y="17143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4660560" y="1569960"/>
            <a:ext cx="1422000" cy="1494720"/>
            <a:chOff x="4660560" y="1569960"/>
            <a:chExt cx="1422000" cy="1494720"/>
          </a:xfrm>
        </p:grpSpPr>
        <p:grpSp>
          <p:nvGrpSpPr>
            <p:cNvPr id="2106" name=""/>
            <p:cNvGrpSpPr/>
            <p:nvPr/>
          </p:nvGrpSpPr>
          <p:grpSpPr>
            <a:xfrm>
              <a:off x="4660560" y="1643040"/>
              <a:ext cx="1422000" cy="1421640"/>
              <a:chOff x="4660560" y="1643040"/>
              <a:chExt cx="1422000" cy="1421640"/>
            </a:xfrm>
          </p:grpSpPr>
          <p:sp>
            <p:nvSpPr>
              <p:cNvPr id="2107" name=""/>
              <p:cNvSpPr/>
              <p:nvPr/>
            </p:nvSpPr>
            <p:spPr>
              <a:xfrm rot="6033000">
                <a:off x="4762080" y="174384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rot="6033000">
                <a:off x="4873320" y="185004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9" name=""/>
            <p:cNvGrpSpPr/>
            <p:nvPr/>
          </p:nvGrpSpPr>
          <p:grpSpPr>
            <a:xfrm>
              <a:off x="4849200" y="1569960"/>
              <a:ext cx="425520" cy="371520"/>
              <a:chOff x="4849200" y="1569960"/>
              <a:chExt cx="425520" cy="371520"/>
            </a:xfrm>
          </p:grpSpPr>
          <p:sp>
            <p:nvSpPr>
              <p:cNvPr id="2110" name=""/>
              <p:cNvSpPr/>
              <p:nvPr/>
            </p:nvSpPr>
            <p:spPr>
              <a:xfrm rot="9238200">
                <a:off x="5057280" y="159336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rot="18577200">
                <a:off x="4920120" y="166068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2" name=""/>
            <p:cNvSpPr/>
            <p:nvPr/>
          </p:nvSpPr>
          <p:spPr>
            <a:xfrm rot="6033000">
              <a:off x="4863240" y="22014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3" name=""/>
          <p:cNvGrpSpPr/>
          <p:nvPr/>
        </p:nvGrpSpPr>
        <p:grpSpPr>
          <a:xfrm>
            <a:off x="4620960" y="2076480"/>
            <a:ext cx="1483560" cy="1406880"/>
            <a:chOff x="4620960" y="2076480"/>
            <a:chExt cx="1483560" cy="1406880"/>
          </a:xfrm>
        </p:grpSpPr>
        <p:grpSp>
          <p:nvGrpSpPr>
            <p:cNvPr id="2114" name=""/>
            <p:cNvGrpSpPr/>
            <p:nvPr/>
          </p:nvGrpSpPr>
          <p:grpSpPr>
            <a:xfrm>
              <a:off x="4698000" y="2076480"/>
              <a:ext cx="1406520" cy="1406880"/>
              <a:chOff x="4698000" y="2076480"/>
              <a:chExt cx="1406520" cy="1406880"/>
            </a:xfrm>
          </p:grpSpPr>
          <p:sp>
            <p:nvSpPr>
              <p:cNvPr id="2115" name=""/>
              <p:cNvSpPr/>
              <p:nvPr/>
            </p:nvSpPr>
            <p:spPr>
              <a:xfrm rot="580200">
                <a:off x="4791600" y="217008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rot="580200">
                <a:off x="4902480" y="227592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7" name=""/>
            <p:cNvGrpSpPr/>
            <p:nvPr/>
          </p:nvGrpSpPr>
          <p:grpSpPr>
            <a:xfrm>
              <a:off x="4620960" y="2885400"/>
              <a:ext cx="372600" cy="425880"/>
              <a:chOff x="4620960" y="2885400"/>
              <a:chExt cx="372600" cy="425880"/>
            </a:xfrm>
          </p:grpSpPr>
          <p:sp>
            <p:nvSpPr>
              <p:cNvPr id="2118" name=""/>
              <p:cNvSpPr/>
              <p:nvPr/>
            </p:nvSpPr>
            <p:spPr>
              <a:xfrm rot="3786000">
                <a:off x="4692240" y="288792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rot="13124400">
                <a:off x="4761000" y="302400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0" name=""/>
            <p:cNvSpPr/>
            <p:nvPr/>
          </p:nvSpPr>
          <p:spPr>
            <a:xfrm rot="580200">
              <a:off x="4953240" y="25927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1" name=""/>
          <p:cNvGrpSpPr/>
          <p:nvPr/>
        </p:nvGrpSpPr>
        <p:grpSpPr>
          <a:xfrm>
            <a:off x="4712760" y="2271240"/>
            <a:ext cx="1706400" cy="1706400"/>
            <a:chOff x="4712760" y="2271240"/>
            <a:chExt cx="1706400" cy="1706400"/>
          </a:xfrm>
        </p:grpSpPr>
        <p:grpSp>
          <p:nvGrpSpPr>
            <p:cNvPr id="2122" name=""/>
            <p:cNvGrpSpPr/>
            <p:nvPr/>
          </p:nvGrpSpPr>
          <p:grpSpPr>
            <a:xfrm>
              <a:off x="4712760" y="2271240"/>
              <a:ext cx="1706400" cy="1706400"/>
              <a:chOff x="4712760" y="2271240"/>
              <a:chExt cx="1706400" cy="1706400"/>
            </a:xfrm>
          </p:grpSpPr>
          <p:sp>
            <p:nvSpPr>
              <p:cNvPr id="2123" name=""/>
              <p:cNvSpPr/>
              <p:nvPr/>
            </p:nvSpPr>
            <p:spPr>
              <a:xfrm rot="18404400">
                <a:off x="4956120" y="251460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rot="18404400">
                <a:off x="5067000" y="262044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5" name=""/>
            <p:cNvGrpSpPr/>
            <p:nvPr/>
          </p:nvGrpSpPr>
          <p:grpSpPr>
            <a:xfrm>
              <a:off x="5411160" y="3635280"/>
              <a:ext cx="367560" cy="309600"/>
              <a:chOff x="5411160" y="3635280"/>
              <a:chExt cx="367560" cy="309600"/>
            </a:xfrm>
          </p:grpSpPr>
          <p:sp>
            <p:nvSpPr>
              <p:cNvPr id="2126" name=""/>
              <p:cNvSpPr/>
              <p:nvPr/>
            </p:nvSpPr>
            <p:spPr>
              <a:xfrm rot="9000">
                <a:off x="5411520" y="365796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rot="9348600">
                <a:off x="5563440" y="365832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8" name=""/>
            <p:cNvSpPr/>
            <p:nvPr/>
          </p:nvSpPr>
          <p:spPr>
            <a:xfrm rot="18404400">
              <a:off x="5102640" y="288828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9" name=""/>
          <p:cNvGrpSpPr/>
          <p:nvPr/>
        </p:nvGrpSpPr>
        <p:grpSpPr>
          <a:xfrm>
            <a:off x="5486400" y="990720"/>
            <a:ext cx="1143000" cy="1143000"/>
            <a:chOff x="5486400" y="990720"/>
            <a:chExt cx="1143000" cy="1143000"/>
          </a:xfrm>
        </p:grpSpPr>
        <p:sp>
          <p:nvSpPr>
            <p:cNvPr id="2130" name=""/>
            <p:cNvSpPr/>
            <p:nvPr/>
          </p:nvSpPr>
          <p:spPr>
            <a:xfrm>
              <a:off x="5486400" y="990720"/>
              <a:ext cx="1143000" cy="1143000"/>
            </a:xfrm>
            <a:prstGeom prst="ellipse">
              <a:avLst/>
            </a:prstGeom>
            <a:solidFill>
              <a:srgbClr val="d3b1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572080" y="1086120"/>
              <a:ext cx="974880" cy="98280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875560" y="129564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3" name=""/>
          <p:cNvGrpSpPr/>
          <p:nvPr/>
        </p:nvGrpSpPr>
        <p:grpSpPr>
          <a:xfrm>
            <a:off x="4712760" y="2270520"/>
            <a:ext cx="1706400" cy="1706760"/>
            <a:chOff x="4712760" y="2270520"/>
            <a:chExt cx="1706400" cy="1706760"/>
          </a:xfrm>
        </p:grpSpPr>
        <p:grpSp>
          <p:nvGrpSpPr>
            <p:cNvPr id="2134" name=""/>
            <p:cNvGrpSpPr/>
            <p:nvPr/>
          </p:nvGrpSpPr>
          <p:grpSpPr>
            <a:xfrm>
              <a:off x="4712760" y="2270520"/>
              <a:ext cx="1706400" cy="1706760"/>
              <a:chOff x="4712760" y="2270520"/>
              <a:chExt cx="1706400" cy="1706760"/>
            </a:xfrm>
          </p:grpSpPr>
          <p:sp>
            <p:nvSpPr>
              <p:cNvPr id="2135" name=""/>
              <p:cNvSpPr/>
              <p:nvPr/>
            </p:nvSpPr>
            <p:spPr>
              <a:xfrm rot="18403800">
                <a:off x="4956120" y="2514240"/>
                <a:ext cx="121932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rot="18403800">
                <a:off x="5066640" y="2620080"/>
                <a:ext cx="99756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7" name=""/>
            <p:cNvGrpSpPr/>
            <p:nvPr/>
          </p:nvGrpSpPr>
          <p:grpSpPr>
            <a:xfrm>
              <a:off x="5409720" y="3634920"/>
              <a:ext cx="367560" cy="309600"/>
              <a:chOff x="5409720" y="3634920"/>
              <a:chExt cx="367560" cy="309600"/>
            </a:xfrm>
          </p:grpSpPr>
          <p:sp>
            <p:nvSpPr>
              <p:cNvPr id="2138" name=""/>
              <p:cNvSpPr/>
              <p:nvPr/>
            </p:nvSpPr>
            <p:spPr>
              <a:xfrm rot="9000">
                <a:off x="5410080" y="365724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 rot="9348000">
                <a:off x="5562000" y="365796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0" name=""/>
            <p:cNvSpPr/>
            <p:nvPr/>
          </p:nvSpPr>
          <p:spPr>
            <a:xfrm rot="21550200">
              <a:off x="5244120" y="2925360"/>
              <a:ext cx="696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H</a:t>
              </a:r>
              <a:r>
                <a:rPr b="1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1" name=""/>
          <p:cNvSpPr/>
          <p:nvPr/>
        </p:nvSpPr>
        <p:spPr>
          <a:xfrm flipH="1" rot="7751400">
            <a:off x="6012360" y="2140560"/>
            <a:ext cx="990360" cy="976320"/>
          </a:xfrm>
          <a:custGeom>
            <a:avLst/>
            <a:gdLst>
              <a:gd name="textAreaLeft" fmla="*/ -360 w 990360"/>
              <a:gd name="textAreaRight" fmla="*/ 990360 w 99036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2e2e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2" name=""/>
          <p:cNvGrpSpPr/>
          <p:nvPr/>
        </p:nvGrpSpPr>
        <p:grpSpPr>
          <a:xfrm>
            <a:off x="5257800" y="990720"/>
            <a:ext cx="1638360" cy="1243080"/>
            <a:chOff x="5257800" y="990720"/>
            <a:chExt cx="1638360" cy="1243080"/>
          </a:xfrm>
        </p:grpSpPr>
        <p:sp>
          <p:nvSpPr>
            <p:cNvPr id="2143" name=""/>
            <p:cNvSpPr/>
            <p:nvPr/>
          </p:nvSpPr>
          <p:spPr>
            <a:xfrm>
              <a:off x="5257800" y="990720"/>
              <a:ext cx="1638360" cy="1143000"/>
            </a:xfrm>
            <a:prstGeom prst="ellipse">
              <a:avLst/>
            </a:prstGeom>
            <a:solidFill>
              <a:srgbClr val="fcdc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397480" y="1219320"/>
              <a:ext cx="771480" cy="728640"/>
            </a:xfrm>
            <a:prstGeom prst="ellipse">
              <a:avLst/>
            </a:prstGeom>
            <a:solidFill>
              <a:srgbClr val="cb93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499000" y="13716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 rot="2536800">
              <a:off x="5705640" y="1185840"/>
              <a:ext cx="75168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 rot="2536800">
              <a:off x="5584320" y="1185840"/>
              <a:ext cx="7488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rot="2536800">
              <a:off x="5815080" y="1185840"/>
              <a:ext cx="75168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 rot="2536800">
              <a:off x="5924520" y="1185840"/>
              <a:ext cx="75168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0" name=""/>
          <p:cNvGrpSpPr/>
          <p:nvPr/>
        </p:nvGrpSpPr>
        <p:grpSpPr>
          <a:xfrm>
            <a:off x="7020360" y="840240"/>
            <a:ext cx="1352160" cy="1145160"/>
            <a:chOff x="7020360" y="840240"/>
            <a:chExt cx="1352160" cy="1145160"/>
          </a:xfrm>
        </p:grpSpPr>
        <p:grpSp>
          <p:nvGrpSpPr>
            <p:cNvPr id="2151" name=""/>
            <p:cNvGrpSpPr/>
            <p:nvPr/>
          </p:nvGrpSpPr>
          <p:grpSpPr>
            <a:xfrm>
              <a:off x="7982640" y="840240"/>
              <a:ext cx="245160" cy="311040"/>
              <a:chOff x="7982640" y="840240"/>
              <a:chExt cx="245160" cy="311040"/>
            </a:xfrm>
          </p:grpSpPr>
          <p:sp>
            <p:nvSpPr>
              <p:cNvPr id="2152" name=""/>
              <p:cNvSpPr/>
              <p:nvPr/>
            </p:nvSpPr>
            <p:spPr>
              <a:xfrm rot="7057800">
                <a:off x="8107920" y="91908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rot="5439000">
                <a:off x="8084880" y="106632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 rot="7057800">
                <a:off x="8080200" y="90432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 rot="8081400">
                <a:off x="7986960" y="101484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rot="8081400">
                <a:off x="7965360" y="98892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 rot="5439000">
                <a:off x="8124480" y="105804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8" name=""/>
            <p:cNvGrpSpPr/>
            <p:nvPr/>
          </p:nvGrpSpPr>
          <p:grpSpPr>
            <a:xfrm>
              <a:off x="7020360" y="1457640"/>
              <a:ext cx="234360" cy="306000"/>
              <a:chOff x="7020360" y="1457640"/>
              <a:chExt cx="234360" cy="306000"/>
            </a:xfrm>
          </p:grpSpPr>
          <p:sp>
            <p:nvSpPr>
              <p:cNvPr id="2159" name=""/>
              <p:cNvSpPr/>
              <p:nvPr/>
            </p:nvSpPr>
            <p:spPr>
              <a:xfrm rot="4618800">
                <a:off x="7019280" y="152640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 rot="2999400">
                <a:off x="7097400" y="165348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rot="4618800">
                <a:off x="6988680" y="153324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rot="5641200">
                <a:off x="6989760" y="167832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 rot="5641200">
                <a:off x="6956280" y="167256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rot="2999400">
                <a:off x="7122240" y="162144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5" name=""/>
            <p:cNvGrpSpPr/>
            <p:nvPr/>
          </p:nvGrpSpPr>
          <p:grpSpPr>
            <a:xfrm>
              <a:off x="7255800" y="1270800"/>
              <a:ext cx="307080" cy="259920"/>
              <a:chOff x="7255800" y="1270800"/>
              <a:chExt cx="307080" cy="259920"/>
            </a:xfrm>
          </p:grpSpPr>
          <p:sp>
            <p:nvSpPr>
              <p:cNvPr id="2166" name=""/>
              <p:cNvSpPr/>
              <p:nvPr/>
            </p:nvSpPr>
            <p:spPr>
              <a:xfrm rot="9173400">
                <a:off x="7413480" y="133236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 rot="7554600">
                <a:off x="7309080" y="143964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 rot="9173400">
                <a:off x="7399080" y="130464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 rot="10197000">
                <a:off x="7258680" y="134100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 rot="10197000">
                <a:off x="7255800" y="130716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 rot="7554600">
                <a:off x="7346520" y="145584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2" name=""/>
            <p:cNvGrpSpPr/>
            <p:nvPr/>
          </p:nvGrpSpPr>
          <p:grpSpPr>
            <a:xfrm>
              <a:off x="7624440" y="981000"/>
              <a:ext cx="243720" cy="307800"/>
              <a:chOff x="7624440" y="981000"/>
              <a:chExt cx="243720" cy="307800"/>
            </a:xfrm>
          </p:grpSpPr>
          <p:sp>
            <p:nvSpPr>
              <p:cNvPr id="2173" name=""/>
              <p:cNvSpPr/>
              <p:nvPr/>
            </p:nvSpPr>
            <p:spPr>
              <a:xfrm rot="16896000">
                <a:off x="7629120" y="119772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 rot="15277200">
                <a:off x="7611120" y="104940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rot="16896000">
                <a:off x="7660440" y="120384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 rot="17919000">
                <a:off x="7719120" y="107172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 rot="17919000">
                <a:off x="7747200" y="109080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rot="15277200">
                <a:off x="7575120" y="106848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9" name=""/>
            <p:cNvGrpSpPr/>
            <p:nvPr/>
          </p:nvGrpSpPr>
          <p:grpSpPr>
            <a:xfrm>
              <a:off x="7759080" y="1407960"/>
              <a:ext cx="291240" cy="294480"/>
              <a:chOff x="7759080" y="1407960"/>
              <a:chExt cx="291240" cy="294480"/>
            </a:xfrm>
          </p:grpSpPr>
          <p:sp>
            <p:nvSpPr>
              <p:cNvPr id="2180" name=""/>
              <p:cNvSpPr/>
              <p:nvPr/>
            </p:nvSpPr>
            <p:spPr>
              <a:xfrm rot="2895600">
                <a:off x="7762320" y="146268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rot="1276800">
                <a:off x="7891920" y="153648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rot="2895600">
                <a:off x="7738920" y="148356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 rot="3918600">
                <a:off x="7809120" y="160992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rot="3918600">
                <a:off x="7777440" y="162108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rot="1276800">
                <a:off x="7898400" y="149688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6" name=""/>
            <p:cNvGrpSpPr/>
            <p:nvPr/>
          </p:nvGrpSpPr>
          <p:grpSpPr>
            <a:xfrm>
              <a:off x="7472520" y="1672920"/>
              <a:ext cx="243720" cy="307800"/>
              <a:chOff x="7472520" y="1672920"/>
              <a:chExt cx="243720" cy="307800"/>
            </a:xfrm>
          </p:grpSpPr>
          <p:sp>
            <p:nvSpPr>
              <p:cNvPr id="2187" name=""/>
              <p:cNvSpPr/>
              <p:nvPr/>
            </p:nvSpPr>
            <p:spPr>
              <a:xfrm rot="6102000">
                <a:off x="7557480" y="174816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 rot="4483200">
                <a:off x="7575120" y="189648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 rot="6102000">
                <a:off x="7526520" y="174204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rot="7125000">
                <a:off x="7467480" y="187416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 rot="7125000">
                <a:off x="7439400" y="185508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rot="4483200">
                <a:off x="7611120" y="187776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3" name=""/>
            <p:cNvGrpSpPr/>
            <p:nvPr/>
          </p:nvGrpSpPr>
          <p:grpSpPr>
            <a:xfrm>
              <a:off x="8060040" y="1747440"/>
              <a:ext cx="312480" cy="237960"/>
              <a:chOff x="8060040" y="1747440"/>
              <a:chExt cx="312480" cy="237960"/>
            </a:xfrm>
          </p:grpSpPr>
          <p:sp>
            <p:nvSpPr>
              <p:cNvPr id="2194" name=""/>
              <p:cNvSpPr/>
              <p:nvPr/>
            </p:nvSpPr>
            <p:spPr>
              <a:xfrm rot="11934600">
                <a:off x="8209800" y="192168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 rot="10315800">
                <a:off x="8060400" y="192096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rot="11934600">
                <a:off x="8219880" y="189180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 rot="12958200">
                <a:off x="8096040" y="181656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 rot="12958200">
                <a:off x="8118720" y="179100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rot="10315800">
                <a:off x="8074800" y="195912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00" name=""/>
          <p:cNvGrpSpPr/>
          <p:nvPr/>
        </p:nvGrpSpPr>
        <p:grpSpPr>
          <a:xfrm>
            <a:off x="4722480" y="2270520"/>
            <a:ext cx="1706040" cy="1706400"/>
            <a:chOff x="4722480" y="2270520"/>
            <a:chExt cx="1706040" cy="1706400"/>
          </a:xfrm>
        </p:grpSpPr>
        <p:grpSp>
          <p:nvGrpSpPr>
            <p:cNvPr id="2201" name=""/>
            <p:cNvGrpSpPr/>
            <p:nvPr/>
          </p:nvGrpSpPr>
          <p:grpSpPr>
            <a:xfrm>
              <a:off x="4722480" y="2270520"/>
              <a:ext cx="1706040" cy="1706400"/>
              <a:chOff x="4722480" y="2270520"/>
              <a:chExt cx="1706040" cy="1706400"/>
            </a:xfrm>
          </p:grpSpPr>
          <p:sp>
            <p:nvSpPr>
              <p:cNvPr id="2202" name=""/>
              <p:cNvSpPr/>
              <p:nvPr/>
            </p:nvSpPr>
            <p:spPr>
              <a:xfrm rot="18403800">
                <a:off x="4965840" y="2514240"/>
                <a:ext cx="1219320" cy="121896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 rot="18403800">
                <a:off x="5076000" y="2620080"/>
                <a:ext cx="997560" cy="100692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4" name=""/>
            <p:cNvGrpSpPr/>
            <p:nvPr/>
          </p:nvGrpSpPr>
          <p:grpSpPr>
            <a:xfrm>
              <a:off x="5419080" y="3634560"/>
              <a:ext cx="366480" cy="309240"/>
              <a:chOff x="5419080" y="3634560"/>
              <a:chExt cx="366480" cy="309240"/>
            </a:xfrm>
          </p:grpSpPr>
          <p:sp>
            <p:nvSpPr>
              <p:cNvPr id="2205" name=""/>
              <p:cNvSpPr/>
              <p:nvPr/>
            </p:nvSpPr>
            <p:spPr>
              <a:xfrm rot="9000">
                <a:off x="5419440" y="3657240"/>
                <a:ext cx="16776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 rot="9348000">
                <a:off x="5570640" y="365724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7" name=""/>
            <p:cNvSpPr/>
            <p:nvPr/>
          </p:nvSpPr>
          <p:spPr>
            <a:xfrm rot="21550200">
              <a:off x="5253480" y="2925360"/>
              <a:ext cx="696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H</a:t>
              </a:r>
              <a:r>
                <a:rPr b="1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8" name=""/>
          <p:cNvGrpSpPr/>
          <p:nvPr/>
        </p:nvGrpSpPr>
        <p:grpSpPr>
          <a:xfrm>
            <a:off x="4376160" y="3186000"/>
            <a:ext cx="1010160" cy="1162080"/>
            <a:chOff x="4376160" y="3186000"/>
            <a:chExt cx="1010160" cy="1162080"/>
          </a:xfrm>
        </p:grpSpPr>
        <p:sp>
          <p:nvSpPr>
            <p:cNvPr id="2209" name=""/>
            <p:cNvSpPr/>
            <p:nvPr/>
          </p:nvSpPr>
          <p:spPr>
            <a:xfrm flipH="1" rot="16302000">
              <a:off x="4388040" y="3207240"/>
              <a:ext cx="990360" cy="976320"/>
            </a:xfrm>
            <a:custGeom>
              <a:avLst/>
              <a:gdLst>
                <a:gd name="textAreaLeft" fmla="*/ -360 w 990360"/>
                <a:gd name="textAreaRight" fmla="*/ 990360 w 99036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2e2e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 rot="4593000">
              <a:off x="4188960" y="3769920"/>
              <a:ext cx="83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imes New Roman"/>
                </a:rPr>
                <a:t>IFN-</a:t>
              </a:r>
              <a:r>
                <a:rPr b="1" lang="es-ES_tradnl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1" name=""/>
          <p:cNvGrpSpPr/>
          <p:nvPr/>
        </p:nvGrpSpPr>
        <p:grpSpPr>
          <a:xfrm>
            <a:off x="4191120" y="3911760"/>
            <a:ext cx="3771720" cy="2285640"/>
            <a:chOff x="4191120" y="3911760"/>
            <a:chExt cx="3771720" cy="2285640"/>
          </a:xfrm>
        </p:grpSpPr>
        <p:sp>
          <p:nvSpPr>
            <p:cNvPr id="2212" name=""/>
            <p:cNvSpPr/>
            <p:nvPr/>
          </p:nvSpPr>
          <p:spPr>
            <a:xfrm>
              <a:off x="4191120" y="3911760"/>
              <a:ext cx="3771720" cy="2285640"/>
            </a:xfrm>
            <a:custGeom>
              <a:avLst/>
              <a:gdLst/>
              <a:ahLst/>
              <a:rect l="l" t="t" r="r" b="b"/>
              <a:pathLst>
                <a:path w="1504" h="1299">
                  <a:moveTo>
                    <a:pt x="343" y="231"/>
                  </a:moveTo>
                  <a:cubicBezTo>
                    <a:pt x="306" y="237"/>
                    <a:pt x="272" y="244"/>
                    <a:pt x="236" y="255"/>
                  </a:cubicBezTo>
                  <a:cubicBezTo>
                    <a:pt x="204" y="287"/>
                    <a:pt x="194" y="318"/>
                    <a:pt x="170" y="354"/>
                  </a:cubicBezTo>
                  <a:cubicBezTo>
                    <a:pt x="152" y="408"/>
                    <a:pt x="107" y="442"/>
                    <a:pt x="55" y="461"/>
                  </a:cubicBezTo>
                  <a:cubicBezTo>
                    <a:pt x="21" y="493"/>
                    <a:pt x="15" y="496"/>
                    <a:pt x="6" y="543"/>
                  </a:cubicBezTo>
                  <a:cubicBezTo>
                    <a:pt x="23" y="614"/>
                    <a:pt x="47" y="654"/>
                    <a:pt x="88" y="715"/>
                  </a:cubicBezTo>
                  <a:cubicBezTo>
                    <a:pt x="87" y="726"/>
                    <a:pt x="86" y="796"/>
                    <a:pt x="72" y="822"/>
                  </a:cubicBezTo>
                  <a:cubicBezTo>
                    <a:pt x="62" y="839"/>
                    <a:pt x="39" y="872"/>
                    <a:pt x="39" y="872"/>
                  </a:cubicBezTo>
                  <a:cubicBezTo>
                    <a:pt x="25" y="922"/>
                    <a:pt x="0" y="1013"/>
                    <a:pt x="39" y="1052"/>
                  </a:cubicBezTo>
                  <a:cubicBezTo>
                    <a:pt x="57" y="1070"/>
                    <a:pt x="113" y="1077"/>
                    <a:pt x="113" y="1077"/>
                  </a:cubicBezTo>
                  <a:cubicBezTo>
                    <a:pt x="159" y="1071"/>
                    <a:pt x="187" y="1067"/>
                    <a:pt x="228" y="1052"/>
                  </a:cubicBezTo>
                  <a:cubicBezTo>
                    <a:pt x="291" y="1076"/>
                    <a:pt x="308" y="1141"/>
                    <a:pt x="359" y="1176"/>
                  </a:cubicBezTo>
                  <a:cubicBezTo>
                    <a:pt x="378" y="1189"/>
                    <a:pt x="396" y="1193"/>
                    <a:pt x="417" y="1200"/>
                  </a:cubicBezTo>
                  <a:cubicBezTo>
                    <a:pt x="442" y="1217"/>
                    <a:pt x="473" y="1226"/>
                    <a:pt x="491" y="1250"/>
                  </a:cubicBezTo>
                  <a:cubicBezTo>
                    <a:pt x="520" y="1288"/>
                    <a:pt x="506" y="1273"/>
                    <a:pt x="532" y="1299"/>
                  </a:cubicBezTo>
                  <a:cubicBezTo>
                    <a:pt x="563" y="1291"/>
                    <a:pt x="595" y="1284"/>
                    <a:pt x="622" y="1266"/>
                  </a:cubicBezTo>
                  <a:cubicBezTo>
                    <a:pt x="629" y="1262"/>
                    <a:pt x="632" y="1253"/>
                    <a:pt x="639" y="1250"/>
                  </a:cubicBezTo>
                  <a:cubicBezTo>
                    <a:pt x="674" y="1232"/>
                    <a:pt x="715" y="1233"/>
                    <a:pt x="754" y="1225"/>
                  </a:cubicBezTo>
                  <a:cubicBezTo>
                    <a:pt x="800" y="1272"/>
                    <a:pt x="880" y="1264"/>
                    <a:pt x="943" y="1274"/>
                  </a:cubicBezTo>
                  <a:cubicBezTo>
                    <a:pt x="965" y="1271"/>
                    <a:pt x="988" y="1274"/>
                    <a:pt x="1009" y="1266"/>
                  </a:cubicBezTo>
                  <a:cubicBezTo>
                    <a:pt x="1033" y="1257"/>
                    <a:pt x="1045" y="1211"/>
                    <a:pt x="1058" y="1192"/>
                  </a:cubicBezTo>
                  <a:cubicBezTo>
                    <a:pt x="1065" y="1170"/>
                    <a:pt x="1052" y="1067"/>
                    <a:pt x="1066" y="1061"/>
                  </a:cubicBezTo>
                  <a:cubicBezTo>
                    <a:pt x="1125" y="1037"/>
                    <a:pt x="1192" y="1044"/>
                    <a:pt x="1255" y="1036"/>
                  </a:cubicBezTo>
                  <a:cubicBezTo>
                    <a:pt x="1277" y="1033"/>
                    <a:pt x="1321" y="1028"/>
                    <a:pt x="1321" y="1028"/>
                  </a:cubicBezTo>
                  <a:cubicBezTo>
                    <a:pt x="1356" y="1015"/>
                    <a:pt x="1364" y="1000"/>
                    <a:pt x="1387" y="970"/>
                  </a:cubicBezTo>
                  <a:cubicBezTo>
                    <a:pt x="1398" y="934"/>
                    <a:pt x="1386" y="900"/>
                    <a:pt x="1362" y="872"/>
                  </a:cubicBezTo>
                  <a:cubicBezTo>
                    <a:pt x="1292" y="790"/>
                    <a:pt x="1182" y="793"/>
                    <a:pt x="1082" y="781"/>
                  </a:cubicBezTo>
                  <a:cubicBezTo>
                    <a:pt x="1045" y="756"/>
                    <a:pt x="1031" y="733"/>
                    <a:pt x="1017" y="691"/>
                  </a:cubicBezTo>
                  <a:cubicBezTo>
                    <a:pt x="1035" y="490"/>
                    <a:pt x="1098" y="558"/>
                    <a:pt x="1337" y="551"/>
                  </a:cubicBezTo>
                  <a:cubicBezTo>
                    <a:pt x="1460" y="531"/>
                    <a:pt x="1421" y="566"/>
                    <a:pt x="1461" y="477"/>
                  </a:cubicBezTo>
                  <a:cubicBezTo>
                    <a:pt x="1466" y="466"/>
                    <a:pt x="1472" y="455"/>
                    <a:pt x="1477" y="444"/>
                  </a:cubicBezTo>
                  <a:cubicBezTo>
                    <a:pt x="1483" y="398"/>
                    <a:pt x="1504" y="255"/>
                    <a:pt x="1444" y="239"/>
                  </a:cubicBezTo>
                  <a:cubicBezTo>
                    <a:pt x="1420" y="233"/>
                    <a:pt x="1395" y="234"/>
                    <a:pt x="1370" y="231"/>
                  </a:cubicBezTo>
                  <a:cubicBezTo>
                    <a:pt x="1350" y="227"/>
                    <a:pt x="1273" y="210"/>
                    <a:pt x="1263" y="206"/>
                  </a:cubicBezTo>
                  <a:cubicBezTo>
                    <a:pt x="1212" y="186"/>
                    <a:pt x="1197" y="89"/>
                    <a:pt x="1181" y="50"/>
                  </a:cubicBezTo>
                  <a:cubicBezTo>
                    <a:pt x="1167" y="16"/>
                    <a:pt x="1113" y="11"/>
                    <a:pt x="1082" y="0"/>
                  </a:cubicBezTo>
                  <a:cubicBezTo>
                    <a:pt x="1010" y="9"/>
                    <a:pt x="1003" y="4"/>
                    <a:pt x="967" y="58"/>
                  </a:cubicBezTo>
                  <a:cubicBezTo>
                    <a:pt x="806" y="50"/>
                    <a:pt x="708" y="43"/>
                    <a:pt x="540" y="50"/>
                  </a:cubicBezTo>
                  <a:cubicBezTo>
                    <a:pt x="516" y="68"/>
                    <a:pt x="498" y="89"/>
                    <a:pt x="474" y="107"/>
                  </a:cubicBezTo>
                  <a:cubicBezTo>
                    <a:pt x="386" y="173"/>
                    <a:pt x="452" y="114"/>
                    <a:pt x="409" y="157"/>
                  </a:cubicBezTo>
                  <a:cubicBezTo>
                    <a:pt x="391" y="175"/>
                    <a:pt x="377" y="196"/>
                    <a:pt x="359" y="214"/>
                  </a:cubicBezTo>
                  <a:cubicBezTo>
                    <a:pt x="353" y="220"/>
                    <a:pt x="343" y="231"/>
                    <a:pt x="343" y="231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793200" y="4078440"/>
              <a:ext cx="226080" cy="235440"/>
            </a:xfrm>
            <a:prstGeom prst="ellipse">
              <a:avLst/>
            </a:prstGeom>
            <a:solidFill>
              <a:srgbClr val="5e5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435640" y="4549320"/>
              <a:ext cx="226080" cy="235440"/>
            </a:xfrm>
            <a:prstGeom prst="ellipse">
              <a:avLst/>
            </a:prstGeom>
            <a:solidFill>
              <a:srgbClr val="5e5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6114240" y="5412600"/>
              <a:ext cx="226080" cy="235440"/>
            </a:xfrm>
            <a:prstGeom prst="ellipse">
              <a:avLst/>
            </a:prstGeom>
            <a:solidFill>
              <a:srgbClr val="5e5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265440" y="4392360"/>
              <a:ext cx="226080" cy="235440"/>
            </a:xfrm>
            <a:prstGeom prst="ellipse">
              <a:avLst/>
            </a:prstGeom>
            <a:solidFill>
              <a:srgbClr val="5e5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416280" y="4941720"/>
              <a:ext cx="226080" cy="235440"/>
            </a:xfrm>
            <a:prstGeom prst="ellipse">
              <a:avLst/>
            </a:prstGeom>
            <a:solidFill>
              <a:srgbClr val="5e5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642720" y="5412600"/>
              <a:ext cx="226080" cy="235440"/>
            </a:xfrm>
            <a:prstGeom prst="ellipse">
              <a:avLst/>
            </a:prstGeom>
            <a:solidFill>
              <a:srgbClr val="5e5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661720" y="5648040"/>
              <a:ext cx="226080" cy="235440"/>
            </a:xfrm>
            <a:prstGeom prst="ellipse">
              <a:avLst/>
            </a:prstGeom>
            <a:solidFill>
              <a:srgbClr val="5e5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661720" y="5020200"/>
              <a:ext cx="226080" cy="235440"/>
            </a:xfrm>
            <a:prstGeom prst="ellipse">
              <a:avLst/>
            </a:prstGeom>
            <a:solidFill>
              <a:srgbClr val="5e5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4530240" y="4627800"/>
              <a:ext cx="603720" cy="941760"/>
            </a:xfrm>
            <a:prstGeom prst="ellipse">
              <a:avLst/>
            </a:prstGeom>
            <a:solidFill>
              <a:srgbClr val="908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2" name=""/>
          <p:cNvSpPr/>
          <p:nvPr/>
        </p:nvSpPr>
        <p:spPr>
          <a:xfrm>
            <a:off x="7464960" y="3324240"/>
            <a:ext cx="803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HC clase I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7" dur="indefinite" restart="never" nodeType="tmRoot">
          <p:childTnLst>
            <p:seq>
              <p:cTn id="2178" dur="indefinite" nodeType="mainSeq">
                <p:childTnLst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3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5" fill="hold">
                            <p:stCondLst>
                              <p:cond delay="500"/>
                            </p:stCondLst>
                            <p:childTnLst>
                              <p:par>
                                <p:cTn id="2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8" dur="3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9" fill="hold">
                            <p:stCondLst>
                              <p:cond delay="1700"/>
                            </p:stCondLst>
                            <p:childTnLst>
                              <p:par>
                                <p:cTn id="2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2" dur="3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3" fill="hold">
                            <p:stCondLst>
                              <p:cond delay="2600"/>
                            </p:stCondLst>
                            <p:childTnLst>
                              <p:par>
                                <p:cTn id="219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6" dur="50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7" dur="50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8" fill="hold">
                            <p:stCondLst>
                              <p:cond delay="7600"/>
                            </p:stCondLst>
                            <p:childTnLst>
                              <p:par>
                                <p:cTn id="2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1" dur="3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8200"/>
                            </p:stCondLst>
                            <p:childTnLst>
                              <p:par>
                                <p:cTn id="2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5" dur="3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6" fill="hold">
                            <p:stCondLst>
                              <p:cond delay="9100"/>
                            </p:stCondLst>
                            <p:childTnLst>
                              <p:par>
                                <p:cTn id="2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9" dur="3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3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6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2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8" fill="hold">
                            <p:stCondLst>
                              <p:cond delay="14500"/>
                            </p:stCondLst>
                            <p:childTnLst>
                              <p:par>
                                <p:cTn id="22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4" fill="hold">
                            <p:stCondLst>
                              <p:cond delay="15500"/>
                            </p:stCondLst>
                            <p:childTnLst>
                              <p:par>
                                <p:cTn id="22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16500"/>
                            </p:stCondLst>
                            <p:childTnLst>
                              <p:par>
                                <p:cTn id="2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3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6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7" fill="hold">
                            <p:stCondLst>
                              <p:cond delay="18500"/>
                            </p:stCondLst>
                            <p:childTnLst>
                              <p:par>
                                <p:cTn id="2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0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19000"/>
                            </p:stCondLst>
                            <p:childTnLst>
                              <p:par>
                                <p:cTn id="22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4" fill="hold">
                            <p:stCondLst>
                              <p:cond delay="20500"/>
                            </p:stCondLst>
                            <p:childTnLst>
                              <p:par>
                                <p:cTn id="22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fill="hold">
                            <p:stCondLst>
                              <p:cond delay="21000"/>
                            </p:stCondLst>
                            <p:childTnLst>
                              <p:par>
                                <p:cTn id="22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0" fill="hold">
                            <p:stCondLst>
                              <p:cond delay="21500"/>
                            </p:stCondLst>
                            <p:childTnLst>
                              <p:par>
                                <p:cTn id="22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3" fill="hold">
                            <p:stCondLst>
                              <p:cond delay="22000"/>
                            </p:stCondLst>
                            <p:childTnLst>
                              <p:par>
                                <p:cTn id="22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6" fill="hold">
                            <p:stCondLst>
                              <p:cond delay="22500"/>
                            </p:stCondLst>
                            <p:childTnLst>
                              <p:par>
                                <p:cTn id="22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9" fill="hold">
                            <p:stCondLst>
                              <p:cond delay="23000"/>
                            </p:stCondLst>
                            <p:childTnLst>
                              <p:par>
                                <p:cTn id="2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2" fill="hold">
                            <p:stCondLst>
                              <p:cond delay="23500"/>
                            </p:stCondLst>
                            <p:childTnLst>
                              <p:par>
                                <p:cTn id="22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5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6" fill="hold">
                            <p:stCondLst>
                              <p:cond delay="25000"/>
                            </p:stCondLst>
                            <p:childTnLst>
                              <p:par>
                                <p:cTn id="2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9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0" fill="hold">
                            <p:stCondLst>
                              <p:cond delay="25500"/>
                            </p:stCondLst>
                            <p:childTnLst>
                              <p:par>
                                <p:cTn id="2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3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4" fill="hold">
                            <p:stCondLst>
                              <p:cond delay="26000"/>
                            </p:stCondLst>
                            <p:childTnLst>
                              <p:par>
                                <p:cTn id="2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7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fill="hold">
                            <p:stCondLst>
                              <p:cond delay="26500"/>
                            </p:stCondLst>
                            <p:childTnLst>
                              <p:par>
                                <p:cTn id="229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1" fill="hold">
                            <p:stCondLst>
                              <p:cond delay="28000"/>
                            </p:stCondLst>
                            <p:childTnLst>
                              <p:par>
                                <p:cTn id="23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4" fill="hold">
                            <p:stCondLst>
                              <p:cond delay="28500"/>
                            </p:stCondLst>
                            <p:childTnLst>
                              <p:par>
                                <p:cTn id="23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fill="hold">
                            <p:stCondLst>
                              <p:cond delay="29000"/>
                            </p:stCondLst>
                            <p:childTnLst>
                              <p:par>
                                <p:cTn id="23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0" fill="hold">
                            <p:stCondLst>
                              <p:cond delay="29500"/>
                            </p:stCondLst>
                            <p:childTnLst>
                              <p:par>
                                <p:cTn id="23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3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30500"/>
                            </p:stCondLst>
                            <p:childTnLst>
                              <p:par>
                                <p:cTn id="23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9" fill="hold">
                            <p:stCondLst>
                              <p:cond delay="31000"/>
                            </p:stCondLst>
                            <p:childTnLst>
                              <p:par>
                                <p:cTn id="2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fill="hold">
                            <p:stCondLst>
                              <p:cond delay="31500"/>
                            </p:stCondLst>
                            <p:childTnLst>
                              <p:par>
                                <p:cTn id="2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5" fill="hold">
                            <p:stCondLst>
                              <p:cond delay="32000"/>
                            </p:stCondLst>
                            <p:childTnLst>
                              <p:par>
                                <p:cTn id="2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8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fill="hold">
                      <p:stCondLst>
                        <p:cond delay="indefinite"/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3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4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8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2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6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0" dur="5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1" dur="5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5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6" fill="hold">
                            <p:stCondLst>
                              <p:cond delay="7500"/>
                            </p:stCondLst>
                            <p:childTnLst>
                              <p:par>
                                <p:cTn id="2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9" dur="5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0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3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8500"/>
                            </p:stCondLst>
                            <p:childTnLst>
                              <p:par>
                                <p:cTn id="2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7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8" fill="hold">
                            <p:stCondLst>
                              <p:cond delay="9000"/>
                            </p:stCondLst>
                            <p:childTnLst>
                              <p:par>
                                <p:cTn id="23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1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5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9" dur="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0" fill="hold">
                            <p:stCondLst>
                              <p:cond delay="13500"/>
                            </p:stCondLst>
                            <p:childTnLst>
                              <p:par>
                                <p:cTn id="238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3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7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8" fill="hold">
                            <p:stCondLst>
                              <p:cond delay="15500"/>
                            </p:stCondLst>
                            <p:childTnLst>
                              <p:par>
                                <p:cTn id="2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1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5" dur="500"/>
                                        <p:tgtEl>
                                          <p:spTgt spid="2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6" fill="hold">
                            <p:stCondLst>
                              <p:cond delay="16500"/>
                            </p:stCondLst>
                            <p:childTnLst>
                              <p:par>
                                <p:cTn id="23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9" dur="5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3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4" fill="hold">
                            <p:stCondLst>
                              <p:cond delay="19500"/>
                            </p:stCondLst>
                            <p:childTnLst>
                              <p:par>
                                <p:cTn id="24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7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8" fill="hold">
                            <p:stCondLst>
                              <p:cond delay="21000"/>
                            </p:stCondLst>
                            <p:childTnLst>
                              <p:par>
                                <p:cTn id="2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1" dur="500"/>
                                        <p:tgtEl>
                                          <p:spTgt spid="1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2" fill="hold">
                            <p:stCondLst>
                              <p:cond delay="21500"/>
                            </p:stCondLst>
                            <p:childTnLst>
                              <p:par>
                                <p:cTn id="2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5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2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9" dur="5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3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4" fill="hold">
                            <p:stCondLst>
                              <p:cond delay="23000"/>
                            </p:stCondLst>
                            <p:childTnLst>
                              <p:par>
                                <p:cTn id="2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7" dur="5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8" fill="hold">
                            <p:stCondLst>
                              <p:cond delay="23500"/>
                            </p:stCondLst>
                            <p:childTnLst>
                              <p:par>
                                <p:cTn id="24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1" dur="5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2" fill="hold">
                            <p:stCondLst>
                              <p:cond delay="25000"/>
                            </p:stCondLst>
                            <p:childTnLst>
                              <p:par>
                                <p:cTn id="24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5" dur="5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6" fill="hold">
                            <p:stCondLst>
                              <p:cond delay="26500"/>
                            </p:stCondLst>
                            <p:childTnLst>
                              <p:par>
                                <p:cTn id="24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9" dur="500"/>
                                        <p:tgtEl>
                                          <p:spTgt spid="2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0" fill="hold">
                            <p:stCondLst>
                              <p:cond delay="28000"/>
                            </p:stCondLst>
                            <p:childTnLst>
                              <p:par>
                                <p:cTn id="244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3" dur="5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4" fill="hold">
                            <p:stCondLst>
                              <p:cond delay="29500"/>
                            </p:stCondLst>
                            <p:childTnLst>
                              <p:par>
                                <p:cTn id="2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7" dur="5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8" fill="hold">
                            <p:stCondLst>
                              <p:cond delay="30000"/>
                            </p:stCondLst>
                            <p:childTnLst>
                              <p:par>
                                <p:cTn id="2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1" dur="50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2" fill="hold">
                            <p:stCondLst>
                              <p:cond delay="30500"/>
                            </p:stCondLst>
                            <p:childTnLst>
                              <p:par>
                                <p:cTn id="2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5" dur="50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6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9" dur="50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0" fill="hold">
                            <p:stCondLst>
                              <p:cond delay="31500"/>
                            </p:stCondLst>
                            <p:childTnLst>
                              <p:par>
                                <p:cTn id="2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3" dur="500"/>
                                        <p:tgtEl>
                                          <p:spTgt spid="2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4" fill="hold">
                            <p:stCondLst>
                              <p:cond delay="32000"/>
                            </p:stCondLst>
                            <p:childTnLst>
                              <p:par>
                                <p:cTn id="2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7" dur="500"/>
                                        <p:tgtEl>
                                          <p:spTgt spid="2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8" fill="hold">
                            <p:stCondLst>
                              <p:cond delay="32500"/>
                            </p:stCondLst>
                            <p:childTnLst>
                              <p:par>
                                <p:cTn id="2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1" dur="500"/>
                                        <p:tgtEl>
                                          <p:spTgt spid="2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2" fill="hold">
                            <p:stCondLst>
                              <p:cond delay="33000"/>
                            </p:stCondLst>
                            <p:childTnLst>
                              <p:par>
                                <p:cTn id="2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5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6" fill="hold">
                            <p:stCondLst>
                              <p:cond delay="33500"/>
                            </p:stCondLst>
                            <p:childTnLst>
                              <p:par>
                                <p:cTn id="2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9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0" fill="hold">
                            <p:stCondLst>
                              <p:cond delay="34000"/>
                            </p:stCondLst>
                            <p:childTnLst>
                              <p:par>
                                <p:cTn id="248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fill="hold">
                            <p:stCondLst>
                              <p:cond delay="35500"/>
                            </p:stCondLst>
                            <p:childTnLst>
                              <p:par>
                                <p:cTn id="24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6" fill="hold">
                            <p:stCondLst>
                              <p:cond delay="36000"/>
                            </p:stCondLst>
                            <p:childTnLst>
                              <p:par>
                                <p:cTn id="24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9" fill="hold">
                            <p:stCondLst>
                              <p:cond delay="36500"/>
                            </p:stCondLst>
                            <p:childTnLst>
                              <p:par>
                                <p:cTn id="24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2" fill="hold">
                            <p:stCondLst>
                              <p:cond delay="37000"/>
                            </p:stCondLst>
                            <p:childTnLst>
                              <p:par>
                                <p:cTn id="24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5" fill="hold">
                            <p:stCondLst>
                              <p:cond delay="37500"/>
                            </p:stCondLst>
                            <p:childTnLst>
                              <p:par>
                                <p:cTn id="24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8" fill="hold">
                            <p:stCondLst>
                              <p:cond delay="38000"/>
                            </p:stCondLst>
                            <p:childTnLst>
                              <p:par>
                                <p:cTn id="24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1" fill="hold">
                            <p:stCondLst>
                              <p:cond delay="38500"/>
                            </p:stCondLst>
                            <p:childTnLst>
                              <p:par>
                                <p:cTn id="25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4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5" fill="hold">
                            <p:stCondLst>
                              <p:cond delay="40000"/>
                            </p:stCondLst>
                            <p:childTnLst>
                              <p:par>
                                <p:cTn id="2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8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9" fill="hold">
                            <p:stCondLst>
                              <p:cond delay="40500"/>
                            </p:stCondLst>
                            <p:childTnLst>
                              <p:par>
                                <p:cTn id="2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2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3" fill="hold">
                            <p:stCondLst>
                              <p:cond delay="41000"/>
                            </p:stCondLst>
                            <p:childTnLst>
                              <p:par>
                                <p:cTn id="25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6" dur="500"/>
                                        <p:tgtEl>
                                          <p:spTgt spid="2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7" fill="hold">
                            <p:stCondLst>
                              <p:cond delay="43500"/>
                            </p:stCondLst>
                            <p:childTnLst>
                              <p:par>
                                <p:cTn id="251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0" dur="500" fill="hold"/>
                                        <p:tgtEl>
                                          <p:spTgt spid="2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500" fill="hold"/>
                                        <p:tgtEl>
                                          <p:spTgt spid="2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2" fill="hold">
                            <p:stCondLst>
                              <p:cond delay="45000"/>
                            </p:stCondLst>
                            <p:childTnLst>
                              <p:par>
                                <p:cTn id="25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5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6" fill="hold">
                            <p:stCondLst>
                              <p:cond delay="45500"/>
                            </p:stCondLst>
                            <p:childTnLst>
                              <p:par>
                                <p:cTn id="25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9" dur="500"/>
                                        <p:tgtEl>
                                          <p:spTgt spid="2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0" fill="hold">
                            <p:stCondLst>
                              <p:cond delay="47000"/>
                            </p:stCondLst>
                            <p:childTnLst>
                              <p:par>
                                <p:cTn id="2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3" dur="5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4" fill="hold">
                            <p:stCondLst>
                              <p:cond delay="47500"/>
                            </p:stCondLst>
                            <p:childTnLst>
                              <p:par>
                                <p:cTn id="253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7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8" fill="hold">
                            <p:stCondLst>
                              <p:cond delay="49000"/>
                            </p:stCondLst>
                            <p:childTnLst>
                              <p:par>
                                <p:cTn id="2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1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2" fill="hold">
                            <p:stCondLst>
                              <p:cond delay="49500"/>
                            </p:stCondLst>
                            <p:childTnLst>
                              <p:par>
                                <p:cTn id="2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5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6" fill="hold">
                            <p:stCondLst>
                              <p:cond delay="50000"/>
                            </p:stCondLst>
                            <p:childTnLst>
                              <p:par>
                                <p:cTn id="254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9" dur="500"/>
                                        <p:tgtEl>
                                          <p:spTgt spid="2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0" fill="hold">
                            <p:stCondLst>
                              <p:cond delay="52500"/>
                            </p:stCondLst>
                            <p:childTnLst>
                              <p:par>
                                <p:cTn id="25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3" dur="500"/>
                                        <p:tgtEl>
                                          <p:spTgt spid="2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4" fill="hold">
                            <p:stCondLst>
                              <p:cond delay="53000"/>
                            </p:stCondLst>
                            <p:childTnLst>
                              <p:par>
                                <p:cTn id="25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7" dur="500"/>
                                        <p:tgtEl>
                                          <p:spTgt spid="2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228600" y="1295280"/>
            <a:ext cx="1142640" cy="1142640"/>
            <a:chOff x="228600" y="1295280"/>
            <a:chExt cx="1142640" cy="1142640"/>
          </a:xfrm>
        </p:grpSpPr>
        <p:sp>
          <p:nvSpPr>
            <p:cNvPr id="191" name=""/>
            <p:cNvSpPr/>
            <p:nvPr/>
          </p:nvSpPr>
          <p:spPr>
            <a:xfrm>
              <a:off x="228600" y="1295280"/>
              <a:ext cx="1142640" cy="1142640"/>
            </a:xfrm>
            <a:prstGeom prst="ellipse">
              <a:avLst/>
            </a:prstGeom>
            <a:solidFill>
              <a:srgbClr val="d3b1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480" y="1397160"/>
              <a:ext cx="952560" cy="95256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1880" y="152352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10120" y="910800"/>
            <a:ext cx="583200" cy="381600"/>
            <a:chOff x="510120" y="910800"/>
            <a:chExt cx="583200" cy="381600"/>
          </a:xfrm>
        </p:grpSpPr>
        <p:sp>
          <p:nvSpPr>
            <p:cNvPr id="195" name=""/>
            <p:cNvSpPr/>
            <p:nvPr/>
          </p:nvSpPr>
          <p:spPr>
            <a:xfrm rot="16161000">
              <a:off x="680040" y="1170360"/>
              <a:ext cx="196920" cy="460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542200">
              <a:off x="565200" y="993240"/>
              <a:ext cx="19692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161000">
              <a:off x="769680" y="1169280"/>
              <a:ext cx="196920" cy="4464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7184600">
              <a:off x="857160" y="988920"/>
              <a:ext cx="19656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7184600">
              <a:off x="946080" y="1004760"/>
              <a:ext cx="19656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4542200">
              <a:off x="477000" y="1024200"/>
              <a:ext cx="19512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52280" y="457200"/>
            <a:ext cx="533520" cy="533520"/>
            <a:chOff x="152280" y="457200"/>
            <a:chExt cx="533520" cy="533520"/>
          </a:xfrm>
        </p:grpSpPr>
        <p:sp>
          <p:nvSpPr>
            <p:cNvPr id="202" name=""/>
            <p:cNvSpPr/>
            <p:nvPr/>
          </p:nvSpPr>
          <p:spPr>
            <a:xfrm>
              <a:off x="152280" y="457200"/>
              <a:ext cx="533520" cy="5335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2280" y="575640"/>
              <a:ext cx="42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A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600200" y="1523880"/>
            <a:ext cx="1143000" cy="1143000"/>
            <a:chOff x="1600200" y="1523880"/>
            <a:chExt cx="1143000" cy="1143000"/>
          </a:xfrm>
        </p:grpSpPr>
        <p:sp>
          <p:nvSpPr>
            <p:cNvPr id="205" name=""/>
            <p:cNvSpPr/>
            <p:nvPr/>
          </p:nvSpPr>
          <p:spPr>
            <a:xfrm>
              <a:off x="1600200" y="1523880"/>
              <a:ext cx="1143000" cy="1143000"/>
            </a:xfrm>
            <a:prstGeom prst="ellipse">
              <a:avLst/>
            </a:prstGeom>
            <a:solidFill>
              <a:srgbClr val="d3b1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03520" y="1626840"/>
              <a:ext cx="952560" cy="95256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981080" y="838080"/>
            <a:ext cx="1143000" cy="1143000"/>
            <a:chOff x="1981080" y="838080"/>
            <a:chExt cx="1143000" cy="1143000"/>
          </a:xfrm>
        </p:grpSpPr>
        <p:sp>
          <p:nvSpPr>
            <p:cNvPr id="208" name=""/>
            <p:cNvSpPr/>
            <p:nvPr/>
          </p:nvSpPr>
          <p:spPr>
            <a:xfrm>
              <a:off x="1981080" y="838080"/>
              <a:ext cx="1143000" cy="1143000"/>
            </a:xfrm>
            <a:prstGeom prst="ellipse">
              <a:avLst/>
            </a:prstGeom>
            <a:solidFill>
              <a:srgbClr val="d3b1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84400" y="941040"/>
              <a:ext cx="952560" cy="95256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743200" y="1523880"/>
            <a:ext cx="1143000" cy="1143000"/>
            <a:chOff x="2743200" y="1523880"/>
            <a:chExt cx="1143000" cy="1143000"/>
          </a:xfrm>
        </p:grpSpPr>
        <p:sp>
          <p:nvSpPr>
            <p:cNvPr id="211" name=""/>
            <p:cNvSpPr/>
            <p:nvPr/>
          </p:nvSpPr>
          <p:spPr>
            <a:xfrm>
              <a:off x="2743200" y="1523880"/>
              <a:ext cx="1143000" cy="1143000"/>
            </a:xfrm>
            <a:prstGeom prst="ellipse">
              <a:avLst/>
            </a:prstGeom>
            <a:solidFill>
              <a:srgbClr val="d3b1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46520" y="1626840"/>
              <a:ext cx="952560" cy="95256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057400" y="2133720"/>
            <a:ext cx="1143000" cy="1143000"/>
            <a:chOff x="2057400" y="2133720"/>
            <a:chExt cx="1143000" cy="1143000"/>
          </a:xfrm>
        </p:grpSpPr>
        <p:sp>
          <p:nvSpPr>
            <p:cNvPr id="214" name=""/>
            <p:cNvSpPr/>
            <p:nvPr/>
          </p:nvSpPr>
          <p:spPr>
            <a:xfrm>
              <a:off x="2057400" y="2133720"/>
              <a:ext cx="1143000" cy="1143000"/>
            </a:xfrm>
            <a:prstGeom prst="ellipse">
              <a:avLst/>
            </a:prstGeom>
            <a:solidFill>
              <a:srgbClr val="d3b1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60720" y="2236680"/>
              <a:ext cx="952560" cy="95256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962520" y="1523880"/>
            <a:ext cx="1828080" cy="1289880"/>
            <a:chOff x="3962520" y="1523880"/>
            <a:chExt cx="1828080" cy="1289880"/>
          </a:xfrm>
        </p:grpSpPr>
        <p:grpSp>
          <p:nvGrpSpPr>
            <p:cNvPr id="217" name=""/>
            <p:cNvGrpSpPr/>
            <p:nvPr/>
          </p:nvGrpSpPr>
          <p:grpSpPr>
            <a:xfrm>
              <a:off x="3962520" y="1523880"/>
              <a:ext cx="1828080" cy="1218600"/>
              <a:chOff x="3962520" y="1523880"/>
              <a:chExt cx="1828080" cy="1218600"/>
            </a:xfrm>
          </p:grpSpPr>
          <p:sp>
            <p:nvSpPr>
              <p:cNvPr id="218" name=""/>
              <p:cNvSpPr/>
              <p:nvPr/>
            </p:nvSpPr>
            <p:spPr>
              <a:xfrm>
                <a:off x="3962520" y="1523880"/>
                <a:ext cx="1828080" cy="1218600"/>
              </a:xfrm>
              <a:prstGeom prst="ellipse">
                <a:avLst/>
              </a:prstGeom>
              <a:solidFill>
                <a:srgbClr val="fcdc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068720" y="1744200"/>
                <a:ext cx="860760" cy="777240"/>
              </a:xfrm>
              <a:prstGeom prst="ellipse">
                <a:avLst/>
              </a:prstGeom>
              <a:solidFill>
                <a:srgbClr val="cb93f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068720" y="1767240"/>
                <a:ext cx="990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600" spc="-1" strike="noStrike">
                    <a:solidFill>
                      <a:srgbClr val="000000"/>
                    </a:solidFill>
                    <a:latin typeface="Times New Roman"/>
                  </a:rPr>
                  <a:t>CP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 rot="2536800">
              <a:off x="4408920" y="1684800"/>
              <a:ext cx="837360" cy="973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2536800">
              <a:off x="4286880" y="1684800"/>
              <a:ext cx="837360" cy="973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2536800">
              <a:off x="4531680" y="1685520"/>
              <a:ext cx="836640" cy="973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2536800">
              <a:off x="4652640" y="1684800"/>
              <a:ext cx="837360" cy="973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816160" y="1441800"/>
            <a:ext cx="543600" cy="464400"/>
            <a:chOff x="5816160" y="1441800"/>
            <a:chExt cx="543600" cy="464400"/>
          </a:xfrm>
        </p:grpSpPr>
        <p:sp>
          <p:nvSpPr>
            <p:cNvPr id="226" name=""/>
            <p:cNvSpPr/>
            <p:nvPr/>
          </p:nvSpPr>
          <p:spPr>
            <a:xfrm rot="14617800">
              <a:off x="6056280" y="1784520"/>
              <a:ext cx="196920" cy="460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2999000">
              <a:off x="5875560" y="1674720"/>
              <a:ext cx="19692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4617800">
              <a:off x="6136200" y="1744560"/>
              <a:ext cx="196920" cy="4464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5640800">
              <a:off x="6136560" y="1544400"/>
              <a:ext cx="19656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5640800">
              <a:off x="6223680" y="1520280"/>
              <a:ext cx="19656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2999000">
              <a:off x="5810040" y="1741320"/>
              <a:ext cx="19512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091560" y="2082600"/>
            <a:ext cx="433080" cy="563760"/>
            <a:chOff x="6091560" y="2082600"/>
            <a:chExt cx="433080" cy="563760"/>
          </a:xfrm>
        </p:grpSpPr>
        <p:sp>
          <p:nvSpPr>
            <p:cNvPr id="233" name=""/>
            <p:cNvSpPr/>
            <p:nvPr/>
          </p:nvSpPr>
          <p:spPr>
            <a:xfrm rot="1057200">
              <a:off x="6120000" y="2244240"/>
              <a:ext cx="196920" cy="460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21038400">
              <a:off x="6325200" y="2192040"/>
              <a:ext cx="19692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057200">
              <a:off x="6093720" y="2330640"/>
              <a:ext cx="196920" cy="4464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2080200">
              <a:off x="6237720" y="2470320"/>
              <a:ext cx="19656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080200">
              <a:off x="6194880" y="2549880"/>
              <a:ext cx="19656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21038400">
              <a:off x="6324480" y="2098080"/>
              <a:ext cx="19512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587280" y="1712160"/>
            <a:ext cx="563040" cy="433800"/>
            <a:chOff x="6587280" y="1712160"/>
            <a:chExt cx="563040" cy="433800"/>
          </a:xfrm>
        </p:grpSpPr>
        <p:sp>
          <p:nvSpPr>
            <p:cNvPr id="240" name=""/>
            <p:cNvSpPr/>
            <p:nvPr/>
          </p:nvSpPr>
          <p:spPr>
            <a:xfrm rot="17279400">
              <a:off x="6671880" y="1995120"/>
              <a:ext cx="196920" cy="460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5660000">
              <a:off x="6620040" y="1790640"/>
              <a:ext cx="19692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7279400">
              <a:off x="6757560" y="2022840"/>
              <a:ext cx="196920" cy="4464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8301800">
              <a:off x="6898320" y="1879920"/>
              <a:ext cx="19656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8301800">
              <a:off x="6977520" y="1923480"/>
              <a:ext cx="19656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5660000">
              <a:off x="6526800" y="1791720"/>
              <a:ext cx="19512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867280" y="914400"/>
            <a:ext cx="533520" cy="533520"/>
            <a:chOff x="5867280" y="914400"/>
            <a:chExt cx="533520" cy="533520"/>
          </a:xfrm>
        </p:grpSpPr>
        <p:sp>
          <p:nvSpPr>
            <p:cNvPr id="247" name=""/>
            <p:cNvSpPr/>
            <p:nvPr/>
          </p:nvSpPr>
          <p:spPr>
            <a:xfrm>
              <a:off x="5867280" y="914400"/>
              <a:ext cx="533520" cy="5335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867280" y="1032840"/>
              <a:ext cx="42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A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6915240" y="1276560"/>
            <a:ext cx="723600" cy="723240"/>
            <a:chOff x="6915240" y="1276560"/>
            <a:chExt cx="723600" cy="723240"/>
          </a:xfrm>
        </p:grpSpPr>
        <p:sp>
          <p:nvSpPr>
            <p:cNvPr id="250" name=""/>
            <p:cNvSpPr/>
            <p:nvPr/>
          </p:nvSpPr>
          <p:spPr>
            <a:xfrm rot="3690600">
              <a:off x="7010280" y="1371240"/>
              <a:ext cx="533520" cy="5335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3690600">
              <a:off x="7033680" y="1440000"/>
              <a:ext cx="42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A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293520" y="2254320"/>
            <a:ext cx="748440" cy="748440"/>
            <a:chOff x="6293520" y="2254320"/>
            <a:chExt cx="748440" cy="748440"/>
          </a:xfrm>
        </p:grpSpPr>
        <p:sp>
          <p:nvSpPr>
            <p:cNvPr id="253" name=""/>
            <p:cNvSpPr/>
            <p:nvPr/>
          </p:nvSpPr>
          <p:spPr>
            <a:xfrm rot="18466200">
              <a:off x="6400800" y="236160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8466200">
              <a:off x="6425640" y="2520360"/>
              <a:ext cx="42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A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55" name=""/>
          <p:cNvGraphicFramePr/>
          <p:nvPr/>
        </p:nvGraphicFramePr>
        <p:xfrm>
          <a:off x="7543800" y="228600"/>
          <a:ext cx="74448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228600"/>
                    <a:ext cx="7444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7" name=""/>
          <p:cNvGrpSpPr/>
          <p:nvPr/>
        </p:nvGrpSpPr>
        <p:grpSpPr>
          <a:xfrm>
            <a:off x="8112240" y="861840"/>
            <a:ext cx="838080" cy="838440"/>
            <a:chOff x="8112240" y="861840"/>
            <a:chExt cx="838080" cy="838440"/>
          </a:xfrm>
        </p:grpSpPr>
        <p:sp>
          <p:nvSpPr>
            <p:cNvPr id="258" name=""/>
            <p:cNvSpPr/>
            <p:nvPr/>
          </p:nvSpPr>
          <p:spPr>
            <a:xfrm>
              <a:off x="8112240" y="861840"/>
              <a:ext cx="838080" cy="838440"/>
            </a:xfrm>
            <a:prstGeom prst="ellipse">
              <a:avLst/>
            </a:prstGeom>
            <a:solidFill>
              <a:srgbClr val="d5ab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531280" y="1001160"/>
              <a:ext cx="279360" cy="22392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9549800">
              <a:off x="8251560" y="1071360"/>
              <a:ext cx="279360" cy="16704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2393400">
              <a:off x="8177040" y="1292040"/>
              <a:ext cx="417600" cy="19800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9315800">
              <a:off x="8531280" y="1420560"/>
              <a:ext cx="279360" cy="13968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8740800" y="1211040"/>
              <a:ext cx="138960" cy="139680"/>
              <a:chOff x="8740800" y="1211040"/>
              <a:chExt cx="138960" cy="139680"/>
            </a:xfrm>
          </p:grpSpPr>
          <p:sp>
            <p:nvSpPr>
              <p:cNvPr id="264" name=""/>
              <p:cNvSpPr/>
              <p:nvPr/>
            </p:nvSpPr>
            <p:spPr>
              <a:xfrm>
                <a:off x="8740800" y="127080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802360" y="133092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802360" y="121104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863920" y="127080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8531280" y="1280880"/>
              <a:ext cx="138960" cy="139320"/>
              <a:chOff x="8531280" y="1280880"/>
              <a:chExt cx="138960" cy="139320"/>
            </a:xfrm>
          </p:grpSpPr>
          <p:sp>
            <p:nvSpPr>
              <p:cNvPr id="269" name=""/>
              <p:cNvSpPr/>
              <p:nvPr/>
            </p:nvSpPr>
            <p:spPr>
              <a:xfrm>
                <a:off x="8531280" y="134064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592840" y="140040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592840" y="128088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654400" y="134064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8461080" y="931680"/>
              <a:ext cx="139680" cy="139320"/>
              <a:chOff x="8461080" y="931680"/>
              <a:chExt cx="139680" cy="139320"/>
            </a:xfrm>
          </p:grpSpPr>
          <p:sp>
            <p:nvSpPr>
              <p:cNvPr id="274" name=""/>
              <p:cNvSpPr/>
              <p:nvPr/>
            </p:nvSpPr>
            <p:spPr>
              <a:xfrm>
                <a:off x="8461080" y="991440"/>
                <a:ext cx="1620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523000" y="105120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523000" y="93168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584560" y="991440"/>
                <a:ext cx="1620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8182080" y="1071360"/>
              <a:ext cx="138960" cy="139320"/>
              <a:chOff x="8182080" y="1071360"/>
              <a:chExt cx="138960" cy="139320"/>
            </a:xfrm>
          </p:grpSpPr>
          <p:sp>
            <p:nvSpPr>
              <p:cNvPr id="279" name=""/>
              <p:cNvSpPr/>
              <p:nvPr/>
            </p:nvSpPr>
            <p:spPr>
              <a:xfrm>
                <a:off x="8182080" y="113112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243640" y="119088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243640" y="107136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305200" y="113112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8321760" y="1490400"/>
              <a:ext cx="138960" cy="139320"/>
              <a:chOff x="8321760" y="1490400"/>
              <a:chExt cx="138960" cy="139320"/>
            </a:xfrm>
          </p:grpSpPr>
          <p:sp>
            <p:nvSpPr>
              <p:cNvPr id="284" name=""/>
              <p:cNvSpPr/>
              <p:nvPr/>
            </p:nvSpPr>
            <p:spPr>
              <a:xfrm>
                <a:off x="8321760" y="155016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383320" y="160992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383320" y="149040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444880" y="155016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8182080" y="1280880"/>
              <a:ext cx="138960" cy="139320"/>
              <a:chOff x="8182080" y="1280880"/>
              <a:chExt cx="138960" cy="139320"/>
            </a:xfrm>
          </p:grpSpPr>
          <p:sp>
            <p:nvSpPr>
              <p:cNvPr id="289" name=""/>
              <p:cNvSpPr/>
              <p:nvPr/>
            </p:nvSpPr>
            <p:spPr>
              <a:xfrm>
                <a:off x="8182080" y="134064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243640" y="140040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243640" y="128088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305200" y="134064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8391600" y="1141200"/>
              <a:ext cx="138960" cy="139320"/>
              <a:chOff x="8391600" y="1141200"/>
              <a:chExt cx="138960" cy="139320"/>
            </a:xfrm>
          </p:grpSpPr>
          <p:sp>
            <p:nvSpPr>
              <p:cNvPr id="294" name=""/>
              <p:cNvSpPr/>
              <p:nvPr/>
            </p:nvSpPr>
            <p:spPr>
              <a:xfrm>
                <a:off x="8391600" y="120096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453160" y="126072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453160" y="114120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514720" y="120096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8670600" y="931680"/>
              <a:ext cx="139680" cy="139320"/>
              <a:chOff x="8670600" y="931680"/>
              <a:chExt cx="139680" cy="139320"/>
            </a:xfrm>
          </p:grpSpPr>
          <p:sp>
            <p:nvSpPr>
              <p:cNvPr id="299" name=""/>
              <p:cNvSpPr/>
              <p:nvPr/>
            </p:nvSpPr>
            <p:spPr>
              <a:xfrm>
                <a:off x="8670600" y="991440"/>
                <a:ext cx="1620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732520" y="105120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8732520" y="93168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794080" y="991440"/>
                <a:ext cx="1620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8601120" y="1490400"/>
              <a:ext cx="138960" cy="139320"/>
              <a:chOff x="8601120" y="1490400"/>
              <a:chExt cx="138960" cy="139320"/>
            </a:xfrm>
          </p:grpSpPr>
          <p:sp>
            <p:nvSpPr>
              <p:cNvPr id="304" name=""/>
              <p:cNvSpPr/>
              <p:nvPr/>
            </p:nvSpPr>
            <p:spPr>
              <a:xfrm>
                <a:off x="8601120" y="155016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662680" y="160992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8662680" y="149040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724240" y="155016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8321760" y="931680"/>
              <a:ext cx="138960" cy="139320"/>
              <a:chOff x="8321760" y="931680"/>
              <a:chExt cx="138960" cy="139320"/>
            </a:xfrm>
          </p:grpSpPr>
          <p:sp>
            <p:nvSpPr>
              <p:cNvPr id="309" name=""/>
              <p:cNvSpPr/>
              <p:nvPr/>
            </p:nvSpPr>
            <p:spPr>
              <a:xfrm>
                <a:off x="8321760" y="99144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383320" y="105120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383320" y="93168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444880" y="99144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8251560" y="1420560"/>
              <a:ext cx="139680" cy="139680"/>
              <a:chOff x="8251560" y="1420560"/>
              <a:chExt cx="139680" cy="139680"/>
            </a:xfrm>
          </p:grpSpPr>
          <p:sp>
            <p:nvSpPr>
              <p:cNvPr id="314" name=""/>
              <p:cNvSpPr/>
              <p:nvPr/>
            </p:nvSpPr>
            <p:spPr>
              <a:xfrm>
                <a:off x="8251560" y="1480320"/>
                <a:ext cx="1620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313480" y="154044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313480" y="142056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375040" y="1480320"/>
                <a:ext cx="1620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8461080" y="1490400"/>
              <a:ext cx="139680" cy="139320"/>
              <a:chOff x="8461080" y="1490400"/>
              <a:chExt cx="139680" cy="139320"/>
            </a:xfrm>
          </p:grpSpPr>
          <p:sp>
            <p:nvSpPr>
              <p:cNvPr id="319" name=""/>
              <p:cNvSpPr/>
              <p:nvPr/>
            </p:nvSpPr>
            <p:spPr>
              <a:xfrm>
                <a:off x="8461080" y="1550160"/>
                <a:ext cx="1620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523000" y="160992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523000" y="149040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584560" y="1550160"/>
                <a:ext cx="1620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8740800" y="1350720"/>
              <a:ext cx="138960" cy="139320"/>
              <a:chOff x="8740800" y="1350720"/>
              <a:chExt cx="138960" cy="139320"/>
            </a:xfrm>
          </p:grpSpPr>
          <p:sp>
            <p:nvSpPr>
              <p:cNvPr id="324" name=""/>
              <p:cNvSpPr/>
              <p:nvPr/>
            </p:nvSpPr>
            <p:spPr>
              <a:xfrm>
                <a:off x="8740800" y="141048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802360" y="147024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802360" y="135072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863920" y="141048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8740800" y="1071360"/>
              <a:ext cx="138960" cy="139320"/>
              <a:chOff x="8740800" y="1071360"/>
              <a:chExt cx="138960" cy="139320"/>
            </a:xfrm>
          </p:grpSpPr>
          <p:sp>
            <p:nvSpPr>
              <p:cNvPr id="329" name=""/>
              <p:cNvSpPr/>
              <p:nvPr/>
            </p:nvSpPr>
            <p:spPr>
              <a:xfrm>
                <a:off x="8740800" y="113112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8802360" y="119088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8802360" y="107136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863920" y="113112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3" name=""/>
          <p:cNvGrpSpPr/>
          <p:nvPr/>
        </p:nvGrpSpPr>
        <p:grpSpPr>
          <a:xfrm>
            <a:off x="8147160" y="2368440"/>
            <a:ext cx="838080" cy="838440"/>
            <a:chOff x="8147160" y="2368440"/>
            <a:chExt cx="838080" cy="838440"/>
          </a:xfrm>
        </p:grpSpPr>
        <p:sp>
          <p:nvSpPr>
            <p:cNvPr id="334" name=""/>
            <p:cNvSpPr/>
            <p:nvPr/>
          </p:nvSpPr>
          <p:spPr>
            <a:xfrm>
              <a:off x="8147160" y="2368440"/>
              <a:ext cx="838080" cy="8384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217000" y="2438280"/>
              <a:ext cx="628560" cy="62856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8426520" y="2997000"/>
              <a:ext cx="348840" cy="209520"/>
              <a:chOff x="8426520" y="2997000"/>
              <a:chExt cx="348840" cy="209520"/>
            </a:xfrm>
          </p:grpSpPr>
          <p:sp>
            <p:nvSpPr>
              <p:cNvPr id="337" name=""/>
              <p:cNvSpPr/>
              <p:nvPr/>
            </p:nvSpPr>
            <p:spPr>
              <a:xfrm flipH="1" flipV="1">
                <a:off x="8575920" y="299700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 flipV="1">
                <a:off x="8725680" y="308052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 flipV="1">
                <a:off x="8575920" y="316476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 flipV="1">
                <a:off x="8426520" y="308052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8566200" y="2787480"/>
              <a:ext cx="348840" cy="209520"/>
              <a:chOff x="8566200" y="2787480"/>
              <a:chExt cx="348840" cy="209520"/>
            </a:xfrm>
          </p:grpSpPr>
          <p:sp>
            <p:nvSpPr>
              <p:cNvPr id="342" name=""/>
              <p:cNvSpPr/>
              <p:nvPr/>
            </p:nvSpPr>
            <p:spPr>
              <a:xfrm flipH="1" flipV="1">
                <a:off x="8715600" y="278748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 flipV="1">
                <a:off x="8865360" y="287100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 flipV="1">
                <a:off x="8715600" y="295524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 flipV="1">
                <a:off x="8566200" y="287100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8217000" y="2857320"/>
              <a:ext cx="348840" cy="209520"/>
              <a:chOff x="8217000" y="2857320"/>
              <a:chExt cx="348840" cy="209520"/>
            </a:xfrm>
          </p:grpSpPr>
          <p:sp>
            <p:nvSpPr>
              <p:cNvPr id="347" name=""/>
              <p:cNvSpPr/>
              <p:nvPr/>
            </p:nvSpPr>
            <p:spPr>
              <a:xfrm flipH="1" flipV="1">
                <a:off x="8366400" y="285732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8516160" y="294084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flipV="1">
                <a:off x="8366400" y="302508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 flipV="1">
                <a:off x="8217000" y="294084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8426520" y="2927520"/>
              <a:ext cx="348840" cy="209520"/>
              <a:chOff x="8426520" y="2927520"/>
              <a:chExt cx="348840" cy="209520"/>
            </a:xfrm>
          </p:grpSpPr>
          <p:sp>
            <p:nvSpPr>
              <p:cNvPr id="352" name=""/>
              <p:cNvSpPr/>
              <p:nvPr/>
            </p:nvSpPr>
            <p:spPr>
              <a:xfrm flipH="1" flipV="1">
                <a:off x="8575920" y="292752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 flipV="1">
                <a:off x="8725680" y="301104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 flipV="1">
                <a:off x="8575920" y="309528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flipV="1">
                <a:off x="8426520" y="301104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8566200" y="2577960"/>
              <a:ext cx="348840" cy="209520"/>
              <a:chOff x="8566200" y="2577960"/>
              <a:chExt cx="348840" cy="209520"/>
            </a:xfrm>
          </p:grpSpPr>
          <p:sp>
            <p:nvSpPr>
              <p:cNvPr id="357" name=""/>
              <p:cNvSpPr/>
              <p:nvPr/>
            </p:nvSpPr>
            <p:spPr>
              <a:xfrm flipH="1" flipV="1">
                <a:off x="8715600" y="257796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 flipV="1">
                <a:off x="8865360" y="266148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 flipV="1">
                <a:off x="8715600" y="274572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 flipV="1">
                <a:off x="8566200" y="266148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8147160" y="2718000"/>
              <a:ext cx="348840" cy="209520"/>
              <a:chOff x="8147160" y="2718000"/>
              <a:chExt cx="348840" cy="209520"/>
            </a:xfrm>
          </p:grpSpPr>
          <p:sp>
            <p:nvSpPr>
              <p:cNvPr id="362" name=""/>
              <p:cNvSpPr/>
              <p:nvPr/>
            </p:nvSpPr>
            <p:spPr>
              <a:xfrm flipH="1" flipV="1">
                <a:off x="8296560" y="271800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8446320" y="280152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 flipV="1">
                <a:off x="8296560" y="288576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8147160" y="280152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8426520" y="2368440"/>
              <a:ext cx="348840" cy="209520"/>
              <a:chOff x="8426520" y="2368440"/>
              <a:chExt cx="348840" cy="209520"/>
            </a:xfrm>
          </p:grpSpPr>
          <p:sp>
            <p:nvSpPr>
              <p:cNvPr id="367" name=""/>
              <p:cNvSpPr/>
              <p:nvPr/>
            </p:nvSpPr>
            <p:spPr>
              <a:xfrm flipH="1" flipV="1">
                <a:off x="8575920" y="236844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 flipV="1">
                <a:off x="8725680" y="245196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 flipV="1">
                <a:off x="8575920" y="253620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 flipV="1">
                <a:off x="8426520" y="245196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1" name=""/>
          <p:cNvGrpSpPr/>
          <p:nvPr/>
        </p:nvGrpSpPr>
        <p:grpSpPr>
          <a:xfrm>
            <a:off x="7473960" y="1505520"/>
            <a:ext cx="1110960" cy="1125000"/>
            <a:chOff x="7473960" y="1505520"/>
            <a:chExt cx="1110960" cy="1125000"/>
          </a:xfrm>
        </p:grpSpPr>
        <p:sp>
          <p:nvSpPr>
            <p:cNvPr id="372" name=""/>
            <p:cNvSpPr/>
            <p:nvPr/>
          </p:nvSpPr>
          <p:spPr>
            <a:xfrm rot="11630400">
              <a:off x="7572240" y="1600920"/>
              <a:ext cx="914400" cy="93348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11630400">
              <a:off x="7873560" y="1907640"/>
              <a:ext cx="298440" cy="28368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291960" y="4743360"/>
            <a:ext cx="1155600" cy="1175760"/>
            <a:chOff x="291960" y="4743360"/>
            <a:chExt cx="1155600" cy="1175760"/>
          </a:xfrm>
        </p:grpSpPr>
        <p:grpSp>
          <p:nvGrpSpPr>
            <p:cNvPr id="375" name=""/>
            <p:cNvGrpSpPr/>
            <p:nvPr/>
          </p:nvGrpSpPr>
          <p:grpSpPr>
            <a:xfrm>
              <a:off x="291960" y="4743360"/>
              <a:ext cx="1155600" cy="1175760"/>
              <a:chOff x="291960" y="4743360"/>
              <a:chExt cx="1155600" cy="1175760"/>
            </a:xfrm>
          </p:grpSpPr>
          <p:sp>
            <p:nvSpPr>
              <p:cNvPr id="376" name=""/>
              <p:cNvSpPr/>
              <p:nvPr/>
            </p:nvSpPr>
            <p:spPr>
              <a:xfrm>
                <a:off x="291960" y="4743360"/>
                <a:ext cx="1155600" cy="117576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98160" y="4865040"/>
                <a:ext cx="945000" cy="962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609480" y="50050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774000" y="4590360"/>
            <a:ext cx="132480" cy="152640"/>
            <a:chOff x="774000" y="4590360"/>
            <a:chExt cx="132480" cy="152640"/>
          </a:xfrm>
        </p:grpSpPr>
        <p:sp>
          <p:nvSpPr>
            <p:cNvPr id="380" name=""/>
            <p:cNvSpPr/>
            <p:nvPr/>
          </p:nvSpPr>
          <p:spPr>
            <a:xfrm rot="16177200">
              <a:off x="714240" y="4650480"/>
              <a:ext cx="152280" cy="3204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16177200">
              <a:off x="812160" y="4649040"/>
              <a:ext cx="152280" cy="35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196560" y="3226680"/>
            <a:ext cx="1225440" cy="1243080"/>
            <a:chOff x="196560" y="3226680"/>
            <a:chExt cx="1225440" cy="1243080"/>
          </a:xfrm>
        </p:grpSpPr>
        <p:sp>
          <p:nvSpPr>
            <p:cNvPr id="383" name=""/>
            <p:cNvSpPr/>
            <p:nvPr/>
          </p:nvSpPr>
          <p:spPr>
            <a:xfrm rot="10545000">
              <a:off x="237600" y="3267360"/>
              <a:ext cx="1142640" cy="116172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0545000">
              <a:off x="607680" y="3651840"/>
              <a:ext cx="372960" cy="35316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67800" y="4384440"/>
            <a:ext cx="352440" cy="194040"/>
            <a:chOff x="667800" y="4384440"/>
            <a:chExt cx="352440" cy="194040"/>
          </a:xfrm>
        </p:grpSpPr>
        <p:grpSp>
          <p:nvGrpSpPr>
            <p:cNvPr id="386" name=""/>
            <p:cNvGrpSpPr/>
            <p:nvPr/>
          </p:nvGrpSpPr>
          <p:grpSpPr>
            <a:xfrm>
              <a:off x="667800" y="4384440"/>
              <a:ext cx="352440" cy="174600"/>
              <a:chOff x="667800" y="4384440"/>
              <a:chExt cx="352440" cy="174600"/>
            </a:xfrm>
          </p:grpSpPr>
          <p:sp>
            <p:nvSpPr>
              <p:cNvPr id="387" name=""/>
              <p:cNvSpPr/>
              <p:nvPr/>
            </p:nvSpPr>
            <p:spPr>
              <a:xfrm rot="10799400">
                <a:off x="667440" y="4384440"/>
                <a:ext cx="352440" cy="174600"/>
              </a:xfrm>
              <a:prstGeom prst="flowChartManualOperation">
                <a:avLst/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844200" y="4384440"/>
                <a:ext cx="0" cy="17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902520" y="447192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784800" y="44715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785520" y="4471920"/>
                <a:ext cx="11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392" name=""/>
            <p:cNvGraphicFramePr/>
            <p:nvPr/>
          </p:nvGraphicFramePr>
          <p:xfrm>
            <a:off x="785520" y="4481640"/>
            <a:ext cx="117720" cy="96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85520" y="4481640"/>
                      <a:ext cx="117720" cy="9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94" name=""/>
          <p:cNvSpPr/>
          <p:nvPr/>
        </p:nvSpPr>
        <p:spPr>
          <a:xfrm>
            <a:off x="787320" y="4476600"/>
            <a:ext cx="96840" cy="9684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587600" y="4919760"/>
            <a:ext cx="1155240" cy="1175760"/>
            <a:chOff x="1587600" y="4919760"/>
            <a:chExt cx="1155240" cy="1175760"/>
          </a:xfrm>
        </p:grpSpPr>
        <p:sp>
          <p:nvSpPr>
            <p:cNvPr id="396" name=""/>
            <p:cNvSpPr/>
            <p:nvPr/>
          </p:nvSpPr>
          <p:spPr>
            <a:xfrm>
              <a:off x="1587600" y="4919760"/>
              <a:ext cx="1155240" cy="117576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93800" y="5041440"/>
              <a:ext cx="944640" cy="96228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1968480" y="4191120"/>
            <a:ext cx="1155240" cy="1175760"/>
            <a:chOff x="1968480" y="4191120"/>
            <a:chExt cx="1155240" cy="1175760"/>
          </a:xfrm>
        </p:grpSpPr>
        <p:sp>
          <p:nvSpPr>
            <p:cNvPr id="399" name=""/>
            <p:cNvSpPr/>
            <p:nvPr/>
          </p:nvSpPr>
          <p:spPr>
            <a:xfrm>
              <a:off x="1968480" y="4191120"/>
              <a:ext cx="1155240" cy="117576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074680" y="4312800"/>
              <a:ext cx="944640" cy="96228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806560" y="4843440"/>
            <a:ext cx="1155600" cy="1176120"/>
            <a:chOff x="2806560" y="4843440"/>
            <a:chExt cx="1155600" cy="1176120"/>
          </a:xfrm>
        </p:grpSpPr>
        <p:sp>
          <p:nvSpPr>
            <p:cNvPr id="402" name=""/>
            <p:cNvSpPr/>
            <p:nvPr/>
          </p:nvSpPr>
          <p:spPr>
            <a:xfrm>
              <a:off x="2806560" y="4843440"/>
              <a:ext cx="1155600" cy="117612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12760" y="4965120"/>
              <a:ext cx="945000" cy="96264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2057400" y="5529240"/>
            <a:ext cx="1155240" cy="1176120"/>
            <a:chOff x="2057400" y="5529240"/>
            <a:chExt cx="1155240" cy="1176120"/>
          </a:xfrm>
        </p:grpSpPr>
        <p:sp>
          <p:nvSpPr>
            <p:cNvPr id="405" name=""/>
            <p:cNvSpPr/>
            <p:nvPr/>
          </p:nvSpPr>
          <p:spPr>
            <a:xfrm>
              <a:off x="2057400" y="5529240"/>
              <a:ext cx="1155240" cy="117612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63600" y="5650920"/>
              <a:ext cx="944640" cy="96264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3809880" y="4081320"/>
            <a:ext cx="1155600" cy="1176120"/>
            <a:chOff x="3809880" y="4081320"/>
            <a:chExt cx="1155600" cy="1176120"/>
          </a:xfrm>
        </p:grpSpPr>
        <p:sp>
          <p:nvSpPr>
            <p:cNvPr id="408" name=""/>
            <p:cNvSpPr/>
            <p:nvPr/>
          </p:nvSpPr>
          <p:spPr>
            <a:xfrm>
              <a:off x="3809880" y="4081320"/>
              <a:ext cx="1155600" cy="117612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16080" y="4203000"/>
              <a:ext cx="945000" cy="96264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5181480" y="4157640"/>
            <a:ext cx="1155600" cy="1176120"/>
            <a:chOff x="5181480" y="4157640"/>
            <a:chExt cx="1155600" cy="1176120"/>
          </a:xfrm>
        </p:grpSpPr>
        <p:sp>
          <p:nvSpPr>
            <p:cNvPr id="411" name=""/>
            <p:cNvSpPr/>
            <p:nvPr/>
          </p:nvSpPr>
          <p:spPr>
            <a:xfrm>
              <a:off x="5181480" y="4157640"/>
              <a:ext cx="1155600" cy="117612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87680" y="4279320"/>
              <a:ext cx="945000" cy="96264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178160" y="5376960"/>
            <a:ext cx="1155600" cy="1175760"/>
            <a:chOff x="4178160" y="5376960"/>
            <a:chExt cx="1155600" cy="1175760"/>
          </a:xfrm>
        </p:grpSpPr>
        <p:sp>
          <p:nvSpPr>
            <p:cNvPr id="414" name=""/>
            <p:cNvSpPr/>
            <p:nvPr/>
          </p:nvSpPr>
          <p:spPr>
            <a:xfrm>
              <a:off x="4178160" y="5376960"/>
              <a:ext cx="1155600" cy="117576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284360" y="5498640"/>
              <a:ext cx="945000" cy="96228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702400" y="5529240"/>
            <a:ext cx="1155240" cy="1176120"/>
            <a:chOff x="5702400" y="5529240"/>
            <a:chExt cx="1155240" cy="1176120"/>
          </a:xfrm>
        </p:grpSpPr>
        <p:sp>
          <p:nvSpPr>
            <p:cNvPr id="417" name=""/>
            <p:cNvSpPr/>
            <p:nvPr/>
          </p:nvSpPr>
          <p:spPr>
            <a:xfrm>
              <a:off x="5702400" y="5529240"/>
              <a:ext cx="1155240" cy="117612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808600" y="5650920"/>
              <a:ext cx="944640" cy="96264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5978520" y="576576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T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369040" y="44197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T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51280" y="44337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-CD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32160" y="575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-CD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7574760" y="3992400"/>
            <a:ext cx="1386000" cy="1387440"/>
            <a:chOff x="7574760" y="3992400"/>
            <a:chExt cx="1386000" cy="1387440"/>
          </a:xfrm>
        </p:grpSpPr>
        <p:grpSp>
          <p:nvGrpSpPr>
            <p:cNvPr id="424" name=""/>
            <p:cNvGrpSpPr/>
            <p:nvPr/>
          </p:nvGrpSpPr>
          <p:grpSpPr>
            <a:xfrm>
              <a:off x="7574760" y="3992400"/>
              <a:ext cx="1386000" cy="1387440"/>
              <a:chOff x="7574760" y="3992400"/>
              <a:chExt cx="1386000" cy="1387440"/>
            </a:xfrm>
          </p:grpSpPr>
          <p:sp>
            <p:nvSpPr>
              <p:cNvPr id="425" name=""/>
              <p:cNvSpPr/>
              <p:nvPr/>
            </p:nvSpPr>
            <p:spPr>
              <a:xfrm rot="10545000">
                <a:off x="7620840" y="4038480"/>
                <a:ext cx="1293480" cy="1295280"/>
              </a:xfrm>
              <a:custGeom>
                <a:avLst/>
                <a:gdLst/>
                <a:ahLst/>
                <a:rect l="l" t="t" r="r" b="b"/>
                <a:pathLst>
                  <a:path w="867" h="594">
                    <a:moveTo>
                      <a:pt x="120" y="109"/>
                    </a:moveTo>
                    <a:cubicBezTo>
                      <a:pt x="101" y="130"/>
                      <a:pt x="79" y="134"/>
                      <a:pt x="55" y="150"/>
                    </a:cubicBezTo>
                    <a:cubicBezTo>
                      <a:pt x="10" y="216"/>
                      <a:pt x="66" y="248"/>
                      <a:pt x="88" y="306"/>
                    </a:cubicBezTo>
                    <a:cubicBezTo>
                      <a:pt x="78" y="360"/>
                      <a:pt x="79" y="364"/>
                      <a:pt x="30" y="380"/>
                    </a:cubicBezTo>
                    <a:cubicBezTo>
                      <a:pt x="1" y="410"/>
                      <a:pt x="0" y="438"/>
                      <a:pt x="14" y="479"/>
                    </a:cubicBezTo>
                    <a:cubicBezTo>
                      <a:pt x="17" y="488"/>
                      <a:pt x="22" y="499"/>
                      <a:pt x="30" y="504"/>
                    </a:cubicBezTo>
                    <a:cubicBezTo>
                      <a:pt x="45" y="513"/>
                      <a:pt x="79" y="520"/>
                      <a:pt x="79" y="520"/>
                    </a:cubicBezTo>
                    <a:cubicBezTo>
                      <a:pt x="98" y="517"/>
                      <a:pt x="118" y="518"/>
                      <a:pt x="137" y="512"/>
                    </a:cubicBezTo>
                    <a:cubicBezTo>
                      <a:pt x="146" y="509"/>
                      <a:pt x="151" y="496"/>
                      <a:pt x="161" y="495"/>
                    </a:cubicBezTo>
                    <a:cubicBezTo>
                      <a:pt x="175" y="493"/>
                      <a:pt x="189" y="500"/>
                      <a:pt x="203" y="504"/>
                    </a:cubicBezTo>
                    <a:cubicBezTo>
                      <a:pt x="220" y="509"/>
                      <a:pt x="252" y="520"/>
                      <a:pt x="252" y="520"/>
                    </a:cubicBezTo>
                    <a:cubicBezTo>
                      <a:pt x="308" y="558"/>
                      <a:pt x="282" y="547"/>
                      <a:pt x="326" y="561"/>
                    </a:cubicBezTo>
                    <a:cubicBezTo>
                      <a:pt x="334" y="567"/>
                      <a:pt x="342" y="574"/>
                      <a:pt x="351" y="578"/>
                    </a:cubicBezTo>
                    <a:cubicBezTo>
                      <a:pt x="367" y="585"/>
                      <a:pt x="400" y="594"/>
                      <a:pt x="400" y="594"/>
                    </a:cubicBezTo>
                    <a:cubicBezTo>
                      <a:pt x="427" y="591"/>
                      <a:pt x="455" y="593"/>
                      <a:pt x="482" y="586"/>
                    </a:cubicBezTo>
                    <a:cubicBezTo>
                      <a:pt x="507" y="580"/>
                      <a:pt x="541" y="508"/>
                      <a:pt x="572" y="495"/>
                    </a:cubicBezTo>
                    <a:cubicBezTo>
                      <a:pt x="593" y="487"/>
                      <a:pt x="638" y="479"/>
                      <a:pt x="638" y="479"/>
                    </a:cubicBezTo>
                    <a:cubicBezTo>
                      <a:pt x="703" y="492"/>
                      <a:pt x="710" y="494"/>
                      <a:pt x="786" y="487"/>
                    </a:cubicBezTo>
                    <a:cubicBezTo>
                      <a:pt x="810" y="464"/>
                      <a:pt x="833" y="448"/>
                      <a:pt x="852" y="421"/>
                    </a:cubicBezTo>
                    <a:cubicBezTo>
                      <a:pt x="862" y="380"/>
                      <a:pt x="867" y="328"/>
                      <a:pt x="844" y="290"/>
                    </a:cubicBezTo>
                    <a:cubicBezTo>
                      <a:pt x="832" y="270"/>
                      <a:pt x="808" y="252"/>
                      <a:pt x="794" y="232"/>
                    </a:cubicBezTo>
                    <a:cubicBezTo>
                      <a:pt x="771" y="164"/>
                      <a:pt x="794" y="35"/>
                      <a:pt x="720" y="11"/>
                    </a:cubicBezTo>
                    <a:cubicBezTo>
                      <a:pt x="704" y="14"/>
                      <a:pt x="685" y="11"/>
                      <a:pt x="671" y="19"/>
                    </a:cubicBezTo>
                    <a:cubicBezTo>
                      <a:pt x="664" y="23"/>
                      <a:pt x="667" y="36"/>
                      <a:pt x="663" y="43"/>
                    </a:cubicBezTo>
                    <a:cubicBezTo>
                      <a:pt x="659" y="50"/>
                      <a:pt x="653" y="56"/>
                      <a:pt x="646" y="60"/>
                    </a:cubicBezTo>
                    <a:cubicBezTo>
                      <a:pt x="631" y="68"/>
                      <a:pt x="597" y="76"/>
                      <a:pt x="597" y="76"/>
                    </a:cubicBezTo>
                    <a:cubicBezTo>
                      <a:pt x="581" y="71"/>
                      <a:pt x="562" y="70"/>
                      <a:pt x="548" y="60"/>
                    </a:cubicBezTo>
                    <a:cubicBezTo>
                      <a:pt x="540" y="54"/>
                      <a:pt x="532" y="47"/>
                      <a:pt x="523" y="43"/>
                    </a:cubicBezTo>
                    <a:cubicBezTo>
                      <a:pt x="507" y="36"/>
                      <a:pt x="490" y="32"/>
                      <a:pt x="474" y="27"/>
                    </a:cubicBezTo>
                    <a:cubicBezTo>
                      <a:pt x="466" y="24"/>
                      <a:pt x="449" y="19"/>
                      <a:pt x="449" y="19"/>
                    </a:cubicBezTo>
                    <a:cubicBezTo>
                      <a:pt x="378" y="22"/>
                      <a:pt x="298" y="0"/>
                      <a:pt x="235" y="35"/>
                    </a:cubicBezTo>
                    <a:cubicBezTo>
                      <a:pt x="201" y="54"/>
                      <a:pt x="170" y="80"/>
                      <a:pt x="137" y="101"/>
                    </a:cubicBezTo>
                    <a:cubicBezTo>
                      <a:pt x="108" y="120"/>
                      <a:pt x="105" y="124"/>
                      <a:pt x="120" y="109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10545000">
                <a:off x="8424360" y="4449240"/>
                <a:ext cx="242280" cy="479160"/>
              </a:xfrm>
              <a:prstGeom prst="ellipse">
                <a:avLst/>
              </a:prstGeom>
              <a:solidFill>
                <a:srgbClr val="7572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7772400" y="4419720"/>
              <a:ext cx="457200" cy="457200"/>
            </a:xfrm>
            <a:prstGeom prst="ellipse">
              <a:avLst/>
            </a:prstGeom>
            <a:solidFill>
              <a:srgbClr val="ebf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7900920" y="4476960"/>
              <a:ext cx="228240" cy="307440"/>
              <a:chOff x="7900920" y="4476960"/>
              <a:chExt cx="228240" cy="307440"/>
            </a:xfrm>
          </p:grpSpPr>
          <p:sp>
            <p:nvSpPr>
              <p:cNvPr id="429" name=""/>
              <p:cNvSpPr/>
              <p:nvPr/>
            </p:nvSpPr>
            <p:spPr>
              <a:xfrm>
                <a:off x="7976880" y="4554360"/>
                <a:ext cx="76320" cy="190440"/>
              </a:xfrm>
              <a:custGeom>
                <a:avLst/>
                <a:gdLst>
                  <a:gd name="textAreaLeft" fmla="*/ 3600 w 76320"/>
                  <a:gd name="textAreaRight" fmla="*/ 72720 w 76320"/>
                  <a:gd name="textAreaTop" fmla="*/ 3600 h 190440"/>
                  <a:gd name="textAreaBottom" fmla="*/ 186840 h 190440"/>
                </a:gdLst>
                <a:ahLst/>
                <a:rect l="textAreaLeft" t="textAreaTop" r="textAreaRight" b="textAreaBottom"/>
                <a:pathLst>
                  <a:path w="21600" h="53746">
                    <a:moveTo>
                      <a:pt x="3600" y="0"/>
                    </a:moveTo>
                    <a:arcTo wR="3600" hR="3600" stAng="16200000" swAng="-5400000"/>
                    <a:lnTo>
                      <a:pt x="0" y="50146"/>
                    </a:lnTo>
                    <a:arcTo wR="3600" hR="3600" stAng="10800000" swAng="-5400000"/>
                    <a:lnTo>
                      <a:pt x="18000" y="5374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0" name=""/>
              <p:cNvGrpSpPr/>
              <p:nvPr/>
            </p:nvGrpSpPr>
            <p:grpSpPr>
              <a:xfrm>
                <a:off x="7900920" y="4554360"/>
                <a:ext cx="75960" cy="190440"/>
                <a:chOff x="7900920" y="4554360"/>
                <a:chExt cx="75960" cy="19044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7900920" y="4673520"/>
                  <a:ext cx="70200" cy="331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900920" y="4554360"/>
                  <a:ext cx="70200" cy="334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906680" y="4711320"/>
                  <a:ext cx="70200" cy="334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906680" y="4630680"/>
                  <a:ext cx="70200" cy="331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7906680" y="4592520"/>
                  <a:ext cx="70200" cy="331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8053200" y="4554360"/>
                <a:ext cx="75960" cy="185760"/>
                <a:chOff x="8053200" y="4554360"/>
                <a:chExt cx="75960" cy="18576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8053200" y="4554360"/>
                  <a:ext cx="70200" cy="3420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8058960" y="4627800"/>
                  <a:ext cx="70200" cy="3420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8053200" y="4705920"/>
                  <a:ext cx="70200" cy="3420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8053200" y="4588560"/>
                  <a:ext cx="70200" cy="3420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8053200" y="4666680"/>
                  <a:ext cx="70200" cy="3420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7974000" y="4476960"/>
                <a:ext cx="77040" cy="69840"/>
                <a:chOff x="7974000" y="4476960"/>
                <a:chExt cx="77040" cy="69840"/>
              </a:xfrm>
            </p:grpSpPr>
            <p:sp>
              <p:nvSpPr>
                <p:cNvPr id="443" name=""/>
                <p:cNvSpPr/>
                <p:nvPr/>
              </p:nvSpPr>
              <p:spPr>
                <a:xfrm rot="16497600">
                  <a:off x="7959600" y="4494960"/>
                  <a:ext cx="67320" cy="334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16497600">
                  <a:off x="7997760" y="4494960"/>
                  <a:ext cx="67320" cy="331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7980480" y="4743360"/>
                <a:ext cx="74520" cy="41040"/>
                <a:chOff x="7980480" y="4743360"/>
                <a:chExt cx="74520" cy="41040"/>
              </a:xfrm>
            </p:grpSpPr>
            <p:sp>
              <p:nvSpPr>
                <p:cNvPr id="446" name=""/>
                <p:cNvSpPr/>
                <p:nvPr/>
              </p:nvSpPr>
              <p:spPr>
                <a:xfrm rot="16497600">
                  <a:off x="7980840" y="4745880"/>
                  <a:ext cx="37800" cy="356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16497600">
                  <a:off x="8016480" y="4745880"/>
                  <a:ext cx="37800" cy="356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48" name=""/>
          <p:cNvSpPr/>
          <p:nvPr/>
        </p:nvSpPr>
        <p:spPr>
          <a:xfrm>
            <a:off x="7772400" y="4419720"/>
            <a:ext cx="457200" cy="457200"/>
          </a:xfrm>
          <a:prstGeom prst="ellipse">
            <a:avLst/>
          </a:prstGeom>
          <a:solidFill>
            <a:srgbClr val="ebf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5880" y="46483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553080" y="46483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010280" y="46483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467480" y="46483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924680" y="46483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6759360" y="5370840"/>
            <a:ext cx="1463400" cy="1408320"/>
            <a:chOff x="6759360" y="5370840"/>
            <a:chExt cx="1463400" cy="1408320"/>
          </a:xfrm>
        </p:grpSpPr>
        <p:grpSp>
          <p:nvGrpSpPr>
            <p:cNvPr id="455" name=""/>
            <p:cNvGrpSpPr/>
            <p:nvPr/>
          </p:nvGrpSpPr>
          <p:grpSpPr>
            <a:xfrm>
              <a:off x="6759360" y="5370840"/>
              <a:ext cx="1463400" cy="1408320"/>
              <a:chOff x="6759360" y="5370840"/>
              <a:chExt cx="1463400" cy="1408320"/>
            </a:xfrm>
          </p:grpSpPr>
          <p:sp>
            <p:nvSpPr>
              <p:cNvPr id="456" name=""/>
              <p:cNvSpPr/>
              <p:nvPr/>
            </p:nvSpPr>
            <p:spPr>
              <a:xfrm rot="11656800">
                <a:off x="6881040" y="5503320"/>
                <a:ext cx="1219320" cy="1143000"/>
              </a:xfrm>
              <a:custGeom>
                <a:avLst/>
                <a:gdLst/>
                <a:ahLst/>
                <a:rect l="l" t="t" r="r" b="b"/>
                <a:pathLst>
                  <a:path w="867" h="594">
                    <a:moveTo>
                      <a:pt x="120" y="109"/>
                    </a:moveTo>
                    <a:cubicBezTo>
                      <a:pt x="101" y="130"/>
                      <a:pt x="79" y="134"/>
                      <a:pt x="55" y="150"/>
                    </a:cubicBezTo>
                    <a:cubicBezTo>
                      <a:pt x="10" y="216"/>
                      <a:pt x="66" y="248"/>
                      <a:pt x="88" y="306"/>
                    </a:cubicBezTo>
                    <a:cubicBezTo>
                      <a:pt x="78" y="360"/>
                      <a:pt x="79" y="364"/>
                      <a:pt x="30" y="380"/>
                    </a:cubicBezTo>
                    <a:cubicBezTo>
                      <a:pt x="1" y="410"/>
                      <a:pt x="0" y="438"/>
                      <a:pt x="14" y="479"/>
                    </a:cubicBezTo>
                    <a:cubicBezTo>
                      <a:pt x="17" y="488"/>
                      <a:pt x="22" y="499"/>
                      <a:pt x="30" y="504"/>
                    </a:cubicBezTo>
                    <a:cubicBezTo>
                      <a:pt x="45" y="513"/>
                      <a:pt x="79" y="520"/>
                      <a:pt x="79" y="520"/>
                    </a:cubicBezTo>
                    <a:cubicBezTo>
                      <a:pt x="98" y="517"/>
                      <a:pt x="118" y="518"/>
                      <a:pt x="137" y="512"/>
                    </a:cubicBezTo>
                    <a:cubicBezTo>
                      <a:pt x="146" y="509"/>
                      <a:pt x="151" y="496"/>
                      <a:pt x="161" y="495"/>
                    </a:cubicBezTo>
                    <a:cubicBezTo>
                      <a:pt x="175" y="493"/>
                      <a:pt x="189" y="500"/>
                      <a:pt x="203" y="504"/>
                    </a:cubicBezTo>
                    <a:cubicBezTo>
                      <a:pt x="220" y="509"/>
                      <a:pt x="252" y="520"/>
                      <a:pt x="252" y="520"/>
                    </a:cubicBezTo>
                    <a:cubicBezTo>
                      <a:pt x="308" y="558"/>
                      <a:pt x="282" y="547"/>
                      <a:pt x="326" y="561"/>
                    </a:cubicBezTo>
                    <a:cubicBezTo>
                      <a:pt x="334" y="567"/>
                      <a:pt x="342" y="574"/>
                      <a:pt x="351" y="578"/>
                    </a:cubicBezTo>
                    <a:cubicBezTo>
                      <a:pt x="367" y="585"/>
                      <a:pt x="400" y="594"/>
                      <a:pt x="400" y="594"/>
                    </a:cubicBezTo>
                    <a:cubicBezTo>
                      <a:pt x="427" y="591"/>
                      <a:pt x="455" y="593"/>
                      <a:pt x="482" y="586"/>
                    </a:cubicBezTo>
                    <a:cubicBezTo>
                      <a:pt x="507" y="580"/>
                      <a:pt x="541" y="508"/>
                      <a:pt x="572" y="495"/>
                    </a:cubicBezTo>
                    <a:cubicBezTo>
                      <a:pt x="593" y="487"/>
                      <a:pt x="638" y="479"/>
                      <a:pt x="638" y="479"/>
                    </a:cubicBezTo>
                    <a:cubicBezTo>
                      <a:pt x="703" y="492"/>
                      <a:pt x="710" y="494"/>
                      <a:pt x="786" y="487"/>
                    </a:cubicBezTo>
                    <a:cubicBezTo>
                      <a:pt x="810" y="464"/>
                      <a:pt x="833" y="448"/>
                      <a:pt x="852" y="421"/>
                    </a:cubicBezTo>
                    <a:cubicBezTo>
                      <a:pt x="862" y="380"/>
                      <a:pt x="867" y="328"/>
                      <a:pt x="844" y="290"/>
                    </a:cubicBezTo>
                    <a:cubicBezTo>
                      <a:pt x="832" y="270"/>
                      <a:pt x="808" y="252"/>
                      <a:pt x="794" y="232"/>
                    </a:cubicBezTo>
                    <a:cubicBezTo>
                      <a:pt x="771" y="164"/>
                      <a:pt x="794" y="35"/>
                      <a:pt x="720" y="11"/>
                    </a:cubicBezTo>
                    <a:cubicBezTo>
                      <a:pt x="704" y="14"/>
                      <a:pt x="685" y="11"/>
                      <a:pt x="671" y="19"/>
                    </a:cubicBezTo>
                    <a:cubicBezTo>
                      <a:pt x="664" y="23"/>
                      <a:pt x="667" y="36"/>
                      <a:pt x="663" y="43"/>
                    </a:cubicBezTo>
                    <a:cubicBezTo>
                      <a:pt x="659" y="50"/>
                      <a:pt x="653" y="56"/>
                      <a:pt x="646" y="60"/>
                    </a:cubicBezTo>
                    <a:cubicBezTo>
                      <a:pt x="631" y="68"/>
                      <a:pt x="597" y="76"/>
                      <a:pt x="597" y="76"/>
                    </a:cubicBezTo>
                    <a:cubicBezTo>
                      <a:pt x="581" y="71"/>
                      <a:pt x="562" y="70"/>
                      <a:pt x="548" y="60"/>
                    </a:cubicBezTo>
                    <a:cubicBezTo>
                      <a:pt x="540" y="54"/>
                      <a:pt x="532" y="47"/>
                      <a:pt x="523" y="43"/>
                    </a:cubicBezTo>
                    <a:cubicBezTo>
                      <a:pt x="507" y="36"/>
                      <a:pt x="490" y="32"/>
                      <a:pt x="474" y="27"/>
                    </a:cubicBezTo>
                    <a:cubicBezTo>
                      <a:pt x="466" y="24"/>
                      <a:pt x="449" y="19"/>
                      <a:pt x="449" y="19"/>
                    </a:cubicBezTo>
                    <a:cubicBezTo>
                      <a:pt x="378" y="22"/>
                      <a:pt x="298" y="0"/>
                      <a:pt x="235" y="35"/>
                    </a:cubicBezTo>
                    <a:cubicBezTo>
                      <a:pt x="201" y="54"/>
                      <a:pt x="170" y="80"/>
                      <a:pt x="137" y="101"/>
                    </a:cubicBezTo>
                    <a:cubicBezTo>
                      <a:pt x="108" y="120"/>
                      <a:pt x="105" y="124"/>
                      <a:pt x="120" y="109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11656800">
                <a:off x="7624080" y="5949720"/>
                <a:ext cx="228600" cy="422640"/>
              </a:xfrm>
              <a:prstGeom prst="ellipse">
                <a:avLst/>
              </a:prstGeom>
              <a:solidFill>
                <a:srgbClr val="7572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275240" y="5735880"/>
              <a:ext cx="289440" cy="204480"/>
              <a:chOff x="7275240" y="5735880"/>
              <a:chExt cx="289440" cy="204480"/>
            </a:xfrm>
          </p:grpSpPr>
          <p:sp>
            <p:nvSpPr>
              <p:cNvPr id="459" name=""/>
              <p:cNvSpPr/>
              <p:nvPr/>
            </p:nvSpPr>
            <p:spPr>
              <a:xfrm rot="5289600">
                <a:off x="7368480" y="5748840"/>
                <a:ext cx="67320" cy="179640"/>
              </a:xfrm>
              <a:custGeom>
                <a:avLst/>
                <a:gdLst>
                  <a:gd name="textAreaLeft" fmla="*/ 3240 w 67320"/>
                  <a:gd name="textAreaRight" fmla="*/ 64080 w 67320"/>
                  <a:gd name="textAreaTop" fmla="*/ 3240 h 179640"/>
                  <a:gd name="textAreaBottom" fmla="*/ 176400 h 179640"/>
                </a:gdLst>
                <a:ahLst/>
                <a:rect l="textAreaLeft" t="textAreaTop" r="textAreaRight" b="textAreaBottom"/>
                <a:pathLst>
                  <a:path w="21600" h="57447">
                    <a:moveTo>
                      <a:pt x="3600" y="0"/>
                    </a:moveTo>
                    <a:arcTo wR="3600" hR="3600" stAng="16200000" swAng="-5400000"/>
                    <a:lnTo>
                      <a:pt x="0" y="53847"/>
                    </a:lnTo>
                    <a:arcTo wR="3600" hR="3600" stAng="10800000" swAng="-5400000"/>
                    <a:lnTo>
                      <a:pt x="18000" y="5744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0" name=""/>
              <p:cNvGrpSpPr/>
              <p:nvPr/>
            </p:nvGrpSpPr>
            <p:grpSpPr>
              <a:xfrm>
                <a:off x="7309800" y="5735880"/>
                <a:ext cx="180720" cy="72720"/>
                <a:chOff x="7309800" y="5735880"/>
                <a:chExt cx="180720" cy="72720"/>
              </a:xfrm>
            </p:grpSpPr>
            <p:sp>
              <p:nvSpPr>
                <p:cNvPr id="461" name=""/>
                <p:cNvSpPr/>
                <p:nvPr/>
              </p:nvSpPr>
              <p:spPr>
                <a:xfrm rot="5289600">
                  <a:off x="7330680" y="5754600"/>
                  <a:ext cx="6192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rot="5289600">
                  <a:off x="7442640" y="5751360"/>
                  <a:ext cx="6192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rot="5289600">
                  <a:off x="7295400" y="5761080"/>
                  <a:ext cx="6192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rot="5289600">
                  <a:off x="7371000" y="5758560"/>
                  <a:ext cx="6192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rot="5289600">
                  <a:off x="7407000" y="5757480"/>
                  <a:ext cx="6192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7318440" y="5870160"/>
                <a:ext cx="176400" cy="70200"/>
                <a:chOff x="7318440" y="5870160"/>
                <a:chExt cx="176400" cy="70200"/>
              </a:xfrm>
            </p:grpSpPr>
            <p:sp>
              <p:nvSpPr>
                <p:cNvPr id="467" name=""/>
                <p:cNvSpPr/>
                <p:nvPr/>
              </p:nvSpPr>
              <p:spPr>
                <a:xfrm rot="5289600">
                  <a:off x="7446600" y="5885280"/>
                  <a:ext cx="61920" cy="320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5289600">
                  <a:off x="7377840" y="5892480"/>
                  <a:ext cx="61920" cy="320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5289600">
                  <a:off x="7304400" y="5889600"/>
                  <a:ext cx="61920" cy="320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5289600">
                  <a:off x="7414560" y="5886360"/>
                  <a:ext cx="61920" cy="320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5289600">
                  <a:off x="7340400" y="5888520"/>
                  <a:ext cx="61920" cy="3240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7499160" y="5799600"/>
                <a:ext cx="65520" cy="65880"/>
                <a:chOff x="7499160" y="5799600"/>
                <a:chExt cx="65520" cy="65880"/>
              </a:xfrm>
            </p:grpSpPr>
            <p:sp>
              <p:nvSpPr>
                <p:cNvPr id="473" name=""/>
                <p:cNvSpPr/>
                <p:nvPr/>
              </p:nvSpPr>
              <p:spPr>
                <a:xfrm rot="187200">
                  <a:off x="7499520" y="5801040"/>
                  <a:ext cx="63360" cy="295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rot="187200">
                  <a:off x="7500240" y="5834520"/>
                  <a:ext cx="63360" cy="291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7275240" y="5812560"/>
                <a:ext cx="38520" cy="64080"/>
                <a:chOff x="7275240" y="5812560"/>
                <a:chExt cx="38520" cy="64080"/>
              </a:xfrm>
            </p:grpSpPr>
            <p:sp>
              <p:nvSpPr>
                <p:cNvPr id="476" name=""/>
                <p:cNvSpPr/>
                <p:nvPr/>
              </p:nvSpPr>
              <p:spPr>
                <a:xfrm rot="187200">
                  <a:off x="7275960" y="5813280"/>
                  <a:ext cx="3564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rot="187200">
                  <a:off x="7277040" y="5844240"/>
                  <a:ext cx="3564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8" name=""/>
            <p:cNvGrpSpPr/>
            <p:nvPr/>
          </p:nvGrpSpPr>
          <p:grpSpPr>
            <a:xfrm>
              <a:off x="7024680" y="5893200"/>
              <a:ext cx="262800" cy="272880"/>
              <a:chOff x="7024680" y="5893200"/>
              <a:chExt cx="262800" cy="272880"/>
            </a:xfrm>
          </p:grpSpPr>
          <p:sp>
            <p:nvSpPr>
              <p:cNvPr id="479" name=""/>
              <p:cNvSpPr/>
              <p:nvPr/>
            </p:nvSpPr>
            <p:spPr>
              <a:xfrm rot="8390400">
                <a:off x="7119000" y="5933160"/>
                <a:ext cx="67320" cy="179640"/>
              </a:xfrm>
              <a:custGeom>
                <a:avLst/>
                <a:gdLst>
                  <a:gd name="textAreaLeft" fmla="*/ 3240 w 67320"/>
                  <a:gd name="textAreaRight" fmla="*/ 64080 w 67320"/>
                  <a:gd name="textAreaTop" fmla="*/ 3240 h 179640"/>
                  <a:gd name="textAreaBottom" fmla="*/ 176400 h 179640"/>
                </a:gdLst>
                <a:ahLst/>
                <a:rect l="textAreaLeft" t="textAreaTop" r="textAreaRight" b="textAreaBottom"/>
                <a:pathLst>
                  <a:path w="21600" h="57447">
                    <a:moveTo>
                      <a:pt x="3600" y="0"/>
                    </a:moveTo>
                    <a:arcTo wR="3600" hR="3600" stAng="16200000" swAng="-5400000"/>
                    <a:lnTo>
                      <a:pt x="0" y="53847"/>
                    </a:lnTo>
                    <a:arcTo wR="3600" hR="3600" stAng="10800000" swAng="-5400000"/>
                    <a:lnTo>
                      <a:pt x="18000" y="5744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0" name=""/>
              <p:cNvGrpSpPr/>
              <p:nvPr/>
            </p:nvGrpSpPr>
            <p:grpSpPr>
              <a:xfrm>
                <a:off x="7120440" y="5893200"/>
                <a:ext cx="167040" cy="173520"/>
                <a:chOff x="7120440" y="5893200"/>
                <a:chExt cx="167040" cy="173520"/>
              </a:xfrm>
            </p:grpSpPr>
            <p:sp>
              <p:nvSpPr>
                <p:cNvPr id="481" name=""/>
                <p:cNvSpPr/>
                <p:nvPr/>
              </p:nvSpPr>
              <p:spPr>
                <a:xfrm rot="8390400">
                  <a:off x="7150320" y="5933160"/>
                  <a:ext cx="6192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rot="8390400">
                  <a:off x="7222680" y="6018840"/>
                  <a:ext cx="6192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rot="8390400">
                  <a:off x="7123320" y="5909040"/>
                  <a:ext cx="6192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rot="8390400">
                  <a:off x="7172280" y="5967000"/>
                  <a:ext cx="6192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rot="8390400">
                  <a:off x="7195680" y="5994720"/>
                  <a:ext cx="6192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7024680" y="5979960"/>
                <a:ext cx="160200" cy="173160"/>
                <a:chOff x="7024680" y="5979960"/>
                <a:chExt cx="160200" cy="173160"/>
              </a:xfrm>
            </p:grpSpPr>
            <p:sp>
              <p:nvSpPr>
                <p:cNvPr id="487" name=""/>
                <p:cNvSpPr/>
                <p:nvPr/>
              </p:nvSpPr>
              <p:spPr>
                <a:xfrm rot="8390400">
                  <a:off x="7119720" y="6104520"/>
                  <a:ext cx="61920" cy="320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rot="8390400">
                  <a:off x="7071120" y="6055200"/>
                  <a:ext cx="61920" cy="320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8390400">
                  <a:off x="7027560" y="5995800"/>
                  <a:ext cx="61920" cy="320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8390400">
                  <a:off x="7099200" y="6080040"/>
                  <a:ext cx="61920" cy="320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rot="8390400">
                  <a:off x="7051320" y="6023880"/>
                  <a:ext cx="61920" cy="3240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7194960" y="6075720"/>
                <a:ext cx="85680" cy="90360"/>
                <a:chOff x="7194960" y="6075720"/>
                <a:chExt cx="85680" cy="90360"/>
              </a:xfrm>
            </p:grpSpPr>
            <p:sp>
              <p:nvSpPr>
                <p:cNvPr id="493" name=""/>
                <p:cNvSpPr/>
                <p:nvPr/>
              </p:nvSpPr>
              <p:spPr>
                <a:xfrm rot="3288000">
                  <a:off x="7218720" y="6095160"/>
                  <a:ext cx="63360" cy="295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rot="3288000">
                  <a:off x="7193160" y="6116760"/>
                  <a:ext cx="63360" cy="291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7046640" y="5908320"/>
                <a:ext cx="70200" cy="67320"/>
                <a:chOff x="7046640" y="5908320"/>
                <a:chExt cx="70200" cy="67320"/>
              </a:xfrm>
            </p:grpSpPr>
            <p:sp>
              <p:nvSpPr>
                <p:cNvPr id="496" name=""/>
                <p:cNvSpPr/>
                <p:nvPr/>
              </p:nvSpPr>
              <p:spPr>
                <a:xfrm rot="3288000">
                  <a:off x="7075800" y="5916240"/>
                  <a:ext cx="3564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rot="3288000">
                  <a:off x="7051680" y="5936400"/>
                  <a:ext cx="3564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8" name=""/>
            <p:cNvGrpSpPr/>
            <p:nvPr/>
          </p:nvGrpSpPr>
          <p:grpSpPr>
            <a:xfrm>
              <a:off x="7305840" y="6159960"/>
              <a:ext cx="227520" cy="277920"/>
              <a:chOff x="7305840" y="6159960"/>
              <a:chExt cx="227520" cy="277920"/>
            </a:xfrm>
          </p:grpSpPr>
          <p:sp>
            <p:nvSpPr>
              <p:cNvPr id="499" name=""/>
              <p:cNvSpPr/>
              <p:nvPr/>
            </p:nvSpPr>
            <p:spPr>
              <a:xfrm rot="11319000">
                <a:off x="7383600" y="6198120"/>
                <a:ext cx="71640" cy="167760"/>
              </a:xfrm>
              <a:custGeom>
                <a:avLst/>
                <a:gdLst>
                  <a:gd name="textAreaLeft" fmla="*/ 3240 w 71640"/>
                  <a:gd name="textAreaRight" fmla="*/ 68400 w 71640"/>
                  <a:gd name="textAreaTop" fmla="*/ 3240 h 167760"/>
                  <a:gd name="textAreaBottom" fmla="*/ 164520 h 167760"/>
                </a:gdLst>
                <a:ahLst/>
                <a:rect l="textAreaLeft" t="textAreaTop" r="textAreaRight" b="textAreaBottom"/>
                <a:pathLst>
                  <a:path w="21600" h="50436">
                    <a:moveTo>
                      <a:pt x="3600" y="0"/>
                    </a:moveTo>
                    <a:arcTo wR="3600" hR="3600" stAng="16200000" swAng="-5400000"/>
                    <a:lnTo>
                      <a:pt x="0" y="46836"/>
                    </a:lnTo>
                    <a:arcTo wR="3600" hR="3600" stAng="10800000" swAng="-5400000"/>
                    <a:lnTo>
                      <a:pt x="18000" y="5043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0" name=""/>
              <p:cNvGrpSpPr/>
              <p:nvPr/>
            </p:nvGrpSpPr>
            <p:grpSpPr>
              <a:xfrm>
                <a:off x="7447320" y="6204960"/>
                <a:ext cx="86040" cy="176400"/>
                <a:chOff x="7447320" y="6204960"/>
                <a:chExt cx="86040" cy="176400"/>
              </a:xfrm>
            </p:grpSpPr>
            <p:sp>
              <p:nvSpPr>
                <p:cNvPr id="501" name=""/>
                <p:cNvSpPr/>
                <p:nvPr/>
              </p:nvSpPr>
              <p:spPr>
                <a:xfrm rot="11319000">
                  <a:off x="7465320" y="6243480"/>
                  <a:ext cx="66240" cy="291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1319000">
                  <a:off x="7449480" y="6347160"/>
                  <a:ext cx="66240" cy="291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1319000">
                  <a:off x="7464960" y="6209640"/>
                  <a:ext cx="66240" cy="291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1319000">
                  <a:off x="7454160" y="6280200"/>
                  <a:ext cx="66240" cy="291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rot="11319000">
                  <a:off x="7449120" y="6313320"/>
                  <a:ext cx="66240" cy="291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7305840" y="6188400"/>
                <a:ext cx="89640" cy="171360"/>
                <a:chOff x="7305840" y="6188400"/>
                <a:chExt cx="89640" cy="171360"/>
              </a:xfrm>
            </p:grpSpPr>
            <p:sp>
              <p:nvSpPr>
                <p:cNvPr id="507" name=""/>
                <p:cNvSpPr/>
                <p:nvPr/>
              </p:nvSpPr>
              <p:spPr>
                <a:xfrm rot="11319000">
                  <a:off x="7307640" y="6324840"/>
                  <a:ext cx="66240" cy="298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11319000">
                  <a:off x="7311600" y="6260400"/>
                  <a:ext cx="66240" cy="298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rot="11319000">
                  <a:off x="7327440" y="6193080"/>
                  <a:ext cx="66240" cy="298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rot="11319000">
                  <a:off x="7311600" y="6295320"/>
                  <a:ext cx="66240" cy="298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11319000">
                  <a:off x="7322040" y="6226560"/>
                  <a:ext cx="66240" cy="302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7363080" y="6367680"/>
                <a:ext cx="80280" cy="70200"/>
                <a:chOff x="7363080" y="6367680"/>
                <a:chExt cx="80280" cy="70200"/>
              </a:xfrm>
            </p:grpSpPr>
            <p:sp>
              <p:nvSpPr>
                <p:cNvPr id="513" name=""/>
                <p:cNvSpPr/>
                <p:nvPr/>
              </p:nvSpPr>
              <p:spPr>
                <a:xfrm rot="6216600">
                  <a:off x="7391160" y="6389640"/>
                  <a:ext cx="5940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6216600">
                  <a:off x="7355160" y="6384240"/>
                  <a:ext cx="5940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7395840" y="6159960"/>
                <a:ext cx="73440" cy="45360"/>
                <a:chOff x="7395840" y="6159960"/>
                <a:chExt cx="73440" cy="45360"/>
              </a:xfrm>
            </p:grpSpPr>
            <p:sp>
              <p:nvSpPr>
                <p:cNvPr id="516" name=""/>
                <p:cNvSpPr/>
                <p:nvPr/>
              </p:nvSpPr>
              <p:spPr>
                <a:xfrm rot="6216600">
                  <a:off x="7432200" y="6168240"/>
                  <a:ext cx="33480" cy="334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rot="6216600">
                  <a:off x="7399080" y="6163200"/>
                  <a:ext cx="33480" cy="334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18" name=""/>
          <p:cNvGrpSpPr/>
          <p:nvPr/>
        </p:nvGrpSpPr>
        <p:grpSpPr>
          <a:xfrm>
            <a:off x="6701760" y="5302080"/>
            <a:ext cx="1589760" cy="1562760"/>
            <a:chOff x="6701760" y="5302080"/>
            <a:chExt cx="1589760" cy="1562760"/>
          </a:xfrm>
        </p:grpSpPr>
        <p:grpSp>
          <p:nvGrpSpPr>
            <p:cNvPr id="519" name=""/>
            <p:cNvGrpSpPr/>
            <p:nvPr/>
          </p:nvGrpSpPr>
          <p:grpSpPr>
            <a:xfrm>
              <a:off x="6701760" y="5302080"/>
              <a:ext cx="1589760" cy="1562760"/>
              <a:chOff x="6701760" y="5302080"/>
              <a:chExt cx="1589760" cy="1562760"/>
            </a:xfrm>
          </p:grpSpPr>
          <p:sp>
            <p:nvSpPr>
              <p:cNvPr id="520" name=""/>
              <p:cNvSpPr/>
              <p:nvPr/>
            </p:nvSpPr>
            <p:spPr>
              <a:xfrm rot="11656800">
                <a:off x="6838920" y="5444640"/>
                <a:ext cx="1315440" cy="1277640"/>
              </a:xfrm>
              <a:custGeom>
                <a:avLst/>
                <a:gdLst/>
                <a:ahLst/>
                <a:rect l="l" t="t" r="r" b="b"/>
                <a:pathLst>
                  <a:path w="867" h="594">
                    <a:moveTo>
                      <a:pt x="120" y="109"/>
                    </a:moveTo>
                    <a:cubicBezTo>
                      <a:pt x="101" y="130"/>
                      <a:pt x="79" y="134"/>
                      <a:pt x="55" y="150"/>
                    </a:cubicBezTo>
                    <a:cubicBezTo>
                      <a:pt x="10" y="216"/>
                      <a:pt x="66" y="248"/>
                      <a:pt x="88" y="306"/>
                    </a:cubicBezTo>
                    <a:cubicBezTo>
                      <a:pt x="78" y="360"/>
                      <a:pt x="79" y="364"/>
                      <a:pt x="30" y="380"/>
                    </a:cubicBezTo>
                    <a:cubicBezTo>
                      <a:pt x="1" y="410"/>
                      <a:pt x="0" y="438"/>
                      <a:pt x="14" y="479"/>
                    </a:cubicBezTo>
                    <a:cubicBezTo>
                      <a:pt x="17" y="488"/>
                      <a:pt x="22" y="499"/>
                      <a:pt x="30" y="504"/>
                    </a:cubicBezTo>
                    <a:cubicBezTo>
                      <a:pt x="45" y="513"/>
                      <a:pt x="79" y="520"/>
                      <a:pt x="79" y="520"/>
                    </a:cubicBezTo>
                    <a:cubicBezTo>
                      <a:pt x="98" y="517"/>
                      <a:pt x="118" y="518"/>
                      <a:pt x="137" y="512"/>
                    </a:cubicBezTo>
                    <a:cubicBezTo>
                      <a:pt x="146" y="509"/>
                      <a:pt x="151" y="496"/>
                      <a:pt x="161" y="495"/>
                    </a:cubicBezTo>
                    <a:cubicBezTo>
                      <a:pt x="175" y="493"/>
                      <a:pt x="189" y="500"/>
                      <a:pt x="203" y="504"/>
                    </a:cubicBezTo>
                    <a:cubicBezTo>
                      <a:pt x="220" y="509"/>
                      <a:pt x="252" y="520"/>
                      <a:pt x="252" y="520"/>
                    </a:cubicBezTo>
                    <a:cubicBezTo>
                      <a:pt x="308" y="558"/>
                      <a:pt x="282" y="547"/>
                      <a:pt x="326" y="561"/>
                    </a:cubicBezTo>
                    <a:cubicBezTo>
                      <a:pt x="334" y="567"/>
                      <a:pt x="342" y="574"/>
                      <a:pt x="351" y="578"/>
                    </a:cubicBezTo>
                    <a:cubicBezTo>
                      <a:pt x="367" y="585"/>
                      <a:pt x="400" y="594"/>
                      <a:pt x="400" y="594"/>
                    </a:cubicBezTo>
                    <a:cubicBezTo>
                      <a:pt x="427" y="591"/>
                      <a:pt x="455" y="593"/>
                      <a:pt x="482" y="586"/>
                    </a:cubicBezTo>
                    <a:cubicBezTo>
                      <a:pt x="507" y="580"/>
                      <a:pt x="541" y="508"/>
                      <a:pt x="572" y="495"/>
                    </a:cubicBezTo>
                    <a:cubicBezTo>
                      <a:pt x="593" y="487"/>
                      <a:pt x="638" y="479"/>
                      <a:pt x="638" y="479"/>
                    </a:cubicBezTo>
                    <a:cubicBezTo>
                      <a:pt x="703" y="492"/>
                      <a:pt x="710" y="494"/>
                      <a:pt x="786" y="487"/>
                    </a:cubicBezTo>
                    <a:cubicBezTo>
                      <a:pt x="810" y="464"/>
                      <a:pt x="833" y="448"/>
                      <a:pt x="852" y="421"/>
                    </a:cubicBezTo>
                    <a:cubicBezTo>
                      <a:pt x="862" y="380"/>
                      <a:pt x="867" y="328"/>
                      <a:pt x="844" y="290"/>
                    </a:cubicBezTo>
                    <a:cubicBezTo>
                      <a:pt x="832" y="270"/>
                      <a:pt x="808" y="252"/>
                      <a:pt x="794" y="232"/>
                    </a:cubicBezTo>
                    <a:cubicBezTo>
                      <a:pt x="771" y="164"/>
                      <a:pt x="794" y="35"/>
                      <a:pt x="720" y="11"/>
                    </a:cubicBezTo>
                    <a:cubicBezTo>
                      <a:pt x="704" y="14"/>
                      <a:pt x="685" y="11"/>
                      <a:pt x="671" y="19"/>
                    </a:cubicBezTo>
                    <a:cubicBezTo>
                      <a:pt x="664" y="23"/>
                      <a:pt x="667" y="36"/>
                      <a:pt x="663" y="43"/>
                    </a:cubicBezTo>
                    <a:cubicBezTo>
                      <a:pt x="659" y="50"/>
                      <a:pt x="653" y="56"/>
                      <a:pt x="646" y="60"/>
                    </a:cubicBezTo>
                    <a:cubicBezTo>
                      <a:pt x="631" y="68"/>
                      <a:pt x="597" y="76"/>
                      <a:pt x="597" y="76"/>
                    </a:cubicBezTo>
                    <a:cubicBezTo>
                      <a:pt x="581" y="71"/>
                      <a:pt x="562" y="70"/>
                      <a:pt x="548" y="60"/>
                    </a:cubicBezTo>
                    <a:cubicBezTo>
                      <a:pt x="540" y="54"/>
                      <a:pt x="532" y="47"/>
                      <a:pt x="523" y="43"/>
                    </a:cubicBezTo>
                    <a:cubicBezTo>
                      <a:pt x="507" y="36"/>
                      <a:pt x="490" y="32"/>
                      <a:pt x="474" y="27"/>
                    </a:cubicBezTo>
                    <a:cubicBezTo>
                      <a:pt x="466" y="24"/>
                      <a:pt x="449" y="19"/>
                      <a:pt x="449" y="19"/>
                    </a:cubicBezTo>
                    <a:cubicBezTo>
                      <a:pt x="378" y="22"/>
                      <a:pt x="298" y="0"/>
                      <a:pt x="235" y="35"/>
                    </a:cubicBezTo>
                    <a:cubicBezTo>
                      <a:pt x="201" y="54"/>
                      <a:pt x="170" y="80"/>
                      <a:pt x="137" y="101"/>
                    </a:cubicBezTo>
                    <a:cubicBezTo>
                      <a:pt x="108" y="120"/>
                      <a:pt x="105" y="124"/>
                      <a:pt x="120" y="109"/>
                    </a:cubicBezTo>
                    <a:close/>
                  </a:path>
                </a:pathLst>
              </a:custGeom>
              <a:solidFill>
                <a:srgbClr val="ebfeff"/>
              </a:solidFill>
              <a:ln w="28440">
                <a:solidFill>
                  <a:srgbClr val="e5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11656800">
                <a:off x="7640280" y="5939640"/>
                <a:ext cx="246600" cy="472680"/>
              </a:xfrm>
              <a:prstGeom prst="ellipse">
                <a:avLst/>
              </a:prstGeom>
              <a:solidFill>
                <a:srgbClr val="ebfeff"/>
              </a:solidFill>
              <a:ln w="28440">
                <a:solidFill>
                  <a:srgbClr val="e5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7265880" y="5705640"/>
              <a:ext cx="312120" cy="228240"/>
              <a:chOff x="7265880" y="5705640"/>
              <a:chExt cx="312120" cy="228240"/>
            </a:xfrm>
          </p:grpSpPr>
          <p:sp>
            <p:nvSpPr>
              <p:cNvPr id="523" name=""/>
              <p:cNvSpPr/>
              <p:nvPr/>
            </p:nvSpPr>
            <p:spPr>
              <a:xfrm rot="5289600">
                <a:off x="7364520" y="5724360"/>
                <a:ext cx="75240" cy="193680"/>
              </a:xfrm>
              <a:custGeom>
                <a:avLst/>
                <a:gdLst>
                  <a:gd name="textAreaLeft" fmla="*/ 3600 w 75240"/>
                  <a:gd name="textAreaRight" fmla="*/ 71640 w 75240"/>
                  <a:gd name="textAreaTop" fmla="*/ 3600 h 193680"/>
                  <a:gd name="textAreaBottom" fmla="*/ 190080 h 193680"/>
                </a:gdLst>
                <a:ahLst/>
                <a:rect l="textAreaLeft" t="textAreaTop" r="textAreaRight" b="textAreaBottom"/>
                <a:pathLst>
                  <a:path w="21600" h="55440">
                    <a:moveTo>
                      <a:pt x="3600" y="0"/>
                    </a:moveTo>
                    <a:arcTo wR="3600" hR="3600" stAng="16200000" swAng="-5400000"/>
                    <a:lnTo>
                      <a:pt x="0" y="51840"/>
                    </a:lnTo>
                    <a:arcTo wR="3600" hR="3600" stAng="10800000" swAng="-5400000"/>
                    <a:lnTo>
                      <a:pt x="18000" y="5544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bfeff"/>
              </a:solidFill>
              <a:ln w="28440">
                <a:solidFill>
                  <a:srgbClr val="e5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4" name=""/>
              <p:cNvGrpSpPr/>
              <p:nvPr/>
            </p:nvGrpSpPr>
            <p:grpSpPr>
              <a:xfrm>
                <a:off x="7302600" y="5705640"/>
                <a:ext cx="195480" cy="81000"/>
                <a:chOff x="7302600" y="5705640"/>
                <a:chExt cx="195480" cy="81000"/>
              </a:xfrm>
            </p:grpSpPr>
            <p:sp>
              <p:nvSpPr>
                <p:cNvPr id="525" name=""/>
                <p:cNvSpPr/>
                <p:nvPr/>
              </p:nvSpPr>
              <p:spPr>
                <a:xfrm rot="5289600">
                  <a:off x="7324560" y="5727600"/>
                  <a:ext cx="6912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5289600">
                  <a:off x="7445520" y="5723640"/>
                  <a:ext cx="6912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rot="5289600">
                  <a:off x="7286040" y="5734440"/>
                  <a:ext cx="6912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rot="5289600">
                  <a:off x="7368120" y="5732280"/>
                  <a:ext cx="6912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rot="5289600">
                  <a:off x="7407000" y="5730840"/>
                  <a:ext cx="6912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7311960" y="5855760"/>
                <a:ext cx="190800" cy="78120"/>
                <a:chOff x="7311960" y="5855760"/>
                <a:chExt cx="190800" cy="78120"/>
              </a:xfrm>
            </p:grpSpPr>
            <p:sp>
              <p:nvSpPr>
                <p:cNvPr id="531" name=""/>
                <p:cNvSpPr/>
                <p:nvPr/>
              </p:nvSpPr>
              <p:spPr>
                <a:xfrm rot="5289600">
                  <a:off x="7449840" y="5873400"/>
                  <a:ext cx="69120" cy="345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5289600">
                  <a:off x="7375320" y="5881320"/>
                  <a:ext cx="69120" cy="345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5289600">
                  <a:off x="7295760" y="5878440"/>
                  <a:ext cx="69120" cy="345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5289600">
                  <a:off x="7415280" y="5874480"/>
                  <a:ext cx="69120" cy="345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5289600">
                  <a:off x="7335360" y="5877000"/>
                  <a:ext cx="69120" cy="349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7506360" y="5777280"/>
                <a:ext cx="71640" cy="73800"/>
                <a:chOff x="7506360" y="5777280"/>
                <a:chExt cx="71640" cy="73800"/>
              </a:xfrm>
            </p:grpSpPr>
            <p:sp>
              <p:nvSpPr>
                <p:cNvPr id="537" name=""/>
                <p:cNvSpPr/>
                <p:nvPr/>
              </p:nvSpPr>
              <p:spPr>
                <a:xfrm rot="187200">
                  <a:off x="7507080" y="5779080"/>
                  <a:ext cx="68400" cy="327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rot="187200">
                  <a:off x="7508520" y="5816520"/>
                  <a:ext cx="68400" cy="327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7265880" y="5790960"/>
                <a:ext cx="41400" cy="72000"/>
                <a:chOff x="7265880" y="5790960"/>
                <a:chExt cx="41400" cy="72000"/>
              </a:xfrm>
            </p:grpSpPr>
            <p:sp>
              <p:nvSpPr>
                <p:cNvPr id="540" name=""/>
                <p:cNvSpPr/>
                <p:nvPr/>
              </p:nvSpPr>
              <p:spPr>
                <a:xfrm rot="187200">
                  <a:off x="7266600" y="5791680"/>
                  <a:ext cx="38520" cy="349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rot="187200">
                  <a:off x="7267680" y="5826600"/>
                  <a:ext cx="38520" cy="349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2" name=""/>
            <p:cNvGrpSpPr/>
            <p:nvPr/>
          </p:nvGrpSpPr>
          <p:grpSpPr>
            <a:xfrm>
              <a:off x="6989400" y="5886720"/>
              <a:ext cx="289440" cy="297360"/>
              <a:chOff x="6989400" y="5886720"/>
              <a:chExt cx="289440" cy="297360"/>
            </a:xfrm>
          </p:grpSpPr>
          <p:sp>
            <p:nvSpPr>
              <p:cNvPr id="543" name=""/>
              <p:cNvSpPr/>
              <p:nvPr/>
            </p:nvSpPr>
            <p:spPr>
              <a:xfrm rot="8390400">
                <a:off x="7092720" y="5932080"/>
                <a:ext cx="75240" cy="193680"/>
              </a:xfrm>
              <a:custGeom>
                <a:avLst/>
                <a:gdLst>
                  <a:gd name="textAreaLeft" fmla="*/ 3600 w 75240"/>
                  <a:gd name="textAreaRight" fmla="*/ 71640 w 75240"/>
                  <a:gd name="textAreaTop" fmla="*/ 3600 h 193680"/>
                  <a:gd name="textAreaBottom" fmla="*/ 190080 h 193680"/>
                </a:gdLst>
                <a:ahLst/>
                <a:rect l="textAreaLeft" t="textAreaTop" r="textAreaRight" b="textAreaBottom"/>
                <a:pathLst>
                  <a:path w="21600" h="55440">
                    <a:moveTo>
                      <a:pt x="3600" y="0"/>
                    </a:moveTo>
                    <a:arcTo wR="3600" hR="3600" stAng="16200000" swAng="-5400000"/>
                    <a:lnTo>
                      <a:pt x="0" y="51840"/>
                    </a:lnTo>
                    <a:arcTo wR="3600" hR="3600" stAng="10800000" swAng="-5400000"/>
                    <a:lnTo>
                      <a:pt x="18000" y="5544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bfeff"/>
              </a:solidFill>
              <a:ln w="28440">
                <a:solidFill>
                  <a:srgbClr val="e5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4" name=""/>
              <p:cNvGrpSpPr/>
              <p:nvPr/>
            </p:nvGrpSpPr>
            <p:grpSpPr>
              <a:xfrm>
                <a:off x="7097040" y="5886720"/>
                <a:ext cx="181800" cy="188640"/>
                <a:chOff x="7097040" y="5886720"/>
                <a:chExt cx="181800" cy="188640"/>
              </a:xfrm>
            </p:grpSpPr>
            <p:sp>
              <p:nvSpPr>
                <p:cNvPr id="545" name=""/>
                <p:cNvSpPr/>
                <p:nvPr/>
              </p:nvSpPr>
              <p:spPr>
                <a:xfrm rot="8390400">
                  <a:off x="7128720" y="5930280"/>
                  <a:ext cx="6912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rot="8390400">
                  <a:off x="7206840" y="6022800"/>
                  <a:ext cx="6912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rot="8390400">
                  <a:off x="7099560" y="5904720"/>
                  <a:ext cx="6912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rot="8390400">
                  <a:off x="7152480" y="5967360"/>
                  <a:ext cx="6912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rot="8390400">
                  <a:off x="7177680" y="5996880"/>
                  <a:ext cx="6912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6989400" y="5983560"/>
                <a:ext cx="174600" cy="188640"/>
                <a:chOff x="6989400" y="5983560"/>
                <a:chExt cx="174600" cy="188640"/>
              </a:xfrm>
            </p:grpSpPr>
            <p:sp>
              <p:nvSpPr>
                <p:cNvPr id="551" name=""/>
                <p:cNvSpPr/>
                <p:nvPr/>
              </p:nvSpPr>
              <p:spPr>
                <a:xfrm rot="8390400">
                  <a:off x="7091640" y="6119280"/>
                  <a:ext cx="69120" cy="345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rot="8390400">
                  <a:off x="7039440" y="6066000"/>
                  <a:ext cx="69120" cy="345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 rot="8390400">
                  <a:off x="6992280" y="6001560"/>
                  <a:ext cx="69120" cy="345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rot="8390400">
                  <a:off x="7069680" y="6093000"/>
                  <a:ext cx="69120" cy="345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 rot="8390400">
                  <a:off x="7018200" y="6031800"/>
                  <a:ext cx="69120" cy="349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7175160" y="6085080"/>
                <a:ext cx="95040" cy="99000"/>
                <a:chOff x="7175160" y="6085080"/>
                <a:chExt cx="95040" cy="99000"/>
              </a:xfrm>
            </p:grpSpPr>
            <p:sp>
              <p:nvSpPr>
                <p:cNvPr id="557" name=""/>
                <p:cNvSpPr/>
                <p:nvPr/>
              </p:nvSpPr>
              <p:spPr>
                <a:xfrm rot="3288000">
                  <a:off x="7202520" y="6105960"/>
                  <a:ext cx="68400" cy="327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rot="3288000">
                  <a:off x="7173720" y="6130080"/>
                  <a:ext cx="68400" cy="327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7015320" y="5905080"/>
                <a:ext cx="77400" cy="73440"/>
                <a:chOff x="7015320" y="5905080"/>
                <a:chExt cx="77400" cy="73440"/>
              </a:xfrm>
            </p:grpSpPr>
            <p:sp>
              <p:nvSpPr>
                <p:cNvPr id="560" name=""/>
                <p:cNvSpPr/>
                <p:nvPr/>
              </p:nvSpPr>
              <p:spPr>
                <a:xfrm rot="3288000">
                  <a:off x="7047720" y="5913360"/>
                  <a:ext cx="38520" cy="349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 rot="3288000">
                  <a:off x="7021080" y="5935320"/>
                  <a:ext cx="38520" cy="349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2" name=""/>
            <p:cNvGrpSpPr/>
            <p:nvPr/>
          </p:nvGrpSpPr>
          <p:grpSpPr>
            <a:xfrm>
              <a:off x="7292880" y="6177600"/>
              <a:ext cx="246600" cy="310680"/>
              <a:chOff x="7292880" y="6177600"/>
              <a:chExt cx="246600" cy="310680"/>
            </a:xfrm>
          </p:grpSpPr>
          <p:sp>
            <p:nvSpPr>
              <p:cNvPr id="563" name=""/>
              <p:cNvSpPr/>
              <p:nvPr/>
            </p:nvSpPr>
            <p:spPr>
              <a:xfrm rot="11319000">
                <a:off x="7377480" y="6220800"/>
                <a:ext cx="77400" cy="187560"/>
              </a:xfrm>
              <a:custGeom>
                <a:avLst/>
                <a:gdLst>
                  <a:gd name="textAreaLeft" fmla="*/ 3600 w 77400"/>
                  <a:gd name="textAreaRight" fmla="*/ 73800 w 77400"/>
                  <a:gd name="textAreaTop" fmla="*/ 3600 h 187560"/>
                  <a:gd name="textAreaBottom" fmla="*/ 183960 h 187560"/>
                </a:gdLst>
                <a:ahLst/>
                <a:rect l="textAreaLeft" t="textAreaTop" r="textAreaRight" b="textAreaBottom"/>
                <a:pathLst>
                  <a:path w="21600" h="52200">
                    <a:moveTo>
                      <a:pt x="3600" y="0"/>
                    </a:moveTo>
                    <a:arcTo wR="3600" hR="3600" stAng="16200000" swAng="-5400000"/>
                    <a:lnTo>
                      <a:pt x="0" y="48600"/>
                    </a:lnTo>
                    <a:arcTo wR="3600" hR="3600" stAng="10800000" swAng="-5400000"/>
                    <a:lnTo>
                      <a:pt x="18000" y="52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bfeff"/>
              </a:solidFill>
              <a:ln w="28440">
                <a:solidFill>
                  <a:srgbClr val="e5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7445880" y="6228360"/>
                <a:ext cx="93600" cy="196920"/>
                <a:chOff x="7445880" y="6228360"/>
                <a:chExt cx="93600" cy="196920"/>
              </a:xfrm>
            </p:grpSpPr>
            <p:sp>
              <p:nvSpPr>
                <p:cNvPr id="565" name=""/>
                <p:cNvSpPr/>
                <p:nvPr/>
              </p:nvSpPr>
              <p:spPr>
                <a:xfrm rot="11319000">
                  <a:off x="7465680" y="6270480"/>
                  <a:ext cx="71280" cy="327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11319000">
                  <a:off x="7448040" y="6387120"/>
                  <a:ext cx="71280" cy="327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11319000">
                  <a:off x="7465680" y="6233400"/>
                  <a:ext cx="71280" cy="327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1319000">
                  <a:off x="7453800" y="6311880"/>
                  <a:ext cx="71280" cy="327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1319000">
                  <a:off x="7447680" y="6348960"/>
                  <a:ext cx="71280" cy="327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7292880" y="6210720"/>
                <a:ext cx="98280" cy="190800"/>
                <a:chOff x="7292880" y="6210720"/>
                <a:chExt cx="98280" cy="190800"/>
              </a:xfrm>
            </p:grpSpPr>
            <p:sp>
              <p:nvSpPr>
                <p:cNvPr id="571" name=""/>
                <p:cNvSpPr/>
                <p:nvPr/>
              </p:nvSpPr>
              <p:spPr>
                <a:xfrm rot="11319000">
                  <a:off x="7295040" y="6362640"/>
                  <a:ext cx="71280" cy="334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 rot="11319000">
                  <a:off x="7300440" y="6290640"/>
                  <a:ext cx="71280" cy="334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 rot="11319000">
                  <a:off x="7317720" y="6215760"/>
                  <a:ext cx="71280" cy="334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 rot="11319000">
                  <a:off x="7300440" y="6329880"/>
                  <a:ext cx="71280" cy="334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rot="11319000">
                  <a:off x="7311960" y="6253200"/>
                  <a:ext cx="7128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7355880" y="6410160"/>
                <a:ext cx="86040" cy="78120"/>
                <a:chOff x="7355880" y="6410160"/>
                <a:chExt cx="86040" cy="78120"/>
              </a:xfrm>
            </p:grpSpPr>
            <p:sp>
              <p:nvSpPr>
                <p:cNvPr id="577" name=""/>
                <p:cNvSpPr/>
                <p:nvPr/>
              </p:nvSpPr>
              <p:spPr>
                <a:xfrm rot="6216600">
                  <a:off x="7384320" y="6435000"/>
                  <a:ext cx="6624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rot="6216600">
                  <a:off x="7346880" y="6429240"/>
                  <a:ext cx="66240" cy="334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7391160" y="6177600"/>
                <a:ext cx="79560" cy="50400"/>
                <a:chOff x="7391160" y="6177600"/>
                <a:chExt cx="79560" cy="50400"/>
              </a:xfrm>
            </p:grpSpPr>
            <p:sp>
              <p:nvSpPr>
                <p:cNvPr id="580" name=""/>
                <p:cNvSpPr/>
                <p:nvPr/>
              </p:nvSpPr>
              <p:spPr>
                <a:xfrm rot="6216600">
                  <a:off x="7430040" y="6187320"/>
                  <a:ext cx="37440" cy="3600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rot="6216600">
                  <a:off x="7394400" y="6181920"/>
                  <a:ext cx="37440" cy="3600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582" name=""/>
          <p:cNvGraphicFramePr/>
          <p:nvPr/>
        </p:nvGraphicFramePr>
        <p:xfrm>
          <a:off x="6948360" y="5478480"/>
          <a:ext cx="1143000" cy="110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48360" y="5478480"/>
                    <a:ext cx="11430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3" name=""/>
          <p:cNvGrpSpPr/>
          <p:nvPr/>
        </p:nvGrpSpPr>
        <p:grpSpPr>
          <a:xfrm>
            <a:off x="1066680" y="838080"/>
            <a:ext cx="533520" cy="533520"/>
            <a:chOff x="1066680" y="838080"/>
            <a:chExt cx="533520" cy="533520"/>
          </a:xfrm>
        </p:grpSpPr>
        <p:sp>
          <p:nvSpPr>
            <p:cNvPr id="2224" name=""/>
            <p:cNvSpPr/>
            <p:nvPr/>
          </p:nvSpPr>
          <p:spPr>
            <a:xfrm flipH="1">
              <a:off x="1066680" y="91440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H="1">
              <a:off x="1218960" y="106668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 flipH="1">
              <a:off x="1066680" y="1219320"/>
              <a:ext cx="76320" cy="7596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 flipH="1">
              <a:off x="1295280" y="83808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H="1">
              <a:off x="1447560" y="990720"/>
              <a:ext cx="76320" cy="7596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 flipH="1">
              <a:off x="1447560" y="1219320"/>
              <a:ext cx="76320" cy="7596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H="1">
              <a:off x="1295280" y="129528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H="1">
              <a:off x="1523880" y="83808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2" name=""/>
          <p:cNvGrpSpPr/>
          <p:nvPr/>
        </p:nvGrpSpPr>
        <p:grpSpPr>
          <a:xfrm>
            <a:off x="1066680" y="838080"/>
            <a:ext cx="533520" cy="533520"/>
            <a:chOff x="1066680" y="838080"/>
            <a:chExt cx="533520" cy="533520"/>
          </a:xfrm>
        </p:grpSpPr>
        <p:sp>
          <p:nvSpPr>
            <p:cNvPr id="2233" name=""/>
            <p:cNvSpPr/>
            <p:nvPr/>
          </p:nvSpPr>
          <p:spPr>
            <a:xfrm flipH="1">
              <a:off x="1066680" y="914400"/>
              <a:ext cx="76320" cy="7632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H="1">
              <a:off x="1218960" y="1066680"/>
              <a:ext cx="76320" cy="7632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H="1">
              <a:off x="1066680" y="1219320"/>
              <a:ext cx="76320" cy="7596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H="1">
              <a:off x="1295280" y="838080"/>
              <a:ext cx="76320" cy="7632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 flipH="1">
              <a:off x="1447560" y="990720"/>
              <a:ext cx="76320" cy="7596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H="1">
              <a:off x="1447560" y="1219320"/>
              <a:ext cx="76320" cy="7596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 flipH="1">
              <a:off x="1295280" y="1295280"/>
              <a:ext cx="76320" cy="7632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 flipH="1">
              <a:off x="1523880" y="838080"/>
              <a:ext cx="76320" cy="7632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1" name=""/>
          <p:cNvGrpSpPr/>
          <p:nvPr/>
        </p:nvGrpSpPr>
        <p:grpSpPr>
          <a:xfrm>
            <a:off x="1187640" y="792720"/>
            <a:ext cx="458280" cy="279720"/>
            <a:chOff x="1187640" y="792720"/>
            <a:chExt cx="458280" cy="279720"/>
          </a:xfrm>
        </p:grpSpPr>
        <p:grpSp>
          <p:nvGrpSpPr>
            <p:cNvPr id="2242" name=""/>
            <p:cNvGrpSpPr/>
            <p:nvPr/>
          </p:nvGrpSpPr>
          <p:grpSpPr>
            <a:xfrm>
              <a:off x="1187640" y="792720"/>
              <a:ext cx="225720" cy="275400"/>
              <a:chOff x="1187640" y="792720"/>
              <a:chExt cx="225720" cy="275400"/>
            </a:xfrm>
          </p:grpSpPr>
          <p:sp>
            <p:nvSpPr>
              <p:cNvPr id="2243" name=""/>
              <p:cNvSpPr/>
              <p:nvPr/>
            </p:nvSpPr>
            <p:spPr>
              <a:xfrm rot="10934400">
                <a:off x="1279080" y="946440"/>
                <a:ext cx="13248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 rot="7761600">
                <a:off x="1175760" y="984960"/>
                <a:ext cx="108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 rot="10934400">
                <a:off x="1280880" y="906120"/>
                <a:ext cx="13212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 rot="7761600">
                <a:off x="1202760" y="100944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 rot="14133600">
                <a:off x="1174680" y="85356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 rot="14133600">
                <a:off x="1204200" y="83232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9" name=""/>
            <p:cNvGrpSpPr/>
            <p:nvPr/>
          </p:nvGrpSpPr>
          <p:grpSpPr>
            <a:xfrm>
              <a:off x="1420200" y="796680"/>
              <a:ext cx="225720" cy="275760"/>
              <a:chOff x="1420200" y="796680"/>
              <a:chExt cx="225720" cy="275760"/>
            </a:xfrm>
          </p:grpSpPr>
          <p:sp>
            <p:nvSpPr>
              <p:cNvPr id="2250" name=""/>
              <p:cNvSpPr/>
              <p:nvPr/>
            </p:nvSpPr>
            <p:spPr>
              <a:xfrm rot="121800">
                <a:off x="1422000" y="901080"/>
                <a:ext cx="13248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 rot="18549000">
                <a:off x="1549800" y="858600"/>
                <a:ext cx="108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 rot="121800">
                <a:off x="1420560" y="941040"/>
                <a:ext cx="13212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 rot="18549000">
                <a:off x="1522440" y="83448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 rot="3320400">
                <a:off x="1551240" y="98964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rot="3320400">
                <a:off x="1522080" y="101160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6" name=""/>
            <p:cNvSpPr/>
            <p:nvPr/>
          </p:nvSpPr>
          <p:spPr>
            <a:xfrm rot="917400">
              <a:off x="1371600" y="874440"/>
              <a:ext cx="81720" cy="145080"/>
            </a:xfrm>
            <a:custGeom>
              <a:avLst/>
              <a:gdLst/>
              <a:ahLst/>
              <a:rect l="l" t="t" r="r" b="b"/>
              <a:pathLst>
                <a:path w="123" h="140">
                  <a:moveTo>
                    <a:pt x="5" y="99"/>
                  </a:moveTo>
                  <a:cubicBezTo>
                    <a:pt x="13" y="35"/>
                    <a:pt x="0" y="17"/>
                    <a:pt x="55" y="0"/>
                  </a:cubicBezTo>
                  <a:cubicBezTo>
                    <a:pt x="91" y="9"/>
                    <a:pt x="108" y="5"/>
                    <a:pt x="120" y="41"/>
                  </a:cubicBezTo>
                  <a:cubicBezTo>
                    <a:pt x="117" y="63"/>
                    <a:pt x="123" y="88"/>
                    <a:pt x="112" y="107"/>
                  </a:cubicBezTo>
                  <a:cubicBezTo>
                    <a:pt x="108" y="114"/>
                    <a:pt x="92" y="106"/>
                    <a:pt x="88" y="99"/>
                  </a:cubicBezTo>
                  <a:cubicBezTo>
                    <a:pt x="50" y="31"/>
                    <a:pt x="109" y="59"/>
                    <a:pt x="55" y="41"/>
                  </a:cubicBezTo>
                  <a:cubicBezTo>
                    <a:pt x="43" y="74"/>
                    <a:pt x="41" y="107"/>
                    <a:pt x="30" y="140"/>
                  </a:cubicBezTo>
                  <a:cubicBezTo>
                    <a:pt x="8" y="117"/>
                    <a:pt x="17" y="130"/>
                    <a:pt x="5" y="99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50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7" name=""/>
          <p:cNvGrpSpPr/>
          <p:nvPr/>
        </p:nvGrpSpPr>
        <p:grpSpPr>
          <a:xfrm>
            <a:off x="1320840" y="1067400"/>
            <a:ext cx="496800" cy="419400"/>
            <a:chOff x="1320840" y="1067400"/>
            <a:chExt cx="496800" cy="419400"/>
          </a:xfrm>
        </p:grpSpPr>
        <p:grpSp>
          <p:nvGrpSpPr>
            <p:cNvPr id="2258" name=""/>
            <p:cNvGrpSpPr/>
            <p:nvPr/>
          </p:nvGrpSpPr>
          <p:grpSpPr>
            <a:xfrm>
              <a:off x="1320840" y="1067400"/>
              <a:ext cx="256680" cy="238680"/>
              <a:chOff x="1320840" y="1067400"/>
              <a:chExt cx="256680" cy="238680"/>
            </a:xfrm>
          </p:grpSpPr>
          <p:sp>
            <p:nvSpPr>
              <p:cNvPr id="2259" name=""/>
              <p:cNvSpPr/>
              <p:nvPr/>
            </p:nvSpPr>
            <p:spPr>
              <a:xfrm rot="12660600">
                <a:off x="1428840" y="1253880"/>
                <a:ext cx="13248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 rot="9487800">
                <a:off x="1320480" y="1231200"/>
                <a:ext cx="108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 rot="12660600">
                <a:off x="1450080" y="1219320"/>
                <a:ext cx="13212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 rot="9487800">
                <a:off x="1332720" y="126576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rot="15859200">
                <a:off x="1383120" y="111600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rot="15859200">
                <a:off x="1419480" y="111132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5" name=""/>
            <p:cNvGrpSpPr/>
            <p:nvPr/>
          </p:nvGrpSpPr>
          <p:grpSpPr>
            <a:xfrm>
              <a:off x="1560600" y="1247400"/>
              <a:ext cx="257040" cy="239400"/>
              <a:chOff x="1560600" y="1247400"/>
              <a:chExt cx="257040" cy="239400"/>
            </a:xfrm>
          </p:grpSpPr>
          <p:sp>
            <p:nvSpPr>
              <p:cNvPr id="2266" name=""/>
              <p:cNvSpPr/>
              <p:nvPr/>
            </p:nvSpPr>
            <p:spPr>
              <a:xfrm rot="1847400">
                <a:off x="1576440" y="1282680"/>
                <a:ext cx="13248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rot="20275200">
                <a:off x="1709280" y="1301040"/>
                <a:ext cx="108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rot="1847400">
                <a:off x="1555560" y="1316880"/>
                <a:ext cx="13212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rot="20275200">
                <a:off x="1697040" y="126648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rot="5046600">
                <a:off x="1647360" y="141660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rot="5046600">
                <a:off x="1611360" y="142164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2" name=""/>
            <p:cNvSpPr/>
            <p:nvPr/>
          </p:nvSpPr>
          <p:spPr>
            <a:xfrm rot="2643600">
              <a:off x="1517400" y="1215360"/>
              <a:ext cx="81720" cy="145080"/>
            </a:xfrm>
            <a:custGeom>
              <a:avLst/>
              <a:gdLst/>
              <a:ahLst/>
              <a:rect l="l" t="t" r="r" b="b"/>
              <a:pathLst>
                <a:path w="123" h="140">
                  <a:moveTo>
                    <a:pt x="5" y="99"/>
                  </a:moveTo>
                  <a:cubicBezTo>
                    <a:pt x="13" y="35"/>
                    <a:pt x="0" y="17"/>
                    <a:pt x="55" y="0"/>
                  </a:cubicBezTo>
                  <a:cubicBezTo>
                    <a:pt x="91" y="9"/>
                    <a:pt x="108" y="5"/>
                    <a:pt x="120" y="41"/>
                  </a:cubicBezTo>
                  <a:cubicBezTo>
                    <a:pt x="117" y="63"/>
                    <a:pt x="123" y="88"/>
                    <a:pt x="112" y="107"/>
                  </a:cubicBezTo>
                  <a:cubicBezTo>
                    <a:pt x="108" y="114"/>
                    <a:pt x="92" y="106"/>
                    <a:pt x="88" y="99"/>
                  </a:cubicBezTo>
                  <a:cubicBezTo>
                    <a:pt x="50" y="31"/>
                    <a:pt x="109" y="59"/>
                    <a:pt x="55" y="41"/>
                  </a:cubicBezTo>
                  <a:cubicBezTo>
                    <a:pt x="43" y="74"/>
                    <a:pt x="41" y="107"/>
                    <a:pt x="30" y="140"/>
                  </a:cubicBezTo>
                  <a:cubicBezTo>
                    <a:pt x="8" y="117"/>
                    <a:pt x="17" y="130"/>
                    <a:pt x="5" y="99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50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3" name=""/>
          <p:cNvGrpSpPr/>
          <p:nvPr/>
        </p:nvGrpSpPr>
        <p:grpSpPr>
          <a:xfrm>
            <a:off x="1766160" y="636120"/>
            <a:ext cx="491040" cy="440640"/>
            <a:chOff x="1766160" y="636120"/>
            <a:chExt cx="491040" cy="440640"/>
          </a:xfrm>
        </p:grpSpPr>
        <p:grpSp>
          <p:nvGrpSpPr>
            <p:cNvPr id="2274" name=""/>
            <p:cNvGrpSpPr/>
            <p:nvPr/>
          </p:nvGrpSpPr>
          <p:grpSpPr>
            <a:xfrm>
              <a:off x="1766160" y="839880"/>
              <a:ext cx="261720" cy="236880"/>
              <a:chOff x="1766160" y="839880"/>
              <a:chExt cx="261720" cy="236880"/>
            </a:xfrm>
          </p:grpSpPr>
          <p:sp>
            <p:nvSpPr>
              <p:cNvPr id="2275" name=""/>
              <p:cNvSpPr/>
              <p:nvPr/>
            </p:nvSpPr>
            <p:spPr>
              <a:xfrm rot="8710200">
                <a:off x="1902240" y="909000"/>
                <a:ext cx="13248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5537400">
                <a:off x="1846440" y="1008720"/>
                <a:ext cx="108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8710200">
                <a:off x="1879560" y="875880"/>
                <a:ext cx="13212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5537400">
                <a:off x="1882800" y="101196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11908800">
                <a:off x="1766520" y="90468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1908800">
                <a:off x="1776960" y="86976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1" name=""/>
            <p:cNvGrpSpPr/>
            <p:nvPr/>
          </p:nvGrpSpPr>
          <p:grpSpPr>
            <a:xfrm>
              <a:off x="1995840" y="636120"/>
              <a:ext cx="261360" cy="236880"/>
              <a:chOff x="1995840" y="636120"/>
              <a:chExt cx="261360" cy="236880"/>
            </a:xfrm>
          </p:grpSpPr>
          <p:sp>
            <p:nvSpPr>
              <p:cNvPr id="2282" name=""/>
              <p:cNvSpPr/>
              <p:nvPr/>
            </p:nvSpPr>
            <p:spPr>
              <a:xfrm rot="19497600">
                <a:off x="1988640" y="786240"/>
                <a:ext cx="13248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16324800">
                <a:off x="2068920" y="682920"/>
                <a:ext cx="108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19497600">
                <a:off x="2011680" y="819360"/>
                <a:ext cx="13212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6324800">
                <a:off x="2032200" y="67968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1095600">
                <a:off x="2148840" y="78624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095600">
                <a:off x="2139120" y="82152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8" name=""/>
            <p:cNvSpPr/>
            <p:nvPr/>
          </p:nvSpPr>
          <p:spPr>
            <a:xfrm rot="20293200">
              <a:off x="1976400" y="797760"/>
              <a:ext cx="81720" cy="145080"/>
            </a:xfrm>
            <a:custGeom>
              <a:avLst/>
              <a:gdLst/>
              <a:ahLst/>
              <a:rect l="l" t="t" r="r" b="b"/>
              <a:pathLst>
                <a:path w="123" h="140">
                  <a:moveTo>
                    <a:pt x="5" y="99"/>
                  </a:moveTo>
                  <a:cubicBezTo>
                    <a:pt x="13" y="35"/>
                    <a:pt x="0" y="17"/>
                    <a:pt x="55" y="0"/>
                  </a:cubicBezTo>
                  <a:cubicBezTo>
                    <a:pt x="91" y="9"/>
                    <a:pt x="108" y="5"/>
                    <a:pt x="120" y="41"/>
                  </a:cubicBezTo>
                  <a:cubicBezTo>
                    <a:pt x="117" y="63"/>
                    <a:pt x="123" y="88"/>
                    <a:pt x="112" y="107"/>
                  </a:cubicBezTo>
                  <a:cubicBezTo>
                    <a:pt x="108" y="114"/>
                    <a:pt x="92" y="106"/>
                    <a:pt x="88" y="99"/>
                  </a:cubicBezTo>
                  <a:cubicBezTo>
                    <a:pt x="50" y="31"/>
                    <a:pt x="109" y="59"/>
                    <a:pt x="55" y="41"/>
                  </a:cubicBezTo>
                  <a:cubicBezTo>
                    <a:pt x="43" y="74"/>
                    <a:pt x="41" y="107"/>
                    <a:pt x="30" y="140"/>
                  </a:cubicBezTo>
                  <a:cubicBezTo>
                    <a:pt x="8" y="117"/>
                    <a:pt x="17" y="130"/>
                    <a:pt x="5" y="99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50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9" name=""/>
          <p:cNvSpPr/>
          <p:nvPr/>
        </p:nvSpPr>
        <p:spPr>
          <a:xfrm>
            <a:off x="1371600" y="1676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1587600" y="18288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1752480" y="1600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2" name=""/>
          <p:cNvGrpSpPr/>
          <p:nvPr/>
        </p:nvGrpSpPr>
        <p:grpSpPr>
          <a:xfrm>
            <a:off x="25560" y="5664240"/>
            <a:ext cx="3783960" cy="659880"/>
            <a:chOff x="25560" y="5664240"/>
            <a:chExt cx="3783960" cy="659880"/>
          </a:xfrm>
        </p:grpSpPr>
        <p:sp>
          <p:nvSpPr>
            <p:cNvPr id="2293" name=""/>
            <p:cNvSpPr/>
            <p:nvPr/>
          </p:nvSpPr>
          <p:spPr>
            <a:xfrm>
              <a:off x="25560" y="6258240"/>
              <a:ext cx="378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25560" y="6324120"/>
              <a:ext cx="378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5" name=""/>
            <p:cNvGrpSpPr/>
            <p:nvPr/>
          </p:nvGrpSpPr>
          <p:grpSpPr>
            <a:xfrm>
              <a:off x="91800" y="5664240"/>
              <a:ext cx="895680" cy="593640"/>
              <a:chOff x="91800" y="5664240"/>
              <a:chExt cx="895680" cy="593640"/>
            </a:xfrm>
          </p:grpSpPr>
          <p:sp>
            <p:nvSpPr>
              <p:cNvPr id="2296" name=""/>
              <p:cNvSpPr/>
              <p:nvPr/>
            </p:nvSpPr>
            <p:spPr>
              <a:xfrm>
                <a:off x="91800" y="5664240"/>
                <a:ext cx="895680" cy="593640"/>
              </a:xfrm>
              <a:prstGeom prst="roundRect">
                <a:avLst>
                  <a:gd name="adj" fmla="val 16667"/>
                </a:avLst>
              </a:prstGeom>
              <a:solidFill>
                <a:srgbClr val="efc7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390240" y="5878800"/>
                <a:ext cx="298440" cy="197640"/>
              </a:xfrm>
              <a:prstGeom prst="ellipse">
                <a:avLst/>
              </a:prstGeom>
              <a:solidFill>
                <a:srgbClr val="ca7e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8" name=""/>
            <p:cNvGrpSpPr/>
            <p:nvPr/>
          </p:nvGrpSpPr>
          <p:grpSpPr>
            <a:xfrm>
              <a:off x="987840" y="5664240"/>
              <a:ext cx="895680" cy="593640"/>
              <a:chOff x="987840" y="5664240"/>
              <a:chExt cx="895680" cy="593640"/>
            </a:xfrm>
          </p:grpSpPr>
          <p:sp>
            <p:nvSpPr>
              <p:cNvPr id="2299" name=""/>
              <p:cNvSpPr/>
              <p:nvPr/>
            </p:nvSpPr>
            <p:spPr>
              <a:xfrm>
                <a:off x="987840" y="5664240"/>
                <a:ext cx="895680" cy="593640"/>
              </a:xfrm>
              <a:prstGeom prst="roundRect">
                <a:avLst>
                  <a:gd name="adj" fmla="val 16667"/>
                </a:avLst>
              </a:prstGeom>
              <a:solidFill>
                <a:srgbClr val="efc7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1286280" y="5878800"/>
                <a:ext cx="298440" cy="197640"/>
              </a:xfrm>
              <a:prstGeom prst="ellipse">
                <a:avLst/>
              </a:prstGeom>
              <a:solidFill>
                <a:srgbClr val="ca7e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1" name=""/>
            <p:cNvGrpSpPr/>
            <p:nvPr/>
          </p:nvGrpSpPr>
          <p:grpSpPr>
            <a:xfrm>
              <a:off x="1884240" y="5664240"/>
              <a:ext cx="895680" cy="593640"/>
              <a:chOff x="1884240" y="5664240"/>
              <a:chExt cx="895680" cy="593640"/>
            </a:xfrm>
          </p:grpSpPr>
          <p:sp>
            <p:nvSpPr>
              <p:cNvPr id="2302" name=""/>
              <p:cNvSpPr/>
              <p:nvPr/>
            </p:nvSpPr>
            <p:spPr>
              <a:xfrm>
                <a:off x="1884240" y="5664240"/>
                <a:ext cx="895680" cy="593640"/>
              </a:xfrm>
              <a:prstGeom prst="roundRect">
                <a:avLst>
                  <a:gd name="adj" fmla="val 16667"/>
                </a:avLst>
              </a:prstGeom>
              <a:solidFill>
                <a:srgbClr val="efc7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2182680" y="5878800"/>
                <a:ext cx="298440" cy="197640"/>
              </a:xfrm>
              <a:prstGeom prst="ellipse">
                <a:avLst/>
              </a:prstGeom>
              <a:solidFill>
                <a:srgbClr val="ca7e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4" name=""/>
            <p:cNvGrpSpPr/>
            <p:nvPr/>
          </p:nvGrpSpPr>
          <p:grpSpPr>
            <a:xfrm>
              <a:off x="2780280" y="5664240"/>
              <a:ext cx="895680" cy="593640"/>
              <a:chOff x="2780280" y="5664240"/>
              <a:chExt cx="895680" cy="593640"/>
            </a:xfrm>
          </p:grpSpPr>
          <p:sp>
            <p:nvSpPr>
              <p:cNvPr id="2305" name=""/>
              <p:cNvSpPr/>
              <p:nvPr/>
            </p:nvSpPr>
            <p:spPr>
              <a:xfrm>
                <a:off x="2780280" y="5664240"/>
                <a:ext cx="895680" cy="593640"/>
              </a:xfrm>
              <a:prstGeom prst="roundRect">
                <a:avLst>
                  <a:gd name="adj" fmla="val 16667"/>
                </a:avLst>
              </a:prstGeom>
              <a:solidFill>
                <a:srgbClr val="efc7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3078720" y="5878800"/>
                <a:ext cx="298440" cy="197640"/>
              </a:xfrm>
              <a:prstGeom prst="ellipse">
                <a:avLst/>
              </a:prstGeom>
              <a:solidFill>
                <a:srgbClr val="ca7e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07" name=""/>
          <p:cNvGrpSpPr/>
          <p:nvPr/>
        </p:nvGrpSpPr>
        <p:grpSpPr>
          <a:xfrm>
            <a:off x="1333440" y="4952880"/>
            <a:ext cx="533520" cy="533520"/>
            <a:chOff x="1333440" y="4952880"/>
            <a:chExt cx="533520" cy="533520"/>
          </a:xfrm>
        </p:grpSpPr>
        <p:sp>
          <p:nvSpPr>
            <p:cNvPr id="2308" name=""/>
            <p:cNvSpPr/>
            <p:nvPr/>
          </p:nvSpPr>
          <p:spPr>
            <a:xfrm flipH="1">
              <a:off x="1333440" y="502920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 flipH="1">
              <a:off x="1485720" y="518148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 flipH="1">
              <a:off x="1333440" y="5334120"/>
              <a:ext cx="76320" cy="7596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 flipH="1">
              <a:off x="1562040" y="495288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 flipH="1">
              <a:off x="1714320" y="5105520"/>
              <a:ext cx="76320" cy="7596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flipH="1">
              <a:off x="1714320" y="5334120"/>
              <a:ext cx="76320" cy="7596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flipH="1">
              <a:off x="1562040" y="541008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 flipH="1">
              <a:off x="1790640" y="495288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6" name=""/>
          <p:cNvGrpSpPr/>
          <p:nvPr/>
        </p:nvGrpSpPr>
        <p:grpSpPr>
          <a:xfrm>
            <a:off x="1333440" y="4952880"/>
            <a:ext cx="533520" cy="533520"/>
            <a:chOff x="1333440" y="4952880"/>
            <a:chExt cx="533520" cy="533520"/>
          </a:xfrm>
        </p:grpSpPr>
        <p:sp>
          <p:nvSpPr>
            <p:cNvPr id="2317" name=""/>
            <p:cNvSpPr/>
            <p:nvPr/>
          </p:nvSpPr>
          <p:spPr>
            <a:xfrm flipH="1">
              <a:off x="1333440" y="5029200"/>
              <a:ext cx="76320" cy="7632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H="1">
              <a:off x="1485720" y="5181480"/>
              <a:ext cx="76320" cy="7632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 flipH="1">
              <a:off x="1333440" y="5334120"/>
              <a:ext cx="76320" cy="7596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 flipH="1">
              <a:off x="1562040" y="4952880"/>
              <a:ext cx="76320" cy="7632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 flipH="1">
              <a:off x="1714320" y="5105520"/>
              <a:ext cx="76320" cy="7596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 flipH="1">
              <a:off x="1714320" y="5334120"/>
              <a:ext cx="76320" cy="7596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H="1">
              <a:off x="1562040" y="5410080"/>
              <a:ext cx="76320" cy="7632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 flipH="1">
              <a:off x="1790640" y="4952880"/>
              <a:ext cx="76320" cy="7632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5" name=""/>
          <p:cNvGrpSpPr/>
          <p:nvPr/>
        </p:nvGrpSpPr>
        <p:grpSpPr>
          <a:xfrm>
            <a:off x="1295280" y="6172200"/>
            <a:ext cx="381240" cy="152280"/>
            <a:chOff x="1295280" y="6172200"/>
            <a:chExt cx="381240" cy="152280"/>
          </a:xfrm>
        </p:grpSpPr>
        <p:sp>
          <p:nvSpPr>
            <p:cNvPr id="2326" name=""/>
            <p:cNvSpPr/>
            <p:nvPr/>
          </p:nvSpPr>
          <p:spPr>
            <a:xfrm>
              <a:off x="1523880" y="6172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295280" y="6172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8" name=""/>
          <p:cNvGrpSpPr/>
          <p:nvPr/>
        </p:nvGrpSpPr>
        <p:grpSpPr>
          <a:xfrm>
            <a:off x="1181160" y="6375240"/>
            <a:ext cx="584280" cy="152640"/>
            <a:chOff x="1181160" y="6375240"/>
            <a:chExt cx="584280" cy="152640"/>
          </a:xfrm>
        </p:grpSpPr>
        <p:sp>
          <p:nvSpPr>
            <p:cNvPr id="2329" name=""/>
            <p:cNvSpPr/>
            <p:nvPr/>
          </p:nvSpPr>
          <p:spPr>
            <a:xfrm>
              <a:off x="1612800" y="637524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181160" y="637524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1" name=""/>
          <p:cNvGrpSpPr/>
          <p:nvPr/>
        </p:nvGrpSpPr>
        <p:grpSpPr>
          <a:xfrm>
            <a:off x="977760" y="6451560"/>
            <a:ext cx="965520" cy="177840"/>
            <a:chOff x="977760" y="6451560"/>
            <a:chExt cx="965520" cy="177840"/>
          </a:xfrm>
        </p:grpSpPr>
        <p:sp>
          <p:nvSpPr>
            <p:cNvPr id="2332" name=""/>
            <p:cNvSpPr/>
            <p:nvPr/>
          </p:nvSpPr>
          <p:spPr>
            <a:xfrm>
              <a:off x="1790640" y="64771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977760" y="645156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4" name=""/>
          <p:cNvGrpSpPr/>
          <p:nvPr/>
        </p:nvGrpSpPr>
        <p:grpSpPr>
          <a:xfrm>
            <a:off x="762120" y="6477120"/>
            <a:ext cx="1409760" cy="152280"/>
            <a:chOff x="762120" y="6477120"/>
            <a:chExt cx="1409760" cy="152280"/>
          </a:xfrm>
        </p:grpSpPr>
        <p:sp>
          <p:nvSpPr>
            <p:cNvPr id="2335" name=""/>
            <p:cNvSpPr/>
            <p:nvPr/>
          </p:nvSpPr>
          <p:spPr>
            <a:xfrm>
              <a:off x="2019240" y="64771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762120" y="6477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7" name=""/>
          <p:cNvGrpSpPr/>
          <p:nvPr/>
        </p:nvGrpSpPr>
        <p:grpSpPr>
          <a:xfrm>
            <a:off x="609480" y="6324480"/>
            <a:ext cx="1765440" cy="190800"/>
            <a:chOff x="609480" y="6324480"/>
            <a:chExt cx="1765440" cy="190800"/>
          </a:xfrm>
        </p:grpSpPr>
        <p:sp>
          <p:nvSpPr>
            <p:cNvPr id="2338" name=""/>
            <p:cNvSpPr/>
            <p:nvPr/>
          </p:nvSpPr>
          <p:spPr>
            <a:xfrm>
              <a:off x="2222640" y="636264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09480" y="6324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0" name=""/>
          <p:cNvGrpSpPr/>
          <p:nvPr/>
        </p:nvGrpSpPr>
        <p:grpSpPr>
          <a:xfrm>
            <a:off x="546120" y="6108840"/>
            <a:ext cx="1930320" cy="203040"/>
            <a:chOff x="546120" y="6108840"/>
            <a:chExt cx="1930320" cy="203040"/>
          </a:xfrm>
        </p:grpSpPr>
        <p:sp>
          <p:nvSpPr>
            <p:cNvPr id="2341" name=""/>
            <p:cNvSpPr/>
            <p:nvPr/>
          </p:nvSpPr>
          <p:spPr>
            <a:xfrm>
              <a:off x="2324160" y="6159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546120" y="61088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3" name=""/>
          <p:cNvSpPr/>
          <p:nvPr/>
        </p:nvSpPr>
        <p:spPr>
          <a:xfrm>
            <a:off x="25560" y="6270480"/>
            <a:ext cx="3784320" cy="0"/>
          </a:xfrm>
          <a:prstGeom prst="line">
            <a:avLst/>
          </a:prstGeom>
          <a:ln w="28440">
            <a:solidFill>
              <a:srgbClr val="9517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25560" y="6337440"/>
            <a:ext cx="3784320" cy="0"/>
          </a:xfrm>
          <a:prstGeom prst="line">
            <a:avLst/>
          </a:prstGeom>
          <a:ln w="28440">
            <a:solidFill>
              <a:srgbClr val="9517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5" name=""/>
          <p:cNvGrpSpPr/>
          <p:nvPr/>
        </p:nvGrpSpPr>
        <p:grpSpPr>
          <a:xfrm>
            <a:off x="92160" y="5664240"/>
            <a:ext cx="3584160" cy="593640"/>
            <a:chOff x="92160" y="5664240"/>
            <a:chExt cx="3584160" cy="593640"/>
          </a:xfrm>
        </p:grpSpPr>
        <p:sp>
          <p:nvSpPr>
            <p:cNvPr id="2346" name=""/>
            <p:cNvSpPr/>
            <p:nvPr/>
          </p:nvSpPr>
          <p:spPr>
            <a:xfrm>
              <a:off x="92160" y="5664240"/>
              <a:ext cx="895320" cy="5936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7" name=""/>
            <p:cNvGrpSpPr/>
            <p:nvPr/>
          </p:nvGrpSpPr>
          <p:grpSpPr>
            <a:xfrm>
              <a:off x="987480" y="5664240"/>
              <a:ext cx="896400" cy="593280"/>
              <a:chOff x="987480" y="5664240"/>
              <a:chExt cx="896400" cy="593280"/>
            </a:xfrm>
          </p:grpSpPr>
          <p:sp>
            <p:nvSpPr>
              <p:cNvPr id="2348" name=""/>
              <p:cNvSpPr/>
              <p:nvPr/>
            </p:nvSpPr>
            <p:spPr>
              <a:xfrm>
                <a:off x="987480" y="5664240"/>
                <a:ext cx="896400" cy="593280"/>
              </a:xfrm>
              <a:prstGeom prst="roundRect">
                <a:avLst>
                  <a:gd name="adj" fmla="val 16667"/>
                </a:avLst>
              </a:prstGeom>
              <a:solidFill>
                <a:srgbClr val="efc7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1286280" y="5878440"/>
                <a:ext cx="298800" cy="197640"/>
              </a:xfrm>
              <a:prstGeom prst="ellipse">
                <a:avLst/>
              </a:prstGeom>
              <a:solidFill>
                <a:srgbClr val="ca7e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0" name=""/>
            <p:cNvSpPr/>
            <p:nvPr/>
          </p:nvSpPr>
          <p:spPr>
            <a:xfrm>
              <a:off x="1884240" y="5664240"/>
              <a:ext cx="897120" cy="5936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1" name=""/>
            <p:cNvGrpSpPr/>
            <p:nvPr/>
          </p:nvGrpSpPr>
          <p:grpSpPr>
            <a:xfrm>
              <a:off x="2781360" y="5664240"/>
              <a:ext cx="894960" cy="593280"/>
              <a:chOff x="2781360" y="5664240"/>
              <a:chExt cx="894960" cy="593280"/>
            </a:xfrm>
          </p:grpSpPr>
          <p:sp>
            <p:nvSpPr>
              <p:cNvPr id="2352" name=""/>
              <p:cNvSpPr/>
              <p:nvPr/>
            </p:nvSpPr>
            <p:spPr>
              <a:xfrm>
                <a:off x="2781360" y="5664240"/>
                <a:ext cx="894960" cy="593280"/>
              </a:xfrm>
              <a:prstGeom prst="roundRect">
                <a:avLst>
                  <a:gd name="adj" fmla="val 16667"/>
                </a:avLst>
              </a:prstGeom>
              <a:solidFill>
                <a:srgbClr val="efc7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079440" y="5878440"/>
                <a:ext cx="298080" cy="197640"/>
              </a:xfrm>
              <a:prstGeom prst="ellipse">
                <a:avLst/>
              </a:prstGeom>
              <a:solidFill>
                <a:srgbClr val="ca7e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54" name=""/>
          <p:cNvGrpSpPr/>
          <p:nvPr/>
        </p:nvGrpSpPr>
        <p:grpSpPr>
          <a:xfrm>
            <a:off x="1104840" y="5715000"/>
            <a:ext cx="685440" cy="457200"/>
            <a:chOff x="1104840" y="5715000"/>
            <a:chExt cx="685440" cy="457200"/>
          </a:xfrm>
        </p:grpSpPr>
        <p:sp>
          <p:nvSpPr>
            <p:cNvPr id="2355" name=""/>
            <p:cNvSpPr/>
            <p:nvPr/>
          </p:nvSpPr>
          <p:spPr>
            <a:xfrm flipH="1">
              <a:off x="1485360" y="5715000"/>
              <a:ext cx="7596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H="1">
              <a:off x="1256760" y="5740560"/>
              <a:ext cx="75960" cy="7596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>
              <a:off x="1104840" y="594360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 flipH="1">
              <a:off x="1638360" y="6019920"/>
              <a:ext cx="76320" cy="7596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 flipH="1">
              <a:off x="1333440" y="609588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>
              <a:off x="1713960" y="5791320"/>
              <a:ext cx="75960" cy="7596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 flipH="1">
              <a:off x="1409760" y="594360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2" name=""/>
          <p:cNvGrpSpPr/>
          <p:nvPr/>
        </p:nvGrpSpPr>
        <p:grpSpPr>
          <a:xfrm>
            <a:off x="1599840" y="2057040"/>
            <a:ext cx="457560" cy="457560"/>
            <a:chOff x="1599840" y="2057040"/>
            <a:chExt cx="457560" cy="457560"/>
          </a:xfrm>
        </p:grpSpPr>
        <p:grpSp>
          <p:nvGrpSpPr>
            <p:cNvPr id="2363" name=""/>
            <p:cNvGrpSpPr/>
            <p:nvPr/>
          </p:nvGrpSpPr>
          <p:grpSpPr>
            <a:xfrm>
              <a:off x="1599840" y="2057040"/>
              <a:ext cx="457560" cy="457560"/>
              <a:chOff x="1599840" y="2057040"/>
              <a:chExt cx="457560" cy="457560"/>
            </a:xfrm>
          </p:grpSpPr>
          <p:sp>
            <p:nvSpPr>
              <p:cNvPr id="2364" name=""/>
              <p:cNvSpPr/>
              <p:nvPr/>
            </p:nvSpPr>
            <p:spPr>
              <a:xfrm>
                <a:off x="1600200" y="2057400"/>
                <a:ext cx="457200" cy="4572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1638360" y="2095560"/>
                <a:ext cx="342720" cy="34272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66" name=""/>
              <p:cNvGrpSpPr/>
              <p:nvPr/>
            </p:nvGrpSpPr>
            <p:grpSpPr>
              <a:xfrm>
                <a:off x="1752120" y="2399760"/>
                <a:ext cx="190440" cy="114120"/>
                <a:chOff x="1752120" y="2399760"/>
                <a:chExt cx="190440" cy="114120"/>
              </a:xfrm>
            </p:grpSpPr>
            <p:sp>
              <p:nvSpPr>
                <p:cNvPr id="2367" name=""/>
                <p:cNvSpPr/>
                <p:nvPr/>
              </p:nvSpPr>
              <p:spPr>
                <a:xfrm flipH="1" flipV="1">
                  <a:off x="1833480" y="23994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 flipH="1" flipV="1">
                  <a:off x="1915200" y="2445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 flipH="1" flipV="1">
                  <a:off x="1833480" y="24908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 flipH="1" flipV="1">
                  <a:off x="1751760" y="2445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1" name=""/>
              <p:cNvGrpSpPr/>
              <p:nvPr/>
            </p:nvGrpSpPr>
            <p:grpSpPr>
              <a:xfrm>
                <a:off x="1828440" y="2285640"/>
                <a:ext cx="190440" cy="114120"/>
                <a:chOff x="1828440" y="2285640"/>
                <a:chExt cx="190440" cy="114120"/>
              </a:xfrm>
            </p:grpSpPr>
            <p:sp>
              <p:nvSpPr>
                <p:cNvPr id="2372" name=""/>
                <p:cNvSpPr/>
                <p:nvPr/>
              </p:nvSpPr>
              <p:spPr>
                <a:xfrm flipH="1" flipV="1">
                  <a:off x="1909800" y="22852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 flipH="1" flipV="1">
                  <a:off x="1991520" y="23310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 flipH="1" flipV="1">
                  <a:off x="1909800" y="23767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 flipH="1" flipV="1">
                  <a:off x="1828080" y="23310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6" name=""/>
              <p:cNvGrpSpPr/>
              <p:nvPr/>
            </p:nvGrpSpPr>
            <p:grpSpPr>
              <a:xfrm>
                <a:off x="1638000" y="2323800"/>
                <a:ext cx="190440" cy="114120"/>
                <a:chOff x="1638000" y="2323800"/>
                <a:chExt cx="190440" cy="114120"/>
              </a:xfrm>
            </p:grpSpPr>
            <p:sp>
              <p:nvSpPr>
                <p:cNvPr id="2377" name=""/>
                <p:cNvSpPr/>
                <p:nvPr/>
              </p:nvSpPr>
              <p:spPr>
                <a:xfrm flipH="1" flipV="1">
                  <a:off x="1719360" y="23234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 flipH="1" flipV="1">
                  <a:off x="1801080" y="23691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 flipH="1" flipV="1">
                  <a:off x="1719360" y="24148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 flipH="1" flipV="1">
                  <a:off x="1637640" y="23691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1" name=""/>
              <p:cNvGrpSpPr/>
              <p:nvPr/>
            </p:nvGrpSpPr>
            <p:grpSpPr>
              <a:xfrm>
                <a:off x="1752120" y="2361960"/>
                <a:ext cx="190440" cy="114120"/>
                <a:chOff x="1752120" y="2361960"/>
                <a:chExt cx="190440" cy="114120"/>
              </a:xfrm>
            </p:grpSpPr>
            <p:sp>
              <p:nvSpPr>
                <p:cNvPr id="2382" name=""/>
                <p:cNvSpPr/>
                <p:nvPr/>
              </p:nvSpPr>
              <p:spPr>
                <a:xfrm flipH="1" flipV="1">
                  <a:off x="1833480" y="23616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 flipH="1" flipV="1">
                  <a:off x="1915200" y="24073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 flipH="1" flipV="1">
                  <a:off x="1833480" y="24530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 flipH="1" flipV="1">
                  <a:off x="1751760" y="24073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6" name=""/>
              <p:cNvGrpSpPr/>
              <p:nvPr/>
            </p:nvGrpSpPr>
            <p:grpSpPr>
              <a:xfrm>
                <a:off x="1828440" y="2171160"/>
                <a:ext cx="190440" cy="114120"/>
                <a:chOff x="1828440" y="2171160"/>
                <a:chExt cx="190440" cy="114120"/>
              </a:xfrm>
            </p:grpSpPr>
            <p:sp>
              <p:nvSpPr>
                <p:cNvPr id="2387" name=""/>
                <p:cNvSpPr/>
                <p:nvPr/>
              </p:nvSpPr>
              <p:spPr>
                <a:xfrm flipH="1" flipV="1">
                  <a:off x="1909800" y="21708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 flipH="1" flipV="1">
                  <a:off x="1991520" y="22165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 flipH="1" flipV="1">
                  <a:off x="1909800" y="22622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 flipH="1" flipV="1">
                  <a:off x="1828080" y="22165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1" name=""/>
              <p:cNvGrpSpPr/>
              <p:nvPr/>
            </p:nvGrpSpPr>
            <p:grpSpPr>
              <a:xfrm>
                <a:off x="1599840" y="2247480"/>
                <a:ext cx="190440" cy="114120"/>
                <a:chOff x="1599840" y="2247480"/>
                <a:chExt cx="190440" cy="114120"/>
              </a:xfrm>
            </p:grpSpPr>
            <p:sp>
              <p:nvSpPr>
                <p:cNvPr id="2392" name=""/>
                <p:cNvSpPr/>
                <p:nvPr/>
              </p:nvSpPr>
              <p:spPr>
                <a:xfrm flipH="1" flipV="1">
                  <a:off x="1681200" y="2247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 flipH="1" flipV="1">
                  <a:off x="1762920" y="22928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 flipH="1" flipV="1">
                  <a:off x="1681200" y="23385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 flipH="1" flipV="1">
                  <a:off x="1599480" y="22928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6" name=""/>
              <p:cNvGrpSpPr/>
              <p:nvPr/>
            </p:nvGrpSpPr>
            <p:grpSpPr>
              <a:xfrm>
                <a:off x="1752120" y="2057040"/>
                <a:ext cx="190440" cy="114120"/>
                <a:chOff x="1752120" y="2057040"/>
                <a:chExt cx="190440" cy="114120"/>
              </a:xfrm>
            </p:grpSpPr>
            <p:sp>
              <p:nvSpPr>
                <p:cNvPr id="2397" name=""/>
                <p:cNvSpPr/>
                <p:nvPr/>
              </p:nvSpPr>
              <p:spPr>
                <a:xfrm flipH="1" flipV="1">
                  <a:off x="1833480" y="20566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 flipH="1" flipV="1">
                  <a:off x="1915200" y="21024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 flipH="1" flipV="1">
                  <a:off x="1833480" y="2148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 flipH="1" flipV="1">
                  <a:off x="1751760" y="21024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01" name=""/>
            <p:cNvSpPr/>
            <p:nvPr/>
          </p:nvSpPr>
          <p:spPr>
            <a:xfrm>
              <a:off x="1676520" y="2171520"/>
              <a:ext cx="342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imes New Roman"/>
                </a:rPr>
                <a:t>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2" name=""/>
          <p:cNvGrpSpPr/>
          <p:nvPr/>
        </p:nvGrpSpPr>
        <p:grpSpPr>
          <a:xfrm>
            <a:off x="1066320" y="2209320"/>
            <a:ext cx="457560" cy="457560"/>
            <a:chOff x="1066320" y="2209320"/>
            <a:chExt cx="457560" cy="457560"/>
          </a:xfrm>
        </p:grpSpPr>
        <p:grpSp>
          <p:nvGrpSpPr>
            <p:cNvPr id="2403" name=""/>
            <p:cNvGrpSpPr/>
            <p:nvPr/>
          </p:nvGrpSpPr>
          <p:grpSpPr>
            <a:xfrm>
              <a:off x="1066320" y="2209320"/>
              <a:ext cx="457560" cy="457560"/>
              <a:chOff x="1066320" y="2209320"/>
              <a:chExt cx="457560" cy="457560"/>
            </a:xfrm>
          </p:grpSpPr>
          <p:sp>
            <p:nvSpPr>
              <p:cNvPr id="2404" name=""/>
              <p:cNvSpPr/>
              <p:nvPr/>
            </p:nvSpPr>
            <p:spPr>
              <a:xfrm>
                <a:off x="1066680" y="2209680"/>
                <a:ext cx="457200" cy="4572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1104840" y="2247840"/>
                <a:ext cx="342720" cy="34272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06" name=""/>
              <p:cNvGrpSpPr/>
              <p:nvPr/>
            </p:nvGrpSpPr>
            <p:grpSpPr>
              <a:xfrm>
                <a:off x="1218600" y="2552040"/>
                <a:ext cx="190440" cy="114120"/>
                <a:chOff x="1218600" y="2552040"/>
                <a:chExt cx="190440" cy="114120"/>
              </a:xfrm>
            </p:grpSpPr>
            <p:sp>
              <p:nvSpPr>
                <p:cNvPr id="2407" name=""/>
                <p:cNvSpPr/>
                <p:nvPr/>
              </p:nvSpPr>
              <p:spPr>
                <a:xfrm flipH="1" flipV="1">
                  <a:off x="1299960" y="25516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 flipH="1" flipV="1">
                  <a:off x="1381680" y="25974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 flipH="1" flipV="1">
                  <a:off x="1299960" y="2643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 flipH="1" flipV="1">
                  <a:off x="1218240" y="25974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1" name=""/>
              <p:cNvGrpSpPr/>
              <p:nvPr/>
            </p:nvGrpSpPr>
            <p:grpSpPr>
              <a:xfrm>
                <a:off x="1294920" y="2437920"/>
                <a:ext cx="190440" cy="114120"/>
                <a:chOff x="1294920" y="2437920"/>
                <a:chExt cx="190440" cy="114120"/>
              </a:xfrm>
            </p:grpSpPr>
            <p:sp>
              <p:nvSpPr>
                <p:cNvPr id="2412" name=""/>
                <p:cNvSpPr/>
                <p:nvPr/>
              </p:nvSpPr>
              <p:spPr>
                <a:xfrm flipH="1" flipV="1">
                  <a:off x="1376280" y="24375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 flipH="1" flipV="1">
                  <a:off x="1458000" y="24832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 flipH="1" flipV="1">
                  <a:off x="1376280" y="25290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 flipH="1" flipV="1">
                  <a:off x="1294560" y="24832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6" name=""/>
              <p:cNvGrpSpPr/>
              <p:nvPr/>
            </p:nvGrpSpPr>
            <p:grpSpPr>
              <a:xfrm>
                <a:off x="1104480" y="2476080"/>
                <a:ext cx="190440" cy="114120"/>
                <a:chOff x="1104480" y="2476080"/>
                <a:chExt cx="190440" cy="114120"/>
              </a:xfrm>
            </p:grpSpPr>
            <p:sp>
              <p:nvSpPr>
                <p:cNvPr id="2417" name=""/>
                <p:cNvSpPr/>
                <p:nvPr/>
              </p:nvSpPr>
              <p:spPr>
                <a:xfrm flipH="1" flipV="1">
                  <a:off x="1185840" y="24757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 flipH="1" flipV="1">
                  <a:off x="1267560" y="25214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 flipH="1" flipV="1">
                  <a:off x="1185840" y="25671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 flipH="1" flipV="1">
                  <a:off x="1104120" y="25214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1" name=""/>
              <p:cNvGrpSpPr/>
              <p:nvPr/>
            </p:nvGrpSpPr>
            <p:grpSpPr>
              <a:xfrm>
                <a:off x="1218600" y="2514240"/>
                <a:ext cx="190440" cy="114120"/>
                <a:chOff x="1218600" y="2514240"/>
                <a:chExt cx="190440" cy="114120"/>
              </a:xfrm>
            </p:grpSpPr>
            <p:sp>
              <p:nvSpPr>
                <p:cNvPr id="2422" name=""/>
                <p:cNvSpPr/>
                <p:nvPr/>
              </p:nvSpPr>
              <p:spPr>
                <a:xfrm flipH="1" flipV="1">
                  <a:off x="1299960" y="25138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 flipH="1" flipV="1">
                  <a:off x="1381680" y="25596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 flipH="1" flipV="1">
                  <a:off x="1299960" y="26053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 flipH="1" flipV="1">
                  <a:off x="1218240" y="25596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6" name=""/>
              <p:cNvGrpSpPr/>
              <p:nvPr/>
            </p:nvGrpSpPr>
            <p:grpSpPr>
              <a:xfrm>
                <a:off x="1294920" y="2323440"/>
                <a:ext cx="190440" cy="114120"/>
                <a:chOff x="1294920" y="2323440"/>
                <a:chExt cx="190440" cy="114120"/>
              </a:xfrm>
            </p:grpSpPr>
            <p:sp>
              <p:nvSpPr>
                <p:cNvPr id="2427" name=""/>
                <p:cNvSpPr/>
                <p:nvPr/>
              </p:nvSpPr>
              <p:spPr>
                <a:xfrm flipH="1" flipV="1">
                  <a:off x="1376280" y="23230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 flipH="1" flipV="1">
                  <a:off x="1458000" y="23688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 flipH="1" flipV="1">
                  <a:off x="1376280" y="24145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 flipH="1" flipV="1">
                  <a:off x="1294560" y="23688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1" name=""/>
              <p:cNvGrpSpPr/>
              <p:nvPr/>
            </p:nvGrpSpPr>
            <p:grpSpPr>
              <a:xfrm>
                <a:off x="1066320" y="2399760"/>
                <a:ext cx="190440" cy="114120"/>
                <a:chOff x="1066320" y="2399760"/>
                <a:chExt cx="190440" cy="114120"/>
              </a:xfrm>
            </p:grpSpPr>
            <p:sp>
              <p:nvSpPr>
                <p:cNvPr id="2432" name=""/>
                <p:cNvSpPr/>
                <p:nvPr/>
              </p:nvSpPr>
              <p:spPr>
                <a:xfrm flipH="1" flipV="1">
                  <a:off x="1147680" y="23994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 flipH="1" flipV="1">
                  <a:off x="1229400" y="2445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 flipH="1" flipV="1">
                  <a:off x="1147680" y="24908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 flipH="1" flipV="1">
                  <a:off x="1065960" y="2445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6" name=""/>
              <p:cNvGrpSpPr/>
              <p:nvPr/>
            </p:nvGrpSpPr>
            <p:grpSpPr>
              <a:xfrm>
                <a:off x="1218600" y="2209320"/>
                <a:ext cx="190440" cy="114120"/>
                <a:chOff x="1218600" y="2209320"/>
                <a:chExt cx="190440" cy="114120"/>
              </a:xfrm>
            </p:grpSpPr>
            <p:sp>
              <p:nvSpPr>
                <p:cNvPr id="2437" name=""/>
                <p:cNvSpPr/>
                <p:nvPr/>
              </p:nvSpPr>
              <p:spPr>
                <a:xfrm flipH="1" flipV="1">
                  <a:off x="1299960" y="22089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 flipH="1" flipV="1">
                  <a:off x="1381680" y="22546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 flipH="1" flipV="1">
                  <a:off x="1299960" y="23004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 flipH="1" flipV="1">
                  <a:off x="1218240" y="22546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41" name=""/>
            <p:cNvSpPr/>
            <p:nvPr/>
          </p:nvSpPr>
          <p:spPr>
            <a:xfrm>
              <a:off x="1143000" y="2323800"/>
              <a:ext cx="342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imes New Roman"/>
                </a:rPr>
                <a:t>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2" name=""/>
          <p:cNvGrpSpPr/>
          <p:nvPr/>
        </p:nvGrpSpPr>
        <p:grpSpPr>
          <a:xfrm>
            <a:off x="1447560" y="2666520"/>
            <a:ext cx="457560" cy="457560"/>
            <a:chOff x="1447560" y="2666520"/>
            <a:chExt cx="457560" cy="457560"/>
          </a:xfrm>
        </p:grpSpPr>
        <p:grpSp>
          <p:nvGrpSpPr>
            <p:cNvPr id="2443" name=""/>
            <p:cNvGrpSpPr/>
            <p:nvPr/>
          </p:nvGrpSpPr>
          <p:grpSpPr>
            <a:xfrm>
              <a:off x="1447560" y="2666520"/>
              <a:ext cx="457560" cy="457560"/>
              <a:chOff x="1447560" y="2666520"/>
              <a:chExt cx="457560" cy="457560"/>
            </a:xfrm>
          </p:grpSpPr>
          <p:sp>
            <p:nvSpPr>
              <p:cNvPr id="2444" name=""/>
              <p:cNvSpPr/>
              <p:nvPr/>
            </p:nvSpPr>
            <p:spPr>
              <a:xfrm>
                <a:off x="1447920" y="2666880"/>
                <a:ext cx="457200" cy="4572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1486080" y="2705040"/>
                <a:ext cx="342720" cy="34272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46" name=""/>
              <p:cNvGrpSpPr/>
              <p:nvPr/>
            </p:nvGrpSpPr>
            <p:grpSpPr>
              <a:xfrm>
                <a:off x="1599840" y="3009240"/>
                <a:ext cx="190440" cy="114120"/>
                <a:chOff x="1599840" y="3009240"/>
                <a:chExt cx="190440" cy="114120"/>
              </a:xfrm>
            </p:grpSpPr>
            <p:sp>
              <p:nvSpPr>
                <p:cNvPr id="2447" name=""/>
                <p:cNvSpPr/>
                <p:nvPr/>
              </p:nvSpPr>
              <p:spPr>
                <a:xfrm flipH="1" flipV="1">
                  <a:off x="1681200" y="30088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 flipH="1" flipV="1">
                  <a:off x="1762920" y="30546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 flipH="1" flipV="1">
                  <a:off x="1681200" y="31003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 flipH="1" flipV="1">
                  <a:off x="1599480" y="30546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1" name=""/>
              <p:cNvGrpSpPr/>
              <p:nvPr/>
            </p:nvGrpSpPr>
            <p:grpSpPr>
              <a:xfrm>
                <a:off x="1676160" y="2895120"/>
                <a:ext cx="190440" cy="114120"/>
                <a:chOff x="1676160" y="2895120"/>
                <a:chExt cx="190440" cy="114120"/>
              </a:xfrm>
            </p:grpSpPr>
            <p:sp>
              <p:nvSpPr>
                <p:cNvPr id="2452" name=""/>
                <p:cNvSpPr/>
                <p:nvPr/>
              </p:nvSpPr>
              <p:spPr>
                <a:xfrm flipH="1" flipV="1">
                  <a:off x="1757520" y="28947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 flipH="1" flipV="1">
                  <a:off x="1839240" y="29404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 flipH="1" flipV="1">
                  <a:off x="1757520" y="29862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 flipH="1" flipV="1">
                  <a:off x="1675800" y="29404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6" name=""/>
              <p:cNvGrpSpPr/>
              <p:nvPr/>
            </p:nvGrpSpPr>
            <p:grpSpPr>
              <a:xfrm>
                <a:off x="1485720" y="2933280"/>
                <a:ext cx="190440" cy="114120"/>
                <a:chOff x="1485720" y="2933280"/>
                <a:chExt cx="190440" cy="114120"/>
              </a:xfrm>
            </p:grpSpPr>
            <p:sp>
              <p:nvSpPr>
                <p:cNvPr id="2457" name=""/>
                <p:cNvSpPr/>
                <p:nvPr/>
              </p:nvSpPr>
              <p:spPr>
                <a:xfrm flipH="1" flipV="1">
                  <a:off x="1567080" y="29329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 flipH="1" flipV="1">
                  <a:off x="1648800" y="29786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 flipH="1" flipV="1">
                  <a:off x="1567080" y="30243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 flipH="1" flipV="1">
                  <a:off x="1485360" y="29786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1" name=""/>
              <p:cNvGrpSpPr/>
              <p:nvPr/>
            </p:nvGrpSpPr>
            <p:grpSpPr>
              <a:xfrm>
                <a:off x="1599840" y="2971440"/>
                <a:ext cx="190440" cy="114120"/>
                <a:chOff x="1599840" y="2971440"/>
                <a:chExt cx="190440" cy="114120"/>
              </a:xfrm>
            </p:grpSpPr>
            <p:sp>
              <p:nvSpPr>
                <p:cNvPr id="2462" name=""/>
                <p:cNvSpPr/>
                <p:nvPr/>
              </p:nvSpPr>
              <p:spPr>
                <a:xfrm flipH="1" flipV="1">
                  <a:off x="1681200" y="29710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 flipH="1" flipV="1">
                  <a:off x="1762920" y="30168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 flipH="1" flipV="1">
                  <a:off x="1681200" y="30625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 flipH="1" flipV="1">
                  <a:off x="1599480" y="30168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6" name=""/>
              <p:cNvGrpSpPr/>
              <p:nvPr/>
            </p:nvGrpSpPr>
            <p:grpSpPr>
              <a:xfrm>
                <a:off x="1676160" y="2780640"/>
                <a:ext cx="190440" cy="114120"/>
                <a:chOff x="1676160" y="2780640"/>
                <a:chExt cx="190440" cy="114120"/>
              </a:xfrm>
            </p:grpSpPr>
            <p:sp>
              <p:nvSpPr>
                <p:cNvPr id="2467" name=""/>
                <p:cNvSpPr/>
                <p:nvPr/>
              </p:nvSpPr>
              <p:spPr>
                <a:xfrm flipH="1" flipV="1">
                  <a:off x="1757520" y="27802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 flipH="1" flipV="1">
                  <a:off x="1839240" y="28260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 flipH="1" flipV="1">
                  <a:off x="1757520" y="28717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 flipH="1" flipV="1">
                  <a:off x="1675800" y="28260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1" name=""/>
              <p:cNvGrpSpPr/>
              <p:nvPr/>
            </p:nvGrpSpPr>
            <p:grpSpPr>
              <a:xfrm>
                <a:off x="1447560" y="2856960"/>
                <a:ext cx="190440" cy="114120"/>
                <a:chOff x="1447560" y="2856960"/>
                <a:chExt cx="190440" cy="114120"/>
              </a:xfrm>
            </p:grpSpPr>
            <p:sp>
              <p:nvSpPr>
                <p:cNvPr id="2472" name=""/>
                <p:cNvSpPr/>
                <p:nvPr/>
              </p:nvSpPr>
              <p:spPr>
                <a:xfrm flipH="1" flipV="1">
                  <a:off x="1528920" y="28566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 flipH="1" flipV="1">
                  <a:off x="1610640" y="29023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 flipH="1" flipV="1">
                  <a:off x="1528920" y="29480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 flipH="1" flipV="1">
                  <a:off x="1447200" y="29023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6" name=""/>
              <p:cNvGrpSpPr/>
              <p:nvPr/>
            </p:nvGrpSpPr>
            <p:grpSpPr>
              <a:xfrm>
                <a:off x="1599840" y="2666520"/>
                <a:ext cx="190440" cy="114120"/>
                <a:chOff x="1599840" y="2666520"/>
                <a:chExt cx="190440" cy="114120"/>
              </a:xfrm>
            </p:grpSpPr>
            <p:sp>
              <p:nvSpPr>
                <p:cNvPr id="2477" name=""/>
                <p:cNvSpPr/>
                <p:nvPr/>
              </p:nvSpPr>
              <p:spPr>
                <a:xfrm flipH="1" flipV="1">
                  <a:off x="1681200" y="26661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 flipH="1" flipV="1">
                  <a:off x="1762920" y="27118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 flipH="1" flipV="1">
                  <a:off x="1681200" y="27576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 flipH="1" flipV="1">
                  <a:off x="1599480" y="27118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81" name=""/>
            <p:cNvSpPr/>
            <p:nvPr/>
          </p:nvSpPr>
          <p:spPr>
            <a:xfrm>
              <a:off x="1524240" y="2781000"/>
              <a:ext cx="342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imes New Roman"/>
                </a:rPr>
                <a:t>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2" name=""/>
          <p:cNvGrpSpPr/>
          <p:nvPr/>
        </p:nvGrpSpPr>
        <p:grpSpPr>
          <a:xfrm>
            <a:off x="4784760" y="2385000"/>
            <a:ext cx="287640" cy="269640"/>
            <a:chOff x="4784760" y="2385000"/>
            <a:chExt cx="287640" cy="269640"/>
          </a:xfrm>
        </p:grpSpPr>
        <p:sp>
          <p:nvSpPr>
            <p:cNvPr id="2483" name=""/>
            <p:cNvSpPr/>
            <p:nvPr/>
          </p:nvSpPr>
          <p:spPr>
            <a:xfrm rot="2068800">
              <a:off x="4801320" y="2421360"/>
              <a:ext cx="135000" cy="208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 rot="449400">
              <a:off x="4930920" y="2449080"/>
              <a:ext cx="135000" cy="19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 rot="2068800">
              <a:off x="4778640" y="2455560"/>
              <a:ext cx="135000" cy="201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 rot="3091200">
              <a:off x="4857120" y="2558880"/>
              <a:ext cx="134640" cy="19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 rot="3091200">
              <a:off x="4825080" y="2585880"/>
              <a:ext cx="134640" cy="19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 rot="449400">
              <a:off x="4937760" y="2403720"/>
              <a:ext cx="133560" cy="19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9" name=""/>
          <p:cNvGrpSpPr/>
          <p:nvPr/>
        </p:nvGrpSpPr>
        <p:grpSpPr>
          <a:xfrm>
            <a:off x="5236920" y="1275840"/>
            <a:ext cx="444240" cy="520200"/>
            <a:chOff x="5236920" y="1275840"/>
            <a:chExt cx="444240" cy="520200"/>
          </a:xfrm>
        </p:grpSpPr>
        <p:grpSp>
          <p:nvGrpSpPr>
            <p:cNvPr id="2490" name=""/>
            <p:cNvGrpSpPr/>
            <p:nvPr/>
          </p:nvGrpSpPr>
          <p:grpSpPr>
            <a:xfrm>
              <a:off x="5236920" y="1527480"/>
              <a:ext cx="277200" cy="268560"/>
              <a:chOff x="5236920" y="1527480"/>
              <a:chExt cx="277200" cy="268560"/>
            </a:xfrm>
          </p:grpSpPr>
          <p:sp>
            <p:nvSpPr>
              <p:cNvPr id="2491" name=""/>
              <p:cNvSpPr/>
              <p:nvPr/>
            </p:nvSpPr>
            <p:spPr>
              <a:xfrm rot="15778800">
                <a:off x="5317920" y="1717200"/>
                <a:ext cx="135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rot="14159400">
                <a:off x="5252400" y="160200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 rot="15778800">
                <a:off x="5358600" y="1712160"/>
                <a:ext cx="135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 rot="16801200">
                <a:off x="5383800" y="1585440"/>
                <a:ext cx="13464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rot="16801200">
                <a:off x="5425200" y="1591560"/>
                <a:ext cx="13464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rot="14159400">
                <a:off x="5215680" y="1627920"/>
                <a:ext cx="13356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7" name=""/>
            <p:cNvSpPr/>
            <p:nvPr/>
          </p:nvSpPr>
          <p:spPr>
            <a:xfrm flipH="1" rot="7370400">
              <a:off x="5429160" y="1319760"/>
              <a:ext cx="215640" cy="20304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8" name=""/>
          <p:cNvGrpSpPr/>
          <p:nvPr/>
        </p:nvGrpSpPr>
        <p:grpSpPr>
          <a:xfrm>
            <a:off x="5221800" y="2563200"/>
            <a:ext cx="641880" cy="789120"/>
            <a:chOff x="5221800" y="2563200"/>
            <a:chExt cx="641880" cy="789120"/>
          </a:xfrm>
        </p:grpSpPr>
        <p:grpSp>
          <p:nvGrpSpPr>
            <p:cNvPr id="2499" name=""/>
            <p:cNvGrpSpPr/>
            <p:nvPr/>
          </p:nvGrpSpPr>
          <p:grpSpPr>
            <a:xfrm>
              <a:off x="5221800" y="2563200"/>
              <a:ext cx="641880" cy="578880"/>
              <a:chOff x="5221800" y="2563200"/>
              <a:chExt cx="641880" cy="578880"/>
            </a:xfrm>
          </p:grpSpPr>
          <p:grpSp>
            <p:nvGrpSpPr>
              <p:cNvPr id="2500" name=""/>
              <p:cNvGrpSpPr/>
              <p:nvPr/>
            </p:nvGrpSpPr>
            <p:grpSpPr>
              <a:xfrm>
                <a:off x="5573520" y="2915280"/>
                <a:ext cx="226800" cy="226800"/>
                <a:chOff x="5573520" y="2915280"/>
                <a:chExt cx="226800" cy="226800"/>
              </a:xfrm>
            </p:grpSpPr>
            <p:sp>
              <p:nvSpPr>
                <p:cNvPr id="2501" name=""/>
                <p:cNvSpPr/>
                <p:nvPr/>
              </p:nvSpPr>
              <p:spPr>
                <a:xfrm rot="2583600">
                  <a:off x="5587920" y="295380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 rot="21011400">
                  <a:off x="5700960" y="2991960"/>
                  <a:ext cx="9828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 rot="2583600">
                  <a:off x="5562360" y="298008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 rot="21011400">
                  <a:off x="5697000" y="295920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 rot="5782200">
                  <a:off x="5623200" y="308268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 rot="5782200">
                  <a:off x="5590440" y="308052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07" name=""/>
              <p:cNvSpPr/>
              <p:nvPr/>
            </p:nvSpPr>
            <p:spPr>
              <a:xfrm>
                <a:off x="5448240" y="2768400"/>
                <a:ext cx="177840" cy="177480"/>
              </a:xfrm>
              <a:prstGeom prst="ellipse">
                <a:avLst/>
              </a:prstGeom>
              <a:solidFill>
                <a:srgbClr val="ffe7c3"/>
              </a:solidFill>
              <a:ln w="9360">
                <a:solidFill>
                  <a:srgbClr val="b26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08" name=""/>
              <p:cNvGrpSpPr/>
              <p:nvPr/>
            </p:nvGrpSpPr>
            <p:grpSpPr>
              <a:xfrm>
                <a:off x="5221800" y="2653920"/>
                <a:ext cx="229680" cy="235080"/>
                <a:chOff x="5221800" y="2653920"/>
                <a:chExt cx="229680" cy="235080"/>
              </a:xfrm>
            </p:grpSpPr>
            <p:sp>
              <p:nvSpPr>
                <p:cNvPr id="2509" name=""/>
                <p:cNvSpPr/>
                <p:nvPr/>
              </p:nvSpPr>
              <p:spPr>
                <a:xfrm rot="12084000">
                  <a:off x="5319000" y="281808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 rot="8911200">
                  <a:off x="5219280" y="2817000"/>
                  <a:ext cx="9828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 rot="12084000">
                  <a:off x="5333400" y="278424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 rot="8911200">
                  <a:off x="5235840" y="284544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 rot="15282600">
                  <a:off x="5258520" y="270396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 rot="15282600">
                  <a:off x="5289480" y="269388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5" name=""/>
              <p:cNvGrpSpPr/>
              <p:nvPr/>
            </p:nvGrpSpPr>
            <p:grpSpPr>
              <a:xfrm>
                <a:off x="5271120" y="2910600"/>
                <a:ext cx="226080" cy="227880"/>
                <a:chOff x="5271120" y="2910600"/>
                <a:chExt cx="226080" cy="227880"/>
              </a:xfrm>
            </p:grpSpPr>
            <p:sp>
              <p:nvSpPr>
                <p:cNvPr id="2516" name=""/>
                <p:cNvSpPr/>
                <p:nvPr/>
              </p:nvSpPr>
              <p:spPr>
                <a:xfrm rot="7933800">
                  <a:off x="5392080" y="2977200"/>
                  <a:ext cx="11880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 rot="4761600">
                  <a:off x="5363640" y="3078720"/>
                  <a:ext cx="9828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 rot="7933800">
                  <a:off x="5365440" y="2952000"/>
                  <a:ext cx="11880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 rot="4761600">
                  <a:off x="5396400" y="307404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 rot="11133000">
                  <a:off x="5271840" y="300204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 rot="11133000">
                  <a:off x="5273640" y="296928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2" name=""/>
              <p:cNvGrpSpPr/>
              <p:nvPr/>
            </p:nvGrpSpPr>
            <p:grpSpPr>
              <a:xfrm>
                <a:off x="5627880" y="2636640"/>
                <a:ext cx="235800" cy="214920"/>
                <a:chOff x="5627880" y="2636640"/>
                <a:chExt cx="235800" cy="214920"/>
              </a:xfrm>
            </p:grpSpPr>
            <p:sp>
              <p:nvSpPr>
                <p:cNvPr id="2523" name=""/>
                <p:cNvSpPr/>
                <p:nvPr/>
              </p:nvSpPr>
              <p:spPr>
                <a:xfrm rot="19494000">
                  <a:off x="5621400" y="277236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 rot="16321200">
                  <a:off x="5691960" y="2678760"/>
                  <a:ext cx="9828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 rot="19494000">
                  <a:off x="5641920" y="280296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 rot="16321200">
                  <a:off x="5659560" y="267624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 rot="1092600">
                  <a:off x="5765040" y="277380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 rot="1092600">
                  <a:off x="5756040" y="280512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9" name=""/>
              <p:cNvGrpSpPr/>
              <p:nvPr/>
            </p:nvGrpSpPr>
            <p:grpSpPr>
              <a:xfrm>
                <a:off x="5392800" y="2563200"/>
                <a:ext cx="250560" cy="205200"/>
                <a:chOff x="5392800" y="2563200"/>
                <a:chExt cx="250560" cy="205200"/>
              </a:xfrm>
            </p:grpSpPr>
            <p:sp>
              <p:nvSpPr>
                <p:cNvPr id="2530" name=""/>
                <p:cNvSpPr/>
                <p:nvPr/>
              </p:nvSpPr>
              <p:spPr>
                <a:xfrm rot="16177200">
                  <a:off x="5440320" y="2700360"/>
                  <a:ext cx="11880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 rot="13004400">
                  <a:off x="5409000" y="2596680"/>
                  <a:ext cx="9828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 rot="16177200">
                  <a:off x="5477040" y="2701080"/>
                  <a:ext cx="11880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 rot="13004400">
                  <a:off x="5388480" y="262224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 rot="19375800">
                  <a:off x="5528880" y="259056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 rot="19375800">
                  <a:off x="5549760" y="261576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36" name=""/>
            <p:cNvSpPr/>
            <p:nvPr/>
          </p:nvSpPr>
          <p:spPr>
            <a:xfrm flipH="1">
              <a:off x="5549760" y="3149280"/>
              <a:ext cx="216000" cy="20304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7" name=""/>
          <p:cNvGrpSpPr/>
          <p:nvPr/>
        </p:nvGrpSpPr>
        <p:grpSpPr>
          <a:xfrm>
            <a:off x="4432320" y="3249000"/>
            <a:ext cx="821880" cy="578880"/>
            <a:chOff x="4432320" y="3249000"/>
            <a:chExt cx="821880" cy="578880"/>
          </a:xfrm>
        </p:grpSpPr>
        <p:grpSp>
          <p:nvGrpSpPr>
            <p:cNvPr id="2538" name=""/>
            <p:cNvGrpSpPr/>
            <p:nvPr/>
          </p:nvGrpSpPr>
          <p:grpSpPr>
            <a:xfrm>
              <a:off x="4612320" y="3249000"/>
              <a:ext cx="641880" cy="578880"/>
              <a:chOff x="4612320" y="3249000"/>
              <a:chExt cx="641880" cy="578880"/>
            </a:xfrm>
          </p:grpSpPr>
          <p:grpSp>
            <p:nvGrpSpPr>
              <p:cNvPr id="2539" name=""/>
              <p:cNvGrpSpPr/>
              <p:nvPr/>
            </p:nvGrpSpPr>
            <p:grpSpPr>
              <a:xfrm>
                <a:off x="4964040" y="3601080"/>
                <a:ext cx="226800" cy="226800"/>
                <a:chOff x="4964040" y="3601080"/>
                <a:chExt cx="226800" cy="226800"/>
              </a:xfrm>
            </p:grpSpPr>
            <p:sp>
              <p:nvSpPr>
                <p:cNvPr id="2540" name=""/>
                <p:cNvSpPr/>
                <p:nvPr/>
              </p:nvSpPr>
              <p:spPr>
                <a:xfrm rot="2583600">
                  <a:off x="4978440" y="363960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 rot="21011400">
                  <a:off x="5091480" y="3677760"/>
                  <a:ext cx="9828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 rot="2583600">
                  <a:off x="4952880" y="366588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 rot="21011400">
                  <a:off x="5087520" y="364500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 rot="5782200">
                  <a:off x="5013720" y="376848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 rot="5782200">
                  <a:off x="4980960" y="376632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46" name=""/>
              <p:cNvSpPr/>
              <p:nvPr/>
            </p:nvSpPr>
            <p:spPr>
              <a:xfrm>
                <a:off x="4838760" y="3454200"/>
                <a:ext cx="177840" cy="177480"/>
              </a:xfrm>
              <a:prstGeom prst="ellipse">
                <a:avLst/>
              </a:prstGeom>
              <a:solidFill>
                <a:srgbClr val="ffe7c3"/>
              </a:solidFill>
              <a:ln w="9360">
                <a:solidFill>
                  <a:srgbClr val="b26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47" name=""/>
              <p:cNvGrpSpPr/>
              <p:nvPr/>
            </p:nvGrpSpPr>
            <p:grpSpPr>
              <a:xfrm>
                <a:off x="4612320" y="3339720"/>
                <a:ext cx="229680" cy="235080"/>
                <a:chOff x="4612320" y="3339720"/>
                <a:chExt cx="229680" cy="235080"/>
              </a:xfrm>
            </p:grpSpPr>
            <p:sp>
              <p:nvSpPr>
                <p:cNvPr id="2548" name=""/>
                <p:cNvSpPr/>
                <p:nvPr/>
              </p:nvSpPr>
              <p:spPr>
                <a:xfrm rot="12084000">
                  <a:off x="4709520" y="350388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 rot="8911200">
                  <a:off x="4609800" y="3502800"/>
                  <a:ext cx="9828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 rot="12084000">
                  <a:off x="4723920" y="347004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 rot="8911200">
                  <a:off x="4626360" y="353124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 rot="15282600">
                  <a:off x="4649040" y="338976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 rot="15282600">
                  <a:off x="4680000" y="337968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4" name=""/>
              <p:cNvGrpSpPr/>
              <p:nvPr/>
            </p:nvGrpSpPr>
            <p:grpSpPr>
              <a:xfrm>
                <a:off x="4661640" y="3596400"/>
                <a:ext cx="226080" cy="227880"/>
                <a:chOff x="4661640" y="3596400"/>
                <a:chExt cx="226080" cy="227880"/>
              </a:xfrm>
            </p:grpSpPr>
            <p:sp>
              <p:nvSpPr>
                <p:cNvPr id="2555" name=""/>
                <p:cNvSpPr/>
                <p:nvPr/>
              </p:nvSpPr>
              <p:spPr>
                <a:xfrm rot="7933800">
                  <a:off x="4782600" y="3663000"/>
                  <a:ext cx="11880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 rot="4761600">
                  <a:off x="4754160" y="3764520"/>
                  <a:ext cx="9828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 rot="7933800">
                  <a:off x="4755960" y="3637800"/>
                  <a:ext cx="11880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 rot="4761600">
                  <a:off x="4786920" y="375984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 rot="11133000">
                  <a:off x="4662360" y="368784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 rot="11133000">
                  <a:off x="4664160" y="365508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1" name=""/>
              <p:cNvGrpSpPr/>
              <p:nvPr/>
            </p:nvGrpSpPr>
            <p:grpSpPr>
              <a:xfrm>
                <a:off x="5018400" y="3322440"/>
                <a:ext cx="235800" cy="214920"/>
                <a:chOff x="5018400" y="3322440"/>
                <a:chExt cx="235800" cy="214920"/>
              </a:xfrm>
            </p:grpSpPr>
            <p:sp>
              <p:nvSpPr>
                <p:cNvPr id="2562" name=""/>
                <p:cNvSpPr/>
                <p:nvPr/>
              </p:nvSpPr>
              <p:spPr>
                <a:xfrm rot="19494000">
                  <a:off x="5011920" y="345816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 rot="16321200">
                  <a:off x="5082480" y="3364560"/>
                  <a:ext cx="9828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 rot="19494000">
                  <a:off x="5032440" y="348876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 rot="16321200">
                  <a:off x="5050080" y="336204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 rot="1092600">
                  <a:off x="5155560" y="345960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 rot="1092600">
                  <a:off x="5146560" y="349092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8" name=""/>
              <p:cNvGrpSpPr/>
              <p:nvPr/>
            </p:nvGrpSpPr>
            <p:grpSpPr>
              <a:xfrm>
                <a:off x="4783320" y="3249000"/>
                <a:ext cx="250560" cy="205200"/>
                <a:chOff x="4783320" y="3249000"/>
                <a:chExt cx="250560" cy="205200"/>
              </a:xfrm>
            </p:grpSpPr>
            <p:sp>
              <p:nvSpPr>
                <p:cNvPr id="2569" name=""/>
                <p:cNvSpPr/>
                <p:nvPr/>
              </p:nvSpPr>
              <p:spPr>
                <a:xfrm rot="16177200">
                  <a:off x="4830840" y="3386160"/>
                  <a:ext cx="11880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 rot="13004400">
                  <a:off x="4799520" y="3282480"/>
                  <a:ext cx="9828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 rot="16177200">
                  <a:off x="4867560" y="3386880"/>
                  <a:ext cx="11880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 rot="13004400">
                  <a:off x="4779000" y="330804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 rot="19375800">
                  <a:off x="4919400" y="327636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 rot="19375800">
                  <a:off x="4940280" y="330156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5" name=""/>
            <p:cNvSpPr/>
            <p:nvPr/>
          </p:nvSpPr>
          <p:spPr>
            <a:xfrm flipH="1">
              <a:off x="4432320" y="3504960"/>
              <a:ext cx="216000" cy="20268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6" name=""/>
          <p:cNvGrpSpPr/>
          <p:nvPr/>
        </p:nvGrpSpPr>
        <p:grpSpPr>
          <a:xfrm>
            <a:off x="4258080" y="1843560"/>
            <a:ext cx="502920" cy="385920"/>
            <a:chOff x="4258080" y="1843560"/>
            <a:chExt cx="502920" cy="385920"/>
          </a:xfrm>
        </p:grpSpPr>
        <p:grpSp>
          <p:nvGrpSpPr>
            <p:cNvPr id="2577" name=""/>
            <p:cNvGrpSpPr/>
            <p:nvPr/>
          </p:nvGrpSpPr>
          <p:grpSpPr>
            <a:xfrm>
              <a:off x="4258080" y="1962720"/>
              <a:ext cx="281520" cy="266760"/>
              <a:chOff x="4258080" y="1962720"/>
              <a:chExt cx="281520" cy="266760"/>
            </a:xfrm>
          </p:grpSpPr>
          <p:sp>
            <p:nvSpPr>
              <p:cNvPr id="2578" name=""/>
              <p:cNvSpPr/>
              <p:nvPr/>
            </p:nvSpPr>
            <p:spPr>
              <a:xfrm rot="1335600">
                <a:off x="4271760" y="2013480"/>
                <a:ext cx="134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rot="21316800">
                <a:off x="4404240" y="2013480"/>
                <a:ext cx="13464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 rot="1335600">
                <a:off x="4256640" y="2052000"/>
                <a:ext cx="13464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rot="2358600">
                <a:off x="4355280" y="2136600"/>
                <a:ext cx="13464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 rot="2358600">
                <a:off x="4329720" y="2169360"/>
                <a:ext cx="13464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rot="21316800">
                <a:off x="4401360" y="1968120"/>
                <a:ext cx="13356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4" name=""/>
            <p:cNvSpPr/>
            <p:nvPr/>
          </p:nvSpPr>
          <p:spPr>
            <a:xfrm flipH="1" rot="17332800">
              <a:off x="4521600" y="1876680"/>
              <a:ext cx="215640" cy="20304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5" name=""/>
          <p:cNvGrpSpPr/>
          <p:nvPr/>
        </p:nvGrpSpPr>
        <p:grpSpPr>
          <a:xfrm>
            <a:off x="5499000" y="3809880"/>
            <a:ext cx="368280" cy="203400"/>
            <a:chOff x="5499000" y="3809880"/>
            <a:chExt cx="368280" cy="203400"/>
          </a:xfrm>
        </p:grpSpPr>
        <p:sp>
          <p:nvSpPr>
            <p:cNvPr id="2586" name=""/>
            <p:cNvSpPr/>
            <p:nvPr/>
          </p:nvSpPr>
          <p:spPr>
            <a:xfrm flipH="1">
              <a:off x="5499000" y="3809880"/>
              <a:ext cx="216000" cy="20340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5715000" y="383544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8" name=""/>
          <p:cNvGrpSpPr/>
          <p:nvPr/>
        </p:nvGrpSpPr>
        <p:grpSpPr>
          <a:xfrm>
            <a:off x="4426200" y="4403160"/>
            <a:ext cx="360360" cy="402480"/>
            <a:chOff x="4426200" y="4403160"/>
            <a:chExt cx="360360" cy="402480"/>
          </a:xfrm>
        </p:grpSpPr>
        <p:sp>
          <p:nvSpPr>
            <p:cNvPr id="2589" name=""/>
            <p:cNvSpPr/>
            <p:nvPr/>
          </p:nvSpPr>
          <p:spPr>
            <a:xfrm flipH="1" rot="18355200">
              <a:off x="4463280" y="4556880"/>
              <a:ext cx="216000" cy="20304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 rot="18355200">
              <a:off x="4603680" y="443340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1" name=""/>
          <p:cNvGrpSpPr/>
          <p:nvPr/>
        </p:nvGrpSpPr>
        <p:grpSpPr>
          <a:xfrm>
            <a:off x="4344840" y="3785400"/>
            <a:ext cx="300600" cy="407880"/>
            <a:chOff x="4344840" y="3785400"/>
            <a:chExt cx="300600" cy="407880"/>
          </a:xfrm>
        </p:grpSpPr>
        <p:sp>
          <p:nvSpPr>
            <p:cNvPr id="2592" name=""/>
            <p:cNvSpPr/>
            <p:nvPr/>
          </p:nvSpPr>
          <p:spPr>
            <a:xfrm flipH="1" rot="6697800">
              <a:off x="4402800" y="3821760"/>
              <a:ext cx="216000" cy="20304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 rot="6698400">
              <a:off x="4367160" y="4018320"/>
              <a:ext cx="152280" cy="1519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4" name=""/>
          <p:cNvGrpSpPr/>
          <p:nvPr/>
        </p:nvGrpSpPr>
        <p:grpSpPr>
          <a:xfrm>
            <a:off x="4432320" y="2666880"/>
            <a:ext cx="837720" cy="609480"/>
            <a:chOff x="4432320" y="2666880"/>
            <a:chExt cx="837720" cy="609480"/>
          </a:xfrm>
        </p:grpSpPr>
        <p:sp>
          <p:nvSpPr>
            <p:cNvPr id="2595" name=""/>
            <p:cNvSpPr/>
            <p:nvPr/>
          </p:nvSpPr>
          <p:spPr>
            <a:xfrm>
              <a:off x="4432320" y="2666880"/>
              <a:ext cx="837720" cy="60948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e1e1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4718160" y="2880360"/>
              <a:ext cx="272520" cy="186120"/>
            </a:xfrm>
            <a:prstGeom prst="ellipse">
              <a:avLst/>
            </a:prstGeom>
            <a:solidFill>
              <a:srgbClr val="14689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7" name=""/>
          <p:cNvGrpSpPr/>
          <p:nvPr/>
        </p:nvGrpSpPr>
        <p:grpSpPr>
          <a:xfrm>
            <a:off x="4584600" y="3886200"/>
            <a:ext cx="838080" cy="609120"/>
            <a:chOff x="4584600" y="3886200"/>
            <a:chExt cx="838080" cy="609120"/>
          </a:xfrm>
        </p:grpSpPr>
        <p:sp>
          <p:nvSpPr>
            <p:cNvPr id="2598" name=""/>
            <p:cNvSpPr/>
            <p:nvPr/>
          </p:nvSpPr>
          <p:spPr>
            <a:xfrm>
              <a:off x="4584600" y="3886200"/>
              <a:ext cx="838080" cy="60912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e1e1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4870440" y="4099680"/>
              <a:ext cx="272520" cy="186120"/>
            </a:xfrm>
            <a:prstGeom prst="ellipse">
              <a:avLst/>
            </a:prstGeom>
            <a:solidFill>
              <a:srgbClr val="14689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0" name=""/>
          <p:cNvGrpSpPr/>
          <p:nvPr/>
        </p:nvGrpSpPr>
        <p:grpSpPr>
          <a:xfrm>
            <a:off x="4813200" y="1752480"/>
            <a:ext cx="838080" cy="609480"/>
            <a:chOff x="4813200" y="1752480"/>
            <a:chExt cx="838080" cy="609480"/>
          </a:xfrm>
        </p:grpSpPr>
        <p:sp>
          <p:nvSpPr>
            <p:cNvPr id="2601" name=""/>
            <p:cNvSpPr/>
            <p:nvPr/>
          </p:nvSpPr>
          <p:spPr>
            <a:xfrm>
              <a:off x="4813200" y="1752480"/>
              <a:ext cx="838080" cy="60948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e1e1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5099040" y="1965960"/>
              <a:ext cx="272520" cy="186120"/>
            </a:xfrm>
            <a:prstGeom prst="ellipse">
              <a:avLst/>
            </a:prstGeom>
            <a:solidFill>
              <a:srgbClr val="14689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3" name=""/>
          <p:cNvGrpSpPr/>
          <p:nvPr/>
        </p:nvGrpSpPr>
        <p:grpSpPr>
          <a:xfrm>
            <a:off x="6797880" y="403560"/>
            <a:ext cx="440640" cy="269640"/>
            <a:chOff x="6797880" y="403560"/>
            <a:chExt cx="440640" cy="269640"/>
          </a:xfrm>
        </p:grpSpPr>
        <p:grpSp>
          <p:nvGrpSpPr>
            <p:cNvPr id="2604" name=""/>
            <p:cNvGrpSpPr/>
            <p:nvPr/>
          </p:nvGrpSpPr>
          <p:grpSpPr>
            <a:xfrm>
              <a:off x="6797880" y="403560"/>
              <a:ext cx="287640" cy="269640"/>
              <a:chOff x="6797880" y="403560"/>
              <a:chExt cx="287640" cy="269640"/>
            </a:xfrm>
          </p:grpSpPr>
          <p:sp>
            <p:nvSpPr>
              <p:cNvPr id="2605" name=""/>
              <p:cNvSpPr/>
              <p:nvPr/>
            </p:nvSpPr>
            <p:spPr>
              <a:xfrm rot="2068800">
                <a:off x="6814440" y="439920"/>
                <a:ext cx="135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rot="449400">
                <a:off x="6944040" y="46764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 rot="2068800">
                <a:off x="6791760" y="474120"/>
                <a:ext cx="135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rot="3091200">
                <a:off x="6870240" y="577440"/>
                <a:ext cx="13464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rot="3091200">
                <a:off x="6838200" y="604440"/>
                <a:ext cx="13464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 rot="449400">
                <a:off x="6950880" y="422280"/>
                <a:ext cx="13356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1" name=""/>
            <p:cNvGrpSpPr/>
            <p:nvPr/>
          </p:nvGrpSpPr>
          <p:grpSpPr>
            <a:xfrm>
              <a:off x="7084800" y="431640"/>
              <a:ext cx="153720" cy="78480"/>
              <a:chOff x="7084800" y="431640"/>
              <a:chExt cx="153720" cy="78480"/>
            </a:xfrm>
          </p:grpSpPr>
          <p:sp>
            <p:nvSpPr>
              <p:cNvPr id="2612" name=""/>
              <p:cNvSpPr/>
              <p:nvPr/>
            </p:nvSpPr>
            <p:spPr>
              <a:xfrm rot="5283000">
                <a:off x="7085880" y="432720"/>
                <a:ext cx="75960" cy="75960"/>
              </a:xfrm>
              <a:prstGeom prst="ellipse">
                <a:avLst/>
              </a:prstGeom>
              <a:solidFill>
                <a:srgbClr val="61bee7"/>
              </a:solidFill>
              <a:ln w="28440">
                <a:solidFill>
                  <a:srgbClr val="87c4e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 flipH="1">
                <a:off x="7162200" y="466920"/>
                <a:ext cx="76320" cy="2520"/>
              </a:xfrm>
              <a:prstGeom prst="line">
                <a:avLst/>
              </a:prstGeom>
              <a:ln w="38160">
                <a:solidFill>
                  <a:srgbClr val="74b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14" name=""/>
          <p:cNvGrpSpPr/>
          <p:nvPr/>
        </p:nvGrpSpPr>
        <p:grpSpPr>
          <a:xfrm>
            <a:off x="7094160" y="1045440"/>
            <a:ext cx="321840" cy="314640"/>
            <a:chOff x="7094160" y="1045440"/>
            <a:chExt cx="321840" cy="314640"/>
          </a:xfrm>
        </p:grpSpPr>
        <p:grpSp>
          <p:nvGrpSpPr>
            <p:cNvPr id="2615" name=""/>
            <p:cNvGrpSpPr/>
            <p:nvPr/>
          </p:nvGrpSpPr>
          <p:grpSpPr>
            <a:xfrm>
              <a:off x="7094160" y="1095480"/>
              <a:ext cx="277920" cy="264600"/>
              <a:chOff x="7094160" y="1095480"/>
              <a:chExt cx="277920" cy="264600"/>
            </a:xfrm>
          </p:grpSpPr>
          <p:sp>
            <p:nvSpPr>
              <p:cNvPr id="2616" name=""/>
              <p:cNvSpPr/>
              <p:nvPr/>
            </p:nvSpPr>
            <p:spPr>
              <a:xfrm rot="20572800">
                <a:off x="7094160" y="1256040"/>
                <a:ext cx="135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 rot="18953400">
                <a:off x="7196040" y="117180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 rot="20572800">
                <a:off x="7106400" y="1295280"/>
                <a:ext cx="135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rot="21595200">
                <a:off x="7236360" y="1298160"/>
                <a:ext cx="13464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 rot="21595200">
                <a:off x="7237440" y="1339920"/>
                <a:ext cx="13464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 rot="18953400">
                <a:off x="7165080" y="1139040"/>
                <a:ext cx="13356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2" name=""/>
            <p:cNvSpPr/>
            <p:nvPr/>
          </p:nvSpPr>
          <p:spPr>
            <a:xfrm flipH="1">
              <a:off x="7261920" y="1045440"/>
              <a:ext cx="154080" cy="72360"/>
            </a:xfrm>
            <a:prstGeom prst="line">
              <a:avLst/>
            </a:prstGeom>
            <a:ln w="19080">
              <a:solidFill>
                <a:srgbClr val="74b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3" name=""/>
          <p:cNvGrpSpPr/>
          <p:nvPr/>
        </p:nvGrpSpPr>
        <p:grpSpPr>
          <a:xfrm>
            <a:off x="8269920" y="1310040"/>
            <a:ext cx="413280" cy="344520"/>
            <a:chOff x="8269920" y="1310040"/>
            <a:chExt cx="413280" cy="344520"/>
          </a:xfrm>
        </p:grpSpPr>
        <p:grpSp>
          <p:nvGrpSpPr>
            <p:cNvPr id="2624" name=""/>
            <p:cNvGrpSpPr/>
            <p:nvPr/>
          </p:nvGrpSpPr>
          <p:grpSpPr>
            <a:xfrm>
              <a:off x="8408520" y="1381680"/>
              <a:ext cx="274680" cy="272880"/>
              <a:chOff x="8408520" y="1381680"/>
              <a:chExt cx="274680" cy="272880"/>
            </a:xfrm>
          </p:grpSpPr>
          <p:sp>
            <p:nvSpPr>
              <p:cNvPr id="2625" name=""/>
              <p:cNvSpPr/>
              <p:nvPr/>
            </p:nvSpPr>
            <p:spPr>
              <a:xfrm rot="15589800">
                <a:off x="8497440" y="1575720"/>
                <a:ext cx="135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 rot="13971000">
                <a:off x="8425800" y="146412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rot="15589800">
                <a:off x="8537400" y="1568160"/>
                <a:ext cx="135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 rot="16612800">
                <a:off x="8556120" y="143964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rot="16612800">
                <a:off x="8597520" y="144360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rot="13971000">
                <a:off x="8389800" y="1492200"/>
                <a:ext cx="13392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1" name=""/>
            <p:cNvSpPr/>
            <p:nvPr/>
          </p:nvSpPr>
          <p:spPr>
            <a:xfrm flipV="1" rot="9055200">
              <a:off x="8273520" y="1360800"/>
              <a:ext cx="228960" cy="74520"/>
            </a:xfrm>
            <a:custGeom>
              <a:avLst/>
              <a:gdLst/>
              <a:ahLst/>
              <a:rect l="l" t="t" r="r" b="b"/>
              <a:pathLst>
                <a:path w="680" h="176">
                  <a:moveTo>
                    <a:pt x="0" y="72"/>
                  </a:moveTo>
                  <a:cubicBezTo>
                    <a:pt x="116" y="124"/>
                    <a:pt x="232" y="176"/>
                    <a:pt x="336" y="168"/>
                  </a:cubicBezTo>
                  <a:cubicBezTo>
                    <a:pt x="440" y="160"/>
                    <a:pt x="568" y="48"/>
                    <a:pt x="624" y="24"/>
                  </a:cubicBezTo>
                  <a:cubicBezTo>
                    <a:pt x="680" y="0"/>
                    <a:pt x="672" y="24"/>
                    <a:pt x="672" y="24"/>
                  </a:cubicBezTo>
                </a:path>
              </a:pathLst>
            </a:custGeom>
            <a:noFill/>
            <a:ln w="38160">
              <a:solidFill>
                <a:srgbClr val="3c58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2" name=""/>
          <p:cNvGrpSpPr/>
          <p:nvPr/>
        </p:nvGrpSpPr>
        <p:grpSpPr>
          <a:xfrm>
            <a:off x="7974000" y="3276720"/>
            <a:ext cx="523800" cy="457200"/>
            <a:chOff x="7974000" y="3276720"/>
            <a:chExt cx="523800" cy="457200"/>
          </a:xfrm>
        </p:grpSpPr>
        <p:grpSp>
          <p:nvGrpSpPr>
            <p:cNvPr id="2633" name=""/>
            <p:cNvGrpSpPr/>
            <p:nvPr/>
          </p:nvGrpSpPr>
          <p:grpSpPr>
            <a:xfrm>
              <a:off x="8002440" y="3276720"/>
              <a:ext cx="455760" cy="457200"/>
              <a:chOff x="8002440" y="3276720"/>
              <a:chExt cx="455760" cy="457200"/>
            </a:xfrm>
          </p:grpSpPr>
          <p:sp>
            <p:nvSpPr>
              <p:cNvPr id="2634" name=""/>
              <p:cNvSpPr/>
              <p:nvPr/>
            </p:nvSpPr>
            <p:spPr>
              <a:xfrm>
                <a:off x="8002440" y="3276720"/>
                <a:ext cx="455760" cy="45720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8043840" y="3316320"/>
                <a:ext cx="372960" cy="37764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6" name=""/>
            <p:cNvSpPr/>
            <p:nvPr/>
          </p:nvSpPr>
          <p:spPr>
            <a:xfrm>
              <a:off x="7974000" y="3418200"/>
              <a:ext cx="523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7" name=""/>
          <p:cNvGrpSpPr/>
          <p:nvPr/>
        </p:nvGrpSpPr>
        <p:grpSpPr>
          <a:xfrm>
            <a:off x="7669080" y="3809880"/>
            <a:ext cx="523800" cy="457200"/>
            <a:chOff x="7669080" y="3809880"/>
            <a:chExt cx="523800" cy="457200"/>
          </a:xfrm>
        </p:grpSpPr>
        <p:grpSp>
          <p:nvGrpSpPr>
            <p:cNvPr id="2638" name=""/>
            <p:cNvGrpSpPr/>
            <p:nvPr/>
          </p:nvGrpSpPr>
          <p:grpSpPr>
            <a:xfrm>
              <a:off x="7697520" y="3809880"/>
              <a:ext cx="455760" cy="457200"/>
              <a:chOff x="7697520" y="3809880"/>
              <a:chExt cx="455760" cy="457200"/>
            </a:xfrm>
          </p:grpSpPr>
          <p:sp>
            <p:nvSpPr>
              <p:cNvPr id="2639" name=""/>
              <p:cNvSpPr/>
              <p:nvPr/>
            </p:nvSpPr>
            <p:spPr>
              <a:xfrm>
                <a:off x="7697520" y="3809880"/>
                <a:ext cx="455760" cy="45720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7738920" y="3849480"/>
                <a:ext cx="372960" cy="37764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1" name=""/>
            <p:cNvSpPr/>
            <p:nvPr/>
          </p:nvSpPr>
          <p:spPr>
            <a:xfrm>
              <a:off x="7669080" y="3951360"/>
              <a:ext cx="523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2" name=""/>
          <p:cNvGrpSpPr/>
          <p:nvPr/>
        </p:nvGrpSpPr>
        <p:grpSpPr>
          <a:xfrm>
            <a:off x="8278920" y="3809880"/>
            <a:ext cx="523800" cy="457200"/>
            <a:chOff x="8278920" y="3809880"/>
            <a:chExt cx="523800" cy="457200"/>
          </a:xfrm>
        </p:grpSpPr>
        <p:grpSp>
          <p:nvGrpSpPr>
            <p:cNvPr id="2643" name=""/>
            <p:cNvGrpSpPr/>
            <p:nvPr/>
          </p:nvGrpSpPr>
          <p:grpSpPr>
            <a:xfrm>
              <a:off x="8307360" y="3809880"/>
              <a:ext cx="455760" cy="457200"/>
              <a:chOff x="8307360" y="3809880"/>
              <a:chExt cx="455760" cy="457200"/>
            </a:xfrm>
          </p:grpSpPr>
          <p:sp>
            <p:nvSpPr>
              <p:cNvPr id="2644" name=""/>
              <p:cNvSpPr/>
              <p:nvPr/>
            </p:nvSpPr>
            <p:spPr>
              <a:xfrm>
                <a:off x="8307360" y="3809880"/>
                <a:ext cx="455760" cy="45720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8348760" y="3849480"/>
                <a:ext cx="372960" cy="37764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6" name=""/>
            <p:cNvSpPr/>
            <p:nvPr/>
          </p:nvSpPr>
          <p:spPr>
            <a:xfrm>
              <a:off x="8278920" y="3951360"/>
              <a:ext cx="523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7" name=""/>
          <p:cNvGrpSpPr/>
          <p:nvPr/>
        </p:nvGrpSpPr>
        <p:grpSpPr>
          <a:xfrm>
            <a:off x="8354520" y="4419360"/>
            <a:ext cx="457560" cy="457560"/>
            <a:chOff x="8354520" y="4419360"/>
            <a:chExt cx="457560" cy="457560"/>
          </a:xfrm>
        </p:grpSpPr>
        <p:grpSp>
          <p:nvGrpSpPr>
            <p:cNvPr id="2648" name=""/>
            <p:cNvGrpSpPr/>
            <p:nvPr/>
          </p:nvGrpSpPr>
          <p:grpSpPr>
            <a:xfrm>
              <a:off x="8354520" y="4419360"/>
              <a:ext cx="457560" cy="457560"/>
              <a:chOff x="8354520" y="4419360"/>
              <a:chExt cx="457560" cy="457560"/>
            </a:xfrm>
          </p:grpSpPr>
          <p:sp>
            <p:nvSpPr>
              <p:cNvPr id="2649" name=""/>
              <p:cNvSpPr/>
              <p:nvPr/>
            </p:nvSpPr>
            <p:spPr>
              <a:xfrm>
                <a:off x="8354880" y="4419720"/>
                <a:ext cx="457200" cy="4572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8393040" y="4457880"/>
                <a:ext cx="342720" cy="34272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51" name=""/>
              <p:cNvGrpSpPr/>
              <p:nvPr/>
            </p:nvGrpSpPr>
            <p:grpSpPr>
              <a:xfrm>
                <a:off x="8506800" y="4762080"/>
                <a:ext cx="190440" cy="114120"/>
                <a:chOff x="8506800" y="4762080"/>
                <a:chExt cx="190440" cy="114120"/>
              </a:xfrm>
            </p:grpSpPr>
            <p:sp>
              <p:nvSpPr>
                <p:cNvPr id="2652" name=""/>
                <p:cNvSpPr/>
                <p:nvPr/>
              </p:nvSpPr>
              <p:spPr>
                <a:xfrm flipH="1" flipV="1">
                  <a:off x="8588160" y="47617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3" name=""/>
                <p:cNvSpPr/>
                <p:nvPr/>
              </p:nvSpPr>
              <p:spPr>
                <a:xfrm flipH="1" flipV="1">
                  <a:off x="8669880" y="48074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4" name=""/>
                <p:cNvSpPr/>
                <p:nvPr/>
              </p:nvSpPr>
              <p:spPr>
                <a:xfrm flipH="1" flipV="1">
                  <a:off x="8588160" y="48531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 flipH="1" flipV="1">
                  <a:off x="8506440" y="48074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6" name=""/>
              <p:cNvGrpSpPr/>
              <p:nvPr/>
            </p:nvGrpSpPr>
            <p:grpSpPr>
              <a:xfrm>
                <a:off x="8583120" y="4647960"/>
                <a:ext cx="190440" cy="114120"/>
                <a:chOff x="8583120" y="4647960"/>
                <a:chExt cx="190440" cy="114120"/>
              </a:xfrm>
            </p:grpSpPr>
            <p:sp>
              <p:nvSpPr>
                <p:cNvPr id="2657" name=""/>
                <p:cNvSpPr/>
                <p:nvPr/>
              </p:nvSpPr>
              <p:spPr>
                <a:xfrm flipH="1" flipV="1">
                  <a:off x="8664480" y="46476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 flipH="1" flipV="1">
                  <a:off x="8746200" y="46933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 flipH="1" flipV="1">
                  <a:off x="8664480" y="47390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 flipH="1" flipV="1">
                  <a:off x="8582760" y="46933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1" name=""/>
              <p:cNvGrpSpPr/>
              <p:nvPr/>
            </p:nvGrpSpPr>
            <p:grpSpPr>
              <a:xfrm>
                <a:off x="8392680" y="4686120"/>
                <a:ext cx="190440" cy="114120"/>
                <a:chOff x="8392680" y="4686120"/>
                <a:chExt cx="190440" cy="114120"/>
              </a:xfrm>
            </p:grpSpPr>
            <p:sp>
              <p:nvSpPr>
                <p:cNvPr id="2662" name=""/>
                <p:cNvSpPr/>
                <p:nvPr/>
              </p:nvSpPr>
              <p:spPr>
                <a:xfrm flipH="1" flipV="1">
                  <a:off x="8474040" y="46857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 flipH="1" flipV="1">
                  <a:off x="8555760" y="47314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 flipH="1" flipV="1">
                  <a:off x="8474040" y="47772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5" name=""/>
                <p:cNvSpPr/>
                <p:nvPr/>
              </p:nvSpPr>
              <p:spPr>
                <a:xfrm flipH="1" flipV="1">
                  <a:off x="8392320" y="47314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6" name=""/>
              <p:cNvGrpSpPr/>
              <p:nvPr/>
            </p:nvGrpSpPr>
            <p:grpSpPr>
              <a:xfrm>
                <a:off x="8506800" y="4724280"/>
                <a:ext cx="190440" cy="114120"/>
                <a:chOff x="8506800" y="4724280"/>
                <a:chExt cx="190440" cy="114120"/>
              </a:xfrm>
            </p:grpSpPr>
            <p:sp>
              <p:nvSpPr>
                <p:cNvPr id="2667" name=""/>
                <p:cNvSpPr/>
                <p:nvPr/>
              </p:nvSpPr>
              <p:spPr>
                <a:xfrm flipH="1" flipV="1">
                  <a:off x="8588160" y="47239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 flipH="1" flipV="1">
                  <a:off x="8669880" y="47696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 flipH="1" flipV="1">
                  <a:off x="8588160" y="48153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 flipH="1" flipV="1">
                  <a:off x="8506440" y="47696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1" name=""/>
              <p:cNvGrpSpPr/>
              <p:nvPr/>
            </p:nvGrpSpPr>
            <p:grpSpPr>
              <a:xfrm>
                <a:off x="8583120" y="4533480"/>
                <a:ext cx="190440" cy="114120"/>
                <a:chOff x="8583120" y="4533480"/>
                <a:chExt cx="190440" cy="114120"/>
              </a:xfrm>
            </p:grpSpPr>
            <p:sp>
              <p:nvSpPr>
                <p:cNvPr id="2672" name=""/>
                <p:cNvSpPr/>
                <p:nvPr/>
              </p:nvSpPr>
              <p:spPr>
                <a:xfrm flipH="1" flipV="1">
                  <a:off x="8664480" y="4533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 flipH="1" flipV="1">
                  <a:off x="8746200" y="45788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 flipH="1" flipV="1">
                  <a:off x="8664480" y="46245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 flipH="1" flipV="1">
                  <a:off x="8582760" y="45788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6" name=""/>
              <p:cNvGrpSpPr/>
              <p:nvPr/>
            </p:nvGrpSpPr>
            <p:grpSpPr>
              <a:xfrm>
                <a:off x="8354520" y="4609800"/>
                <a:ext cx="190440" cy="114120"/>
                <a:chOff x="8354520" y="4609800"/>
                <a:chExt cx="190440" cy="114120"/>
              </a:xfrm>
            </p:grpSpPr>
            <p:sp>
              <p:nvSpPr>
                <p:cNvPr id="2677" name=""/>
                <p:cNvSpPr/>
                <p:nvPr/>
              </p:nvSpPr>
              <p:spPr>
                <a:xfrm flipH="1" flipV="1">
                  <a:off x="8435880" y="46094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 flipH="1" flipV="1">
                  <a:off x="8517600" y="46551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 flipH="1" flipV="1">
                  <a:off x="8435880" y="47008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 flipH="1" flipV="1">
                  <a:off x="8354160" y="46551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1" name=""/>
              <p:cNvGrpSpPr/>
              <p:nvPr/>
            </p:nvGrpSpPr>
            <p:grpSpPr>
              <a:xfrm>
                <a:off x="8506800" y="4419360"/>
                <a:ext cx="190440" cy="114120"/>
                <a:chOff x="8506800" y="4419360"/>
                <a:chExt cx="190440" cy="114120"/>
              </a:xfrm>
            </p:grpSpPr>
            <p:sp>
              <p:nvSpPr>
                <p:cNvPr id="2682" name=""/>
                <p:cNvSpPr/>
                <p:nvPr/>
              </p:nvSpPr>
              <p:spPr>
                <a:xfrm flipH="1" flipV="1">
                  <a:off x="8588160" y="44190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 flipH="1" flipV="1">
                  <a:off x="8669880" y="44647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 flipH="1" flipV="1">
                  <a:off x="8588160" y="45104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 flipH="1" flipV="1">
                  <a:off x="8506440" y="44647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86" name=""/>
            <p:cNvSpPr/>
            <p:nvPr/>
          </p:nvSpPr>
          <p:spPr>
            <a:xfrm>
              <a:off x="8431200" y="4533840"/>
              <a:ext cx="342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imes New Roman"/>
                </a:rPr>
                <a:t>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7" name=""/>
          <p:cNvGrpSpPr/>
          <p:nvPr/>
        </p:nvGrpSpPr>
        <p:grpSpPr>
          <a:xfrm>
            <a:off x="7821360" y="4571640"/>
            <a:ext cx="457560" cy="457560"/>
            <a:chOff x="7821360" y="4571640"/>
            <a:chExt cx="457560" cy="457560"/>
          </a:xfrm>
        </p:grpSpPr>
        <p:grpSp>
          <p:nvGrpSpPr>
            <p:cNvPr id="2688" name=""/>
            <p:cNvGrpSpPr/>
            <p:nvPr/>
          </p:nvGrpSpPr>
          <p:grpSpPr>
            <a:xfrm>
              <a:off x="7821360" y="4571640"/>
              <a:ext cx="457560" cy="457560"/>
              <a:chOff x="7821360" y="4571640"/>
              <a:chExt cx="457560" cy="457560"/>
            </a:xfrm>
          </p:grpSpPr>
          <p:sp>
            <p:nvSpPr>
              <p:cNvPr id="2689" name=""/>
              <p:cNvSpPr/>
              <p:nvPr/>
            </p:nvSpPr>
            <p:spPr>
              <a:xfrm>
                <a:off x="7821720" y="4572000"/>
                <a:ext cx="457200" cy="4572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7859880" y="4610160"/>
                <a:ext cx="342720" cy="34272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1" name=""/>
              <p:cNvGrpSpPr/>
              <p:nvPr/>
            </p:nvGrpSpPr>
            <p:grpSpPr>
              <a:xfrm>
                <a:off x="7973640" y="4914360"/>
                <a:ext cx="190440" cy="114120"/>
                <a:chOff x="7973640" y="4914360"/>
                <a:chExt cx="190440" cy="114120"/>
              </a:xfrm>
            </p:grpSpPr>
            <p:sp>
              <p:nvSpPr>
                <p:cNvPr id="2692" name=""/>
                <p:cNvSpPr/>
                <p:nvPr/>
              </p:nvSpPr>
              <p:spPr>
                <a:xfrm flipH="1" flipV="1">
                  <a:off x="8055000" y="49140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 flipH="1" flipV="1">
                  <a:off x="8136720" y="49597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4" name=""/>
                <p:cNvSpPr/>
                <p:nvPr/>
              </p:nvSpPr>
              <p:spPr>
                <a:xfrm flipH="1" flipV="1">
                  <a:off x="8055000" y="50054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 flipH="1" flipV="1">
                  <a:off x="7973280" y="49597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6" name=""/>
              <p:cNvGrpSpPr/>
              <p:nvPr/>
            </p:nvGrpSpPr>
            <p:grpSpPr>
              <a:xfrm>
                <a:off x="8049960" y="4800240"/>
                <a:ext cx="190440" cy="114120"/>
                <a:chOff x="8049960" y="4800240"/>
                <a:chExt cx="190440" cy="114120"/>
              </a:xfrm>
            </p:grpSpPr>
            <p:sp>
              <p:nvSpPr>
                <p:cNvPr id="2697" name=""/>
                <p:cNvSpPr/>
                <p:nvPr/>
              </p:nvSpPr>
              <p:spPr>
                <a:xfrm flipH="1" flipV="1">
                  <a:off x="8131320" y="47998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 flipH="1" flipV="1">
                  <a:off x="8213040" y="48456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 flipH="1" flipV="1">
                  <a:off x="8131320" y="48913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 flipH="1" flipV="1">
                  <a:off x="8049600" y="48456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1" name=""/>
              <p:cNvGrpSpPr/>
              <p:nvPr/>
            </p:nvGrpSpPr>
            <p:grpSpPr>
              <a:xfrm>
                <a:off x="7859520" y="4838400"/>
                <a:ext cx="190440" cy="114120"/>
                <a:chOff x="7859520" y="4838400"/>
                <a:chExt cx="190440" cy="114120"/>
              </a:xfrm>
            </p:grpSpPr>
            <p:sp>
              <p:nvSpPr>
                <p:cNvPr id="2702" name=""/>
                <p:cNvSpPr/>
                <p:nvPr/>
              </p:nvSpPr>
              <p:spPr>
                <a:xfrm flipH="1" flipV="1">
                  <a:off x="7940880" y="48380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 flipH="1" flipV="1">
                  <a:off x="8022600" y="48837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 flipH="1" flipV="1">
                  <a:off x="7940880" y="49294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 flipH="1" flipV="1">
                  <a:off x="7859160" y="48837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6" name=""/>
              <p:cNvGrpSpPr/>
              <p:nvPr/>
            </p:nvGrpSpPr>
            <p:grpSpPr>
              <a:xfrm>
                <a:off x="7973640" y="4876560"/>
                <a:ext cx="190440" cy="114120"/>
                <a:chOff x="7973640" y="4876560"/>
                <a:chExt cx="190440" cy="114120"/>
              </a:xfrm>
            </p:grpSpPr>
            <p:sp>
              <p:nvSpPr>
                <p:cNvPr id="2707" name=""/>
                <p:cNvSpPr/>
                <p:nvPr/>
              </p:nvSpPr>
              <p:spPr>
                <a:xfrm flipH="1" flipV="1">
                  <a:off x="8055000" y="48762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 flipH="1" flipV="1">
                  <a:off x="8136720" y="49219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9" name=""/>
                <p:cNvSpPr/>
                <p:nvPr/>
              </p:nvSpPr>
              <p:spPr>
                <a:xfrm flipH="1" flipV="1">
                  <a:off x="8055000" y="49676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 flipH="1" flipV="1">
                  <a:off x="7973280" y="49219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1" name=""/>
              <p:cNvGrpSpPr/>
              <p:nvPr/>
            </p:nvGrpSpPr>
            <p:grpSpPr>
              <a:xfrm>
                <a:off x="8049960" y="4685760"/>
                <a:ext cx="190440" cy="114120"/>
                <a:chOff x="8049960" y="4685760"/>
                <a:chExt cx="190440" cy="114120"/>
              </a:xfrm>
            </p:grpSpPr>
            <p:sp>
              <p:nvSpPr>
                <p:cNvPr id="2712" name=""/>
                <p:cNvSpPr/>
                <p:nvPr/>
              </p:nvSpPr>
              <p:spPr>
                <a:xfrm flipH="1" flipV="1">
                  <a:off x="8131320" y="46854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3" name=""/>
                <p:cNvSpPr/>
                <p:nvPr/>
              </p:nvSpPr>
              <p:spPr>
                <a:xfrm flipH="1" flipV="1">
                  <a:off x="8213040" y="4731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 flipH="1" flipV="1">
                  <a:off x="8131320" y="47768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5" name=""/>
                <p:cNvSpPr/>
                <p:nvPr/>
              </p:nvSpPr>
              <p:spPr>
                <a:xfrm flipH="1" flipV="1">
                  <a:off x="8049600" y="4731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6" name=""/>
              <p:cNvGrpSpPr/>
              <p:nvPr/>
            </p:nvGrpSpPr>
            <p:grpSpPr>
              <a:xfrm>
                <a:off x="7821360" y="4762080"/>
                <a:ext cx="190440" cy="114120"/>
                <a:chOff x="7821360" y="4762080"/>
                <a:chExt cx="190440" cy="114120"/>
              </a:xfrm>
            </p:grpSpPr>
            <p:sp>
              <p:nvSpPr>
                <p:cNvPr id="2717" name=""/>
                <p:cNvSpPr/>
                <p:nvPr/>
              </p:nvSpPr>
              <p:spPr>
                <a:xfrm flipH="1" flipV="1">
                  <a:off x="7902720" y="47617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8" name=""/>
                <p:cNvSpPr/>
                <p:nvPr/>
              </p:nvSpPr>
              <p:spPr>
                <a:xfrm flipH="1" flipV="1">
                  <a:off x="7984440" y="48074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 flipH="1" flipV="1">
                  <a:off x="7902720" y="48531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 flipH="1" flipV="1">
                  <a:off x="7821000" y="48074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1" name=""/>
              <p:cNvGrpSpPr/>
              <p:nvPr/>
            </p:nvGrpSpPr>
            <p:grpSpPr>
              <a:xfrm>
                <a:off x="7973640" y="4571640"/>
                <a:ext cx="190440" cy="114120"/>
                <a:chOff x="7973640" y="4571640"/>
                <a:chExt cx="190440" cy="114120"/>
              </a:xfrm>
            </p:grpSpPr>
            <p:sp>
              <p:nvSpPr>
                <p:cNvPr id="2722" name=""/>
                <p:cNvSpPr/>
                <p:nvPr/>
              </p:nvSpPr>
              <p:spPr>
                <a:xfrm flipH="1" flipV="1">
                  <a:off x="8055000" y="45712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 flipH="1" flipV="1">
                  <a:off x="8136720" y="46170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 flipH="1" flipV="1">
                  <a:off x="8055000" y="46627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 flipH="1" flipV="1">
                  <a:off x="7973280" y="46170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26" name=""/>
            <p:cNvSpPr/>
            <p:nvPr/>
          </p:nvSpPr>
          <p:spPr>
            <a:xfrm>
              <a:off x="7898040" y="4686120"/>
              <a:ext cx="342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imes New Roman"/>
                </a:rPr>
                <a:t>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7" name=""/>
          <p:cNvGrpSpPr/>
          <p:nvPr/>
        </p:nvGrpSpPr>
        <p:grpSpPr>
          <a:xfrm>
            <a:off x="8202240" y="5028840"/>
            <a:ext cx="457560" cy="457560"/>
            <a:chOff x="8202240" y="5028840"/>
            <a:chExt cx="457560" cy="457560"/>
          </a:xfrm>
        </p:grpSpPr>
        <p:grpSp>
          <p:nvGrpSpPr>
            <p:cNvPr id="2728" name=""/>
            <p:cNvGrpSpPr/>
            <p:nvPr/>
          </p:nvGrpSpPr>
          <p:grpSpPr>
            <a:xfrm>
              <a:off x="8202240" y="5028840"/>
              <a:ext cx="457560" cy="457560"/>
              <a:chOff x="8202240" y="5028840"/>
              <a:chExt cx="457560" cy="457560"/>
            </a:xfrm>
          </p:grpSpPr>
          <p:sp>
            <p:nvSpPr>
              <p:cNvPr id="2729" name=""/>
              <p:cNvSpPr/>
              <p:nvPr/>
            </p:nvSpPr>
            <p:spPr>
              <a:xfrm>
                <a:off x="8202600" y="5029200"/>
                <a:ext cx="457200" cy="4572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8240760" y="5067360"/>
                <a:ext cx="342720" cy="34272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31" name=""/>
              <p:cNvGrpSpPr/>
              <p:nvPr/>
            </p:nvGrpSpPr>
            <p:grpSpPr>
              <a:xfrm>
                <a:off x="8354520" y="5371560"/>
                <a:ext cx="190440" cy="114120"/>
                <a:chOff x="8354520" y="5371560"/>
                <a:chExt cx="190440" cy="114120"/>
              </a:xfrm>
            </p:grpSpPr>
            <p:sp>
              <p:nvSpPr>
                <p:cNvPr id="2732" name=""/>
                <p:cNvSpPr/>
                <p:nvPr/>
              </p:nvSpPr>
              <p:spPr>
                <a:xfrm flipH="1" flipV="1">
                  <a:off x="8435880" y="53712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 flipH="1" flipV="1">
                  <a:off x="8517600" y="54169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 flipH="1" flipV="1">
                  <a:off x="8435880" y="54626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 flipH="1" flipV="1">
                  <a:off x="8354160" y="54169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6" name=""/>
              <p:cNvGrpSpPr/>
              <p:nvPr/>
            </p:nvGrpSpPr>
            <p:grpSpPr>
              <a:xfrm>
                <a:off x="8430840" y="5257440"/>
                <a:ext cx="190440" cy="114120"/>
                <a:chOff x="8430840" y="5257440"/>
                <a:chExt cx="190440" cy="114120"/>
              </a:xfrm>
            </p:grpSpPr>
            <p:sp>
              <p:nvSpPr>
                <p:cNvPr id="2737" name=""/>
                <p:cNvSpPr/>
                <p:nvPr/>
              </p:nvSpPr>
              <p:spPr>
                <a:xfrm flipH="1" flipV="1">
                  <a:off x="8512200" y="52570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 flipH="1" flipV="1">
                  <a:off x="8593920" y="53028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 flipH="1" flipV="1">
                  <a:off x="8512200" y="53485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 flipH="1" flipV="1">
                  <a:off x="8430480" y="53028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1" name=""/>
              <p:cNvGrpSpPr/>
              <p:nvPr/>
            </p:nvGrpSpPr>
            <p:grpSpPr>
              <a:xfrm>
                <a:off x="8240400" y="5295600"/>
                <a:ext cx="190440" cy="114120"/>
                <a:chOff x="8240400" y="5295600"/>
                <a:chExt cx="190440" cy="114120"/>
              </a:xfrm>
            </p:grpSpPr>
            <p:sp>
              <p:nvSpPr>
                <p:cNvPr id="2742" name=""/>
                <p:cNvSpPr/>
                <p:nvPr/>
              </p:nvSpPr>
              <p:spPr>
                <a:xfrm flipH="1" flipV="1">
                  <a:off x="8321760" y="52952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 flipH="1" flipV="1">
                  <a:off x="8403480" y="53409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4" name=""/>
                <p:cNvSpPr/>
                <p:nvPr/>
              </p:nvSpPr>
              <p:spPr>
                <a:xfrm flipH="1" flipV="1">
                  <a:off x="8321760" y="53866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 flipH="1" flipV="1">
                  <a:off x="8240040" y="53409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6" name=""/>
              <p:cNvGrpSpPr/>
              <p:nvPr/>
            </p:nvGrpSpPr>
            <p:grpSpPr>
              <a:xfrm>
                <a:off x="8354520" y="5333760"/>
                <a:ext cx="190440" cy="114120"/>
                <a:chOff x="8354520" y="5333760"/>
                <a:chExt cx="190440" cy="114120"/>
              </a:xfrm>
            </p:grpSpPr>
            <p:sp>
              <p:nvSpPr>
                <p:cNvPr id="2747" name=""/>
                <p:cNvSpPr/>
                <p:nvPr/>
              </p:nvSpPr>
              <p:spPr>
                <a:xfrm flipH="1" flipV="1">
                  <a:off x="8435880" y="53334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 flipH="1" flipV="1">
                  <a:off x="8517600" y="5379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9" name=""/>
                <p:cNvSpPr/>
                <p:nvPr/>
              </p:nvSpPr>
              <p:spPr>
                <a:xfrm flipH="1" flipV="1">
                  <a:off x="8435880" y="54248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 flipH="1" flipV="1">
                  <a:off x="8354160" y="5379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1" name=""/>
              <p:cNvGrpSpPr/>
              <p:nvPr/>
            </p:nvGrpSpPr>
            <p:grpSpPr>
              <a:xfrm>
                <a:off x="8430840" y="5142960"/>
                <a:ext cx="190440" cy="114120"/>
                <a:chOff x="8430840" y="5142960"/>
                <a:chExt cx="190440" cy="114120"/>
              </a:xfrm>
            </p:grpSpPr>
            <p:sp>
              <p:nvSpPr>
                <p:cNvPr id="2752" name=""/>
                <p:cNvSpPr/>
                <p:nvPr/>
              </p:nvSpPr>
              <p:spPr>
                <a:xfrm flipH="1" flipV="1">
                  <a:off x="8512200" y="51426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 flipH="1" flipV="1">
                  <a:off x="8593920" y="51883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 flipH="1" flipV="1">
                  <a:off x="8512200" y="52340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 flipH="1" flipV="1">
                  <a:off x="8430480" y="51883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6" name=""/>
              <p:cNvGrpSpPr/>
              <p:nvPr/>
            </p:nvGrpSpPr>
            <p:grpSpPr>
              <a:xfrm>
                <a:off x="8202240" y="5219280"/>
                <a:ext cx="190440" cy="114120"/>
                <a:chOff x="8202240" y="5219280"/>
                <a:chExt cx="190440" cy="114120"/>
              </a:xfrm>
            </p:grpSpPr>
            <p:sp>
              <p:nvSpPr>
                <p:cNvPr id="2757" name=""/>
                <p:cNvSpPr/>
                <p:nvPr/>
              </p:nvSpPr>
              <p:spPr>
                <a:xfrm flipH="1" flipV="1">
                  <a:off x="8283600" y="52189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 flipH="1" flipV="1">
                  <a:off x="8365320" y="52646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 flipH="1" flipV="1">
                  <a:off x="8283600" y="53103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0" name=""/>
                <p:cNvSpPr/>
                <p:nvPr/>
              </p:nvSpPr>
              <p:spPr>
                <a:xfrm flipH="1" flipV="1">
                  <a:off x="8201880" y="52646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1" name=""/>
              <p:cNvGrpSpPr/>
              <p:nvPr/>
            </p:nvGrpSpPr>
            <p:grpSpPr>
              <a:xfrm>
                <a:off x="8354520" y="5028840"/>
                <a:ext cx="190440" cy="114120"/>
                <a:chOff x="8354520" y="5028840"/>
                <a:chExt cx="190440" cy="114120"/>
              </a:xfrm>
            </p:grpSpPr>
            <p:sp>
              <p:nvSpPr>
                <p:cNvPr id="2762" name=""/>
                <p:cNvSpPr/>
                <p:nvPr/>
              </p:nvSpPr>
              <p:spPr>
                <a:xfrm flipH="1" flipV="1">
                  <a:off x="8435880" y="50284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 flipH="1" flipV="1">
                  <a:off x="8517600" y="50742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 flipH="1" flipV="1">
                  <a:off x="8435880" y="51199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 flipH="1" flipV="1">
                  <a:off x="8354160" y="50742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66" name=""/>
            <p:cNvSpPr/>
            <p:nvPr/>
          </p:nvSpPr>
          <p:spPr>
            <a:xfrm>
              <a:off x="8278920" y="5143320"/>
              <a:ext cx="342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imes New Roman"/>
                </a:rPr>
                <a:t>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7" name=""/>
          <p:cNvGrpSpPr/>
          <p:nvPr/>
        </p:nvGrpSpPr>
        <p:grpSpPr>
          <a:xfrm>
            <a:off x="7663680" y="5247000"/>
            <a:ext cx="462600" cy="676080"/>
            <a:chOff x="7663680" y="5247000"/>
            <a:chExt cx="462600" cy="676080"/>
          </a:xfrm>
        </p:grpSpPr>
        <p:grpSp>
          <p:nvGrpSpPr>
            <p:cNvPr id="2768" name=""/>
            <p:cNvGrpSpPr/>
            <p:nvPr/>
          </p:nvGrpSpPr>
          <p:grpSpPr>
            <a:xfrm>
              <a:off x="7663680" y="5247000"/>
              <a:ext cx="274320" cy="272880"/>
              <a:chOff x="7663680" y="5247000"/>
              <a:chExt cx="274320" cy="272880"/>
            </a:xfrm>
          </p:grpSpPr>
          <p:sp>
            <p:nvSpPr>
              <p:cNvPr id="2769" name=""/>
              <p:cNvSpPr/>
              <p:nvPr/>
            </p:nvSpPr>
            <p:spPr>
              <a:xfrm rot="15589800">
                <a:off x="7752240" y="5441040"/>
                <a:ext cx="135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rot="13971000">
                <a:off x="7680600" y="532944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 rot="15589800">
                <a:off x="7792200" y="5433120"/>
                <a:ext cx="135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rot="16613400">
                <a:off x="7810920" y="530496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 rot="16613400">
                <a:off x="7852320" y="530892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rot="13971000">
                <a:off x="7644960" y="5357520"/>
                <a:ext cx="13392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5" name=""/>
            <p:cNvGrpSpPr/>
            <p:nvPr/>
          </p:nvGrpSpPr>
          <p:grpSpPr>
            <a:xfrm>
              <a:off x="7668720" y="5465520"/>
              <a:ext cx="457560" cy="457560"/>
              <a:chOff x="7668720" y="5465520"/>
              <a:chExt cx="457560" cy="457560"/>
            </a:xfrm>
          </p:grpSpPr>
          <p:grpSp>
            <p:nvGrpSpPr>
              <p:cNvPr id="2776" name=""/>
              <p:cNvGrpSpPr/>
              <p:nvPr/>
            </p:nvGrpSpPr>
            <p:grpSpPr>
              <a:xfrm>
                <a:off x="7668720" y="5465520"/>
                <a:ext cx="457560" cy="457560"/>
                <a:chOff x="7668720" y="5465520"/>
                <a:chExt cx="457560" cy="457560"/>
              </a:xfrm>
            </p:grpSpPr>
            <p:sp>
              <p:nvSpPr>
                <p:cNvPr id="2777" name=""/>
                <p:cNvSpPr/>
                <p:nvPr/>
              </p:nvSpPr>
              <p:spPr>
                <a:xfrm>
                  <a:off x="7669080" y="5465880"/>
                  <a:ext cx="457200" cy="457200"/>
                </a:xfrm>
                <a:prstGeom prst="ellipse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>
                  <a:off x="7707240" y="5504040"/>
                  <a:ext cx="342720" cy="34272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79" name=""/>
                <p:cNvGrpSpPr/>
                <p:nvPr/>
              </p:nvGrpSpPr>
              <p:grpSpPr>
                <a:xfrm>
                  <a:off x="7821000" y="5808240"/>
                  <a:ext cx="190440" cy="114120"/>
                  <a:chOff x="7821000" y="5808240"/>
                  <a:chExt cx="190440" cy="114120"/>
                </a:xfrm>
              </p:grpSpPr>
              <p:sp>
                <p:nvSpPr>
                  <p:cNvPr id="2780" name=""/>
                  <p:cNvSpPr/>
                  <p:nvPr/>
                </p:nvSpPr>
                <p:spPr>
                  <a:xfrm flipH="1" flipV="1">
                    <a:off x="7902360" y="58078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1" name=""/>
                  <p:cNvSpPr/>
                  <p:nvPr/>
                </p:nvSpPr>
                <p:spPr>
                  <a:xfrm flipH="1" flipV="1">
                    <a:off x="7984080" y="58536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2" name=""/>
                  <p:cNvSpPr/>
                  <p:nvPr/>
                </p:nvSpPr>
                <p:spPr>
                  <a:xfrm flipH="1" flipV="1">
                    <a:off x="7902360" y="58993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3" name=""/>
                  <p:cNvSpPr/>
                  <p:nvPr/>
                </p:nvSpPr>
                <p:spPr>
                  <a:xfrm flipH="1" flipV="1">
                    <a:off x="7820640" y="58536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84" name=""/>
                <p:cNvGrpSpPr/>
                <p:nvPr/>
              </p:nvGrpSpPr>
              <p:grpSpPr>
                <a:xfrm>
                  <a:off x="7897320" y="5694120"/>
                  <a:ext cx="190440" cy="114120"/>
                  <a:chOff x="7897320" y="5694120"/>
                  <a:chExt cx="190440" cy="114120"/>
                </a:xfrm>
              </p:grpSpPr>
              <p:sp>
                <p:nvSpPr>
                  <p:cNvPr id="2785" name=""/>
                  <p:cNvSpPr/>
                  <p:nvPr/>
                </p:nvSpPr>
                <p:spPr>
                  <a:xfrm flipH="1" flipV="1">
                    <a:off x="7978680" y="56937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6" name=""/>
                  <p:cNvSpPr/>
                  <p:nvPr/>
                </p:nvSpPr>
                <p:spPr>
                  <a:xfrm flipH="1" flipV="1">
                    <a:off x="8060400" y="57394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7" name=""/>
                  <p:cNvSpPr/>
                  <p:nvPr/>
                </p:nvSpPr>
                <p:spPr>
                  <a:xfrm flipH="1" flipV="1">
                    <a:off x="7978680" y="57852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8" name=""/>
                  <p:cNvSpPr/>
                  <p:nvPr/>
                </p:nvSpPr>
                <p:spPr>
                  <a:xfrm flipH="1" flipV="1">
                    <a:off x="7896960" y="57394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89" name=""/>
                <p:cNvGrpSpPr/>
                <p:nvPr/>
              </p:nvGrpSpPr>
              <p:grpSpPr>
                <a:xfrm>
                  <a:off x="7706880" y="5732280"/>
                  <a:ext cx="190440" cy="114120"/>
                  <a:chOff x="7706880" y="5732280"/>
                  <a:chExt cx="190440" cy="114120"/>
                </a:xfrm>
              </p:grpSpPr>
              <p:sp>
                <p:nvSpPr>
                  <p:cNvPr id="2790" name=""/>
                  <p:cNvSpPr/>
                  <p:nvPr/>
                </p:nvSpPr>
                <p:spPr>
                  <a:xfrm flipH="1" flipV="1">
                    <a:off x="7788240" y="57319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1" name=""/>
                  <p:cNvSpPr/>
                  <p:nvPr/>
                </p:nvSpPr>
                <p:spPr>
                  <a:xfrm flipH="1" flipV="1">
                    <a:off x="7869960" y="57776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2" name=""/>
                  <p:cNvSpPr/>
                  <p:nvPr/>
                </p:nvSpPr>
                <p:spPr>
                  <a:xfrm flipH="1" flipV="1">
                    <a:off x="7788240" y="58233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3" name=""/>
                  <p:cNvSpPr/>
                  <p:nvPr/>
                </p:nvSpPr>
                <p:spPr>
                  <a:xfrm flipH="1" flipV="1">
                    <a:off x="7706520" y="57776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94" name=""/>
                <p:cNvGrpSpPr/>
                <p:nvPr/>
              </p:nvGrpSpPr>
              <p:grpSpPr>
                <a:xfrm>
                  <a:off x="7821000" y="5770440"/>
                  <a:ext cx="190440" cy="114120"/>
                  <a:chOff x="7821000" y="5770440"/>
                  <a:chExt cx="190440" cy="114120"/>
                </a:xfrm>
              </p:grpSpPr>
              <p:sp>
                <p:nvSpPr>
                  <p:cNvPr id="2795" name=""/>
                  <p:cNvSpPr/>
                  <p:nvPr/>
                </p:nvSpPr>
                <p:spPr>
                  <a:xfrm flipH="1" flipV="1">
                    <a:off x="7902360" y="57700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6" name=""/>
                  <p:cNvSpPr/>
                  <p:nvPr/>
                </p:nvSpPr>
                <p:spPr>
                  <a:xfrm flipH="1" flipV="1">
                    <a:off x="7984080" y="58158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7" name=""/>
                  <p:cNvSpPr/>
                  <p:nvPr/>
                </p:nvSpPr>
                <p:spPr>
                  <a:xfrm flipH="1" flipV="1">
                    <a:off x="7902360" y="58615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8" name=""/>
                  <p:cNvSpPr/>
                  <p:nvPr/>
                </p:nvSpPr>
                <p:spPr>
                  <a:xfrm flipH="1" flipV="1">
                    <a:off x="7820640" y="58158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99" name=""/>
                <p:cNvGrpSpPr/>
                <p:nvPr/>
              </p:nvGrpSpPr>
              <p:grpSpPr>
                <a:xfrm>
                  <a:off x="7897320" y="5579640"/>
                  <a:ext cx="190440" cy="114120"/>
                  <a:chOff x="7897320" y="5579640"/>
                  <a:chExt cx="190440" cy="114120"/>
                </a:xfrm>
              </p:grpSpPr>
              <p:sp>
                <p:nvSpPr>
                  <p:cNvPr id="2800" name=""/>
                  <p:cNvSpPr/>
                  <p:nvPr/>
                </p:nvSpPr>
                <p:spPr>
                  <a:xfrm flipH="1" flipV="1">
                    <a:off x="7978680" y="55792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1" name=""/>
                  <p:cNvSpPr/>
                  <p:nvPr/>
                </p:nvSpPr>
                <p:spPr>
                  <a:xfrm flipH="1" flipV="1">
                    <a:off x="8060400" y="56250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2" name=""/>
                  <p:cNvSpPr/>
                  <p:nvPr/>
                </p:nvSpPr>
                <p:spPr>
                  <a:xfrm flipH="1" flipV="1">
                    <a:off x="7978680" y="56707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3" name=""/>
                  <p:cNvSpPr/>
                  <p:nvPr/>
                </p:nvSpPr>
                <p:spPr>
                  <a:xfrm flipH="1" flipV="1">
                    <a:off x="7896960" y="56250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04" name=""/>
                <p:cNvGrpSpPr/>
                <p:nvPr/>
              </p:nvGrpSpPr>
              <p:grpSpPr>
                <a:xfrm>
                  <a:off x="7668720" y="5655960"/>
                  <a:ext cx="190440" cy="114120"/>
                  <a:chOff x="7668720" y="5655960"/>
                  <a:chExt cx="190440" cy="114120"/>
                </a:xfrm>
              </p:grpSpPr>
              <p:sp>
                <p:nvSpPr>
                  <p:cNvPr id="2805" name=""/>
                  <p:cNvSpPr/>
                  <p:nvPr/>
                </p:nvSpPr>
                <p:spPr>
                  <a:xfrm flipH="1" flipV="1">
                    <a:off x="7750080" y="56556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6" name=""/>
                  <p:cNvSpPr/>
                  <p:nvPr/>
                </p:nvSpPr>
                <p:spPr>
                  <a:xfrm flipH="1" flipV="1">
                    <a:off x="7831800" y="57013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7" name=""/>
                  <p:cNvSpPr/>
                  <p:nvPr/>
                </p:nvSpPr>
                <p:spPr>
                  <a:xfrm flipH="1" flipV="1">
                    <a:off x="7750080" y="57470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8" name=""/>
                  <p:cNvSpPr/>
                  <p:nvPr/>
                </p:nvSpPr>
                <p:spPr>
                  <a:xfrm flipH="1" flipV="1">
                    <a:off x="7668360" y="57013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09" name=""/>
                <p:cNvGrpSpPr/>
                <p:nvPr/>
              </p:nvGrpSpPr>
              <p:grpSpPr>
                <a:xfrm>
                  <a:off x="7821000" y="5465520"/>
                  <a:ext cx="190440" cy="114120"/>
                  <a:chOff x="7821000" y="5465520"/>
                  <a:chExt cx="190440" cy="114120"/>
                </a:xfrm>
              </p:grpSpPr>
              <p:sp>
                <p:nvSpPr>
                  <p:cNvPr id="2810" name=""/>
                  <p:cNvSpPr/>
                  <p:nvPr/>
                </p:nvSpPr>
                <p:spPr>
                  <a:xfrm flipH="1" flipV="1">
                    <a:off x="7902360" y="54651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1" name=""/>
                  <p:cNvSpPr/>
                  <p:nvPr/>
                </p:nvSpPr>
                <p:spPr>
                  <a:xfrm flipH="1" flipV="1">
                    <a:off x="7984080" y="55108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2" name=""/>
                  <p:cNvSpPr/>
                  <p:nvPr/>
                </p:nvSpPr>
                <p:spPr>
                  <a:xfrm flipH="1" flipV="1">
                    <a:off x="7902360" y="55566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3" name=""/>
                  <p:cNvSpPr/>
                  <p:nvPr/>
                </p:nvSpPr>
                <p:spPr>
                  <a:xfrm flipH="1" flipV="1">
                    <a:off x="7820640" y="55108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14" name=""/>
              <p:cNvSpPr/>
              <p:nvPr/>
            </p:nvSpPr>
            <p:spPr>
              <a:xfrm>
                <a:off x="7745400" y="5580000"/>
                <a:ext cx="342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800" spc="-1" strike="noStrike">
                    <a:solidFill>
                      <a:srgbClr val="ffffff"/>
                    </a:solidFill>
                    <a:latin typeface="Times New Roman"/>
                  </a:rPr>
                  <a:t>N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15" name=""/>
          <p:cNvGrpSpPr/>
          <p:nvPr/>
        </p:nvGrpSpPr>
        <p:grpSpPr>
          <a:xfrm>
            <a:off x="8257680" y="5456880"/>
            <a:ext cx="717120" cy="693720"/>
            <a:chOff x="8257680" y="5456880"/>
            <a:chExt cx="717120" cy="693720"/>
          </a:xfrm>
        </p:grpSpPr>
        <p:grpSp>
          <p:nvGrpSpPr>
            <p:cNvPr id="2816" name=""/>
            <p:cNvGrpSpPr/>
            <p:nvPr/>
          </p:nvGrpSpPr>
          <p:grpSpPr>
            <a:xfrm>
              <a:off x="8685000" y="5456880"/>
              <a:ext cx="289800" cy="281520"/>
              <a:chOff x="8685000" y="5456880"/>
              <a:chExt cx="289800" cy="281520"/>
            </a:xfrm>
          </p:grpSpPr>
          <p:sp>
            <p:nvSpPr>
              <p:cNvPr id="2817" name=""/>
              <p:cNvSpPr/>
              <p:nvPr/>
            </p:nvSpPr>
            <p:spPr>
              <a:xfrm rot="19288800">
                <a:off x="8676720" y="5646240"/>
                <a:ext cx="135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 rot="17670000">
                <a:off x="8741160" y="553068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 rot="19288800">
                <a:off x="8703000" y="5678280"/>
                <a:ext cx="135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 rot="20311800">
                <a:off x="8824680" y="563364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 rot="20311800">
                <a:off x="8840880" y="567180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 rot="17670000">
                <a:off x="8700120" y="5511960"/>
                <a:ext cx="13392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3" name=""/>
            <p:cNvGrpSpPr/>
            <p:nvPr/>
          </p:nvGrpSpPr>
          <p:grpSpPr>
            <a:xfrm>
              <a:off x="8257680" y="5531040"/>
              <a:ext cx="619560" cy="619560"/>
              <a:chOff x="8257680" y="5531040"/>
              <a:chExt cx="619560" cy="619560"/>
            </a:xfrm>
          </p:grpSpPr>
          <p:grpSp>
            <p:nvGrpSpPr>
              <p:cNvPr id="2824" name=""/>
              <p:cNvGrpSpPr/>
              <p:nvPr/>
            </p:nvGrpSpPr>
            <p:grpSpPr>
              <a:xfrm>
                <a:off x="8257680" y="5531040"/>
                <a:ext cx="619560" cy="619560"/>
                <a:chOff x="8257680" y="5531040"/>
                <a:chExt cx="619560" cy="619560"/>
              </a:xfrm>
            </p:grpSpPr>
            <p:sp>
              <p:nvSpPr>
                <p:cNvPr id="2825" name=""/>
                <p:cNvSpPr/>
                <p:nvPr/>
              </p:nvSpPr>
              <p:spPr>
                <a:xfrm rot="3699000">
                  <a:off x="8338680" y="5612040"/>
                  <a:ext cx="457200" cy="457200"/>
                </a:xfrm>
                <a:prstGeom prst="ellipse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 rot="3699000">
                  <a:off x="8403840" y="5643000"/>
                  <a:ext cx="342720" cy="34272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27" name=""/>
                <p:cNvGrpSpPr/>
                <p:nvPr/>
              </p:nvGrpSpPr>
              <p:grpSpPr>
                <a:xfrm>
                  <a:off x="8369280" y="5848920"/>
                  <a:ext cx="113040" cy="178560"/>
                  <a:chOff x="8369280" y="5848920"/>
                  <a:chExt cx="113040" cy="178560"/>
                </a:xfrm>
              </p:grpSpPr>
              <p:sp>
                <p:nvSpPr>
                  <p:cNvPr id="2828" name=""/>
                  <p:cNvSpPr/>
                  <p:nvPr/>
                </p:nvSpPr>
                <p:spPr>
                  <a:xfrm flipH="1" flipV="1" rot="3699000">
                    <a:off x="8451720" y="59043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9" name=""/>
                  <p:cNvSpPr/>
                  <p:nvPr/>
                </p:nvSpPr>
                <p:spPr>
                  <a:xfrm flipH="1" flipV="1" rot="3699000">
                    <a:off x="8450280" y="59979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0" name=""/>
                  <p:cNvSpPr/>
                  <p:nvPr/>
                </p:nvSpPr>
                <p:spPr>
                  <a:xfrm flipH="1" flipV="1" rot="3699000">
                    <a:off x="8371440" y="59475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1" name=""/>
                  <p:cNvSpPr/>
                  <p:nvPr/>
                </p:nvSpPr>
                <p:spPr>
                  <a:xfrm flipH="1" flipV="1" rot="3699000">
                    <a:off x="8372880" y="58539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32" name=""/>
                <p:cNvGrpSpPr/>
                <p:nvPr/>
              </p:nvGrpSpPr>
              <p:grpSpPr>
                <a:xfrm>
                  <a:off x="8505720" y="5861880"/>
                  <a:ext cx="113400" cy="178560"/>
                  <a:chOff x="8505720" y="5861880"/>
                  <a:chExt cx="113400" cy="178560"/>
                </a:xfrm>
              </p:grpSpPr>
              <p:sp>
                <p:nvSpPr>
                  <p:cNvPr id="2833" name=""/>
                  <p:cNvSpPr/>
                  <p:nvPr/>
                </p:nvSpPr>
                <p:spPr>
                  <a:xfrm flipH="1" flipV="1" rot="3699000">
                    <a:off x="8588520" y="59173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4" name=""/>
                  <p:cNvSpPr/>
                  <p:nvPr/>
                </p:nvSpPr>
                <p:spPr>
                  <a:xfrm flipH="1" flipV="1" rot="3699000">
                    <a:off x="8587080" y="60109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5" name=""/>
                  <p:cNvSpPr/>
                  <p:nvPr/>
                </p:nvSpPr>
                <p:spPr>
                  <a:xfrm flipH="1" flipV="1" rot="3699000">
                    <a:off x="8507880" y="59605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6" name=""/>
                  <p:cNvSpPr/>
                  <p:nvPr/>
                </p:nvSpPr>
                <p:spPr>
                  <a:xfrm flipH="1" flipV="1" rot="3699000">
                    <a:off x="8509320" y="58669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37" name=""/>
                <p:cNvGrpSpPr/>
                <p:nvPr/>
              </p:nvGrpSpPr>
              <p:grpSpPr>
                <a:xfrm>
                  <a:off x="8381880" y="5712480"/>
                  <a:ext cx="113400" cy="178200"/>
                  <a:chOff x="8381880" y="5712480"/>
                  <a:chExt cx="113400" cy="178200"/>
                </a:xfrm>
              </p:grpSpPr>
              <p:sp>
                <p:nvSpPr>
                  <p:cNvPr id="2838" name=""/>
                  <p:cNvSpPr/>
                  <p:nvPr/>
                </p:nvSpPr>
                <p:spPr>
                  <a:xfrm flipH="1" flipV="1" rot="3699000">
                    <a:off x="8464680" y="57675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9" name=""/>
                  <p:cNvSpPr/>
                  <p:nvPr/>
                </p:nvSpPr>
                <p:spPr>
                  <a:xfrm flipH="1" flipV="1" rot="3699000">
                    <a:off x="8463240" y="58611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0" name=""/>
                  <p:cNvSpPr/>
                  <p:nvPr/>
                </p:nvSpPr>
                <p:spPr>
                  <a:xfrm flipH="1" flipV="1" rot="3699000">
                    <a:off x="8384040" y="58111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1" name=""/>
                  <p:cNvSpPr/>
                  <p:nvPr/>
                </p:nvSpPr>
                <p:spPr>
                  <a:xfrm flipH="1" flipV="1" rot="3699000">
                    <a:off x="8385480" y="57175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42" name=""/>
                <p:cNvGrpSpPr/>
                <p:nvPr/>
              </p:nvGrpSpPr>
              <p:grpSpPr>
                <a:xfrm>
                  <a:off x="8402400" y="5830920"/>
                  <a:ext cx="113400" cy="178560"/>
                  <a:chOff x="8402400" y="5830920"/>
                  <a:chExt cx="113400" cy="178560"/>
                </a:xfrm>
              </p:grpSpPr>
              <p:sp>
                <p:nvSpPr>
                  <p:cNvPr id="2843" name=""/>
                  <p:cNvSpPr/>
                  <p:nvPr/>
                </p:nvSpPr>
                <p:spPr>
                  <a:xfrm flipH="1" flipV="1" rot="3699000">
                    <a:off x="8485200" y="58863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4" name=""/>
                  <p:cNvSpPr/>
                  <p:nvPr/>
                </p:nvSpPr>
                <p:spPr>
                  <a:xfrm flipH="1" flipV="1" rot="3699000">
                    <a:off x="8483760" y="59799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5" name=""/>
                  <p:cNvSpPr/>
                  <p:nvPr/>
                </p:nvSpPr>
                <p:spPr>
                  <a:xfrm flipH="1" flipV="1" rot="3699000">
                    <a:off x="8404560" y="59295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6" name=""/>
                  <p:cNvSpPr/>
                  <p:nvPr/>
                </p:nvSpPr>
                <p:spPr>
                  <a:xfrm flipH="1" flipV="1" rot="3699000">
                    <a:off x="8406000" y="58359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47" name=""/>
                <p:cNvGrpSpPr/>
                <p:nvPr/>
              </p:nvGrpSpPr>
              <p:grpSpPr>
                <a:xfrm>
                  <a:off x="8606520" y="5807520"/>
                  <a:ext cx="113400" cy="178560"/>
                  <a:chOff x="8606520" y="5807520"/>
                  <a:chExt cx="113400" cy="178560"/>
                </a:xfrm>
              </p:grpSpPr>
              <p:sp>
                <p:nvSpPr>
                  <p:cNvPr id="2848" name=""/>
                  <p:cNvSpPr/>
                  <p:nvPr/>
                </p:nvSpPr>
                <p:spPr>
                  <a:xfrm flipH="1" flipV="1" rot="3699000">
                    <a:off x="8689320" y="58629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9" name=""/>
                  <p:cNvSpPr/>
                  <p:nvPr/>
                </p:nvSpPr>
                <p:spPr>
                  <a:xfrm flipH="1" flipV="1" rot="3699000">
                    <a:off x="8687880" y="59565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0" name=""/>
                  <p:cNvSpPr/>
                  <p:nvPr/>
                </p:nvSpPr>
                <p:spPr>
                  <a:xfrm flipH="1" flipV="1" rot="3699000">
                    <a:off x="8608680" y="59061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1" name=""/>
                  <p:cNvSpPr/>
                  <p:nvPr/>
                </p:nvSpPr>
                <p:spPr>
                  <a:xfrm flipH="1" flipV="1" rot="3699000">
                    <a:off x="8610120" y="58125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2" name=""/>
                <p:cNvGrpSpPr/>
                <p:nvPr/>
              </p:nvGrpSpPr>
              <p:grpSpPr>
                <a:xfrm>
                  <a:off x="8430840" y="5642640"/>
                  <a:ext cx="113400" cy="178200"/>
                  <a:chOff x="8430840" y="5642640"/>
                  <a:chExt cx="113400" cy="178200"/>
                </a:xfrm>
              </p:grpSpPr>
              <p:sp>
                <p:nvSpPr>
                  <p:cNvPr id="2853" name=""/>
                  <p:cNvSpPr/>
                  <p:nvPr/>
                </p:nvSpPr>
                <p:spPr>
                  <a:xfrm flipH="1" flipV="1" rot="3699000">
                    <a:off x="8513640" y="56977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4" name=""/>
                  <p:cNvSpPr/>
                  <p:nvPr/>
                </p:nvSpPr>
                <p:spPr>
                  <a:xfrm flipH="1" flipV="1" rot="3699000">
                    <a:off x="8512200" y="57913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5" name=""/>
                  <p:cNvSpPr/>
                  <p:nvPr/>
                </p:nvSpPr>
                <p:spPr>
                  <a:xfrm flipH="1" flipV="1" rot="3699000">
                    <a:off x="8433000" y="57412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6" name=""/>
                  <p:cNvSpPr/>
                  <p:nvPr/>
                </p:nvSpPr>
                <p:spPr>
                  <a:xfrm flipH="1" flipV="1" rot="3699000">
                    <a:off x="8434440" y="56476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7" name=""/>
                <p:cNvGrpSpPr/>
                <p:nvPr/>
              </p:nvGrpSpPr>
              <p:grpSpPr>
                <a:xfrm>
                  <a:off x="8670960" y="5686200"/>
                  <a:ext cx="113040" cy="178560"/>
                  <a:chOff x="8670960" y="5686200"/>
                  <a:chExt cx="113040" cy="178560"/>
                </a:xfrm>
              </p:grpSpPr>
              <p:sp>
                <p:nvSpPr>
                  <p:cNvPr id="2858" name=""/>
                  <p:cNvSpPr/>
                  <p:nvPr/>
                </p:nvSpPr>
                <p:spPr>
                  <a:xfrm flipH="1" flipV="1" rot="3699000">
                    <a:off x="8753400" y="57412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9" name=""/>
                  <p:cNvSpPr/>
                  <p:nvPr/>
                </p:nvSpPr>
                <p:spPr>
                  <a:xfrm flipH="1" flipV="1" rot="3699000">
                    <a:off x="8751960" y="58352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0" name=""/>
                  <p:cNvSpPr/>
                  <p:nvPr/>
                </p:nvSpPr>
                <p:spPr>
                  <a:xfrm flipH="1" flipV="1" rot="3699000">
                    <a:off x="8673120" y="57848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1" name=""/>
                  <p:cNvSpPr/>
                  <p:nvPr/>
                </p:nvSpPr>
                <p:spPr>
                  <a:xfrm flipH="1" flipV="1" rot="3699000">
                    <a:off x="8674560" y="56912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62" name=""/>
              <p:cNvSpPr/>
              <p:nvPr/>
            </p:nvSpPr>
            <p:spPr>
              <a:xfrm rot="3699000">
                <a:off x="8411040" y="5746320"/>
                <a:ext cx="342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800" spc="-1" strike="noStrike">
                    <a:solidFill>
                      <a:srgbClr val="ffffff"/>
                    </a:solidFill>
                    <a:latin typeface="Times New Roman"/>
                  </a:rPr>
                  <a:t>N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63" name=""/>
          <p:cNvGrpSpPr/>
          <p:nvPr/>
        </p:nvGrpSpPr>
        <p:grpSpPr>
          <a:xfrm>
            <a:off x="7718760" y="5990040"/>
            <a:ext cx="762840" cy="637200"/>
            <a:chOff x="7718760" y="5990040"/>
            <a:chExt cx="762840" cy="637200"/>
          </a:xfrm>
        </p:grpSpPr>
        <p:grpSp>
          <p:nvGrpSpPr>
            <p:cNvPr id="2864" name=""/>
            <p:cNvGrpSpPr/>
            <p:nvPr/>
          </p:nvGrpSpPr>
          <p:grpSpPr>
            <a:xfrm>
              <a:off x="7718760" y="6020640"/>
              <a:ext cx="282960" cy="262440"/>
              <a:chOff x="7718760" y="6020640"/>
              <a:chExt cx="282960" cy="262440"/>
            </a:xfrm>
          </p:grpSpPr>
          <p:sp>
            <p:nvSpPr>
              <p:cNvPr id="2865" name=""/>
              <p:cNvSpPr/>
              <p:nvPr/>
            </p:nvSpPr>
            <p:spPr>
              <a:xfrm rot="12308400">
                <a:off x="7852320" y="6221160"/>
                <a:ext cx="135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 rot="10690200">
                <a:off x="7719120" y="621540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 rot="12308400">
                <a:off x="7868520" y="6183720"/>
                <a:ext cx="135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 rot="13331400">
                <a:off x="7774920" y="609516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 rot="13331400">
                <a:off x="7801920" y="606348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 rot="10690200">
                <a:off x="7722000" y="6260760"/>
                <a:ext cx="13392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1" name=""/>
            <p:cNvGrpSpPr/>
            <p:nvPr/>
          </p:nvGrpSpPr>
          <p:grpSpPr>
            <a:xfrm>
              <a:off x="7844400" y="5990040"/>
              <a:ext cx="637200" cy="637200"/>
              <a:chOff x="7844400" y="5990040"/>
              <a:chExt cx="637200" cy="637200"/>
            </a:xfrm>
          </p:grpSpPr>
          <p:grpSp>
            <p:nvGrpSpPr>
              <p:cNvPr id="2872" name=""/>
              <p:cNvGrpSpPr/>
              <p:nvPr/>
            </p:nvGrpSpPr>
            <p:grpSpPr>
              <a:xfrm>
                <a:off x="7844400" y="5990040"/>
                <a:ext cx="637200" cy="637200"/>
                <a:chOff x="7844400" y="5990040"/>
                <a:chExt cx="637200" cy="637200"/>
              </a:xfrm>
            </p:grpSpPr>
            <p:sp>
              <p:nvSpPr>
                <p:cNvPr id="2873" name=""/>
                <p:cNvSpPr/>
                <p:nvPr/>
              </p:nvSpPr>
              <p:spPr>
                <a:xfrm rot="18318600">
                  <a:off x="7934400" y="6079680"/>
                  <a:ext cx="457200" cy="457200"/>
                </a:xfrm>
                <a:prstGeom prst="ellipse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 rot="18318600">
                  <a:off x="7964640" y="6141600"/>
                  <a:ext cx="342720" cy="34272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75" name=""/>
                <p:cNvGrpSpPr/>
                <p:nvPr/>
              </p:nvGrpSpPr>
              <p:grpSpPr>
                <a:xfrm>
                  <a:off x="8248680" y="6308280"/>
                  <a:ext cx="128520" cy="168120"/>
                  <a:chOff x="8248680" y="6308280"/>
                  <a:chExt cx="128520" cy="168120"/>
                </a:xfrm>
              </p:grpSpPr>
              <p:sp>
                <p:nvSpPr>
                  <p:cNvPr id="2876" name=""/>
                  <p:cNvSpPr/>
                  <p:nvPr/>
                </p:nvSpPr>
                <p:spPr>
                  <a:xfrm flipH="1" flipV="1" rot="18318600">
                    <a:off x="8261640" y="63540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7" name=""/>
                  <p:cNvSpPr/>
                  <p:nvPr/>
                </p:nvSpPr>
                <p:spPr>
                  <a:xfrm flipH="1" flipV="1" rot="18318600">
                    <a:off x="8345880" y="63140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8" name=""/>
                  <p:cNvSpPr/>
                  <p:nvPr/>
                </p:nvSpPr>
                <p:spPr>
                  <a:xfrm flipH="1" flipV="1" rot="18318600">
                    <a:off x="8336160" y="64069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9" name=""/>
                  <p:cNvSpPr/>
                  <p:nvPr/>
                </p:nvSpPr>
                <p:spPr>
                  <a:xfrm flipH="1" flipV="1" rot="18318600">
                    <a:off x="8251560" y="64472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0" name=""/>
                <p:cNvGrpSpPr/>
                <p:nvPr/>
              </p:nvGrpSpPr>
              <p:grpSpPr>
                <a:xfrm>
                  <a:off x="8199720" y="6179760"/>
                  <a:ext cx="128520" cy="168480"/>
                  <a:chOff x="8199720" y="6179760"/>
                  <a:chExt cx="128520" cy="168480"/>
                </a:xfrm>
              </p:grpSpPr>
              <p:sp>
                <p:nvSpPr>
                  <p:cNvPr id="2881" name=""/>
                  <p:cNvSpPr/>
                  <p:nvPr/>
                </p:nvSpPr>
                <p:spPr>
                  <a:xfrm flipH="1" flipV="1" rot="18318600">
                    <a:off x="8212320" y="62258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2" name=""/>
                  <p:cNvSpPr/>
                  <p:nvPr/>
                </p:nvSpPr>
                <p:spPr>
                  <a:xfrm flipH="1" flipV="1" rot="18318600">
                    <a:off x="8296920" y="61855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3" name=""/>
                  <p:cNvSpPr/>
                  <p:nvPr/>
                </p:nvSpPr>
                <p:spPr>
                  <a:xfrm flipH="1" flipV="1" rot="18318600">
                    <a:off x="8287200" y="62787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4" name=""/>
                  <p:cNvSpPr/>
                  <p:nvPr/>
                </p:nvSpPr>
                <p:spPr>
                  <a:xfrm flipH="1" flipV="1" rot="18318600">
                    <a:off x="8202600" y="63190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5" name=""/>
                <p:cNvGrpSpPr/>
                <p:nvPr/>
              </p:nvGrpSpPr>
              <p:grpSpPr>
                <a:xfrm>
                  <a:off x="8120880" y="6357240"/>
                  <a:ext cx="128520" cy="168480"/>
                  <a:chOff x="8120880" y="6357240"/>
                  <a:chExt cx="128520" cy="168480"/>
                </a:xfrm>
              </p:grpSpPr>
              <p:sp>
                <p:nvSpPr>
                  <p:cNvPr id="2886" name=""/>
                  <p:cNvSpPr/>
                  <p:nvPr/>
                </p:nvSpPr>
                <p:spPr>
                  <a:xfrm flipH="1" flipV="1" rot="18318600">
                    <a:off x="8133480" y="64033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7" name=""/>
                  <p:cNvSpPr/>
                  <p:nvPr/>
                </p:nvSpPr>
                <p:spPr>
                  <a:xfrm flipH="1" flipV="1" rot="18318600">
                    <a:off x="8218080" y="63630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8" name=""/>
                  <p:cNvSpPr/>
                  <p:nvPr/>
                </p:nvSpPr>
                <p:spPr>
                  <a:xfrm flipH="1" flipV="1" rot="18318600">
                    <a:off x="8208000" y="64562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9" name=""/>
                  <p:cNvSpPr/>
                  <p:nvPr/>
                </p:nvSpPr>
                <p:spPr>
                  <a:xfrm flipH="1" flipV="1" rot="18318600">
                    <a:off x="8123760" y="64965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90" name=""/>
                <p:cNvGrpSpPr/>
                <p:nvPr/>
              </p:nvGrpSpPr>
              <p:grpSpPr>
                <a:xfrm>
                  <a:off x="8217720" y="6286320"/>
                  <a:ext cx="128880" cy="168120"/>
                  <a:chOff x="8217720" y="6286320"/>
                  <a:chExt cx="128880" cy="168120"/>
                </a:xfrm>
              </p:grpSpPr>
              <p:sp>
                <p:nvSpPr>
                  <p:cNvPr id="2891" name=""/>
                  <p:cNvSpPr/>
                  <p:nvPr/>
                </p:nvSpPr>
                <p:spPr>
                  <a:xfrm flipH="1" flipV="1" rot="18318600">
                    <a:off x="8230680" y="63324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2" name=""/>
                  <p:cNvSpPr/>
                  <p:nvPr/>
                </p:nvSpPr>
                <p:spPr>
                  <a:xfrm flipH="1" flipV="1" rot="18318600">
                    <a:off x="8315280" y="62920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3" name=""/>
                  <p:cNvSpPr/>
                  <p:nvPr/>
                </p:nvSpPr>
                <p:spPr>
                  <a:xfrm flipH="1" flipV="1" rot="18318600">
                    <a:off x="8305200" y="63853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4" name=""/>
                  <p:cNvSpPr/>
                  <p:nvPr/>
                </p:nvSpPr>
                <p:spPr>
                  <a:xfrm flipH="1" flipV="1" rot="18318600">
                    <a:off x="8220600" y="64252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95" name=""/>
                <p:cNvGrpSpPr/>
                <p:nvPr/>
              </p:nvGrpSpPr>
              <p:grpSpPr>
                <a:xfrm>
                  <a:off x="8106120" y="6113880"/>
                  <a:ext cx="128880" cy="168120"/>
                  <a:chOff x="8106120" y="6113880"/>
                  <a:chExt cx="128880" cy="168120"/>
                </a:xfrm>
              </p:grpSpPr>
              <p:sp>
                <p:nvSpPr>
                  <p:cNvPr id="2896" name=""/>
                  <p:cNvSpPr/>
                  <p:nvPr/>
                </p:nvSpPr>
                <p:spPr>
                  <a:xfrm flipH="1" flipV="1" rot="18318600">
                    <a:off x="8119080" y="61596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7" name=""/>
                  <p:cNvSpPr/>
                  <p:nvPr/>
                </p:nvSpPr>
                <p:spPr>
                  <a:xfrm flipH="1" flipV="1" rot="18318600">
                    <a:off x="8203680" y="61196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8" name=""/>
                  <p:cNvSpPr/>
                  <p:nvPr/>
                </p:nvSpPr>
                <p:spPr>
                  <a:xfrm flipH="1" flipV="1" rot="18318600">
                    <a:off x="8193600" y="62125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9" name=""/>
                  <p:cNvSpPr/>
                  <p:nvPr/>
                </p:nvSpPr>
                <p:spPr>
                  <a:xfrm flipH="1" flipV="1" rot="18318600">
                    <a:off x="8109000" y="62528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00" name=""/>
                <p:cNvGrpSpPr/>
                <p:nvPr/>
              </p:nvGrpSpPr>
              <p:grpSpPr>
                <a:xfrm>
                  <a:off x="8036280" y="6344280"/>
                  <a:ext cx="128880" cy="168480"/>
                  <a:chOff x="8036280" y="6344280"/>
                  <a:chExt cx="128880" cy="168480"/>
                </a:xfrm>
              </p:grpSpPr>
              <p:sp>
                <p:nvSpPr>
                  <p:cNvPr id="2901" name=""/>
                  <p:cNvSpPr/>
                  <p:nvPr/>
                </p:nvSpPr>
                <p:spPr>
                  <a:xfrm flipH="1" flipV="1" rot="18318600">
                    <a:off x="8049240" y="63903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2" name=""/>
                  <p:cNvSpPr/>
                  <p:nvPr/>
                </p:nvSpPr>
                <p:spPr>
                  <a:xfrm flipH="1" flipV="1" rot="18318600">
                    <a:off x="8133840" y="63500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3" name=""/>
                  <p:cNvSpPr/>
                  <p:nvPr/>
                </p:nvSpPr>
                <p:spPr>
                  <a:xfrm flipH="1" flipV="1" rot="18318600">
                    <a:off x="8123760" y="64432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4" name=""/>
                  <p:cNvSpPr/>
                  <p:nvPr/>
                </p:nvSpPr>
                <p:spPr>
                  <a:xfrm flipH="1" flipV="1" rot="18318600">
                    <a:off x="8039160" y="64836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05" name=""/>
                <p:cNvGrpSpPr/>
                <p:nvPr/>
              </p:nvGrpSpPr>
              <p:grpSpPr>
                <a:xfrm>
                  <a:off x="7968960" y="6109920"/>
                  <a:ext cx="128880" cy="168480"/>
                  <a:chOff x="7968960" y="6109920"/>
                  <a:chExt cx="128880" cy="168480"/>
                </a:xfrm>
              </p:grpSpPr>
              <p:sp>
                <p:nvSpPr>
                  <p:cNvPr id="2906" name=""/>
                  <p:cNvSpPr/>
                  <p:nvPr/>
                </p:nvSpPr>
                <p:spPr>
                  <a:xfrm flipH="1" flipV="1" rot="18318600">
                    <a:off x="7981920" y="61560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7" name=""/>
                  <p:cNvSpPr/>
                  <p:nvPr/>
                </p:nvSpPr>
                <p:spPr>
                  <a:xfrm flipH="1" flipV="1" rot="18318600">
                    <a:off x="8066520" y="61156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8" name=""/>
                  <p:cNvSpPr/>
                  <p:nvPr/>
                </p:nvSpPr>
                <p:spPr>
                  <a:xfrm flipH="1" flipV="1" rot="18318600">
                    <a:off x="8056440" y="62089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9" name=""/>
                  <p:cNvSpPr/>
                  <p:nvPr/>
                </p:nvSpPr>
                <p:spPr>
                  <a:xfrm flipH="1" flipV="1" rot="18318600">
                    <a:off x="7971840" y="62492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910" name=""/>
              <p:cNvSpPr/>
              <p:nvPr/>
            </p:nvSpPr>
            <p:spPr>
              <a:xfrm rot="18318600">
                <a:off x="7997040" y="6181200"/>
                <a:ext cx="342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800" spc="-1" strike="noStrike">
                    <a:solidFill>
                      <a:srgbClr val="ffffff"/>
                    </a:solidFill>
                    <a:latin typeface="Times New Roman"/>
                  </a:rPr>
                  <a:t>N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11" name=""/>
          <p:cNvSpPr/>
          <p:nvPr/>
        </p:nvSpPr>
        <p:spPr>
          <a:xfrm>
            <a:off x="390600" y="5878440"/>
            <a:ext cx="298440" cy="198360"/>
          </a:xfrm>
          <a:prstGeom prst="ellipse">
            <a:avLst/>
          </a:prstGeom>
          <a:solidFill>
            <a:srgbClr val="ca7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2182680" y="5878440"/>
            <a:ext cx="300240" cy="198360"/>
          </a:xfrm>
          <a:prstGeom prst="ellipse">
            <a:avLst/>
          </a:prstGeom>
          <a:solidFill>
            <a:srgbClr val="ca7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3" name=""/>
          <p:cNvGraphicFramePr/>
          <p:nvPr/>
        </p:nvGraphicFramePr>
        <p:xfrm>
          <a:off x="76320" y="444600"/>
          <a:ext cx="101916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44600"/>
                    <a:ext cx="10191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5" name=""/>
          <p:cNvGraphicFramePr/>
          <p:nvPr/>
        </p:nvGraphicFramePr>
        <p:xfrm>
          <a:off x="50760" y="457200"/>
          <a:ext cx="104796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0" y="457200"/>
                    <a:ext cx="10479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7" name=""/>
          <p:cNvGraphicFramePr/>
          <p:nvPr/>
        </p:nvGraphicFramePr>
        <p:xfrm>
          <a:off x="3295800" y="1905120"/>
          <a:ext cx="1047600" cy="297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95800" y="1905120"/>
                    <a:ext cx="10476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9" name=""/>
          <p:cNvGraphicFramePr/>
          <p:nvPr/>
        </p:nvGraphicFramePr>
        <p:xfrm>
          <a:off x="3289320" y="1905120"/>
          <a:ext cx="1104840" cy="2971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89320" y="1905120"/>
                    <a:ext cx="11048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1" name=""/>
          <p:cNvGraphicFramePr/>
          <p:nvPr/>
        </p:nvGraphicFramePr>
        <p:xfrm>
          <a:off x="6515280" y="3429000"/>
          <a:ext cx="1104840" cy="2971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15280" y="3429000"/>
                    <a:ext cx="11048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3" name=""/>
          <p:cNvGraphicFramePr/>
          <p:nvPr/>
        </p:nvGraphicFramePr>
        <p:xfrm>
          <a:off x="6492960" y="3403440"/>
          <a:ext cx="1127160" cy="3048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2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92960" y="3403440"/>
                    <a:ext cx="112716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5" name=""/>
          <p:cNvGraphicFramePr/>
          <p:nvPr/>
        </p:nvGraphicFramePr>
        <p:xfrm>
          <a:off x="7594560" y="114480"/>
          <a:ext cx="1200240" cy="1028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2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94560" y="114480"/>
                    <a:ext cx="120024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7" name=""/>
          <p:cNvSpPr/>
          <p:nvPr/>
        </p:nvSpPr>
        <p:spPr>
          <a:xfrm>
            <a:off x="1523880" y="5335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99"/>
                </a:solidFill>
                <a:latin typeface="Times New Roman"/>
              </a:rPr>
              <a:t>Partículas vi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1852560" y="1523880"/>
            <a:ext cx="104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5400"/>
                </a:solidFill>
                <a:latin typeface="Times New Roman"/>
              </a:rPr>
              <a:t>Interferón tipo I (</a:t>
            </a:r>
            <a:r>
              <a:rPr b="1" lang="es-CL" sz="1200" spc="-1" strike="noStrike">
                <a:solidFill>
                  <a:srgbClr val="005400"/>
                </a:solidFill>
                <a:latin typeface="Symbol"/>
                <a:ea typeface="Symbol"/>
              </a:rPr>
              <a:t></a:t>
            </a:r>
            <a:r>
              <a:rPr b="1" lang="es-CL" sz="1200" spc="-1" strike="noStrike">
                <a:solidFill>
                  <a:srgbClr val="005400"/>
                </a:solidFill>
                <a:latin typeface="Times New Roman"/>
              </a:rPr>
              <a:t> y </a:t>
            </a:r>
            <a:r>
              <a:rPr b="1" lang="es-CL" sz="1200" spc="-1" strike="noStrike">
                <a:solidFill>
                  <a:srgbClr val="005400"/>
                </a:solidFill>
                <a:latin typeface="Symbol"/>
                <a:ea typeface="Symbol"/>
              </a:rPr>
              <a:t></a:t>
            </a:r>
            <a:r>
              <a:rPr b="1" lang="es-CL" sz="1200" spc="-1" strike="noStrike">
                <a:solidFill>
                  <a:srgbClr val="0054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762120" y="2286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Anticuerpos (Ig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380880" y="525780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Adquisición resistencia antivi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1905120" y="24861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Células 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3657600" y="15238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Anticuerpos (Ig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5029200" y="19810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Anticuerpos (Ig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5867280" y="54936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anticuerpos protec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7162920" y="137160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anticuerpos no protec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556272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CL" sz="1200" spc="-1" strike="noStrike" baseline="-25000">
                <a:solidFill>
                  <a:srgbClr val="000000"/>
                </a:solidFill>
                <a:latin typeface="Times New Roman"/>
              </a:rPr>
              <a:t>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4724280" y="44956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células fagocít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7772400" y="424332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linfocitos T citotóx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7848720" y="5518080"/>
            <a:ext cx="121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élulas NK activadas por citoqui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5029200" y="579132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itotoxicidad celular dependiente de anticuerpos (ADC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8" dur="indefinite" restart="never" nodeType="tmRoot">
          <p:childTnLst>
            <p:seq>
              <p:cTn id="2559" dur="indefinite" nodeType="mainSeq">
                <p:childTnLst>
                  <p:par>
                    <p:cTn id="2560" fill="hold">
                      <p:stCondLst>
                        <p:cond delay="0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4" dur="500"/>
                                        <p:tgtEl>
                                          <p:spTgt spid="2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8" dur="500"/>
                                        <p:tgtEl>
                                          <p:spTgt spid="2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2" dur="500" fill="hold"/>
                                        <p:tgtEl>
                                          <p:spTgt spid="2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3" dur="500" fill="hold"/>
                                        <p:tgtEl>
                                          <p:spTgt spid="2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7" dur="500"/>
                                        <p:tgtEl>
                                          <p:spTgt spid="2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7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9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2" dur="500"/>
                                        <p:tgtEl>
                                          <p:spTgt spid="2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7" dur="500"/>
                                        <p:tgtEl>
                                          <p:spTgt spid="2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8" fill="hold">
                            <p:stCondLst>
                              <p:cond delay="500"/>
                            </p:stCondLst>
                            <p:childTnLst>
                              <p:par>
                                <p:cTn id="2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1" dur="500"/>
                                        <p:tgtEl>
                                          <p:spTgt spid="2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5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9" dur="500" fill="hold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0" dur="500" fill="hold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1" fill="hold">
                      <p:stCondLst>
                        <p:cond delay="indefinite"/>
                      </p:stCondLst>
                      <p:childTnLst>
                        <p:par>
                          <p:cTn id="2602" fill="hold">
                            <p:stCondLst>
                              <p:cond delay="0"/>
                            </p:stCondLst>
                            <p:childTnLst>
                              <p:par>
                                <p:cTn id="2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5" dur="5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07" fill="hold">
                            <p:stCondLst>
                              <p:cond delay="500"/>
                            </p:stCondLst>
                            <p:childTnLst>
                              <p:par>
                                <p:cTn id="26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0" dur="5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4" dur="5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8" dur="500" fill="hold"/>
                                        <p:tgtEl>
                                          <p:spTgt spid="2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9" dur="500" fill="hold"/>
                                        <p:tgtEl>
                                          <p:spTgt spid="2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4" dur="5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26" fill="hold">
                            <p:stCondLst>
                              <p:cond delay="500"/>
                            </p:stCondLst>
                            <p:childTnLst>
                              <p:par>
                                <p:cTn id="2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9" dur="5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3" dur="500"/>
                                        <p:tgtEl>
                                          <p:spTgt spid="2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4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7" dur="500"/>
                                        <p:tgtEl>
                                          <p:spTgt spid="2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1" fill="hold">
                            <p:stCondLst>
                              <p:cond delay="3500"/>
                            </p:stCondLst>
                            <p:childTnLst>
                              <p:par>
                                <p:cTn id="26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7" fill="hold">
                            <p:stCondLst>
                              <p:cond delay="4500"/>
                            </p:stCondLst>
                            <p:childTnLst>
                              <p:par>
                                <p:cTn id="26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0" fill="hold">
                            <p:stCondLst>
                              <p:cond delay="5000"/>
                            </p:stCondLst>
                            <p:childTnLst>
                              <p:par>
                                <p:cTn id="26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3" fill="hold">
                            <p:stCondLst>
                              <p:cond delay="5500"/>
                            </p:stCondLst>
                            <p:childTnLst>
                              <p:par>
                                <p:cTn id="26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6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9" dur="500"/>
                                        <p:tgtEl>
                                          <p:spTgt spid="2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0" fill="hold">
                            <p:stCondLst>
                              <p:cond delay="6500"/>
                            </p:stCondLst>
                            <p:childTnLst>
                              <p:par>
                                <p:cTn id="26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6" fill="hold">
                            <p:stCondLst>
                              <p:cond delay="7500"/>
                            </p:stCondLst>
                            <p:childTnLst>
                              <p:par>
                                <p:cTn id="26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9" fill="hold">
                            <p:stCondLst>
                              <p:cond delay="8000"/>
                            </p:stCondLst>
                            <p:childTnLst>
                              <p:par>
                                <p:cTn id="267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2" dur="5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3" dur="5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4" fill="hold">
                            <p:stCondLst>
                              <p:cond delay="8500"/>
                            </p:stCondLst>
                            <p:childTnLst>
                              <p:par>
                                <p:cTn id="26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78" fill="hold">
                      <p:stCondLst>
                        <p:cond delay="indefinite"/>
                      </p:stCondLst>
                      <p:childTnLst>
                        <p:par>
                          <p:cTn id="2679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2" dur="500"/>
                                        <p:tgtEl>
                                          <p:spTgt spid="2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3" fill="hold">
                            <p:stCondLst>
                              <p:cond delay="500"/>
                            </p:stCondLst>
                            <p:childTnLst>
                              <p:par>
                                <p:cTn id="26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6" dur="500"/>
                                        <p:tgtEl>
                                          <p:spTgt spid="2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0" dur="500"/>
                                        <p:tgtEl>
                                          <p:spTgt spid="2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4" dur="500" fill="hold"/>
                                        <p:tgtEl>
                                          <p:spTgt spid="2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5" dur="500" fill="hold"/>
                                        <p:tgtEl>
                                          <p:spTgt spid="2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6" fill="hold">
                      <p:stCondLst>
                        <p:cond delay="indefinite"/>
                      </p:stCondLst>
                      <p:childTnLst>
                        <p:par>
                          <p:cTn id="2697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0" dur="500"/>
                                        <p:tgtEl>
                                          <p:spTgt spid="2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02" fill="hold">
                            <p:stCondLst>
                              <p:cond delay="500"/>
                            </p:stCondLst>
                            <p:childTnLst>
                              <p:par>
                                <p:cTn id="27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5" dur="500"/>
                                        <p:tgtEl>
                                          <p:spTgt spid="2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0" dur="500"/>
                                        <p:tgtEl>
                                          <p:spTgt spid="2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1" fill="hold">
                            <p:stCondLst>
                              <p:cond delay="500"/>
                            </p:stCondLst>
                            <p:childTnLst>
                              <p:par>
                                <p:cTn id="2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4" dur="500"/>
                                        <p:tgtEl>
                                          <p:spTgt spid="2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8" dur="500"/>
                                        <p:tgtEl>
                                          <p:spTgt spid="2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2" dur="500" fill="hold"/>
                                        <p:tgtEl>
                                          <p:spTgt spid="2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3" dur="500" fill="hold"/>
                                        <p:tgtEl>
                                          <p:spTgt spid="2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7" dur="500"/>
                                        <p:tgtEl>
                                          <p:spTgt spid="2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2" dur="500"/>
                                        <p:tgtEl>
                                          <p:spTgt spid="2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6" dur="5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7" dur="5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8" fill="hold">
                      <p:stCondLst>
                        <p:cond delay="indefinite"/>
                      </p:stCondLst>
                      <p:childTnLst>
                        <p:par>
                          <p:cTn id="2739" fill="hold">
                            <p:stCondLst>
                              <p:cond delay="0"/>
                            </p:stCondLst>
                            <p:childTnLst>
                              <p:par>
                                <p:cTn id="27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2" dur="500" fill="hold"/>
                                        <p:tgtEl>
                                          <p:spTgt spid="2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3" dur="500" fill="hold"/>
                                        <p:tgtEl>
                                          <p:spTgt spid="2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4" dur="500" fill="hold"/>
                                        <p:tgtEl>
                                          <p:spTgt spid="2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5" dur="500" fill="hold"/>
                                        <p:tgtEl>
                                          <p:spTgt spid="2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47" fill="hold">
                      <p:stCondLst>
                        <p:cond delay="indefinite"/>
                      </p:stCondLst>
                      <p:childTnLst>
                        <p:par>
                          <p:cTn id="2748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1" dur="500" fill="hold"/>
                                        <p:tgtEl>
                                          <p:spTgt spid="2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2" dur="500" fill="hold"/>
                                        <p:tgtEl>
                                          <p:spTgt spid="2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3" fill="hold">
                            <p:stCondLst>
                              <p:cond delay="500"/>
                            </p:stCondLst>
                            <p:childTnLst>
                              <p:par>
                                <p:cTn id="275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6" dur="500" fill="hold"/>
                                        <p:tgtEl>
                                          <p:spTgt spid="2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7" dur="500" fill="hold"/>
                                        <p:tgtEl>
                                          <p:spTgt spid="2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8" fill="hold">
                      <p:stCondLst>
                        <p:cond delay="indefinite"/>
                      </p:stCondLst>
                      <p:childTnLst>
                        <p:par>
                          <p:cTn id="2759" fill="hold">
                            <p:stCondLst>
                              <p:cond delay="0"/>
                            </p:stCondLst>
                            <p:childTnLst>
                              <p:par>
                                <p:cTn id="276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2" dur="500" fill="hold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3" dur="500" fill="hold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6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8" dur="500" fill="hold"/>
                                        <p:tgtEl>
                                          <p:spTgt spid="2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9" dur="500" fill="hold"/>
                                        <p:tgtEl>
                                          <p:spTgt spid="2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3" dur="500" fill="hold"/>
                                        <p:tgtEl>
                                          <p:spTgt spid="2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4" dur="500" fill="hold"/>
                                        <p:tgtEl>
                                          <p:spTgt spid="2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5" fill="hold">
                      <p:stCondLst>
                        <p:cond delay="indefinite"/>
                      </p:stCondLst>
                      <p:childTnLst>
                        <p:par>
                          <p:cTn id="2776" fill="hold">
                            <p:stCondLst>
                              <p:cond delay="0"/>
                            </p:stCondLst>
                            <p:childTnLst>
                              <p:par>
                                <p:cTn id="2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9" dur="500"/>
                                        <p:tgtEl>
                                          <p:spTgt spid="2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81" fill="hold">
                            <p:stCondLst>
                              <p:cond delay="500"/>
                            </p:stCondLst>
                            <p:childTnLst>
                              <p:par>
                                <p:cTn id="27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4" dur="500"/>
                                        <p:tgtEl>
                                          <p:spTgt spid="2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8" dur="500"/>
                                        <p:tgtEl>
                                          <p:spTgt spid="2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2" dur="500" fill="hold"/>
                                        <p:tgtEl>
                                          <p:spTgt spid="2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3" dur="500" fill="hold"/>
                                        <p:tgtEl>
                                          <p:spTgt spid="2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8" dur="500"/>
                                        <p:tgtEl>
                                          <p:spTgt spid="2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00" fill="hold">
                            <p:stCondLst>
                              <p:cond delay="500"/>
                            </p:stCondLst>
                            <p:childTnLst>
                              <p:par>
                                <p:cTn id="28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3" dur="500"/>
                                        <p:tgtEl>
                                          <p:spTgt spid="2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7" dur="5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1" dur="500" fill="hold"/>
                                        <p:tgtEl>
                                          <p:spTgt spid="2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2" dur="500" fill="hold"/>
                                        <p:tgtEl>
                                          <p:spTgt spid="2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3" fill="hold">
                      <p:stCondLst>
                        <p:cond delay="indefinite"/>
                      </p:stCondLst>
                      <p:childTnLst>
                        <p:par>
                          <p:cTn id="2814" fill="hold">
                            <p:stCondLst>
                              <p:cond delay="0"/>
                            </p:stCondLst>
                            <p:childTnLst>
                              <p:par>
                                <p:cTn id="28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7" dur="500"/>
                                        <p:tgtEl>
                                          <p:spTgt spid="2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19" fill="hold">
                            <p:stCondLst>
                              <p:cond delay="500"/>
                            </p:stCondLst>
                            <p:childTnLst>
                              <p:par>
                                <p:cTn id="28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2" dur="500"/>
                                        <p:tgtEl>
                                          <p:spTgt spid="2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3" fill="hold">
                      <p:stCondLst>
                        <p:cond delay="indefinite"/>
                      </p:stCondLst>
                      <p:childTnLst>
                        <p:par>
                          <p:cTn id="2824" fill="hold">
                            <p:stCondLst>
                              <p:cond delay="0"/>
                            </p:stCondLst>
                            <p:childTnLst>
                              <p:par>
                                <p:cTn id="2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7" dur="500"/>
                                        <p:tgtEl>
                                          <p:spTgt spid="2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8" fill="hold">
                            <p:stCondLst>
                              <p:cond delay="500"/>
                            </p:stCondLst>
                            <p:childTnLst>
                              <p:par>
                                <p:cTn id="28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1" dur="500"/>
                                        <p:tgtEl>
                                          <p:spTgt spid="2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5" dur="500"/>
                                        <p:tgtEl>
                                          <p:spTgt spid="2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9" dur="500" fill="hold"/>
                                        <p:tgtEl>
                                          <p:spTgt spid="2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0" dur="500" fill="hold"/>
                                        <p:tgtEl>
                                          <p:spTgt spid="2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1" fill="hold">
                      <p:stCondLst>
                        <p:cond delay="indefinite"/>
                      </p:stCondLst>
                      <p:childTnLst>
                        <p:par>
                          <p:cTn id="2842" fill="hold">
                            <p:stCondLst>
                              <p:cond delay="0"/>
                            </p:stCondLst>
                            <p:childTnLst>
                              <p:par>
                                <p:cTn id="2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5" dur="500"/>
                                        <p:tgtEl>
                                          <p:spTgt spid="2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47" fill="hold">
                            <p:stCondLst>
                              <p:cond delay="500"/>
                            </p:stCondLst>
                            <p:childTnLst>
                              <p:par>
                                <p:cTn id="28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0" dur="500"/>
                                        <p:tgtEl>
                                          <p:spTgt spid="2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4" dur="500"/>
                                        <p:tgtEl>
                                          <p:spTgt spid="2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8" dur="500" fill="hold"/>
                                        <p:tgtEl>
                                          <p:spTgt spid="2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9" dur="500" fill="hold"/>
                                        <p:tgtEl>
                                          <p:spTgt spid="2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0" fill="hold">
                      <p:stCondLst>
                        <p:cond delay="indefinite"/>
                      </p:stCondLst>
                      <p:childTnLst>
                        <p:par>
                          <p:cTn id="2861" fill="hold">
                            <p:stCondLst>
                              <p:cond delay="0"/>
                            </p:stCondLst>
                            <p:childTnLst>
                              <p:par>
                                <p:cTn id="2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4" dur="500"/>
                                        <p:tgtEl>
                                          <p:spTgt spid="2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66" fill="hold">
                            <p:stCondLst>
                              <p:cond delay="500"/>
                            </p:stCondLst>
                            <p:childTnLst>
                              <p:par>
                                <p:cTn id="28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9" dur="500"/>
                                        <p:tgtEl>
                                          <p:spTgt spid="2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3" dur="500"/>
                                        <p:tgtEl>
                                          <p:spTgt spid="2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7" dur="500" fill="hold"/>
                                        <p:tgtEl>
                                          <p:spTgt spid="2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8" dur="500" fill="hold"/>
                                        <p:tgtEl>
                                          <p:spTgt spid="2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9" fill="hold">
                      <p:stCondLst>
                        <p:cond delay="indefinite"/>
                      </p:stCondLst>
                      <p:childTnLst>
                        <p:par>
                          <p:cTn id="288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81" dur="1" fill="hold"/>
                                  <p:tgtEl>
                                    <p:spTgt spid="29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e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"/>
          <p:cNvGrpSpPr/>
          <p:nvPr/>
        </p:nvGrpSpPr>
        <p:grpSpPr>
          <a:xfrm>
            <a:off x="-365760" y="1874160"/>
            <a:ext cx="4995000" cy="5079960"/>
            <a:chOff x="-365760" y="1874160"/>
            <a:chExt cx="4995000" cy="5079960"/>
          </a:xfrm>
        </p:grpSpPr>
        <p:sp>
          <p:nvSpPr>
            <p:cNvPr id="585" name=""/>
            <p:cNvSpPr/>
            <p:nvPr/>
          </p:nvSpPr>
          <p:spPr>
            <a:xfrm flipV="1" rot="13899000">
              <a:off x="208800" y="2750400"/>
              <a:ext cx="3845160" cy="332712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 rot="15842400">
              <a:off x="884520" y="3989880"/>
              <a:ext cx="1466640" cy="101124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3723480" y="4026600"/>
            <a:ext cx="635400" cy="807480"/>
            <a:chOff x="3723480" y="4026600"/>
            <a:chExt cx="635400" cy="807480"/>
          </a:xfrm>
        </p:grpSpPr>
        <p:grpSp>
          <p:nvGrpSpPr>
            <p:cNvPr id="588" name=""/>
            <p:cNvGrpSpPr/>
            <p:nvPr/>
          </p:nvGrpSpPr>
          <p:grpSpPr>
            <a:xfrm>
              <a:off x="3723480" y="4026600"/>
              <a:ext cx="567720" cy="807480"/>
              <a:chOff x="3723480" y="4026600"/>
              <a:chExt cx="567720" cy="807480"/>
            </a:xfrm>
          </p:grpSpPr>
          <p:sp>
            <p:nvSpPr>
              <p:cNvPr id="589" name=""/>
              <p:cNvSpPr/>
              <p:nvPr/>
            </p:nvSpPr>
            <p:spPr>
              <a:xfrm rot="5329200">
                <a:off x="3609000" y="4154760"/>
                <a:ext cx="796320" cy="551160"/>
              </a:xfrm>
              <a:prstGeom prst="flowChartManualOperation">
                <a:avLst/>
              </a:prstGeom>
              <a:solidFill>
                <a:srgbClr val="99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3731760" y="4424760"/>
                <a:ext cx="5511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4004280" y="4293720"/>
                <a:ext cx="27540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4008600" y="4559040"/>
                <a:ext cx="27504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005000" y="4298400"/>
                <a:ext cx="5040" cy="26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 rot="21570600">
              <a:off x="4059000" y="4335480"/>
              <a:ext cx="298440" cy="251280"/>
            </a:xfrm>
            <a:prstGeom prst="rect">
              <a:avLst/>
            </a:prstGeom>
            <a:solidFill>
              <a:srgbClr val="ea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4073400" y="4275000"/>
            <a:ext cx="365400" cy="33984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5219640" y="2786040"/>
            <a:ext cx="3282840" cy="3225960"/>
            <a:chOff x="5219640" y="2786040"/>
            <a:chExt cx="3282840" cy="3225960"/>
          </a:xfrm>
        </p:grpSpPr>
        <p:sp>
          <p:nvSpPr>
            <p:cNvPr id="597" name=""/>
            <p:cNvSpPr/>
            <p:nvPr/>
          </p:nvSpPr>
          <p:spPr>
            <a:xfrm>
              <a:off x="5219640" y="2786040"/>
              <a:ext cx="3282840" cy="322596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443200" y="3000960"/>
              <a:ext cx="2835000" cy="286740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4805280" y="5398920"/>
            <a:ext cx="10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D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3971160" y="4796280"/>
            <a:ext cx="2028600" cy="817200"/>
            <a:chOff x="3971160" y="4796280"/>
            <a:chExt cx="2028600" cy="817200"/>
          </a:xfrm>
        </p:grpSpPr>
        <p:sp>
          <p:nvSpPr>
            <p:cNvPr id="601" name=""/>
            <p:cNvSpPr/>
            <p:nvPr/>
          </p:nvSpPr>
          <p:spPr>
            <a:xfrm flipH="1">
              <a:off x="4788000" y="5159160"/>
              <a:ext cx="1211400" cy="127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rot="5634000">
              <a:off x="4017240" y="4800600"/>
              <a:ext cx="764280" cy="80784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4500000" y="4088160"/>
            <a:ext cx="759240" cy="623160"/>
            <a:chOff x="4500000" y="4088160"/>
            <a:chExt cx="759240" cy="623160"/>
          </a:xfrm>
        </p:grpSpPr>
        <p:sp>
          <p:nvSpPr>
            <p:cNvPr id="604" name=""/>
            <p:cNvSpPr/>
            <p:nvPr/>
          </p:nvSpPr>
          <p:spPr>
            <a:xfrm rot="10824600">
              <a:off x="4500360" y="4538880"/>
              <a:ext cx="750240" cy="169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10824600">
              <a:off x="4507920" y="4090680"/>
              <a:ext cx="750240" cy="1872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3081240" y="4793760"/>
            <a:ext cx="1735560" cy="812160"/>
            <a:chOff x="3081240" y="4793760"/>
            <a:chExt cx="1735560" cy="812160"/>
          </a:xfrm>
        </p:grpSpPr>
        <p:sp>
          <p:nvSpPr>
            <p:cNvPr id="607" name=""/>
            <p:cNvSpPr/>
            <p:nvPr/>
          </p:nvSpPr>
          <p:spPr>
            <a:xfrm flipV="1">
              <a:off x="3081240" y="5122800"/>
              <a:ext cx="1384560" cy="166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15966000">
              <a:off x="4080960" y="4874040"/>
              <a:ext cx="769680" cy="65088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3514680" y="5398920"/>
            <a:ext cx="9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B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5406480" y="4105440"/>
            <a:ext cx="547560" cy="679320"/>
          </a:xfrm>
          <a:prstGeom prst="leftArrow">
            <a:avLst>
              <a:gd name="adj1" fmla="val 55833"/>
              <a:gd name="adj2" fmla="val 4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7019640" y="2001600"/>
            <a:ext cx="688320" cy="987480"/>
            <a:chOff x="7019640" y="2001600"/>
            <a:chExt cx="688320" cy="987480"/>
          </a:xfrm>
        </p:grpSpPr>
        <p:sp>
          <p:nvSpPr>
            <p:cNvPr id="612" name=""/>
            <p:cNvSpPr/>
            <p:nvPr/>
          </p:nvSpPr>
          <p:spPr>
            <a:xfrm flipH="1" rot="6233400">
              <a:off x="7119360" y="2697480"/>
              <a:ext cx="272160" cy="2570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rot="11868000">
              <a:off x="7105680" y="2064600"/>
              <a:ext cx="515520" cy="646560"/>
            </a:xfrm>
            <a:prstGeom prst="blockArc">
              <a:avLst>
                <a:gd name="adj1" fmla="val 9632758"/>
                <a:gd name="adj2" fmla="val 1167242"/>
                <a:gd name="adj3" fmla="val 22671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6227640" y="306864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084720" y="2781360"/>
            <a:ext cx="18288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372360" y="1773360"/>
            <a:ext cx="1807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267680" y="231768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724360" y="4118040"/>
            <a:ext cx="240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T-CD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012000" y="242100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012000" y="206064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804000" y="1773360"/>
            <a:ext cx="18108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164360" y="1989000"/>
            <a:ext cx="18108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 rot="6099000">
            <a:off x="6885000" y="3052800"/>
            <a:ext cx="509760" cy="728640"/>
          </a:xfrm>
          <a:prstGeom prst="leftArrow">
            <a:avLst>
              <a:gd name="adj1" fmla="val 55833"/>
              <a:gd name="adj2" fmla="val 4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176560" y="4118040"/>
            <a:ext cx="145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99"/>
                </a:solidFill>
                <a:latin typeface="Times New Roman"/>
              </a:rPr>
              <a:t>CP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012000" y="4292640"/>
            <a:ext cx="1800000" cy="504720"/>
          </a:xfrm>
          <a:prstGeom prst="rect">
            <a:avLst/>
          </a:prstGeom>
          <a:solidFill>
            <a:srgbClr val="7e04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651640" y="3645000"/>
            <a:ext cx="240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Linfocito  T citotóxico diferenciado CT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24000" y="189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ación de T-CD8 si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laboración T-CD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4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500"/>
                            </p:stCondLst>
                            <p:childTnLst>
                              <p:par>
                                <p:cTn id="4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000"/>
                            </p:stCondLst>
                            <p:childTnLst>
                              <p:par>
                                <p:cTn id="4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500"/>
                            </p:stCondLst>
                            <p:childTnLst>
                              <p:par>
                                <p:cTn id="4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5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65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70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e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"/>
          <p:cNvGrpSpPr/>
          <p:nvPr/>
        </p:nvGrpSpPr>
        <p:grpSpPr>
          <a:xfrm>
            <a:off x="1316880" y="1089720"/>
            <a:ext cx="2999160" cy="3030480"/>
            <a:chOff x="1316880" y="1089720"/>
            <a:chExt cx="2999160" cy="3030480"/>
          </a:xfrm>
        </p:grpSpPr>
        <p:sp>
          <p:nvSpPr>
            <p:cNvPr id="629" name=""/>
            <p:cNvSpPr/>
            <p:nvPr/>
          </p:nvSpPr>
          <p:spPr>
            <a:xfrm flipV="1" rot="13899000">
              <a:off x="1695240" y="1579320"/>
              <a:ext cx="2241720" cy="205092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 rot="15842400">
              <a:off x="2071440" y="2340720"/>
              <a:ext cx="855000" cy="62280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2577240" y="3732480"/>
            <a:ext cx="663840" cy="531360"/>
            <a:chOff x="2577240" y="3732480"/>
            <a:chExt cx="663840" cy="531360"/>
          </a:xfrm>
        </p:grpSpPr>
        <p:grpSp>
          <p:nvGrpSpPr>
            <p:cNvPr id="632" name=""/>
            <p:cNvGrpSpPr/>
            <p:nvPr/>
          </p:nvGrpSpPr>
          <p:grpSpPr>
            <a:xfrm>
              <a:off x="2577240" y="3732480"/>
              <a:ext cx="663840" cy="480960"/>
              <a:chOff x="2577240" y="3732480"/>
              <a:chExt cx="663840" cy="480960"/>
            </a:xfrm>
          </p:grpSpPr>
          <p:sp>
            <p:nvSpPr>
              <p:cNvPr id="633" name=""/>
              <p:cNvSpPr/>
              <p:nvPr/>
            </p:nvSpPr>
            <p:spPr>
              <a:xfrm flipV="1" rot="21445200">
                <a:off x="2586960" y="3746520"/>
                <a:ext cx="644040" cy="452160"/>
              </a:xfrm>
              <a:prstGeom prst="flowChartManualOperation">
                <a:avLst/>
              </a:prstGeom>
              <a:solidFill>
                <a:srgbClr val="99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 flipV="1">
                <a:off x="2898720" y="3746520"/>
                <a:ext cx="20880" cy="45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 flipV="1">
                <a:off x="2802960" y="3977640"/>
                <a:ext cx="10440" cy="22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 flipV="1">
                <a:off x="3017160" y="3966480"/>
                <a:ext cx="1044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2802240" y="3967920"/>
                <a:ext cx="21456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8" name=""/>
            <p:cNvSpPr/>
            <p:nvPr/>
          </p:nvSpPr>
          <p:spPr>
            <a:xfrm flipV="1" rot="5203800">
              <a:off x="2824200" y="4033800"/>
              <a:ext cx="245160" cy="203400"/>
            </a:xfrm>
            <a:prstGeom prst="rect">
              <a:avLst/>
            </a:prstGeom>
            <a:solidFill>
              <a:srgbClr val="ea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 flipV="1">
            <a:off x="2797200" y="3985560"/>
            <a:ext cx="233280" cy="2206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4853160" y="1576440"/>
            <a:ext cx="2012760" cy="2001960"/>
            <a:chOff x="4853160" y="1576440"/>
            <a:chExt cx="2012760" cy="2001960"/>
          </a:xfrm>
        </p:grpSpPr>
        <p:sp>
          <p:nvSpPr>
            <p:cNvPr id="641" name=""/>
            <p:cNvSpPr/>
            <p:nvPr/>
          </p:nvSpPr>
          <p:spPr>
            <a:xfrm>
              <a:off x="4853160" y="1576440"/>
              <a:ext cx="2012760" cy="200196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990320" y="1709640"/>
              <a:ext cx="1738080" cy="177948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376880" y="1484280"/>
            <a:ext cx="85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CD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4053960" y="1704240"/>
            <a:ext cx="1122120" cy="478440"/>
            <a:chOff x="4053960" y="1704240"/>
            <a:chExt cx="1122120" cy="478440"/>
          </a:xfrm>
        </p:grpSpPr>
        <p:sp>
          <p:nvSpPr>
            <p:cNvPr id="645" name=""/>
            <p:cNvSpPr/>
            <p:nvPr/>
          </p:nvSpPr>
          <p:spPr>
            <a:xfrm flipH="1">
              <a:off x="4506480" y="1917000"/>
              <a:ext cx="669240" cy="74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634000">
              <a:off x="4067280" y="1720080"/>
              <a:ext cx="448920" cy="44640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"/>
          <p:cNvSpPr/>
          <p:nvPr/>
        </p:nvSpPr>
        <p:spPr>
          <a:xfrm flipH="1" rot="14492400">
            <a:off x="5989680" y="2918160"/>
            <a:ext cx="395280" cy="393840"/>
          </a:xfrm>
          <a:prstGeom prst="leftArrow">
            <a:avLst>
              <a:gd name="adj1" fmla="val 55833"/>
              <a:gd name="adj2" fmla="val 460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6260760" y="3317760"/>
            <a:ext cx="659520" cy="791640"/>
            <a:chOff x="6260760" y="3317760"/>
            <a:chExt cx="659520" cy="791640"/>
          </a:xfrm>
        </p:grpSpPr>
        <p:sp>
          <p:nvSpPr>
            <p:cNvPr id="649" name=""/>
            <p:cNvSpPr/>
            <p:nvPr/>
          </p:nvSpPr>
          <p:spPr>
            <a:xfrm flipH="1" rot="14230200">
              <a:off x="6297120" y="3363480"/>
              <a:ext cx="222840" cy="208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 rot="19864200">
              <a:off x="6400080" y="3511440"/>
              <a:ext cx="417600" cy="529920"/>
            </a:xfrm>
            <a:prstGeom prst="blockArc">
              <a:avLst>
                <a:gd name="adj1" fmla="val 9632758"/>
                <a:gd name="adj2" fmla="val 1167242"/>
                <a:gd name="adj3" fmla="val 22671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6575400" y="1660680"/>
            <a:ext cx="14760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65920" y="1660680"/>
            <a:ext cx="14760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448400" y="2603520"/>
            <a:ext cx="14616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516720" y="3666960"/>
            <a:ext cx="147600" cy="140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157880" y="1838160"/>
            <a:ext cx="147960" cy="140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448400" y="2192400"/>
            <a:ext cx="147960" cy="137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448400" y="3017880"/>
            <a:ext cx="14616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243920" y="3430440"/>
            <a:ext cx="147600" cy="13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781360" y="2367000"/>
            <a:ext cx="110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C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1847880" y="4703760"/>
            <a:ext cx="2014560" cy="2001960"/>
            <a:chOff x="1847880" y="4703760"/>
            <a:chExt cx="2014560" cy="2001960"/>
          </a:xfrm>
        </p:grpSpPr>
        <p:sp>
          <p:nvSpPr>
            <p:cNvPr id="661" name=""/>
            <p:cNvSpPr/>
            <p:nvPr/>
          </p:nvSpPr>
          <p:spPr>
            <a:xfrm>
              <a:off x="1847880" y="4703760"/>
              <a:ext cx="2014560" cy="200196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985040" y="4836960"/>
              <a:ext cx="1739880" cy="177948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846440" y="5452920"/>
            <a:ext cx="19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T-CD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826160" y="2317680"/>
            <a:ext cx="19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T-CD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720520" y="4273920"/>
            <a:ext cx="352800" cy="505080"/>
            <a:chOff x="2720520" y="4273920"/>
            <a:chExt cx="352800" cy="505080"/>
          </a:xfrm>
        </p:grpSpPr>
        <p:sp>
          <p:nvSpPr>
            <p:cNvPr id="666" name=""/>
            <p:cNvSpPr/>
            <p:nvPr/>
          </p:nvSpPr>
          <p:spPr>
            <a:xfrm rot="5424600">
              <a:off x="2773800" y="4480920"/>
              <a:ext cx="499320" cy="95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5424600">
              <a:off x="2525400" y="4470840"/>
              <a:ext cx="499320" cy="1054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4411440" y="2419920"/>
            <a:ext cx="500400" cy="356760"/>
            <a:chOff x="4411440" y="2419920"/>
            <a:chExt cx="500400" cy="356760"/>
          </a:xfrm>
        </p:grpSpPr>
        <p:sp>
          <p:nvSpPr>
            <p:cNvPr id="669" name=""/>
            <p:cNvSpPr/>
            <p:nvPr/>
          </p:nvSpPr>
          <p:spPr>
            <a:xfrm rot="24600">
              <a:off x="4416840" y="2421360"/>
              <a:ext cx="494640" cy="9684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24600">
              <a:off x="4411440" y="2667600"/>
              <a:ext cx="494640" cy="10692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3769920" y="2339640"/>
            <a:ext cx="592200" cy="501480"/>
            <a:chOff x="3769920" y="2339640"/>
            <a:chExt cx="592200" cy="501480"/>
          </a:xfrm>
        </p:grpSpPr>
        <p:sp>
          <p:nvSpPr>
            <p:cNvPr id="672" name=""/>
            <p:cNvSpPr/>
            <p:nvPr/>
          </p:nvSpPr>
          <p:spPr>
            <a:xfrm flipV="1" rot="21389400">
              <a:off x="4037040" y="2508120"/>
              <a:ext cx="241200" cy="207000"/>
            </a:xfrm>
            <a:prstGeom prst="rect">
              <a:avLst/>
            </a:prstGeom>
            <a:solidFill>
              <a:srgbClr val="ea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rot="5400000">
              <a:off x="3814920" y="2294280"/>
              <a:ext cx="501480" cy="592200"/>
            </a:xfrm>
            <a:custGeom>
              <a:avLst/>
              <a:gdLst/>
              <a:ahLst/>
              <a:rect l="l" t="t" r="r" b="b"/>
              <a:pathLst>
                <a:path w="385" h="461">
                  <a:moveTo>
                    <a:pt x="129" y="13"/>
                  </a:moveTo>
                  <a:cubicBezTo>
                    <a:pt x="145" y="124"/>
                    <a:pt x="132" y="138"/>
                    <a:pt x="244" y="115"/>
                  </a:cubicBezTo>
                  <a:cubicBezTo>
                    <a:pt x="259" y="54"/>
                    <a:pt x="247" y="34"/>
                    <a:pt x="308" y="13"/>
                  </a:cubicBezTo>
                  <a:cubicBezTo>
                    <a:pt x="366" y="32"/>
                    <a:pt x="366" y="46"/>
                    <a:pt x="385" y="102"/>
                  </a:cubicBezTo>
                  <a:cubicBezTo>
                    <a:pt x="377" y="128"/>
                    <a:pt x="382" y="164"/>
                    <a:pt x="360" y="179"/>
                  </a:cubicBezTo>
                  <a:cubicBezTo>
                    <a:pt x="307" y="214"/>
                    <a:pt x="254" y="227"/>
                    <a:pt x="193" y="243"/>
                  </a:cubicBezTo>
                  <a:cubicBezTo>
                    <a:pt x="138" y="329"/>
                    <a:pt x="211" y="337"/>
                    <a:pt x="168" y="435"/>
                  </a:cubicBezTo>
                  <a:cubicBezTo>
                    <a:pt x="162" y="449"/>
                    <a:pt x="142" y="452"/>
                    <a:pt x="129" y="461"/>
                  </a:cubicBezTo>
                  <a:cubicBezTo>
                    <a:pt x="99" y="457"/>
                    <a:pt x="67" y="461"/>
                    <a:pt x="40" y="448"/>
                  </a:cubicBezTo>
                  <a:cubicBezTo>
                    <a:pt x="28" y="442"/>
                    <a:pt x="28" y="423"/>
                    <a:pt x="27" y="410"/>
                  </a:cubicBezTo>
                  <a:cubicBezTo>
                    <a:pt x="0" y="75"/>
                    <a:pt x="46" y="223"/>
                    <a:pt x="1" y="90"/>
                  </a:cubicBezTo>
                  <a:cubicBezTo>
                    <a:pt x="19" y="35"/>
                    <a:pt x="21" y="20"/>
                    <a:pt x="78" y="0"/>
                  </a:cubicBezTo>
                  <a:cubicBezTo>
                    <a:pt x="95" y="4"/>
                    <a:pt x="129" y="13"/>
                    <a:pt x="129" y="13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70360" y="2386800"/>
              <a:ext cx="174600" cy="176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 flipV="1">
            <a:off x="4203720" y="2477520"/>
            <a:ext cx="174600" cy="17604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189400" y="2452680"/>
            <a:ext cx="1222560" cy="388800"/>
          </a:xfrm>
          <a:prstGeom prst="rect">
            <a:avLst/>
          </a:prstGeom>
          <a:solidFill>
            <a:srgbClr val="7e045e"/>
          </a:solidFill>
          <a:ln w="9360">
            <a:solidFill>
              <a:srgbClr val="7e04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2134440" y="3395520"/>
            <a:ext cx="516960" cy="1019520"/>
            <a:chOff x="2134440" y="3395520"/>
            <a:chExt cx="516960" cy="1019520"/>
          </a:xfrm>
        </p:grpSpPr>
        <p:sp>
          <p:nvSpPr>
            <p:cNvPr id="678" name=""/>
            <p:cNvSpPr/>
            <p:nvPr/>
          </p:nvSpPr>
          <p:spPr>
            <a:xfrm rot="5400000">
              <a:off x="2081520" y="3657600"/>
              <a:ext cx="605520" cy="81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21366000">
              <a:off x="2147400" y="3994920"/>
              <a:ext cx="490680" cy="40392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1492200" y="3370320"/>
            <a:ext cx="94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2177280" y="3971880"/>
            <a:ext cx="455040" cy="959040"/>
            <a:chOff x="2177280" y="3971880"/>
            <a:chExt cx="455040" cy="959040"/>
          </a:xfrm>
        </p:grpSpPr>
        <p:sp>
          <p:nvSpPr>
            <p:cNvPr id="682" name=""/>
            <p:cNvSpPr/>
            <p:nvPr/>
          </p:nvSpPr>
          <p:spPr>
            <a:xfrm flipH="1" flipV="1" rot="5400000">
              <a:off x="2019240" y="4500000"/>
              <a:ext cx="768240" cy="936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 rot="11034000">
              <a:off x="2188800" y="3985560"/>
              <a:ext cx="431640" cy="36180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1187280" y="443376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CD40-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3252960" y="1702800"/>
            <a:ext cx="1302480" cy="456120"/>
            <a:chOff x="3252960" y="1702800"/>
            <a:chExt cx="1302480" cy="456120"/>
          </a:xfrm>
        </p:grpSpPr>
        <p:sp>
          <p:nvSpPr>
            <p:cNvPr id="686" name=""/>
            <p:cNvSpPr/>
            <p:nvPr/>
          </p:nvSpPr>
          <p:spPr>
            <a:xfrm flipV="1">
              <a:off x="3252960" y="1888920"/>
              <a:ext cx="1043280" cy="914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15966000">
              <a:off x="4084200" y="1685520"/>
              <a:ext cx="423720" cy="49032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8" name=""/>
          <p:cNvSpPr/>
          <p:nvPr/>
        </p:nvSpPr>
        <p:spPr>
          <a:xfrm>
            <a:off x="3403440" y="1484280"/>
            <a:ext cx="5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B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012080" y="3666960"/>
            <a:ext cx="145800" cy="140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18267000">
            <a:off x="2319480" y="2898720"/>
            <a:ext cx="649080" cy="414360"/>
          </a:xfrm>
          <a:prstGeom prst="leftArrow">
            <a:avLst>
              <a:gd name="adj1" fmla="val 47991"/>
              <a:gd name="adj2" fmla="val 640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28520" y="26028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ación de T-CD8 por activación de CPA por T-C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859280" y="1973160"/>
            <a:ext cx="1947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infocito  T citotóxico diferenciado C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5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5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3000"/>
                            </p:stCondLst>
                            <p:childTnLst>
                              <p:par>
                                <p:cTn id="5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500"/>
                            </p:stCondLst>
                            <p:childTnLst>
                              <p:par>
                                <p:cTn id="5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4000"/>
                            </p:stCondLst>
                            <p:childTnLst>
                              <p:par>
                                <p:cTn id="5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3" dur="1" fill="hold">
                                    <p:stCondLst>
                                      <p:cond evt="end">
                                        <p:tn val="570"/>
                                      </p:cond>
                                    </p:stCondLst>
                                  </p:cTn>
                                  <p:tgtEl>
                                    <p:spTgt spid="6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45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e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"/>
          <p:cNvGrpSpPr/>
          <p:nvPr/>
        </p:nvGrpSpPr>
        <p:grpSpPr>
          <a:xfrm>
            <a:off x="1316880" y="1089720"/>
            <a:ext cx="2999160" cy="3030480"/>
            <a:chOff x="1316880" y="1089720"/>
            <a:chExt cx="2999160" cy="3030480"/>
          </a:xfrm>
        </p:grpSpPr>
        <p:sp>
          <p:nvSpPr>
            <p:cNvPr id="694" name=""/>
            <p:cNvSpPr/>
            <p:nvPr/>
          </p:nvSpPr>
          <p:spPr>
            <a:xfrm flipV="1" rot="13899000">
              <a:off x="1695240" y="1579320"/>
              <a:ext cx="2241720" cy="205092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 rot="15842400">
              <a:off x="2071440" y="2340720"/>
              <a:ext cx="855000" cy="62280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2577240" y="3732480"/>
            <a:ext cx="663840" cy="531360"/>
            <a:chOff x="2577240" y="3732480"/>
            <a:chExt cx="663840" cy="531360"/>
          </a:xfrm>
        </p:grpSpPr>
        <p:grpSp>
          <p:nvGrpSpPr>
            <p:cNvPr id="697" name=""/>
            <p:cNvGrpSpPr/>
            <p:nvPr/>
          </p:nvGrpSpPr>
          <p:grpSpPr>
            <a:xfrm>
              <a:off x="2577240" y="3732480"/>
              <a:ext cx="663840" cy="480960"/>
              <a:chOff x="2577240" y="3732480"/>
              <a:chExt cx="663840" cy="480960"/>
            </a:xfrm>
          </p:grpSpPr>
          <p:sp>
            <p:nvSpPr>
              <p:cNvPr id="698" name=""/>
              <p:cNvSpPr/>
              <p:nvPr/>
            </p:nvSpPr>
            <p:spPr>
              <a:xfrm flipV="1" rot="21445200">
                <a:off x="2586960" y="3746520"/>
                <a:ext cx="644040" cy="452160"/>
              </a:xfrm>
              <a:prstGeom prst="flowChartManualOperation">
                <a:avLst/>
              </a:prstGeom>
              <a:solidFill>
                <a:srgbClr val="99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 flipV="1">
                <a:off x="2898720" y="3746520"/>
                <a:ext cx="20880" cy="45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 flipV="1">
                <a:off x="2802960" y="3977640"/>
                <a:ext cx="10440" cy="22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 flipV="1">
                <a:off x="3017160" y="3966480"/>
                <a:ext cx="1044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2802240" y="3967920"/>
                <a:ext cx="21456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3" name=""/>
            <p:cNvSpPr/>
            <p:nvPr/>
          </p:nvSpPr>
          <p:spPr>
            <a:xfrm flipV="1" rot="5203800">
              <a:off x="2824200" y="4033800"/>
              <a:ext cx="245160" cy="203400"/>
            </a:xfrm>
            <a:prstGeom prst="rect">
              <a:avLst/>
            </a:prstGeom>
            <a:solidFill>
              <a:srgbClr val="ea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 flipV="1">
            <a:off x="2797200" y="3985560"/>
            <a:ext cx="233280" cy="2206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4853160" y="1576440"/>
            <a:ext cx="2012760" cy="2001960"/>
            <a:chOff x="4853160" y="1576440"/>
            <a:chExt cx="2012760" cy="2001960"/>
          </a:xfrm>
        </p:grpSpPr>
        <p:sp>
          <p:nvSpPr>
            <p:cNvPr id="706" name=""/>
            <p:cNvSpPr/>
            <p:nvPr/>
          </p:nvSpPr>
          <p:spPr>
            <a:xfrm>
              <a:off x="4853160" y="1576440"/>
              <a:ext cx="2012760" cy="200196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990320" y="1709640"/>
              <a:ext cx="1738080" cy="177948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4376880" y="1484280"/>
            <a:ext cx="85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CD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4053960" y="1704240"/>
            <a:ext cx="1122120" cy="478440"/>
            <a:chOff x="4053960" y="1704240"/>
            <a:chExt cx="1122120" cy="478440"/>
          </a:xfrm>
        </p:grpSpPr>
        <p:sp>
          <p:nvSpPr>
            <p:cNvPr id="710" name=""/>
            <p:cNvSpPr/>
            <p:nvPr/>
          </p:nvSpPr>
          <p:spPr>
            <a:xfrm flipH="1">
              <a:off x="4506480" y="1917000"/>
              <a:ext cx="669240" cy="74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 rot="5634000">
              <a:off x="4067280" y="1720080"/>
              <a:ext cx="448920" cy="44640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"/>
          <p:cNvSpPr/>
          <p:nvPr/>
        </p:nvSpPr>
        <p:spPr>
          <a:xfrm flipH="1" rot="16336200">
            <a:off x="5691240" y="3054960"/>
            <a:ext cx="395280" cy="393840"/>
          </a:xfrm>
          <a:prstGeom prst="leftArrow">
            <a:avLst>
              <a:gd name="adj1" fmla="val 55833"/>
              <a:gd name="adj2" fmla="val 460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655960" y="3522960"/>
            <a:ext cx="430920" cy="753840"/>
            <a:chOff x="5655960" y="3522960"/>
            <a:chExt cx="430920" cy="753840"/>
          </a:xfrm>
        </p:grpSpPr>
        <p:sp>
          <p:nvSpPr>
            <p:cNvPr id="714" name=""/>
            <p:cNvSpPr/>
            <p:nvPr/>
          </p:nvSpPr>
          <p:spPr>
            <a:xfrm rot="5545200">
              <a:off x="5776200" y="3534480"/>
              <a:ext cx="222840" cy="207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21511200">
              <a:off x="5662440" y="3741480"/>
              <a:ext cx="417240" cy="529560"/>
            </a:xfrm>
            <a:prstGeom prst="blockArc">
              <a:avLst>
                <a:gd name="adj1" fmla="val 9632758"/>
                <a:gd name="adj2" fmla="val 1167242"/>
                <a:gd name="adj3" fmla="val 22671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5796000" y="4149720"/>
            <a:ext cx="14760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435640" y="4653000"/>
            <a:ext cx="14616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140360" y="5661000"/>
            <a:ext cx="14760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805360" y="3892680"/>
            <a:ext cx="14760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651640" y="4437000"/>
            <a:ext cx="147600" cy="13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148360" y="4941720"/>
            <a:ext cx="145800" cy="140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859280" y="5157720"/>
            <a:ext cx="147600" cy="13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781360" y="2367000"/>
            <a:ext cx="110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C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847880" y="4703760"/>
            <a:ext cx="2014560" cy="2001960"/>
            <a:chOff x="1847880" y="4703760"/>
            <a:chExt cx="2014560" cy="2001960"/>
          </a:xfrm>
        </p:grpSpPr>
        <p:sp>
          <p:nvSpPr>
            <p:cNvPr id="725" name=""/>
            <p:cNvSpPr/>
            <p:nvPr/>
          </p:nvSpPr>
          <p:spPr>
            <a:xfrm>
              <a:off x="1847880" y="4703760"/>
              <a:ext cx="2014560" cy="200196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985040" y="4836960"/>
              <a:ext cx="1739880" cy="177948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1846440" y="5452920"/>
            <a:ext cx="19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T-CD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826160" y="2317680"/>
            <a:ext cx="19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T-CD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720520" y="4273920"/>
            <a:ext cx="352800" cy="505080"/>
            <a:chOff x="2720520" y="4273920"/>
            <a:chExt cx="352800" cy="505080"/>
          </a:xfrm>
        </p:grpSpPr>
        <p:sp>
          <p:nvSpPr>
            <p:cNvPr id="730" name=""/>
            <p:cNvSpPr/>
            <p:nvPr/>
          </p:nvSpPr>
          <p:spPr>
            <a:xfrm rot="5424600">
              <a:off x="2773800" y="4480920"/>
              <a:ext cx="499320" cy="95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5424600">
              <a:off x="2525400" y="4470840"/>
              <a:ext cx="499320" cy="1054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4411440" y="2419920"/>
            <a:ext cx="500400" cy="356760"/>
            <a:chOff x="4411440" y="2419920"/>
            <a:chExt cx="500400" cy="356760"/>
          </a:xfrm>
        </p:grpSpPr>
        <p:sp>
          <p:nvSpPr>
            <p:cNvPr id="733" name=""/>
            <p:cNvSpPr/>
            <p:nvPr/>
          </p:nvSpPr>
          <p:spPr>
            <a:xfrm rot="24600">
              <a:off x="4416840" y="2421360"/>
              <a:ext cx="494640" cy="9684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24600">
              <a:off x="4411440" y="2667600"/>
              <a:ext cx="494640" cy="10692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3769920" y="2339640"/>
            <a:ext cx="592200" cy="501480"/>
            <a:chOff x="3769920" y="2339640"/>
            <a:chExt cx="592200" cy="501480"/>
          </a:xfrm>
        </p:grpSpPr>
        <p:sp>
          <p:nvSpPr>
            <p:cNvPr id="736" name=""/>
            <p:cNvSpPr/>
            <p:nvPr/>
          </p:nvSpPr>
          <p:spPr>
            <a:xfrm flipV="1" rot="21389400">
              <a:off x="4037040" y="2508120"/>
              <a:ext cx="241200" cy="207000"/>
            </a:xfrm>
            <a:prstGeom prst="rect">
              <a:avLst/>
            </a:prstGeom>
            <a:solidFill>
              <a:srgbClr val="ea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rot="5400000">
              <a:off x="3814920" y="2294280"/>
              <a:ext cx="501480" cy="592200"/>
            </a:xfrm>
            <a:custGeom>
              <a:avLst/>
              <a:gdLst/>
              <a:ahLst/>
              <a:rect l="l" t="t" r="r" b="b"/>
              <a:pathLst>
                <a:path w="385" h="461">
                  <a:moveTo>
                    <a:pt x="129" y="13"/>
                  </a:moveTo>
                  <a:cubicBezTo>
                    <a:pt x="145" y="124"/>
                    <a:pt x="132" y="138"/>
                    <a:pt x="244" y="115"/>
                  </a:cubicBezTo>
                  <a:cubicBezTo>
                    <a:pt x="259" y="54"/>
                    <a:pt x="247" y="34"/>
                    <a:pt x="308" y="13"/>
                  </a:cubicBezTo>
                  <a:cubicBezTo>
                    <a:pt x="366" y="32"/>
                    <a:pt x="366" y="46"/>
                    <a:pt x="385" y="102"/>
                  </a:cubicBezTo>
                  <a:cubicBezTo>
                    <a:pt x="377" y="128"/>
                    <a:pt x="382" y="164"/>
                    <a:pt x="360" y="179"/>
                  </a:cubicBezTo>
                  <a:cubicBezTo>
                    <a:pt x="307" y="214"/>
                    <a:pt x="254" y="227"/>
                    <a:pt x="193" y="243"/>
                  </a:cubicBezTo>
                  <a:cubicBezTo>
                    <a:pt x="138" y="329"/>
                    <a:pt x="211" y="337"/>
                    <a:pt x="168" y="435"/>
                  </a:cubicBezTo>
                  <a:cubicBezTo>
                    <a:pt x="162" y="449"/>
                    <a:pt x="142" y="452"/>
                    <a:pt x="129" y="461"/>
                  </a:cubicBezTo>
                  <a:cubicBezTo>
                    <a:pt x="99" y="457"/>
                    <a:pt x="67" y="461"/>
                    <a:pt x="40" y="448"/>
                  </a:cubicBezTo>
                  <a:cubicBezTo>
                    <a:pt x="28" y="442"/>
                    <a:pt x="28" y="423"/>
                    <a:pt x="27" y="410"/>
                  </a:cubicBezTo>
                  <a:cubicBezTo>
                    <a:pt x="0" y="75"/>
                    <a:pt x="46" y="223"/>
                    <a:pt x="1" y="90"/>
                  </a:cubicBezTo>
                  <a:cubicBezTo>
                    <a:pt x="19" y="35"/>
                    <a:pt x="21" y="20"/>
                    <a:pt x="78" y="0"/>
                  </a:cubicBezTo>
                  <a:cubicBezTo>
                    <a:pt x="95" y="4"/>
                    <a:pt x="129" y="13"/>
                    <a:pt x="129" y="13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870360" y="2386800"/>
              <a:ext cx="174600" cy="176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"/>
          <p:cNvSpPr/>
          <p:nvPr/>
        </p:nvSpPr>
        <p:spPr>
          <a:xfrm flipV="1">
            <a:off x="4203720" y="2477520"/>
            <a:ext cx="174600" cy="17604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189400" y="2452680"/>
            <a:ext cx="1222560" cy="388800"/>
          </a:xfrm>
          <a:prstGeom prst="rect">
            <a:avLst/>
          </a:prstGeom>
          <a:solidFill>
            <a:srgbClr val="7e045e"/>
          </a:solidFill>
          <a:ln w="9360">
            <a:solidFill>
              <a:srgbClr val="7e04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572000" y="5373720"/>
            <a:ext cx="14616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04880" y="2602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Activación de T-CD8 por citoquinas de T-C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859280" y="2014560"/>
            <a:ext cx="1947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infocito  T citotóxico diferenciado C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708360" y="5805360"/>
            <a:ext cx="14760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500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7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1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500"/>
                            </p:stCondLst>
                            <p:childTnLst>
                              <p:par>
                                <p:cTn id="6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3000"/>
                            </p:stCondLst>
                            <p:childTnLst>
                              <p:par>
                                <p:cTn id="6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3500"/>
                            </p:stCondLst>
                            <p:childTnLst>
                              <p:par>
                                <p:cTn id="6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40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4000"/>
                            </p:stCondLst>
                            <p:childTnLst>
                              <p:par>
                                <p:cTn id="6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7" dur="1" fill="hold">
                                    <p:stCondLst>
                                      <p:cond evt="end">
                                        <p:tn val="684"/>
                                      </p:cond>
                                    </p:stCondLst>
                                  </p:cTn>
                                  <p:tgtEl>
                                    <p:spTgt spid="7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4500"/>
                            </p:stCondLst>
                            <p:childTnLst>
                              <p:par>
                                <p:cTn id="6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0"/>
                            </p:stCondLst>
                            <p:childTnLst>
                              <p:par>
                                <p:cTn id="6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infcellMHC1" descr=""/>
          <p:cNvPicPr/>
          <p:nvPr/>
        </p:nvPicPr>
        <p:blipFill>
          <a:blip r:embed=""/>
          <a:stretch/>
        </p:blipFill>
        <p:spPr>
          <a:xfrm>
            <a:off x="1116000" y="-27000"/>
            <a:ext cx="6912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ctlapop" descr=""/>
          <p:cNvPicPr/>
          <p:nvPr/>
        </p:nvPicPr>
        <p:blipFill>
          <a:blip r:embed=""/>
          <a:stretch/>
        </p:blipFill>
        <p:spPr>
          <a:xfrm>
            <a:off x="1116000" y="-7920"/>
            <a:ext cx="6912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4427640" y="378936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542880" y="3110040"/>
            <a:ext cx="805824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APOPTOS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4211640" y="3789360"/>
            <a:ext cx="289080" cy="287280"/>
          </a:xfrm>
          <a:custGeom>
            <a:avLst/>
            <a:gdLst>
              <a:gd name="textAreaLeft" fmla="*/ 18360 w 289080"/>
              <a:gd name="textAreaRight" fmla="*/ 270720 w 289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35" h="21600">
                <a:moveTo>
                  <a:pt x="0" y="0"/>
                </a:moveTo>
                <a:lnTo>
                  <a:pt x="21735" y="0"/>
                </a:lnTo>
                <a:lnTo>
                  <a:pt x="21735" y="21600"/>
                </a:lnTo>
                <a:lnTo>
                  <a:pt x="0" y="21600"/>
                </a:lnTo>
                <a:close/>
              </a:path>
              <a:path fill="lightenLess" w="21735" h="21600">
                <a:moveTo>
                  <a:pt x="0" y="0"/>
                </a:moveTo>
                <a:lnTo>
                  <a:pt x="21735" y="0"/>
                </a:lnTo>
                <a:lnTo>
                  <a:pt x="20335" y="1400"/>
                </a:lnTo>
                <a:lnTo>
                  <a:pt x="1400" y="1400"/>
                </a:lnTo>
                <a:close/>
              </a:path>
              <a:path fill="darken" w="21735" h="21600">
                <a:moveTo>
                  <a:pt x="21735" y="0"/>
                </a:moveTo>
                <a:lnTo>
                  <a:pt x="21735" y="21600"/>
                </a:lnTo>
                <a:lnTo>
                  <a:pt x="20335" y="20200"/>
                </a:lnTo>
                <a:lnTo>
                  <a:pt x="20335" y="1400"/>
                </a:lnTo>
                <a:close/>
              </a:path>
              <a:path fill="darkenLess" w="21735" h="21600">
                <a:moveTo>
                  <a:pt x="21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5" y="20200"/>
                </a:lnTo>
                <a:close/>
              </a:path>
              <a:path fill="lighten" w="21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5" h="21600">
                <a:moveTo>
                  <a:pt x="3861" y="3794"/>
                </a:moveTo>
                <a:lnTo>
                  <a:pt x="17874" y="10800"/>
                </a:lnTo>
                <a:lnTo>
                  <a:pt x="3861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542880" y="3110040"/>
            <a:ext cx="805824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RESPUESTA INMUNE CELULA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16:40:01Z</dcterms:created>
  <dc:creator>Jorge Soto Labbé</dc:creator>
  <dc:description/>
  <dc:language>en-US</dc:language>
  <cp:lastModifiedBy>Jorge Soto</cp:lastModifiedBy>
  <dcterms:modified xsi:type="dcterms:W3CDTF">2005-09-06T12:20:26Z</dcterms:modified>
  <cp:revision>46</cp:revision>
  <dc:subject/>
  <dc:title>Presentación de PowerPoint</dc:title>
</cp:coreProperties>
</file>