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503-B050-47F2-ACD3-5C37F404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0BE-D0A5-4587-9CE0-890E10FA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43F-C8C3-4928-A9E6-17B64E4C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024-12F5-4E95-A90C-FBF0E851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C1DA-0C3A-4F22-A416-737E54E1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B874-3708-481D-ADBB-8171D842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23E5-DD65-42D7-98BE-36668D19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42C7-09DB-4CCE-8535-E20E5585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5E2D-4FA9-4FBA-8750-67590500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FB8F-5A2A-47CE-A2A0-42169E92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7403-F82C-4EBC-99B5-DAF0A040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2D8-B976-4F25-AA90-F48B414A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05C4-4664-414C-9BC4-F093FBCF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19C0-A74D-40B6-961D-262D9ADA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58D0-5148-419B-8F63-F0C46FD0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FA62-B7CF-426C-9B21-6D5C3460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B411-E499-47F5-81BD-8EAA2FD9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A0D-3BD0-42E3-98AF-6C507FDF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E65-35B7-42E2-8714-6D4F9B70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F54-54DA-4601-8DAE-20F4890C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E3B-67B6-4B73-B63D-D29D4991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8D45-5DEB-4B6F-836F-5B9730C2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D95-4159-4173-A513-B5ADD09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6A2-728C-4BD1-86C7-666B6C6D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C214-5956-4582-BDBD-E919B0D0FBA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BE4E-C1CB-4C1D-940B-3375866F49B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19320" y="419040"/>
            <a:ext cx="7772400" cy="64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          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MUNOGENICIDA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RACTER EXTR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TAMAÑ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ATURALEZA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OSI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VIA DE ADMINISTRAC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OCALIZACION DETERMINANTES ANTIGENIC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DYUVAN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fotografía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19320" y="41904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                          </a:t>
            </a:r>
            <a:r>
              <a:rPr b="0" lang="es-ES_tradnl" sz="3600" spc="-1" strike="noStrike">
                <a:solidFill>
                  <a:srgbClr val="ffff66"/>
                </a:solidFill>
                <a:latin typeface="Impact"/>
              </a:rPr>
              <a:t>NATURALEZA QUIMIC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PROTEINA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: MEJORE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HIDRATOS DE CARBONO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Y LIPID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INTERMEDIOS. SE AUMENTA SU CAPACIDAD INMUNOGENICA COMO GLICOPROTEINAS O LIPOPROTEINA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ffcc"/>
                </a:solidFill>
                <a:latin typeface="Impact"/>
              </a:rPr>
              <a:t>ACIDOS NUCLEICOS</a:t>
            </a: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: MALOS INMUNOGENO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288000" indent="-2880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Impact"/>
              </a:rPr>
              <a:t>RNA DE DOBLE HEBRA ES UN PAMP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ffff66"/>
                </a:solidFill>
                <a:latin typeface="Impact"/>
              </a:rPr>
              <a:t>COMPLEJIDAD QUIMIC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OMOPOLIMERO :  NO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LISINA - LISINA - LISINA .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ETEROPOLIMERO : INMUNO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ISINA -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LANINA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- LISINA - </a:t>
            </a:r>
            <a:r>
              <a:rPr b="0" lang="es-ES_tradnl" sz="2800" spc="-1" strike="noStrike">
                <a:solidFill>
                  <a:srgbClr val="ccffff"/>
                </a:solidFill>
                <a:latin typeface="Impact"/>
              </a:rPr>
              <a:t>METIONINA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- LISINA ..........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NO ES INMUNOGENICA A PESAR DE SER PROTEINA Y TENER UN ALTO PESO MOLECULA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LATINA + 2 %  DE TIROSINA ES INMUNOGENICA CON PRODUCCION DE ANTICUERPOS ANTI-GELATIN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DOSIS</a:t>
            </a:r>
            <a:r>
              <a:rPr b="0" lang="es-ES_tradnl" sz="28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: DOSIS OPTIM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VIA DE INOCULACION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DEPENDE DEL ANTIGEN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      </a:t>
            </a: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LOCALIZACION DE DETERMINANTES ANTIGENICO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OS BUENOS INMUNOGENOS , EN GENERAL SON DE PESO MOLECULAR ALTO PERO UNA MOLECULA DE ANTICUERPO SOLO RECONOCE UNA PEQUEÑA PARTE , EPITOPO O DETERMINANTE ANTIGEN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BITUALMENTE LAS REGIONES MAS EXPUESTAS DE UN ANTIGENO COMPLEJO SERAN INMUNOGENICAS Y POSTERIORMENTE SERAN LAS ZONAS RECONOCIDAS POR LOS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HIDROFOBICOS E HIDROFIL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 - PARATOPO.  ZONA INMUNODOMINANT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PITOPOS LINEALES Y CONFORMACIONAL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docu00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ADJUVANTES 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AVORECEN INFLAMAC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Impact"/>
              </a:rPr>
              <a:t>CONSTITUCION GENETICA</a:t>
            </a:r>
            <a:r>
              <a:rPr b="1" lang="es-ES_tradnl" sz="2800" spc="-1" strike="noStrike">
                <a:solidFill>
                  <a:srgbClr val="ffffff"/>
                </a:solidFill>
                <a:latin typeface="Impact"/>
              </a:rPr>
              <a:t> : 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NES MHC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               </a:t>
            </a:r>
            <a:r>
              <a:rPr b="0" lang="es-ES_tradnl" sz="2800" spc="-1" strike="noStrike" u="sng">
                <a:solidFill>
                  <a:srgbClr val="99ffcc"/>
                </a:solidFill>
                <a:uFillTx/>
                <a:latin typeface="Impact"/>
              </a:rPr>
              <a:t>RESPUESTA HUMORAL DE ANTICUERP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ANTIGENOS PROTEICO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SE NECESITA LA COLABORACION LT - LB . SE GENERA MEMORIA INMUNOLOGICA ( LT y LB ). RESPUESTA SECUNDARIA PUEDE SER MEDIADA POR IgG, IgA o Ig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ANTIGENOS T INDEPENDIENTES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:  HIDRATOS DE CARBONO , LIPIDOS Y OTROS. NO SE NECESITA LA COLABORACION LT - LB. NO GENERA MEMORIA  INMUNOLOGICA. MEDIADA SOLO POR IgM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PTENOS Y  “ EFECTO CARRIER “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docu00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6:43:30Z</dcterms:created>
  <dc:creator>Muestras</dc:creator>
  <dc:description/>
  <dc:language>en-US</dc:language>
  <cp:lastModifiedBy>ofiintilus</cp:lastModifiedBy>
  <dcterms:modified xsi:type="dcterms:W3CDTF">2004-08-20T11:58:18Z</dcterms:modified>
  <cp:revision>19</cp:revision>
  <dc:subject/>
  <dc:title>Sin título de diapositiva</dc:title>
</cp:coreProperties>
</file>