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3F4-4319-4E31-BB77-C6173481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D29-6A3C-4705-9D72-70344780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063-7770-400D-B5B3-77AE19AE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D67-6C9B-4981-8A06-E2397586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620-F7D7-470D-AA4C-3CC63C80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C5C-13D8-4868-AB7B-68F61E42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975-B19D-4295-8FBB-741245DC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4AD-2E55-4B8D-BB2B-639A848F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BE5-76B1-432F-BD32-9FA4AEAA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B47-C690-4B81-A259-A5A46F71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931-F386-40C4-9D1A-6079258C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5E9-021E-4282-87F4-3E72A09A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5F78-F92C-4BE0-9AAD-DFBE7E89FC8D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uc.edu/depts/biology/dev/eye.htm" TargetMode="External"/><Relationship Id="rId3" Type="http://schemas.openxmlformats.org/officeDocument/2006/relationships/hyperlink" Target="http://www.luc.edu/depts/biology/dev/eye.htm" TargetMode="External"/><Relationship Id="rId4" Type="http://schemas.openxmlformats.org/officeDocument/2006/relationships/hyperlink" Target="http://www.luc.edu/depts/biology/dev/eye.htm" TargetMode="External"/><Relationship Id="rId5" Type="http://schemas.openxmlformats.org/officeDocument/2006/relationships/hyperlink" Target="http://www.luc.edu/depts/biology/dev/eye.htm" TargetMode="External"/><Relationship Id="rId6" Type="http://schemas.openxmlformats.org/officeDocument/2006/relationships/hyperlink" Target="http://www.luc.edu/depts/biology/dev/eye.htm" TargetMode="External"/><Relationship Id="rId7" Type="http://schemas.openxmlformats.org/officeDocument/2006/relationships/hyperlink" Target="http://www.luc.edu/depts/biology/dev/eye.htm" TargetMode="External"/><Relationship Id="rId8" Type="http://schemas.openxmlformats.org/officeDocument/2006/relationships/hyperlink" Target="http://www.luc.edu/depts/biology/dev/eye.htm" TargetMode="External"/><Relationship Id="rId9" Type="http://schemas.openxmlformats.org/officeDocument/2006/relationships/hyperlink" Target="http://www.luc.edu/depts/biology/dev/eye.htm" TargetMode="External"/><Relationship Id="rId10" Type="http://schemas.openxmlformats.org/officeDocument/2006/relationships/hyperlink" Target="http://www.luc.edu/depts/biology/dev/eye.htm" TargetMode="External"/><Relationship Id="rId11" Type="http://schemas.openxmlformats.org/officeDocument/2006/relationships/hyperlink" Target="http://www.luc.edu/depts/biology/dev/eye.htm" TargetMode="Externa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5178600" cy="3417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80320" y="365760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luc.edu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epts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biology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dev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/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eye.htm</a:t>
            </a:r>
            <a:endParaRPr b="0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35640" y="260280"/>
            <a:ext cx="460836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CAC Futura Casual"/>
              </a:rPr>
              <a:t>La fóvea carece de vasos sanguíneos, estando irrigada solamente por finos capilares, los cuales están ausentes en su parte central, lo que incrementa enormemente la transparencia.  Debido a la predominancia de conos y a su relación 1:1 con las células ganglionares, la fóvea constituye la región de visión aguda de la retina</a:t>
            </a: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-302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3027240"/>
            <a:ext cx="47520" cy="28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338560" y="-2981160"/>
            <a:ext cx="5743440" cy="75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338560" y="-2160720"/>
            <a:ext cx="47520" cy="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0" y="846000"/>
            <a:ext cx="4500720" cy="17020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40400" y="189000"/>
            <a:ext cx="2703600" cy="3860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4225" t="3106" r="3609" b="7040"/>
          <a:stretch/>
        </p:blipFill>
        <p:spPr>
          <a:xfrm>
            <a:off x="2735280" y="2681280"/>
            <a:ext cx="6408720" cy="4176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706920" cy="219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478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Estructura compuesta por 10 capas: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Epitelio pigmentario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Capa de Conos y Bastones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Membr. Limitante ext.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Capa nuclear externa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Capa plexiforme externa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Capa nuclear interna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Capa plexiforme interna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Células ganglionares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Fibras del nervio óptico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Membr. Limitante interna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981000"/>
            <a:ext cx="324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Times New Roman"/>
              </a:rPr>
              <a:t>Cuerpo vítreo</a:t>
            </a:r>
            <a:r>
              <a:rPr b="0" lang="es-ES" sz="1600" spc="-1" strike="noStrike">
                <a:solidFill>
                  <a:srgbClr val="cc3300"/>
                </a:solidFill>
                <a:latin typeface="Times New Roman"/>
              </a:rPr>
              <a:t>, masa de matriz extracelular, incolora, gelatinosa, amorfa, con una transparencia parecida al cristal que ocupa la mayor parte del interior del ojo  Está limitado anteriormente por el cristalino y posteriormente por la porción óptica de la retina. Está formado por un armazón de fibrillas colágenas infiltradas por el </a:t>
            </a:r>
            <a:r>
              <a:rPr b="1" lang="es-ES" sz="1600" spc="-1" strike="noStrike">
                <a:solidFill>
                  <a:srgbClr val="cc3300"/>
                </a:solidFill>
                <a:latin typeface="Times New Roman"/>
              </a:rPr>
              <a:t>humor vítreo</a:t>
            </a:r>
            <a:r>
              <a:rPr b="0" lang="es-ES" sz="1600" spc="-1" strike="noStrike">
                <a:solidFill>
                  <a:srgbClr val="cc3300"/>
                </a:solidFill>
                <a:latin typeface="Times New Roman"/>
              </a:rPr>
              <a:t>, (componente líquido que representa el 99% de la masa del cuerpo vítreo), </a:t>
            </a:r>
            <a:r>
              <a:rPr b="1" lang="es-ES" sz="1600" spc="-1" strike="noStrike">
                <a:solidFill>
                  <a:srgbClr val="cc3300"/>
                </a:solidFill>
                <a:latin typeface="Times New Roman"/>
              </a:rPr>
              <a:t>ácido hialurónico</a:t>
            </a:r>
            <a:r>
              <a:rPr b="0" lang="es-ES" sz="1600" spc="-1" strike="noStrike">
                <a:solidFill>
                  <a:srgbClr val="cc3300"/>
                </a:solidFill>
                <a:latin typeface="Times New Roman"/>
              </a:rPr>
              <a:t> y unas pocas células denominadas </a:t>
            </a:r>
            <a:r>
              <a:rPr b="1" lang="es-ES" sz="1600" spc="-1" strike="noStrike">
                <a:solidFill>
                  <a:srgbClr val="cc3300"/>
                </a:solidFill>
                <a:latin typeface="Times New Roman"/>
              </a:rPr>
              <a:t>hialocitos</a:t>
            </a:r>
            <a:r>
              <a:rPr b="0" lang="es-ES" sz="1600" spc="-1" strike="noStrike">
                <a:solidFill>
                  <a:srgbClr val="cc3300"/>
                </a:solidFill>
                <a:latin typeface="Times New Roman"/>
              </a:rPr>
              <a:t>. El estado de repleción constante del cuerpo vítreo garantiza la conservación de la presión intraocular y con ello, la aposición de la retina a la pared ocular.</a:t>
            </a:r>
            <a:endParaRPr b="0" lang="en-US" sz="1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780000" y="1557360"/>
            <a:ext cx="43718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84360" y="2406600"/>
            <a:ext cx="6659640" cy="4451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46863" b="0"/>
          <a:stretch/>
        </p:blipFill>
        <p:spPr>
          <a:xfrm>
            <a:off x="0" y="0"/>
            <a:ext cx="2411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67400" y="85680"/>
            <a:ext cx="4476600" cy="677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537080" cy="292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2997360"/>
            <a:ext cx="43214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Limbo esclerocorneal.</a:t>
            </a:r>
            <a:r>
              <a:rPr b="0" lang="es-E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6600ff"/>
                </a:solidFill>
                <a:latin typeface="Times New Roman"/>
              </a:rPr>
              <a:t>zona de transición que marca el límite entre la córnea y la esclerótica.  Tiene un espesor de 1,5 mm y Presenta vasos sanguíneos derivados de la conjuntiva bulbar que contribuyen a la nutrición de la córnea.  En el ángulo iridocorneal (Fig. 4), el limbo contiene el aparato de drenaje del humor acuoso, constituído por el trabéculo y el canal de Schlemm.  La dificultad en el drenaje del humor acuoso provoca un alza de la presión intraocular, enfermedad denominada glaucoma </a:t>
            </a:r>
            <a:endParaRPr b="0" lang="en-US" sz="1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6185"/>
          <a:stretch/>
        </p:blipFill>
        <p:spPr>
          <a:xfrm>
            <a:off x="0" y="0"/>
            <a:ext cx="5643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81800" y="0"/>
            <a:ext cx="3562200" cy="364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93800" y="2239920"/>
            <a:ext cx="2376720" cy="3027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86400" y="419112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3300"/>
                </a:solidFill>
                <a:latin typeface="Comic Sans MS"/>
              </a:rPr>
              <a:t>Colágenas dan dureza y transparencia.</a:t>
            </a:r>
            <a:endParaRPr b="0" lang="en-US" sz="1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3300"/>
                </a:solidFill>
                <a:latin typeface="Comic Sans MS"/>
              </a:rPr>
              <a:t>GAGs</a:t>
            </a:r>
            <a:endParaRPr b="0" lang="en-US" sz="1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3300"/>
                </a:solidFill>
                <a:latin typeface="Comic Sans MS"/>
              </a:rPr>
              <a:t>Queratocitos= fibroblastos</a:t>
            </a:r>
            <a:endParaRPr b="0" lang="en-US" sz="1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437184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76720" y="836640"/>
            <a:ext cx="406728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ff"/>
                </a:solidFill>
                <a:latin typeface="Times New Roman"/>
              </a:rPr>
              <a:t>El cuerpo ciliar corresponde a la porción engrosada de la úvea.  Forma un anillo alrededor del iris, de unos 6 mm de ancho.  Se encuentra delimitado hacia anterior por el borde ciliar y hacia posterior por la ora serrata, la que marca el límite entre el cuerpo ciliar y la parte fotosensible de la retina </a:t>
            </a:r>
            <a:endParaRPr b="0" lang="en-US" sz="1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ff"/>
                </a:solidFill>
                <a:latin typeface="Times New Roman"/>
              </a:rPr>
              <a:t>Prsenta epitelio se atribuye función de formar humor acuoso</a:t>
            </a:r>
            <a:endParaRPr b="0" lang="en-US" sz="1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573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91160" y="260280"/>
            <a:ext cx="2652840" cy="540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7308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cc3300"/>
                </a:solidFill>
                <a:latin typeface="Arial Unicode MS"/>
              </a:rPr>
              <a:t>La regulación del diámetro pupilar es ejercida por el </a:t>
            </a:r>
            <a:r>
              <a:rPr b="1" lang="es-MX" sz="1800" spc="-1" strike="noStrike">
                <a:solidFill>
                  <a:srgbClr val="cc3300"/>
                </a:solidFill>
                <a:latin typeface="Arial Unicode MS"/>
              </a:rPr>
              <a:t>sistema neurovegetativo</a:t>
            </a:r>
            <a:r>
              <a:rPr b="0" lang="es-MX" sz="1800" spc="-1" strike="noStrike">
                <a:solidFill>
                  <a:srgbClr val="cc3300"/>
                </a:solidFill>
                <a:latin typeface="Arial Unicode MS"/>
              </a:rPr>
              <a:t>, cuyo componente simpático dilata la pupila, en tanto que el parasimpático la contrae</a:t>
            </a:r>
            <a:r>
              <a:rPr b="0" lang="es-MX" sz="18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901800"/>
            <a:ext cx="761976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6411"/>
          <a:stretch/>
        </p:blipFill>
        <p:spPr>
          <a:xfrm>
            <a:off x="0" y="0"/>
            <a:ext cx="635004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10422" t="23749" r="0" b="22711"/>
          <a:stretch/>
        </p:blipFill>
        <p:spPr>
          <a:xfrm>
            <a:off x="5076720" y="0"/>
            <a:ext cx="4067280" cy="36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716280"/>
            <a:ext cx="9144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ff"/>
                </a:solidFill>
                <a:latin typeface="Arial Unicode MS"/>
              </a:rPr>
              <a:t>Esclerótica. túnica externa, formada por un tejido conjuntivo compacto de haces entrecruzados que consisten en gruesos manojos de fibras colágenas, dispuestos en direcciones paralelas a la superficie escleral</a:t>
            </a:r>
            <a:r>
              <a:rPr b="1" lang="es-ES" sz="2400" spc="-1" strike="noStrike">
                <a:solidFill>
                  <a:srgbClr val="6600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ff"/>
                </a:solidFill>
                <a:latin typeface="Arial Unicode MS"/>
              </a:rPr>
              <a:t>TÚNICA MEDIA, VASCULAR O ÚVEA</a:t>
            </a:r>
            <a:endParaRPr b="0" lang="en-US" sz="1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ff"/>
                </a:solidFill>
                <a:latin typeface="Arial Unicode MS"/>
              </a:rPr>
              <a:t>La túnica vascular o úvea se extiende internamente por todo el globo ocular, exceptuando la pupila y la zona de emergencia del nervio óptico.  Está compuesta por tres zonas concéntricas con respecto a la pupila: el iris, el cuerpo ciliar y la coroides Su estructura básica consiste en un estroma de tejido conjuntivo laxo pigmentado, ricamente vascularizado e inervado</a:t>
            </a: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16809" t="2098" r="10213" b="6993"/>
          <a:stretch/>
        </p:blipFill>
        <p:spPr>
          <a:xfrm>
            <a:off x="425520" y="0"/>
            <a:ext cx="364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6:41:16Z</dcterms:created>
  <dc:creator>Susana</dc:creator>
  <dc:description/>
  <dc:language>en-US</dc:language>
  <cp:lastModifiedBy>Susana</cp:lastModifiedBy>
  <dcterms:modified xsi:type="dcterms:W3CDTF">2004-11-26T22:42:55Z</dcterms:modified>
  <cp:revision>20</cp:revision>
  <dc:subject/>
  <dc:title>Sin título de diapositiva</dc:title>
</cp:coreProperties>
</file>