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948-CEE5-4E30-BAC4-AA192C2D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C25-5E84-468C-9C2F-4549A30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700-E405-47D8-AA33-47C230FF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E32-591D-459F-8C25-F6F38360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490-85F9-46C1-8640-5B4F9EB4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9FA-2BCE-4047-B75D-C040FD84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78A-CF1E-4A4F-AF80-28658A5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CED-EA87-438B-9C82-8C46BBF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E2E-EC25-472B-AB0F-FF009F0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2FC-9CBA-45F0-AC7F-CA6C748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63A-36B0-4A44-946F-77FCF9B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B49-F4CF-426F-A573-D19DD7F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EE4-FD3B-4F25-8AA7-E24A0A8643BB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uc.edu/depts/biology/dev/eye.htm" TargetMode="External"/><Relationship Id="rId3" Type="http://schemas.openxmlformats.org/officeDocument/2006/relationships/hyperlink" Target="http://www.luc.edu/depts/biology/dev/eye.htm" TargetMode="External"/><Relationship Id="rId4" Type="http://schemas.openxmlformats.org/officeDocument/2006/relationships/hyperlink" Target="http://www.luc.edu/depts/biology/dev/eye.htm" TargetMode="External"/><Relationship Id="rId5" Type="http://schemas.openxmlformats.org/officeDocument/2006/relationships/hyperlink" Target="http://www.luc.edu/depts/biology/dev/eye.htm" TargetMode="External"/><Relationship Id="rId6" Type="http://schemas.openxmlformats.org/officeDocument/2006/relationships/hyperlink" Target="http://www.luc.edu/depts/biology/dev/eye.htm" TargetMode="External"/><Relationship Id="rId7" Type="http://schemas.openxmlformats.org/officeDocument/2006/relationships/hyperlink" Target="http://www.luc.edu/depts/biology/dev/eye.htm" TargetMode="External"/><Relationship Id="rId8" Type="http://schemas.openxmlformats.org/officeDocument/2006/relationships/hyperlink" Target="http://www.luc.edu/depts/biology/dev/eye.htm" TargetMode="External"/><Relationship Id="rId9" Type="http://schemas.openxmlformats.org/officeDocument/2006/relationships/hyperlink" Target="http://www.luc.edu/depts/biology/dev/eye.htm" TargetMode="External"/><Relationship Id="rId10" Type="http://schemas.openxmlformats.org/officeDocument/2006/relationships/hyperlink" Target="http://www.luc.edu/depts/biology/dev/eye.htm" TargetMode="External"/><Relationship Id="rId11" Type="http://schemas.openxmlformats.org/officeDocument/2006/relationships/hyperlink" Target="http://www.luc.edu/depts/biology/dev/eye.htm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78600" cy="341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80320" y="365760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uc.edu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ept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iology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dev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eye.htm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5640" y="260280"/>
            <a:ext cx="4608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CAC Futura Casual"/>
              </a:rPr>
              <a:t>La fóvea carece de vasos sanguíneos, estando irrigada solamente por finos capilares, los cuales están ausentes en su parte central, lo que incrementa enormemente la transparencia.  Debido a la predominancia de conos y a su relación 1:1 con las células ganglionares, la fóvea constituye la región de visión aguda de la retina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027240"/>
            <a:ext cx="47520" cy="28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38560" y="-2981160"/>
            <a:ext cx="5743440" cy="75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38560" y="-2160720"/>
            <a:ext cx="47520" cy="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846000"/>
            <a:ext cx="4500720" cy="17020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0400" y="189000"/>
            <a:ext cx="270360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4225" t="3106" r="3609" b="7040"/>
          <a:stretch/>
        </p:blipFill>
        <p:spPr>
          <a:xfrm>
            <a:off x="2735280" y="2681280"/>
            <a:ext cx="6408720" cy="41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706920" cy="21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47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Estructura compuesta por 10 capas: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Epitelio pigmentario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de Conos y Bastones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Membr. Limitante ext.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nuclear ex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plexiforme ex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nuclear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apa plexiforme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Células ganglionares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Fibras del nervio óptico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Times New Roman"/>
              </a:rPr>
              <a:t>Membr. Limitante interna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981000"/>
            <a:ext cx="324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Cuerpo vítre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, masa de matriz extracelular, incolora, gelatinosa, amorfa, con una transparencia parecida al cristal que ocupa la mayor parte del interior del ojo  Está limitado anteriormente por el cristalino y posteriormente por la porción óptica de la retina. Está formado por un armazón de fibrillas colágenas infiltradas por el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humor vítre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, (componente líquido que representa el 99% de la masa del cuerpo vítreo),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ácido hialurónico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 y unas pocas células denominadas </a:t>
            </a:r>
            <a:r>
              <a:rPr b="1" lang="es-ES" sz="1600" spc="-1" strike="noStrike">
                <a:solidFill>
                  <a:srgbClr val="cc3300"/>
                </a:solidFill>
                <a:latin typeface="Times New Roman"/>
              </a:rPr>
              <a:t>hialocitos</a:t>
            </a: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. El estado de repleción constante del cuerpo vítreo garantiza la conservación de la presión intraocular y con ello, la aposición de la retina a la pared ocular.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43718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2406600"/>
            <a:ext cx="6659640" cy="4451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46863" b="0"/>
          <a:stretch/>
        </p:blipFill>
        <p:spPr>
          <a:xfrm>
            <a:off x="0" y="0"/>
            <a:ext cx="2411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67400" y="85680"/>
            <a:ext cx="4476600" cy="677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537080" cy="29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997360"/>
            <a:ext cx="4321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Limbo esclerocorneal.</a:t>
            </a: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6600ff"/>
                </a:solidFill>
                <a:latin typeface="Times New Roman"/>
              </a:rPr>
              <a:t>zona de transición que marca el límite entre la córnea y la esclerótica.  Tiene un espesor de 1,5 mm y Presenta vasos sanguíneos derivados de la conjuntiva bulbar que contribuyen a la nutrición de la córnea.  En el ángulo iridocorneal (Fig. 4), el limbo contiene el aparato de drenaje del humor acuoso, constituído por el trabéculo y el canal de Schlemm.  La dificultad en el drenaje del humor acuoso provoca un alza de la presión intraocular, enfermedad denominada glaucoma 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6185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364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93800" y="2239920"/>
            <a:ext cx="2376720" cy="302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86400" y="419112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Colágenas dan dureza y transparencia.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GAGs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3300"/>
                </a:solidFill>
                <a:latin typeface="Comic Sans MS"/>
              </a:rPr>
              <a:t>Queratocitos= fibroblastos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43718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76720" y="836640"/>
            <a:ext cx="4067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Times New Roman"/>
              </a:rPr>
              <a:t>El cuerpo ciliar corresponde a la porción engrosada de la úvea.  Forma un anillo alrededor del iris, de unos 6 mm de ancho.  Se encuentra delimitado hacia anterior por el borde ciliar y hacia posterior por la ora serrata, la que marca el límite entre el cuerpo ciliar y la parte fotosensible de la retina 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ff"/>
                </a:solidFill>
                <a:latin typeface="Times New Roman"/>
              </a:rPr>
              <a:t>Prsenta epitelio se atribuye función de formar humor acuoso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573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91160" y="260280"/>
            <a:ext cx="265284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730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cc3300"/>
                </a:solidFill>
                <a:latin typeface="Arial Unicode MS"/>
              </a:rPr>
              <a:t>La regulación del diámetro pupilar es ejercida por el </a:t>
            </a:r>
            <a:r>
              <a:rPr b="1" lang="es-MX" sz="1800" spc="-1" strike="noStrike">
                <a:solidFill>
                  <a:srgbClr val="cc3300"/>
                </a:solidFill>
                <a:latin typeface="Arial Unicode MS"/>
              </a:rPr>
              <a:t>sistema neurovegetativo</a:t>
            </a:r>
            <a:r>
              <a:rPr b="0" lang="es-MX" sz="1800" spc="-1" strike="noStrike">
                <a:solidFill>
                  <a:srgbClr val="cc3300"/>
                </a:solidFill>
                <a:latin typeface="Arial Unicode MS"/>
              </a:rPr>
              <a:t>, cuyo componente simpático dilata la pupila, en tanto que el parasimpático la contrae</a:t>
            </a:r>
            <a:r>
              <a:rPr b="0" lang="es-MX" sz="1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6411"/>
          <a:stretch/>
        </p:blipFill>
        <p:spPr>
          <a:xfrm>
            <a:off x="0" y="0"/>
            <a:ext cx="6350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0422" t="23749" r="0" b="22711"/>
          <a:stretch/>
        </p:blipFill>
        <p:spPr>
          <a:xfrm>
            <a:off x="5076720" y="0"/>
            <a:ext cx="406728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71628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Arial Unicode MS"/>
              </a:rPr>
              <a:t>Esclerótica. túnica externa, formada por un tejido conjuntivo compacto de haces entrecruzados que consisten en gruesos manojos de fibras colágenas, dispuestos en direcciones paralelas a la superficie escleral</a:t>
            </a:r>
            <a:r>
              <a:rPr b="1" lang="es-ES" sz="2400" spc="-1" strike="noStrike">
                <a:solidFill>
                  <a:srgbClr val="6600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ff"/>
                </a:solidFill>
                <a:latin typeface="Arial Unicode MS"/>
              </a:rPr>
              <a:t>TÚNICA MEDIA, VASCULAR O ÚVEA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ff"/>
                </a:solidFill>
                <a:latin typeface="Arial Unicode MS"/>
              </a:rPr>
              <a:t>La túnica vascular o úvea se extiende internamente por todo el globo ocular, exceptuando la pupila y la zona de emergencia del nervio óptico.  Está compuesta por tres zonas concéntricas con respecto a la pupila: el iris, el cuerpo ciliar y la coroides Su estructura básica consiste en un estroma de tejido conjuntivo laxo pigmentado, ricamente vascularizado e inervado</a:t>
            </a:r>
            <a:r>
              <a:rPr b="0" lang="es-ES" sz="1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6809" t="2098" r="10213" b="6993"/>
          <a:stretch/>
        </p:blipFill>
        <p:spPr>
          <a:xfrm>
            <a:off x="425520" y="0"/>
            <a:ext cx="36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1:16Z</dcterms:created>
  <dc:creator>Susana</dc:creator>
  <dc:description/>
  <dc:language>en-US</dc:language>
  <cp:lastModifiedBy>Susana</cp:lastModifiedBy>
  <dcterms:modified xsi:type="dcterms:W3CDTF">2004-11-26T22:42:55Z</dcterms:modified>
  <cp:revision>20</cp:revision>
  <dc:subject/>
  <dc:title>Sin título de diapositiva</dc:title>
</cp:coreProperties>
</file>