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AE6-2CCE-45B5-AD94-F60632D8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D76-326E-47E3-A09C-8E6C7438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D4E-C03E-4D00-BFD4-BDF6DF4D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254-D7CB-4105-B4B9-25C09999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880-9849-4F40-B26D-26FD8385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C0C-8FCE-4645-BC9D-1763E148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12B-A354-4A8A-B122-F02578EE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E78-5346-4051-8F53-EEF7575D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F03-140B-4B1D-B37B-14FD3F95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DE3-23E7-4B87-AB45-5234D7B7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63B-2960-4430-BAAC-3A7F7F34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9F0-66D7-4C0B-98EA-1AF5EECE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9A36-E1B5-4F89-8F8E-4EC1136E879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éloseas" descr=""/>
          <p:cNvPicPr/>
          <p:nvPr/>
        </p:nvPicPr>
        <p:blipFill>
          <a:blip r:embed="rId2"/>
          <a:stretch/>
        </p:blipFill>
        <p:spPr>
          <a:xfrm>
            <a:off x="4267080" y="380880"/>
            <a:ext cx="4876920" cy="6096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0280" y="2895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3429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133720"/>
            <a:ext cx="22096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Tejido ó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91440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ahoma"/>
              </a:rPr>
              <a:t>Organo Hu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ahoma"/>
              </a:rPr>
              <a:t>¿Que tejidos lo conform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0" t="0" r="4129" b="0"/>
          <a:stretch/>
        </p:blipFill>
        <p:spPr>
          <a:xfrm>
            <a:off x="0" y="380880"/>
            <a:ext cx="5105520" cy="62485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095440" y="152280"/>
            <a:ext cx="34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Tejido óseo comp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838080"/>
            <a:ext cx="457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ahoma"/>
              </a:rPr>
              <a:t>Sis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ahoma"/>
              </a:rPr>
              <a:t>Circunfer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ahoma"/>
              </a:rPr>
              <a:t>Internos- Endos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ahoma"/>
              </a:rPr>
              <a:t>Externos Perios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steona" descr=""/>
          <p:cNvPicPr/>
          <p:nvPr/>
        </p:nvPicPr>
        <p:blipFill>
          <a:blip r:embed="rId3"/>
          <a:srcRect l="0" t="0" r="0" b="20003"/>
          <a:stretch/>
        </p:blipFill>
        <p:spPr>
          <a:xfrm>
            <a:off x="6324480" y="3336840"/>
            <a:ext cx="3048120" cy="1828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riostio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5087880" cy="34606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601992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erios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uerzas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6656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5943600" cy="2562840"/>
          </a:xfrm>
          <a:prstGeom prst="rect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La matriz ósea es responsable de extraor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dinarias propiedades biomecánicas del hueso. 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Colágenas proporcionan flexibilidad y resistencia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 a la tensión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Sales minerales le confieren dureza, rigidez y resistencia a la compresión. 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Estructura  similar al hormigón armado.  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hierro = fibras colágenas y </a:t>
            </a:r>
            <a:br>
              <a:rPr sz="1800"/>
            </a:b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009900"/>
                </a:solidFill>
                <a:latin typeface="Verdana"/>
              </a:rPr>
              <a:t>hormigón = mi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tablahormonas%201" descr=""/>
          <p:cNvPicPr/>
          <p:nvPr/>
        </p:nvPicPr>
        <p:blipFill>
          <a:blip r:embed="rId2"/>
          <a:stretch/>
        </p:blipFill>
        <p:spPr>
          <a:xfrm>
            <a:off x="228600" y="0"/>
            <a:ext cx="8381880" cy="64864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4952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intigrama ós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2tablahormonas%202" descr=""/>
          <p:cNvPicPr/>
          <p:nvPr/>
        </p:nvPicPr>
        <p:blipFill>
          <a:blip r:embed="rId2"/>
          <a:stretch/>
        </p:blipFill>
        <p:spPr>
          <a:xfrm>
            <a:off x="228600" y="0"/>
            <a:ext cx="8381880" cy="64864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steob7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378936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95680" y="1447920"/>
            <a:ext cx="3581640" cy="3240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atriz ó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0-20% agu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eso 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60-70%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0-40 % colá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5% glicoproteína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5181480"/>
            <a:ext cx="5943600" cy="12826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33"/>
                </a:solidFill>
                <a:latin typeface="Verdana"/>
              </a:rPr>
              <a:t>La matriz ósea que no se encuentra mineralizada constitu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33"/>
                </a:solidFill>
                <a:latin typeface="Verdana"/>
              </a:rPr>
              <a:t>menos del 1% en volumen del total y se denomina </a:t>
            </a:r>
            <a:r>
              <a:rPr b="1" lang="es-CL" sz="2400" spc="-1" strike="noStrike">
                <a:solidFill>
                  <a:srgbClr val="ff9933"/>
                </a:solidFill>
                <a:latin typeface="Verdana"/>
              </a:rPr>
              <a:t>osteo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2971800" y="1676520"/>
            <a:ext cx="1752480" cy="36576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809880" y="1143000"/>
            <a:ext cx="137160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0"/>
            <a:ext cx="6629400" cy="237996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El componente orgánic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Colágeno tipo I (85-90%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Proporción de otras proteínas (10-15%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proteoglicanos (biglicano, decorina),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proteínas implicadas en la adhesión celular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 (trombospondina,osteonectina, sialoproteína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 ósea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ahoma"/>
              </a:rPr>
              <a:t>osteocalcina y factores de 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2514600"/>
            <a:ext cx="6858000" cy="137448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9900"/>
                </a:solidFill>
                <a:latin typeface="Tahoma"/>
              </a:rPr>
              <a:t>Osteonectina, fosfoproteína  interacciona con colágeno y sales inorgánicas. Proteína altamente reactiva  se localiza preferentemente en las áreas de mayor grado de calcificación</a:t>
            </a:r>
            <a:r>
              <a:rPr b="0" lang="es-CL" sz="2000" spc="-1" strike="noStrike">
                <a:solidFill>
                  <a:srgbClr val="000000"/>
                </a:solidFill>
                <a:latin typeface="Lucida Calligraphy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962520"/>
            <a:ext cx="4038480" cy="1008720"/>
          </a:xfrm>
          <a:prstGeom prst="rect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00"/>
                </a:solidFill>
                <a:latin typeface="Tahoma"/>
              </a:rPr>
              <a:t>BMPs  juegan un papel similar </a:t>
            </a:r>
            <a:br>
              <a:rPr sz="2000"/>
            </a:br>
            <a:r>
              <a:rPr b="0" lang="es-CL" sz="2000" spc="-1" strike="noStrike">
                <a:solidFill>
                  <a:srgbClr val="009900"/>
                </a:solidFill>
                <a:latin typeface="Tahoma"/>
              </a:rPr>
              <a:t>al de los factores de cre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191120"/>
            <a:ext cx="4495680" cy="238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00"/>
                </a:solidFill>
                <a:latin typeface="Tahoma"/>
              </a:rPr>
              <a:t>Osteopontina (también llamada sialoproteína I)  se une a hidroxiapatita. Producida por osteoblastos estimulados por la 1-a-1,25-dihidroxivitamina D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029200"/>
            <a:ext cx="4267080" cy="1679400"/>
          </a:xfrm>
          <a:prstGeom prst="rect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00"/>
                </a:solidFill>
                <a:latin typeface="Tahoma"/>
              </a:rPr>
              <a:t>Proteoglicanos ácidos  se encuentran en concentraciones mayores en el área osteoide, en comparación con la matriz calcificada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8076960" cy="1831320"/>
          </a:xfrm>
          <a:prstGeom prst="rect">
            <a:avLst/>
          </a:prstGeom>
          <a:solidFill>
            <a:srgbClr val="ff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9900"/>
                </a:solidFill>
                <a:latin typeface="Verdana"/>
              </a:rPr>
              <a:t>La matriz ósea contiene abundantes sales minerales en forma cristalizada, en particular la hidroxiapatita o fosfato tricálcico [Ca3(PO4)2.(OH)2] y algo de carbonato cálcico. En cantidades pequeñas se encuentran los sulfatos, fluoruros e hidróxido de magnesio. Todas estas sales se encuentran depositadas en una retícula formada por las fibras de coláge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olgestria" descr=""/>
          <p:cNvPicPr/>
          <p:nvPr/>
        </p:nvPicPr>
        <p:blipFill>
          <a:blip r:embed="rId2"/>
          <a:stretch/>
        </p:blipFill>
        <p:spPr>
          <a:xfrm>
            <a:off x="0" y="3303720"/>
            <a:ext cx="3886200" cy="35542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59" name="cristalesform" descr=""/>
          <p:cNvPicPr/>
          <p:nvPr/>
        </p:nvPicPr>
        <p:blipFill>
          <a:blip r:embed="rId3"/>
          <a:stretch/>
        </p:blipFill>
        <p:spPr>
          <a:xfrm>
            <a:off x="2952720" y="2514600"/>
            <a:ext cx="6191280" cy="9111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267080" y="3581280"/>
            <a:ext cx="4114800" cy="7646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00"/>
                </a:solidFill>
                <a:latin typeface="Tahoma"/>
              </a:rPr>
              <a:t>Existen trazas de otros colágenos III, V, XI and XIII.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575240"/>
            <a:ext cx="5105520" cy="20070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00"/>
                </a:solidFill>
                <a:latin typeface="Tahoma"/>
              </a:rPr>
              <a:t>Colágeno I es una triple-helice,  tres cadenas  estructuralmente similares. Dos alfa</a:t>
            </a:r>
            <a:r>
              <a:rPr b="1" lang="es-CL" sz="2000" spc="-1" strike="noStrike" baseline="-25000">
                <a:solidFill>
                  <a:srgbClr val="009900"/>
                </a:solidFill>
                <a:latin typeface="Tahoma"/>
              </a:rPr>
              <a:t>1</a:t>
            </a:r>
            <a:r>
              <a:rPr b="1" lang="es-CL" sz="2000" spc="-1" strike="noStrike">
                <a:solidFill>
                  <a:srgbClr val="009900"/>
                </a:solidFill>
                <a:latin typeface="Tahoma"/>
              </a:rPr>
              <a:t> (I) cadenas son  idénticas, pero la tercera, alfa</a:t>
            </a:r>
            <a:r>
              <a:rPr b="1" lang="es-CL" sz="2000" spc="-1" strike="noStrike" baseline="-25000">
                <a:solidFill>
                  <a:srgbClr val="009900"/>
                </a:solidFill>
                <a:latin typeface="Tahoma"/>
              </a:rPr>
              <a:t>2</a:t>
            </a:r>
            <a:r>
              <a:rPr b="1" lang="es-CL" sz="2000" spc="-1" strike="noStrike">
                <a:solidFill>
                  <a:srgbClr val="009900"/>
                </a:solidFill>
                <a:latin typeface="Tahoma"/>
              </a:rPr>
              <a:t> (I) es genéticamente diferente (cromosoma 7/17, respectiva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steob6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4647960" cy="30988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85800" y="2819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steobla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steocitosesq" descr=""/>
          <p:cNvPicPr/>
          <p:nvPr/>
        </p:nvPicPr>
        <p:blipFill>
          <a:blip r:embed="rId2"/>
          <a:srcRect l="18184" t="12734" r="5457" b="10892"/>
          <a:stretch/>
        </p:blipFill>
        <p:spPr>
          <a:xfrm>
            <a:off x="685800" y="36576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osteocitotionina" descr=""/>
          <p:cNvPicPr/>
          <p:nvPr/>
        </p:nvPicPr>
        <p:blipFill>
          <a:blip r:embed="rId3"/>
          <a:stretch/>
        </p:blipFill>
        <p:spPr>
          <a:xfrm>
            <a:off x="5029200" y="304920"/>
            <a:ext cx="3441600" cy="2227320"/>
          </a:xfrm>
          <a:prstGeom prst="rect">
            <a:avLst/>
          </a:prstGeom>
          <a:ln w="0">
            <a:noFill/>
          </a:ln>
        </p:spPr>
      </p:pic>
      <p:pic>
        <p:nvPicPr>
          <p:cNvPr id="66" name="osteona2" descr=""/>
          <p:cNvPicPr/>
          <p:nvPr/>
        </p:nvPicPr>
        <p:blipFill>
          <a:blip r:embed="rId4"/>
          <a:srcRect l="0" t="12000" r="0" b="0"/>
          <a:stretch/>
        </p:blipFill>
        <p:spPr>
          <a:xfrm>
            <a:off x="4952880" y="2590920"/>
            <a:ext cx="3441960" cy="4038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19320" y="3276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ahoma"/>
              </a:rPr>
              <a:t>Osteo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ific" descr=""/>
          <p:cNvPicPr/>
          <p:nvPr/>
        </p:nvPicPr>
        <p:blipFill>
          <a:blip r:embed="rId2"/>
          <a:srcRect l="3692" t="0" r="42156" b="40214"/>
          <a:stretch/>
        </p:blipFill>
        <p:spPr>
          <a:xfrm>
            <a:off x="533520" y="2590920"/>
            <a:ext cx="3352680" cy="32860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69" name="ostoclasto3" descr=""/>
          <p:cNvPicPr/>
          <p:nvPr/>
        </p:nvPicPr>
        <p:blipFill>
          <a:blip r:embed="rId3"/>
          <a:stretch/>
        </p:blipFill>
        <p:spPr>
          <a:xfrm>
            <a:off x="0" y="0"/>
            <a:ext cx="3048120" cy="17305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huesoesqoseo" descr=""/>
          <p:cNvPicPr/>
          <p:nvPr/>
        </p:nvPicPr>
        <p:blipFill>
          <a:blip r:embed="rId2"/>
          <a:stretch/>
        </p:blipFill>
        <p:spPr>
          <a:xfrm>
            <a:off x="304920" y="0"/>
            <a:ext cx="8305560" cy="4572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71" name="trabeculasapoliriz" descr=""/>
          <p:cNvPicPr/>
          <p:nvPr/>
        </p:nvPicPr>
        <p:blipFill>
          <a:blip r:embed="rId3"/>
          <a:stretch/>
        </p:blipFill>
        <p:spPr>
          <a:xfrm>
            <a:off x="0" y="4648320"/>
            <a:ext cx="4257720" cy="22096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72" name="laminillas%20circunferencialespolar" descr=""/>
          <p:cNvPicPr/>
          <p:nvPr/>
        </p:nvPicPr>
        <p:blipFill>
          <a:blip r:embed="rId4"/>
          <a:stretch/>
        </p:blipFill>
        <p:spPr>
          <a:xfrm>
            <a:off x="5105520" y="4603680"/>
            <a:ext cx="3867120" cy="22543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523880" y="4648320"/>
            <a:ext cx="2743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ahoma"/>
              </a:rPr>
              <a:t>Laminillas oseas parle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6481800"/>
            <a:ext cx="3657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ahoma"/>
              </a:rPr>
              <a:t>Laminillas oseas circunferen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huesoespon" descr=""/>
          <p:cNvPicPr/>
          <p:nvPr/>
        </p:nvPicPr>
        <p:blipFill>
          <a:blip r:embed="rId2"/>
          <a:srcRect l="0" t="7016" r="0" b="15789"/>
          <a:stretch/>
        </p:blipFill>
        <p:spPr>
          <a:xfrm>
            <a:off x="1219320" y="990720"/>
            <a:ext cx="5790960" cy="33526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038480" y="5791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Tejido óseo esponj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4:22:15Z</dcterms:created>
  <dc:creator>Susana</dc:creator>
  <dc:description/>
  <dc:language>en-US</dc:language>
  <cp:lastModifiedBy>Facultad de  Medicina</cp:lastModifiedBy>
  <dcterms:modified xsi:type="dcterms:W3CDTF">2005-08-26T14:44:22Z</dcterms:modified>
  <cp:revision>21</cp:revision>
  <dc:subject/>
  <dc:title>Sin título de diapositiva</dc:title>
</cp:coreProperties>
</file>