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BA6D-33E1-49D4-89CB-DE80CB2A4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A043-7FE6-4F86-8CB2-A07DA541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EE96-0A8E-460F-9200-4B92BBA54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4C2C-9519-4294-B590-EB4E4670C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F343-9F20-489A-8D25-0253FFD2D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0EC1-F1BA-4C2C-B939-75206CFA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1714-4CDF-49D9-9FDE-0E6FFD45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ABF7-1168-4FB8-8223-78362DC3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C65E-34DF-415E-BCF5-25F91E2B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F8CB-B8D3-4CF0-B673-87D0E62D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3DC1-5F73-4998-8C0E-089E3B9D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16C1-6BB3-4E9C-9E0F-74A99187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CDF3-931A-4BC4-843B-20AA1A62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EC9B-9AE1-495D-AC96-A97FDABC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D94F-00F4-43C1-A779-7E2028FA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1E9E-BA05-4616-92C9-55D28EF63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5496-681A-42AF-B88E-33A18D53D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584E-62C4-43AB-B878-1614A3B0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E748-27B3-43F3-835C-723CB3AD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9139-E445-4ED8-9D9B-4901FC42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E088-B761-479D-9E3B-B22DED28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E0C2-8018-4962-9E19-08D70CB2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03F6-0487-4D1C-BD95-D1CF482B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4614-35D9-429B-96F8-AEFE60AD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69D7-67D5-4D83-ACC6-1642A152940A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20B0-AB4C-4318-AFE9-B9F0040A338B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54080" y="2286000"/>
            <a:ext cx="7328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SIOPATOLOGÍ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E  LO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STADOS   EDEMATOS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563868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Dr. Ramón Rodrigo 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886200" y="0"/>
          <a:ext cx="9144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0"/>
                    <a:ext cx="9144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ahoma"/>
              </a:rPr>
              <a:t>Obstrucción linfática y venosa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379440" y="2276640"/>
            <a:ext cx="832824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Neoplasias (nódulos malign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Cirrosis hepática (nódulos de regeneració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Edema pulmonar agu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Obstrucción venosa lo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33520" y="260280"/>
            <a:ext cx="8610480" cy="14320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es-ES" sz="4400" spc="-1" strike="noStrike">
                <a:solidFill>
                  <a:srgbClr val="ff0066"/>
                </a:solidFill>
                <a:latin typeface="Tahoma"/>
              </a:rPr>
              <a:t>Presión oncótica interstic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826920" y="692280"/>
            <a:ext cx="0" cy="5047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48680" y="2092320"/>
            <a:ext cx="6810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Tahoma"/>
              </a:rPr>
              <a:t>Hipotiroidism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Aumento de mucopolisacárid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(macromoléculas) en el interstici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subcutáneo que induce transloc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de líquido, lo que produce el llama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66"/>
                </a:solidFill>
                <a:latin typeface="Tahoma"/>
              </a:rPr>
              <a:t>MIXEDE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444680" y="187200"/>
            <a:ext cx="637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66"/>
                </a:solidFill>
                <a:latin typeface="Arial"/>
              </a:rPr>
              <a:t>DAÑO HEPÁTICO POR ETAN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4920" y="1523880"/>
            <a:ext cx="27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Et-OH  +  NAD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1828800"/>
            <a:ext cx="152424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911840" y="1600200"/>
            <a:ext cx="40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Et-CHO  +  NADH  +  H</a:t>
            </a:r>
            <a:r>
              <a:rPr b="1" lang="es-ES_tradnl" sz="28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914400"/>
            <a:ext cx="264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33"/>
                </a:solidFill>
                <a:latin typeface="Tahoma"/>
              </a:rPr>
              <a:t>Deshidrogen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33"/>
                </a:solidFill>
                <a:latin typeface="Tahoma"/>
              </a:rPr>
              <a:t>alcohó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9000" y="2286000"/>
            <a:ext cx="8405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Tahoma"/>
              </a:rPr>
              <a:t>Aumento de la relación NADH/N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Tahoma"/>
              </a:rPr>
              <a:t>Estea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Tahoma"/>
              </a:rPr>
              <a:t>Inflam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Tahoma"/>
              </a:rPr>
              <a:t>Fibrosis con nódulos de regeneración (cirro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Tahoma"/>
              </a:rPr>
              <a:t>Insuficiencia hepá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 flipV="1">
            <a:off x="3851280" y="1701360"/>
            <a:ext cx="647640" cy="647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140360" y="1989000"/>
            <a:ext cx="647640" cy="648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763640" y="4292280"/>
            <a:ext cx="647640" cy="647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476360" y="4005000"/>
            <a:ext cx="647640" cy="647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47640" y="1701720"/>
            <a:ext cx="863640" cy="719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58920" y="1989000"/>
            <a:ext cx="865080" cy="719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13080" y="3935520"/>
            <a:ext cx="646200" cy="5731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24360" y="4222800"/>
            <a:ext cx="792000" cy="718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3068640"/>
            <a:ext cx="5976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1280" y="3573360"/>
            <a:ext cx="5976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08000" y="2060640"/>
            <a:ext cx="2521080" cy="2592360"/>
          </a:xfrm>
          <a:prstGeom prst="ellipse">
            <a:avLst/>
          </a:prstGeom>
          <a:solidFill>
            <a:srgbClr val="0000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51200" y="2298600"/>
            <a:ext cx="444240" cy="401760"/>
          </a:xfrm>
          <a:custGeom>
            <a:avLst/>
            <a:gdLst/>
            <a:ahLst/>
            <a:rect l="l" t="t" r="r" b="b"/>
            <a:pathLst>
              <a:path w="280" h="253">
                <a:moveTo>
                  <a:pt x="13" y="160"/>
                </a:moveTo>
                <a:cubicBezTo>
                  <a:pt x="25" y="168"/>
                  <a:pt x="34" y="180"/>
                  <a:pt x="46" y="190"/>
                </a:cubicBezTo>
                <a:cubicBezTo>
                  <a:pt x="56" y="199"/>
                  <a:pt x="68" y="204"/>
                  <a:pt x="79" y="211"/>
                </a:cubicBezTo>
                <a:cubicBezTo>
                  <a:pt x="93" y="233"/>
                  <a:pt x="88" y="223"/>
                  <a:pt x="97" y="241"/>
                </a:cubicBezTo>
                <a:cubicBezTo>
                  <a:pt x="175" y="239"/>
                  <a:pt x="192" y="253"/>
                  <a:pt x="241" y="220"/>
                </a:cubicBezTo>
                <a:cubicBezTo>
                  <a:pt x="248" y="210"/>
                  <a:pt x="255" y="207"/>
                  <a:pt x="259" y="196"/>
                </a:cubicBezTo>
                <a:cubicBezTo>
                  <a:pt x="260" y="169"/>
                  <a:pt x="280" y="72"/>
                  <a:pt x="250" y="52"/>
                </a:cubicBezTo>
                <a:cubicBezTo>
                  <a:pt x="216" y="0"/>
                  <a:pt x="125" y="19"/>
                  <a:pt x="76" y="52"/>
                </a:cubicBezTo>
                <a:cubicBezTo>
                  <a:pt x="65" y="69"/>
                  <a:pt x="65" y="84"/>
                  <a:pt x="43" y="91"/>
                </a:cubicBezTo>
                <a:cubicBezTo>
                  <a:pt x="35" y="99"/>
                  <a:pt x="16" y="112"/>
                  <a:pt x="16" y="112"/>
                </a:cubicBezTo>
                <a:cubicBezTo>
                  <a:pt x="9" y="133"/>
                  <a:pt x="0" y="154"/>
                  <a:pt x="22" y="169"/>
                </a:cubicBezTo>
                <a:cubicBezTo>
                  <a:pt x="15" y="148"/>
                  <a:pt x="18" y="145"/>
                  <a:pt x="13" y="160"/>
                </a:cubicBez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13120" y="2257560"/>
            <a:ext cx="397080" cy="353880"/>
          </a:xfrm>
          <a:custGeom>
            <a:avLst/>
            <a:gdLst/>
            <a:ahLst/>
            <a:rect l="l" t="t" r="r" b="b"/>
            <a:pathLst>
              <a:path w="250" h="223">
                <a:moveTo>
                  <a:pt x="100" y="0"/>
                </a:moveTo>
                <a:cubicBezTo>
                  <a:pt x="103" y="15"/>
                  <a:pt x="107" y="30"/>
                  <a:pt x="109" y="45"/>
                </a:cubicBezTo>
                <a:cubicBezTo>
                  <a:pt x="109" y="48"/>
                  <a:pt x="108" y="56"/>
                  <a:pt x="106" y="54"/>
                </a:cubicBezTo>
                <a:cubicBezTo>
                  <a:pt x="102" y="50"/>
                  <a:pt x="99" y="42"/>
                  <a:pt x="103" y="39"/>
                </a:cubicBezTo>
                <a:cubicBezTo>
                  <a:pt x="108" y="36"/>
                  <a:pt x="146" y="61"/>
                  <a:pt x="157" y="66"/>
                </a:cubicBezTo>
                <a:cubicBezTo>
                  <a:pt x="169" y="71"/>
                  <a:pt x="175" y="67"/>
                  <a:pt x="187" y="75"/>
                </a:cubicBezTo>
                <a:cubicBezTo>
                  <a:pt x="196" y="81"/>
                  <a:pt x="214" y="93"/>
                  <a:pt x="214" y="93"/>
                </a:cubicBezTo>
                <a:cubicBezTo>
                  <a:pt x="221" y="123"/>
                  <a:pt x="240" y="148"/>
                  <a:pt x="250" y="177"/>
                </a:cubicBezTo>
                <a:cubicBezTo>
                  <a:pt x="245" y="184"/>
                  <a:pt x="237" y="188"/>
                  <a:pt x="232" y="195"/>
                </a:cubicBezTo>
                <a:cubicBezTo>
                  <a:pt x="220" y="214"/>
                  <a:pt x="231" y="214"/>
                  <a:pt x="208" y="222"/>
                </a:cubicBezTo>
                <a:cubicBezTo>
                  <a:pt x="199" y="221"/>
                  <a:pt x="189" y="223"/>
                  <a:pt x="181" y="219"/>
                </a:cubicBezTo>
                <a:cubicBezTo>
                  <a:pt x="163" y="209"/>
                  <a:pt x="173" y="187"/>
                  <a:pt x="160" y="174"/>
                </a:cubicBezTo>
                <a:cubicBezTo>
                  <a:pt x="147" y="161"/>
                  <a:pt x="105" y="123"/>
                  <a:pt x="88" y="120"/>
                </a:cubicBezTo>
                <a:cubicBezTo>
                  <a:pt x="69" y="133"/>
                  <a:pt x="90" y="123"/>
                  <a:pt x="67" y="120"/>
                </a:cubicBezTo>
                <a:cubicBezTo>
                  <a:pt x="45" y="117"/>
                  <a:pt x="23" y="118"/>
                  <a:pt x="1" y="117"/>
                </a:cubicBezTo>
                <a:cubicBezTo>
                  <a:pt x="4" y="75"/>
                  <a:pt x="0" y="66"/>
                  <a:pt x="37" y="54"/>
                </a:cubicBezTo>
                <a:cubicBezTo>
                  <a:pt x="48" y="37"/>
                  <a:pt x="66" y="35"/>
                  <a:pt x="79" y="18"/>
                </a:cubicBezTo>
                <a:cubicBezTo>
                  <a:pt x="83" y="6"/>
                  <a:pt x="88" y="4"/>
                  <a:pt x="100" y="0"/>
                </a:cubicBez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835280" y="3068640"/>
            <a:ext cx="231480" cy="504720"/>
          </a:xfrm>
          <a:custGeom>
            <a:avLst/>
            <a:gdLst/>
            <a:ahLst/>
            <a:rect l="l" t="t" r="r" b="b"/>
            <a:pathLst>
              <a:path w="148" h="213">
                <a:moveTo>
                  <a:pt x="22" y="0"/>
                </a:moveTo>
                <a:cubicBezTo>
                  <a:pt x="25" y="1"/>
                  <a:pt x="59" y="9"/>
                  <a:pt x="64" y="12"/>
                </a:cubicBezTo>
                <a:cubicBezTo>
                  <a:pt x="77" y="21"/>
                  <a:pt x="80" y="40"/>
                  <a:pt x="94" y="48"/>
                </a:cubicBezTo>
                <a:cubicBezTo>
                  <a:pt x="110" y="57"/>
                  <a:pt x="130" y="56"/>
                  <a:pt x="148" y="60"/>
                </a:cubicBezTo>
                <a:cubicBezTo>
                  <a:pt x="146" y="90"/>
                  <a:pt x="145" y="120"/>
                  <a:pt x="142" y="150"/>
                </a:cubicBezTo>
                <a:cubicBezTo>
                  <a:pt x="142" y="155"/>
                  <a:pt x="137" y="194"/>
                  <a:pt x="124" y="198"/>
                </a:cubicBezTo>
                <a:cubicBezTo>
                  <a:pt x="101" y="205"/>
                  <a:pt x="76" y="202"/>
                  <a:pt x="52" y="204"/>
                </a:cubicBezTo>
                <a:cubicBezTo>
                  <a:pt x="25" y="213"/>
                  <a:pt x="19" y="202"/>
                  <a:pt x="4" y="180"/>
                </a:cubicBezTo>
                <a:cubicBezTo>
                  <a:pt x="8" y="74"/>
                  <a:pt x="0" y="67"/>
                  <a:pt x="22" y="0"/>
                </a:cubicBez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87960" y="3068640"/>
            <a:ext cx="272880" cy="504720"/>
          </a:xfrm>
          <a:custGeom>
            <a:avLst/>
            <a:gdLst/>
            <a:ahLst/>
            <a:rect l="l" t="t" r="r" b="b"/>
            <a:pathLst>
              <a:path w="172" h="229">
                <a:moveTo>
                  <a:pt x="23" y="17"/>
                </a:moveTo>
                <a:cubicBezTo>
                  <a:pt x="87" y="21"/>
                  <a:pt x="131" y="0"/>
                  <a:pt x="143" y="59"/>
                </a:cubicBezTo>
                <a:cubicBezTo>
                  <a:pt x="136" y="229"/>
                  <a:pt x="172" y="194"/>
                  <a:pt x="65" y="221"/>
                </a:cubicBezTo>
                <a:cubicBezTo>
                  <a:pt x="0" y="205"/>
                  <a:pt x="51" y="226"/>
                  <a:pt x="35" y="95"/>
                </a:cubicBezTo>
                <a:cubicBezTo>
                  <a:pt x="32" y="71"/>
                  <a:pt x="12" y="51"/>
                  <a:pt x="5" y="29"/>
                </a:cubicBezTo>
                <a:cubicBezTo>
                  <a:pt x="25" y="22"/>
                  <a:pt x="23" y="29"/>
                  <a:pt x="23" y="17"/>
                </a:cubicBez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95560" y="4019400"/>
            <a:ext cx="272880" cy="341640"/>
          </a:xfrm>
          <a:custGeom>
            <a:avLst/>
            <a:gdLst/>
            <a:ahLst/>
            <a:rect l="l" t="t" r="r" b="b"/>
            <a:pathLst>
              <a:path w="172" h="215">
                <a:moveTo>
                  <a:pt x="0" y="126"/>
                </a:moveTo>
                <a:cubicBezTo>
                  <a:pt x="14" y="83"/>
                  <a:pt x="0" y="137"/>
                  <a:pt x="0" y="84"/>
                </a:cubicBezTo>
                <a:cubicBezTo>
                  <a:pt x="0" y="31"/>
                  <a:pt x="1" y="33"/>
                  <a:pt x="12" y="0"/>
                </a:cubicBezTo>
                <a:cubicBezTo>
                  <a:pt x="54" y="8"/>
                  <a:pt x="32" y="3"/>
                  <a:pt x="78" y="18"/>
                </a:cubicBezTo>
                <a:cubicBezTo>
                  <a:pt x="84" y="20"/>
                  <a:pt x="96" y="24"/>
                  <a:pt x="96" y="24"/>
                </a:cubicBezTo>
                <a:cubicBezTo>
                  <a:pt x="105" y="56"/>
                  <a:pt x="120" y="133"/>
                  <a:pt x="138" y="162"/>
                </a:cubicBezTo>
                <a:cubicBezTo>
                  <a:pt x="141" y="167"/>
                  <a:pt x="150" y="166"/>
                  <a:pt x="156" y="168"/>
                </a:cubicBezTo>
                <a:cubicBezTo>
                  <a:pt x="172" y="215"/>
                  <a:pt x="148" y="203"/>
                  <a:pt x="102" y="198"/>
                </a:cubicBezTo>
                <a:cubicBezTo>
                  <a:pt x="77" y="182"/>
                  <a:pt x="65" y="157"/>
                  <a:pt x="42" y="138"/>
                </a:cubicBezTo>
                <a:cubicBezTo>
                  <a:pt x="35" y="133"/>
                  <a:pt x="32" y="122"/>
                  <a:pt x="24" y="120"/>
                </a:cubicBezTo>
                <a:cubicBezTo>
                  <a:pt x="16" y="118"/>
                  <a:pt x="8" y="124"/>
                  <a:pt x="0" y="126"/>
                </a:cubicBez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76560" y="3952800"/>
            <a:ext cx="346320" cy="347760"/>
          </a:xfrm>
          <a:custGeom>
            <a:avLst/>
            <a:gdLst/>
            <a:ahLst/>
            <a:rect l="l" t="t" r="r" b="b"/>
            <a:pathLst>
              <a:path w="218" h="219">
                <a:moveTo>
                  <a:pt x="129" y="0"/>
                </a:moveTo>
                <a:cubicBezTo>
                  <a:pt x="139" y="4"/>
                  <a:pt x="151" y="5"/>
                  <a:pt x="159" y="12"/>
                </a:cubicBezTo>
                <a:cubicBezTo>
                  <a:pt x="164" y="16"/>
                  <a:pt x="160" y="26"/>
                  <a:pt x="165" y="30"/>
                </a:cubicBezTo>
                <a:cubicBezTo>
                  <a:pt x="171" y="35"/>
                  <a:pt x="181" y="34"/>
                  <a:pt x="189" y="36"/>
                </a:cubicBezTo>
                <a:cubicBezTo>
                  <a:pt x="182" y="186"/>
                  <a:pt x="218" y="181"/>
                  <a:pt x="99" y="192"/>
                </a:cubicBezTo>
                <a:cubicBezTo>
                  <a:pt x="56" y="206"/>
                  <a:pt x="74" y="197"/>
                  <a:pt x="45" y="216"/>
                </a:cubicBezTo>
                <a:cubicBezTo>
                  <a:pt x="35" y="214"/>
                  <a:pt x="20" y="219"/>
                  <a:pt x="15" y="210"/>
                </a:cubicBezTo>
                <a:cubicBezTo>
                  <a:pt x="0" y="184"/>
                  <a:pt x="35" y="155"/>
                  <a:pt x="51" y="144"/>
                </a:cubicBezTo>
                <a:cubicBezTo>
                  <a:pt x="62" y="112"/>
                  <a:pt x="78" y="77"/>
                  <a:pt x="111" y="66"/>
                </a:cubicBezTo>
                <a:cubicBezTo>
                  <a:pt x="136" y="29"/>
                  <a:pt x="117" y="67"/>
                  <a:pt x="117" y="30"/>
                </a:cubicBezTo>
                <a:cubicBezTo>
                  <a:pt x="117" y="23"/>
                  <a:pt x="125" y="7"/>
                  <a:pt x="129" y="0"/>
                </a:cubicBez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971800" y="380880"/>
            <a:ext cx="0" cy="1368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4920" y="404640"/>
            <a:ext cx="0" cy="1368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2410920" y="1773360"/>
            <a:ext cx="57636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484000" y="1844640"/>
            <a:ext cx="647640" cy="289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1752480"/>
            <a:ext cx="574560" cy="216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32000" y="1844640"/>
            <a:ext cx="648000" cy="216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19640" y="981000"/>
            <a:ext cx="1152720" cy="10796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2637000"/>
            <a:ext cx="1297080" cy="1296720"/>
          </a:xfrm>
          <a:prstGeom prst="ellipse">
            <a:avLst/>
          </a:prstGeom>
          <a:solidFill>
            <a:srgbClr val="0000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pa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or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740720" y="4365720"/>
            <a:ext cx="1152360" cy="115092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iperten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r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19720" y="5715000"/>
            <a:ext cx="1225440" cy="792000"/>
          </a:xfrm>
          <a:prstGeom prst="ellipse">
            <a:avLst/>
          </a:prstGeom>
          <a:solidFill>
            <a:srgbClr val="9900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SCIT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80000" y="1700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80000" y="1052640"/>
            <a:ext cx="21600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96000" y="1052640"/>
            <a:ext cx="21600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12000" y="170028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12000" y="126828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64000" y="1484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64000" y="1268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724360" y="191628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80000" y="1916280"/>
            <a:ext cx="7164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40360" y="1916280"/>
            <a:ext cx="7164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435640" y="112536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12000" y="112536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92720" y="1484280"/>
            <a:ext cx="712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92720" y="162864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227640" y="1628640"/>
            <a:ext cx="730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27640" y="1413000"/>
            <a:ext cx="730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92720" y="134136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56360" y="1197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08720" y="1414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722920" y="1414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940360" y="1414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08720" y="1630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22920" y="1630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940360" y="1630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08720" y="1197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22920" y="1197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40360" y="1197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651640" y="1846440"/>
            <a:ext cx="14436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08720" y="1846440"/>
            <a:ext cx="14436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796000" y="1846440"/>
            <a:ext cx="14436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40360" y="1846440"/>
            <a:ext cx="14436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722920" y="981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508720" y="10526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40360" y="10526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56360" y="134136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27640" y="1486080"/>
            <a:ext cx="14472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56360" y="1630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92720" y="1630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19640" y="1486080"/>
            <a:ext cx="14436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291280" y="134136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64000" y="1197000"/>
            <a:ext cx="1447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64000" y="1414440"/>
            <a:ext cx="1447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56360" y="1414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80000" y="1268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96000" y="1268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580000" y="1484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0" y="1484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364000" y="1700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12000" y="148428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796000" y="1700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12000" y="2708280"/>
            <a:ext cx="50472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156360" y="836640"/>
            <a:ext cx="287280" cy="2887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74160" y="620640"/>
            <a:ext cx="106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COLÁGE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8920" y="2708280"/>
            <a:ext cx="50472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003640" y="2708280"/>
            <a:ext cx="50508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08720" y="2708280"/>
            <a:ext cx="50472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12000" y="3573360"/>
            <a:ext cx="50472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498920" y="3573360"/>
            <a:ext cx="50472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3573360"/>
            <a:ext cx="50508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08720" y="3573360"/>
            <a:ext cx="50472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661800" y="1170000"/>
            <a:ext cx="16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ódulos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gener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326280" y="190512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33"/>
                </a:solidFill>
                <a:latin typeface="Arial"/>
              </a:rPr>
              <a:t>Espacio de DIS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6012000" y="2204640"/>
            <a:ext cx="1152360" cy="863640"/>
          </a:xfrm>
          <a:prstGeom prst="line">
            <a:avLst/>
          </a:prstGeom>
          <a:ln w="38160">
            <a:solidFill>
              <a:srgbClr val="99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5003280" y="3213000"/>
            <a:ext cx="158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5003280" y="3429000"/>
            <a:ext cx="158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03640" y="3429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508720" y="3429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12000" y="3429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5003640" y="2997000"/>
            <a:ext cx="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508720" y="2997000"/>
            <a:ext cx="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012000" y="2997000"/>
            <a:ext cx="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954320" y="314964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INUSO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515280" y="3213000"/>
            <a:ext cx="1081080" cy="2160720"/>
          </a:xfrm>
          <a:custGeom>
            <a:avLst/>
            <a:gdLst/>
            <a:ahLst/>
            <a:rect l="l" t="t" r="r" b="b"/>
            <a:pathLst>
              <a:path w="726" h="1633">
                <a:moveTo>
                  <a:pt x="0" y="0"/>
                </a:moveTo>
                <a:cubicBezTo>
                  <a:pt x="121" y="0"/>
                  <a:pt x="242" y="0"/>
                  <a:pt x="363" y="272"/>
                </a:cubicBezTo>
                <a:cubicBezTo>
                  <a:pt x="484" y="544"/>
                  <a:pt x="665" y="1406"/>
                  <a:pt x="726" y="163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45080" y="3429000"/>
            <a:ext cx="863640" cy="1512720"/>
          </a:xfrm>
          <a:custGeom>
            <a:avLst/>
            <a:gdLst/>
            <a:ahLst/>
            <a:rect l="l" t="t" r="r" b="b"/>
            <a:pathLst>
              <a:path w="726" h="1633">
                <a:moveTo>
                  <a:pt x="0" y="0"/>
                </a:moveTo>
                <a:cubicBezTo>
                  <a:pt x="121" y="0"/>
                  <a:pt x="242" y="0"/>
                  <a:pt x="363" y="272"/>
                </a:cubicBezTo>
                <a:cubicBezTo>
                  <a:pt x="484" y="544"/>
                  <a:pt x="665" y="1406"/>
                  <a:pt x="726" y="163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7020000" y="4941720"/>
            <a:ext cx="288720" cy="50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93080" y="5084640"/>
            <a:ext cx="288720" cy="50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380360" y="5084640"/>
            <a:ext cx="7128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7093080" y="5445000"/>
            <a:ext cx="35856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7236000" y="5589720"/>
            <a:ext cx="28872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524720" y="5589720"/>
            <a:ext cx="142920" cy="50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596360" y="5373720"/>
            <a:ext cx="72072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8317080" y="5516280"/>
            <a:ext cx="35856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667640" y="5589720"/>
            <a:ext cx="649440" cy="21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317080" y="5805360"/>
            <a:ext cx="142560" cy="28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388360" y="5734080"/>
            <a:ext cx="14292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8388360" y="5589360"/>
            <a:ext cx="36036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667640" y="5589720"/>
            <a:ext cx="144360" cy="50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812000" y="6093000"/>
            <a:ext cx="21600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740720" y="6165720"/>
            <a:ext cx="216000" cy="14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7451640" y="6093000"/>
            <a:ext cx="216000" cy="21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7524720" y="6165720"/>
            <a:ext cx="21600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6659280" y="5445000"/>
            <a:ext cx="36036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6659280" y="5516640"/>
            <a:ext cx="36036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7019640" y="5589720"/>
            <a:ext cx="73080" cy="21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6948000" y="5516640"/>
            <a:ext cx="7308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6732360" y="5877000"/>
            <a:ext cx="360360" cy="7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6732360" y="5948280"/>
            <a:ext cx="360360" cy="7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7164000" y="5950080"/>
            <a:ext cx="7164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7020000" y="5950080"/>
            <a:ext cx="7128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952880" y="4343400"/>
            <a:ext cx="7164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932360" y="4724280"/>
            <a:ext cx="7128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932360" y="5084640"/>
            <a:ext cx="7128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005440" y="4005360"/>
            <a:ext cx="71280" cy="21564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932360" y="5445000"/>
            <a:ext cx="7128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48360" y="4437000"/>
            <a:ext cx="7128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148360" y="4797360"/>
            <a:ext cx="7128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148360" y="5157720"/>
            <a:ext cx="7128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148360" y="4076640"/>
            <a:ext cx="71280" cy="2160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148360" y="5518080"/>
            <a:ext cx="7128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4038480"/>
            <a:ext cx="2305080" cy="360360"/>
          </a:xfrm>
          <a:custGeom>
            <a:avLst/>
            <a:gdLst/>
            <a:ahLst/>
            <a:rect l="l" t="t" r="r" b="b"/>
            <a:pathLst>
              <a:path w="1452" h="227">
                <a:moveTo>
                  <a:pt x="0" y="0"/>
                </a:moveTo>
                <a:cubicBezTo>
                  <a:pt x="106" y="71"/>
                  <a:pt x="212" y="143"/>
                  <a:pt x="454" y="181"/>
                </a:cubicBezTo>
                <a:cubicBezTo>
                  <a:pt x="696" y="219"/>
                  <a:pt x="1286" y="219"/>
                  <a:pt x="1452" y="227"/>
                </a:cubicBezTo>
              </a:path>
            </a:pathLst>
          </a:custGeom>
          <a:noFill/>
          <a:ln w="1584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800600" y="3886200"/>
            <a:ext cx="2305080" cy="360360"/>
          </a:xfrm>
          <a:custGeom>
            <a:avLst/>
            <a:gdLst/>
            <a:ahLst/>
            <a:rect l="l" t="t" r="r" b="b"/>
            <a:pathLst>
              <a:path w="1452" h="227">
                <a:moveTo>
                  <a:pt x="0" y="0"/>
                </a:moveTo>
                <a:cubicBezTo>
                  <a:pt x="106" y="71"/>
                  <a:pt x="212" y="143"/>
                  <a:pt x="454" y="181"/>
                </a:cubicBezTo>
                <a:cubicBezTo>
                  <a:pt x="696" y="219"/>
                  <a:pt x="1286" y="219"/>
                  <a:pt x="1452" y="227"/>
                </a:cubicBezTo>
              </a:path>
            </a:pathLst>
          </a:custGeom>
          <a:noFill/>
          <a:ln w="1584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7009920" y="4076640"/>
            <a:ext cx="9720" cy="8762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934320" y="3886200"/>
            <a:ext cx="0" cy="10666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292720" y="3933720"/>
            <a:ext cx="216000" cy="28728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0" y="0"/>
                </a:moveTo>
                <a:cubicBezTo>
                  <a:pt x="11" y="30"/>
                  <a:pt x="22" y="60"/>
                  <a:pt x="45" y="90"/>
                </a:cubicBezTo>
                <a:cubicBezTo>
                  <a:pt x="68" y="120"/>
                  <a:pt x="121" y="166"/>
                  <a:pt x="136" y="181"/>
                </a:cubicBezTo>
              </a:path>
            </a:pathLst>
          </a:custGeom>
          <a:noFill/>
          <a:ln w="1584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64000" y="3933720"/>
            <a:ext cx="216000" cy="28728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0" y="0"/>
                </a:moveTo>
                <a:cubicBezTo>
                  <a:pt x="11" y="30"/>
                  <a:pt x="22" y="60"/>
                  <a:pt x="45" y="90"/>
                </a:cubicBezTo>
                <a:cubicBezTo>
                  <a:pt x="68" y="120"/>
                  <a:pt x="121" y="166"/>
                  <a:pt x="136" y="181"/>
                </a:cubicBezTo>
              </a:path>
            </a:pathLst>
          </a:custGeom>
          <a:noFill/>
          <a:ln w="1584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3933720"/>
            <a:ext cx="287640" cy="35892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0" y="0"/>
                </a:moveTo>
                <a:cubicBezTo>
                  <a:pt x="11" y="30"/>
                  <a:pt x="22" y="60"/>
                  <a:pt x="45" y="90"/>
                </a:cubicBezTo>
                <a:cubicBezTo>
                  <a:pt x="68" y="120"/>
                  <a:pt x="121" y="166"/>
                  <a:pt x="136" y="181"/>
                </a:cubicBezTo>
              </a:path>
            </a:pathLst>
          </a:custGeom>
          <a:noFill/>
          <a:ln w="1584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96000" y="3933720"/>
            <a:ext cx="288720" cy="35892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0" y="0"/>
                </a:moveTo>
                <a:cubicBezTo>
                  <a:pt x="11" y="30"/>
                  <a:pt x="22" y="60"/>
                  <a:pt x="45" y="90"/>
                </a:cubicBezTo>
                <a:cubicBezTo>
                  <a:pt x="68" y="120"/>
                  <a:pt x="121" y="166"/>
                  <a:pt x="136" y="181"/>
                </a:cubicBezTo>
              </a:path>
            </a:pathLst>
          </a:custGeom>
          <a:noFill/>
          <a:ln w="1584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229440" y="3933720"/>
            <a:ext cx="287280" cy="35892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0" y="0"/>
                </a:moveTo>
                <a:cubicBezTo>
                  <a:pt x="11" y="30"/>
                  <a:pt x="22" y="60"/>
                  <a:pt x="45" y="90"/>
                </a:cubicBezTo>
                <a:cubicBezTo>
                  <a:pt x="68" y="120"/>
                  <a:pt x="121" y="166"/>
                  <a:pt x="136" y="181"/>
                </a:cubicBezTo>
              </a:path>
            </a:pathLst>
          </a:custGeom>
          <a:noFill/>
          <a:ln w="1584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300720" y="3933720"/>
            <a:ext cx="287280" cy="35892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0" y="0"/>
                </a:moveTo>
                <a:cubicBezTo>
                  <a:pt x="11" y="30"/>
                  <a:pt x="22" y="60"/>
                  <a:pt x="45" y="90"/>
                </a:cubicBezTo>
                <a:cubicBezTo>
                  <a:pt x="68" y="120"/>
                  <a:pt x="121" y="166"/>
                  <a:pt x="136" y="181"/>
                </a:cubicBezTo>
              </a:path>
            </a:pathLst>
          </a:custGeom>
          <a:noFill/>
          <a:ln w="1584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205360" y="2879640"/>
            <a:ext cx="187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VE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CENT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486760" y="4290840"/>
            <a:ext cx="125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Conductill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bilia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Cirrosis hepática: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Tahoma"/>
              </a:rPr>
              <a:t>Disminución del VA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42560" y="2421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99"/>
                </a:solidFill>
                <a:latin typeface="Tahoma"/>
              </a:rPr>
              <a:t>Aumento de la capacitancia venosa abdomin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99"/>
                </a:solidFill>
                <a:latin typeface="Tahoma"/>
              </a:rPr>
              <a:t>Secuestro en “tercer espacio”: asc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99"/>
                </a:solidFill>
                <a:latin typeface="Tahoma"/>
              </a:rPr>
              <a:t>Translocación al intersticio: ede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99"/>
                </a:solidFill>
                <a:latin typeface="Tahoma"/>
              </a:rPr>
              <a:t>Fístulas arterio-venos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19720" y="5029200"/>
            <a:ext cx="403848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447560" y="5029200"/>
            <a:ext cx="297180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800600" y="2133360"/>
            <a:ext cx="0" cy="289548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27672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31520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3429000"/>
            <a:ext cx="40384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37800" y="3881520"/>
            <a:ext cx="98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Arial"/>
              </a:rPr>
              <a:t>EEC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82160" y="388152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Arial"/>
              </a:rPr>
              <a:t>E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37760" y="209700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Osmolar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92760" y="51800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5520" y="51800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26836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268000" y="3429000"/>
            <a:ext cx="100836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00" y="620640"/>
            <a:ext cx="881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BALANCE POSITIVO DE SODIO Y AGU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CONCEPTO DE EDEM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839160" y="2259000"/>
            <a:ext cx="8116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Es un signo físico que refleja expans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extracelular a expensas del volu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del líquido  intersti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SECUENCIA DE LA GENERACIÓN DE EDEM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6480" y="2073240"/>
            <a:ext cx="4902120" cy="42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Contracción del V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Retención renal de Na  y  H</a:t>
            </a:r>
            <a:r>
              <a:rPr b="1" lang="es-ES" sz="2400" spc="-1" strike="noStrike" baseline="-25000">
                <a:solidFill>
                  <a:srgbClr val="ffff99"/>
                </a:solidFill>
                <a:latin typeface="Tahoma"/>
              </a:rPr>
              <a:t>2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Expansión iso-osmótica del E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(3-4 litr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"/>
              </a:rPr>
              <a:t>EDE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43280" y="2492280"/>
            <a:ext cx="0" cy="7923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43280" y="3573360"/>
            <a:ext cx="0" cy="7923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3280" y="5013360"/>
            <a:ext cx="0" cy="79200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124000" y="1628640"/>
            <a:ext cx="64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Arteriola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 Vénu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56000" y="2276640"/>
            <a:ext cx="0" cy="4321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885080" y="2133720"/>
            <a:ext cx="0" cy="4321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03640" y="2276640"/>
            <a:ext cx="0" cy="1584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36000" y="2276640"/>
            <a:ext cx="0" cy="1584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3886200"/>
            <a:ext cx="403236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03640" y="4724280"/>
            <a:ext cx="403236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03640" y="4724280"/>
            <a:ext cx="0" cy="1584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236000" y="4724280"/>
            <a:ext cx="0" cy="1584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3640" y="3860640"/>
            <a:ext cx="431640" cy="1447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4581360"/>
            <a:ext cx="431640" cy="1447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1280" y="3956040"/>
            <a:ext cx="24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P. Hidrostá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56000" y="4365720"/>
            <a:ext cx="0" cy="863640"/>
          </a:xfrm>
          <a:prstGeom prst="line">
            <a:avLst/>
          </a:prstGeom>
          <a:ln w="572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804000" y="4436640"/>
            <a:ext cx="0" cy="79236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74320" y="5229360"/>
            <a:ext cx="3041280" cy="459720"/>
          </a:xfrm>
          <a:prstGeom prst="rect">
            <a:avLst/>
          </a:pr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ahoma"/>
              </a:rPr>
              <a:t>Líquido interst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48360" y="2852640"/>
            <a:ext cx="1236960" cy="2700360"/>
          </a:xfrm>
          <a:custGeom>
            <a:avLst/>
            <a:gdLst/>
            <a:ahLst/>
            <a:rect l="l" t="t" r="r" b="b"/>
            <a:pathLst>
              <a:path w="779" h="1701">
                <a:moveTo>
                  <a:pt x="0" y="1678"/>
                </a:moveTo>
                <a:cubicBezTo>
                  <a:pt x="185" y="1689"/>
                  <a:pt x="371" y="1701"/>
                  <a:pt x="499" y="1542"/>
                </a:cubicBezTo>
                <a:cubicBezTo>
                  <a:pt x="627" y="1383"/>
                  <a:pt x="779" y="983"/>
                  <a:pt x="771" y="726"/>
                </a:cubicBezTo>
                <a:cubicBezTo>
                  <a:pt x="763" y="469"/>
                  <a:pt x="513" y="128"/>
                  <a:pt x="453" y="0"/>
                </a:cubicBezTo>
              </a:path>
            </a:pathLst>
          </a:custGeom>
          <a:noFill/>
          <a:ln w="381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948360" y="2708280"/>
            <a:ext cx="1452600" cy="3110040"/>
          </a:xfrm>
          <a:custGeom>
            <a:avLst/>
            <a:gdLst/>
            <a:ahLst/>
            <a:rect l="l" t="t" r="r" b="b"/>
            <a:pathLst>
              <a:path w="915" h="1959">
                <a:moveTo>
                  <a:pt x="0" y="1860"/>
                </a:moveTo>
                <a:cubicBezTo>
                  <a:pt x="177" y="1909"/>
                  <a:pt x="355" y="1959"/>
                  <a:pt x="499" y="1815"/>
                </a:cubicBezTo>
                <a:cubicBezTo>
                  <a:pt x="643" y="1671"/>
                  <a:pt x="809" y="1210"/>
                  <a:pt x="862" y="998"/>
                </a:cubicBezTo>
                <a:cubicBezTo>
                  <a:pt x="915" y="786"/>
                  <a:pt x="884" y="711"/>
                  <a:pt x="816" y="545"/>
                </a:cubicBezTo>
                <a:cubicBezTo>
                  <a:pt x="748" y="379"/>
                  <a:pt x="521" y="91"/>
                  <a:pt x="453" y="0"/>
                </a:cubicBezTo>
              </a:path>
            </a:pathLst>
          </a:custGeom>
          <a:noFill/>
          <a:ln w="381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93080" y="333360"/>
            <a:ext cx="577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ahoma"/>
              </a:rPr>
              <a:t>HEMODINAMIA CAPI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16360" y="2205000"/>
            <a:ext cx="0" cy="1800360"/>
          </a:xfrm>
          <a:prstGeom prst="line">
            <a:avLst/>
          </a:prstGeom>
          <a:ln w="3816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7524720" y="2133360"/>
            <a:ext cx="0" cy="1655640"/>
          </a:xfrm>
          <a:prstGeom prst="line">
            <a:avLst/>
          </a:prstGeom>
          <a:ln w="3816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85080" y="5373720"/>
            <a:ext cx="934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ff33"/>
                </a:solidFill>
                <a:latin typeface="Arial"/>
              </a:rPr>
              <a:t>Capi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ff33"/>
                </a:solidFill>
                <a:latin typeface="Arial"/>
              </a:rPr>
              <a:t>Linfá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0200" y="4487760"/>
            <a:ext cx="177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Esfínte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Pre-capila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908000" y="4005360"/>
            <a:ext cx="1295640" cy="10080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908000" y="4652640"/>
            <a:ext cx="1295640" cy="4316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11200" y="3200400"/>
            <a:ext cx="236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CAPIL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3962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66"/>
                </a:solidFill>
                <a:latin typeface="Tahoma"/>
              </a:rPr>
              <a:t>P. oncó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5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MECANISMOS DE PRODUCCIÓN DE EDEM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Aumento de presión hidrostática capi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Disminución de presión oncótica capi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Aumento de permeabilidad capi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Obstrucción de la circulación linfática y/o veno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Aumento de presión oncótica interstic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4320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Presión hidrostática capila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324000" y="764640"/>
            <a:ext cx="0" cy="50508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8880" y="2209680"/>
            <a:ext cx="780264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ff33"/>
                </a:solidFill>
                <a:latin typeface="Tahoma"/>
              </a:rPr>
              <a:t>Ej. Aumento de la volem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  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Insuficiencia re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  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Insuficiencia cardía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El extremo venoso del capilar no es t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eficiente como el arterial para regul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la presión hidrostática capi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304920"/>
            <a:ext cx="8610480" cy="14317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es-ES" sz="4400" spc="-1" strike="noStrike">
                <a:solidFill>
                  <a:srgbClr val="ff0066"/>
                </a:solidFill>
                <a:latin typeface="Tahoma"/>
              </a:rPr>
              <a:t>Presión oncótica capil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836640"/>
            <a:ext cx="0" cy="43164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60160" y="2130480"/>
            <a:ext cx="758628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66ff3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ff33"/>
                </a:solidFill>
                <a:latin typeface="Tahoma"/>
              </a:rPr>
              <a:t>Disminución de síntesis de albúmi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A)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Enfermedad hepá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B)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Desnutr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ff33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ff33"/>
                </a:solidFill>
                <a:latin typeface="Tahoma"/>
              </a:rPr>
              <a:t>Pérdidas de proteí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ff33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A)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Síndrome nefró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B)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Enteropatía perdedora de proteí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14400" y="380880"/>
            <a:ext cx="7086600" cy="12798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Permeabilidad capil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295280" y="762120"/>
            <a:ext cx="0" cy="5047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96840" y="2092320"/>
            <a:ext cx="382320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Quemadu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Inflam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Traumatism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1T21:26:10Z</dcterms:created>
  <dc:creator>rrodrigo</dc:creator>
  <dc:description/>
  <dc:language>en-US</dc:language>
  <cp:lastModifiedBy>Usuario</cp:lastModifiedBy>
  <dcterms:modified xsi:type="dcterms:W3CDTF">2005-10-05T13:23:39Z</dcterms:modified>
  <cp:revision>23</cp:revision>
  <dc:subject/>
  <dc:title>Diapositiva 1</dc:title>
</cp:coreProperties>
</file>