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414-1B8D-4856-B5F4-EC6BC478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869-642B-49E0-A5E4-957CCDF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4277-F36A-4678-95AF-60A3C9F8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640A-285E-4770-9AC4-7217F4B8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5E71-B0FC-40B3-8A17-85DCCCB2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2C37-CF8B-4EE9-BB3A-D638FA2E8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0AF7-1921-44EB-A335-2DF61272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8FCD-D3E9-4A0D-B53D-A55EA1A4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95B-EB54-4767-B9F1-69BF8790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3325-896D-4AAA-A69D-70008AD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5ABB-6759-46E0-82ED-5DC5BEC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E83-B574-42D3-995F-0C358EEF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2589-7575-4489-AB32-D3B82D90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3154-FB65-49EA-A012-418D3767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4754-C42B-4AFA-A8D8-7A1F91D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30F0-6A23-4559-AEFA-E7088530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500D-36F3-4843-9EC1-6DB5C24EB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E0B-7D7F-4377-AE4D-9943615A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522-AFC3-4B4A-AC95-59AA7A8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13A-CD1B-4A50-935E-543B793F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333-5FCA-4BEB-A793-D31B9AC9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176-7859-4E49-B8F0-0C70A293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17CA-A4D0-4683-8A81-61AD360B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CC8-E9EF-4F90-A859-76A92FA3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5EE-352C-4B22-9C0E-ACD5666A540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931A-2E53-4914-822C-0A352FD9468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86080" y="1828800"/>
            <a:ext cx="6087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LTERACIONES DE 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HOMEOSTASIS 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AGUA Y DEL SODI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956200"/>
            <a:ext cx="33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r. Ramón Rodrigo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27160" y="64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09880" y="0"/>
          <a:ext cx="123048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0"/>
                    <a:ext cx="12304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VÍAS DE EGRESOS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48040" y="2235240"/>
            <a:ext cx="7467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iel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d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erspiración insen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Pulm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umedad del aire espi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Riñón: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Or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T. Digestivo: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H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EXTERNO DE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48800" y="2378160"/>
            <a:ext cx="77673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Ingresos: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66ff33"/>
                </a:solidFill>
                <a:latin typeface="Arial"/>
              </a:rPr>
              <a:t>Egres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Bebid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ulmón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limento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Pie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A. endógena    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Orina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          14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Heces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1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TOTA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Arial"/>
              </a:rPr>
              <a:t>2300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867280"/>
            <a:ext cx="30481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BALANCE NEGATIVO DE AGUA (Deshidratació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93640" y="224964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Náufrag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udoración prof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esierto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oliuria acuo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Estado de coma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Hiperventi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año encefálico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entro de la sed (ancia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380988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248520" y="2743200"/>
            <a:ext cx="0" cy="22860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2743200"/>
            <a:ext cx="243864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481760" y="2637000"/>
            <a:ext cx="686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Pérdida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Disminución de la diur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equedad de piel y mucos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er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ernatr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ma, mue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Arial"/>
              </a:rPr>
              <a:t>BALANCE POSITIVO DE AGUA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 (Sobrehidratación o intoxicación acuos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6880" y="2719440"/>
            <a:ext cx="83768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Mecanismos de produc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umento de ingresos: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isminución de egres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olidipsia primaria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IRA, IR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creción inapropia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ADH: SSI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rog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E disminuido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"/>
              </a:rPr>
              <a:t>BALANCE (+) DE AGUA: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240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5160" y="5257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29600" y="3809880"/>
            <a:ext cx="0" cy="121932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809880"/>
            <a:ext cx="5486400" cy="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Manifestaciones del </a:t>
            </a:r>
            <a:br>
              <a:rPr sz="4400"/>
            </a:b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+)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2590920"/>
            <a:ext cx="6838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umento de pe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upresión de la 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Síndrome hipoosmolar: </a:t>
            </a:r>
            <a:r>
              <a:rPr b="1" lang="es-ES_tradnl" sz="2800" spc="-1" strike="noStrike">
                <a:solidFill>
                  <a:srgbClr val="ff0066"/>
                </a:solidFill>
                <a:latin typeface="Arial"/>
              </a:rPr>
              <a:t>hiponatremia</a:t>
            </a: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Apatía, aletarg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ala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efalea, vómi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66"/>
                </a:solidFill>
                <a:latin typeface="Arial"/>
              </a:rPr>
              <a:t>Convuls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ERAPIA DE CORRECCIÓN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451080" y="2362320"/>
            <a:ext cx="857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-) de agua: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posición del déficit de agua (Ej. Glucosa 5%: isotón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Balance (+) de agu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Restringir ingresos de agua y controlar las pérd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La corrección de la osmolaridad no debe ser brusca p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evitar síndrome de desmielinización osmótica que dej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ecuelas neuroló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ESTADOS DE DEPLECIÓ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   DEL VOLUMEN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         EXTRACELULA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27120" y="83808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TRASTORNOS DEL BALANCE HIDROELECTROL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828800"/>
            <a:ext cx="83599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agua: des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agua: intoxicación acuosa,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          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obrehid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negativo de sodio y agua: depleción de 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volumen 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alance positivo de sodio y agua: ede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94960" y="403200"/>
            <a:ext cx="78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Volumen extracelular   =   Intravascular  + Interst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(vol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2200" y="981000"/>
            <a:ext cx="49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travascular:  </a:t>
            </a:r>
            <a:r>
              <a:rPr b="1" lang="es-ES_tradnl" sz="2400" spc="-1" strike="noStrike">
                <a:solidFill>
                  <a:srgbClr val="66ff33"/>
                </a:solidFill>
                <a:latin typeface="Arial"/>
              </a:rPr>
              <a:t>arterial  +  veno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8400" y="2009880"/>
            <a:ext cx="86662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OLUMEN ARTERIAL EFECTIVO: V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) Volumen arterial adecuado para mantener la perfu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e los órga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2) Depende del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“llene” arte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3) Puede coexistir con VEC normal, contraído o expand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4) Es el parámetro regulado por los mecanism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ncargados de mantener el V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DEL VAE :</a:t>
            </a:r>
            <a:r>
              <a:rPr b="1" lang="es-E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CAUS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EMORRAG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QUEMADU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GASTROINTESTINALE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Vómitos, diarreas, fístul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PÉRDIDAS RENALES: </a:t>
            </a: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diuréticos</a:t>
            </a:r>
            <a:r>
              <a:rPr b="0" lang="es-ES" sz="3200" spc="-1" strike="noStrike">
                <a:solidFill>
                  <a:srgbClr val="ff0066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Hipoaldosteronism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FORMACIÓN DE UN TERCER ESPAC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66"/>
                </a:solidFill>
                <a:latin typeface="Tahoma"/>
              </a:rPr>
              <a:t>Ascitis, peritonitis, pericard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3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3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3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BALANCE (-) DE SODIO Y AGUA: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SECUENCI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25160" y="392760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92200" y="39276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37040" y="2098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76560" y="51465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516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92436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352680" y="304920"/>
            <a:ext cx="21337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2666880"/>
            <a:ext cx="167652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D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1447920"/>
            <a:ext cx="510552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Barorreceptores Arteri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2666880"/>
            <a:ext cx="17524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666880"/>
            <a:ext cx="2514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n - AII - A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5867280"/>
            <a:ext cx="4800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Mante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V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6400" y="4114800"/>
            <a:ext cx="16765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Reten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Times New Roman"/>
              </a:rPr>
              <a:t>Na</a:t>
            </a:r>
            <a:r>
              <a:rPr b="1" lang="es-ES_tradnl" sz="2400" spc="-1" strike="noStrike" baseline="30000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4114800"/>
            <a:ext cx="121932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838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457200"/>
            <a:ext cx="0" cy="228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5760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1905120" y="28195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962520" y="4419720"/>
            <a:ext cx="0" cy="30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3429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34290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510552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67080" y="51814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14600" y="510552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1981080"/>
            <a:ext cx="380880" cy="609840"/>
          </a:xfrm>
          <a:prstGeom prst="downArrow">
            <a:avLst>
              <a:gd name="adj1" fmla="val 50000"/>
              <a:gd name="adj2" fmla="val 40028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9810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638680" y="2895120"/>
            <a:ext cx="0" cy="304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000"/>
            </a:br>
            <a:r>
              <a:rPr b="1" lang="es-ES" sz="4000" spc="-1" strike="noStrike">
                <a:solidFill>
                  <a:srgbClr val="ff0066"/>
                </a:solidFill>
                <a:latin typeface="Tahoma"/>
              </a:rPr>
              <a:t>FACTORES NEUROHUMOR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16000" y="27432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Tono Simpát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Renina-AII-aldostero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triopep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0" lang="es-ES" sz="3200" spc="-1" strike="noStrike">
                <a:solidFill>
                  <a:srgbClr val="ffff66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692360" y="285228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692360" y="33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692360" y="515736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92360" y="407664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4581360"/>
            <a:ext cx="0" cy="432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66"/>
                </a:solidFill>
                <a:latin typeface="Tahoma"/>
              </a:rPr>
              <a:t>DEPLECIÓN EC:</a:t>
            </a:r>
            <a:br>
              <a:rPr sz="4400"/>
            </a:br>
            <a:r>
              <a:rPr b="1" lang="es-ES" sz="4400" spc="-1" strike="noStrike">
                <a:solidFill>
                  <a:srgbClr val="ff0066"/>
                </a:solidFill>
                <a:latin typeface="Tahoma"/>
              </a:rPr>
              <a:t>MANIFESTAC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HIPOTENSIÓN: 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rtostática           sho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PRESIÓN VENOSA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YUGULARES PL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SEQUEDAD DE PIEL Y MUCO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Signo del plieg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DISMINUCIÓN DE LA DIURES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66"/>
                </a:solidFill>
                <a:latin typeface="Arial"/>
              </a:rPr>
              <a:t>olig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0360" y="2276640"/>
            <a:ext cx="792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15680" y="533520"/>
            <a:ext cx="427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UA CORPOR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680" y="1639800"/>
            <a:ext cx="7986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ontenido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otal 60% (hombre); 50% (muj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partimientos: Intracelular (2/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tracelular (1/3)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uncion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lv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ermorregul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ehícu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quilibrio de distrib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Factores modificadores: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e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tenido de grasa corpo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6000" y="658800"/>
            <a:ext cx="86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66"/>
                </a:solidFill>
                <a:latin typeface="Tahoma"/>
              </a:rPr>
              <a:t>Parámetros Normales del Equilibrio Hidrosali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87000" y="2286000"/>
            <a:ext cx="636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Natremia (Na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4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Kalemia (K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+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 4.5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Cloremia (Cl</a:t>
            </a:r>
            <a:r>
              <a:rPr b="1" lang="es-ES_tradnl" sz="3200" spc="-1" strike="noStrike" baseline="30000">
                <a:solidFill>
                  <a:srgbClr val="ffff66"/>
                </a:solidFill>
                <a:latin typeface="Tahoma"/>
              </a:rPr>
              <a:t>-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)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100 mEq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Osmolaridad: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ffff66"/>
                </a:solidFill>
                <a:latin typeface="Tahoma"/>
              </a:rPr>
              <a:t>285 mOsm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ESQUEMA DE DARROW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5029200"/>
            <a:ext cx="403848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447560" y="5029200"/>
            <a:ext cx="297180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133360"/>
            <a:ext cx="0" cy="28954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27672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315200" y="3428640"/>
            <a:ext cx="0" cy="16002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429000"/>
            <a:ext cx="40384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7840" y="3962520"/>
            <a:ext cx="8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E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3120" y="39607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37760" y="209700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Osmolar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76920" y="514512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5520" y="51800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96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2200" y="438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73392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343400" y="3962520"/>
            <a:ext cx="990720" cy="0"/>
          </a:xfrm>
          <a:prstGeom prst="line">
            <a:avLst/>
          </a:prstGeom>
          <a:ln w="57240">
            <a:solidFill>
              <a:srgbClr val="66ff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88440" y="380880"/>
            <a:ext cx="517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ahoma"/>
              </a:rPr>
              <a:t>Concepto de balan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447920"/>
            <a:ext cx="7696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Balance = Ingresos -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cero ó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ul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Igualdad constan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re ingresos y e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nega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g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Pérdid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ance </a:t>
            </a:r>
            <a:r>
              <a:rPr b="1" lang="en-US" sz="3200" spc="-1" strike="noStrike">
                <a:solidFill>
                  <a:srgbClr val="66ff33"/>
                </a:solidFill>
                <a:latin typeface="Tahoma"/>
              </a:rPr>
              <a:t>positivo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resos &lt; Ingreso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ganancia ne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840" y="609480"/>
            <a:ext cx="885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REGULACIÓN DE VOLUMEN Y OSMOLAR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3640" y="1828800"/>
            <a:ext cx="8245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Sistema simpá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Eje renina-angiotensina-aldost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Péptido natriurético auricular (atriopept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natriur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Hormona antidiurética (e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Mecanismo de la sed (ingresos de agu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2971800" cy="23778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2727360"/>
            <a:ext cx="1219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il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6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114300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Gástrica 2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48292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Pancreática 7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30924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7018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0000"/>
                </a:solidFill>
                <a:latin typeface="Times New Roman"/>
              </a:rPr>
              <a:t>Heces 1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94156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ecreción Intestinal 3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254320"/>
            <a:ext cx="228600" cy="3045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905120" y="2666880"/>
            <a:ext cx="304560" cy="3812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178000"/>
            <a:ext cx="0" cy="60948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437920" y="2558880"/>
            <a:ext cx="30492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048120"/>
            <a:ext cx="14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absorción de agua en Intestino 7.8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980720" y="1720800"/>
            <a:ext cx="381240" cy="5335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95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Saliva  1.5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86000" y="1110960"/>
            <a:ext cx="304920" cy="7596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049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INGESTA 2.000 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152280"/>
            <a:ext cx="76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Bebida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28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Alimentos 1.0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742840" y="380880"/>
            <a:ext cx="30492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80880"/>
            <a:ext cx="381240" cy="15264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7621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638680" y="1371600"/>
            <a:ext cx="1646280" cy="20574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638680" y="22860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ulm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762120"/>
            <a:ext cx="380880" cy="533160"/>
          </a:xfrm>
          <a:prstGeom prst="upArrow">
            <a:avLst>
              <a:gd name="adj1" fmla="val 50000"/>
              <a:gd name="adj2" fmla="val 3499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914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Times New Roman"/>
              </a:rPr>
              <a:t>Respi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791320" y="3429000"/>
            <a:ext cx="3124080" cy="2152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5200" y="4952880"/>
            <a:ext cx="304920" cy="99072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58672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Orina 1.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295280" y="464832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86200" y="5410080"/>
            <a:ext cx="16765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Perspiración Insens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y su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400 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571500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3657600"/>
            <a:ext cx="2514600" cy="1600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Agua Endóge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00ff"/>
                </a:solidFill>
                <a:latin typeface="Times New Roman"/>
              </a:rPr>
              <a:t>300 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VÍAS DE INGRESOS DE AGU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602000" y="2438280"/>
            <a:ext cx="590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Beb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limentos (hume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Agua metabólica (endóge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I.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Ingresos extraordin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Soluciones parenterales (sue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3:26:57Z</dcterms:created>
  <dc:creator>Informatica</dc:creator>
  <dc:description/>
  <dc:language>en-US</dc:language>
  <cp:lastModifiedBy>Usuario</cp:lastModifiedBy>
  <dcterms:modified xsi:type="dcterms:W3CDTF">2005-10-05T13:25:16Z</dcterms:modified>
  <cp:revision>43</cp:revision>
  <dc:subject/>
  <dc:title>TRASTORNOS DE LA OSMOLARIDAD</dc:title>
</cp:coreProperties>
</file>