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6370-FE62-4CC0-AA88-6323B96E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2D05-2F7E-487D-AE54-A76C4EB4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F4B4-59E1-4795-9E55-8D2D9568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CBBA-16FB-4674-B397-8F9874CC8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AB5C-D7A3-475A-B011-B9AAC295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1F48-9ABE-4B3D-90DA-C37AD49D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C68B-8D45-437E-AC32-6444F20C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3A38-3D00-4AF6-9B0B-06FD7054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1F6F-F8A6-4F7E-BA8D-92CA5BEC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3A00-2142-4C02-91AB-5BE934BB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7FF3-955E-4876-BAAD-369DBF0B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EEAD-8F78-43F4-AE36-98BA6711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6ABB-D290-440E-8151-E9B786BD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C648-34DD-41C1-8699-0F28AF8B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381E-E506-4ACC-A130-C459545D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8283-CF61-4F16-AA5C-F21F18A7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8F8A-E8F6-489E-AD9B-C6BB902D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0E59-40FB-4CF4-8EDA-744B8D7E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4218-F2D9-467D-AFE1-BC40DC2C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C275-2388-404F-A90F-152F790B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6888-3AF9-4504-8554-C29B99EE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EE03-A92F-4075-ACF9-7938DE1B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E6BF-DB82-4B01-81F7-8A081C4A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FC3B-0803-48F2-8A45-51520935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4831-16E1-430F-A8E7-3BCA2E4DD717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03B8-1EF5-47D8-AF3A-1A1DF3F0AAD0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86080" y="1828800"/>
            <a:ext cx="60876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ALTERACIONES DE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HOMEOSTASIS 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AGUA Y DEL SODI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5956200"/>
            <a:ext cx="334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Dr. Ramón Rodrigo 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27160" y="641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809880" y="0"/>
          <a:ext cx="123048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0"/>
                    <a:ext cx="12304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VÍAS DE EGRESOS DE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AGU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1148040" y="2235240"/>
            <a:ext cx="7467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Piel: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sudo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perspiración insen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Pulmón: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Humedad del aire espir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Riñón: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Or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T. Digestivo: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He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BALANCE EXTERNO DE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AGU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748800" y="2378160"/>
            <a:ext cx="776736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ff33"/>
                </a:solidFill>
                <a:latin typeface="Arial"/>
              </a:rPr>
              <a:t>Ingresos:</a:t>
            </a:r>
            <a:r>
              <a:rPr b="1" lang="es-ES_tradnl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66ff33"/>
                </a:solidFill>
                <a:latin typeface="Arial"/>
              </a:rPr>
              <a:t>Egres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Bebida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1000 mL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Pulmón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400 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Alimentos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1000 mL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Piel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400 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A. endógena    300 mL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Orina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          1400 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Heces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100 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TOTAL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2300 mL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2300 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5867280"/>
            <a:ext cx="30481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867280"/>
            <a:ext cx="30481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BALANCE NEGATIVO DE AGUA (Deshidratación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593640" y="2249640"/>
            <a:ext cx="7872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MECANISMOS DE PRODUC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Disminución de ingresos: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umento de egres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Náufrago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udoración profu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esierto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oliuria acuo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Estado de coma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iperventi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año encefálico d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entro de la sed (ancian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BALANCE (-) DE AGUA: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ONSECUENCIA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5029200"/>
            <a:ext cx="403848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447560" y="5029200"/>
            <a:ext cx="297180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00600" y="2133360"/>
            <a:ext cx="0" cy="28954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27672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31520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3429000"/>
            <a:ext cx="40384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809880" y="2743200"/>
            <a:ext cx="0" cy="228600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248520" y="2743200"/>
            <a:ext cx="0" cy="228600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2743200"/>
            <a:ext cx="243864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25160" y="3927600"/>
            <a:ext cx="8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E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92200" y="39276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37040" y="209880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Osmolar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76560" y="51465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25160" y="5181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Manifestaciones del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Balance (-) de Agu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1481760" y="2637000"/>
            <a:ext cx="6861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Pérdida de pe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Disminución de la diur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Sequedad de piel y mucos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Síndrome hiperosmolar: 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hipernatr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Convuls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Coma, mue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Arial"/>
              </a:rPr>
              <a:t>BALANCE POSITIVO DE AGUA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 (Sobrehidratación o intoxicación acuos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6880" y="2719440"/>
            <a:ext cx="83768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Mecanismos de produc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umento de ingresos: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Disminución de egres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olidipsia primaria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IRA, IR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ecreción inapropiad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e ADH: SSIAD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o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rog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AE disminuido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BALANCE (+) DE AGUA: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CONSECUENCI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5029200"/>
            <a:ext cx="403848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447560" y="5029200"/>
            <a:ext cx="297180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800600" y="2133360"/>
            <a:ext cx="0" cy="28954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27672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731520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3429000"/>
            <a:ext cx="40384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25160" y="3927600"/>
            <a:ext cx="8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E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92200" y="39276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37040" y="209880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Osmolar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2400" y="52578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5160" y="52578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3809880"/>
            <a:ext cx="0" cy="12193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229600" y="3809880"/>
            <a:ext cx="0" cy="12193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3809880"/>
            <a:ext cx="548640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Manifestaciones del 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Balance (+) de agu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1981080" y="2590920"/>
            <a:ext cx="6838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Aumento de pe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Supresión de la 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Síndrome hipoosmolar: 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hiponatremia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Apatía, aletarg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Calamb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Cefalea, vómi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Convuls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ERAPIA DE CORRECCIÓN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451080" y="2362320"/>
            <a:ext cx="8570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Balance (-) de agua: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Reposición del déficit de agua (Ej. Glucosa 5%: isotónic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Balance (+) de agu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Restringir ingresos de agua y controlar las pérd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La corrección de la osmolaridad no debe ser brusca p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evitar síndrome de desmielinización osmótica que dej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secuelas neurológ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83808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ESTADOS DE DEPLECIÓN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             DEL VOLUMEN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          EXTRACELUL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27120" y="838080"/>
            <a:ext cx="78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TRASTORNOS DEL BALANCE HIDROELECTROLÍ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828800"/>
            <a:ext cx="83599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Balance negativo de agua: deshidra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Balance positivo de agua: intoxicación acuosa, 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                     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sobrehidra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Balance negativo de sodio y agua: depleción de 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volumen 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Balance positivo de sodio y agua: ed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894960" y="403200"/>
            <a:ext cx="78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Volumen extracelular   =   Intravascular  + Interst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           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66ff33"/>
                </a:solidFill>
                <a:latin typeface="Arial"/>
              </a:rPr>
              <a:t>(volem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02200" y="981000"/>
            <a:ext cx="495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Intravascular:  </a:t>
            </a:r>
            <a:r>
              <a:rPr b="1" lang="es-ES_tradnl" sz="2400" spc="-1" strike="noStrike">
                <a:solidFill>
                  <a:srgbClr val="66ff33"/>
                </a:solidFill>
                <a:latin typeface="Arial"/>
              </a:rPr>
              <a:t>arterial  +  veno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8400" y="2009880"/>
            <a:ext cx="86662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VOLUMEN ARTERIAL EFECTIVO: VA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1) Volumen arterial adecuado para mantener la perfu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e los órga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2) Depende del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“llene” arte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3) Puede coexistir con VEC normal, contraído o expandi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4) Es el parámetro regulado por los mecanism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ncargados de mantener el V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DEPLECIÓN DEL VAE :</a:t>
            </a: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4400" spc="-1" strike="noStrike">
                <a:solidFill>
                  <a:srgbClr val="ff0066"/>
                </a:solidFill>
                <a:latin typeface="Tahoma"/>
              </a:rPr>
              <a:t>CAUS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HEMORRAG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QUEMADU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PÉRDIDAS GASTROINTESTINALE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Tahoma"/>
              </a:rPr>
              <a:t>Vómitos, diarreas, fístul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PÉRDIDAS RENALES: </a:t>
            </a:r>
            <a:r>
              <a:rPr b="0" lang="es-ES" sz="2800" spc="-1" strike="noStrike">
                <a:solidFill>
                  <a:srgbClr val="ff0066"/>
                </a:solidFill>
                <a:latin typeface="Tahoma"/>
              </a:rPr>
              <a:t>diuréticos</a:t>
            </a:r>
            <a:r>
              <a:rPr b="0" lang="es-ES" sz="3200" spc="-1" strike="noStrike">
                <a:solidFill>
                  <a:srgbClr val="ff0066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Tahoma"/>
              </a:rPr>
              <a:t>Hipoaldosteronismo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FORMACIÓN DE UN TERCER ESPACI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Tahoma"/>
              </a:rPr>
              <a:t>Ascitis, peritonitis, pericardit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3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3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3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3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3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3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3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3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BALANCE (-) DE SODIO Y AGUA: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ONSECUENCI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19720" y="5029200"/>
            <a:ext cx="403848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447560" y="5029200"/>
            <a:ext cx="297180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800600" y="2133360"/>
            <a:ext cx="0" cy="28954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27672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31520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76720" y="3429000"/>
            <a:ext cx="40384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25160" y="3927600"/>
            <a:ext cx="8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EE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92200" y="39276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E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37040" y="209880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Osmolar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76560" y="51465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5160" y="5181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92436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352680" y="304920"/>
            <a:ext cx="21337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V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00200" y="2666880"/>
            <a:ext cx="167652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AD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81080" y="1447920"/>
            <a:ext cx="5105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Barorreceptores Arteri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05320" y="2666880"/>
            <a:ext cx="175248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Simpá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52480" y="4114800"/>
            <a:ext cx="167652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Reten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86400" y="2666880"/>
            <a:ext cx="25146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Ren - AII - A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57400" y="5867280"/>
            <a:ext cx="48006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Mante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V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86400" y="4114800"/>
            <a:ext cx="167652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Reten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Na</a:t>
            </a:r>
            <a:r>
              <a:rPr b="1" lang="es-ES_tradnl" sz="2400" spc="-1" strike="noStrike" baseline="30000">
                <a:solidFill>
                  <a:srgbClr val="ff0066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9880" y="4114800"/>
            <a:ext cx="121932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RV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14800" y="838080"/>
            <a:ext cx="380880" cy="609840"/>
          </a:xfrm>
          <a:prstGeom prst="downArrow">
            <a:avLst>
              <a:gd name="adj1" fmla="val 50000"/>
              <a:gd name="adj2" fmla="val 40028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457200"/>
            <a:ext cx="0" cy="2286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657600" y="2819520"/>
            <a:ext cx="0" cy="3045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905120" y="2819520"/>
            <a:ext cx="0" cy="3045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962520" y="4419720"/>
            <a:ext cx="0" cy="3045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91120" y="1981080"/>
            <a:ext cx="380880" cy="609840"/>
          </a:xfrm>
          <a:prstGeom prst="downArrow">
            <a:avLst>
              <a:gd name="adj1" fmla="val 50000"/>
              <a:gd name="adj2" fmla="val 40028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67080" y="3429000"/>
            <a:ext cx="381240" cy="609480"/>
          </a:xfrm>
          <a:prstGeom prst="downArrow">
            <a:avLst>
              <a:gd name="adj1" fmla="val 50000"/>
              <a:gd name="adj2" fmla="val 39967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0" y="3429000"/>
            <a:ext cx="380880" cy="609480"/>
          </a:xfrm>
          <a:prstGeom prst="downArrow">
            <a:avLst>
              <a:gd name="adj1" fmla="val 50000"/>
              <a:gd name="adj2" fmla="val 40005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248520" y="3429000"/>
            <a:ext cx="380880" cy="609480"/>
          </a:xfrm>
          <a:prstGeom prst="downArrow">
            <a:avLst>
              <a:gd name="adj1" fmla="val 50000"/>
              <a:gd name="adj2" fmla="val 40005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5880" y="5105520"/>
            <a:ext cx="381240" cy="609480"/>
          </a:xfrm>
          <a:prstGeom prst="downArrow">
            <a:avLst>
              <a:gd name="adj1" fmla="val 50000"/>
              <a:gd name="adj2" fmla="val 39967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67080" y="5181480"/>
            <a:ext cx="381240" cy="609840"/>
          </a:xfrm>
          <a:prstGeom prst="downArrow">
            <a:avLst>
              <a:gd name="adj1" fmla="val 50000"/>
              <a:gd name="adj2" fmla="val 39991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14600" y="5105520"/>
            <a:ext cx="380880" cy="609480"/>
          </a:xfrm>
          <a:prstGeom prst="downArrow">
            <a:avLst>
              <a:gd name="adj1" fmla="val 50000"/>
              <a:gd name="adj2" fmla="val 40005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62320" y="1981080"/>
            <a:ext cx="380880" cy="609840"/>
          </a:xfrm>
          <a:prstGeom prst="downArrow">
            <a:avLst>
              <a:gd name="adj1" fmla="val 50000"/>
              <a:gd name="adj2" fmla="val 40028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981080"/>
            <a:ext cx="381240" cy="609840"/>
          </a:xfrm>
          <a:prstGeom prst="downArrow">
            <a:avLst>
              <a:gd name="adj1" fmla="val 50000"/>
              <a:gd name="adj2" fmla="val 39991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638680" y="2895120"/>
            <a:ext cx="0" cy="3049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66"/>
                </a:solidFill>
                <a:latin typeface="Tahoma"/>
              </a:rPr>
              <a:t>DEPLECIÓN EC:</a:t>
            </a:r>
            <a:br>
              <a:rPr sz="4000"/>
            </a:br>
            <a:r>
              <a:rPr b="1" lang="es-ES" sz="4000" spc="-1" strike="noStrike">
                <a:solidFill>
                  <a:srgbClr val="ff0066"/>
                </a:solidFill>
                <a:latin typeface="Tahoma"/>
              </a:rPr>
              <a:t>FACTORES NEUROHUMORA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16000" y="274320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Tono Simpát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Renina-AII-aldostero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Atriopept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Hormona natriuré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AD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1692360" y="2852280"/>
            <a:ext cx="0" cy="360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692360" y="3357360"/>
            <a:ext cx="0" cy="360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692360" y="5157360"/>
            <a:ext cx="0" cy="360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92360" y="4076640"/>
            <a:ext cx="0" cy="4320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92360" y="4581360"/>
            <a:ext cx="0" cy="4320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DEPLECIÓN EC:</a:t>
            </a:r>
            <a:br>
              <a:rPr sz="4400"/>
            </a:br>
            <a:r>
              <a:rPr b="1" lang="es-ES" sz="4400" spc="-1" strike="noStrike">
                <a:solidFill>
                  <a:srgbClr val="ff0066"/>
                </a:solidFill>
                <a:latin typeface="Tahoma"/>
              </a:rPr>
              <a:t>MANIFESTACION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HIPOTENSIÓN: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ortostática           sho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TAQUICAR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DISMINUCIÓN DE PRESIÓN VENOSA CENT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YUGULARES PLAN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SEQUEDAD DE PIEL Y MUCOS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Signo del plieg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DISMINUCIÓN DE LA DIURES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olig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40360" y="2276640"/>
            <a:ext cx="79236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515680" y="533520"/>
            <a:ext cx="427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AGUA CORPOR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680" y="1639800"/>
            <a:ext cx="7986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ontenido: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total 60% (hombre); 50% (muj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ompartimientos: Intracelular (2/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xtracelular (1/3)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Funciones: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olv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Termorregul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ehícu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quilibrio de distrib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Factores modificadores: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ex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ontenido de grasa corpo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6000" y="658800"/>
            <a:ext cx="86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Tahoma"/>
              </a:rPr>
              <a:t>Parámetros Normales del Equilibrio Hidrosali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87000" y="2286000"/>
            <a:ext cx="6366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Natremia (Na</a:t>
            </a:r>
            <a:r>
              <a:rPr b="1" lang="es-ES_tradnl" sz="3200" spc="-1" strike="noStrike" baseline="30000">
                <a:solidFill>
                  <a:srgbClr val="ffff66"/>
                </a:solidFill>
                <a:latin typeface="Tahoma"/>
              </a:rPr>
              <a:t>+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):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140 mEq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Kalemia (K</a:t>
            </a:r>
            <a:r>
              <a:rPr b="1" lang="es-ES_tradnl" sz="3200" spc="-1" strike="noStrike" baseline="30000">
                <a:solidFill>
                  <a:srgbClr val="ffff66"/>
                </a:solidFill>
                <a:latin typeface="Tahoma"/>
              </a:rPr>
              <a:t>+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):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 4.5 mEq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Cloremia (Cl</a:t>
            </a:r>
            <a:r>
              <a:rPr b="1" lang="es-ES_tradnl" sz="3200" spc="-1" strike="noStrike" baseline="30000">
                <a:solidFill>
                  <a:srgbClr val="ffff66"/>
                </a:solidFill>
                <a:latin typeface="Tahoma"/>
              </a:rPr>
              <a:t>-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):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100 mEq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Osmolaridad: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285 mOsm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ESQUEMA DE DARRO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5029200"/>
            <a:ext cx="403848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447560" y="5029200"/>
            <a:ext cx="297180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800600" y="2133360"/>
            <a:ext cx="0" cy="28954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27672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31520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3429000"/>
            <a:ext cx="40384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07840" y="3962520"/>
            <a:ext cx="8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E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3120" y="39607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37760" y="209700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Osmolar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76920" y="51451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5520" y="51800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96200" y="438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82200" y="438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3733920"/>
            <a:ext cx="914400" cy="0"/>
          </a:xfrm>
          <a:prstGeom prst="line">
            <a:avLst/>
          </a:prstGeom>
          <a:ln w="57240">
            <a:solidFill>
              <a:srgbClr val="66ff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343400" y="3962520"/>
            <a:ext cx="990720" cy="0"/>
          </a:xfrm>
          <a:prstGeom prst="line">
            <a:avLst/>
          </a:prstGeom>
          <a:ln w="57240">
            <a:solidFill>
              <a:srgbClr val="66ff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88440" y="380880"/>
            <a:ext cx="517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Concepto de balan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1447920"/>
            <a:ext cx="7696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Balance = Ingresos - Egre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lance 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cero ó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nul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Igualdad constan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tre ingresos y egre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lance 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negativo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gresos &gt; Ingreso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Pérdida ne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lance 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positivo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gresos &lt; Ingreso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ganancia ne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68840" y="609480"/>
            <a:ext cx="885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REGULACIÓN DE VOLUMEN Y OSMOLAR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3640" y="1828800"/>
            <a:ext cx="8245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Sistema simpá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Eje renina-angiotensina-aldoster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Péptido natriurético auricular (atriopepti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Hormona natriuré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Hormona antidiurética (egresos de agu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Mecanismo de la sed (ingresos de agu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2971800" cy="2377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80880" y="2727360"/>
            <a:ext cx="1219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Bili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6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1143000"/>
            <a:ext cx="99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Secreción Gástrica 2.0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2482920"/>
            <a:ext cx="99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Secreción Pancreática 7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30924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37018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Times New Roman"/>
              </a:rPr>
              <a:t>Heces 100 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294156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Secreción Intestinal 3.0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2254320"/>
            <a:ext cx="228600" cy="3045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905120" y="2666880"/>
            <a:ext cx="304560" cy="38124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2178000"/>
            <a:ext cx="0" cy="60948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2437920" y="2558880"/>
            <a:ext cx="304920" cy="5335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304812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Reabsorción de agua en Intestino 7.8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1980720" y="1720800"/>
            <a:ext cx="381240" cy="5335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9586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Saliva  1.5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286000" y="1110960"/>
            <a:ext cx="304920" cy="759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30492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INGESTA 2.000 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15228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Bebidas 1.0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1522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Alimentos 1.0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742840" y="380880"/>
            <a:ext cx="304920" cy="15264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3880" y="380880"/>
            <a:ext cx="381240" cy="15264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76212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638680" y="1371600"/>
            <a:ext cx="1646280" cy="20574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638680" y="228600"/>
            <a:ext cx="762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Pulmó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4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7621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9144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Times New Roman"/>
              </a:rPr>
              <a:t>Respir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791320" y="3429000"/>
            <a:ext cx="3124080" cy="2152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315200" y="4952880"/>
            <a:ext cx="304920" cy="99072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10280" y="586728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Orina 1.4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1295280" y="464832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886200" y="5410080"/>
            <a:ext cx="167652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Perspiración Insensi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 sud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4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5715000"/>
            <a:ext cx="1066680" cy="380880"/>
          </a:xfrm>
          <a:prstGeom prst="rightArrow">
            <a:avLst>
              <a:gd name="adj1" fmla="val 50000"/>
              <a:gd name="adj2" fmla="val 7001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8120" y="3657600"/>
            <a:ext cx="2514600" cy="1600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00ff"/>
                </a:solidFill>
                <a:latin typeface="Times New Roman"/>
              </a:rPr>
              <a:t>Agua Endóge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00ff"/>
                </a:solidFill>
                <a:latin typeface="Times New Roman"/>
              </a:rPr>
              <a:t>300 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VÍAS DE INGRESOS DE AGU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1602000" y="2438280"/>
            <a:ext cx="590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I.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Ingresos ordin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Beb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Alimentos (humed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Agua metabólica (endóge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II.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Ingresos extraordin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Soluciones parenterales (suer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13:26:57Z</dcterms:created>
  <dc:creator>Informatica</dc:creator>
  <dc:description/>
  <dc:language>en-US</dc:language>
  <cp:lastModifiedBy>Usuario</cp:lastModifiedBy>
  <dcterms:modified xsi:type="dcterms:W3CDTF">2005-10-05T13:25:16Z</dcterms:modified>
  <cp:revision>43</cp:revision>
  <dc:subject/>
  <dc:title>TRASTORNOS DE LA OSMOLARIDAD</dc:title>
</cp:coreProperties>
</file>