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F60-42C7-432A-B740-0F6FEB32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323-8833-448E-AFB6-CAD1BC9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30-62EA-41CB-990B-8F689F9B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FE5-1BB9-48DB-80BE-91DAE38B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3FF-ACD2-4E97-B6BE-DF9E4A3A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DCF-D27E-4EC5-ACF8-4AEE3CC6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2EB-1AA0-42D5-B4FB-195F90B8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D50-558A-48DF-86F6-14B8E4E5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4B5-8766-44BB-AAA1-59BA481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9D6-59A3-44CD-834F-3326A03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7DF-3D7B-406D-96D9-F60CF5E2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DC0-EFF7-4FB9-B0CA-D9E4E90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E5EA-50FC-4D90-B085-08F57FE7D3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roducindo necrosis, fibrosis (disf diastólica) y apoptosi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ntos con &gt;daño d la contractilidad y &gt; dilatación. La dilatación tambien compensa la ↓ del VE  pero tambien sigue dañando la contractilidad y ↑ la postcarga con lo que ↓ mas el VE y ya no puede haber más hipertr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que depende de: 1.-velocidad de desactivación de miofilamentos; 2.magnitud de la precarga y postcarga; 3.-magnitud de la fuerza restauradora que es una fuerza distensiva que se origina cuando el miocardio se acorta y comp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Disfunción diastólica en sobrecar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Se produce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e post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olág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Alteración del SRP en la hipertrofia 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captación y lib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ación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a </a:t>
            </a:r>
            <a:r>
              <a:rPr b="0" i="1" lang="es-E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roduc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una 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lajación ina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 grosor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la pa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ausas de Disfunción Diastó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iocárdicas                         Aumento de la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ipertrofia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Dilatación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squemia  miocárdica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filtración del mioca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árdicas                       Derrame pericárd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arditis constri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xtra cardiacas                  Aumento de presión intratorácica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( ej . PEP muy alto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teracción ventricular       Sobrecarga del ventrículo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45000"/>
            <a:ext cx="8064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 Black"/>
              </a:rPr>
              <a:t>Con el tiempo </a:t>
            </a:r>
            <a:r>
              <a:rPr b="0" i="1" lang="en-US" sz="1800" spc="-1" strike="noStrike">
                <a:solidFill>
                  <a:srgbClr val="ffff00"/>
                </a:solidFill>
                <a:latin typeface="Arial Black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440" y="914400"/>
            <a:ext cx="860112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. Cor.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TP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to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erva de vasodilatación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Volumen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osforilación  oxidativa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Lactat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pH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i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P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PC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a precarga en VI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dinamia. La heterodinamia se repite cada vez que el paciente hace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íntoma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0"/>
            <a:ext cx="61470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9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858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Hipoperfusión tisular, con aporte insuficiente de O</a:t>
            </a:r>
            <a:r>
              <a:rPr b="0" i="1" lang="es-ES_tradnl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Causas: hipovolemia por sangramiento y otras pérdidas; cardiogénico, distributivo: shock sép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el Vexp y ↑ postcarga. La ↓ de precarga ↓ Vexp puede ser consecuencia de pérdida de volemia por sangramiento, pérdidas gastrointestinales (Shock hipovolém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veloc de acortamiento, y para un determinado tiempo el Vexp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Usuario</cp:lastModifiedBy>
  <dcterms:modified xsi:type="dcterms:W3CDTF">2005-10-04T12:04:29Z</dcterms:modified>
  <cp:revision>137</cp:revision>
  <dc:subject/>
  <dc:title>Diapositiva 1</dc:title>
</cp:coreProperties>
</file>