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598C-7B94-4724-9055-8AAE49DA2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615A-18B6-4F72-AC77-651559EA8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D66E-86E5-401C-BD1D-A0C0EAE09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7392-994E-473A-85FD-6D966345A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D3521-DD9E-4428-9AAF-A1EC5A841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DCDA7-C798-442A-B517-51F6F588C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17037-09E8-42DB-B810-A772B2ABB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7DA92-B29C-4BA5-B7B3-E15D5A1DA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8B9E4-117D-4490-8963-CEE086703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A1D41-AF67-48B0-B049-A73990A53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52732-B87B-47EF-8C68-7A7333D9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2492-F071-41B0-9D99-BF721BE3B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2D87C-68E1-47DF-BA90-F8682138F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55C82-67DF-438F-89E5-ABACFB407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D7845-3759-40CD-B6A6-976F7E57E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A6142-FB46-4400-8B6A-456B35D22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915AD-2E5A-4F96-998F-E7B40429F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C88A-C4F3-4283-92FF-551E2C7BB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A45B-7D8E-4B49-99C2-A00674C14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A3A8-8821-4272-8771-69B464A34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94C0-298B-4E47-BFA5-B45C359DF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5A16-B0D2-4CCF-A6FA-8756B112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7FFE-1B9E-45CE-8A5F-7819FDACE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B67D-B030-46BE-92A8-C4C89D9E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86473-9191-42AD-A9D8-E4185098264D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832B6-8C5F-44D2-8830-169AD645380E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054080" y="2286000"/>
            <a:ext cx="7328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ISIOPATOLOGÍ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E  LO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STADOS   EDEMATOS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48120" y="5638680"/>
            <a:ext cx="3886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Dr. Ramón Rodrigo 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886200" y="0"/>
          <a:ext cx="91440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0"/>
                    <a:ext cx="9144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ahoma"/>
              </a:rPr>
              <a:t>Obstrucción linfática y venosa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379440" y="2276640"/>
            <a:ext cx="8328240" cy="32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99"/>
                </a:solidFill>
                <a:latin typeface="Tahoma"/>
              </a:rPr>
              <a:t>Neoplasias (nódulos maligno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99"/>
                </a:solidFill>
                <a:latin typeface="Tahoma"/>
              </a:rPr>
              <a:t>Cirrosis hepática (nódulos de regeneració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99"/>
                </a:solidFill>
                <a:latin typeface="Tahoma"/>
              </a:rPr>
              <a:t>Edema pulmonar agu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99"/>
                </a:solidFill>
                <a:latin typeface="Tahoma"/>
              </a:rPr>
              <a:t>Obstrucción venosa lo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533520" y="260280"/>
            <a:ext cx="8610480" cy="14320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   </a:t>
            </a:r>
            <a:r>
              <a:rPr b="1" lang="es-ES" sz="4400" spc="-1" strike="noStrike">
                <a:solidFill>
                  <a:srgbClr val="ff0066"/>
                </a:solidFill>
                <a:latin typeface="Tahoma"/>
              </a:rPr>
              <a:t>Presión oncótica interstici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826920" y="692280"/>
            <a:ext cx="0" cy="50472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48680" y="2092320"/>
            <a:ext cx="68101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6ff33"/>
                </a:solidFill>
                <a:latin typeface="Tahoma"/>
              </a:rPr>
              <a:t>Hipotiroidism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Tahoma"/>
              </a:rPr>
              <a:t>Aumento de mucopolisacárid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Tahoma"/>
              </a:rPr>
              <a:t>(macromoléculas) en el interstici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Tahoma"/>
              </a:rPr>
              <a:t>subcutáneo que induce transloc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Tahoma"/>
              </a:rPr>
              <a:t>de líquido, lo que produce el llamad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66"/>
                </a:solidFill>
                <a:latin typeface="Tahoma"/>
              </a:rPr>
              <a:t>MIXEDE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444680" y="187200"/>
            <a:ext cx="637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66"/>
                </a:solidFill>
                <a:latin typeface="Arial"/>
              </a:rPr>
              <a:t>DAÑO HEPÁTICO POR ETAN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4920" y="1523880"/>
            <a:ext cx="27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Et-OH  +  NAD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124080" y="1828800"/>
            <a:ext cx="152424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911840" y="1600200"/>
            <a:ext cx="403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Et-CHO  +  NADH  +  H</a:t>
            </a:r>
            <a:r>
              <a:rPr b="1" lang="es-ES_tradnl" sz="28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71800" y="914400"/>
            <a:ext cx="264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ff33"/>
                </a:solidFill>
                <a:latin typeface="Tahoma"/>
              </a:rPr>
              <a:t>Deshidrogena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ff33"/>
                </a:solidFill>
                <a:latin typeface="Tahoma"/>
              </a:rPr>
              <a:t>alcohól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9000" y="2286000"/>
            <a:ext cx="8405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ff33"/>
                </a:solidFill>
                <a:latin typeface="Tahoma"/>
              </a:rPr>
              <a:t>Aumento de la relación NADH/N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ff33"/>
                </a:solidFill>
                <a:latin typeface="Tahoma"/>
              </a:rPr>
              <a:t>Esteat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ff33"/>
                </a:solidFill>
                <a:latin typeface="Tahoma"/>
              </a:rPr>
              <a:t>Inflam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ff33"/>
                </a:solidFill>
                <a:latin typeface="Tahoma"/>
              </a:rPr>
              <a:t>Fibrosis con nódulos de regeneración (cirro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ff33"/>
                </a:solidFill>
                <a:latin typeface="Tahoma"/>
              </a:rPr>
              <a:t>Insuficiencia hepát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 flipV="1">
            <a:off x="3851280" y="1701360"/>
            <a:ext cx="647640" cy="6476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140360" y="1989000"/>
            <a:ext cx="647640" cy="6480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1763640" y="4292280"/>
            <a:ext cx="647640" cy="6476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1476360" y="4005000"/>
            <a:ext cx="647640" cy="6476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547640" y="1701720"/>
            <a:ext cx="863640" cy="719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258920" y="1989000"/>
            <a:ext cx="865080" cy="719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13080" y="3935520"/>
            <a:ext cx="646200" cy="5731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24360" y="4222800"/>
            <a:ext cx="792000" cy="718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1280" y="3068640"/>
            <a:ext cx="59767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1280" y="3573360"/>
            <a:ext cx="59767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908000" y="2060640"/>
            <a:ext cx="2521080" cy="2592360"/>
          </a:xfrm>
          <a:prstGeom prst="ellipse">
            <a:avLst/>
          </a:prstGeom>
          <a:solidFill>
            <a:srgbClr val="0000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951200" y="2298600"/>
            <a:ext cx="444240" cy="401760"/>
          </a:xfrm>
          <a:custGeom>
            <a:avLst/>
            <a:gdLst/>
            <a:ahLst/>
            <a:rect l="l" t="t" r="r" b="b"/>
            <a:pathLst>
              <a:path w="280" h="253">
                <a:moveTo>
                  <a:pt x="13" y="160"/>
                </a:moveTo>
                <a:cubicBezTo>
                  <a:pt x="25" y="168"/>
                  <a:pt x="34" y="180"/>
                  <a:pt x="46" y="190"/>
                </a:cubicBezTo>
                <a:cubicBezTo>
                  <a:pt x="56" y="199"/>
                  <a:pt x="68" y="204"/>
                  <a:pt x="79" y="211"/>
                </a:cubicBezTo>
                <a:cubicBezTo>
                  <a:pt x="93" y="233"/>
                  <a:pt x="88" y="223"/>
                  <a:pt x="97" y="241"/>
                </a:cubicBezTo>
                <a:cubicBezTo>
                  <a:pt x="175" y="239"/>
                  <a:pt x="192" y="253"/>
                  <a:pt x="241" y="220"/>
                </a:cubicBezTo>
                <a:cubicBezTo>
                  <a:pt x="248" y="210"/>
                  <a:pt x="255" y="207"/>
                  <a:pt x="259" y="196"/>
                </a:cubicBezTo>
                <a:cubicBezTo>
                  <a:pt x="260" y="169"/>
                  <a:pt x="280" y="72"/>
                  <a:pt x="250" y="52"/>
                </a:cubicBezTo>
                <a:cubicBezTo>
                  <a:pt x="216" y="0"/>
                  <a:pt x="125" y="19"/>
                  <a:pt x="76" y="52"/>
                </a:cubicBezTo>
                <a:cubicBezTo>
                  <a:pt x="65" y="69"/>
                  <a:pt x="65" y="84"/>
                  <a:pt x="43" y="91"/>
                </a:cubicBezTo>
                <a:cubicBezTo>
                  <a:pt x="35" y="99"/>
                  <a:pt x="16" y="112"/>
                  <a:pt x="16" y="112"/>
                </a:cubicBezTo>
                <a:cubicBezTo>
                  <a:pt x="9" y="133"/>
                  <a:pt x="0" y="154"/>
                  <a:pt x="22" y="169"/>
                </a:cubicBezTo>
                <a:cubicBezTo>
                  <a:pt x="15" y="148"/>
                  <a:pt x="18" y="145"/>
                  <a:pt x="13" y="160"/>
                </a:cubicBez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813120" y="2257560"/>
            <a:ext cx="397080" cy="353880"/>
          </a:xfrm>
          <a:custGeom>
            <a:avLst/>
            <a:gdLst/>
            <a:ahLst/>
            <a:rect l="l" t="t" r="r" b="b"/>
            <a:pathLst>
              <a:path w="250" h="223">
                <a:moveTo>
                  <a:pt x="100" y="0"/>
                </a:moveTo>
                <a:cubicBezTo>
                  <a:pt x="103" y="15"/>
                  <a:pt x="107" y="30"/>
                  <a:pt x="109" y="45"/>
                </a:cubicBezTo>
                <a:cubicBezTo>
                  <a:pt x="109" y="48"/>
                  <a:pt x="108" y="56"/>
                  <a:pt x="106" y="54"/>
                </a:cubicBezTo>
                <a:cubicBezTo>
                  <a:pt x="102" y="50"/>
                  <a:pt x="99" y="42"/>
                  <a:pt x="103" y="39"/>
                </a:cubicBezTo>
                <a:cubicBezTo>
                  <a:pt x="108" y="36"/>
                  <a:pt x="146" y="61"/>
                  <a:pt x="157" y="66"/>
                </a:cubicBezTo>
                <a:cubicBezTo>
                  <a:pt x="169" y="71"/>
                  <a:pt x="175" y="67"/>
                  <a:pt x="187" y="75"/>
                </a:cubicBezTo>
                <a:cubicBezTo>
                  <a:pt x="196" y="81"/>
                  <a:pt x="214" y="93"/>
                  <a:pt x="214" y="93"/>
                </a:cubicBezTo>
                <a:cubicBezTo>
                  <a:pt x="221" y="123"/>
                  <a:pt x="240" y="148"/>
                  <a:pt x="250" y="177"/>
                </a:cubicBezTo>
                <a:cubicBezTo>
                  <a:pt x="245" y="184"/>
                  <a:pt x="237" y="188"/>
                  <a:pt x="232" y="195"/>
                </a:cubicBezTo>
                <a:cubicBezTo>
                  <a:pt x="220" y="214"/>
                  <a:pt x="231" y="214"/>
                  <a:pt x="208" y="222"/>
                </a:cubicBezTo>
                <a:cubicBezTo>
                  <a:pt x="199" y="221"/>
                  <a:pt x="189" y="223"/>
                  <a:pt x="181" y="219"/>
                </a:cubicBezTo>
                <a:cubicBezTo>
                  <a:pt x="163" y="209"/>
                  <a:pt x="173" y="187"/>
                  <a:pt x="160" y="174"/>
                </a:cubicBezTo>
                <a:cubicBezTo>
                  <a:pt x="147" y="161"/>
                  <a:pt x="105" y="123"/>
                  <a:pt x="88" y="120"/>
                </a:cubicBezTo>
                <a:cubicBezTo>
                  <a:pt x="69" y="133"/>
                  <a:pt x="90" y="123"/>
                  <a:pt x="67" y="120"/>
                </a:cubicBezTo>
                <a:cubicBezTo>
                  <a:pt x="45" y="117"/>
                  <a:pt x="23" y="118"/>
                  <a:pt x="1" y="117"/>
                </a:cubicBezTo>
                <a:cubicBezTo>
                  <a:pt x="4" y="75"/>
                  <a:pt x="0" y="66"/>
                  <a:pt x="37" y="54"/>
                </a:cubicBezTo>
                <a:cubicBezTo>
                  <a:pt x="48" y="37"/>
                  <a:pt x="66" y="35"/>
                  <a:pt x="79" y="18"/>
                </a:cubicBezTo>
                <a:cubicBezTo>
                  <a:pt x="83" y="6"/>
                  <a:pt x="88" y="4"/>
                  <a:pt x="100" y="0"/>
                </a:cubicBez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835280" y="3068640"/>
            <a:ext cx="231480" cy="504720"/>
          </a:xfrm>
          <a:custGeom>
            <a:avLst/>
            <a:gdLst/>
            <a:ahLst/>
            <a:rect l="l" t="t" r="r" b="b"/>
            <a:pathLst>
              <a:path w="148" h="213">
                <a:moveTo>
                  <a:pt x="22" y="0"/>
                </a:moveTo>
                <a:cubicBezTo>
                  <a:pt x="25" y="1"/>
                  <a:pt x="59" y="9"/>
                  <a:pt x="64" y="12"/>
                </a:cubicBezTo>
                <a:cubicBezTo>
                  <a:pt x="77" y="21"/>
                  <a:pt x="80" y="40"/>
                  <a:pt x="94" y="48"/>
                </a:cubicBezTo>
                <a:cubicBezTo>
                  <a:pt x="110" y="57"/>
                  <a:pt x="130" y="56"/>
                  <a:pt x="148" y="60"/>
                </a:cubicBezTo>
                <a:cubicBezTo>
                  <a:pt x="146" y="90"/>
                  <a:pt x="145" y="120"/>
                  <a:pt x="142" y="150"/>
                </a:cubicBezTo>
                <a:cubicBezTo>
                  <a:pt x="142" y="155"/>
                  <a:pt x="137" y="194"/>
                  <a:pt x="124" y="198"/>
                </a:cubicBezTo>
                <a:cubicBezTo>
                  <a:pt x="101" y="205"/>
                  <a:pt x="76" y="202"/>
                  <a:pt x="52" y="204"/>
                </a:cubicBezTo>
                <a:cubicBezTo>
                  <a:pt x="25" y="213"/>
                  <a:pt x="19" y="202"/>
                  <a:pt x="4" y="180"/>
                </a:cubicBezTo>
                <a:cubicBezTo>
                  <a:pt x="8" y="74"/>
                  <a:pt x="0" y="67"/>
                  <a:pt x="22" y="0"/>
                </a:cubicBez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287960" y="3068640"/>
            <a:ext cx="272880" cy="504720"/>
          </a:xfrm>
          <a:custGeom>
            <a:avLst/>
            <a:gdLst/>
            <a:ahLst/>
            <a:rect l="l" t="t" r="r" b="b"/>
            <a:pathLst>
              <a:path w="172" h="229">
                <a:moveTo>
                  <a:pt x="23" y="17"/>
                </a:moveTo>
                <a:cubicBezTo>
                  <a:pt x="87" y="21"/>
                  <a:pt x="131" y="0"/>
                  <a:pt x="143" y="59"/>
                </a:cubicBezTo>
                <a:cubicBezTo>
                  <a:pt x="136" y="229"/>
                  <a:pt x="172" y="194"/>
                  <a:pt x="65" y="221"/>
                </a:cubicBezTo>
                <a:cubicBezTo>
                  <a:pt x="0" y="205"/>
                  <a:pt x="51" y="226"/>
                  <a:pt x="35" y="95"/>
                </a:cubicBezTo>
                <a:cubicBezTo>
                  <a:pt x="32" y="71"/>
                  <a:pt x="12" y="51"/>
                  <a:pt x="5" y="29"/>
                </a:cubicBezTo>
                <a:cubicBezTo>
                  <a:pt x="25" y="22"/>
                  <a:pt x="23" y="29"/>
                  <a:pt x="23" y="17"/>
                </a:cubicBez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095560" y="4019400"/>
            <a:ext cx="272880" cy="341640"/>
          </a:xfrm>
          <a:custGeom>
            <a:avLst/>
            <a:gdLst/>
            <a:ahLst/>
            <a:rect l="l" t="t" r="r" b="b"/>
            <a:pathLst>
              <a:path w="172" h="215">
                <a:moveTo>
                  <a:pt x="0" y="126"/>
                </a:moveTo>
                <a:cubicBezTo>
                  <a:pt x="14" y="83"/>
                  <a:pt x="0" y="137"/>
                  <a:pt x="0" y="84"/>
                </a:cubicBezTo>
                <a:cubicBezTo>
                  <a:pt x="0" y="31"/>
                  <a:pt x="1" y="33"/>
                  <a:pt x="12" y="0"/>
                </a:cubicBezTo>
                <a:cubicBezTo>
                  <a:pt x="54" y="8"/>
                  <a:pt x="32" y="3"/>
                  <a:pt x="78" y="18"/>
                </a:cubicBezTo>
                <a:cubicBezTo>
                  <a:pt x="84" y="20"/>
                  <a:pt x="96" y="24"/>
                  <a:pt x="96" y="24"/>
                </a:cubicBezTo>
                <a:cubicBezTo>
                  <a:pt x="105" y="56"/>
                  <a:pt x="120" y="133"/>
                  <a:pt x="138" y="162"/>
                </a:cubicBezTo>
                <a:cubicBezTo>
                  <a:pt x="141" y="167"/>
                  <a:pt x="150" y="166"/>
                  <a:pt x="156" y="168"/>
                </a:cubicBezTo>
                <a:cubicBezTo>
                  <a:pt x="172" y="215"/>
                  <a:pt x="148" y="203"/>
                  <a:pt x="102" y="198"/>
                </a:cubicBezTo>
                <a:cubicBezTo>
                  <a:pt x="77" y="182"/>
                  <a:pt x="65" y="157"/>
                  <a:pt x="42" y="138"/>
                </a:cubicBezTo>
                <a:cubicBezTo>
                  <a:pt x="35" y="133"/>
                  <a:pt x="32" y="122"/>
                  <a:pt x="24" y="120"/>
                </a:cubicBezTo>
                <a:cubicBezTo>
                  <a:pt x="16" y="118"/>
                  <a:pt x="8" y="124"/>
                  <a:pt x="0" y="126"/>
                </a:cubicBez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976560" y="3952800"/>
            <a:ext cx="346320" cy="347760"/>
          </a:xfrm>
          <a:custGeom>
            <a:avLst/>
            <a:gdLst/>
            <a:ahLst/>
            <a:rect l="l" t="t" r="r" b="b"/>
            <a:pathLst>
              <a:path w="218" h="219">
                <a:moveTo>
                  <a:pt x="129" y="0"/>
                </a:moveTo>
                <a:cubicBezTo>
                  <a:pt x="139" y="4"/>
                  <a:pt x="151" y="5"/>
                  <a:pt x="159" y="12"/>
                </a:cubicBezTo>
                <a:cubicBezTo>
                  <a:pt x="164" y="16"/>
                  <a:pt x="160" y="26"/>
                  <a:pt x="165" y="30"/>
                </a:cubicBezTo>
                <a:cubicBezTo>
                  <a:pt x="171" y="35"/>
                  <a:pt x="181" y="34"/>
                  <a:pt x="189" y="36"/>
                </a:cubicBezTo>
                <a:cubicBezTo>
                  <a:pt x="182" y="186"/>
                  <a:pt x="218" y="181"/>
                  <a:pt x="99" y="192"/>
                </a:cubicBezTo>
                <a:cubicBezTo>
                  <a:pt x="56" y="206"/>
                  <a:pt x="74" y="197"/>
                  <a:pt x="45" y="216"/>
                </a:cubicBezTo>
                <a:cubicBezTo>
                  <a:pt x="35" y="214"/>
                  <a:pt x="20" y="219"/>
                  <a:pt x="15" y="210"/>
                </a:cubicBezTo>
                <a:cubicBezTo>
                  <a:pt x="0" y="184"/>
                  <a:pt x="35" y="155"/>
                  <a:pt x="51" y="144"/>
                </a:cubicBezTo>
                <a:cubicBezTo>
                  <a:pt x="62" y="112"/>
                  <a:pt x="78" y="77"/>
                  <a:pt x="111" y="66"/>
                </a:cubicBezTo>
                <a:cubicBezTo>
                  <a:pt x="136" y="29"/>
                  <a:pt x="117" y="67"/>
                  <a:pt x="117" y="30"/>
                </a:cubicBezTo>
                <a:cubicBezTo>
                  <a:pt x="117" y="23"/>
                  <a:pt x="125" y="7"/>
                  <a:pt x="129" y="0"/>
                </a:cubicBez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971800" y="380880"/>
            <a:ext cx="0" cy="1368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74920" y="404640"/>
            <a:ext cx="0" cy="1368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2410920" y="1773360"/>
            <a:ext cx="576360" cy="287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484000" y="1844640"/>
            <a:ext cx="647640" cy="289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1752480"/>
            <a:ext cx="574560" cy="216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132000" y="1844640"/>
            <a:ext cx="648000" cy="216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219640" y="981000"/>
            <a:ext cx="1152720" cy="10796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04000" y="2637000"/>
            <a:ext cx="1297080" cy="1296720"/>
          </a:xfrm>
          <a:prstGeom prst="ellipse">
            <a:avLst/>
          </a:prstGeom>
          <a:solidFill>
            <a:srgbClr val="0000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pa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or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740720" y="4365720"/>
            <a:ext cx="1152360" cy="1150920"/>
          </a:xfrm>
          <a:prstGeom prst="ellipse">
            <a:avLst/>
          </a:prstGeom>
          <a:solidFill>
            <a:srgbClr val="0000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iperten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or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419720" y="5715000"/>
            <a:ext cx="1225440" cy="792000"/>
          </a:xfrm>
          <a:prstGeom prst="ellipse">
            <a:avLst/>
          </a:prstGeom>
          <a:solidFill>
            <a:srgbClr val="990099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SCIT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580000" y="170028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80000" y="1052640"/>
            <a:ext cx="216000" cy="215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796000" y="1052640"/>
            <a:ext cx="216000" cy="215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12000" y="1700280"/>
            <a:ext cx="215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012000" y="1268280"/>
            <a:ext cx="215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364000" y="148428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364000" y="126828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724360" y="191628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580000" y="1916280"/>
            <a:ext cx="71640" cy="72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940360" y="1916280"/>
            <a:ext cx="71640" cy="72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435640" y="112536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012000" y="112536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292720" y="1484280"/>
            <a:ext cx="712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292720" y="162864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227640" y="1628640"/>
            <a:ext cx="730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227640" y="1413000"/>
            <a:ext cx="730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292720" y="134136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156360" y="119700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508720" y="141444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722920" y="141444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940360" y="141444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508720" y="163044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22920" y="163044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940360" y="163044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508720" y="119700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722920" y="119700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940360" y="119700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651640" y="1846440"/>
            <a:ext cx="144360" cy="142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508720" y="1846440"/>
            <a:ext cx="144360" cy="142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796000" y="1846440"/>
            <a:ext cx="144360" cy="142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940360" y="1846440"/>
            <a:ext cx="144360" cy="142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722920" y="98100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508720" y="105264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940360" y="105264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156360" y="134136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227640" y="1486080"/>
            <a:ext cx="144720" cy="142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156360" y="163044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292720" y="163044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219640" y="1486080"/>
            <a:ext cx="144360" cy="142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291280" y="134136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364000" y="1197000"/>
            <a:ext cx="1447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64000" y="1414440"/>
            <a:ext cx="1447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156360" y="141444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580000" y="126828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96000" y="126828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580000" y="148428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796000" y="148428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364000" y="170028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12000" y="1484280"/>
            <a:ext cx="215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796000" y="170028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012000" y="2708280"/>
            <a:ext cx="504720" cy="360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156360" y="836640"/>
            <a:ext cx="287280" cy="28872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374160" y="620640"/>
            <a:ext cx="106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COLÁGE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498920" y="2708280"/>
            <a:ext cx="504720" cy="360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003640" y="2708280"/>
            <a:ext cx="505080" cy="360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508720" y="2708280"/>
            <a:ext cx="504720" cy="360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12000" y="3573360"/>
            <a:ext cx="504720" cy="360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498920" y="3573360"/>
            <a:ext cx="504720" cy="360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003640" y="3573360"/>
            <a:ext cx="505080" cy="360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508720" y="3573360"/>
            <a:ext cx="504720" cy="360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661800" y="1170000"/>
            <a:ext cx="16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Nódulos 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egener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326280" y="1905120"/>
            <a:ext cx="235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33"/>
                </a:solidFill>
                <a:latin typeface="Arial"/>
              </a:rPr>
              <a:t>Espacio de DIS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6012000" y="2204640"/>
            <a:ext cx="1152360" cy="863640"/>
          </a:xfrm>
          <a:prstGeom prst="line">
            <a:avLst/>
          </a:prstGeom>
          <a:ln w="38160">
            <a:solidFill>
              <a:srgbClr val="99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5003280" y="3213000"/>
            <a:ext cx="158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5003280" y="3429000"/>
            <a:ext cx="158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03640" y="3429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508720" y="3429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012000" y="3429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5003640" y="2997000"/>
            <a:ext cx="0" cy="215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5508720" y="2997000"/>
            <a:ext cx="0" cy="215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6012000" y="2997000"/>
            <a:ext cx="0" cy="215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954320" y="314964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INUSO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515280" y="3213000"/>
            <a:ext cx="1081080" cy="2160720"/>
          </a:xfrm>
          <a:custGeom>
            <a:avLst/>
            <a:gdLst/>
            <a:ahLst/>
            <a:rect l="l" t="t" r="r" b="b"/>
            <a:pathLst>
              <a:path w="726" h="1633">
                <a:moveTo>
                  <a:pt x="0" y="0"/>
                </a:moveTo>
                <a:cubicBezTo>
                  <a:pt x="121" y="0"/>
                  <a:pt x="242" y="0"/>
                  <a:pt x="363" y="272"/>
                </a:cubicBezTo>
                <a:cubicBezTo>
                  <a:pt x="484" y="544"/>
                  <a:pt x="665" y="1406"/>
                  <a:pt x="726" y="1633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445080" y="3429000"/>
            <a:ext cx="863640" cy="1512720"/>
          </a:xfrm>
          <a:custGeom>
            <a:avLst/>
            <a:gdLst/>
            <a:ahLst/>
            <a:rect l="l" t="t" r="r" b="b"/>
            <a:pathLst>
              <a:path w="726" h="1633">
                <a:moveTo>
                  <a:pt x="0" y="0"/>
                </a:moveTo>
                <a:cubicBezTo>
                  <a:pt x="121" y="0"/>
                  <a:pt x="242" y="0"/>
                  <a:pt x="363" y="272"/>
                </a:cubicBezTo>
                <a:cubicBezTo>
                  <a:pt x="484" y="544"/>
                  <a:pt x="665" y="1406"/>
                  <a:pt x="726" y="1633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7020000" y="4941720"/>
            <a:ext cx="288720" cy="50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7093080" y="5084640"/>
            <a:ext cx="288720" cy="50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380360" y="5084640"/>
            <a:ext cx="7128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7093080" y="5445000"/>
            <a:ext cx="358560" cy="43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7236000" y="5589720"/>
            <a:ext cx="28872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524720" y="5589720"/>
            <a:ext cx="142920" cy="50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596360" y="5373720"/>
            <a:ext cx="72072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8317080" y="5516280"/>
            <a:ext cx="35856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667640" y="5589720"/>
            <a:ext cx="649440" cy="215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8317080" y="5805360"/>
            <a:ext cx="142560" cy="287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388360" y="5734080"/>
            <a:ext cx="14292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8388360" y="5589360"/>
            <a:ext cx="36036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667640" y="5589720"/>
            <a:ext cx="144360" cy="50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812000" y="6093000"/>
            <a:ext cx="21600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740720" y="6165720"/>
            <a:ext cx="216000" cy="144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7451640" y="6093000"/>
            <a:ext cx="216000" cy="215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7524720" y="6165720"/>
            <a:ext cx="21600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6659280" y="5445000"/>
            <a:ext cx="360360" cy="7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6659280" y="5516640"/>
            <a:ext cx="360360" cy="7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7019640" y="5589720"/>
            <a:ext cx="73080" cy="215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6948000" y="5516640"/>
            <a:ext cx="7308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6732360" y="5877000"/>
            <a:ext cx="360360" cy="73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6732360" y="5948280"/>
            <a:ext cx="360360" cy="73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7164000" y="5950080"/>
            <a:ext cx="7164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7020000" y="5950080"/>
            <a:ext cx="7128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952880" y="4343400"/>
            <a:ext cx="7164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932360" y="4724280"/>
            <a:ext cx="7128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932360" y="5084640"/>
            <a:ext cx="7128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005440" y="4005360"/>
            <a:ext cx="71280" cy="215640"/>
          </a:xfrm>
          <a:prstGeom prst="ellipse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932360" y="5445000"/>
            <a:ext cx="7128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148360" y="4437000"/>
            <a:ext cx="7128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148360" y="4797360"/>
            <a:ext cx="7128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148360" y="5157720"/>
            <a:ext cx="7128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148360" y="4076640"/>
            <a:ext cx="71280" cy="216000"/>
          </a:xfrm>
          <a:prstGeom prst="ellipse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148360" y="5518080"/>
            <a:ext cx="7128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800600" y="4038480"/>
            <a:ext cx="2305080" cy="360360"/>
          </a:xfrm>
          <a:custGeom>
            <a:avLst/>
            <a:gdLst/>
            <a:ahLst/>
            <a:rect l="l" t="t" r="r" b="b"/>
            <a:pathLst>
              <a:path w="1452" h="227">
                <a:moveTo>
                  <a:pt x="0" y="0"/>
                </a:moveTo>
                <a:cubicBezTo>
                  <a:pt x="106" y="71"/>
                  <a:pt x="212" y="143"/>
                  <a:pt x="454" y="181"/>
                </a:cubicBezTo>
                <a:cubicBezTo>
                  <a:pt x="696" y="219"/>
                  <a:pt x="1286" y="219"/>
                  <a:pt x="1452" y="227"/>
                </a:cubicBezTo>
              </a:path>
            </a:pathLst>
          </a:custGeom>
          <a:noFill/>
          <a:ln w="15840">
            <a:solidFill>
              <a:srgbClr val="99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800600" y="3886200"/>
            <a:ext cx="2305080" cy="360360"/>
          </a:xfrm>
          <a:custGeom>
            <a:avLst/>
            <a:gdLst/>
            <a:ahLst/>
            <a:rect l="l" t="t" r="r" b="b"/>
            <a:pathLst>
              <a:path w="1452" h="227">
                <a:moveTo>
                  <a:pt x="0" y="0"/>
                </a:moveTo>
                <a:cubicBezTo>
                  <a:pt x="106" y="71"/>
                  <a:pt x="212" y="143"/>
                  <a:pt x="454" y="181"/>
                </a:cubicBezTo>
                <a:cubicBezTo>
                  <a:pt x="696" y="219"/>
                  <a:pt x="1286" y="219"/>
                  <a:pt x="1452" y="227"/>
                </a:cubicBezTo>
              </a:path>
            </a:pathLst>
          </a:custGeom>
          <a:noFill/>
          <a:ln w="15840">
            <a:solidFill>
              <a:srgbClr val="99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7009920" y="4076640"/>
            <a:ext cx="9720" cy="87624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934320" y="3886200"/>
            <a:ext cx="0" cy="106668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292720" y="3933720"/>
            <a:ext cx="216000" cy="287280"/>
          </a:xfrm>
          <a:custGeom>
            <a:avLst/>
            <a:gdLst/>
            <a:ahLst/>
            <a:rect l="l" t="t" r="r" b="b"/>
            <a:pathLst>
              <a:path w="136" h="181">
                <a:moveTo>
                  <a:pt x="0" y="0"/>
                </a:moveTo>
                <a:cubicBezTo>
                  <a:pt x="11" y="30"/>
                  <a:pt x="22" y="60"/>
                  <a:pt x="45" y="90"/>
                </a:cubicBezTo>
                <a:cubicBezTo>
                  <a:pt x="68" y="120"/>
                  <a:pt x="121" y="166"/>
                  <a:pt x="136" y="181"/>
                </a:cubicBezTo>
              </a:path>
            </a:pathLst>
          </a:custGeom>
          <a:noFill/>
          <a:ln w="15840">
            <a:solidFill>
              <a:srgbClr val="99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64000" y="3933720"/>
            <a:ext cx="216000" cy="287280"/>
          </a:xfrm>
          <a:custGeom>
            <a:avLst/>
            <a:gdLst/>
            <a:ahLst/>
            <a:rect l="l" t="t" r="r" b="b"/>
            <a:pathLst>
              <a:path w="136" h="181">
                <a:moveTo>
                  <a:pt x="0" y="0"/>
                </a:moveTo>
                <a:cubicBezTo>
                  <a:pt x="11" y="30"/>
                  <a:pt x="22" y="60"/>
                  <a:pt x="45" y="90"/>
                </a:cubicBezTo>
                <a:cubicBezTo>
                  <a:pt x="68" y="120"/>
                  <a:pt x="121" y="166"/>
                  <a:pt x="136" y="181"/>
                </a:cubicBezTo>
              </a:path>
            </a:pathLst>
          </a:custGeom>
          <a:noFill/>
          <a:ln w="15840">
            <a:solidFill>
              <a:srgbClr val="99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724360" y="3933720"/>
            <a:ext cx="287640" cy="358920"/>
          </a:xfrm>
          <a:custGeom>
            <a:avLst/>
            <a:gdLst/>
            <a:ahLst/>
            <a:rect l="l" t="t" r="r" b="b"/>
            <a:pathLst>
              <a:path w="136" h="181">
                <a:moveTo>
                  <a:pt x="0" y="0"/>
                </a:moveTo>
                <a:cubicBezTo>
                  <a:pt x="11" y="30"/>
                  <a:pt x="22" y="60"/>
                  <a:pt x="45" y="90"/>
                </a:cubicBezTo>
                <a:cubicBezTo>
                  <a:pt x="68" y="120"/>
                  <a:pt x="121" y="166"/>
                  <a:pt x="136" y="181"/>
                </a:cubicBezTo>
              </a:path>
            </a:pathLst>
          </a:custGeom>
          <a:noFill/>
          <a:ln w="15840">
            <a:solidFill>
              <a:srgbClr val="99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796000" y="3933720"/>
            <a:ext cx="288720" cy="358920"/>
          </a:xfrm>
          <a:custGeom>
            <a:avLst/>
            <a:gdLst/>
            <a:ahLst/>
            <a:rect l="l" t="t" r="r" b="b"/>
            <a:pathLst>
              <a:path w="136" h="181">
                <a:moveTo>
                  <a:pt x="0" y="0"/>
                </a:moveTo>
                <a:cubicBezTo>
                  <a:pt x="11" y="30"/>
                  <a:pt x="22" y="60"/>
                  <a:pt x="45" y="90"/>
                </a:cubicBezTo>
                <a:cubicBezTo>
                  <a:pt x="68" y="120"/>
                  <a:pt x="121" y="166"/>
                  <a:pt x="136" y="181"/>
                </a:cubicBezTo>
              </a:path>
            </a:pathLst>
          </a:custGeom>
          <a:noFill/>
          <a:ln w="15840">
            <a:solidFill>
              <a:srgbClr val="99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229440" y="3933720"/>
            <a:ext cx="287280" cy="358920"/>
          </a:xfrm>
          <a:custGeom>
            <a:avLst/>
            <a:gdLst/>
            <a:ahLst/>
            <a:rect l="l" t="t" r="r" b="b"/>
            <a:pathLst>
              <a:path w="136" h="181">
                <a:moveTo>
                  <a:pt x="0" y="0"/>
                </a:moveTo>
                <a:cubicBezTo>
                  <a:pt x="11" y="30"/>
                  <a:pt x="22" y="60"/>
                  <a:pt x="45" y="90"/>
                </a:cubicBezTo>
                <a:cubicBezTo>
                  <a:pt x="68" y="120"/>
                  <a:pt x="121" y="166"/>
                  <a:pt x="136" y="181"/>
                </a:cubicBezTo>
              </a:path>
            </a:pathLst>
          </a:custGeom>
          <a:noFill/>
          <a:ln w="15840">
            <a:solidFill>
              <a:srgbClr val="99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300720" y="3933720"/>
            <a:ext cx="287280" cy="358920"/>
          </a:xfrm>
          <a:custGeom>
            <a:avLst/>
            <a:gdLst/>
            <a:ahLst/>
            <a:rect l="l" t="t" r="r" b="b"/>
            <a:pathLst>
              <a:path w="136" h="181">
                <a:moveTo>
                  <a:pt x="0" y="0"/>
                </a:moveTo>
                <a:cubicBezTo>
                  <a:pt x="11" y="30"/>
                  <a:pt x="22" y="60"/>
                  <a:pt x="45" y="90"/>
                </a:cubicBezTo>
                <a:cubicBezTo>
                  <a:pt x="68" y="120"/>
                  <a:pt x="121" y="166"/>
                  <a:pt x="136" y="181"/>
                </a:cubicBezTo>
              </a:path>
            </a:pathLst>
          </a:custGeom>
          <a:noFill/>
          <a:ln w="15840">
            <a:solidFill>
              <a:srgbClr val="99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205360" y="2879640"/>
            <a:ext cx="187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VE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CENT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486760" y="4290840"/>
            <a:ext cx="1258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Arial"/>
              </a:rPr>
              <a:t>Conductill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Arial"/>
              </a:rPr>
              <a:t>biliar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ahoma"/>
              </a:rPr>
              <a:t>Cirrosis hepática:</a:t>
            </a:r>
            <a:br>
              <a:rPr sz="4400"/>
            </a:br>
            <a:r>
              <a:rPr b="1" lang="en-US" sz="4400" spc="-1" strike="noStrike">
                <a:solidFill>
                  <a:srgbClr val="66ff33"/>
                </a:solidFill>
                <a:latin typeface="Tahoma"/>
              </a:rPr>
              <a:t>Disminución del VA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042560" y="2421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99"/>
                </a:solidFill>
                <a:latin typeface="Tahoma"/>
              </a:rPr>
              <a:t>Aumento de la capacitancia venosa abdomina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99"/>
                </a:solidFill>
                <a:latin typeface="Tahoma"/>
              </a:rPr>
              <a:t>Secuestro en “tercer espacio”: asc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99"/>
                </a:solidFill>
                <a:latin typeface="Tahoma"/>
              </a:rPr>
              <a:t>Translocación al intersticio: ede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99"/>
                </a:solidFill>
                <a:latin typeface="Tahoma"/>
              </a:rPr>
              <a:t>Fístulas arterio-venos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419720" y="5029200"/>
            <a:ext cx="4038480" cy="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447560" y="5029200"/>
            <a:ext cx="2971800" cy="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800600" y="2133360"/>
            <a:ext cx="0" cy="289548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3276720" y="3428640"/>
            <a:ext cx="0" cy="16002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7315200" y="3428640"/>
            <a:ext cx="0" cy="16002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76720" y="3429000"/>
            <a:ext cx="40384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637800" y="3881520"/>
            <a:ext cx="98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ff33"/>
                </a:solidFill>
                <a:latin typeface="Arial"/>
              </a:rPr>
              <a:t>EEC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582160" y="3881520"/>
            <a:ext cx="7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ff33"/>
                </a:solidFill>
                <a:latin typeface="Arial"/>
              </a:rPr>
              <a:t>E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37760" y="2097000"/>
            <a:ext cx="20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Osmolar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792760" y="518004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volum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125520" y="518004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volum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2268360" y="3428640"/>
            <a:ext cx="0" cy="160020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2268000" y="3429000"/>
            <a:ext cx="1008360" cy="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00" y="620640"/>
            <a:ext cx="881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BALANCE POSITIVO DE SODIO Y AGU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ahoma"/>
              </a:rPr>
              <a:t>CONCEPTO DE EDEM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839160" y="2259000"/>
            <a:ext cx="8116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Es un signo físico que refleja expans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extracelular a expensas del volu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del líquido  interstic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ahoma"/>
              </a:rPr>
              <a:t>SECUENCIA DE LA GENERACIÓN DE EDEM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46480" y="2073240"/>
            <a:ext cx="4902120" cy="42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Contracción del VA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Retención renal de Na  y  H</a:t>
            </a:r>
            <a:r>
              <a:rPr b="1" lang="es-ES" sz="2400" spc="-1" strike="noStrike" baseline="-25000">
                <a:solidFill>
                  <a:srgbClr val="ffff99"/>
                </a:solidFill>
                <a:latin typeface="Tahoma"/>
              </a:rPr>
              <a:t>2</a:t>
            </a: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Expansión iso-osmótica del EE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(3-4 litr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6ff33"/>
                </a:solidFill>
                <a:latin typeface="Arial"/>
              </a:rPr>
              <a:t>EDE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43280" y="2492280"/>
            <a:ext cx="0" cy="79236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43280" y="3573360"/>
            <a:ext cx="0" cy="79236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43280" y="5013360"/>
            <a:ext cx="0" cy="79200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124000" y="1628640"/>
            <a:ext cx="648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Arteriola</a:t>
            </a: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 Vénu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56000" y="2276640"/>
            <a:ext cx="0" cy="43210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885080" y="2133720"/>
            <a:ext cx="0" cy="43210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03640" y="2276640"/>
            <a:ext cx="0" cy="15840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36000" y="2276640"/>
            <a:ext cx="0" cy="15840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00400" y="3886200"/>
            <a:ext cx="403236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03640" y="4724280"/>
            <a:ext cx="403236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03640" y="4724280"/>
            <a:ext cx="0" cy="1584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236000" y="4724280"/>
            <a:ext cx="0" cy="1584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03640" y="3860640"/>
            <a:ext cx="431640" cy="1447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03640" y="4581360"/>
            <a:ext cx="431640" cy="1447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131280" y="3956040"/>
            <a:ext cx="24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P. Hidrostá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356000" y="4365720"/>
            <a:ext cx="0" cy="863640"/>
          </a:xfrm>
          <a:prstGeom prst="line">
            <a:avLst/>
          </a:prstGeom>
          <a:ln w="572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6804000" y="4436640"/>
            <a:ext cx="0" cy="79236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74320" y="5229360"/>
            <a:ext cx="3041280" cy="459720"/>
          </a:xfrm>
          <a:prstGeom prst="rect">
            <a:avLst/>
          </a:prstGeom>
          <a:noFill/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Tahoma"/>
              </a:rPr>
              <a:t>Líquido intersti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948360" y="2852640"/>
            <a:ext cx="1236960" cy="2700360"/>
          </a:xfrm>
          <a:custGeom>
            <a:avLst/>
            <a:gdLst/>
            <a:ahLst/>
            <a:rect l="l" t="t" r="r" b="b"/>
            <a:pathLst>
              <a:path w="779" h="1701">
                <a:moveTo>
                  <a:pt x="0" y="1678"/>
                </a:moveTo>
                <a:cubicBezTo>
                  <a:pt x="185" y="1689"/>
                  <a:pt x="371" y="1701"/>
                  <a:pt x="499" y="1542"/>
                </a:cubicBezTo>
                <a:cubicBezTo>
                  <a:pt x="627" y="1383"/>
                  <a:pt x="779" y="983"/>
                  <a:pt x="771" y="726"/>
                </a:cubicBezTo>
                <a:cubicBezTo>
                  <a:pt x="763" y="469"/>
                  <a:pt x="513" y="128"/>
                  <a:pt x="453" y="0"/>
                </a:cubicBezTo>
              </a:path>
            </a:pathLst>
          </a:custGeom>
          <a:noFill/>
          <a:ln w="381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948360" y="2708280"/>
            <a:ext cx="1452600" cy="3110040"/>
          </a:xfrm>
          <a:custGeom>
            <a:avLst/>
            <a:gdLst/>
            <a:ahLst/>
            <a:rect l="l" t="t" r="r" b="b"/>
            <a:pathLst>
              <a:path w="915" h="1959">
                <a:moveTo>
                  <a:pt x="0" y="1860"/>
                </a:moveTo>
                <a:cubicBezTo>
                  <a:pt x="177" y="1909"/>
                  <a:pt x="355" y="1959"/>
                  <a:pt x="499" y="1815"/>
                </a:cubicBezTo>
                <a:cubicBezTo>
                  <a:pt x="643" y="1671"/>
                  <a:pt x="809" y="1210"/>
                  <a:pt x="862" y="998"/>
                </a:cubicBezTo>
                <a:cubicBezTo>
                  <a:pt x="915" y="786"/>
                  <a:pt x="884" y="711"/>
                  <a:pt x="816" y="545"/>
                </a:cubicBezTo>
                <a:cubicBezTo>
                  <a:pt x="748" y="379"/>
                  <a:pt x="521" y="91"/>
                  <a:pt x="453" y="0"/>
                </a:cubicBezTo>
              </a:path>
            </a:pathLst>
          </a:custGeom>
          <a:noFill/>
          <a:ln w="381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93080" y="333360"/>
            <a:ext cx="577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ahoma"/>
              </a:rPr>
              <a:t>HEMODINAMIA CAPIL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916360" y="2205000"/>
            <a:ext cx="0" cy="1800360"/>
          </a:xfrm>
          <a:prstGeom prst="line">
            <a:avLst/>
          </a:prstGeom>
          <a:ln w="38160">
            <a:solidFill>
              <a:srgbClr val="ff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7524720" y="2133360"/>
            <a:ext cx="0" cy="1655640"/>
          </a:xfrm>
          <a:prstGeom prst="line">
            <a:avLst/>
          </a:prstGeom>
          <a:ln w="38160">
            <a:solidFill>
              <a:srgbClr val="ff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885080" y="5373720"/>
            <a:ext cx="934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66ff33"/>
                </a:solidFill>
                <a:latin typeface="Arial"/>
              </a:rPr>
              <a:t>Capi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66ff33"/>
                </a:solidFill>
                <a:latin typeface="Arial"/>
              </a:rPr>
              <a:t>Linfá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0200" y="4487760"/>
            <a:ext cx="1779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9900"/>
                </a:solidFill>
                <a:latin typeface="Arial"/>
              </a:rPr>
              <a:t>Esfínte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9900"/>
                </a:solidFill>
                <a:latin typeface="Arial"/>
              </a:rPr>
              <a:t>Pre-capila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1908000" y="4005360"/>
            <a:ext cx="1295640" cy="10080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1908000" y="4652640"/>
            <a:ext cx="1295640" cy="43164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111200" y="3200400"/>
            <a:ext cx="236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ahoma"/>
              </a:rPr>
              <a:t>CAPILA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3962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66"/>
                </a:solidFill>
                <a:latin typeface="Tahoma"/>
              </a:rPr>
              <a:t>P. oncó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50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500"/>
                            </p:stCondLst>
                            <p:childTnLst>
                              <p:par>
                                <p:cTn id="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ahoma"/>
              </a:rPr>
              <a:t>MECANISMOS DE PRODUCCIÓN DE EDEM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Tahoma"/>
              </a:rPr>
              <a:t>Aumento de presión hidrostática capi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Tahoma"/>
              </a:rPr>
              <a:t>Disminución de presión oncótica capi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Tahoma"/>
              </a:rPr>
              <a:t>Aumento de permeabilidad capi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Tahoma"/>
              </a:rPr>
              <a:t>Obstrucción de la circulación linfática y/o veno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Tahoma"/>
              </a:rPr>
              <a:t>Aumento de presión oncótica interstici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4320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   </a:t>
            </a:r>
            <a:r>
              <a:rPr b="1" lang="en-US" sz="4400" spc="-1" strike="noStrike">
                <a:solidFill>
                  <a:srgbClr val="ff0066"/>
                </a:solidFill>
                <a:latin typeface="Tahoma"/>
              </a:rPr>
              <a:t>Presión hidrostática capilar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324000" y="764640"/>
            <a:ext cx="0" cy="50508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58880" y="2209680"/>
            <a:ext cx="780264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ff33"/>
                </a:solidFill>
                <a:latin typeface="Tahoma"/>
              </a:rPr>
              <a:t>Ej. Aumento de la volemi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99"/>
              </a:buClr>
              <a:buFont typeface="Tahoma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  </a:t>
            </a: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Insuficiencia re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99"/>
              </a:buClr>
              <a:buFont typeface="Tahoma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  </a:t>
            </a: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Insuficiencia cardía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99"/>
              </a:buClr>
              <a:buFont typeface="Tahoma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El extremo venoso del capilar no es ta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eficiente como el arterial para regula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la presión hidrostática capil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304920"/>
            <a:ext cx="8610480" cy="143172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   </a:t>
            </a:r>
            <a:r>
              <a:rPr b="1" lang="es-ES" sz="4400" spc="-1" strike="noStrike">
                <a:solidFill>
                  <a:srgbClr val="ff0066"/>
                </a:solidFill>
                <a:latin typeface="Tahoma"/>
              </a:rPr>
              <a:t>Presión oncótica capil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4000" y="836640"/>
            <a:ext cx="0" cy="43164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460160" y="2130480"/>
            <a:ext cx="7586280" cy="34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66ff33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ff33"/>
                </a:solidFill>
                <a:latin typeface="Tahoma"/>
              </a:rPr>
              <a:t>Disminución de síntesis de albúmin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A)</a:t>
            </a: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Enfermedad hepá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B)</a:t>
            </a: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Desnutri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66ff33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ff33"/>
                </a:solidFill>
                <a:latin typeface="Tahoma"/>
              </a:rPr>
              <a:t>Pérdidas de proteín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66ff33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A)</a:t>
            </a: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Síndrome nefrót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B)</a:t>
            </a: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Enteropatía perdedora de proteín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914400" y="380880"/>
            <a:ext cx="7086600" cy="12798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</a:t>
            </a:r>
            <a:r>
              <a:rPr b="1" lang="en-US" sz="4400" spc="-1" strike="noStrike">
                <a:solidFill>
                  <a:srgbClr val="ff0066"/>
                </a:solidFill>
                <a:latin typeface="Tahoma"/>
              </a:rPr>
              <a:t>Permeabilidad capil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1295280" y="762120"/>
            <a:ext cx="0" cy="50472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896840" y="2092320"/>
            <a:ext cx="3823200" cy="23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ff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ff99"/>
                </a:solidFill>
                <a:latin typeface="Tahoma"/>
              </a:rPr>
              <a:t>Quemadu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ff99"/>
                </a:solidFill>
                <a:latin typeface="Tahoma"/>
              </a:rPr>
              <a:t>Inflam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ff99"/>
                </a:solidFill>
                <a:latin typeface="Tahoma"/>
              </a:rPr>
              <a:t>Traumatism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31T21:26:10Z</dcterms:created>
  <dc:creator>rrodrigo</dc:creator>
  <dc:description/>
  <dc:language>en-US</dc:language>
  <cp:lastModifiedBy>Usuario</cp:lastModifiedBy>
  <dcterms:modified xsi:type="dcterms:W3CDTF">2005-10-05T13:23:39Z</dcterms:modified>
  <cp:revision>23</cp:revision>
  <dc:subject/>
  <dc:title>Diapositiva 1</dc:title>
</cp:coreProperties>
</file>