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CAB-C383-4FC7-A0C9-53CF1FD9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9ED-F4FE-4795-8EDC-7C5FC71B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549-D674-44FA-B1C9-159852D5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ABE-467B-482A-85D4-5AEFA6E5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6822-3F2A-45A9-8CEE-F00B9F17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9B46-4454-4C0E-9A9B-40EBD2C5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BC69-3D85-4474-BA0E-8EB4F4A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1E6F-DC29-47E8-B781-A229D227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5D5-F240-425B-BEEF-59028D15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C3A8-1D0D-45F4-86E7-BDDE5B0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008-9B67-4080-A1F2-2FEC84F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93F-2B0A-4340-9F67-83CDC64B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9F3-5C06-47B5-927D-9314D7A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2E27-ABF3-4F9E-99B4-0485CAC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BD45-4763-4033-82F4-F99AA40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B821-9B6C-448C-A6F1-1948A760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597-4DCB-4B3F-B91F-7E24E326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5B9-058D-4FC4-BB27-19F87C9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4ED-86D5-4B68-B9D4-EC6FCFAA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96C-6D90-49E5-BD8B-9C65B3C8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19B-41CE-414B-9181-221211ED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1C1-CF9D-4470-8568-B0FD82E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86E-0E23-440C-81C5-DE9FF1D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3A3-8142-4B47-A728-28B9399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C499-01B5-4AF5-A7E1-344F6DCA302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2C91-6E0E-4C6E-9D21-0D637FB639F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86080" y="1828800"/>
            <a:ext cx="608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LTERACIONES DE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OMEOSTASIS 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GUA Y DEL SO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95620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7160" y="64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0"/>
          <a:ext cx="123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0"/>
                    <a:ext cx="123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ÍAS DE EGRESOS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8040" y="2235240"/>
            <a:ext cx="7467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iel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d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erspiración ins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ulm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umedad del aire espi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iñ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Or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T. Digestivo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EXTERNO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48800" y="2378160"/>
            <a:ext cx="7767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Ingresos: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Egre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Bebid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ulm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limento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ie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. endógena    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Orin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         1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Hece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NEGATIVO DE AGUA (Deshidratació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93640" y="224964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áufrag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doración pro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siert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liuria 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ado de coma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perventi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ño encefálico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o de la sed (ancia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0988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4852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743200"/>
            <a:ext cx="243864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481760" y="2637000"/>
            <a:ext cx="686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érdida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Disminución de la diur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quedad de piel y mucos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er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er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ma, mu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BALANCE POSITIVO DE AGUA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 (Sobrehidratación o intoxicación acuo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2719440"/>
            <a:ext cx="837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lidipsia primaria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RA, I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reción inapropi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ADH: SSI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o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E disminuido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BALANCE (+) DE AGUA: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240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516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809880"/>
            <a:ext cx="54864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+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590920"/>
            <a:ext cx="683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umento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presión de la 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o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onatremia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patía, aletarg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ala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efalea, vóm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RAPIA DE CORRECCIÓN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2362320"/>
            <a:ext cx="85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-) de agua: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posición del déficit de agua (Ej. Glucosa 5%: isotón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+) de agu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stringir ingresos de agua y controlar las pé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 corrección de la osmolaridad no debe ser brusc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vitar síndrome de desmielinización osmótica que dej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ecuelas neur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ESTADOS DE DEPLECIÓ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   DEL VOLUME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EXTRACEL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27120" y="83808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RASTORNOS DEL BALANCE HIDROELECTROL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828800"/>
            <a:ext cx="83599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agua: des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agua: intoxicación acuosa,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obre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sodio y agua: depleción de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volumen 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sodio y agua: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94960" y="403200"/>
            <a:ext cx="78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 extracelular   =   Intravascular  + Interst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(vol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2200" y="981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ravascular: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arterial  +  ven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00" y="2009880"/>
            <a:ext cx="8666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OLUMEN ARTERIAL EFECTIVO: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) Volumen arterial adecuado para mantener la perf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órg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) Depende de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llene” ar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) Puede coexistir con VEC normal, contraído o expand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4) Es el parámetro regulado por los mecanis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cargados de mantener el V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DEL VAE 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CAUS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EMORRA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QUEMAD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GASTROINTESTINA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Vómitos, diarreas, fístu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RENALES: </a:t>
            </a: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diuréticos</a:t>
            </a:r>
            <a:r>
              <a:rPr b="0" lang="es-ES" sz="3200" spc="-1" strike="noStrike">
                <a:solidFill>
                  <a:srgbClr val="ff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Hipoaldosteronism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FORMACIÓN DE UN TERCER ESPAC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Ascitis, peritonitis, pericard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SODIO Y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24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352680" y="304920"/>
            <a:ext cx="21337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1676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1447920"/>
            <a:ext cx="5105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Barorreceptores Ar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2666880"/>
            <a:ext cx="1752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666880"/>
            <a:ext cx="2514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n - AII - 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12193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838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0512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62520" y="44197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3429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1814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51055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981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2895120"/>
            <a:ext cx="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000"/>
            </a:br>
            <a:r>
              <a:rPr b="1" lang="es-ES" sz="4000" spc="-1" strike="noStrike">
                <a:solidFill>
                  <a:srgbClr val="ff0066"/>
                </a:solidFill>
                <a:latin typeface="Tahoma"/>
              </a:rPr>
              <a:t>FACTORES NEUROHUMOR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Tono Simp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Renina-AII-aldoste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triopep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692360" y="285228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92360" y="33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92360" y="51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407664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400"/>
            </a:b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MANIF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HIPOTENSIÓN: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tostática          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PRESIÓN VENOS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YUGULARES PL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SEQUEDAD DE PIEL Y MUCO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igno del plie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LA DIUR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lig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276640"/>
            <a:ext cx="792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5680" y="53352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UA CORP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680" y="1639800"/>
            <a:ext cx="79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tenido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tal 60% (hombre); 50% (muj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artimientos: Intracelular (2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tracelular (1/3)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uncion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lv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rmor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ehí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quilibrio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modificador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tenido de grasa cor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000" y="658800"/>
            <a:ext cx="8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ahoma"/>
              </a:rPr>
              <a:t>Parámetros Normales del Equilibrio Hidrosal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7000" y="2286000"/>
            <a:ext cx="636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Natremia (Na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4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Kalemia (K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 4.5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Cloremia (Cl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-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0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Osmolaridad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285 mOsm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SQUEMA DE DAR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840" y="396252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3120" y="396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920" y="5145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6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2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73392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43400" y="3962520"/>
            <a:ext cx="99072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88440" y="38088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Concepto de bal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447920"/>
            <a:ext cx="76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lance = Ingresos -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ero 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ul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gualdad const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 ingresos y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ega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g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érdid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posi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l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gananci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840" y="609480"/>
            <a:ext cx="88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REGULACIÓN DE VOLUMEN Y OSMOLA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640" y="182880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istema 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Eje renina-angiotensina-aldost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Péptido natriurético auricular (atriopept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antidiurética (e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Mecanismo de la sed (in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71800" cy="237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72736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il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6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14300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Gástrica 2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48292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Pancreática 7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924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701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imes New Roman"/>
              </a:rPr>
              <a:t>Heces 1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94156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Intestinal 3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254320"/>
            <a:ext cx="228600" cy="30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5120" y="2666880"/>
            <a:ext cx="304560" cy="3812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178000"/>
            <a:ext cx="0" cy="6094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437920" y="2558880"/>
            <a:ext cx="30492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0481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Reabsorción de agua en Intestino 7.8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980720" y="1720800"/>
            <a:ext cx="38124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95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aliva  1.5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86000" y="1110960"/>
            <a:ext cx="304920" cy="75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04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INGESTA 2.000 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52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ebida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Alimento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2840" y="380880"/>
            <a:ext cx="30492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0880"/>
            <a:ext cx="38124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762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38680" y="22860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ulm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762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Respi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3124080" cy="215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5200" y="4952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8672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Orina 1.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5410080"/>
            <a:ext cx="1676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erspiración Insen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 su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7150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657600"/>
            <a:ext cx="251460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Agua Endóg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3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ÍAS DE INGRESOS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438280"/>
            <a:ext cx="590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Beb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limentos (hum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gua metabólica (endóg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extra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oluciones parenterales (sue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26:57Z</dcterms:created>
  <dc:creator>Informatica</dc:creator>
  <dc:description/>
  <dc:language>en-US</dc:language>
  <cp:lastModifiedBy>Usuario</cp:lastModifiedBy>
  <dcterms:modified xsi:type="dcterms:W3CDTF">2005-10-05T13:25:16Z</dcterms:modified>
  <cp:revision>43</cp:revision>
  <dc:subject/>
  <dc:title>TRASTORNOS DE LA OSMOLARIDAD</dc:title>
</cp:coreProperties>
</file>