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C86-E950-474F-81DB-1851B085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D6B-D94A-4914-96EA-34A80FFE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092-D80E-4D54-8C10-5ABF2DFF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B0A-E08C-4317-8EFF-8B0F5C21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98F0-DBDA-443B-8935-EA04EA49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92B4-1445-4E9B-8EA4-E14FFED0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BF9D-8512-4884-A0AC-05D42BE3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3841-450A-4743-9379-8703BED2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6F08-19D1-46FE-9673-0354BA90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9B38-2917-441B-878E-9FE8A308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D176-807F-48BB-88D3-4047A549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172-0095-4922-9526-3F88CE06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D345-6B09-4523-BFC3-2EE7727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223C-21B2-41D3-8E17-2023E752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78C8-6F80-45E9-8F97-868359B9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105-4CE1-4D49-B14D-15505EC2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7D9B-320C-4DA6-9A91-6848AAF9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EA2-B0A3-4B66-BC99-06A84740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745-470C-4C62-B974-686AFFF4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3DB-D931-4CA4-8091-74478DBC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C99-F1A1-4578-906B-AD88D98B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CA6-3342-4153-B5DA-9D9221F6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12C-CEDA-44CE-8566-FC81E8C4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A6F-F2C7-440F-80D1-2A961ACB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C0FD-05B4-4204-88B1-5F8634D814D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3B6D-EB5F-41E3-A58D-33193EA3EF1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86080" y="1828800"/>
            <a:ext cx="6087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LTERACIONES DE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HOMEOSTASIS 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GUA Y DEL SO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95620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7160" y="64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9880" y="0"/>
          <a:ext cx="123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0"/>
                    <a:ext cx="123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VÍAS DE EGRESOS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8040" y="2235240"/>
            <a:ext cx="7467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iel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d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erspiración insen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ulm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umedad del aire espi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Riñ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Or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T. Digestivo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EXTERNO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48800" y="2378160"/>
            <a:ext cx="7767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Ingresos: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Egres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Bebid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ulmón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limento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ie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. endógena    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Orin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          1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Hece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TOTA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NEGATIVO DE AGUA (Deshidratación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93640" y="224964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áufrag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udoración pro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siert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liuria acu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ado de coma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iperventi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ño encefálico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o de la sed (ancia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80988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24852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743200"/>
            <a:ext cx="243864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481760" y="2637000"/>
            <a:ext cx="686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érdida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Disminución de la diur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quedad de piel y mucos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er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er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ma, mue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BALANCE POSITIVO DE AGUA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 (Sobrehidratación o intoxicación acuos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2719440"/>
            <a:ext cx="83768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olidipsia primaria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RA, IR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creción inapropi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ADH: SSI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ro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E disminuido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BALANCE (+) DE AGUA: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240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516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296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809880"/>
            <a:ext cx="548640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+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2590920"/>
            <a:ext cx="6838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umento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presión de la 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o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onatremia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patía, aletarg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ala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efalea, vóm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RAPIA DE CORRECCIÓN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1080" y="2362320"/>
            <a:ext cx="857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-) de agua: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posición del déficit de agua (Ej. Glucosa 5%: isotón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+) de agu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stringir ingresos de agua y controlar las pé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La corrección de la osmolaridad no debe ser brusc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evitar síndrome de desmielinización osmótica que dej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ecuelas neur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ESTADOS DE DEPLECIÓ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   DEL VOLUME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EXTRACEL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27120" y="83808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TRASTORNOS DEL BALANCE HIDROELECTROL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828800"/>
            <a:ext cx="83599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agua: des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agua: intoxicación acuosa,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      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obre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sodio y agua: depleción de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volumen 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sodio y agua: ed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94960" y="403200"/>
            <a:ext cx="78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 extracelular   =   Intravascular  + Interst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(vol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2200" y="981000"/>
            <a:ext cx="49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travascular: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arterial  +  ven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8400" y="2009880"/>
            <a:ext cx="8666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OLUMEN ARTERIAL EFECTIVO: V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) Volumen arterial adecuado para mantener la perfu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los órg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) Depende de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“llene” ar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3) Puede coexistir con VEC normal, contraído o expand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4) Es el parámetro regulado por los mecanis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ncargados de mantener el V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DEL VAE 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CAUS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EMORRAG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QUEMAD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GASTROINTESTINAL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Vómitos, diarreas, fístu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RENALES: </a:t>
            </a: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diuréticos</a:t>
            </a:r>
            <a:r>
              <a:rPr b="0" lang="es-ES" sz="3200" spc="-1" strike="noStrike">
                <a:solidFill>
                  <a:srgbClr val="ff0066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Hipoaldosteronism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FORMACIÓN DE UN TERCER ESPAC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Ascitis, peritonitis, pericard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SODIO Y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924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352680" y="304920"/>
            <a:ext cx="21337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2666880"/>
            <a:ext cx="16765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1447920"/>
            <a:ext cx="5105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Barorreceptores Ar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2666880"/>
            <a:ext cx="1752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666880"/>
            <a:ext cx="2514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n - AII - A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5867280"/>
            <a:ext cx="4800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Man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Na</a:t>
            </a:r>
            <a:r>
              <a:rPr b="1" lang="es-ES_tradnl" sz="2400" spc="-1" strike="noStrike" baseline="30000">
                <a:solidFill>
                  <a:srgbClr val="ff0066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4114800"/>
            <a:ext cx="12193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V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838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"/>
            <a:ext cx="0" cy="228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5760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90512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962520" y="44197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3429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51055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1814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51055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9810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638680" y="2895120"/>
            <a:ext cx="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000"/>
            </a:br>
            <a:r>
              <a:rPr b="1" lang="es-ES" sz="4000" spc="-1" strike="noStrike">
                <a:solidFill>
                  <a:srgbClr val="ff0066"/>
                </a:solidFill>
                <a:latin typeface="Tahoma"/>
              </a:rPr>
              <a:t>FACTORES NEUROHUMOR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Tono Simpá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Renina-AII-aldoste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triopep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D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692360" y="285228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92360" y="33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692360" y="51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407664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400"/>
            </a:b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MANIFEST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HIPOTENSIÓN: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rtostática          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PRESIÓN VENOSA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YUGULARES PL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SEQUEDAD DE PIEL Y MUCO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Signo del plie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LA DIURE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lig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276640"/>
            <a:ext cx="792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15680" y="533520"/>
            <a:ext cx="42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UA CORPO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680" y="1639800"/>
            <a:ext cx="7986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ontenido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otal 60% (hombre); 50% (muj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partimientos: Intracelular (2/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tracelular (1/3)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uncion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lv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rmorregu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ehíc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quilibrio de distrib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modificador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tenido de grasa cor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6000" y="658800"/>
            <a:ext cx="86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ahoma"/>
              </a:rPr>
              <a:t>Parámetros Normales del Equilibrio Hidrosal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87000" y="2286000"/>
            <a:ext cx="636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Natremia (Na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4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Kalemia (K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 4.5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Cloremia (Cl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-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0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Osmolaridad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285 mOsm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ESQUEMA DE DAR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7840" y="396252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3120" y="3960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920" y="5145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6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2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73392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343400" y="3962520"/>
            <a:ext cx="99072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88440" y="380880"/>
            <a:ext cx="51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Concepto de bal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447920"/>
            <a:ext cx="769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Balance = Ingresos -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cero ó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ul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gualdad consta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e ingresos y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ega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g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érdid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posi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l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gananci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840" y="609480"/>
            <a:ext cx="88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REGULACIÓN DE VOLUMEN Y OSMOLAR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3640" y="182880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istema 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Eje renina-angiotensina-aldoste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Péptido natriurético auricular (atriopept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antidiurética (e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Mecanismo de la sed (in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971800" cy="2377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272736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il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6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14300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Gástrica 2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48292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Pancreática 7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30924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701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imes New Roman"/>
              </a:rPr>
              <a:t>Heces 1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94156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Intestinal 3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254320"/>
            <a:ext cx="228600" cy="30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05120" y="2666880"/>
            <a:ext cx="304560" cy="3812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178000"/>
            <a:ext cx="0" cy="6094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437920" y="2558880"/>
            <a:ext cx="30492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0481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Reabsorción de agua en Intestino 7.8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980720" y="1720800"/>
            <a:ext cx="38124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95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aliva  1.5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86000" y="1110960"/>
            <a:ext cx="304920" cy="75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04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INGESTA 2.000 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52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ebida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Alimento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2840" y="380880"/>
            <a:ext cx="30492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80880"/>
            <a:ext cx="38124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7621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1646280" cy="205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638680" y="22860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ulm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7621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914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Respi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3124080" cy="215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15200" y="49528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58672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Orina 1.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295280" y="46483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86200" y="5410080"/>
            <a:ext cx="16765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erspiración Insen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 su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571500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657600"/>
            <a:ext cx="2514600" cy="160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Agua Endóg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3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ÍAS DE INGRESOS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602000" y="2438280"/>
            <a:ext cx="590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Beb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limentos (hum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gua metabólica (endóge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extra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oluciones parenterales (suer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3:26:57Z</dcterms:created>
  <dc:creator>Informatica</dc:creator>
  <dc:description/>
  <dc:language>en-US</dc:language>
  <cp:lastModifiedBy>Usuario</cp:lastModifiedBy>
  <dcterms:modified xsi:type="dcterms:W3CDTF">2005-10-05T13:25:16Z</dcterms:modified>
  <cp:revision>43</cp:revision>
  <dc:subject/>
  <dc:title>TRASTORNOS DE LA OSMOLARIDAD</dc:title>
</cp:coreProperties>
</file>