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85C-51DB-4850-B332-162ADF04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3C8D-181A-4E75-BFC8-078C2732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FF2-03DE-449C-8A87-5691C941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842-CD0F-4C8B-8FD1-F95359B0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EBFB-6B23-431B-B5D0-CFB3CA73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D221-AFF8-4EFB-91C8-469717C2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A790-769B-4470-AA68-37FB033F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A349-C637-4BB5-80BA-5F904BFB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94E5-A987-4AF9-850A-375CD19F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4C47-EC89-40F8-8E88-0DED46AC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7AAD-761C-4C08-97DC-89B0C0FA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35A-E3DB-4B84-96D0-0DF95D0E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EAF9-437B-447D-BCF5-2F266D35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6E12-FF22-4CD4-AE2A-DEBB92B0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3973-7C1B-48A2-B564-2AFDE824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B114-B51E-406F-8518-A7587070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41ED-F512-429F-9E8D-8A0E83B4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D39-E3FF-40E5-8C73-8B6DDE05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04B-5435-417D-B06D-A9066CB0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D80-072D-4071-9E14-4A5D2B1E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4598-8904-4361-A8C2-E89502DA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23B-3AB9-4F22-9B2C-53F6DC48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CB7-9513-4ACE-92FF-4B8F56D2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B99-8D69-41EA-B977-02561648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2882-0384-4885-9CA7-DA0F3E26908E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48A6-0AC0-416F-B8E7-6872964BDCE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86080" y="1828800"/>
            <a:ext cx="6087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ALTERACIONES DE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HOMEOSTASIS 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AGUA Y DEL SOD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5956200"/>
            <a:ext cx="33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r. Ramón Rodrigo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27160" y="64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9880" y="0"/>
          <a:ext cx="12304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0"/>
                    <a:ext cx="12304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VÍAS DE EGRESOS DE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148040" y="2235240"/>
            <a:ext cx="7467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Piel: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ud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perspiración insen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Pulmón: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Humedad del aire espi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Riñón: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Or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T. Digestivo: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He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BALANCE EXTERNO DE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748800" y="2378160"/>
            <a:ext cx="77673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Ingresos: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Egres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Bebida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10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Pulmón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4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Alimentos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10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Pie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4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A. endógena    3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Orina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          14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Heces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1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TOTA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23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23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5867280"/>
            <a:ext cx="30481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867280"/>
            <a:ext cx="30481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BALANCE NEGATIVO DE AGUA (Deshidratación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593640" y="2249640"/>
            <a:ext cx="787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MECANISMOS DE PRODUC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isminución de ingresos: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umento de egre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áufrago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udoración prof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esierto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oliuria acu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stado de coma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iperventi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año encefálico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entro de la sed (ancia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-) DE AGUA: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SECUENCI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809880" y="2743200"/>
            <a:ext cx="0" cy="22860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248520" y="2743200"/>
            <a:ext cx="0" cy="22860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2743200"/>
            <a:ext cx="243864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25160" y="392760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E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92200" y="3927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37040" y="2098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76560" y="51465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5160" y="5181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anifestaciones del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-) de 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1481760" y="2637000"/>
            <a:ext cx="6861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Pérdida de p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Disminución de la diur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equedad de piel y mucos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índrome hiperosmolar: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hipernatr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onvul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oma, mue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Arial"/>
              </a:rPr>
              <a:t>BALANCE POSITIVO DE AGUA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 (Sobrehidratación o intoxicación acuos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2719440"/>
            <a:ext cx="83768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Mecanismos de produc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umento de ingresos: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isminución de egre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olidipsia primaria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RA, IR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creción inapropia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e ADH: SSIAD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rog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AE disminuido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BALANCE (+) DE AGUA: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CONSECUENC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25160" y="392760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E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92200" y="3927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37040" y="2098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2400" y="5257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5160" y="5257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3809880"/>
            <a:ext cx="0" cy="12193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29600" y="3809880"/>
            <a:ext cx="0" cy="12193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809880"/>
            <a:ext cx="548640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anifestaciones del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+) de 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2590920"/>
            <a:ext cx="6838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Aumento de p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upresión de la 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índrome hipoosmolar: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hiponatremia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Apatía, aletarg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ala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efalea, vómi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onvul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ERAPIA DE CORRECCIÓN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451080" y="2362320"/>
            <a:ext cx="857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Balance (-) de agua: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Reposición del déficit de agua (Ej. Glucosa 5%: isotónic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Balance (+) de agu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Restringir ingresos de agua y controlar las pérd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La corrección de la osmolaridad no debe ser brusca p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evitar síndrome de desmielinización osmótica que dej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secuelas neurológ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ESTADOS DE DEPLECIÓN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             DEL VOLUMEN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          EXTRACELUL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27120" y="838080"/>
            <a:ext cx="78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TRASTORNOS DEL BALANCE HIDROELECTROLÍ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828800"/>
            <a:ext cx="83599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negativo de agua: deshidra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positivo de agua: intoxicación acuosa, 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      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sobrehidra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negativo de sodio y agua: depleción de 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volumen 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positivo de sodio y agua: ed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94960" y="403200"/>
            <a:ext cx="78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Volumen extracelular   =   Intravascular  + Interst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66ff33"/>
                </a:solidFill>
                <a:latin typeface="Arial"/>
              </a:rPr>
              <a:t>(volem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02200" y="981000"/>
            <a:ext cx="49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ntravascular:  </a:t>
            </a:r>
            <a:r>
              <a:rPr b="1" lang="es-ES_tradnl" sz="2400" spc="-1" strike="noStrike">
                <a:solidFill>
                  <a:srgbClr val="66ff33"/>
                </a:solidFill>
                <a:latin typeface="Arial"/>
              </a:rPr>
              <a:t>arterial  +  veno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8400" y="2009880"/>
            <a:ext cx="86662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VOLUMEN ARTERIAL EFECTIVO: V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1) Volumen arterial adecuado para mantener la perfu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e los órg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2) Depende del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“llene” ar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3) Puede coexistir con VEC normal, contraído o expand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4) Es el parámetro regulado por los mecanism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ncargados de mantener el V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DEPLECIÓN DEL VAE 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CAUS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HEMORRAG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QUEMAD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PÉRDIDAS GASTROINTESTINAL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Vómitos, diarreas, fístu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PÉRDIDAS RENALES: </a:t>
            </a: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diuréticos</a:t>
            </a:r>
            <a:r>
              <a:rPr b="0" lang="es-ES" sz="3200" spc="-1" strike="noStrike">
                <a:solidFill>
                  <a:srgbClr val="ff0066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Hipoaldosteronism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FORMACIÓN DE UN TERCER ESPACI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Ascitis, peritonitis, pericardi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3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-) DE SODIO Y AGUA: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SECUENC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25160" y="392760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EE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92200" y="3927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37040" y="2098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76560" y="51465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5160" y="5181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92436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352680" y="304920"/>
            <a:ext cx="21337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2666880"/>
            <a:ext cx="167652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D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81080" y="1447920"/>
            <a:ext cx="5105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Barorreceptores Arter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2666880"/>
            <a:ext cx="17524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impá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4114800"/>
            <a:ext cx="16765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eten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666880"/>
            <a:ext cx="25146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Ren - AII - A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5867280"/>
            <a:ext cx="48006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Mant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V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114800"/>
            <a:ext cx="16765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Reten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Na</a:t>
            </a:r>
            <a:r>
              <a:rPr b="1" lang="es-ES_tradnl" sz="2400" spc="-1" strike="noStrike" baseline="30000">
                <a:solidFill>
                  <a:srgbClr val="ff0066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4114800"/>
            <a:ext cx="12193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V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838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57200"/>
            <a:ext cx="0" cy="2286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657600" y="2819520"/>
            <a:ext cx="0" cy="30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905120" y="2819520"/>
            <a:ext cx="0" cy="30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962520" y="4419720"/>
            <a:ext cx="0" cy="30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1120" y="1981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34290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34290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34290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5880" y="510552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51814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510552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1981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9810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638680" y="2895120"/>
            <a:ext cx="0" cy="3049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Tahoma"/>
              </a:rPr>
              <a:t>DEPLECIÓN EC:</a:t>
            </a:r>
            <a:br>
              <a:rPr sz="4000"/>
            </a:br>
            <a:r>
              <a:rPr b="1" lang="es-ES" sz="4000" spc="-1" strike="noStrike">
                <a:solidFill>
                  <a:srgbClr val="ff0066"/>
                </a:solidFill>
                <a:latin typeface="Tahoma"/>
              </a:rPr>
              <a:t>FACTORES NEUROHUMOR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1600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Tono Simpá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Renina-AII-aldoste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Atriopept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Hormona natriuré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AD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692360" y="285228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92360" y="335736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692360" y="515736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4076640"/>
            <a:ext cx="0" cy="432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92360" y="4581360"/>
            <a:ext cx="0" cy="432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DEPLECIÓN EC:</a:t>
            </a:r>
            <a:br>
              <a:rPr sz="4400"/>
            </a:b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MANIFESTACI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HIPOTENSIÓN: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ortostática           sh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TAQUICAR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DISMINUCIÓN DE PRESIÓN VENOSA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YUGULARES PL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SEQUEDAD DE PIEL Y MUCOS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Signo del plieg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DISMINUCIÓN DE LA DIURES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olig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2276640"/>
            <a:ext cx="7923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15680" y="533520"/>
            <a:ext cx="42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GUA CORPO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680" y="1639800"/>
            <a:ext cx="7986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ontenido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otal 60% (hombre); 50% (muj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mpartimientos: Intracelular (2/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tracelular (1/3)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Funciones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olv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ermorregul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ehíc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quilibrio de distrib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Factores modificadores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x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tenido de grasa corp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6000" y="658800"/>
            <a:ext cx="86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ahoma"/>
              </a:rPr>
              <a:t>Parámetros Normales del Equilibrio Hidrosali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87000" y="2286000"/>
            <a:ext cx="6366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Natremia (Na</a:t>
            </a:r>
            <a:r>
              <a:rPr b="1" lang="es-ES_tradnl" sz="3200" spc="-1" strike="noStrike" baseline="30000">
                <a:solidFill>
                  <a:srgbClr val="ffff66"/>
                </a:solidFill>
                <a:latin typeface="Tahoma"/>
              </a:rPr>
              <a:t>+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)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140 mEq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Kalemia (K</a:t>
            </a:r>
            <a:r>
              <a:rPr b="1" lang="es-ES_tradnl" sz="3200" spc="-1" strike="noStrike" baseline="30000">
                <a:solidFill>
                  <a:srgbClr val="ffff66"/>
                </a:solidFill>
                <a:latin typeface="Tahoma"/>
              </a:rPr>
              <a:t>+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)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 4.5 mEq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Cloremia (Cl</a:t>
            </a:r>
            <a:r>
              <a:rPr b="1" lang="es-ES_tradnl" sz="3200" spc="-1" strike="noStrike" baseline="30000">
                <a:solidFill>
                  <a:srgbClr val="ffff66"/>
                </a:solidFill>
                <a:latin typeface="Tahoma"/>
              </a:rPr>
              <a:t>-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)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100 mEq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Osmolaridad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285 mOsm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ESQUEMA DE DARR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7840" y="396252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E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3120" y="3960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37760" y="2097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76920" y="51451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5520" y="51800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96200" y="43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82200" y="43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373392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343400" y="3962520"/>
            <a:ext cx="990720" cy="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88440" y="380880"/>
            <a:ext cx="517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Concepto de bal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447920"/>
            <a:ext cx="7696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Balance = Ingresos - Egr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cero ó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nul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gualdad consta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re ingresos y egr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negativo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resos &gt; Ingreso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Pérdida n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positivo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resos &lt; Ingreso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ganancia n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8840" y="609480"/>
            <a:ext cx="88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REGULACIÓN DE VOLUMEN Y OSMOLAR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3640" y="1828800"/>
            <a:ext cx="824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Sistema simpá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Eje renina-angiotensina-aldoster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Péptido natriurético auricular (atriopept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Hormona natriuré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Hormona antidiurética (egresos de agu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Mecanismo de la sed (ingresos de agu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2971800" cy="2377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2727360"/>
            <a:ext cx="1219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Bil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6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1143000"/>
            <a:ext cx="99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ecreción Gástrica 2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482920"/>
            <a:ext cx="99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ecreción Pancreática 7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30924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3701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imes New Roman"/>
              </a:rPr>
              <a:t>Heces 100 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94156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ecreción Intestinal 3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2254320"/>
            <a:ext cx="228600" cy="3045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905120" y="2666880"/>
            <a:ext cx="304560" cy="3812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178000"/>
            <a:ext cx="0" cy="6094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437920" y="2558880"/>
            <a:ext cx="304920" cy="5335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304812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Reabsorción de agua en Intestino 7.8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1980720" y="1720800"/>
            <a:ext cx="381240" cy="5335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9586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aliva  1.5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286000" y="1110960"/>
            <a:ext cx="304920" cy="759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3049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INGESTA 2.000 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152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Bebidas 1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52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Alimentos 1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42840" y="380880"/>
            <a:ext cx="304920" cy="152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380880"/>
            <a:ext cx="381240" cy="152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7621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1646280" cy="2057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638680" y="22860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Pulm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4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7621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914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imes New Roman"/>
              </a:rPr>
              <a:t>Respi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791320" y="3429000"/>
            <a:ext cx="3124080" cy="2152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315200" y="4952880"/>
            <a:ext cx="304920" cy="99072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586728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Orina 1.4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295280" y="46483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86200" y="5410080"/>
            <a:ext cx="16765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Perspiración Insen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 sud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4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571500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3657600"/>
            <a:ext cx="2514600" cy="160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ff"/>
                </a:solidFill>
                <a:latin typeface="Times New Roman"/>
              </a:rPr>
              <a:t>Agua Endóge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ff"/>
                </a:solidFill>
                <a:latin typeface="Times New Roman"/>
              </a:rPr>
              <a:t>300 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VÍAS DE INGRESOS DE 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1602000" y="2438280"/>
            <a:ext cx="590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.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ngresos ordi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Beb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Alimentos (hume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Agua metabólica (endóge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I.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ngresos extraordi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Soluciones parenterales (suer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13:26:57Z</dcterms:created>
  <dc:creator>Informatica</dc:creator>
  <dc:description/>
  <dc:language>en-US</dc:language>
  <cp:lastModifiedBy>Usuario</cp:lastModifiedBy>
  <dcterms:modified xsi:type="dcterms:W3CDTF">2005-10-05T13:25:16Z</dcterms:modified>
  <cp:revision>43</cp:revision>
  <dc:subject/>
  <dc:title>TRASTORNOS DE LA OSMOLARIDAD</dc:title>
</cp:coreProperties>
</file>