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4E4-049E-4E89-AC59-1096E1C3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5FF3-D06A-441D-835C-AC81D6C0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5A0-44DA-4C0F-A3AE-B2D7604E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EEF-5BF2-416E-83AB-812A1FC5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987-94E0-43E5-B6DE-1BAFC561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773-3CE8-4BB6-B0F5-F9BD3D81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6E1-79EC-4069-AB55-3E0A7166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0CB-B3E5-4E89-8FE3-8F5A5CD8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2EF-B415-4F61-8595-CDEEBD00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1E9-FBF7-490C-A974-866D4F63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0F0-6A32-4785-921E-F5CB7D88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106-F675-46F0-9B69-7215D803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B103-C398-4D27-95D9-36F56EE6CC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00200"/>
            <a:ext cx="86108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Franklin Gothic Demi"/>
              </a:rPr>
              <a:t>INSUFICIENCIA CARDIA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    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Franklin Gothic Demi"/>
              </a:rPr>
              <a:t>Dra. Pilar  Ma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Respuesta a sobrecarga de presió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856944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Hipertrofia ventricular en paralelo lo que impide que los miofilamentos desarrollen mucha fuerza, se evita el déficit de VE producido por el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 la post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00"/>
                </a:solidFill>
                <a:latin typeface="Arial"/>
              </a:rPr>
              <a:t>Sin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mbargo la hipertrof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por sí sóla  daña el miocardio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roducindo necrosis, fibrosis (disf diastólica) y apoptosi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u contractilidad y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o se acompaña de aumento de capilares, ↑ la distancia de difusión y no puede continuar. Si la contractilidad está 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l VE, se distiende el ventrículo, hipertrofia en serie que tambien daña los miofilamntos con &gt;daño d la contractilidad y &gt; dilatación. La dilatación tambien compensa la ↓ del VE  pero tambien sigue dañando la contractilidad y ↑ la postcarga con lo que ↓ mas el VE y ya no puede haber más hipertro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En las sobrecargas de volumen primero ocurre hipertrofia en s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80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00"/>
                </a:solidFill>
                <a:latin typeface="Times New Roman"/>
              </a:rPr>
              <a:t>Señales para hipertrofia ventric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523880"/>
            <a:ext cx="914400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Factores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Angiotensin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ndote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ramiento de las fi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Franklin Gothic Demi"/>
              </a:rPr>
              <a:t>Estimulación alfa y beta adrené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Franklin Gothic Demi"/>
              </a:rPr>
              <a:t>Estos factores activan genes que producen multiplicación de sarcómeros con 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609480"/>
            <a:ext cx="838224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80"/>
                </a:solidFill>
                <a:latin typeface="Arial Black"/>
                <a:ea typeface="Times New Roman"/>
              </a:rPr>
              <a:t>     </a:t>
            </a:r>
            <a:r>
              <a:rPr b="0" i="1" lang="es-ES_tradnl" sz="32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HIPERTROFIA 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Disminuye la reserva coronaria :           isqu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Induce arritmias supra ventriculares (dilatación  auricular) y ventric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Produce disfunción diastólica y luego sist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Aumenta riesgo de muerte súbi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Arial"/>
              </a:rPr>
              <a:t>Remodelación Ventricular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1420920"/>
            <a:ext cx="704376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Hipertrof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teinas fet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Proliferación del coláge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5400" spc="-1" strike="noStrike">
                <a:solidFill>
                  <a:srgbClr val="ff9900"/>
                </a:solidFill>
                <a:latin typeface="Times New Roman"/>
              </a:rPr>
              <a:t>Apopto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Arial"/>
              </a:rPr>
              <a:t>FACTORES QUE DETERMINAN DITENSIBILIDAD VENT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Velocidad y magnitud de relajación ventricular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que depende de: 1.-velocidad de desactivación de miofilamentos; 2.magnitud de la precarga y postcarga; 3.-magnitud de la fuerza restauradora que es una fuerza distensiva que se origina cuando el miocardio se acorta y comp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Espesor y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constituc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hipertrofia, fibrosis , infiltración de la pared disminuy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n la dist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Factores extramiocárdicos que disminuyen la excursión de la pared ventricular: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trastornos del p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ricardio, hiperinsuflación pulmonar, d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s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</a:rPr>
              <a:t>plazamiento del tabique ventricular por dilatación del ventrí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Arial"/>
              </a:rPr>
              <a:t>Disfunción diastólica en sobrecar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Se produce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e postca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olág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Alteración del SRP en la hipertrofia :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captación y lib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ación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Ca </a:t>
            </a:r>
            <a:r>
              <a:rPr b="0" i="1" lang="es-ES" sz="32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, s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roduc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una 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lajación ina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l grosor d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la par</a:t>
            </a: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788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Causas de Disfunción Diastó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iocárdicas                         Aumento de la post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Hipertrofia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Dilatación ventr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squemia  miocárdica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filtración del miocar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árdicas                       Derrame pericárdic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ericarditis constri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xtra cardiacas                  Aumento de presión intratorácica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( ej . PEP muy alto 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nteracción ventricular       Sobrecarga del ventrículo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Act. Simpática</a:t>
            </a:r>
            <a:r>
              <a:rPr b="1" i="1" lang="es-ES_tradnl" sz="2000" spc="-1" strike="noStrike">
                <a:solidFill>
                  <a:srgbClr val="ffff00"/>
                </a:solidFill>
                <a:latin typeface="Arial"/>
              </a:rPr>
              <a:t>                      Taquic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Catecolaminas                         Hipertrofia 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Sist. Renina - Ang. – Aldo       Vasoconstricción   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 Post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Vasopresina arg.                      Retención Na</a:t>
            </a:r>
            <a:r>
              <a:rPr b="1" i="1" lang="es-ES_tradnl" sz="1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y H</a:t>
            </a:r>
            <a:r>
              <a:rPr b="1" i="1" lang="es-ES_tradnl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P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rostagland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Bradiki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00"/>
                </a:solidFill>
                <a:latin typeface="Arial"/>
              </a:rPr>
              <a:t>Peptido natriur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lgunas alteraciones neurohumorales en la insuficiencia cardiaca y su repercusión hemodiná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2276640"/>
            <a:ext cx="216000" cy="143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445000"/>
            <a:ext cx="8064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 Black"/>
              </a:rPr>
              <a:t>Con el tiempo </a:t>
            </a:r>
            <a:r>
              <a:rPr b="0" i="1" lang="en-US" sz="1800" spc="-1" strike="noStrike">
                <a:solidFill>
                  <a:srgbClr val="ffff00"/>
                </a:solidFill>
                <a:latin typeface="Arial Black"/>
              </a:rPr>
              <a:t>↑ la precarga y postcarga y se deteriora la estruct el miocardio lo que daña aún más la contractilidad miocárdica. El tratamiento consiste en antagonizar sist simpático y eje renina-ang-aldost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7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lteraciones en la insuficiencia cardi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1066680"/>
            <a:ext cx="839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1440" y="914400"/>
            <a:ext cx="8601120" cy="50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1.- Energéticas :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QO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ocárdic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. Cor.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TP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mito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2.- Humorales : Catecolaminas , Ang II , Aldo , Endot . IL 1 y 6 , TNF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, ANP , BNP , Adrenomedulina. Síntesis de proteínas fet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3.- Morfológicas : Debido a 1 y 2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y apoptosis celular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colágeno :                              disfunción diastólica,  obliteración de capilares,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estrés fibras remanent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dilatación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necrosis apoptosis = REMODELACIÖ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4.- Reticulosarcoplásm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transporte de Ca</a:t>
            </a:r>
            <a:r>
              <a:rPr b="0" i="1" lang="es-ES_tradnl" sz="20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5.- Receptores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renérgicos : desensib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6.- Músculo esquelético :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Reserva de vasodilatación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Volumen mitocond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osforilación  oxidativa,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Lactato y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pH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Pi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ADP ,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PCr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*  DISNEA y FATIGABILIDAD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PATOGENIA DE LOS SIGNOS Y SINTOMAS DE LA 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del GC e incapacidad de aumentarlo por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contractilidad o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de la postcarg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→incapacidad de hacer ejercicio</a:t>
            </a:r>
            <a:r>
              <a:rPr b="0" i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l volumen sanguíneo (congestión) y de la presión en el territorio vascular venoso y capilar que drena en el ventrículo afectado por ↓de la distensib del ventrí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34136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800" spc="-1" strike="noStrike">
                <a:solidFill>
                  <a:srgbClr val="ffffff"/>
                </a:solidFill>
                <a:latin typeface="Franklin Gothic Demi"/>
              </a:rPr>
              <a:t>Insuficiencia cardíaca es la incapacidad de aumentar el gasto cardíaco cuando aumenta la actividad física manteniendo una presión ventricular diastólica ba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Hemodinamia en la disfunción ventricular izquier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1440" y="1752480"/>
            <a:ext cx="860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ff00"/>
                </a:solidFill>
                <a:latin typeface="Arial"/>
              </a:rPr>
              <a:t>PATOGENIA DE SINTOMAS Y SIGNOS DE 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IC Izd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: heterodinamia ventricula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ngestión e hipertensión en territorio vasc pulmona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menta precarga en VI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odinamia. La heterodinamia se repite cada vez que el paciente hace ejercic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íntomas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tig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lipnea disnea: estim recept J , estim de mecano y quimiorecept de músc esq. Edema intersticial pulm, alt rel V/P,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sist flujo aé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rto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ema pulmonar agudo: inundación alveolar cuando presión cap pulm sobrepasa los 20-25 mm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ianosis central y perif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IC der: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congestión sistémica, 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03280" y="0"/>
            <a:ext cx="614700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7900" spc="-1" strike="noStrike">
                <a:solidFill>
                  <a:srgbClr val="ffffff"/>
                </a:solidFill>
                <a:latin typeface="Arial"/>
              </a:rPr>
              <a:t>Shock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785880"/>
            <a:ext cx="828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Hipoperfusión tisular, con aporte insuficiente de O</a:t>
            </a:r>
            <a:r>
              <a:rPr b="0" i="1" lang="es-ES_tradnl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 y otros sustratos metabólicos esenciales, asociado a una eliminación insuficiente de los productos celulares. La mantención de este estado provocará una falla orgánica múltiple de no mediar una oportuna y adecuada reani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ffffff"/>
                </a:solidFill>
                <a:latin typeface="Arial"/>
              </a:rPr>
              <a:t>Causas: hipovolemia por sangramiento y otras pérdidas; cardiogénico, distributivo: shock sép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692280"/>
            <a:ext cx="83534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5400" spc="-1" strike="noStrike">
                <a:solidFill>
                  <a:srgbClr val="ffff00"/>
                </a:solidFill>
                <a:latin typeface="Franklin Gothic Demi"/>
              </a:rPr>
              <a:t>GASTO CARDIACO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Frecuencia cardíaca x volumen expuls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Franklin Gothic Demi"/>
              </a:rPr>
              <a:t>Vol expulsivo depende de: </a:t>
            </a:r>
            <a:r>
              <a:rPr b="0" i="1" lang="es-CL" sz="3600" spc="-1" strike="noStrike">
                <a:solidFill>
                  <a:srgbClr val="ff0000"/>
                </a:solidFill>
                <a:latin typeface="Franklin Gothic Demi"/>
              </a:rPr>
              <a:t>precarga: estrés fin de diástole, postcarga:estrés de fin de sístole y,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0000"/>
                </a:solidFill>
                <a:latin typeface="Franklin Gothic Demi"/>
              </a:rPr>
              <a:t>(Estrés: P x R/2h) o tensión de la pared/cm</a:t>
            </a:r>
            <a:r>
              <a:rPr b="0" i="1" lang="es-CL" sz="2800" spc="-1" strike="noStrike" baseline="30000">
                <a:solidFill>
                  <a:srgbClr val="ff0000"/>
                </a:solidFill>
                <a:latin typeface="Franklin Gothic Dem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97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EFECTO DE CAMBIOS DE</a:t>
            </a:r>
            <a:r>
              <a:rPr b="1" i="1" lang="es-CL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PRE Y POST 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Arial"/>
              </a:rPr>
              <a:t>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de precarg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el Vexp y ↑ postcarga. La ↓ de precarga ↓ Vexp puede ser consecuencia de pérdida de volemia por sangramiento, pérdidas gastrointestinales (Shock hipovolém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El ↑de la postcarga, es decir la fuerza que debe desarrollar el músculo  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la veloc de acortamiento, y para un determinado tiempo el Vexp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↓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00"/>
                </a:solidFill>
                <a:latin typeface="Arial"/>
              </a:rPr>
              <a:t>Disfunción Ventricul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SISTÓLICA : Incapacidad de aumentar el volumen expul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Exceso de post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Disminución de la contrac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DIASTÓLICA : Incapacidad de mantener una presión diastólica b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elajación lenta e incompl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es-ES_tradnl" sz="3600" spc="-1" strike="noStrike">
                <a:solidFill>
                  <a:srgbClr val="ff9900"/>
                </a:solidFill>
                <a:latin typeface="Times New Roman"/>
              </a:rPr>
              <a:t>Rigidez aument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859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ausas de Disfunción Sistól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341360"/>
            <a:ext cx="8893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presión: Ej: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Hipertensión arterial, estenosis aór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Sobrecarga de volumen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suficiencia aórtica, Insuficiencia mi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Pérdida de músculo: </a:t>
            </a:r>
            <a:r>
              <a:rPr b="0" i="1" lang="es-ES_tradnl" sz="2800" spc="-1" strike="noStrike">
                <a:solidFill>
                  <a:srgbClr val="ff9900"/>
                </a:solidFill>
                <a:latin typeface="Times New Roman"/>
              </a:rPr>
              <a:t>infarto que  cuando  es extenso produce shck cardiogé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9900"/>
                </a:solidFill>
                <a:latin typeface="Times New Roman"/>
              </a:rPr>
              <a:t>Disminución de la contractilidad: </a:t>
            </a:r>
            <a:r>
              <a:rPr b="0" i="1" lang="es-ES_tradnl" sz="2400" spc="-1" strike="noStrike">
                <a:solidFill>
                  <a:srgbClr val="ff9900"/>
                </a:solidFill>
                <a:latin typeface="Times New Roman"/>
              </a:rPr>
              <a:t>por mi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477720"/>
            <a:ext cx="770436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586560" cy="551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5857920"/>
            <a:ext cx="5976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0:01:31Z</dcterms:created>
  <dc:creator>Pilar Macho</dc:creator>
  <dc:description/>
  <dc:language>en-US</dc:language>
  <cp:lastModifiedBy>Usuario</cp:lastModifiedBy>
  <dcterms:modified xsi:type="dcterms:W3CDTF">2005-10-04T12:04:29Z</dcterms:modified>
  <cp:revision>137</cp:revision>
  <dc:subject/>
  <dc:title>Diapositiva 1</dc:title>
</cp:coreProperties>
</file>