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1F37-C2D2-4562-A71D-F1AE5DFC6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23F2-6AC9-4307-8361-ED152A6CF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0D63-5B05-4D25-94CD-C101A24BB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AE94-D302-4504-83FC-6BFCE1867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3B49-ED56-4CFD-86D2-430A6D83A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CE39-0BE1-4B71-8F45-261E2EAD9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C689-2D8D-4A4A-99B8-5C50E8731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B34F-4F92-45EA-AF76-4EFC1B809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049C-3071-4E9B-9CA7-7FC885F33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0AEA-49D5-4B31-B4A5-7A867E94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10F0-5864-4D41-BFD6-A19A2E6F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6077-E5C3-49CB-9552-38A5DC06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3DA32-830E-44B5-ACB6-C447EC28A2F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600200"/>
            <a:ext cx="8610840" cy="29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Franklin Gothic Demi"/>
              </a:rPr>
              <a:t>INSUFICIENCIA CARDIA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Franklin Gothic Demi"/>
              </a:rPr>
              <a:t>                        </a:t>
            </a:r>
            <a:r>
              <a:rPr b="0" lang="en-US" sz="4400" spc="-1" strike="noStrike">
                <a:solidFill>
                  <a:srgbClr val="ffff00"/>
                </a:solidFill>
                <a:latin typeface="Franklin Gothic Demi"/>
              </a:rPr>
              <a:t>Dra. Pilar  Mac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713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600" spc="-1" strike="noStrike">
                <a:solidFill>
                  <a:srgbClr val="ff0000"/>
                </a:solidFill>
                <a:latin typeface="Arial"/>
              </a:rPr>
              <a:t>Respuesta a sobrecarga de presión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79280" y="1341360"/>
            <a:ext cx="8569440" cy="40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00"/>
                </a:solidFill>
                <a:latin typeface="Arial"/>
              </a:rPr>
              <a:t>Hipertrofia ventricular en paralelo lo que impide que los miofilamentos desarrollen mucha fuerza, se evita el déficit de VE producido por el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↑</a:t>
            </a:r>
            <a:r>
              <a:rPr b="0" i="1" lang="es-ES" sz="2000" spc="-1" strike="noStrike">
                <a:solidFill>
                  <a:srgbClr val="ffff00"/>
                </a:solidFill>
                <a:latin typeface="Arial"/>
              </a:rPr>
              <a:t> d</a:t>
            </a:r>
            <a:r>
              <a:rPr b="0" i="1" lang="es-CL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i="1" lang="es-ES" sz="2000" spc="-1" strike="noStrike">
                <a:solidFill>
                  <a:srgbClr val="ffff00"/>
                </a:solidFill>
                <a:latin typeface="Arial"/>
              </a:rPr>
              <a:t> la postcarg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00"/>
                </a:solidFill>
                <a:latin typeface="Arial"/>
              </a:rPr>
              <a:t>Sin </a:t>
            </a:r>
            <a:r>
              <a:rPr b="0" i="1" lang="es-CL" sz="2000" spc="-1" strike="noStrike">
                <a:solidFill>
                  <a:srgbClr val="ffff00"/>
                </a:solidFill>
                <a:latin typeface="Arial"/>
              </a:rPr>
              <a:t>embargo la hipertrof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00"/>
                </a:solidFill>
                <a:latin typeface="Arial"/>
              </a:rPr>
              <a:t>por sí sóla  daña el miocardio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producindo necrosis, fibrosis (disf diastólica) y apoptosis </a:t>
            </a:r>
            <a:r>
              <a:rPr b="0" i="1" lang="es-CL" sz="20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↓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su contractilidad y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↓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o se acompaña de aumento de capilares, ↑ la distancia de difusión y no puede continuar. Si la contractilidad está 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00"/>
                </a:solidFill>
                <a:latin typeface="Arial"/>
              </a:rPr>
              <a:t>                                     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↓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el VE, se distiende el ventrículo, hipertrofia en serie que tambien daña los miofilamntos con &gt;daño d la contractilidad y &gt; dilatación. La dilatación tambien compensa la ↓ del VE  pero tambien sigue dañando la contractilidad y ↑ la postcarga con lo que ↓ mas el VE y ya no puede haber más hipertrof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0000"/>
                </a:solidFill>
                <a:latin typeface="Arial"/>
              </a:rPr>
              <a:t>En las sobrecargas de volumen primero ocurre hipertrofia en ser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380880"/>
            <a:ext cx="899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ff00"/>
                </a:solidFill>
                <a:latin typeface="Times New Roman"/>
              </a:rPr>
              <a:t>Señales para hipertrofia ventricul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1523880"/>
            <a:ext cx="9144000" cy="49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Franklin Gothic Demi"/>
              </a:rPr>
              <a:t>Factores de crec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Franklin Gothic Demi"/>
              </a:rPr>
              <a:t>Angiotensina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Franklin Gothic Demi"/>
              </a:rPr>
              <a:t>Endotel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Franklin Gothic Demi"/>
              </a:rPr>
              <a:t>Estiramiento de las fib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Franklin Gothic Demi"/>
              </a:rPr>
              <a:t>Estimulación alfa y beta adrenér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Franklin Gothic Demi"/>
              </a:rPr>
              <a:t>Estos factores activan genes que producen multiplicación de sarcómeros con hipertrofia ventri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80880" y="609480"/>
            <a:ext cx="8382240" cy="55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80"/>
                </a:solidFill>
                <a:latin typeface="Arial Black"/>
                <a:ea typeface="Times New Roman"/>
              </a:rPr>
              <a:t>     </a:t>
            </a:r>
            <a:r>
              <a:rPr b="0" i="1" lang="es-ES_tradnl" sz="3200" spc="-1" strike="noStrike">
                <a:solidFill>
                  <a:srgbClr val="ffff00"/>
                </a:solidFill>
                <a:latin typeface="Arial Black"/>
                <a:ea typeface="Times New Roman"/>
              </a:rPr>
              <a:t>HIPERTROFIA VENTRI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Arial Black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Disminuye la reserva coronaria :           isquem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Induce arritmias supra ventriculares (dilatación  auricular) y ventricul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Produce disfunción diastólica y luego sistól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Aumenta riesgo de muerte súbita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ff00"/>
                </a:solidFill>
                <a:latin typeface="Arial"/>
              </a:rPr>
              <a:t>Remodelación Ventricular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42920" y="1420920"/>
            <a:ext cx="7043760" cy="54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5400" spc="-1" strike="noStrike">
                <a:solidFill>
                  <a:srgbClr val="ff9900"/>
                </a:solidFill>
                <a:latin typeface="Times New Roman"/>
              </a:rPr>
              <a:t>Hipertrofi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5400" spc="-1" strike="noStrike">
                <a:solidFill>
                  <a:srgbClr val="ff9900"/>
                </a:solidFill>
                <a:latin typeface="Times New Roman"/>
              </a:rPr>
              <a:t>Proteinas fetal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5400" spc="-1" strike="noStrike">
                <a:solidFill>
                  <a:srgbClr val="ff9900"/>
                </a:solidFill>
                <a:latin typeface="Times New Roman"/>
              </a:rPr>
              <a:t>Proliferación del colágen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5400" spc="-1" strike="noStrike">
                <a:solidFill>
                  <a:srgbClr val="ff9900"/>
                </a:solidFill>
                <a:latin typeface="Times New Roman"/>
              </a:rPr>
              <a:t>Apoptosi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0000"/>
                </a:solidFill>
                <a:latin typeface="Arial"/>
              </a:rPr>
              <a:t>FACTORES QUE DETERMINAN DITENSIBILIDAD VENTRIC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0000"/>
                </a:solidFill>
                <a:latin typeface="Arial"/>
              </a:rPr>
              <a:t>Velocidad y magnitud de relajación ventricular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</a:rPr>
              <a:t> que depende de: 1.-velocidad de desactivación de miofilamentos; 2.magnitud de la precarga y postcarga; 3.-magnitud de la fuerza restauradora que es una fuerza distensiva que se origina cuando el miocardio se acorta y compr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0000"/>
                </a:solidFill>
                <a:latin typeface="Arial"/>
              </a:rPr>
              <a:t>Espesor y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s-CL" sz="2400" spc="-1" strike="noStrike">
                <a:solidFill>
                  <a:srgbClr val="ff0000"/>
                </a:solidFill>
                <a:latin typeface="Arial"/>
              </a:rPr>
              <a:t>constitución de la pared ventricular: 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</a:rPr>
              <a:t>hipertrofia, fibrosis , infiltración de la pared disminuy</a:t>
            </a:r>
            <a:r>
              <a:rPr b="0" i="1" lang="es-CL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</a:rPr>
              <a:t>n la distensi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0000"/>
                </a:solidFill>
                <a:latin typeface="Arial"/>
              </a:rPr>
              <a:t>Factores extramiocárdicos que disminuyen la excursión de la pared ventricular: 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</a:rPr>
              <a:t>trastornos del p</a:t>
            </a:r>
            <a:r>
              <a:rPr b="0" i="1" lang="es-CL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</a:rPr>
              <a:t>ricardio, hiperinsuflación pulmonar, d</a:t>
            </a:r>
            <a:r>
              <a:rPr b="0" i="1" lang="es-CL" sz="2000" spc="-1" strike="noStrike">
                <a:solidFill>
                  <a:srgbClr val="ffff00"/>
                </a:solidFill>
                <a:latin typeface="Arial"/>
              </a:rPr>
              <a:t>es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</a:rPr>
              <a:t>plazamiento del tabique ventricular por dilatación del ventrícu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0000"/>
                </a:solidFill>
                <a:latin typeface="Arial"/>
              </a:rPr>
              <a:t>Disfunción diastólica en sobrecarg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00"/>
                </a:solidFill>
                <a:latin typeface="Arial"/>
              </a:rPr>
              <a:t>Se produce p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↑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de postcar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↑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i="1" lang="es-CL" sz="3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 colág</a:t>
            </a:r>
            <a:r>
              <a:rPr b="0" i="1" lang="es-CL" sz="3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00"/>
                </a:solidFill>
                <a:latin typeface="Arial"/>
              </a:rPr>
              <a:t>Alteración del SRP en la hipertrofia :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↓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 la captación y lib</a:t>
            </a:r>
            <a:r>
              <a:rPr b="0" i="1" lang="es-CL" sz="3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ración d</a:t>
            </a:r>
            <a:r>
              <a:rPr b="0" i="1" lang="es-CL" sz="3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 Ca </a:t>
            </a:r>
            <a:r>
              <a:rPr b="0" i="1" lang="es-ES" sz="3200" spc="-1" strike="noStrike" baseline="30000">
                <a:solidFill>
                  <a:srgbClr val="ffff00"/>
                </a:solidFill>
                <a:latin typeface="Arial"/>
              </a:rPr>
              <a:t>2+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, s</a:t>
            </a:r>
            <a:r>
              <a:rPr b="0" i="1" lang="es-CL" sz="3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 produc</a:t>
            </a:r>
            <a:r>
              <a:rPr b="0" i="1" lang="es-CL" sz="3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 una r</a:t>
            </a:r>
            <a:r>
              <a:rPr b="0" i="1" lang="es-CL" sz="3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lajación inad</a:t>
            </a:r>
            <a:r>
              <a:rPr b="0" i="1" lang="es-CL" sz="3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cu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↑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i="1" lang="es-CL" sz="3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l grosor d</a:t>
            </a:r>
            <a:r>
              <a:rPr b="0" i="1" lang="es-CL" sz="3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 la par</a:t>
            </a:r>
            <a:r>
              <a:rPr b="0" i="1" lang="es-CL" sz="3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788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Causas de Disfunción Diastól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77724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Miocárdicas                         Aumento de la postcar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                                                 </a:t>
            </a: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Hipertrofia ventric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                                                 </a:t>
            </a: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Dilatación ventric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                                                 </a:t>
            </a: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Isquemia  miocárdica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                                                 </a:t>
            </a: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Infiltración del miocar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Pericárdicas                       Derrame pericárdic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                                                </a:t>
            </a: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Pericarditis constric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Extra cardiacas                  Aumento de presión intratorácica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                                                </a:t>
            </a: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( ej . PEP muy alto )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Interacción ventricular       Sobrecarga del ventrículo derec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1" i="1" lang="es-ES_tradnl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Act. Simpática</a:t>
            </a:r>
            <a:r>
              <a:rPr b="1" i="1" lang="es-ES_tradnl" sz="2000" spc="-1" strike="noStrike">
                <a:solidFill>
                  <a:srgbClr val="ffff00"/>
                </a:solidFill>
                <a:latin typeface="Arial"/>
              </a:rPr>
              <a:t>                      Taquicar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Catecolaminas                         Hipertrofia v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Sist. Renina - Ang. – Aldo       Vasoconstricción   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→</a:t>
            </a: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  Postcar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Vasopresina arg.                      Retención Na</a:t>
            </a:r>
            <a:r>
              <a:rPr b="1" i="1" lang="es-ES_tradnl" sz="1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 y H</a:t>
            </a:r>
            <a:r>
              <a:rPr b="1" i="1" lang="es-ES_tradnl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O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→</a:t>
            </a:r>
            <a:r>
              <a:rPr b="1" i="1" lang="es-ES_tradnl" sz="18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 Precar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Prostagland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Bradiki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Peptido natriuré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Algunas alteraciones neurohumorales en la insuficiencia cardiaca y su repercusión hemodiná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24360" y="2276640"/>
            <a:ext cx="216000" cy="1439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37440 h 1439640"/>
              <a:gd name="textAreaBottom" fmla="*/ 1402200 h 14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445000"/>
            <a:ext cx="806436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00"/>
                </a:solidFill>
                <a:latin typeface="Arial Black"/>
              </a:rPr>
              <a:t>Con el tiempo </a:t>
            </a:r>
            <a:r>
              <a:rPr b="0" i="1" lang="en-US" sz="1800" spc="-1" strike="noStrike">
                <a:solidFill>
                  <a:srgbClr val="ffff00"/>
                </a:solidFill>
                <a:latin typeface="Arial Black"/>
              </a:rPr>
              <a:t>↑ la precarga y postcarga y se deteriora la estruct el miocardio lo que daña aún más la contractilidad miocárdica. El tratamiento consiste en antagonizar sist simpático y eje renina-ang-aldoster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872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Alteraciones en la insuficiencia cardia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71440" y="1066680"/>
            <a:ext cx="8397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71440" y="914400"/>
            <a:ext cx="8601120" cy="50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1.- Energéticas :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QO</a:t>
            </a:r>
            <a:r>
              <a:rPr b="0" i="1" lang="es-ES_tradnl" sz="20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miocárdico y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Res. Cor.: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ATP y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Ca</a:t>
            </a:r>
            <a:r>
              <a:rPr b="0" i="1" lang="es-ES_tradnl" sz="2000" spc="-1" strike="noStrike" baseline="30000">
                <a:solidFill>
                  <a:srgbClr val="ffffff"/>
                </a:solidFill>
                <a:latin typeface="Times New Roman"/>
              </a:rPr>
              <a:t>2+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mitoco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2.- Humorales : Catecolaminas , Ang II , Aldo , Endot . IL 1 y 6 , TNF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, ANP , BNP , Adrenomedulina. Síntesis de proteínas feta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3.- Morfológicas : Debido a 1 y 2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necrosis y apoptosis celular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colágeno :                              disfunción diastólica,  obliteración de capilares, 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estrés fibras remanentes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dilatación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necrosis apoptosis = REMODELACIÖ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4.- Reticulosarcoplásmico :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transporte de Ca</a:t>
            </a:r>
            <a:r>
              <a:rPr b="0" i="1" lang="es-ES_tradnl" sz="2000" spc="-1" strike="noStrike" baseline="30000">
                <a:solidFill>
                  <a:srgbClr val="ffffff"/>
                </a:solidFill>
                <a:latin typeface="Times New Roman"/>
              </a:rPr>
              <a:t>2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5.- Receptores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adrenérgicos : desensibil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6.- Músculo esquelético :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Reserva de vasodilatación,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Volumen mitocondr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Fosforilación  oxidativa,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Lactato y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 pH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Pi ,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ADP ,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PCr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*  DISNEA y FATIGABILIDAD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00"/>
                </a:solidFill>
                <a:latin typeface="Arial"/>
              </a:rPr>
              <a:t>PATOGENIA DE LOS SIGNOS Y SINTOMAS DE LA 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↓</a:t>
            </a:r>
            <a:r>
              <a:rPr b="0" i="1" lang="es-E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ffff00"/>
                </a:solidFill>
                <a:latin typeface="Arial"/>
              </a:rPr>
              <a:t>del GC e incapacidad de aumentarlo por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↓</a:t>
            </a:r>
            <a:r>
              <a:rPr b="0" i="1" lang="es-ES" sz="2800" spc="-1" strike="noStrike">
                <a:solidFill>
                  <a:srgbClr val="ffff00"/>
                </a:solidFill>
                <a:latin typeface="Arial"/>
              </a:rPr>
              <a:t> de la contractilidad o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↑</a:t>
            </a:r>
            <a:r>
              <a:rPr b="0" i="1" lang="es-ES" sz="2800" spc="-1" strike="noStrike">
                <a:solidFill>
                  <a:srgbClr val="ffff00"/>
                </a:solidFill>
                <a:latin typeface="Arial"/>
              </a:rPr>
              <a:t> de la postcarga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→incapacidad de hacer ejercicio</a:t>
            </a:r>
            <a:r>
              <a:rPr b="0" i="1" lang="es-E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↑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del volumen sanguíneo (congestión) y de la presión en el territorio vascular venoso y capilar que drena en el ventrículo afectado por ↓de la distensib del ventrícu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9640" y="1341360"/>
            <a:ext cx="8136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800" spc="-1" strike="noStrike">
                <a:solidFill>
                  <a:srgbClr val="ffffff"/>
                </a:solidFill>
                <a:latin typeface="Franklin Gothic Demi"/>
              </a:rPr>
              <a:t>Insuficiencia cardíaca es la incapacidad de aumentar el gasto cardíaco cuando aumenta la actividad física manteniendo una presión ventricular diastólica baj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0000"/>
                </a:solidFill>
                <a:latin typeface="Arial"/>
              </a:rPr>
              <a:t>Hemodinamia en la disfunción ventricular izquier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41440" y="1752480"/>
            <a:ext cx="86025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600" spc="-1" strike="noStrike">
                <a:solidFill>
                  <a:srgbClr val="ffff00"/>
                </a:solidFill>
                <a:latin typeface="Arial"/>
              </a:rPr>
              <a:t>PATOGENIA DE SINTOMAS Y SIGNOS DE 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IC Izda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 : heterodinamia ventricular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→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congestión e hipertensión en territorio vasc pulmonar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→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menta precarga en VI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→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odinamia. La heterodinamia se repite cada vez que el paciente hace ejercic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Síntomas: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atiga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olipnea disnea: estim recept J , estim de mecano y quimiorecept de músc esq. Edema intersticial pulm, alt rel V/P,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↑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esist flujo aér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rtopn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dema pulmonar agudo: inundación alveolar cuando presión cap pulm sobrepasa los 20-25 mmH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ianosis central y perifé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Arial"/>
              </a:rPr>
              <a:t>IC der: </a:t>
            </a:r>
            <a:r>
              <a:rPr b="0" lang="es-CL" sz="2400" spc="-1" strike="noStrike">
                <a:solidFill>
                  <a:srgbClr val="ffff00"/>
                </a:solidFill>
                <a:latin typeface="Arial"/>
              </a:rPr>
              <a:t>congestión sistémica, ed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403280" y="0"/>
            <a:ext cx="6147000" cy="11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7900" spc="-1" strike="noStrike">
                <a:solidFill>
                  <a:srgbClr val="ffffff"/>
                </a:solidFill>
                <a:latin typeface="Arial"/>
              </a:rPr>
              <a:t>Shock</a:t>
            </a:r>
            <a:endParaRPr b="0" lang="en-US" sz="7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785880"/>
            <a:ext cx="828036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 algn="just">
              <a:lnSpc>
                <a:spcPct val="1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ffffff"/>
                </a:solidFill>
                <a:latin typeface="Arial"/>
              </a:rPr>
              <a:t>Hipoperfusión tisular, con aporte insuficiente de O</a:t>
            </a:r>
            <a:r>
              <a:rPr b="0" i="1" lang="es-ES_tradnl" sz="2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s-ES_tradnl" sz="2600" spc="-1" strike="noStrike">
                <a:solidFill>
                  <a:srgbClr val="ffffff"/>
                </a:solidFill>
                <a:latin typeface="Arial"/>
              </a:rPr>
              <a:t> y otros sustratos metabólicos esenciales, asociado a una eliminación insuficiente de los productos celulares. La mantención de este estado provocará una falla orgánica múltiple de no mediar una oportuna y adecuada reanima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just">
              <a:lnSpc>
                <a:spcPct val="1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ffffff"/>
                </a:solidFill>
                <a:latin typeface="Arial"/>
              </a:rPr>
              <a:t>Causas: hipovolemia por sangramiento y otras pérdidas; cardiogénico, distributivo: shock sépt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just">
              <a:lnSpc>
                <a:spcPct val="1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9640" y="692280"/>
            <a:ext cx="8353440" cy="50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5400" spc="-1" strike="noStrike">
                <a:solidFill>
                  <a:srgbClr val="ffff00"/>
                </a:solidFill>
                <a:latin typeface="Franklin Gothic Demi"/>
              </a:rPr>
              <a:t>GASTO CARDIACO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>
                <a:solidFill>
                  <a:srgbClr val="ffff00"/>
                </a:solidFill>
                <a:latin typeface="Franklin Gothic Demi"/>
              </a:rPr>
              <a:t>Frecuencia cardíaca x volumen expulsi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>
                <a:solidFill>
                  <a:srgbClr val="ffff00"/>
                </a:solidFill>
                <a:latin typeface="Franklin Gothic Demi"/>
              </a:rPr>
              <a:t>Vol expulsivo depende de: </a:t>
            </a:r>
            <a:r>
              <a:rPr b="0" i="1" lang="es-CL" sz="3600" spc="-1" strike="noStrike">
                <a:solidFill>
                  <a:srgbClr val="ff0000"/>
                </a:solidFill>
                <a:latin typeface="Franklin Gothic Demi"/>
              </a:rPr>
              <a:t>precarga: estrés fin de diástole, postcarga:estrés de fin de sístole y,contracti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0000"/>
                </a:solidFill>
                <a:latin typeface="Franklin Gothic Demi"/>
              </a:rPr>
              <a:t>(Estrés: P x R/2h) o tensión de la pared/cm</a:t>
            </a:r>
            <a:r>
              <a:rPr b="0" i="1" lang="es-CL" sz="2800" spc="-1" strike="noStrike" baseline="30000">
                <a:solidFill>
                  <a:srgbClr val="ff0000"/>
                </a:solidFill>
                <a:latin typeface="Franklin Gothic Dem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47640" y="260280"/>
            <a:ext cx="59770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600" spc="-1" strike="noStrike">
                <a:solidFill>
                  <a:srgbClr val="ff0000"/>
                </a:solidFill>
                <a:latin typeface="Arial"/>
              </a:rPr>
              <a:t>EFECTO DE CAMBIOS DE</a:t>
            </a:r>
            <a:r>
              <a:rPr b="1" i="1" lang="es-CL" sz="4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s-CL" sz="3600" spc="-1" strike="noStrike">
                <a:solidFill>
                  <a:srgbClr val="ff0000"/>
                </a:solidFill>
                <a:latin typeface="Arial"/>
              </a:rPr>
              <a:t>PRE Y POST CARG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00"/>
                </a:solidFill>
                <a:latin typeface="Arial"/>
              </a:rPr>
              <a:t>El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↑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 de precarga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↑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 el Vexp y ↑ postcarga. La ↓ de precarga ↓ Vexp puede ser consecuencia de pérdida de volemia por sangramiento, pérdidas gastrointestinales (Shock hipovolémic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El ↑de la postcarga, es decir la fuerza que debe desarrollar el músculo  ↓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 la veloc de acortamiento, y para un determinado tiempo el Vexp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↓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ff00"/>
                </a:solidFill>
                <a:latin typeface="Arial"/>
              </a:rPr>
              <a:t>Disfunción Ventricula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219320"/>
            <a:ext cx="91440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00"/>
                </a:solidFill>
                <a:latin typeface="Times New Roman"/>
              </a:rPr>
              <a:t>SISTÓLICA : Incapacidad de aumentar el volumen expuls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00"/>
                </a:solidFill>
                <a:latin typeface="Times New Roman"/>
              </a:rPr>
              <a:t>                        </a:t>
            </a:r>
            <a:r>
              <a:rPr b="0" i="1" lang="es-ES_tradnl" sz="3600" spc="-1" strike="noStrike">
                <a:solidFill>
                  <a:srgbClr val="ff9900"/>
                </a:solidFill>
                <a:latin typeface="Times New Roman"/>
              </a:rPr>
              <a:t>Exceso de postcarg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9900"/>
                </a:solidFill>
                <a:latin typeface="Times New Roman"/>
              </a:rPr>
              <a:t>                        </a:t>
            </a:r>
            <a:r>
              <a:rPr b="0" i="1" lang="es-ES_tradnl" sz="3600" spc="-1" strike="noStrike">
                <a:solidFill>
                  <a:srgbClr val="ff9900"/>
                </a:solidFill>
                <a:latin typeface="Times New Roman"/>
              </a:rPr>
              <a:t>Disminución de la contracti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00"/>
                </a:solidFill>
                <a:latin typeface="Times New Roman"/>
              </a:rPr>
              <a:t>DIASTÓLICA : Incapacidad de mantener una presión diastólica ba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00"/>
                </a:solidFill>
                <a:latin typeface="Times New Roman"/>
              </a:rPr>
              <a:t>                         </a:t>
            </a:r>
            <a:r>
              <a:rPr b="0" i="1" lang="es-ES_tradnl" sz="3600" spc="-1" strike="noStrike">
                <a:solidFill>
                  <a:srgbClr val="ff9900"/>
                </a:solidFill>
                <a:latin typeface="Times New Roman"/>
              </a:rPr>
              <a:t>Relajación lenta e incomple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00"/>
                </a:solidFill>
                <a:latin typeface="Times New Roman"/>
              </a:rPr>
              <a:t>                         </a:t>
            </a:r>
            <a:r>
              <a:rPr b="0" i="1" lang="es-ES_tradnl" sz="3600" spc="-1" strike="noStrike">
                <a:solidFill>
                  <a:srgbClr val="ff9900"/>
                </a:solidFill>
                <a:latin typeface="Times New Roman"/>
              </a:rPr>
              <a:t>Rigidez aument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6560" y="274680"/>
            <a:ext cx="78598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Causas de Disfunción Sistólic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1341360"/>
            <a:ext cx="88930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f9900"/>
                </a:solidFill>
                <a:latin typeface="Times New Roman"/>
              </a:rPr>
              <a:t>Sobrecarga de presión: Ej:</a:t>
            </a:r>
            <a:r>
              <a:rPr b="0" i="1" lang="es-ES_tradnl" sz="2400" spc="-1" strike="noStrike">
                <a:solidFill>
                  <a:srgbClr val="ff9900"/>
                </a:solidFill>
                <a:latin typeface="Times New Roman"/>
              </a:rPr>
              <a:t>Hipertensión arterial, estenosis aór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f9900"/>
                </a:solidFill>
                <a:latin typeface="Times New Roman"/>
              </a:rPr>
              <a:t>Sobrecarga de volumen: </a:t>
            </a:r>
            <a:r>
              <a:rPr b="0" i="1" lang="es-ES_tradnl" sz="2800" spc="-1" strike="noStrike">
                <a:solidFill>
                  <a:srgbClr val="ff9900"/>
                </a:solidFill>
                <a:latin typeface="Times New Roman"/>
              </a:rPr>
              <a:t>Insuficiencia aórtica, Insuficiencia mit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f9900"/>
                </a:solidFill>
                <a:latin typeface="Times New Roman"/>
              </a:rPr>
              <a:t>Pérdida de músculo: </a:t>
            </a:r>
            <a:r>
              <a:rPr b="0" i="1" lang="es-ES_tradnl" sz="2800" spc="-1" strike="noStrike">
                <a:solidFill>
                  <a:srgbClr val="ff9900"/>
                </a:solidFill>
                <a:latin typeface="Times New Roman"/>
              </a:rPr>
              <a:t>infarto que  cuando  es extenso produce shck cardiogé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f9900"/>
                </a:solidFill>
                <a:latin typeface="Times New Roman"/>
              </a:rPr>
              <a:t>Disminución de la contractilidad: </a:t>
            </a:r>
            <a:r>
              <a:rPr b="0" i="1" lang="es-ES_tradnl" sz="2400" spc="-1" strike="noStrike">
                <a:solidFill>
                  <a:srgbClr val="ff9900"/>
                </a:solidFill>
                <a:latin typeface="Times New Roman"/>
              </a:rPr>
              <a:t>por miocardi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00000" y="477720"/>
            <a:ext cx="7704360" cy="56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6586560" cy="5519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332000" y="5857920"/>
            <a:ext cx="597672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4T00:01:31Z</dcterms:created>
  <dc:creator>Pilar Macho</dc:creator>
  <dc:description/>
  <dc:language>en-US</dc:language>
  <cp:lastModifiedBy>Usuario</cp:lastModifiedBy>
  <dcterms:modified xsi:type="dcterms:W3CDTF">2005-10-04T12:04:29Z</dcterms:modified>
  <cp:revision>137</cp:revision>
  <dc:subject/>
  <dc:title>Diapositiva 1</dc:title>
</cp:coreProperties>
</file>