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541B-33B4-4E55-9428-FD3331ED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73C-555F-459E-94EA-E9C9FF72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A5FC-A047-4609-9F10-04489DEE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85FB-CD74-4306-A70B-73F89D76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347-6A8E-4B02-B90E-541BF555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486E-4AF9-43FF-986C-F93F3D7B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5A2-B1CD-4F2B-B4DF-DCCBB59A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0D3-7F25-4476-8182-B65493FF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323-F9F1-47A0-A321-DF6786BD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8C5-2FF2-4B2E-B04B-A3AF189C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1D65-21EE-4AA4-8658-C926E1C9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9818-E023-428E-8C30-57303CD2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4C8A-E069-4A7D-BC46-C04114193E0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600200"/>
            <a:ext cx="861084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Franklin Gothic Demi"/>
              </a:rPr>
              <a:t>INSUFICIENCIA CARDIA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ranklin Gothic Demi"/>
              </a:rPr>
              <a:t>                        </a:t>
            </a:r>
            <a:r>
              <a:rPr b="0" lang="en-US" sz="4400" spc="-1" strike="noStrike">
                <a:solidFill>
                  <a:srgbClr val="ffff00"/>
                </a:solidFill>
                <a:latin typeface="Franklin Gothic Demi"/>
              </a:rPr>
              <a:t>Dra. Pilar  Ma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0000"/>
                </a:solidFill>
                <a:latin typeface="Arial"/>
              </a:rPr>
              <a:t>Respuesta a sobrecarga de presión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9280" y="1341360"/>
            <a:ext cx="8569440" cy="40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Hipertrofia ventricular en paralelo lo que impide que los miofilamentos desarrollen mucha fuerza, se evita el déficit de VE producido por el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</a:rPr>
              <a:t> la postcar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00"/>
                </a:solidFill>
                <a:latin typeface="Arial"/>
              </a:rPr>
              <a:t>Sin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mbargo la hipertrof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por sí sóla  daña el miocardio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roducindo necrosis, fibrosis (disf diastólica) y apoptosis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u contractilidad y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↓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o se acompaña de aumento de capilares, ↑ la distancia de difusión y no puede continuar. Si la contractilidad está 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l VE, se distiende el ventrículo, hipertrofia en serie que tambien daña los miofilamntos con &gt;daño d la contractilidad y &gt; dilatación. La dilatación tambien compensa la ↓ del VE  pero tambien sigue dañando la contractilidad y ↑ la postcarga con lo que ↓ mas el VE y ya no puede haber más hipertrof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0000"/>
                </a:solidFill>
                <a:latin typeface="Arial"/>
              </a:rPr>
              <a:t>En las sobrecargas de volumen primero ocurre hipertrofia en se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808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00"/>
                </a:solidFill>
                <a:latin typeface="Times New Roman"/>
              </a:rPr>
              <a:t>Señales para hipertrofia ventricu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523880"/>
            <a:ext cx="9144000" cy="49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Factores de cr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Angiotensin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Endote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Estiramiento de las fi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Estimulación alfa y beta adrenér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Franklin Gothic Demi"/>
              </a:rPr>
              <a:t>Estos factores activan genes que producen multiplicación de sarcómeros con hipertrofia vent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609480"/>
            <a:ext cx="838224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80"/>
                </a:solidFill>
                <a:latin typeface="Arial Black"/>
                <a:ea typeface="Times New Roman"/>
              </a:rPr>
              <a:t>     </a:t>
            </a:r>
            <a:r>
              <a:rPr b="0" i="1" lang="es-ES_tradnl" sz="32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HIPERTROFIA VENT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Disminuye la reserva coronaria :           isqu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Induce arritmias supra ventriculares (dilatación  auricular) y ventricu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Produce disfunción diastólica y luego sist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Aumenta riesgo de muerte súbit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00"/>
                </a:solidFill>
                <a:latin typeface="Arial"/>
              </a:rPr>
              <a:t>Remodelación Ventricular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1420920"/>
            <a:ext cx="70437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Hipertrof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Proteinas feta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Proliferación del coláge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Apopto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00"/>
                </a:solidFill>
                <a:latin typeface="Arial"/>
              </a:rPr>
              <a:t>FACTORES QUE DETERMINAN DITENSIBILIDAD VENTRI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Velocidad y magnitud de relajación ventricular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 que depende de: 1.-velocidad de desactivación de miofilamentos; 2.magnitud de la precarga y postcarga; 3.-magnitud de la fuerza restauradora que es una fuerza distensiva que se origina cuando el miocardio se acorta y compr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Espesor y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constitución de la pared ventricular: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hipertrofia, fibrosis , infiltración de la pared disminuy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n la distens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Factores extramiocárdicos que disminuyen la excursión de la pared ventricular: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trastornos del p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ricardio, hiperinsuflación pulmonar, d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s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plazamiento del tabique ventricular por dilatación del ventrí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Disfunción diastólica en sobrecar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Se produce 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↑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e postcar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colág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Alteración del SRP en la hipertrofia :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la captación y lib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ación 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Ca </a:t>
            </a:r>
            <a:r>
              <a:rPr b="0" i="1" lang="es-ES" sz="32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, s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produc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una r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lajación ina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c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l grosor 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la par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788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Causas de Disfunción Diastó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Miocárdicas                         Aumento de la postc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Hipertrofia ventr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Dilatación ventr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Isquemia  miocárdica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Infiltración del miocar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Pericárdicas                       Derrame pericárdic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Pericarditis constri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Extra cardiacas                  Aumento de presión intratorácica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( ej . PEP muy alto 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Interacción ventricular       Sobrecarga del ventrículo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Act. Simpática</a:t>
            </a:r>
            <a:r>
              <a:rPr b="1" i="1" lang="es-ES_tradnl" sz="2000" spc="-1" strike="noStrike">
                <a:solidFill>
                  <a:srgbClr val="ffff00"/>
                </a:solidFill>
                <a:latin typeface="Arial"/>
              </a:rPr>
              <a:t>                      Taquicar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Catecolaminas                         Hipertrofia 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Sist. Renina - Ang. – Aldo       Vasoconstricción   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 Post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Vasopresina arg.                      Retención Na</a:t>
            </a:r>
            <a:r>
              <a:rPr b="1" i="1" lang="es-ES_tradnl" sz="1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y H</a:t>
            </a:r>
            <a:r>
              <a:rPr b="1" i="1" lang="es-ES_tradnl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Pre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Prostagland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Bradiki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Peptido natriur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lgunas alteraciones neurohumorales en la insuficiencia cardiaca y su repercusión hemodiná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4360" y="2276640"/>
            <a:ext cx="216000" cy="143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445000"/>
            <a:ext cx="80643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Arial Black"/>
              </a:rPr>
              <a:t>Con el tiempo </a:t>
            </a:r>
            <a:r>
              <a:rPr b="0" i="1" lang="en-US" sz="1800" spc="-1" strike="noStrike">
                <a:solidFill>
                  <a:srgbClr val="ffff00"/>
                </a:solidFill>
                <a:latin typeface="Arial Black"/>
              </a:rPr>
              <a:t>↑ la precarga y postcarga y se deteriora la estruct el miocardio lo que daña aún más la contractilidad miocárdica. El tratamiento consiste en antagonizar sist simpático y eje renina-ang-aldoste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87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Alteraciones en la insuficiencia cardi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1440" y="1066680"/>
            <a:ext cx="839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1440" y="914400"/>
            <a:ext cx="8601120" cy="50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1.- Energéticas :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QO</a:t>
            </a:r>
            <a:r>
              <a:rPr b="0" i="1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miocárdico y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Res. Cor.: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ATP y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Ca</a:t>
            </a:r>
            <a:r>
              <a:rPr b="0" i="1" lang="es-ES_tradnl" sz="2000" spc="-1" strike="noStrike" baseline="30000">
                <a:solidFill>
                  <a:srgbClr val="ffffff"/>
                </a:solidFill>
                <a:latin typeface="Times New Roman"/>
              </a:rPr>
              <a:t>2+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mito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2.- Humorales : Catecolaminas , Ang II , Aldo , Endot . IL 1 y 6 , TNF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, ANP , BNP , Adrenomedulina. Síntesis de proteínas fet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3.- Morfológicas : Debido a 1 y 2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necrosis y apoptosis celular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colágeno :                              disfunción diastólica,  obliteración de capilares, 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estrés fibras remanentes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dilatación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necrosis apoptosis = REMODELACIÖ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4.- Reticulosarcoplásmico :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transporte de Ca</a:t>
            </a:r>
            <a:r>
              <a:rPr b="0" i="1" lang="es-ES_tradnl" sz="20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5.- Receptores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adrenérgicos : desensibi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6.- Músculo esquelético :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Reserva de vasodilatación,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Volumen mitocond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Fosforilación  oxidativa,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Lactato y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pH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Pi ,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ADP ,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PCr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*  DISNEA y FATIGABILIDAD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PATOGENIA DE LOS SIGNOS Y SINTOMAS DE LA 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del GC e incapacidad de aumentarlo por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de la contractilidad o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de la postcarga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→incapacidad de hacer ejercicio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l volumen sanguíneo (congestión) y de la presión en el territorio vascular venoso y capilar que drena en el ventrículo afectado por ↓de la distensib del ventrí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1341360"/>
            <a:ext cx="81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800" spc="-1" strike="noStrike">
                <a:solidFill>
                  <a:srgbClr val="ffffff"/>
                </a:solidFill>
                <a:latin typeface="Franklin Gothic Demi"/>
              </a:rPr>
              <a:t>Insuficiencia cardíaca es la incapacidad de aumentar el gasto cardíaco cuando aumenta la actividad física manteniendo una presión ventricular diastólica ba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"/>
              </a:rPr>
              <a:t>Hemodinamia en la disfunción ventricular izquier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1440" y="1752480"/>
            <a:ext cx="860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ff00"/>
                </a:solidFill>
                <a:latin typeface="Arial"/>
              </a:rPr>
              <a:t>PATOGENIA DE SINTOMAS Y SIGNOS DE 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IC Izda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: heterodinamia ventricula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congestión e hipertensión en territorio vasc pulmona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menta precarga en VI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odinamia. La heterodinamia se repite cada vez que el paciente hace ejercic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íntomas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atig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lipnea disnea: estim recept J , estim de mecano y quimiorecept de músc esq. Edema intersticial pulm, alt rel V/P,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sist flujo aé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rtop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ema pulmonar agudo: inundación alveolar cuando presión cap pulm sobrepasa los 20-25 mm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ianosis central y perifé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IC der: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congestión sistémica, e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03280" y="0"/>
            <a:ext cx="614700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7900" spc="-1" strike="noStrike">
                <a:solidFill>
                  <a:srgbClr val="ffffff"/>
                </a:solidFill>
                <a:latin typeface="Arial"/>
              </a:rPr>
              <a:t>Shock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785880"/>
            <a:ext cx="8280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Arial"/>
              </a:rPr>
              <a:t>Hipoperfusión tisular, con aporte insuficiente de O</a:t>
            </a:r>
            <a:r>
              <a:rPr b="0" i="1" lang="es-ES_tradnl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ES_tradnl" sz="2600" spc="-1" strike="noStrike">
                <a:solidFill>
                  <a:srgbClr val="ffffff"/>
                </a:solidFill>
                <a:latin typeface="Arial"/>
              </a:rPr>
              <a:t> y otros sustratos metabólicos esenciales, asociado a una eliminación insuficiente de los productos celulares. La mantención de este estado provocará una falla orgánica múltiple de no mediar una oportuna y adecuada reanim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Arial"/>
              </a:rPr>
              <a:t>Causas: hipovolemia por sangramiento y otras pérdidas; cardiogénico, distributivo: shock sép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692280"/>
            <a:ext cx="835344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5400" spc="-1" strike="noStrike">
                <a:solidFill>
                  <a:srgbClr val="ffff00"/>
                </a:solidFill>
                <a:latin typeface="Franklin Gothic Demi"/>
              </a:rPr>
              <a:t>GASTO CARDIACO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Franklin Gothic Demi"/>
              </a:rPr>
              <a:t>Frecuencia cardíaca x volumen expuls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Franklin Gothic Demi"/>
              </a:rPr>
              <a:t>Vol expulsivo depende de: </a:t>
            </a:r>
            <a:r>
              <a:rPr b="0" i="1" lang="es-CL" sz="3600" spc="-1" strike="noStrike">
                <a:solidFill>
                  <a:srgbClr val="ff0000"/>
                </a:solidFill>
                <a:latin typeface="Franklin Gothic Demi"/>
              </a:rPr>
              <a:t>precarga: estrés fin de diástole, postcarga:estrés de fin de sístole y,contract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0000"/>
                </a:solidFill>
                <a:latin typeface="Franklin Gothic Demi"/>
              </a:rPr>
              <a:t>(Estrés: P x R/2h) o tensión de la pared/cm</a:t>
            </a:r>
            <a:r>
              <a:rPr b="0" i="1" lang="es-CL" sz="2800" spc="-1" strike="noStrike" baseline="30000">
                <a:solidFill>
                  <a:srgbClr val="ff0000"/>
                </a:solidFill>
                <a:latin typeface="Franklin Gothic Dem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5977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0000"/>
                </a:solidFill>
                <a:latin typeface="Arial"/>
              </a:rPr>
              <a:t>EFECTO DE CAMBIOS DE</a:t>
            </a:r>
            <a:r>
              <a:rPr b="1" i="1" lang="es-CL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s-CL" sz="3600" spc="-1" strike="noStrike">
                <a:solidFill>
                  <a:srgbClr val="ff0000"/>
                </a:solidFill>
                <a:latin typeface="Arial"/>
              </a:rPr>
              <a:t>PRE Y POST CAR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de precarg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el Vexp y ↑ postcarga. La ↓ de precarga ↓ Vexp puede ser consecuencia de pérdida de volemia por sangramiento, pérdidas gastrointestinales (Shock hipovolém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l ↑de la postcarga, es decir la fuerza que debe desarrollar el músculo  ↓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la veloc de acortamiento, y para un determinado tiempo el Vexp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ff00"/>
                </a:solidFill>
                <a:latin typeface="Arial"/>
              </a:rPr>
              <a:t>Disfunción Ventricula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1932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SISTÓLICA : Incapacidad de aumentar el volumen expul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Exceso de postcar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9900"/>
                </a:solidFill>
                <a:latin typeface="Times New Roman"/>
              </a:rPr>
              <a:t>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Disminución de la contract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DIASTÓLICA : Incapacidad de mantener una presión diastólica b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Relajación lenta e incompl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Rigidez aument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859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ausas de Disfunción Sistólic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341360"/>
            <a:ext cx="8893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Sobrecarga de presión: Ej:</a:t>
            </a:r>
            <a:r>
              <a:rPr b="0" i="1" lang="es-ES_tradnl" sz="2400" spc="-1" strike="noStrike">
                <a:solidFill>
                  <a:srgbClr val="ff9900"/>
                </a:solidFill>
                <a:latin typeface="Times New Roman"/>
              </a:rPr>
              <a:t>Hipertensión arterial, estenosis aór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Sobrecarga de volumen: </a:t>
            </a:r>
            <a:r>
              <a:rPr b="0" i="1" lang="es-ES_tradnl" sz="2800" spc="-1" strike="noStrike">
                <a:solidFill>
                  <a:srgbClr val="ff9900"/>
                </a:solidFill>
                <a:latin typeface="Times New Roman"/>
              </a:rPr>
              <a:t>Insuficiencia aórtica, Insuficiencia mi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Pérdida de músculo: </a:t>
            </a:r>
            <a:r>
              <a:rPr b="0" i="1" lang="es-ES_tradnl" sz="2800" spc="-1" strike="noStrike">
                <a:solidFill>
                  <a:srgbClr val="ff9900"/>
                </a:solidFill>
                <a:latin typeface="Times New Roman"/>
              </a:rPr>
              <a:t>infarto que  cuando  es extenso produce shck cardiogé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Disminución de la contractilidad: </a:t>
            </a:r>
            <a:r>
              <a:rPr b="0" i="1" lang="es-ES_tradnl" sz="2400" spc="-1" strike="noStrike">
                <a:solidFill>
                  <a:srgbClr val="ff9900"/>
                </a:solidFill>
                <a:latin typeface="Times New Roman"/>
              </a:rPr>
              <a:t>por mi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0000" y="477720"/>
            <a:ext cx="770436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586560" cy="551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32000" y="5857920"/>
            <a:ext cx="59767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0:01:31Z</dcterms:created>
  <dc:creator>Pilar Macho</dc:creator>
  <dc:description/>
  <dc:language>en-US</dc:language>
  <cp:lastModifiedBy>Usuario</cp:lastModifiedBy>
  <dcterms:modified xsi:type="dcterms:W3CDTF">2005-10-04T12:04:29Z</dcterms:modified>
  <cp:revision>137</cp:revision>
  <dc:subject/>
  <dc:title>Diapositiva 1</dc:title>
</cp:coreProperties>
</file>