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2.png" ContentType="image/png"/>
  <Override PartName="/ppt/media/image24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5.png" ContentType="image/png"/>
  <Override PartName="/ppt/media/image11.wmf" ContentType="image/x-wmf"/>
  <Override PartName="/ppt/media/image17.jpeg" ContentType="image/jpeg"/>
  <Override PartName="/ppt/media/image26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9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13.png" ContentType="image/png"/>
  <Override PartName="/ppt/media/image12.jpeg" ContentType="image/jpeg"/>
  <Override PartName="/ppt/media/image34.png" ContentType="image/png"/>
  <Override PartName="/ppt/media/image32.jpeg" ContentType="image/jpeg"/>
  <Override PartName="/ppt/media/image40.wmf" ContentType="image/x-wmf"/>
  <Override PartName="/ppt/media/image7.png" ContentType="image/png"/>
  <Override PartName="/ppt/media/image6.png" ContentType="image/png"/>
  <Override PartName="/ppt/media/image29.png" ContentType="image/png"/>
  <Override PartName="/ppt/media/image4.jpeg" ContentType="image/jpeg"/>
  <Override PartName="/ppt/media/image25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6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B995-BDDF-42AE-AEAA-1C7A00DFC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6D52-035E-4C4E-97FD-CFDCEDF9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E584-62E1-4397-819D-2B9CC64F6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1D75-FDCB-400E-85EA-D36EFC36C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4B8F-7A64-49C7-B8D7-6BF70536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01DF-DF14-4B28-9F3A-0B265355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6AA7-8428-45F2-B615-CD5CC854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5417-456F-4032-BA1E-BD4F3D98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8633-5ECC-43FF-AC50-59E41822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03F1-DCD5-4018-BA55-B17A405F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CC11-EA51-41A4-A525-B3A38C70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53A8-6A0C-49CA-A275-A6D2BC9B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E578-4357-422B-B83E-543ABB9DD32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95480" y="2279520"/>
            <a:ext cx="664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FISIOPATOLOGÍA DEL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TIROÍD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06960" y="5105520"/>
            <a:ext cx="20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Roberto Re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492360" y="476280"/>
            <a:ext cx="5256360" cy="5938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11280" y="3284640"/>
            <a:ext cx="24494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</a:rPr>
              <a:t>ACCIÓN DE T</a:t>
            </a:r>
            <a:r>
              <a:rPr b="1" lang="es-ES_tradnl" sz="18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</a:rPr>
              <a:t>EN CARDIOMIOC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116000" y="1413000"/>
          <a:ext cx="7115040" cy="46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413000"/>
                    <a:ext cx="711504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fectos de T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en coraz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5800" y="2089080"/>
            <a:ext cx="777240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537000" y="228600"/>
          <a:ext cx="507348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7000" y="228600"/>
                    <a:ext cx="507348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305640" y="2743200"/>
            <a:ext cx="311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EFECTO FISIOLÓGIC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HORMONAS TIROÍD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SOBRE TEJIDOS DI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40840" y="380880"/>
            <a:ext cx="87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EVALUACIÓN DE LABORATORIO DE FUNCIÓN TIROÍ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3280" y="1738440"/>
            <a:ext cx="86360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1- T3 Y T4 SÉRICAS TOT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2- T4 SÉRICA LI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3-  TSH SÉ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4- TIROGLOBULINA SÉ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- CAPTACIÓN DE 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Times New Roman"/>
              </a:rPr>
              <a:t>123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6- IMÁGENES DE TIROIDE MARCADA CON 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Times New Roman"/>
              </a:rPr>
              <a:t>123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 O 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Times New Roman"/>
              </a:rPr>
              <a:t>99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7- DETECCIÓN DE AUTOANTICUERPOS: ANTI-PEROXIDASA,  ANTI-TIROGLOBULIN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ANTI-RECEPTOR T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8- RESPUESTA DE TSH SÉRICA A ESTIMULACIÓN CON TR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6320" y="363600"/>
            <a:ext cx="899136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73160" y="1073160"/>
            <a:ext cx="6997680" cy="4710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436040" y="34308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HIPERTIROIDISMO: CLASIFICASIÓN ETIOLÓG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28600" y="76320"/>
            <a:ext cx="8741160" cy="6553080"/>
            <a:chOff x="228600" y="76320"/>
            <a:chExt cx="8741160" cy="6553080"/>
          </a:xfrm>
        </p:grpSpPr>
        <p:grpSp>
          <p:nvGrpSpPr>
            <p:cNvPr id="98" name=""/>
            <p:cNvGrpSpPr/>
            <p:nvPr/>
          </p:nvGrpSpPr>
          <p:grpSpPr>
            <a:xfrm>
              <a:off x="457200" y="76320"/>
              <a:ext cx="2589120" cy="3429000"/>
              <a:chOff x="457200" y="76320"/>
              <a:chExt cx="2589120" cy="3429000"/>
            </a:xfrm>
          </p:grpSpPr>
          <p:pic>
            <p:nvPicPr>
              <p:cNvPr id="9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3520" y="95400"/>
                <a:ext cx="2512800" cy="340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457200" y="76320"/>
                <a:ext cx="3808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914400" y="2819520"/>
              <a:ext cx="1828800" cy="380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3633840" y="152280"/>
              <a:ext cx="4824720" cy="2906640"/>
              <a:chOff x="3633840" y="152280"/>
              <a:chExt cx="4824720" cy="2906640"/>
            </a:xfrm>
          </p:grpSpPr>
          <p:pic>
            <p:nvPicPr>
              <p:cNvPr id="10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33840" y="152280"/>
                <a:ext cx="2371680" cy="29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937120" y="606240"/>
                <a:ext cx="252144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EXOFTALMI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MIXEDEMA PRETIBI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228600" y="3340080"/>
              <a:ext cx="1766880" cy="328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909080" y="6216480"/>
              <a:ext cx="167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BOCIO DIFU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71080" y="3821040"/>
              <a:ext cx="509868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-ANTICUERPOS ANTI-RECEPTOR T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-CAPTACIÓN DE RADIOYODO AUMENTAD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-T3-T4 AUMENTADAS Y TSH DISMINUÍ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-MÁS FRECUENTE EN MUJE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-AGREGACIÓN FAMILIAR (HAPLOTIPOS HLA-B8 Y -DR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-ASOCIADA A OTRAS ENF. AUTOINMUNES (DIABE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TIPO I,  ANEMIA PERNICIOS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06560" y="4800600"/>
              <a:ext cx="153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MIRADA FIJ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38080" y="1363680"/>
            <a:ext cx="2363760" cy="3284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219320" y="3809880"/>
            <a:ext cx="160020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819520" y="1980720"/>
            <a:ext cx="2209680" cy="2210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90400" y="2119320"/>
            <a:ext cx="295884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POCO FREC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AUTÓNOMOS (DE T3-T4 Y TR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TSH Y T3-T4 ELEV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SUBUNIDAD </a:t>
            </a:r>
            <a:r>
              <a:rPr b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 TS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CAPTACIÓN RADIOYODO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BO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1752480"/>
            <a:ext cx="335268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734240" y="2590920"/>
          <a:ext cx="571680" cy="66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34240" y="2590920"/>
                    <a:ext cx="57168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7774200" y="289548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67000" y="31240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T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4419720"/>
            <a:ext cx="1600200" cy="53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7543800" y="3047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93432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00960" y="4619520"/>
            <a:ext cx="419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HIPÓFISIS NO RESPONDE A FEEDBACK T3-T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TSH Y T3-T4 ELEV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BOCIO DIFU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RESISTENCIA PAR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4495680"/>
            <a:ext cx="44197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1219320"/>
            <a:ext cx="380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4160" y="442800"/>
            <a:ext cx="630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Times New Roman"/>
              </a:rPr>
              <a:t>HIPERTIROIDISMO POR ESTIMULACION EXCESIVA CON T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380880" y="1295280"/>
            <a:ext cx="3190680" cy="4114800"/>
            <a:chOff x="380880" y="1295280"/>
            <a:chExt cx="3190680" cy="411480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609480" y="1390680"/>
              <a:ext cx="2962080" cy="40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80880" y="1295280"/>
              <a:ext cx="6094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2120" y="341460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G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648400" y="1582560"/>
            <a:ext cx="2124000" cy="1389960"/>
            <a:chOff x="5648400" y="1582560"/>
            <a:chExt cx="2124000" cy="1389960"/>
          </a:xfrm>
        </p:grpSpPr>
        <p:grpSp>
          <p:nvGrpSpPr>
            <p:cNvPr id="130" name=""/>
            <p:cNvGrpSpPr/>
            <p:nvPr/>
          </p:nvGrpSpPr>
          <p:grpSpPr>
            <a:xfrm>
              <a:off x="5648400" y="1582560"/>
              <a:ext cx="2124000" cy="1069920"/>
              <a:chOff x="5648400" y="1582560"/>
              <a:chExt cx="2124000" cy="1069920"/>
            </a:xfrm>
          </p:grpSpPr>
          <p:graphicFrame>
            <p:nvGraphicFramePr>
              <p:cNvPr id="131" name=""/>
              <p:cNvGraphicFramePr/>
              <p:nvPr/>
            </p:nvGraphicFramePr>
            <p:xfrm>
              <a:off x="5648400" y="1582560"/>
              <a:ext cx="2124000" cy="106992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32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5648400" y="1582560"/>
                        <a:ext cx="2124000" cy="1069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3" name=""/>
              <p:cNvSpPr/>
              <p:nvPr/>
            </p:nvSpPr>
            <p:spPr>
              <a:xfrm>
                <a:off x="5844960" y="211608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122960" y="211428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934960" y="2635200"/>
              <a:ext cx="174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TSH                 G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434240" y="800280"/>
            <a:ext cx="54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Times New Roman"/>
              </a:rPr>
              <a:t>MOLA TROFOBLÁSTICA O CORIOCARCIN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56520" y="3067200"/>
            <a:ext cx="49964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-EMBARAZO ANORMAL: FETO NO SE FORMA O MUERE EN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MAYORíA DE LOS CASOS PERO SE FORMAN ELEM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LACENT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-CRECIMIENTO PLACENTARIO ANORMAL (PROLIFERACION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ROFOBLASTOS PLACENTARIOS): 1:1500 EMBARAZ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-SIN FETO = MOLA PARCIAL (LA MAYORÍ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-MOLA COMPLETA: MALIGNIZA A CORIOCARCINO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-ALTOS NIVELES DE GONADOTROFINA CORIÓNICA (G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-T3 – T4 ELEVADOS y TSH DISMINUÍ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-BOCIO Y CAPTACIÓN DE RADIOYODO AUMENT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380880" y="152280"/>
            <a:ext cx="8610840" cy="6554160"/>
            <a:chOff x="380880" y="152280"/>
            <a:chExt cx="8610840" cy="655416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380880" y="838080"/>
              <a:ext cx="2571840" cy="38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4071960" y="1208160"/>
              <a:ext cx="4919760" cy="29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2181240" y="4060800"/>
              <a:ext cx="452448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1325880" y="152280"/>
              <a:ext cx="628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3333cc"/>
                  </a:solidFill>
                  <a:latin typeface="Times New Roman"/>
                </a:rPr>
                <a:t>ANATOMÍA DE LA GLÁNDULA TIROI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42800" y="595440"/>
              <a:ext cx="184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Times New Roman"/>
                </a:rPr>
                <a:t>VISTA FRON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673960" y="609480"/>
              <a:ext cx="179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Times New Roman"/>
                </a:rPr>
                <a:t>LOCALIZ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54480" y="6369120"/>
              <a:ext cx="189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Times New Roman"/>
                </a:rPr>
                <a:t>VISTA SUPERI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441000" y="272880"/>
            <a:ext cx="8162280" cy="6052320"/>
            <a:chOff x="441000" y="272880"/>
            <a:chExt cx="8162280" cy="6052320"/>
          </a:xfrm>
        </p:grpSpPr>
        <p:sp>
          <p:nvSpPr>
            <p:cNvPr id="139" name=""/>
            <p:cNvSpPr/>
            <p:nvPr/>
          </p:nvSpPr>
          <p:spPr>
            <a:xfrm>
              <a:off x="971280" y="272880"/>
              <a:ext cx="736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33cc"/>
                  </a:solidFill>
                  <a:latin typeface="Times New Roman"/>
                </a:rPr>
                <a:t>NÓDULO ÚNICO                                            BOCIO TÓXICO MULTINODULA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457200" y="2637000"/>
              <a:ext cx="2590920" cy="17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441000" y="4680000"/>
              <a:ext cx="33048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ADENOMA FOLICULAR (90% CASO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NÓDULO CALIENTE SOLITAR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HIPERSECRECIÓN AUTÓNOMA DE T3-T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TSH BAJA Y CAPTACIóN RADIOYODO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NÓDULO CONTRALATERAL ATROFI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429000" y="52574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41240" y="4710240"/>
              <a:ext cx="42620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FRECUENTEMENTE DERIVAN DE BOCIO NO TÓXI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NÓDULOS DISEEMINADOS QUE CAPTAN RADIOYO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SECRECIÓN AUTÓNOMA DE T3 – T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TSH BAJ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MÁS FRECUENTE EN EDAD AVANZA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2"/>
            <a:stretch/>
          </p:blipFill>
          <p:spPr>
            <a:xfrm>
              <a:off x="5105520" y="2819520"/>
              <a:ext cx="2514600" cy="16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449360" y="5987880"/>
              <a:ext cx="615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-MAYOR FRECUENCIA  JUNTO A ENFERMEDAD DE GRAV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6" name=""/>
            <p:cNvGraphicFramePr/>
            <p:nvPr/>
          </p:nvGraphicFramePr>
          <p:xfrm>
            <a:off x="1071720" y="609480"/>
            <a:ext cx="1747800" cy="1981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71720" y="609480"/>
                      <a:ext cx="1747800" cy="198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8" name=""/>
            <p:cNvGraphicFramePr/>
            <p:nvPr/>
          </p:nvGraphicFramePr>
          <p:xfrm>
            <a:off x="5508720" y="533520"/>
            <a:ext cx="1806480" cy="2133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508720" y="533520"/>
                      <a:ext cx="1806480" cy="213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" name=""/>
            <p:cNvSpPr/>
            <p:nvPr/>
          </p:nvSpPr>
          <p:spPr>
            <a:xfrm>
              <a:off x="990720" y="609480"/>
              <a:ext cx="2286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62720" y="533520"/>
              <a:ext cx="2286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216720" y="304920"/>
            <a:ext cx="8910360" cy="6019560"/>
            <a:chOff x="216720" y="304920"/>
            <a:chExt cx="8910360" cy="6019560"/>
          </a:xfrm>
        </p:grpSpPr>
        <p:sp>
          <p:nvSpPr>
            <p:cNvPr id="153" name=""/>
            <p:cNvSpPr/>
            <p:nvPr/>
          </p:nvSpPr>
          <p:spPr>
            <a:xfrm>
              <a:off x="1755000" y="304920"/>
              <a:ext cx="537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33cc"/>
                  </a:solidFill>
                  <a:latin typeface="Times New Roman"/>
                </a:rPr>
                <a:t>LIBERACIÓN EXCESIVA DE HORMONAS TIROÍDE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63880" y="1407960"/>
              <a:ext cx="5263200" cy="46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REACCIÓN INFLAMATOR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SECONDARIA A INFECCIÓN DE VÍAS RESPIRATOTIAS SUPERIO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LINFOCITOS T CITOTÓXICOS LESIONAN CÉLULAS FOLICULA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REGIÓN GLANDULAR DURA Y ADOLORI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FASE AGUDA: TSH BAJA Y T3-T4 ALT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NO HAY CAPTACIÓN DE RADIOYO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EVOLUCIONA DE  HIPER A HIPOTIROIDISM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RESOLUCIÓN ESPONTÁN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SE PRESENTA ENTRE LOS 30 A 50 AÑ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AFECTA MÁS A MUJE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AUTOINMUNITARIA (HAPLOTIPOS HLA-DR3 Y –DR5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HALLAZGOS DE LABORATORIO Y EVOLUCIÓN SIMILARES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TIROIDITIS GRNULOMATO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INDOLO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FRECUENTE EN PUERPER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6720" y="4506840"/>
              <a:ext cx="3030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T3-T4 LIBERADOS POR LES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DE LAS CÉLULAS FOLICULA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762120" y="838080"/>
              <a:ext cx="2181240" cy="3267360"/>
              <a:chOff x="762120" y="838080"/>
              <a:chExt cx="2181240" cy="3267360"/>
            </a:xfrm>
          </p:grpSpPr>
          <p:graphicFrame>
            <p:nvGraphicFramePr>
              <p:cNvPr id="157" name=""/>
              <p:cNvGraphicFramePr/>
              <p:nvPr/>
            </p:nvGraphicFramePr>
            <p:xfrm>
              <a:off x="762120" y="838080"/>
              <a:ext cx="2181240" cy="32673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5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62120" y="838080"/>
                        <a:ext cx="2181240" cy="3267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59" name=""/>
              <p:cNvSpPr/>
              <p:nvPr/>
            </p:nvSpPr>
            <p:spPr>
              <a:xfrm>
                <a:off x="762120" y="91440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flipV="1">
              <a:off x="2438280" y="2437920"/>
              <a:ext cx="129564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971800" y="3962520"/>
              <a:ext cx="6858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86200" y="1219320"/>
              <a:ext cx="5135400" cy="220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86200" y="5029200"/>
              <a:ext cx="487692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1783800" y="228600"/>
            <a:ext cx="5680800" cy="5027760"/>
            <a:chOff x="1783800" y="228600"/>
            <a:chExt cx="5680800" cy="5027760"/>
          </a:xfrm>
        </p:grpSpPr>
        <p:sp>
          <p:nvSpPr>
            <p:cNvPr id="165" name=""/>
            <p:cNvSpPr/>
            <p:nvPr/>
          </p:nvSpPr>
          <p:spPr>
            <a:xfrm>
              <a:off x="2824560" y="228600"/>
              <a:ext cx="31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3333cc"/>
                  </a:solidFill>
                  <a:latin typeface="Times New Roman"/>
                </a:rPr>
                <a:t>TIROTOXICOSIS  FICTIC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83800" y="4432320"/>
              <a:ext cx="5680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-FARMACOLÓG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-CAPTACIÓN DE RADIOYODO SUPRIMI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-TSH SUPRIMIDA Y ATROFIA GLANDULAR BILOBUL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7" name=""/>
            <p:cNvGraphicFramePr/>
            <p:nvPr/>
          </p:nvGraphicFramePr>
          <p:xfrm>
            <a:off x="2911320" y="990720"/>
            <a:ext cx="2346480" cy="3124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11320" y="990720"/>
                      <a:ext cx="2346480" cy="31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9" name=""/>
            <p:cNvSpPr/>
            <p:nvPr/>
          </p:nvSpPr>
          <p:spPr>
            <a:xfrm>
              <a:off x="2971800" y="990720"/>
              <a:ext cx="3049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816200" y="595440"/>
            <a:ext cx="609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Times New Roman"/>
              </a:rPr>
              <a:t>FUENTES  EXTRAGLANDULARES DE HORMONA TIROÍDE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0320" y="4416480"/>
            <a:ext cx="8629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-MUY RAROS (SOLO AQUELLOS CARCINOMAS FOLICULARES BIEN DIFERENCI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O ALGUNOS TERATOMAS OVÁRIC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-CAPTACIÓN DE RADIOYODO EN EL CUELLO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-CAPTACIÓN DE RADIOYODO EN LA PELVIS O EN PULMÓN ELEV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-TS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257800" y="1066680"/>
            <a:ext cx="2409840" cy="3181320"/>
            <a:chOff x="5257800" y="1066680"/>
            <a:chExt cx="2409840" cy="3181320"/>
          </a:xfrm>
        </p:grpSpPr>
        <p:graphicFrame>
          <p:nvGraphicFramePr>
            <p:cNvPr id="173" name=""/>
            <p:cNvGraphicFramePr/>
            <p:nvPr/>
          </p:nvGraphicFramePr>
          <p:xfrm>
            <a:off x="5257800" y="1066680"/>
            <a:ext cx="2409840" cy="3181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1066680"/>
                      <a:ext cx="2409840" cy="318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5" name=""/>
            <p:cNvSpPr/>
            <p:nvPr/>
          </p:nvSpPr>
          <p:spPr>
            <a:xfrm>
              <a:off x="5257800" y="1066680"/>
              <a:ext cx="30492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6" name=""/>
          <p:cNvGraphicFramePr/>
          <p:nvPr/>
        </p:nvGraphicFramePr>
        <p:xfrm>
          <a:off x="1752480" y="1066680"/>
          <a:ext cx="2152800" cy="315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1066680"/>
                    <a:ext cx="2152800" cy="31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1066680" y="548640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52480" y="1143000"/>
            <a:ext cx="304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270160" y="7477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0000" y="838080"/>
            <a:ext cx="48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SECUENCIAS DEL HIPOTIROIDIS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95280" y="1773360"/>
          <a:ext cx="8259840" cy="434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8259840" cy="43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33520" y="1197000"/>
            <a:ext cx="2492280" cy="52038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048120" y="1219320"/>
            <a:ext cx="2266920" cy="5329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016520" y="28908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RETIN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7000" y="1306440"/>
            <a:ext cx="38307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1/4000 NACIMI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RETRASO MEN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ALTERACIONES ESQUELÉ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ENAN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CARA TOS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MACROGLOSIA Y PROTRUSIÓN LENGU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HERNIA UMBIL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LLANTO RON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41016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908000" y="549360"/>
            <a:ext cx="54165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067200" y="1649520"/>
            <a:ext cx="3008160" cy="44258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756600" y="54756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IXED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24000" y="914400"/>
            <a:ext cx="85978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1954080"/>
            <a:ext cx="6629400" cy="4446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40120" y="650880"/>
            <a:ext cx="662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LA UNIDAD FUNCIONAL DE LA GLÁND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TIROIDES: EL FOLÍCULO TIROÍD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28600" y="1057320"/>
            <a:ext cx="79246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72000" y="549360"/>
            <a:ext cx="4073400" cy="58942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974880" y="26528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152280"/>
            <a:ext cx="375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omponente genéti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45960" y="4145040"/>
            <a:ext cx="95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, peroxid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80080" y="138240"/>
            <a:ext cx="267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TIROIDITIS HASHIMO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7160" y="1281240"/>
            <a:ext cx="38764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15-60% de los hipotiroidis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Mayor prevalencia: 45 - 65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Mayor prevalencia en mujeres (10: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Bocio indolo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Pérdida gradual de función con TSH elev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Puede asociarse con lupus eritematoso y artrit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79840" y="101448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1476360" y="620640"/>
          <a:ext cx="6467400" cy="544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620640"/>
                    <a:ext cx="6467400" cy="544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709640" y="385920"/>
            <a:ext cx="5724720" cy="6167160"/>
            <a:chOff x="1709640" y="385920"/>
            <a:chExt cx="5724720" cy="616716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1709640" y="385920"/>
              <a:ext cx="5724720" cy="60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828800" y="3352680"/>
              <a:ext cx="3657600" cy="320040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848520" y="152280"/>
            <a:ext cx="77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LAS HORMONAS TIROÍDEAS Y SUS PRECURS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28680" y="900000"/>
            <a:ext cx="6010200" cy="5424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07040" y="304920"/>
            <a:ext cx="62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BIOSÍNTESIS DE HORMONAS TIROÍ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03320" y="685800"/>
            <a:ext cx="5337360" cy="5486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107680" y="6019920"/>
            <a:ext cx="8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anol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00600" y="464832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29920" y="46846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580920" y="34290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15320" y="38862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36640" y="-3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72280" y="152280"/>
            <a:ext cx="62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BIOSÍNTESIS DE HORMONAS TIROÍ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228600" y="380880"/>
            <a:ext cx="8686800" cy="4946400"/>
            <a:chOff x="228600" y="380880"/>
            <a:chExt cx="8686800" cy="4946400"/>
          </a:xfrm>
        </p:grpSpPr>
        <p:sp>
          <p:nvSpPr>
            <p:cNvPr id="68" name=""/>
            <p:cNvSpPr/>
            <p:nvPr/>
          </p:nvSpPr>
          <p:spPr>
            <a:xfrm>
              <a:off x="228600" y="1273320"/>
              <a:ext cx="8686800" cy="40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99.97% UNIDA A PROTEÍNAS (75%TBG, 20%TBPA, 5% ALBÚMINA)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100% T4 PLASMÁTIC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0.03% LIBRE = ACTIV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TIROIDES     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99.7% UNIDA A PROTEÍNA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15% T3 PLASMÁTIC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                  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85% T3 PLASMÁTIC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0.3% LIBRE: 3 – 4 VECES MÁS POTENTE QUE T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   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5’DESYODINASA O TIPO 1(40%)             T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DESYODINACIÓN PERIFÉRICA (HÍGADO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   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5 DESYODINASA O TIPO 2 (60%)              rT3 (INACTIVA)        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66680" y="2568600"/>
              <a:ext cx="3812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143000" y="1959120"/>
              <a:ext cx="38088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76720" y="134928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76720" y="2720880"/>
              <a:ext cx="152280" cy="11430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1219320" y="3558960"/>
              <a:ext cx="60948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733920" y="432108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53080" y="439740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553080" y="51814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774440" y="380880"/>
              <a:ext cx="507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3333cc"/>
                  </a:solidFill>
                  <a:latin typeface="Times New Roman"/>
                </a:rPr>
                <a:t>ORIGEN DE T3/T4 CIRCULAN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832720" cy="4864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74000" y="838080"/>
            <a:ext cx="764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MECANISMO DE ACCIÓN SOBRE CÉLULAS D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14600" y="533520"/>
            <a:ext cx="4473720" cy="5472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13120" y="304920"/>
            <a:ext cx="70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EL EJE HIPOTÁLAMO – HIPÓFISIS – TIRO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06:40:49Z</dcterms:created>
  <dc:creator>usuario</dc:creator>
  <dc:description/>
  <dc:language>en-US</dc:language>
  <cp:lastModifiedBy>ines</cp:lastModifiedBy>
  <dcterms:modified xsi:type="dcterms:W3CDTF">2005-08-30T19:07:22Z</dcterms:modified>
  <cp:revision>18</cp:revision>
  <dc:subject/>
  <dc:title>Presentación de PowerPoint</dc:title>
</cp:coreProperties>
</file>