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33.jpeg" ContentType="image/jpeg"/>
  <Override PartName="/ppt/media/image22.png" ContentType="image/png"/>
  <Override PartName="/ppt/media/image24.jpeg" ContentType="image/jpeg"/>
  <Override PartName="/ppt/media/image20.png" ContentType="image/png"/>
  <Override PartName="/ppt/media/image2.jpeg" ContentType="image/jpeg"/>
  <Override PartName="/ppt/media/image36.jpeg" ContentType="image/jpeg"/>
  <Override PartName="/ppt/media/image21.wmf" ContentType="image/x-wmf"/>
  <Override PartName="/ppt/media/image19.wmf" ContentType="image/x-wmf"/>
  <Override PartName="/ppt/media/image18.jpeg" ContentType="image/jpeg"/>
  <Override PartName="/ppt/media/image15.png" ContentType="image/png"/>
  <Override PartName="/ppt/media/image11.wmf" ContentType="image/x-wmf"/>
  <Override PartName="/ppt/media/image17.jpeg" ContentType="image/jpeg"/>
  <Override PartName="/ppt/media/image26.png" ContentType="image/png"/>
  <Override PartName="/ppt/media/image5.png" ContentType="image/png"/>
  <Override PartName="/ppt/media/image31.wmf" ContentType="image/x-wmf"/>
  <Override PartName="/ppt/media/image28.png" ContentType="image/png"/>
  <Override PartName="/ppt/media/image9.jpeg" ContentType="image/jpeg"/>
  <Override PartName="/ppt/media/image8.jpeg" ContentType="image/jpeg"/>
  <Override PartName="/ppt/media/image38.png" ContentType="image/png"/>
  <Override PartName="/ppt/media/image39.jpeg" ContentType="image/jpeg"/>
  <Override PartName="/ppt/media/image13.png" ContentType="image/png"/>
  <Override PartName="/ppt/media/image12.jpeg" ContentType="image/jpeg"/>
  <Override PartName="/ppt/media/image34.png" ContentType="image/png"/>
  <Override PartName="/ppt/media/image32.jpeg" ContentType="image/jpeg"/>
  <Override PartName="/ppt/media/image40.wmf" ContentType="image/x-wmf"/>
  <Override PartName="/ppt/media/image7.png" ContentType="image/png"/>
  <Override PartName="/ppt/media/image6.png" ContentType="image/png"/>
  <Override PartName="/ppt/media/image29.png" ContentType="image/png"/>
  <Override PartName="/ppt/media/image4.jpeg" ContentType="image/jpeg"/>
  <Override PartName="/ppt/media/image25.png" ContentType="image/png"/>
  <Override PartName="/ppt/media/image30.png" ContentType="image/png"/>
  <Override PartName="/ppt/media/image37.jpeg" ContentType="image/jpeg"/>
  <Override PartName="/ppt/media/image3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10.png" ContentType="image/png"/>
  <Override PartName="/ppt/media/image14.png" ContentType="image/png"/>
  <Override PartName="/ppt/media/image16.wmf" ContentType="image/x-wmf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12935-764C-4130-B909-4F9FFED76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BAA2F-FB63-4EDD-977F-4DD311923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0F458-4D11-49B0-9C9F-11B23C5F3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4AC78-F76C-4144-8CAD-B090E7DB9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CDD85-D0E7-4A4D-94AC-8F6F985F7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23B7E-FF89-45A3-B6DA-A9985701B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8C8A6-AD78-4D6C-9EC4-E323632F1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D7C44-C3D6-4245-BC61-F4FD6E020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056D9-3A3D-43E9-87A7-B45E1B906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FDD3C-D2A4-4C0B-BED1-F5257BD3E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B8BA0-3C30-4864-A09C-0B16BE094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0409B-E16D-4E2D-A41E-55FC2C679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08CD9-A792-454E-B735-1FD5F7F91BD6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5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26.png"/><Relationship Id="rId7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0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95480" y="2279520"/>
            <a:ext cx="6648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Times New Roman"/>
              </a:rPr>
              <a:t>FISIOPATOLOGÍA DEL SIST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Times New Roman"/>
              </a:rPr>
              <a:t>TIROÍDE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106960" y="5105520"/>
            <a:ext cx="208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Roberto Rey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3492360" y="476280"/>
            <a:ext cx="5256360" cy="593892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611280" y="3284640"/>
            <a:ext cx="244944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cc"/>
                </a:solidFill>
                <a:latin typeface="Arial"/>
              </a:rPr>
              <a:t>ACCIÓN DE T</a:t>
            </a:r>
            <a:r>
              <a:rPr b="1" lang="es-ES_tradnl" sz="1800" spc="-1" strike="noStrike" baseline="-25000">
                <a:solidFill>
                  <a:srgbClr val="3333cc"/>
                </a:solidFill>
                <a:latin typeface="Arial"/>
              </a:rPr>
              <a:t>3</a:t>
            </a:r>
            <a:r>
              <a:rPr b="1" lang="es-ES_tradnl" sz="18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cc"/>
                </a:solidFill>
                <a:latin typeface="Arial"/>
              </a:rPr>
              <a:t>EN CARDIOMIOCI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116000" y="1413000"/>
          <a:ext cx="7115040" cy="4626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1413000"/>
                    <a:ext cx="7115040" cy="462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Efectos de T</a:t>
            </a:r>
            <a:r>
              <a:rPr b="0" lang="es-ES_tradnl" sz="4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 en coraz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685800" y="2089080"/>
            <a:ext cx="7772400" cy="38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" name=""/>
          <p:cNvGraphicFramePr/>
          <p:nvPr/>
        </p:nvGraphicFramePr>
        <p:xfrm>
          <a:off x="3537000" y="228600"/>
          <a:ext cx="5073480" cy="640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37000" y="228600"/>
                    <a:ext cx="5073480" cy="640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" name=""/>
          <p:cNvSpPr/>
          <p:nvPr/>
        </p:nvSpPr>
        <p:spPr>
          <a:xfrm>
            <a:off x="305640" y="2743200"/>
            <a:ext cx="3115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cc"/>
                </a:solidFill>
                <a:latin typeface="Times New Roman"/>
              </a:rPr>
              <a:t>EFECTO FISIOLÓGICO 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cc"/>
                </a:solidFill>
                <a:latin typeface="Times New Roman"/>
              </a:rPr>
              <a:t>HORMONAS TIROÍDE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cc"/>
                </a:solidFill>
                <a:latin typeface="Times New Roman"/>
              </a:rPr>
              <a:t>SOBRE TEJIDOS DIA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40840" y="380880"/>
            <a:ext cx="876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3333cc"/>
                </a:solidFill>
                <a:latin typeface="Times New Roman"/>
              </a:rPr>
              <a:t>EVALUACIÓN DE LABORATORIO DE FUNCIÓN TIROÍD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3280" y="1738440"/>
            <a:ext cx="8636040" cy="39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1- T3 Y T4 SÉRICAS TOTAL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2- T4 SÉRICA LIB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3-  TSH SÉ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4- TIROGLOBULINA SÉ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5- CAPTACIÓN DE </a:t>
            </a:r>
            <a:r>
              <a:rPr b="1" lang="es-ES_tradnl" sz="1600" spc="-1" strike="noStrike" baseline="30000">
                <a:solidFill>
                  <a:srgbClr val="000000"/>
                </a:solidFill>
                <a:latin typeface="Times New Roman"/>
              </a:rPr>
              <a:t>123</a:t>
            </a: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6- IMÁGENES DE TIROIDE MARCADA CON </a:t>
            </a:r>
            <a:r>
              <a:rPr b="1" lang="es-ES_tradnl" sz="1600" spc="-1" strike="noStrike" baseline="30000">
                <a:solidFill>
                  <a:srgbClr val="000000"/>
                </a:solidFill>
                <a:latin typeface="Times New Roman"/>
              </a:rPr>
              <a:t>123</a:t>
            </a: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I O </a:t>
            </a:r>
            <a:r>
              <a:rPr b="1" lang="es-ES_tradnl" sz="1600" spc="-1" strike="noStrike" baseline="30000">
                <a:solidFill>
                  <a:srgbClr val="000000"/>
                </a:solidFill>
                <a:latin typeface="Times New Roman"/>
              </a:rPr>
              <a:t>99</a:t>
            </a: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T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7- DETECCIÓN DE AUTOANTICUERPOS: ANTI-PEROXIDASA,  ANTI-TIROGLOBULINA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ANTI-RECEPTOR TS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8- RESPUESTA DE TSH SÉRICA A ESTIMULACIÓN CON TR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76320" y="363600"/>
            <a:ext cx="8991360" cy="61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073160" y="1073160"/>
            <a:ext cx="6997680" cy="47102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436040" y="343080"/>
            <a:ext cx="585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cc"/>
                </a:solidFill>
                <a:latin typeface="Times New Roman"/>
              </a:rPr>
              <a:t>HIPERTIROIDISMO: CLASIFICASIÓN ETIOLÓG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" name=""/>
          <p:cNvGrpSpPr/>
          <p:nvPr/>
        </p:nvGrpSpPr>
        <p:grpSpPr>
          <a:xfrm>
            <a:off x="228600" y="76320"/>
            <a:ext cx="8741160" cy="6553080"/>
            <a:chOff x="228600" y="76320"/>
            <a:chExt cx="8741160" cy="6553080"/>
          </a:xfrm>
        </p:grpSpPr>
        <p:grpSp>
          <p:nvGrpSpPr>
            <p:cNvPr id="98" name=""/>
            <p:cNvGrpSpPr/>
            <p:nvPr/>
          </p:nvGrpSpPr>
          <p:grpSpPr>
            <a:xfrm>
              <a:off x="457200" y="76320"/>
              <a:ext cx="2589120" cy="3429000"/>
              <a:chOff x="457200" y="76320"/>
              <a:chExt cx="2589120" cy="3429000"/>
            </a:xfrm>
          </p:grpSpPr>
          <p:pic>
            <p:nvPicPr>
              <p:cNvPr id="99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533520" y="95400"/>
                <a:ext cx="2512800" cy="3409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" name=""/>
              <p:cNvSpPr/>
              <p:nvPr/>
            </p:nvSpPr>
            <p:spPr>
              <a:xfrm>
                <a:off x="457200" y="76320"/>
                <a:ext cx="380880" cy="457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1" name=""/>
            <p:cNvSpPr/>
            <p:nvPr/>
          </p:nvSpPr>
          <p:spPr>
            <a:xfrm>
              <a:off x="914400" y="2819520"/>
              <a:ext cx="1828800" cy="38088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2" name=""/>
            <p:cNvGrpSpPr/>
            <p:nvPr/>
          </p:nvGrpSpPr>
          <p:grpSpPr>
            <a:xfrm>
              <a:off x="3633840" y="152280"/>
              <a:ext cx="4824720" cy="2906640"/>
              <a:chOff x="3633840" y="152280"/>
              <a:chExt cx="4824720" cy="2906640"/>
            </a:xfrm>
          </p:grpSpPr>
          <p:pic>
            <p:nvPicPr>
              <p:cNvPr id="103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3633840" y="152280"/>
                <a:ext cx="2371680" cy="2906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4" name=""/>
              <p:cNvSpPr/>
              <p:nvPr/>
            </p:nvSpPr>
            <p:spPr>
              <a:xfrm>
                <a:off x="5937120" y="606240"/>
                <a:ext cx="2521440" cy="155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000000"/>
                    </a:solidFill>
                    <a:latin typeface="Times New Roman"/>
                  </a:rPr>
                  <a:t>EXOFTALMI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000000"/>
                    </a:solidFill>
                    <a:latin typeface="Times New Roman"/>
                  </a:rPr>
                  <a:t>MIXEDEMA PRETIBIAL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105" name="" descr=""/>
            <p:cNvPicPr/>
            <p:nvPr/>
          </p:nvPicPr>
          <p:blipFill>
            <a:blip r:embed="rId3"/>
            <a:stretch/>
          </p:blipFill>
          <p:spPr>
            <a:xfrm>
              <a:off x="228600" y="3340080"/>
              <a:ext cx="1766880" cy="328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1909080" y="6216480"/>
              <a:ext cx="1671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Times New Roman"/>
                </a:rPr>
                <a:t>BOCIO DIFUS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871080" y="3821040"/>
              <a:ext cx="5098680" cy="15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Times New Roman"/>
                </a:rPr>
                <a:t>-ANTICUERPOS ANTI-RECEPTOR TS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Times New Roman"/>
                </a:rPr>
                <a:t>-CAPTACIÓN DE RADIOYODO AUMENTADA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Times New Roman"/>
                </a:rPr>
                <a:t>-T3-T4 AUMENTADAS Y TSH DISMINUÍD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Times New Roman"/>
                </a:rPr>
                <a:t>-MÁS FRECUENTE EN MUJER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Times New Roman"/>
                </a:rPr>
                <a:t>-AGREGACIÓN FAMILIAR (HAPLOTIPOS HLA-B8 Y -DR3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Times New Roman"/>
                </a:rPr>
                <a:t>-ASOCIADA A OTRAS ENF. AUTOINMUNES (DIABET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s-ES_tradnl" sz="1400" spc="-1" strike="noStrike">
                  <a:solidFill>
                    <a:srgbClr val="000000"/>
                  </a:solidFill>
                  <a:latin typeface="Times New Roman"/>
                </a:rPr>
                <a:t>TIPO I,  ANEMIA PERNICIOSA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906560" y="4800600"/>
              <a:ext cx="1538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Times New Roman"/>
                </a:rPr>
                <a:t>MIRADA FIJ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838080" y="1363680"/>
            <a:ext cx="2363760" cy="32846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1219320" y="3809880"/>
            <a:ext cx="1600200" cy="2286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2819520" y="1980720"/>
            <a:ext cx="2209680" cy="2210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90400" y="2119320"/>
            <a:ext cx="2958840" cy="14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POCO FRECU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-AUTÓNOMOS (DE T3-T4 Y TRH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-TSH Y T3-T4 ELEVAD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-SUBUNIDAD </a:t>
            </a:r>
            <a:r>
              <a:rPr b="1" lang="es-ES_tradnl" sz="1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 TS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-CAPTACIÓN RADIOYODO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-BOC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105520" y="1752480"/>
            <a:ext cx="335268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7734240" y="2590920"/>
          <a:ext cx="571680" cy="666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734240" y="2590920"/>
                    <a:ext cx="571680" cy="66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"/>
          <p:cNvSpPr/>
          <p:nvPr/>
        </p:nvSpPr>
        <p:spPr>
          <a:xfrm>
            <a:off x="7774200" y="2895480"/>
            <a:ext cx="293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767000" y="312408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T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895480" y="4419720"/>
            <a:ext cx="1600200" cy="533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7543800" y="30477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6934320" y="28191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800960" y="4619520"/>
            <a:ext cx="4190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-HIPÓFISIS NO RESPONDE A FEEDBACK T3-T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-TSH Y T3-T4 ELEVAD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-BOCIO DIFUS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-RESISTENCIA PAR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72000" y="4495680"/>
            <a:ext cx="4419720" cy="137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2120" y="1219320"/>
            <a:ext cx="3808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4160" y="442800"/>
            <a:ext cx="630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3333cc"/>
                </a:solidFill>
                <a:latin typeface="Times New Roman"/>
              </a:rPr>
              <a:t>HIPERTIROIDISMO POR ESTIMULACION EXCESIVA CON TS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"/>
          <p:cNvGrpSpPr/>
          <p:nvPr/>
        </p:nvGrpSpPr>
        <p:grpSpPr>
          <a:xfrm>
            <a:off x="380880" y="1295280"/>
            <a:ext cx="3190680" cy="4114800"/>
            <a:chOff x="380880" y="1295280"/>
            <a:chExt cx="3190680" cy="4114800"/>
          </a:xfrm>
        </p:grpSpPr>
        <p:pic>
          <p:nvPicPr>
            <p:cNvPr id="126" name="" descr=""/>
            <p:cNvPicPr/>
            <p:nvPr/>
          </p:nvPicPr>
          <p:blipFill>
            <a:blip r:embed="rId1"/>
            <a:stretch/>
          </p:blipFill>
          <p:spPr>
            <a:xfrm>
              <a:off x="609480" y="1390680"/>
              <a:ext cx="2962080" cy="401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380880" y="1295280"/>
              <a:ext cx="60948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72120" y="3414600"/>
              <a:ext cx="48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Times New Roman"/>
                </a:rPr>
                <a:t>G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5648400" y="1582560"/>
            <a:ext cx="2124000" cy="1389960"/>
            <a:chOff x="5648400" y="1582560"/>
            <a:chExt cx="2124000" cy="1389960"/>
          </a:xfrm>
        </p:grpSpPr>
        <p:grpSp>
          <p:nvGrpSpPr>
            <p:cNvPr id="130" name=""/>
            <p:cNvGrpSpPr/>
            <p:nvPr/>
          </p:nvGrpSpPr>
          <p:grpSpPr>
            <a:xfrm>
              <a:off x="5648400" y="1582560"/>
              <a:ext cx="2124000" cy="1069920"/>
              <a:chOff x="5648400" y="1582560"/>
              <a:chExt cx="2124000" cy="1069920"/>
            </a:xfrm>
          </p:grpSpPr>
          <p:graphicFrame>
            <p:nvGraphicFramePr>
              <p:cNvPr id="131" name=""/>
              <p:cNvGraphicFramePr/>
              <p:nvPr/>
            </p:nvGraphicFramePr>
            <p:xfrm>
              <a:off x="5648400" y="1582560"/>
              <a:ext cx="2124000" cy="1069920"/>
            </p:xfrm>
            <a:graphic>
              <a:graphicData uri="http://schemas.openxmlformats.org/presentationml/2006/ole">
                <p:oleObj r:id="rId2" spid="">
                  <p:embed/>
                  <p:pic>
                    <p:nvPicPr>
                      <p:cNvPr id="132" name="" descr=""/>
                      <p:cNvPicPr/>
                      <p:nvPr/>
                    </p:nvPicPr>
                    <p:blipFill>
                      <a:blip r:embed="rId3"/>
                      <a:stretch/>
                    </p:blipFill>
                    <p:spPr>
                      <a:xfrm>
                        <a:off x="5648400" y="1582560"/>
                        <a:ext cx="2124000" cy="10699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33" name=""/>
              <p:cNvSpPr/>
              <p:nvPr/>
            </p:nvSpPr>
            <p:spPr>
              <a:xfrm>
                <a:off x="5844960" y="2116080"/>
                <a:ext cx="325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7122960" y="2114280"/>
                <a:ext cx="325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5" name=""/>
            <p:cNvSpPr/>
            <p:nvPr/>
          </p:nvSpPr>
          <p:spPr>
            <a:xfrm>
              <a:off x="5934960" y="2635200"/>
              <a:ext cx="1744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Times New Roman"/>
                </a:rPr>
                <a:t>TSH                 G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" name=""/>
          <p:cNvSpPr/>
          <p:nvPr/>
        </p:nvSpPr>
        <p:spPr>
          <a:xfrm>
            <a:off x="1434240" y="800280"/>
            <a:ext cx="546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33cc"/>
                </a:solidFill>
                <a:latin typeface="Times New Roman"/>
              </a:rPr>
              <a:t>MOLA TROFOBLÁSTICA O CORIOCARCINO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656520" y="3067200"/>
            <a:ext cx="499644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-EMBARAZO ANORMAL: FETO NO SE FORMA O MUERE EN 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MAYORíA DE LOS CASOS PERO SE FORMAN ELEMEN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PLACENTAR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-CRECIMIENTO PLACENTARIO ANORMAL (PROLIFERACION 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TROFOBLASTOS PLACENTARIOS): 1:1500 EMBARAZO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-SIN FETO = MOLA PARCIAL (LA MAYORÍ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-MOLA COMPLETA: MALIGNIZA A CORIOCARCINO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-ALTOS NIVELES DE GONADOTROFINA CORIÓNICA (GC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-T3 – T4 ELEVADOS y TSH DISMINUÍ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-BOCIO Y CAPTACIÓN DE RADIOYODO AUMENTA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380880" y="152280"/>
            <a:ext cx="8610840" cy="6554160"/>
            <a:chOff x="380880" y="152280"/>
            <a:chExt cx="8610840" cy="6554160"/>
          </a:xfrm>
        </p:grpSpPr>
        <p:pic>
          <p:nvPicPr>
            <p:cNvPr id="44" name="" descr=""/>
            <p:cNvPicPr/>
            <p:nvPr/>
          </p:nvPicPr>
          <p:blipFill>
            <a:blip r:embed="rId1"/>
            <a:stretch/>
          </p:blipFill>
          <p:spPr>
            <a:xfrm>
              <a:off x="380880" y="838080"/>
              <a:ext cx="2571840" cy="381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" descr=""/>
            <p:cNvPicPr/>
            <p:nvPr/>
          </p:nvPicPr>
          <p:blipFill>
            <a:blip r:embed="rId2"/>
            <a:stretch/>
          </p:blipFill>
          <p:spPr>
            <a:xfrm>
              <a:off x="4071960" y="1208160"/>
              <a:ext cx="4919760" cy="298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" descr=""/>
            <p:cNvPicPr/>
            <p:nvPr/>
          </p:nvPicPr>
          <p:blipFill>
            <a:blip r:embed="rId3"/>
            <a:stretch/>
          </p:blipFill>
          <p:spPr>
            <a:xfrm>
              <a:off x="2181240" y="4060800"/>
              <a:ext cx="4524480" cy="218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"/>
            <p:cNvSpPr/>
            <p:nvPr/>
          </p:nvSpPr>
          <p:spPr>
            <a:xfrm>
              <a:off x="1325880" y="152280"/>
              <a:ext cx="6284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3333cc"/>
                  </a:solidFill>
                  <a:latin typeface="Times New Roman"/>
                </a:rPr>
                <a:t>ANATOMÍA DE LA GLÁNDULA TIROID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42800" y="595440"/>
              <a:ext cx="1841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f0000"/>
                  </a:solidFill>
                  <a:latin typeface="Times New Roman"/>
                </a:rPr>
                <a:t>VISTA FRON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673960" y="609480"/>
              <a:ext cx="1791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f0000"/>
                  </a:solidFill>
                  <a:latin typeface="Times New Roman"/>
                </a:rPr>
                <a:t>LOCALIZACIÓ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354480" y="6369120"/>
              <a:ext cx="1898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f0000"/>
                  </a:solidFill>
                  <a:latin typeface="Times New Roman"/>
                </a:rPr>
                <a:t>VISTA SUPERI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441000" y="272880"/>
            <a:ext cx="8162280" cy="6052320"/>
            <a:chOff x="441000" y="272880"/>
            <a:chExt cx="8162280" cy="6052320"/>
          </a:xfrm>
        </p:grpSpPr>
        <p:sp>
          <p:nvSpPr>
            <p:cNvPr id="139" name=""/>
            <p:cNvSpPr/>
            <p:nvPr/>
          </p:nvSpPr>
          <p:spPr>
            <a:xfrm>
              <a:off x="971280" y="272880"/>
              <a:ext cx="7367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3333cc"/>
                  </a:solidFill>
                  <a:latin typeface="Times New Roman"/>
                </a:rPr>
                <a:t>NÓDULO ÚNICO                                            BOCIO TÓXICO MULTINODULAR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0" name="" descr=""/>
            <p:cNvPicPr/>
            <p:nvPr/>
          </p:nvPicPr>
          <p:blipFill>
            <a:blip r:embed="rId1"/>
            <a:stretch/>
          </p:blipFill>
          <p:spPr>
            <a:xfrm>
              <a:off x="457200" y="2637000"/>
              <a:ext cx="2590920" cy="178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"/>
            <p:cNvSpPr/>
            <p:nvPr/>
          </p:nvSpPr>
          <p:spPr>
            <a:xfrm>
              <a:off x="441000" y="4680000"/>
              <a:ext cx="3304800" cy="11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r>
                <a:rPr b="1" lang="fr-FR" sz="1200" spc="-1" strike="noStrike">
                  <a:solidFill>
                    <a:srgbClr val="000000"/>
                  </a:solidFill>
                  <a:latin typeface="Times New Roman"/>
                </a:rPr>
                <a:t>ADENOMA FOLICULAR (90% CASOS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Times New Roman"/>
                </a:rPr>
                <a:t>-NÓDULO CALIENTE SOLITARI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Times New Roman"/>
                </a:rPr>
                <a:t>-HIPERSECRECIÓN AUTÓNOMA DE T3-T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Times New Roman"/>
                </a:rPr>
                <a:t>-TSH BAJA Y CAPTACIóN RADIOYODO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Times New Roman"/>
                </a:rPr>
                <a:t>-NÓDULO CONTRALATERAL ATROFIAD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 flipV="1">
              <a:off x="3429000" y="52574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341240" y="4710240"/>
              <a:ext cx="42620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Times New Roman"/>
                </a:rPr>
                <a:t>-FRECUENTEMENTE DERIVAN DE BOCIO NO TÓXIC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Times New Roman"/>
                </a:rPr>
                <a:t>-NÓDULOS DISEEMINADOS QUE CAPTAN RADIOYOD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Times New Roman"/>
                </a:rPr>
                <a:t>-SECRECIÓN AUTÓNOMA DE T3 – T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Times New Roman"/>
                </a:rPr>
                <a:t>-TSH BAJ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Times New Roman"/>
                </a:rPr>
                <a:t>-MÁS FRECUENTE EN EDAD AVANZAD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4" name="" descr=""/>
            <p:cNvPicPr/>
            <p:nvPr/>
          </p:nvPicPr>
          <p:blipFill>
            <a:blip r:embed="rId2"/>
            <a:stretch/>
          </p:blipFill>
          <p:spPr>
            <a:xfrm>
              <a:off x="5105520" y="2819520"/>
              <a:ext cx="2514600" cy="169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1449360" y="5987880"/>
              <a:ext cx="6153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Times New Roman"/>
                </a:rPr>
                <a:t>-MAYOR FRECUENCIA  JUNTO A ENFERMEDAD DE GRAV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6" name=""/>
            <p:cNvGraphicFramePr/>
            <p:nvPr/>
          </p:nvGraphicFramePr>
          <p:xfrm>
            <a:off x="1071720" y="609480"/>
            <a:ext cx="1747800" cy="19814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4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071720" y="609480"/>
                      <a:ext cx="1747800" cy="1981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8" name=""/>
            <p:cNvGraphicFramePr/>
            <p:nvPr/>
          </p:nvGraphicFramePr>
          <p:xfrm>
            <a:off x="5508720" y="533520"/>
            <a:ext cx="1806480" cy="21333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49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508720" y="533520"/>
                      <a:ext cx="1806480" cy="2133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50" name=""/>
            <p:cNvSpPr/>
            <p:nvPr/>
          </p:nvSpPr>
          <p:spPr>
            <a:xfrm>
              <a:off x="990720" y="609480"/>
              <a:ext cx="22860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562720" y="533520"/>
              <a:ext cx="22860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216720" y="304920"/>
            <a:ext cx="8910360" cy="6019560"/>
            <a:chOff x="216720" y="304920"/>
            <a:chExt cx="8910360" cy="6019560"/>
          </a:xfrm>
        </p:grpSpPr>
        <p:sp>
          <p:nvSpPr>
            <p:cNvPr id="153" name=""/>
            <p:cNvSpPr/>
            <p:nvPr/>
          </p:nvSpPr>
          <p:spPr>
            <a:xfrm>
              <a:off x="1755000" y="304920"/>
              <a:ext cx="5373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3333cc"/>
                  </a:solidFill>
                  <a:latin typeface="Times New Roman"/>
                </a:rPr>
                <a:t>LIBERACIÓN EXCESIVA DE HORMONAS TIROÍDE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863880" y="1407960"/>
              <a:ext cx="5263200" cy="46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Times New Roman"/>
                </a:rPr>
                <a:t>-REACCIÓN INFLAMATORI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Times New Roman"/>
                </a:rPr>
                <a:t>-SECONDARIA A INFECCIÓN DE VÍAS RESPIRATOTIAS SUPERIOR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Times New Roman"/>
                </a:rPr>
                <a:t>-LINFOCITOS T CITOTÓXICOS LESIONAN CÉLULAS FOLICULAR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Times New Roman"/>
                </a:rPr>
                <a:t>-REGIÓN GLANDULAR DURA Y ADOLORID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Times New Roman"/>
                </a:rPr>
                <a:t>-FASE AGUDA: TSH BAJA Y T3-T4 ALT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Times New Roman"/>
                </a:rPr>
                <a:t>-NO HAY CAPTACIÓN DE RADIOYOD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Times New Roman"/>
                </a:rPr>
                <a:t>-EVOLUCIONA DE  HIPER A HIPOTIROIDISM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Times New Roman"/>
                </a:rPr>
                <a:t>-RESOLUCIÓN ESPONTÁNE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Times New Roman"/>
                </a:rPr>
                <a:t>-SE PRESENTA ENTRE LOS 30 A 50 AÑ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Times New Roman"/>
                </a:rPr>
                <a:t>-AFECTA MÁS A MUJER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Times New Roman"/>
                </a:rPr>
                <a:t>-AUTOINMUNITARIA (HAPLOTIPOS HLA-DR3 Y –DR5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Times New Roman"/>
                </a:rPr>
                <a:t>-HALLAZGOS DE LABORATORIO Y EVOLUCIÓN SIMILARES 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fr-FR" sz="1200" spc="-1" strike="noStrike">
                  <a:solidFill>
                    <a:srgbClr val="000000"/>
                  </a:solidFill>
                  <a:latin typeface="Times New Roman"/>
                </a:rPr>
                <a:t>TIROIDITIS GRNULOMATOS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Times New Roman"/>
                </a:rPr>
                <a:t>-INDOLOR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Times New Roman"/>
                </a:rPr>
                <a:t>-FRECUENTE EN PUERPERI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16720" y="4506840"/>
              <a:ext cx="30304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Times New Roman"/>
                </a:rPr>
                <a:t>T3-T4 LIBERADOS POR LESIÓ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Times New Roman"/>
                </a:rPr>
                <a:t>DE LAS CÉLULAS FOLICULAR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6" name=""/>
            <p:cNvGrpSpPr/>
            <p:nvPr/>
          </p:nvGrpSpPr>
          <p:grpSpPr>
            <a:xfrm>
              <a:off x="762120" y="838080"/>
              <a:ext cx="2181240" cy="3267360"/>
              <a:chOff x="762120" y="838080"/>
              <a:chExt cx="2181240" cy="3267360"/>
            </a:xfrm>
          </p:grpSpPr>
          <p:graphicFrame>
            <p:nvGraphicFramePr>
              <p:cNvPr id="157" name=""/>
              <p:cNvGraphicFramePr/>
              <p:nvPr/>
            </p:nvGraphicFramePr>
            <p:xfrm>
              <a:off x="762120" y="838080"/>
              <a:ext cx="2181240" cy="326736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58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762120" y="838080"/>
                        <a:ext cx="2181240" cy="32673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59" name=""/>
              <p:cNvSpPr/>
              <p:nvPr/>
            </p:nvSpPr>
            <p:spPr>
              <a:xfrm>
                <a:off x="762120" y="914400"/>
                <a:ext cx="304560" cy="304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0" name=""/>
            <p:cNvSpPr/>
            <p:nvPr/>
          </p:nvSpPr>
          <p:spPr>
            <a:xfrm flipV="1">
              <a:off x="2438280" y="2437920"/>
              <a:ext cx="1295640" cy="129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971800" y="3962520"/>
              <a:ext cx="68580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886200" y="1219320"/>
              <a:ext cx="5135400" cy="2209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886200" y="5029200"/>
              <a:ext cx="487692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4" name=""/>
          <p:cNvGrpSpPr/>
          <p:nvPr/>
        </p:nvGrpSpPr>
        <p:grpSpPr>
          <a:xfrm>
            <a:off x="1783800" y="228600"/>
            <a:ext cx="5680800" cy="5027760"/>
            <a:chOff x="1783800" y="228600"/>
            <a:chExt cx="5680800" cy="5027760"/>
          </a:xfrm>
        </p:grpSpPr>
        <p:sp>
          <p:nvSpPr>
            <p:cNvPr id="165" name=""/>
            <p:cNvSpPr/>
            <p:nvPr/>
          </p:nvSpPr>
          <p:spPr>
            <a:xfrm>
              <a:off x="2824560" y="228600"/>
              <a:ext cx="319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3333cc"/>
                  </a:solidFill>
                  <a:latin typeface="Times New Roman"/>
                </a:rPr>
                <a:t>TIROTOXICOSIS  FICTIC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783800" y="4432320"/>
              <a:ext cx="5680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Times New Roman"/>
                </a:rPr>
                <a:t>-FARMACOLÓGIC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Times New Roman"/>
                </a:rPr>
                <a:t>-CAPTACIÓN DE RADIOYODO SUPRIMID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Times New Roman"/>
                </a:rPr>
                <a:t>-TSH SUPRIMIDA Y ATROFIA GLANDULAR BILOBULA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67" name=""/>
            <p:cNvGraphicFramePr/>
            <p:nvPr/>
          </p:nvGraphicFramePr>
          <p:xfrm>
            <a:off x="2911320" y="990720"/>
            <a:ext cx="2346480" cy="3124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6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11320" y="990720"/>
                      <a:ext cx="2346480" cy="3124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69" name=""/>
            <p:cNvSpPr/>
            <p:nvPr/>
          </p:nvSpPr>
          <p:spPr>
            <a:xfrm>
              <a:off x="2971800" y="990720"/>
              <a:ext cx="30492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816200" y="595440"/>
            <a:ext cx="6092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3333cc"/>
                </a:solidFill>
                <a:latin typeface="Times New Roman"/>
              </a:rPr>
              <a:t>FUENTES  EXTRAGLANDULARES DE HORMONA TIROÍDE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10320" y="4416480"/>
            <a:ext cx="86299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-MUY RAROS (SOLO AQUELLOS CARCINOMAS FOLICULARES BIEN DIFERENCIAD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O ALGUNOS TERATOMAS OVÁRICO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-CAPTACIÓN DE RADIOYODO EN EL CUELLO =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-CAPTACIÓN DE RADIOYODO EN LA PELVIS O EN PULMÓN ELEVAD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-TSH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5257800" y="1066680"/>
            <a:ext cx="2409840" cy="3181320"/>
            <a:chOff x="5257800" y="1066680"/>
            <a:chExt cx="2409840" cy="3181320"/>
          </a:xfrm>
        </p:grpSpPr>
        <p:graphicFrame>
          <p:nvGraphicFramePr>
            <p:cNvPr id="173" name=""/>
            <p:cNvGraphicFramePr/>
            <p:nvPr/>
          </p:nvGraphicFramePr>
          <p:xfrm>
            <a:off x="5257800" y="1066680"/>
            <a:ext cx="2409840" cy="31813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7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257800" y="1066680"/>
                      <a:ext cx="2409840" cy="3181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75" name=""/>
            <p:cNvSpPr/>
            <p:nvPr/>
          </p:nvSpPr>
          <p:spPr>
            <a:xfrm>
              <a:off x="5257800" y="1066680"/>
              <a:ext cx="304920" cy="38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76" name=""/>
          <p:cNvGraphicFramePr/>
          <p:nvPr/>
        </p:nvGraphicFramePr>
        <p:xfrm>
          <a:off x="1752480" y="1066680"/>
          <a:ext cx="2152800" cy="3152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52480" y="1066680"/>
                    <a:ext cx="2152800" cy="31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" name=""/>
          <p:cNvSpPr/>
          <p:nvPr/>
        </p:nvSpPr>
        <p:spPr>
          <a:xfrm>
            <a:off x="1066680" y="5486400"/>
            <a:ext cx="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752480" y="1143000"/>
            <a:ext cx="30492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2270160" y="74772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980000" y="838080"/>
            <a:ext cx="488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ONSECUENCIAS DEL HIPOTIROIDIS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395280" y="1773360"/>
          <a:ext cx="8259840" cy="4346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773360"/>
                    <a:ext cx="8259840" cy="434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533520" y="1197000"/>
            <a:ext cx="2492280" cy="520380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3048120" y="1219320"/>
            <a:ext cx="2266920" cy="532908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4016520" y="289080"/>
            <a:ext cx="185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CRETINIS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337000" y="1306440"/>
            <a:ext cx="383076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-1/4000 NACIMIENT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-RETRASO MENT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-ALTERACIONES ESQUELÉTIC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-ENANISM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-CARA TOS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-MACROGLOSIA Y PROTRUSIÓN LENGU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-HERNIA UMBILIC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-LLANTO RONC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1219320" y="990720"/>
            <a:ext cx="6410160" cy="437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1908000" y="549360"/>
            <a:ext cx="541656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3067200" y="1649520"/>
            <a:ext cx="3008160" cy="442584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3756600" y="547560"/>
            <a:ext cx="165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MIXEDE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324000" y="914400"/>
            <a:ext cx="859788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066680" y="1954080"/>
            <a:ext cx="6629400" cy="44467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140120" y="650880"/>
            <a:ext cx="6627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3333cc"/>
                </a:solidFill>
                <a:latin typeface="Times New Roman"/>
              </a:rPr>
              <a:t>LA UNIDAD FUNCIONAL DE LA GLÁNDU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3333cc"/>
                </a:solidFill>
                <a:latin typeface="Times New Roman"/>
              </a:rPr>
              <a:t>TIROIDES: EL FOLÍCULO TIROÍDE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28600" y="1057320"/>
            <a:ext cx="792468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4572000" y="549360"/>
            <a:ext cx="4073400" cy="589428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974880" y="265284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029200" y="152280"/>
            <a:ext cx="3754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Componente genétic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545960" y="4145040"/>
            <a:ext cx="95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, peroxid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980080" y="138240"/>
            <a:ext cx="267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cc"/>
                </a:solidFill>
                <a:latin typeface="Times New Roman"/>
              </a:rPr>
              <a:t>TIROIDITIS HASHIMO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7160" y="1281240"/>
            <a:ext cx="3876480" cy="14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15-60% de los hipotiroidism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-Mayor prevalencia: 45 - 65 añ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-Mayor prevalencia en mujeres (10:1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-Bocio indolo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-Pérdida gradual de función con TSH elevad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-Puede asociarse con lupus eritematoso y artrit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79840" y="1014480"/>
            <a:ext cx="223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1" name=""/>
          <p:cNvGraphicFramePr/>
          <p:nvPr/>
        </p:nvGraphicFramePr>
        <p:xfrm>
          <a:off x="1476360" y="620640"/>
          <a:ext cx="6467400" cy="5445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620640"/>
                    <a:ext cx="6467400" cy="544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1709640" y="385920"/>
            <a:ext cx="5724720" cy="6167160"/>
            <a:chOff x="1709640" y="385920"/>
            <a:chExt cx="5724720" cy="6167160"/>
          </a:xfrm>
        </p:grpSpPr>
        <p:pic>
          <p:nvPicPr>
            <p:cNvPr id="54" name="" descr=""/>
            <p:cNvPicPr/>
            <p:nvPr/>
          </p:nvPicPr>
          <p:blipFill>
            <a:blip r:embed="rId1"/>
            <a:stretch/>
          </p:blipFill>
          <p:spPr>
            <a:xfrm>
              <a:off x="1709640" y="385920"/>
              <a:ext cx="5724720" cy="608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1828800" y="3352680"/>
              <a:ext cx="3657600" cy="3200400"/>
            </a:xfrm>
            <a:prstGeom prst="rect">
              <a:avLst/>
            </a:prstGeom>
            <a:noFill/>
            <a:ln w="22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848520" y="152280"/>
            <a:ext cx="77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3333cc"/>
                </a:solidFill>
                <a:latin typeface="Times New Roman"/>
              </a:rPr>
              <a:t>LAS HORMONAS TIROÍDEAS Y SUS PRECURS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228680" y="900000"/>
            <a:ext cx="6010200" cy="54244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607040" y="304920"/>
            <a:ext cx="629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3333cc"/>
                </a:solidFill>
                <a:latin typeface="Times New Roman"/>
              </a:rPr>
              <a:t>BIOSÍNTESIS DE HORMONAS TIROÍDE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903320" y="685800"/>
            <a:ext cx="5337360" cy="5486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5107680" y="6019920"/>
            <a:ext cx="849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ropanol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800600" y="4648320"/>
            <a:ext cx="1143000" cy="152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929920" y="46846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L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3580920" y="342900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415320" y="388620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L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736640" y="-34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772280" y="152280"/>
            <a:ext cx="629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3333cc"/>
                </a:solidFill>
                <a:latin typeface="Times New Roman"/>
              </a:rPr>
              <a:t>BIOSÍNTESIS DE HORMONAS TIROÍDE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" name=""/>
          <p:cNvGrpSpPr/>
          <p:nvPr/>
        </p:nvGrpSpPr>
        <p:grpSpPr>
          <a:xfrm>
            <a:off x="228600" y="380880"/>
            <a:ext cx="8686800" cy="4946400"/>
            <a:chOff x="228600" y="380880"/>
            <a:chExt cx="8686800" cy="4946400"/>
          </a:xfrm>
        </p:grpSpPr>
        <p:sp>
          <p:nvSpPr>
            <p:cNvPr id="68" name=""/>
            <p:cNvSpPr/>
            <p:nvPr/>
          </p:nvSpPr>
          <p:spPr>
            <a:xfrm>
              <a:off x="228600" y="1273320"/>
              <a:ext cx="8686800" cy="40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300" spc="-1" strike="noStrike">
                  <a:solidFill>
                    <a:srgbClr val="000000"/>
                  </a:solidFill>
                  <a:latin typeface="Times New Roman"/>
                </a:rPr>
                <a:t>                                                                            </a:t>
              </a:r>
              <a:r>
                <a:rPr b="1" lang="fr-FR" sz="1300" spc="-1" strike="noStrike">
                  <a:solidFill>
                    <a:srgbClr val="000000"/>
                  </a:solidFill>
                  <a:latin typeface="Times New Roman"/>
                </a:rPr>
                <a:t>99.97% UNIDA A PROTEÍNAS (75%TBG, 20%TBPA, 5% ALBÚMINA)</a:t>
              </a:r>
              <a:r>
                <a:rPr b="1" lang="fr-FR" sz="13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fr-FR" sz="1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3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fr-FR" sz="13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1" lang="fr-FR" sz="1300" spc="-1" strike="noStrike">
                  <a:solidFill>
                    <a:srgbClr val="000000"/>
                  </a:solidFill>
                  <a:latin typeface="Times New Roman"/>
                </a:rPr>
                <a:t>100% T4 PLASMÁTICA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3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fr-FR" sz="13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fr-FR" sz="13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fr-FR" sz="1300" spc="-1" strike="noStrike">
                  <a:solidFill>
                    <a:srgbClr val="000000"/>
                  </a:solidFill>
                  <a:latin typeface="Times New Roman"/>
                </a:rPr>
                <a:t>          </a:t>
              </a:r>
              <a:r>
                <a:rPr b="1" lang="fr-FR" sz="1300" spc="-1" strike="noStrike">
                  <a:solidFill>
                    <a:srgbClr val="000000"/>
                  </a:solidFill>
                  <a:latin typeface="Times New Roman"/>
                </a:rPr>
                <a:t>0.03% LIBRE = ACTIVA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300" spc="-1" strike="noStrike">
                  <a:solidFill>
                    <a:srgbClr val="000000"/>
                  </a:solidFill>
                  <a:latin typeface="Times New Roman"/>
                </a:rPr>
                <a:t>TIROIDES      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300" spc="-1" strike="noStrike">
                  <a:solidFill>
                    <a:srgbClr val="000000"/>
                  </a:solidFill>
                  <a:latin typeface="Times New Roman"/>
                </a:rPr>
                <a:t>                                                                             </a:t>
              </a:r>
              <a:r>
                <a:rPr b="1" lang="fr-FR" sz="1300" spc="-1" strike="noStrike">
                  <a:solidFill>
                    <a:srgbClr val="000000"/>
                  </a:solidFill>
                  <a:latin typeface="Times New Roman"/>
                </a:rPr>
                <a:t>99.7% UNIDA A PROTEÍNAS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3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fr-FR" sz="1300" spc="-1" strike="noStrike">
                  <a:solidFill>
                    <a:srgbClr val="000000"/>
                  </a:solidFill>
                  <a:latin typeface="Times New Roman"/>
                </a:rPr>
                <a:t>      </a:t>
              </a:r>
              <a:r>
                <a:rPr b="1" lang="fr-FR" sz="1300" spc="-1" strike="noStrike">
                  <a:solidFill>
                    <a:srgbClr val="000000"/>
                  </a:solidFill>
                  <a:latin typeface="Times New Roman"/>
                </a:rPr>
                <a:t>15% T3 PLASMÁTICA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300" spc="-1" strike="noStrike">
                  <a:solidFill>
                    <a:srgbClr val="000000"/>
                  </a:solidFill>
                  <a:latin typeface="Times New Roman"/>
                </a:rPr>
                <a:t>                             </a:t>
              </a:r>
              <a:r>
                <a:rPr b="1" lang="fr-FR" sz="1300" spc="-1" strike="noStrike">
                  <a:solidFill>
                    <a:srgbClr val="000000"/>
                  </a:solidFill>
                  <a:latin typeface="Times New Roman"/>
                </a:rPr>
                <a:t>85% T3 PLASMÁTICA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300" spc="-1" strike="noStrike">
                  <a:solidFill>
                    <a:srgbClr val="000000"/>
                  </a:solidFill>
                  <a:latin typeface="Times New Roman"/>
                </a:rPr>
                <a:t>                                                                           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300" spc="-1" strike="noStrike">
                  <a:solidFill>
                    <a:srgbClr val="000000"/>
                  </a:solidFill>
                  <a:latin typeface="Times New Roman"/>
                </a:rPr>
                <a:t>                                                                             </a:t>
              </a:r>
              <a:r>
                <a:rPr b="1" lang="fr-FR" sz="1300" spc="-1" strike="noStrike">
                  <a:solidFill>
                    <a:srgbClr val="000000"/>
                  </a:solidFill>
                  <a:latin typeface="Times New Roman"/>
                </a:rPr>
                <a:t>0.3% LIBRE: 3 – 4 VECES MÁS POTENTE QUE T4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300" spc="-1" strike="noStrike">
                  <a:solidFill>
                    <a:srgbClr val="000000"/>
                  </a:solidFill>
                  <a:latin typeface="Times New Roman"/>
                </a:rPr>
                <a:t>                                                                                        </a:t>
              </a:r>
              <a:r>
                <a:rPr b="1" lang="fr-FR" sz="1300" spc="-1" strike="noStrike">
                  <a:solidFill>
                    <a:srgbClr val="000000"/>
                  </a:solidFill>
                  <a:latin typeface="Times New Roman"/>
                </a:rPr>
                <a:t>5’DESYODINASA O TIPO 1(40%)             T3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300" spc="-1" strike="noStrike">
                  <a:solidFill>
                    <a:srgbClr val="000000"/>
                  </a:solidFill>
                  <a:latin typeface="Times New Roman"/>
                </a:rPr>
                <a:t>DESYODINACIÓN PERIFÉRICA (HÍGADO)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300" spc="-1" strike="noStrike">
                  <a:solidFill>
                    <a:srgbClr val="000000"/>
                  </a:solidFill>
                  <a:latin typeface="Times New Roman"/>
                </a:rPr>
                <a:t>                                                                                        </a:t>
              </a:r>
              <a:r>
                <a:rPr b="1" lang="fr-FR" sz="1300" spc="-1" strike="noStrike">
                  <a:solidFill>
                    <a:srgbClr val="000000"/>
                  </a:solidFill>
                  <a:latin typeface="Times New Roman"/>
                </a:rPr>
                <a:t>5 DESYODINASA O TIPO 2 (60%)              rT3 (INACTIVA)         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066680" y="2568600"/>
              <a:ext cx="381240" cy="45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V="1">
              <a:off x="1143000" y="1959120"/>
              <a:ext cx="380880" cy="304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76720" y="1349280"/>
              <a:ext cx="152280" cy="91440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23760 h 914400"/>
                <a:gd name="textAreaBottom" fmla="*/ 89064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276720" y="2720880"/>
              <a:ext cx="152280" cy="114300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29520 h 1143000"/>
                <a:gd name="textAreaBottom" fmla="*/ 1113480 h 1143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V="1">
              <a:off x="1219320" y="3558960"/>
              <a:ext cx="609480" cy="1066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733920" y="4321080"/>
              <a:ext cx="152280" cy="91440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23760 h 914400"/>
                <a:gd name="textAreaBottom" fmla="*/ 89064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6553080" y="4397400"/>
              <a:ext cx="457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553080" y="5181480"/>
              <a:ext cx="457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774440" y="380880"/>
              <a:ext cx="507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3333cc"/>
                  </a:solidFill>
                  <a:latin typeface="Times New Roman"/>
                </a:rPr>
                <a:t>ORIGEN DE T3/T4 CIRCULANT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763640" y="1628640"/>
            <a:ext cx="5832720" cy="48643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774000" y="838080"/>
            <a:ext cx="764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3333cc"/>
                </a:solidFill>
                <a:latin typeface="Times New Roman"/>
              </a:rPr>
              <a:t>MECANISMO DE ACCIÓN SOBRE CÉLULAS DI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2514600" y="533520"/>
            <a:ext cx="4473720" cy="54720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113120" y="304920"/>
            <a:ext cx="708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3333cc"/>
                </a:solidFill>
                <a:latin typeface="Times New Roman"/>
              </a:rPr>
              <a:t>EL EJE HIPOTÁLAMO – HIPÓFISIS – TIRO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4T06:40:49Z</dcterms:created>
  <dc:creator>usuario</dc:creator>
  <dc:description/>
  <dc:language>en-US</dc:language>
  <cp:lastModifiedBy>ines</cp:lastModifiedBy>
  <dcterms:modified xsi:type="dcterms:W3CDTF">2005-08-30T19:07:22Z</dcterms:modified>
  <cp:revision>18</cp:revision>
  <dc:subject/>
  <dc:title>Presentación de PowerPoint</dc:title>
</cp:coreProperties>
</file>