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11430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4D4-B651-4238-B52C-4D2AA10B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5DE-98C6-43F1-A26B-F4FC622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41C-8F39-42DF-8BC4-E55C1466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756-F439-42F2-94F8-4E2C5843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584-CFBA-41BF-ADEA-CEB353A9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D9A-478C-439D-8251-EE080F3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50A-65DE-4EAA-9C28-3A22E13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036-F0B6-4119-A4C1-D8ABF63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A5A-EF16-4C9D-9D0C-C07183D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F84-79BA-4917-9785-0DA0E80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B7A-7CDB-48B6-A91D-769BFF3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655-9286-4981-8BCC-DDA9244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1022-4ED4-4B44-8DFA-D2A1133028F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teracione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724200"/>
            <a:ext cx="5761080" cy="31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89400" y="620640"/>
            <a:ext cx="289872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18276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57340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INFECCIONES MA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) Rube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ratas, cardiopatías, sorder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megal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ardo mental, microcefalia y sor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os viru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herpes, varicela,influenz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 y 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NFERMEDADES MATER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ilceton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crinopa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CONSUMO DE SUSTANCIAS DURANTE EL EMBAR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ogas antineoplás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r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onvuls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 (tranquiliz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rfarina ( anticoagu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trahidrocannabinol (marihu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GE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HERENCIA MENDELIANA SIMP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 frecuentes. Ej: polidactilia, sindact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ERRACIONES CROMOSÓM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presentes en el 1-5% de los nacidos vivos con malformaciones congéni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s: Down, Klinefelter y Tu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IFICACION SEGÚN ETI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PRIMARIA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ción en la digestión, absorción y utilización de los alimentos. Aumento en los 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MIX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 y alteración en la digestión, absorción y utilización de los alimentos. Es la más frec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ON CALORICO-PROTEÍ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atrofi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edem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MIXTA 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atrofia + edema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OLUCION DE 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ON CALORICO-PROTEÍCA Y   GLO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laquecimiento            crecimiento l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asmo                        caquexia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ve                        grave                    Kwashiorkor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5280" y="3357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34920" y="3500280"/>
            <a:ext cx="2881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573408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5734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originadas durante la ges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2440" y="3236760"/>
            <a:ext cx="466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JEZ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teraciones degen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528920"/>
            <a:ext cx="7969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159552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1557360"/>
            <a:ext cx="259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05596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1495440" cy="159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95640" y="40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a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3645000"/>
            <a:ext cx="1800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ge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popla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c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tero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4149720"/>
            <a:ext cx="20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fetal incompleto, microcefalia, cret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336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ecun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333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lastómeras        Embrión                      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post na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474920"/>
            <a:ext cx="65530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5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267012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068640"/>
            <a:ext cx="2448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FANCIA: Alteraciones nutritiv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del esquele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endocr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357720"/>
            <a:ext cx="23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: atrofia,  hipertrofia,  hiperplasia, di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284640"/>
            <a:ext cx="25192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JEZ: alteraciones degener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IAS DE ALTERACIONES PERINA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LTERACIONES DE HERENCIA MENDELIANA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utosómicas do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utosómicas rece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ligadas al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ALTER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numé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LTERACIONES POLIGENICAS O MULTIFA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 ALTERACIONES TERATOGÉ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formaciones congén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 defectos estructurales presentes en el nacimiento de manifestación clínica inmediata o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ectan al 3% de los nacidos v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an defectos del desarrollo embrionario de poca seve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ca del 20% de los óvulos fertilizados se pierde debido a anomalías incompatibles con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ÉNIT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ES TER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INFECCIOS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, rubéola, sífil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QUIM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, agentes citostáticos y citotóxicos, alcohol, LSD, tetrahidrocannabin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FIS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yos X, radiaciones ionizantes, radiación ató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A DE LAS MALFORMACIONES 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GENE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ncia mendeliana simple....................15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raciones cromosómicas...........................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ciones maternas 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as enfermedades maternas.........................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gas y sustancias químicas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adiación.................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CAUSA DESCONOC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65-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6:04:01Z</dcterms:created>
  <dc:creator>ines pepper bergholz</dc:creator>
  <dc:description/>
  <dc:language>en-US</dc:language>
  <cp:lastModifiedBy>ines</cp:lastModifiedBy>
  <cp:lastPrinted>2000-08-23T17:02:39Z</cp:lastPrinted>
  <dcterms:modified xsi:type="dcterms:W3CDTF">2005-08-10T21:24:15Z</dcterms:modified>
  <cp:revision>4</cp:revision>
  <dc:subject/>
  <dc:title>CATEGORIAS DE ALTERACIONES PERINATALES</dc:title>
</cp:coreProperties>
</file>