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11430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441-38DB-4A78-AD4D-C35D8D15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F80-159F-4A22-9D8C-3AD28252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518-21DA-4257-BB47-6C214AEC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874-1B92-4506-A6D7-105464CF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2BE-564A-4344-84EE-948EDFC2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342-869A-469A-A255-D4301CBC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03F-F15C-4634-A480-A953E018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3F5-AF92-4E83-B315-AEF05FB1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E2E-1995-4A1E-A16F-BDD7BDD1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F27-EB74-4A72-BA14-21115EB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525-7137-470C-B182-E994D846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EA8-CA51-45D8-B1E1-8ADE8D5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CA3B-D6B2-456B-BF77-C1FCA94E92F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teraciones del 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3724200"/>
            <a:ext cx="5761080" cy="31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89400" y="620640"/>
            <a:ext cx="289872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318276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57340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INFECCIONES MA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) Rube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ratas, cardiopatías, sorder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megalo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tardo mental, microcefalia y sor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os viru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herpes, varicela,influenza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rampión y V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NFERMEDADES MATER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nilceton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crinopa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CONSUMO DE SUSTANCIAS DURANTE EL EMBAR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ogas antineoplás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r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convuls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lidomida (tranquiliz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arfarina ( anticoagul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trahidrocannabinol (marihu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 CONGENITAS DE ORIGEN GENE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HERENCIA MENDELIANA SIMPL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o frecuentes. Ej: polidactilia, sindact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ERRACIONES CROMOSÓM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án presentes en el 1-5% de los nacidos vivos con malformaciones congéni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s: Down, Klinefelter y Tu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IFICACION SEGÚN ETI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PRIMARIA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isponibilidad de al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ación en la digestión, absorción y utilización de los alimentos. Aumento en los 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ON MIX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ta de disponibilidad de alimentos y alteración en la digestión, absorción y utilización de los alimentos. Es la más frec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AS CLI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ON CALORICO-PROTEÍ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atrofia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ÓN 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edema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NUTRICIÓN MIXTA 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atrofia + edema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NUTRICIÓ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OLUCION DE FORMAS CLI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NUTRICION CALORICO-PROTEÍCA Y   GLOB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laquecimiento            crecimiento l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asmo                        caquexia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NUTRICIÓN 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ve                        grave                    Kwashiorkor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5280" y="3357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834920" y="3500280"/>
            <a:ext cx="2881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42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573408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5734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lteraciones del desarrollo originadas durante la ges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2440" y="3236760"/>
            <a:ext cx="4660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JEZ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teraciones degen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528920"/>
            <a:ext cx="79693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159552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1640" y="1557360"/>
            <a:ext cx="259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205596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68360" y="1628640"/>
            <a:ext cx="1495440" cy="159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95640" y="400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a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3645000"/>
            <a:ext cx="1800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gene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popla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ct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eterot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4149720"/>
            <a:ext cx="20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fetal incompleto, microcefalia, creti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336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ecun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33336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lastómeras        Embrión                      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lteraciones del desarrollo post na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474920"/>
            <a:ext cx="65530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55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267012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257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3068640"/>
            <a:ext cx="2448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FANCIA: Alteraciones nutritiv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teraciones del esquele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teraciones endocr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357720"/>
            <a:ext cx="237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: atrofia,  hipertrofia,  hiperplasia, di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3284640"/>
            <a:ext cx="25192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JEZ: alteraciones degener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IAS DE ALTERACIONES PERINA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LTERACIONES DE HERENCIA MENDELIANA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autosómicas do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autosómicas rece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ligadas al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ALTERACIONES CROMOS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numé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LTERACIONES POLIGENICAS O MULTIFA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 ALTERACIONES TERATOGÉ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formaciones congén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N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n defectos estructurales presentes en el nacimiento de manifestación clínica inmediata o 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ectan al 3% de los nacidos v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esentan defectos del desarrollo embrionario de poca seve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ca del 20% de los óvulos fertilizados se pierde debido a anomalías incompatibles con la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FORMACION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ÉNIT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ES TER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INFECCIOS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rampión, rubéola, sífil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QUIM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lidomida, agentes citostáticos y citotóxicos, alcohol, LSD, tetrahidrocannabin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FISIC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yos X, radiaciones ionizantes, radiación ató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OLOGIA DE LAS MALFORMACIONES CONGEN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GENE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ncia mendeliana simple....................15-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erraciones cromosómicas...........................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cciones maternas ............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as enfermedades maternas..........................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gas y sustancias químicas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adiación......................................................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CAUSA DESCONOCI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65-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6:04:01Z</dcterms:created>
  <dc:creator>ines pepper bergholz</dc:creator>
  <dc:description/>
  <dc:language>en-US</dc:language>
  <cp:lastModifiedBy>ines</cp:lastModifiedBy>
  <cp:lastPrinted>2000-08-23T17:02:39Z</cp:lastPrinted>
  <dcterms:modified xsi:type="dcterms:W3CDTF">2005-08-10T21:24:15Z</dcterms:modified>
  <cp:revision>4</cp:revision>
  <dc:subject/>
  <dc:title>CATEGORIAS DE ALTERACIONES PERINATALES</dc:title>
</cp:coreProperties>
</file>