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1143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BF3-ADF0-4013-9A9D-B736730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F93-635A-4472-BFE2-C5CAE985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267-6CC2-4B5D-8396-70FFDDD7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5C6-4333-4232-8939-12A87643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814-56AF-437D-86F5-A1D85EF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CFD-EBEA-47CA-8B40-23B624A3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4D5-A77C-4CAC-BFA4-CBB8D8B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79C-336F-486C-B73A-C1500F5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770-A4B0-4A46-AA56-8449BB3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B68-F414-4918-8159-B678D52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D5B-E971-43FC-B8FB-0D8037F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A39-BF0F-41D7-AB5D-D17A4D9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6D19-8402-42F1-BDD1-91C3FC9F8C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teracione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24200"/>
            <a:ext cx="5761080" cy="31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89400" y="620640"/>
            <a:ext cx="289872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1827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57340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INFECCIONES MA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) Rube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ratas, cardiopatías, sord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megal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ardo mental, microcefalia y sor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os viru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herpes, varicela,influenz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 y 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NFERMEDADES MATER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ilceton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crinopa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CONSUMO DE SUSTANCIAS DURANTE EL EMBAR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ogas antineoplás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r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onvuls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 (tranquiliz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farina ( anticoagu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trahidrocannabinol (marihu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GE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HERENCIA MENDELIANA SIMP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 frecuentes. Ej: polidactilia, sindact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ERRACIONES CROMOSÓM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presentes en el 1-5% de los nacidos vivos con malformaciones congéni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s: Down, Klinefelter y Tu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IFICACION SEGÚN ETI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PRIMARIA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ción en la digestión, absorción y utilización de los alimentos. Aumento en los 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MIX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 y alteración en la digestión, absorción y utilización de los alimentos. Es la más frec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ON CALORICO-PROTEÍ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atrofi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edem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MIXTA 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atrofia + edema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OLUCION DE 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ON CALORICO-PROTEÍCA Y   GLO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laquecimiento            crecimiento l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asmo                        caquexia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e                        grave                    Kwashiorkor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5280" y="3357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34920" y="3500280"/>
            <a:ext cx="2881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73408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734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originadas durante la ges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2440" y="3236760"/>
            <a:ext cx="466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JEZ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teraciones degen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528920"/>
            <a:ext cx="7969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159552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155736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0559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1495440" cy="159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40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a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3645000"/>
            <a:ext cx="180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ge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popla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c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tero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149720"/>
            <a:ext cx="20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fetal incompleto, microcefalia, cret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336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ecun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lastómeras        Embrión                     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post na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474920"/>
            <a:ext cx="6553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267012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068640"/>
            <a:ext cx="244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FANCIA: Alteraciones nutritiv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del esquele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endocr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357720"/>
            <a:ext cx="23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: atrofia,  hipertrofia,  hiperplasia, di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284640"/>
            <a:ext cx="25192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JEZ: alteraciones degen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IAS DE ALTERACIONES PERINA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LTERACIONES DE HERENCIA MENDELIANA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utosómicas do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utosómicas rece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ligadas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LTER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numé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LTERACIONES POLIGENICAS O MULTIFA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ALTERACIONES TERATOGÉ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formaciones congé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 defectos estructurales presentes en el nacimiento de manifestación clínica inmediata o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ectan al 3% de los nacidos v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an defectos del desarrollo embrionario de poca seve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ca del 20% de los óvulos fertilizados se pierde debido a anomalías incompatibles con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ÉNIT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ES TER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INFECCIO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, rubéola, sífil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QUIM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, agentes citostáticos y citotóxicos, alcohol, LSD, tetrahidrocannabin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FIS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yos X, radiaciones ionizantes, radiación ató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A DE LAS MALFORMACIONES 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GENE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ncia mendeliana simple....................15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raciones cromosómicas...........................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ciones maternas 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as enfermedades maternas.........................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gas y sustancias químicas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adiación.................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CAUSA DESCONOC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65-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6:04:01Z</dcterms:created>
  <dc:creator>ines pepper bergholz</dc:creator>
  <dc:description/>
  <dc:language>en-US</dc:language>
  <cp:lastModifiedBy>ines</cp:lastModifiedBy>
  <cp:lastPrinted>2000-08-23T17:02:39Z</cp:lastPrinted>
  <dcterms:modified xsi:type="dcterms:W3CDTF">2005-08-10T21:24:15Z</dcterms:modified>
  <cp:revision>4</cp:revision>
  <dc:subject/>
  <dc:title>CATEGORIAS DE ALTERACIONES PERINATALES</dc:title>
</cp:coreProperties>
</file>