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AD49-E03D-4EBB-BDA5-CEB28270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A22B-570F-4EB3-AF01-355D7DE7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9FF6-4666-40F0-9AF5-6F65DC3E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93E7-7F7D-47F9-AB17-9F053EA7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CE9F-6B34-407E-B66B-D1F220BD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9C39-6A56-4AFC-9A48-B48396EB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E02D-55B7-4DB8-9C07-EF96F234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CF95-07B5-4D06-8EFF-881EAE2E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8358-560B-4121-B4C7-C813CA86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C36D-898F-486B-9322-4D79AA88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F0F4-3AE8-4D09-983A-6500A3DF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6939-819D-4613-8F37-1BB34F82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39C4-03DB-4484-A00E-D4AD43B5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E291-46ED-4846-B523-AD3AE9EA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5B0B-3E6C-423B-B810-85FF5A41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703E-D2A6-4375-959E-327C7A62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66B3-F8BF-42D0-A615-946F5E13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0C80-042B-4471-A704-D1D0E72B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3514-A3D1-4D38-A663-614B19A2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67F0-0F92-427F-A9D1-C9D3B4AD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05C8-1CBC-49D0-AEA6-C9381A21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5C2F-0BA3-4A3E-AAC2-47E61277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5F6F-95E2-4DA1-B601-EDD35E0D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D304-90FA-4A0C-87BD-65B21582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EBF6-77AE-41DD-94C4-6E2590E801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348E-F7C3-46A7-BA2A-C20708FDA4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Javier Villanueva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ristián Céspedes 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¿Cuál es la idea de utilizar modelos de Softwa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oder contestar las siguientes pregunta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debemos hacer a continuació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-¿Cuánto tiempo debemos continuar haciéndol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beneficios ofrec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oveen de guías a los ingenieros de software, acerca del orden en el cual deben ser llevadas a cabo las variadas actividades técnic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e5ff"/>
                </a:solidFill>
                <a:latin typeface="Garamond"/>
              </a:rPr>
              <a:t>Beneficiós de Modelos de Softw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n un marco o estructura para gerenciar, desarrollar y mantene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ermite la estimación de recursos, definición de  hitos intermedios y monitorización del progres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ticipan y controlan el proceso para alcanzar las cualidades deseadas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utomatizan el proceso con el uso de estándares, metodologías y herramient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acen la producción de software confiable, predecible y eficie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s una de las formas que existe para modelar  todo el proceso de creación de un softw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adapta según el tamaño y la complejidad de los proyec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a las pautas de cómo desarrollar iterativamente 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yuda a balancear los requerimientos del negocio, el tiempo de mercado y los riesgos d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opta un enfoque que se caracteriza por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acción con el usuario continua desde un inici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tigación de riesgos antes de que ocurr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iberaciones frecue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eguramiento de la cal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volucramiento del equipo en todas las decisiones del proyec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ticipación al cambio de requer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ceptos Clave del Proceso Unifica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ase e iteracio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Cuándo se hac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lujos de trabajo de procesos (actividades y paso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está haciend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rtefactos (modelos, reportes, documento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produj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abajador: un arquitec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ién lo hac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proceso unificado es soportado por herramientas que automatizan entre otras cosas, el modelado visual, la administración de cambios y las prueb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Utiliza un lenguaje propio llamado UML (Unified Modelling Langu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jemplos de Softw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tional de IB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crosoft Solutions Framework (MS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: Es la profesión de mantener y crear nuevas aplicaciones de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: Es la aplicación de la Ingeniería a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: Es la aplicación de un método sistemático, disciplinado y cuantificable al desarrollo, operación y mantenimiento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Cómo lo h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través de la integración de diversas tecnologías y metodologías com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Ciencias de la comput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temátic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nejo de Proyec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Ingenier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Ar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Por qué se utiliz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tiempos de desarrol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Costos de Manten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istemas grandes deben tener buen performance, independiente de las condi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álisis de requerimient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era etapa de la crea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idea es extraer los requerimientos de los clien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doja del clien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ente “cree” saber lo que quiere que haga el softw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 requiere habilidad y experiencia para reconocer e interpretar lo que “realmente quiere” el cli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pecific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la tarea de describir detalladamente el software a desarrollar, en una forma matemáticamente riguros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seño y arquitectu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termina como funcionará en forma general el softwa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gram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ducción del diseño al códig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apa obvia, pero no es necesariamente la más larg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ueba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 comprueba que el software realice correctamente las tareas indicadas en la especific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ocument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alización del manual de usu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ele llevar un manual técn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yuda a la mantención y ampliación del sistem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antenimiento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antener y mejora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rregir errores descubiertos en la march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 veces dura más que todo el desarrollo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rededor de 2/3 de toda la ingeniería de software tiene que ver con dar mantenimien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iclo de Vid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modelos estructurados del procesos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n el orden de las etapas que componen el desarrollo y la evolu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cep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elabora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construc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transició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4:11:50Z</dcterms:created>
  <dc:creator>Mr. JoTA</dc:creator>
  <dc:description/>
  <dc:language>en-US</dc:language>
  <cp:lastModifiedBy>Mr. JoTA</cp:lastModifiedBy>
  <dcterms:modified xsi:type="dcterms:W3CDTF">2005-12-07T18:25:05Z</dcterms:modified>
  <cp:revision>25</cp:revision>
  <dc:subject/>
  <dc:title>Ingeniería de Software</dc:title>
</cp:coreProperties>
</file>