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8B39D-2377-482B-BD50-D9A59496B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16437-C020-4C05-B5D9-5A629666A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6FBAC-2519-4086-A99E-098E84F6F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05761-D213-4F3B-9E52-68C32B5D8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2C177-FE78-467C-9705-1726128F4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54477-CAA5-40F0-BB9C-F3353EB14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52518-0B58-48B0-8E32-48EF96C20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2A8AF-9DBF-479B-B143-95FF75B27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90E24-0EA0-43F4-B6E5-4FA9B3B34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7153F-9618-4E3D-8CA9-3DD5F431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021E7-EDE5-43B7-8042-241529E0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314C4-9F98-486D-B4C2-B05888A8A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32AE2-4B02-4B86-89E8-1CB91FEB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37686-5F73-479E-99DC-A7F6F2D4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37B90-D6DE-4E4A-A12B-9A7EF0AFA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68707-3772-4783-9073-0791F1C0B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F5859-A3AB-4F26-8E03-CD949A9FC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A1E91-069A-4289-A3D5-A0B3C19D8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827CC-6F07-47AB-AF7D-DC7DB9D87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068B7-0AEF-42A1-9406-7028B3C3A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60DBA-DD98-45C7-A86C-BFA6B7E77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C26E3-C10F-446C-B659-B14199A7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D7CDA-CDBA-47C9-B233-618760FE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4C796-8CEB-4544-8EEE-14B1A39C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FF66F-0712-4E14-8D89-D3C5A4E3D3B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D1AF5-C706-4D6F-8273-35CC2074F3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e5e5ff"/>
                </a:solidFill>
                <a:latin typeface="Garamond"/>
              </a:rPr>
              <a:t>Ingeniería de Softwar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Javier Villanueva 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Cristián Céspedes V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Modelos de Softwa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¿Cuál es la idea de utilizar modelos de Softwar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Poder contestar las siguientes pregunta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62720" indent="-2124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¿Qué debemos hacer a continuación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62720" indent="-2124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-¿Cuánto tiempo debemos continuar haciéndolo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¿Qué beneficios ofrece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Proveen de guías a los ingenieros de software, acerca del orden en el cual deben ser llevadas a cabo las variadas actividades técnica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e5e5ff"/>
                </a:solidFill>
                <a:latin typeface="Garamond"/>
              </a:rPr>
              <a:t>Beneficiós de Modelos de Softwar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Dan un marco o estructura para gerenciar, desarrollar y mantener el softwa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Permite la estimación de recursos, definición de  hitos intermedios y monitorización del progres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Anticipan y controlan el proceso para alcanzar las cualidades deseadas del softwa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Automatizan el proceso con el uso de estándares, metodologías y herramienta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Hacen la producción de software confiable, predecible y eficient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Proceso Unificad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Es una de las formas que existe para modelar  todo el proceso de creación de un softwa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Se adapta según el tamaño y la complejidad de los proyect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Da las pautas de cómo desarrollar iterativamente el proyect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Ayuda a balancear los requerimientos del negocio, el tiempo de mercado y los riesgos del proyect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ceso Unificad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Adopta un enfoque que se caracteriza por 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nteracción con el usuario continua desde un inici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Mitigación de riesgos antes de que ocurra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Liberaciones frecuent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seguramiento de la calida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nvolucramiento del equipo en todas las decisiones del proyect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nticipación al cambio de requerimient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Proceso Unificad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Conceptos Clave del Proceso Unificado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Fase e iteracione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51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¿Cuándo se hace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Flujos de trabajo de procesos (actividades y paso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51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¿Qué se está haciendo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Artefactos (modelos, reportes, documentos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51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¿Qué se produjo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Trabajador: un arquitect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51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¿Quién lo hace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Proceso Unificad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l proceso unificado es soportado por herramientas que automatizan entre otras cosas, el modelado visual, la administración de cambios y las prueba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Utiliza un lenguaje propio llamado UML (Unified Modelling Languag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jemplos de Softwar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Rational de IB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Microsoft Solutions Framework (MSF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Ingeniería de Softwa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¿Qué e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1: Es la profesión de mantener y crear nuevas aplicaciones de softwa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2: Es la aplicación de la Ingeniería al Softwa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3: Es la aplicación de un método sistemático, disciplinado y cuantificable al desarrollo, operación y mantenimiento de softwa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Ingeniería de Softwa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¿Cómo lo hac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A través de la integración de diversas tecnologías y metodologías como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Garamond"/>
              </a:rPr>
              <a:t>Ciencias de la computació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Garamond"/>
              </a:rPr>
              <a:t>Matemática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Garamond"/>
              </a:rPr>
              <a:t>Manejo de Proyecto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Garamond"/>
              </a:rPr>
              <a:t>Ingenierí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Garamond"/>
              </a:rPr>
              <a:t>Art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Garamond"/>
              </a:rPr>
              <a:t>Etc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Ingeniería de Softwa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¿Por qué se utiliza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Reducción de tiempos de desarroll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Reducción de Costos de Mantenció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Sistemas grandes deben tener buen performance, independiente de las condicion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Metodología de la 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-4341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álisis de requerimiento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5960" indent="-361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imera etapa de la creación de un softwa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5960" indent="-361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 idea es extraer los requerimientos de los clien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5960" indent="-361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radoja del client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94480" indent="-3258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liente “cree” saber lo que quiere que haga el softwar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94480" indent="-3258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 requiere habilidad y experiencia para reconocer e interpretar lo que “realmente quiere” el client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Metodología de la 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specificacion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s la tarea de describir detalladamente el software a desarrollar, en una forma matemáticamente riguros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Diseño y arquitectur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Determina como funcionará en forma general el softwar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rogramación 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Reducción del diseño al códig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tapa obvia, pero no es necesariamente la más larg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Metodología de la 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rueba 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Se comprueba que el software realice correctamente las tareas indicadas en la especificació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Documentación 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Realización del manual de usuari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Suele llevar un manual técnic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yuda a la mantención y ampliación del sistema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Metodología de la 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Mantenimiento 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Mantener y mejorar el softwa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orregir errores descubiertos en la march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 veces dura más que todo el desarrollo del softwa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lrededor de 2/3 de toda la ingeniería de software tiene que ver con dar mantenimient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Modelos de Softwa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Ciclo de Vida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Son modelos estructurados del procesos de softwa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Determinan el orden de las etapas que componen el desarrollo y la evolución de un softwa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j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concepción </a:t>
            </a:r>
            <a:r>
              <a:rPr b="0" lang="es-E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elaboración </a:t>
            </a:r>
            <a:r>
              <a:rPr b="0" lang="es-E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construcción </a:t>
            </a:r>
            <a:r>
              <a:rPr b="0" lang="es-E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transició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7T04:11:50Z</dcterms:created>
  <dc:creator>Mr. JoTA</dc:creator>
  <dc:description/>
  <dc:language>en-US</dc:language>
  <cp:lastModifiedBy>Mr. JoTA</cp:lastModifiedBy>
  <dcterms:modified xsi:type="dcterms:W3CDTF">2005-12-07T18:25:05Z</dcterms:modified>
  <cp:revision>25</cp:revision>
  <dc:subject/>
  <dc:title>Ingeniería de Software</dc:title>
</cp:coreProperties>
</file>