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move the slide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67A6-E195-4947-98F5-73B2154E1E8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pienso montar un P1 233 con 128 en ram y 7 gb DD (slackw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como servidor para unas 35 pcs, y queria q me dieran 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opinion de q es mejor si montar el proxy (SQUID) o montar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nat y por q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se por que preguntas si puedes montar uno O el otro, ya que no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luy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 el PROXY puedes hacer caché, regular los dominios que se pueden 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 no y hasta regular el ancho de banda consumido por cada un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lientes del demon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NAT es un servicio para traducir las IPs a una red lo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egún lo que quieres hacer ajuro vas a usar NAT, y eventualmente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quieres, puedes implementar el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GRA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&gt;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celente opción al escojer Slackware Linux como tu distro para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ateway. Te cuento que yo en 2 maquinas con las mismas caracteristic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a tuya tengo montado un Gateway/Proxy. Te recomiendo que hagas 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gui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. Que tu maquina tenga 2 tarjetas de red, la eth0 sea la que viene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net y la eth1 la que se comunique con la red inter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. Bajar SQUID Proxy para Slackware de LinuxPackages.net y configurarlo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u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3. Para hacer el NAT necesitas iptables (el slack lo trae). Creas 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rchivo llamado rc.firewall en /etc/rc.d/, le das permiso de ejecu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(chmod +x /etc/rc.d/rc.firewall). (Te lo adjunto con el correo, mosca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 muy basico, solo enmasca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 Cierres los puertos y desactives lo daemon's que trae por defecto y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o vas a necesi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AT: Network Address Translation es aquel que te permite que maquinas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engan IP no certificadas puedan salir a internet transparentemente 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una Sola IP si Certific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XY: Te ayuda para cachear paginas y para denegar algunos sitios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in NAT tus maquinas no salen a Internet y sin Proxy (que no 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bligatorio tenerlo) te puede ayudar a acelerar la conexion, ya que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guarda las webs y archivos en el HD. En LinuxParatodos.Net hay un ejemp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como montar el SQUID Proxy de forma Transpar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ge de intrusiones.- Solamente entran a la red las personas autorizadas basadas en la política de la red en base a las configur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Optimización de acceso.- Identifica los elementos de la red internos y optimiza que la comunicación entre ellos sea más directa si así se desea. Esto ayuda a reconfigurar rápida y fácilmente los parámetros de seguri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de información privada.- Permite el acceso solamente a quien tenga privilegios a la información de cierta área o sector de la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Protección contra virus.- Evita que la red se vea infestada por nuevos virus que sean liber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D69B-4EE1-4F44-A82B-8E763FC6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C49-CF75-4E18-B0BF-9C51D922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F1C-00BA-48F9-87B7-983296D3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38CD-EA92-4268-B5B2-90C99362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ECCB-85C6-4450-87AE-71CDE8BC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4D98-1B85-4178-A2C5-B0C6EA5E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FA40-5E64-4C9F-B8C8-25E2F388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EFE1-EF46-4F26-BDA6-734A0557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519F-EC6F-467A-A01B-1DE95149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351E-F3A8-41BE-AA2D-43F1F903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3E61-F96C-4AC4-A747-BB9F29CF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099-D125-4ECA-9DA4-1E3F43A4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E8E4-2B64-4F1A-9992-D9706320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FDEC-A141-41BC-9761-BB5B6687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D57C-E7CD-433E-AD57-7376CFE8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CD96-C806-493F-A29E-9EC2BF25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7432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4546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FCBF-C75C-45C0-B171-F92B0DF1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EEA-46C6-48A2-A019-8D67E868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3E1-38F9-47A9-9918-E69CBFDC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AFD-0995-4CC1-94B4-D0131550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6520" y="121932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4F0-1F8F-43A7-B685-E5D90021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BAA7-00CB-429B-B147-7D01757E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546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1C4-C0A1-40F0-A33C-7D4A0300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7432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546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36F-EA29-4AD0-93E8-6548AA59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2" marL="102852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3" marL="144000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4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5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6" marL="1851480" indent="-20556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63A9-754B-4C7E-BB3B-34E36A40C144}" type="slidenum">
              <a:rPr b="0" lang="es-ES_tradnl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76720" y="624852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141C-E78B-4A0C-86DF-CCC65410048D}" type="slidenum">
              <a:rPr b="0" lang="de-DE" sz="1400" spc="-1" strike="noStrike">
                <a:solidFill>
                  <a:srgbClr val="fde2c4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e2c4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hyperlink" Target="http://www.facildehacer.com/domotica/domotica_casa_inteligente/?pagina=034_034" TargetMode="External"/><Relationship Id="rId4" Type="http://schemas.openxmlformats.org/officeDocument/2006/relationships/hyperlink" Target="http://www.physorg.com/news3505.html" TargetMode="External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s de comunicación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n teoría permite conectar a 3.403 x 10</a:t>
            </a:r>
            <a:r>
              <a:rPr b="0" lang="es-ES_tradnl" sz="2400" spc="-1" strike="noStrike" baseline="30000">
                <a:solidFill>
                  <a:srgbClr val="fde2c4"/>
                </a:solidFill>
                <a:latin typeface="Arial"/>
              </a:rPr>
              <a:t>38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computadores al mismo tiemp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i la Tierra estuviera hecha sólo de granos de arena, IPv6 permitiría darle a cada grano, en 300 millones de planetas del tamaño de la Tierra, una dirección única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0720" y="1219320"/>
            <a:ext cx="68389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 vs IPv4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IPv6 no ha logrado reemplazar a IPv4 porque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Requiere modificar las aplicacion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xy y NAT (Network Address Translation) permiten compartir una dirección IP entre varios equipos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Transmission Control Protocol 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o de los protocolos principales de la suite TCP/IP (es el más utilizado de Internet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mplementa la capa 4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ando TCP los programas pueden establecer conexiones entre distintos computadores y enviar datos a través de esta conexión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garantiza que los datos enviados serán recibidos en el mismo orden por el receptor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ra enviar la información TCP crea “paquetes”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635280" y="3573360"/>
            <a:ext cx="45370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TC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Sobre TCP se utilizan otros protocolos de transmisión, entre los cuales destacan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HTTP: Protocolo de transmisión de páginas web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FTP: Protocolo de transmisión de archiv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MTP: Protocolo para el envío de correo electr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SH: Protocolo para conectarse remotamente a un servidor UNIX/LINUX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MSN: Protocolo utilizado para enviar mensajes a amigo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ser Datagram Protoco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Junto con TCP, son los principales protocolos de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ravés del Protocolo UDP los programas pueden enviarse mensajes cortos, que se les denomina “datagramas”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TCP no garantiza el orden ni la consistencia de los datos (como lo hace TC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último es mucho más rápido y eficiente, pero poco confiable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Los datagramas son de la siguiente forma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43400" y="3429000"/>
            <a:ext cx="28573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UD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de2c4"/>
                </a:solidFill>
                <a:latin typeface="Arial"/>
              </a:rPr>
              <a:t>Algunos protocolos y aplicaciones que utilizan UDP son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DNS: Resuelve los dominios a direcciones 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VoIP: Voice Over IP (clase pasada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Streaming Media: cualquier aplicación que transmita video/audio por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Juegos Online: Quake2, Lineage, Unreal Tournament, etc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Dispositivos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Javier Villanueva - Cristián Céspede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6520" y="22860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¿Para qué? (BONUS)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914400" y="2819520"/>
            <a:ext cx="736596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60680" y="5029200"/>
            <a:ext cx="65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BMW Assist and Bluetooth® wireless communication for hands-free mobile phone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1560" y="5943600"/>
            <a:ext cx="86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www.facildehacer.com/domotica/domotica_casa_inteligente/?pagina=034_034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http://www.physorg.com/news3505.html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nterne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781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 una red de redes a escala mund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Interconecta millones de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Utiliza el protocolo IP (Internet Protocol) en conjunto con muchos otros más (TCP, UDP, HTTP, POP3, etc.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 todo el conjunto de protocolos usados por Internet se les denomina la Suite TCP/IP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sta suite implementa las capas sobre las cuales funciona Internet (clase pasad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4284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omputadores procesan señales digitales/líneas telefónicas son análoga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odulador emite señal analógica constante (portadora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ara transmitir datos digitales se modifica alguna característica de la señal portadora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Así se indica si se está transmitiendo 0/1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emodulador interpreta los cambios en la portadora para reconstruir el flujo de datos digital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Modem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. Transmisión a 9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32bis. Transmisión a 14.4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0. Transmisión a 56.6 kbp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V.92. Mejora sobre V.90 con compresión de datos y llamada en espera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4" marL="170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Módems DSL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utilizan espectro situado encima de la banda vocal (300 - 3400 Hz) del cable telefónico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ermiten alcanzar velocidades mucho mayores que un módem telefónico.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osibilidad de establecer comunicación telefónica por voz simultáneamente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Tarjeta de Red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la comunicación y el intercambio de información entre computadoras en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Velocidad transmisión 10/100/1000 Mbp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osee número de identificación único de 48 bits, en hexadecimal llamado MAC (Media Access Control address)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Hub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Dispositivo que permite centralizar el cableado de una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Opera en la capa 1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Repite cada paquete de datos en cada uno de los puert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Ancho de banda compartid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2c4"/>
                </a:solidFill>
                <a:latin typeface="Arial"/>
              </a:rPr>
              <a:t>Base de redes tipo estrell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15200" y="4724280"/>
            <a:ext cx="1152360" cy="1079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91520" y="4800600"/>
            <a:ext cx="10285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Switch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Un switch interconecta dos o más segmentos de red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Opera en la capa 2 OSI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minuye coli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etransmite solo al punto de destino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124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Router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Dispositivo hardware o software de interconexión de redes o computadores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Opera en la capa 3 OSI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e2c4"/>
                </a:solidFill>
                <a:latin typeface="Arial"/>
              </a:rPr>
              <a:t>Toma decisiones lógicas con respecto a la mejor ruta para el envío de datos en base a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dirección IP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tráfico de red en sus interfaces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de2c4"/>
                </a:solidFill>
                <a:latin typeface="Arial"/>
              </a:rPr>
              <a:t>Velocidad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960480"/>
            <a:ext cx="91440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Gatewa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ermite a máquinas de una red local (LAN) acceso a una red exterior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Generalmente realiza operaciones de traducción de direcciones IP (NAT: Network Address Translation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jemplo de puerta de enlace: 192.168.100.1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14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de2c4"/>
                </a:solidFill>
                <a:latin typeface="Arial"/>
              </a:rPr>
              <a:t>Proxy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grama o dispositivo que realiza una acción en representación de otr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uando un equipo de la red desea acceder a una información o recurso, es el proxy quien realiza la comunicación y a continuación traslada el resultado al equipo inicial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que no es posible la comunicación directa o  porque añade funcionalidad adicional (ej. cache)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Firewall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Elemento de hardware o software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ge de intrusione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de información privada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rotección contra virus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eMilitarized Zone: permite que servidores interiores provean servicios al exterior, mientras protege la red interior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4762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Estándar que define el modo en que los sistemas intercambian información en Internet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rovee Mecanismos para fragmentar y llevar la información desde un equipo a otro a través de la red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Equivale a la capa 3 del modelo OSI/ISO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Cada mensaje a enviar es dividido en “paquetes”, el cual contiene además la dirección de origen y destino (direcciones IP)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Access Point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Dispositivo transmisor/receptor en una WLAN (Wireless Local Area Network)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Se conecta a la red alambrada desde un punto fijo utilizando un cable Ethernet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Hasta 30 usuarios simultáne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Rango de 30 a 100 metros.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Protocolo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de2c4"/>
                </a:solidFill>
                <a:latin typeface="Arial"/>
              </a:rPr>
              <a:t>Paquete IP:</a:t>
            </a: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348000" y="2924280"/>
            <a:ext cx="5040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Identifica a un computador en forma única dentro de una Red (LAN, Internet, etc.)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Se compone de 4 bloques que van entre 0 y 255 separados por puntos. Ej.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64.233.187.99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recordarlas se usan los llamados “dominios”. 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j.: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A través de DNS (Domain Name System) los dominios se transforman en direcciones IP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www.google.cl = 64.233.187.99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Direcciones IP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Hay rangos que no pueden usarse en Internet (son para uso privado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0.0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0.255.255.255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72.16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72.31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192.168.0.0 </a:t>
            </a:r>
            <a:r>
              <a:rPr b="0" lang="es-ES_tradnl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 192.168.255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Otros rangos están reservados (son experimentales)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4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IANA (Internet Assigned Number Authority) es una empresa que reparte las direcciones IP de Internet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Existen 3 clases de direcciones IP que se pueden otorgar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A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27.0.0.0 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 sóla red, 1.6 millones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sólo a los gobiernos de todo el mundo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de2c4"/>
                </a:solidFill>
                <a:latin typeface="Arial"/>
              </a:rPr>
              <a:t>Clase B:</a:t>
            </a:r>
            <a:endParaRPr b="0" lang="en-US" sz="18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desde 128.0.0.0 </a:t>
            </a:r>
            <a:r>
              <a:rPr b="0" lang="es-ES" sz="16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 191.255.0.0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de2c4"/>
                </a:solidFill>
                <a:latin typeface="Arial"/>
              </a:rPr>
              <a:t>16.320 redes, 65.024 hosts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de2c4"/>
                </a:solidFill>
                <a:latin typeface="Arial"/>
              </a:rPr>
              <a:t>Se les otorga a las medianas empresas.</a:t>
            </a: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Clases de Redes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C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192.0.0.0 -&gt; 223.255.255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 millones de redes, 254 host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Para el resto de los solicitantes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de2c4"/>
                </a:solidFill>
                <a:latin typeface="Arial"/>
              </a:rPr>
              <a:t>Clase D, E y F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24.0.0.0 </a:t>
            </a:r>
            <a:r>
              <a:rPr b="0" lang="es-ES" sz="2000" spc="-1" strike="noStrike">
                <a:solidFill>
                  <a:srgbClr val="fde2c4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 254.0.0.0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Sólo para uso experimental.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66520" y="1219320"/>
            <a:ext cx="579132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de2c4"/>
                </a:solidFill>
                <a:latin typeface="Arial"/>
              </a:rPr>
              <a:t>IPv6</a:t>
            </a:r>
            <a:endParaRPr b="0" i="1" lang="en-US" sz="4000" spc="-1" strike="noStrike">
              <a:solidFill>
                <a:srgbClr val="fde2c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276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Dado el gran crecimiento de Internet, se están acabando las direcciones IP.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Por esto se creó una segunda versión de IP, llamada IPv6:</a:t>
            </a:r>
            <a:endParaRPr b="0" lang="en-US" sz="2400" spc="-1" strike="noStrike">
              <a:solidFill>
                <a:srgbClr val="fde2c4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e2c4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Las direcciones se escriben como 6 bloques de 4 dígitos hexadecimales que van desde 0000 hasta FFFF. Ej: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de2c4"/>
                </a:solidFill>
                <a:latin typeface="Arial"/>
              </a:rPr>
              <a:t>2001:0123:0004:00ab:0cde:3403:0001:0063 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de2c4"/>
                </a:solidFill>
                <a:latin typeface="Arial"/>
              </a:rPr>
              <a:t>2001:123:4:ab:cde:3403:1:63</a:t>
            </a: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de2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03:25:31Z</dcterms:created>
  <dc:creator>ccv</dc:creator>
  <dc:description/>
  <dc:language>en-US</dc:language>
  <cp:lastModifiedBy>Mr. JoTA</cp:lastModifiedBy>
  <dcterms:modified xsi:type="dcterms:W3CDTF">2005-09-28T04:10:29Z</dcterms:modified>
  <cp:revision>9</cp:revision>
  <dc:subject/>
  <dc:title>Protocolos</dc:title>
</cp:coreProperties>
</file>