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9725-070E-4E9D-8654-47569EA0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0BCE-3F47-429C-8DEF-069299CA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6558-1CE7-4D09-B0AB-CC995A2E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9346-B03E-4EF3-A93E-9FA324D7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1152-DB20-469D-8BB5-BA4A2C59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2103-CF47-4753-856B-C17DA390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1BE5-B7D5-4C55-8339-EA359095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5F9C-DB12-4135-A010-4B73B64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8563-22F3-492A-8A71-1518A485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E82E-17E5-400E-9973-BE822970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3637-A725-4B59-AB14-B3684BD8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C339-75D4-46EB-895A-AB6C36AF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933F-1E18-4AFD-81E8-65553A1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2DB7-AE0D-406A-B0C6-3CFEBFE7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975B-8EB5-46AA-9780-6B9EE02E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AE2F-47D3-42CB-860D-DE9C4AA3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ED74-E935-4D1E-9C81-B8B7AA9B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0B3A-00CD-4645-9D47-45B4DE91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14CE-0153-4BAD-B61A-262EC37E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5F9D-EEBC-4FEF-8A6C-230CA0A8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5B1A-16CB-4594-9C94-E15BE2EB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7DC8-B041-470C-BDA0-A1862CA3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A3E0-8566-4C69-BC15-603F0A80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A6D6-A38E-4DAB-A9D4-AC3C2DE2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2FC9-B374-410F-BE1E-FEC627FF7A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444E-D41D-4005-B9E9-14C8EEF851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Javier Villanueva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stián Céspedes 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¿Cuál es la idea de utilizar modelos de Softwar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Poder contestar las siguientes pregunt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debemos hacer a continuació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-2124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-¿Cuánto tiempo debemos continuar haciéndol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beneficios ofrec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roveen de guías a los ingenieros de software, acerca del orden en el cual deben ser llevadas a cabo las variadas actividades técn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e5ff"/>
                </a:solidFill>
                <a:latin typeface="Garamond"/>
              </a:rPr>
              <a:t>Beneficiós de Modelos de Softwa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an un marco o estructura para gerenciar, desarrollar y mantene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Permite la estimación de recursos, definición de  hitos intermedios y monitorización del progres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nticipan y controlan el proceso para alcanzar las cualidades deseadas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utomatizan el proceso con el uso de estándares, metodologías y herramient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acen la producción de software confiable, predecible y eficie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a de las formas que existe para modelar  todo el proceso de creación de un softw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adapta según el tamaño y la complejidad de los proyect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a las pautas de cómo desarrollar iterativamente 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yuda a balancear los requerimientos del negocio, el tiempo de mercado y los riesgos del proyec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opta un enfoque que se caracteriza por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racción con el usuario continua desde un inici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tigación de riesgos antes de que ocurra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iberaciones frecue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seguramiento de la cal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volucramiento del equipo en todas las decisiones del proyec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ticipación al cambio de requerimient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ceptos Clave del Proceso Unificad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ase e iteracion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Cuándo se hac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ujos de trabajo de procesos (actividades y paso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está haciend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rtefactos (modelos, reportes, documento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é se produjo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Trabajador: un arquitec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¿Quién lo hace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roceso Unific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l proceso unificado es soportado por herramientas que automatizan entre otras cosas, el modelado visual, la administración de cambios y las prueb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Utiliza un lenguaje propio llamado UML (Unified Modelling Langu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jemplos de Softw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tional de IB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icrosoft Solutions Framework (MSF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1: Es la profesión de mantener y crear nuevas aplicaciones de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2: Es la aplicación de la Ingeniería a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3: Es la aplicación de un método sistemático, disciplinado y cuantificable al desarrollo, operación y mantenimiento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Cómo lo h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A través de la integración de diversas tecnologías y metodologías com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Ciencias de la comput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temát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Manejo de Proyec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Ingenie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Ar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Ingeniería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¿Por qué se utiliz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tiempos de desarrol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educción de Costos de Mante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istemas grandes deben tener buen performance, independiente de las condicio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álisis de requerimien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mera etapa de la crea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idea es extraer los requerimientos de los clien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5960" indent="-361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adoja del clien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ente “cree” saber lo que quiere que haga el softw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94480" indent="-3258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 requiere habilidad y experiencia para reconocer e interpretar lo que “realmente quiere” el cli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pecific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la tarea de describir detalladamente el software a desarrollar, en una forma matemáticamente riguros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eño y arquitectur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termina como funcionará en forma general el softw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gram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ducción del diseño al códig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tapa obvia, pero no es necesariamente la más larg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ueba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comprueba que el software realice correctamente las tareas indicadas en la especific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cumentación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ealización del manual de usua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ele llevar un manual técnic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yuda a la mantención y ampliación del sistem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etodología de la 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ntenimiento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antener y mejorar 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rregir errores descubiertos en la march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 veces dura más que todo el desarrollo del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rededor de 2/3 de toda la ingeniería de software tiene que ver con dar mantenimient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Modelos de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iclo de Vid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on modelos estructurados del procesos de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Determinan el orden de las etapas que componen el desarrollo y la evolución de un softw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j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cep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elabora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construcción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transició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4:11:50Z</dcterms:created>
  <dc:creator>Mr. JoTA</dc:creator>
  <dc:description/>
  <dc:language>en-US</dc:language>
  <cp:lastModifiedBy>Mr. JoTA</cp:lastModifiedBy>
  <dcterms:modified xsi:type="dcterms:W3CDTF">2005-12-07T18:25:05Z</dcterms:modified>
  <cp:revision>25</cp:revision>
  <dc:subject/>
  <dc:title>Ingeniería de Software</dc:title>
</cp:coreProperties>
</file>