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02BEF-1E94-4D9F-889B-F38BBF38F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8679F-3893-441D-BD04-191D3132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C0CAF-C4A3-495E-9438-FF8DEF680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89E58-DD2C-418C-9BF3-749E3CDCC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8916-2742-4246-AAB0-50179ABD2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15BE-FBDC-4A8A-91D5-F9287966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4D8B-21C2-46A9-9F2D-E84C2EBE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F19F-0379-459A-B738-CC17961F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8106-1320-42AF-8FFA-5CCB7CCA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7BE2-BFF7-4C38-915C-C1C22607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3B9C-A927-4523-855A-FC05797B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DF508-32D1-41EC-8077-E11EC805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D813-24D7-4C5F-AAEA-98A8D798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CAF1-3969-4BD1-8902-567704E9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E025-D49B-4965-AEA0-BC3951C5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19CF-138F-43C4-8DA6-D12E6647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DFE4-1E13-4E73-AD07-3A1E3828C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11B4F-C18B-4BD9-9FF4-CAB90066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CDE4F-63F5-47D6-879E-CDF5D415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BBBE4-8C72-4533-A47C-1950E598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E9360-6912-4E2E-9E1A-03294E07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78CBD-5D16-438B-BA2C-480C6C7B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FD065-FDD6-4371-962A-331E2260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331E0-82AF-4020-815A-92169917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798A-2FB4-4D0E-91D0-281AD28441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0733-B972-4764-9A5D-77E22FE5E6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e5e5ff"/>
                </a:solidFill>
                <a:latin typeface="Garamond"/>
              </a:rPr>
              <a:t>Ingeniería de Softwar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Javier Villanueva 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Cristián Céspedes V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Modelos de Softw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¿Cuál es la idea de utilizar modelos de Softwar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Poder contestar las siguientes pregunta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62720" indent="-212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¿Qué debemos hacer a continuación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62720" indent="-212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-¿Cuánto tiempo debemos continuar haciéndolo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¿Qué beneficios ofrece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roveen de guías a los ingenieros de software, acerca del orden en el cual deben ser llevadas a cabo las variadas actividades técnic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e5e5ff"/>
                </a:solidFill>
                <a:latin typeface="Garamond"/>
              </a:rPr>
              <a:t>Beneficiós de Modelos de Softwar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an un marco o estructura para gerenciar, desarrollar y mantener el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ermite la estimación de recursos, definición de  hitos intermedios y monitorización del progres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nticipan y controlan el proceso para alcanzar las cualidades deseadas del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utomatizan el proceso con el uso de estándares, metodologías y herramient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Hacen la producción de software confiable, predecible y eficient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Proceso Unifica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Es una de las formas que existe para modelar  todo el proceso de creación de un softwa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 adapta según el tamaño y la complejidad de los proyect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Da las pautas de cómo desarrollar iterativamente el proyec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yuda a balancear los requerimientos del negocio, el tiempo de mercado y los riesgos del proyec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ceso Unifica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dopta un enfoque que se caracteriza por 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nteracción con el usuario continua desde un inici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Mitigación de riesgos antes de que ocurra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iberaciones frecuent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seguramiento de la calida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nvolucramiento del equipo en todas las decisiones del proyect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nticipación al cambio de requerimient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Proceso Unifica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Conceptos Clave del Proceso Unificad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ase e iteracion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¿Cuándo se hace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lujos de trabajo de procesos (actividades y paso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¿Qué se está haciendo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Artefactos (modelos, reportes, documentos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¿Qué se produjo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Trabajador: un arquitec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¿Quién lo hace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Proceso Unifica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l proceso unificado es soportado por herramientas que automatizan entre otras cosas, el modelado visual, la administración de cambios y las prueb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Utiliza un lenguaje propio llamado UML (Unified Modelling Languag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jemplos de Softwar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ational de IB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Microsoft Solutions Framework (MSF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Ingeniería de Softw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¿Qué 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1: Es la profesión de mantener y crear nuevas aplicaciones de softwa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2: Es la aplicación de la Ingeniería al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3: Es la aplicación de un método sistemático, disciplinado y cuantificable al desarrollo, operación y mantenimiento de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Ingeniería de Softw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¿Cómo lo ha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 través de la integración de diversas tecnologías y metodologías como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Ciencias de la computació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Matemátic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Manejo de Proyecto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Ingenierí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Ar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Ingeniería de Softw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¿Por qué se utiliza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educción de tiempos de desarroll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educción de Costos de Mantenció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Sistemas grandes deben tener buen performance, independiente de las condicion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Metodología de la 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álisis de requerimiento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5960" indent="-361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imera etapa de la creación de un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5960" indent="-361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 idea es extraer los requerimientos de los clien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5960" indent="-361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radoja del client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94480" indent="-3258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liente “cree” saber lo que quiere que haga el softwar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94480" indent="-3258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 requiere habilidad y experiencia para reconocer e interpretar lo que “realmente quiere” el clien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Metodología de la 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specificacion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 la tarea de describir detalladamente el software a desarrollar, en una forma matemáticamente riguros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iseño y arquitectur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etermina como funcionará en forma general el softwar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ogramación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educción del diseño al códig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tapa obvia, pero no es necesariamente la más larg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Metodología de la 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ueba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Se comprueba que el software realice correctamente las tareas indicadas en la especificació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ocumentación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ealización del manual de usuar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Suele llevar un manual técnic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yuda a la mantención y ampliación del sistema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Metodología de la 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antenimiento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Mantener y mejorar el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rregir errores descubiertos en la march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 veces dura más que todo el desarrollo del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lrededor de 2/3 de toda la ingeniería de software tiene que ver con dar mantenimient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Modelos de Softw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Ciclo de Vid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on modelos estructurados del procesos de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eterminan el orden de las etapas que componen el desarrollo y la evolución de un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j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concepción </a:t>
            </a:r>
            <a:r>
              <a:rPr b="0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elaboración </a:t>
            </a:r>
            <a:r>
              <a:rPr b="0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construcción </a:t>
            </a:r>
            <a:r>
              <a:rPr b="0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transició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04:11:50Z</dcterms:created>
  <dc:creator>Mr. JoTA</dc:creator>
  <dc:description/>
  <dc:language>en-US</dc:language>
  <cp:lastModifiedBy>Mr. JoTA</cp:lastModifiedBy>
  <dcterms:modified xsi:type="dcterms:W3CDTF">2005-12-07T18:25:05Z</dcterms:modified>
  <cp:revision>25</cp:revision>
  <dc:subject/>
  <dc:title>Ingeniería de Software</dc:title>
</cp:coreProperties>
</file>