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1CC4-006B-4D1D-B9B2-72AA5DA133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pienso montar un P1 233 con 128 en ram y 7 gb DD (slack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como servidor para unas 35 pcs, y queria q me dieran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opinion de q es mejor si montar el proxy (SQUID) o mon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nat y por q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por que preguntas si puedes montar uno O el otro, ya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y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el PROXY puedes hacer caché, regular los dominios que se pueden 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no y hasta regular el ancho de banda consumido por cada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ientes del demon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NAT es un servicio para traducir las IPs a una red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ún lo que quieres hacer ajuro vas a usar NAT, y eventualmente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eres, puedes implementar el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GR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elente opción al escojer Slackware Linux como tu distro para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teway. Te cuento que yo en 2 maquinas con las mismas caracteristic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tuya tengo montado un Gateway/Proxy. Te recomiendo que haga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gui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 Que tu maquina tenga 2 tarjetas de red, la eth0 sea la que vien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t y la eth1 la que se comunique con la red in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. Bajar SQUID Proxy para Slackware de LinuxPackages.net y configurarl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. Para hacer el NAT necesitas iptables (el slack lo trae). Creas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 llamado rc.firewall en /etc/rc.d/, le das permiso de 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hmod +x /etc/rc.d/rc.firewall). (Te lo adjunto con el correo, mosc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basico, solo en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 Cierres los puertos y desactives lo daemon's que trae por defecto 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vas a necesi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: Network Address Translation es aquel que te permite que maquin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gan IP no certificadas puedan salir a internet transparentement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Sola IP si Certifi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XY: Te ayuda para cachear paginas y para denegar algunos siti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NAT tus maquinas no salen a Internet y sin Proxy (que n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ligatorio tenerlo) te puede ayudar a acelerar la conexion, ya qu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a las webs y archivos en el HD. En LinuxParatodos.Net hay un 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mo montar el SQUID Proxy de forma Transpa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ge de intrusiones.- Solamente entran a la red las personas autorizadas basadas en la política de la red en base a las configur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Optimización de acceso.- Identifica los elementos de la red internos y optimiza que la comunicación entre ellos sea más directa si así se desea. Esto ayuda a reconfigurar rápida y fácilmente los parámetros de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de información privada.- Permite el acceso solamente a quien tenga privilegios a la información de cierta área o sector de la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contra virus.- Evita que la red se vea infestada por nuevos virus que sean libe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76C-7821-476C-ADA4-24EA3E8A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C64-EACF-4C53-98C7-B43A8FF3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1E1-675F-409F-9707-39996DC7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E8A-7E6E-4494-9A68-60F3F2A4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4802-899F-4B3F-B02B-9F694F24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7E4C-B7C3-476B-87D2-A7FF3274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05B7-7E1D-4982-B2BC-B2168716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F151-FC3E-4504-A390-F47E9075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9CE1-8F7B-4098-BBB5-A0C4F2E5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9B37-825A-48A8-8F21-86E14B55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C702-9648-426A-807E-35DE3DD9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6F9-DF27-46E3-8BEE-97C08B37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AA78-413A-4CC9-850D-287B5D06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28EB-CA9F-4C87-AD99-F6B80D10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9D4F-9649-4F41-AB01-0871985A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44F7-BB4D-4B6B-B422-4EDC8D88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C7F7-207B-4974-8E31-73C4D6EC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230-E37E-4C9A-AE89-47FF851E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24B-ED26-488A-B660-CCF0C12F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C08-9A5E-40D0-8A27-AB8F0CDB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6F8-593F-4EEC-A143-1DA0EDBF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957-6774-4B4D-B776-CBD5433E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44E-6223-4367-9629-E30B0778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8B3-D86B-45A3-BF9C-B52194C8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C91D-7465-46BC-A1A1-02233207D7F1}" type="slidenum"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A5A7-F55C-49EE-81CF-46D196DD540A}" type="slidenum"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facildehacer.com/domotica/domotica_casa_inteligente/?pagina=034_034" TargetMode="External"/><Relationship Id="rId4" Type="http://schemas.openxmlformats.org/officeDocument/2006/relationships/hyperlink" Target="http://www.physorg.com/news3505.html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s de comunicación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n teoría permite conectar a 3.403 x 10</a:t>
            </a:r>
            <a:r>
              <a:rPr b="0" lang="es-ES_tradnl" sz="2400" spc="-1" strike="noStrike" baseline="30000">
                <a:solidFill>
                  <a:srgbClr val="fde2c4"/>
                </a:solidFill>
                <a:latin typeface="Arial"/>
              </a:rPr>
              <a:t>38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computadores al mismo tiemp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i la Tierra estuviera hecha sólo de granos de arena, IPv6 permitiría darle a cada grano, en 300 millones de planetas del tamaño de la Tierra, una dirección única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219320"/>
            <a:ext cx="68389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 vs IPv4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IPv6 no ha logrado reemplazar a IPv4 porque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Requiere modificar las aplicacion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xy y NAT (Network Address Translation) permiten compartir una dirección IP entre varios equipos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Transmission Control Protocol 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o de los protocolos principales de la suite TCP/IP (es el más utilizado de Internet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mplementa la capa 4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ando TCP los programas pueden establecer conexiones entre distintos computadores y enviar datos a través de esta conexión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garantiza que los datos enviados serán recibidos en el mismo orden por el receptor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ra enviar la información TCP crea “paquetes”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4537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obre TCP se utilizan otros protocolos de transmisión, entre los cuales destacan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HTTP: Protocolo de transmisión de páginas web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FTP: Protocolo de transmisión de archiv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MTP: Protocolo para el envío de correo electr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SH: Protocolo para conectarse remotamente a un servidor UNIX/LINUX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MSN: Protocolo utilizado para enviar mensajes a amig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er Datagram Protoco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Junto con TCP, son los principales protocolos de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ravés del Protocolo UDP los programas pueden enviarse mensajes cortos, que se les denomina “datagramas”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no garantiza el orden ni la consistencia de los datos (como lo hace TC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último es mucho más rápido y eficiente, pero poco confiable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Los datagramas son de la siguiente forma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43400" y="342900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de2c4"/>
                </a:solidFill>
                <a:latin typeface="Arial"/>
              </a:rPr>
              <a:t>Algunos protocolos y aplicaciones que utilizan UDP son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DNS: Resuelve los dominios a direcciones 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VoIP: Voice Over IP (clase pasada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Streaming Media: cualquier aplicación que transmita video/audio por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Juegos Online: Quake2, Lineage, Unreal Tournament, etc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Dispositivos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¿Para qué? (BONUS)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6596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60680" y="502920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BMW Assist and Bluetooth® wireless communication for hands-free mobile phone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560" y="5943600"/>
            <a:ext cx="86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www.facildehacer.com/domotica/domotica_casa_inteligente/?pagina=034_034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physorg.com/news3505.htm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nterne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7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a red de redes a escala mund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nterconecta millones de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tiliza el protocolo IP (Internet Protocol) en conjunto con muchos otros más (TCP, UDP, HTTP, POP3, etc.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odo el conjunto de protocolos usados por Internet se les denomina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ta suite implementa las capas sobre las cuales funciona Internet (clase pasad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284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omputadores procesan señales digitales/líneas telefónicas son análoga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odulador emite señal analógica constante (portador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ara transmitir datos digitales se modifica alguna característica de la señal portadora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sí se indica si se está transmitiendo 0/1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emodulador interpreta los cambios en la portadora para reconstruir el flujo de datos digital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. Transmisión a 9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bis. Transmisión a 14.4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0. Transmisión a 56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2. Mejora sobre V.90 con compresión de datos y llamada en espera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4" marL="170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ódems DS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utilizan espectro situado encima de la banda vocal (300 - 3400 Hz) del cable telef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ermiten alcanzar velocidades mucho mayores que un módem telefónico.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osibilidad de establecer comunicación telefónica por voz simultáneamente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Tarjeta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la comunicación y el intercambio de información entre computadoras en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Velocidad transmisión 10/100/1000 Mbp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osee número de identificación único de 48 bits, en hexadecimal llamado MAC (Media Access Control address)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ub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Dispositivo que permite centralizar el cableado de una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Opera en la capa 1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epite cada paquete de datos en cada uno de los puert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Ancho de banda compartid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Base de redes tipo estrell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4724280"/>
            <a:ext cx="1152360" cy="1079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Switch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Un switch interconecta dos o más segmentos de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Opera en la capa 2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minuye coli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etransmite solo al punto de destin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Router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Dispositivo hardware o software de interconexión de redes o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Opera en la capa 3 OSI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Toma decisiones lógicas con respecto a la mejor ruta para el envío de datos en base a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dirección IP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ráfico de red en sus interfaces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Velocidad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96048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Gatewa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a máquinas de una red local (LAN) acceso a una red exterior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Generalmente realiza operaciones de traducción de direcciones IP (NAT: Network Address Translation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jemplo de puerta de enlace: 192.168.100.1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Prox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grama o dispositivo que realiza una acción en representación de otr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uando un equipo de la red desea acceder a una información o recurso, es el proxy quien realiza la comunicación y a continuación traslada el resultado al equipo inic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que no es posible la comunicación directa o  porque añade funcionalidad adicional (ej. cache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Firewall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lemento de hardware o software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ge de intru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de información privad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contra viru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eMilitarized Zone: permite que servidores interiores provean servicios al exterior, mientras protege la red interior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762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Estándar que define el modo en que los sistemas intercambian información en Internet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vee Mecanismos para fragmentar y llevar la información desde un equipo a otro a través de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quivale a la capa 3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ada mensaje a enviar es dividido en “paquetes”, el cual contiene además la dirección de origen y destino (direcciones I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cess Poin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positivo transmisor/receptor en una WLAN (Wireless Local Area Network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Se conecta a la red alambrada desde un punto fijo utilizando un cable Ethernet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Hasta 30 usuarios simultáne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ango de 30 a 100 metr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quete IP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040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Identifica a un computador en forma única dentro de una Red (LAN, Internet, etc.)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e compone de 4 bloques que van entre 0 y 255 separados por puntos. Ej.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64.233.187.99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recordarlas se usan los llamados “dominios”. 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j.: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A través de DNS (Domain Name System) los dominios se transforman en direcciones IP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 = 64.233.187.99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Hay rangos que no pueden usarse en Internet (son para uso privado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0.0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0.255.255.255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72.16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72.31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92.168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92.168.255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Otros rangos están reservados (son experimentales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IANA (Internet Assigned Number Authority) es una empresa que reparte las direcciones IP de Internet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xisten 3 clases de direcciones IP que se pueden otorgar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A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27.0.0.0 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 sóla red, 1.6 millones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sólo a los gobiernos de todo el mundo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B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28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91.255.0.0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6.320 redes, 65.024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a las medianas empresas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C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192.0.0.0 -&gt; 223.255.255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 millones de redes, 254 host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el resto de los solicitante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D, E y F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0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Sólo para uso experimental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ado el gran crecimiento de Internet, se están acabando las direcciones IP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se creó una segunda versión de IP, llamada IPv6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Las direcciones se escriben como 6 bloques de 4 dígitos hexadecimales que van desde 0000 hasta FFFF. Ej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001:0123:0004:00ab:0cde:3403:0001:0063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2001:123:4:ab:cde:3403:1:63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25:31Z</dcterms:created>
  <dc:creator>ccv</dc:creator>
  <dc:description/>
  <dc:language>en-US</dc:language>
  <cp:lastModifiedBy>Mr. JoTA</cp:lastModifiedBy>
  <dcterms:modified xsi:type="dcterms:W3CDTF">2005-09-28T04:10:29Z</dcterms:modified>
  <cp:revision>9</cp:revision>
  <dc:subject/>
  <dc:title>Protocolos</dc:title>
</cp:coreProperties>
</file>