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8.xml" ContentType="application/vnd.openxmlformats-officedocument.presentationml.notesSlide+xml"/>
  <Override PartName="/ppt/notesSlides/_rels/notesSlide29.xml.rels" ContentType="application/vnd.openxmlformats-package.relationships+xml"/>
  <Override PartName="/ppt/notesSlides/_rels/notesSlide28.xml.rels" ContentType="application/vnd.openxmlformats-package.relationships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10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de2c4"/>
                </a:solidFill>
                <a:latin typeface="Arial"/>
              </a:rPr>
              <a:t>Click to move the slide</a:t>
            </a: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96D0B-CC99-4F5B-9B26-ADA3E710749F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gt;         pienso montar un P1 233 con 128 en ram y 7 gb DD (slackwa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gt;         como servidor para unas 35 pcs, y queria q me dieran s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gt;         opinion de q es mejor si montar el proxy (SQUID) o montar 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gt;         nat y por q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No se por que preguntas si puedes montar uno O el otro, ya que no 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excluyent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Con el PROXY puedes hacer caché, regular los dominios que se pueden 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o no y hasta regular el ancho de banda consumido por cada uno de l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clientes del demoni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El NAT es un servicio para traducir las IPs a una red loc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Según lo que quieres hacer ajuro vas a usar NAT, y eventualmente, s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quieres, puedes implementar el PROX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gt;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gt;         GRACI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gt;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Excelente opción al escojer Slackware Linux como tu distro para 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Gateway. Te cuento que yo en 2 maquinas con las mismas caracteristicas q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la tuya tengo montado un Gateway/Proxy. Te recomiendo que hagas 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siguient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1. Que tu maquina tenga 2 tarjetas de red, la eth0 sea la que viene de 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Inet y la eth1 la que se comunique con la red intern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. Bajar SQUID Proxy para Slackware de LinuxPackages.net y configurarlo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tu medi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3. Para hacer el NAT necesitas iptables (el slack lo trae). Creas 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archivo llamado rc.firewall en /etc/rc.d/, le das permiso de ejecu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(chmod +x /etc/rc.d/rc.firewall). (Te lo adjunto con el correo, mosca q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es muy basico, solo enmascar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4. Cierres los puertos y desactives lo daemon's que trae por defecto y q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no vas a necesit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NAT: Network Address Translation es aquel que te permite que maquinas q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tengan IP no certificadas puedan salir a internet transparentemente p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una Sola IP si Certificad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PROXY: Te ayuda para cachear paginas y para denegar algunos sitios web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Sin NAT tus maquinas no salen a Internet y sin Proxy (que no 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obligatorio tenerlo) te puede ayudar a acelerar la conexion, ya que 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guarda las webs y archivos en el HD. En LinuxParatodos.Net hay un ejemp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de como montar el SQUID Proxy de forma Transparen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* Protege de intrusiones.- Solamente entran a la red las personas autorizadas basadas en la política de la red en base a las configuracio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* Optimización de acceso.- Identifica los elementos de la red internos y optimiza que la comunicación entre ellos sea más directa si así se desea. Esto ayuda a reconfigurar rápida y fácilmente los parámetros de segurida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* Protección de información privada.- Permite el acceso solamente a quien tenga privilegios a la información de cierta área o sector de la r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* Protección contra virus.- Evita que la red se vea infestada por nuevos virus que sean liberado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E458B-BD41-4EFD-92B6-F3EB856BD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454640"/>
            <a:ext cx="77724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0F0A3-FF5D-41CF-AB18-15243FFCA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274320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45464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45464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B7D19-AF03-4253-A86A-084510226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25023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2743200"/>
            <a:ext cx="25023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2743200"/>
            <a:ext cx="25023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454640"/>
            <a:ext cx="25023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454640"/>
            <a:ext cx="25023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454640"/>
            <a:ext cx="25023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957C0-7C8A-4BB2-A03C-BCAAC7529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4EFE4-3249-45FD-B332-09E5C4719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27432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BAF59-A045-4411-BAA5-16BF58E66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13349-AFCB-4663-B03B-829D165F5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37926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2743200"/>
            <a:ext cx="37926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3FDDD-CA64-43DD-AFD4-5FD3F5EB7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FC2CC-7B72-4E73-9553-68D83F107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666520" y="1219320"/>
            <a:ext cx="57913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C4EC6-2873-46E7-BF7A-59267920E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2743200"/>
            <a:ext cx="37926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45464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0DC16-625C-4331-A4BA-3E6D60114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27432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678C4-4754-4A3D-AD5C-0871A057F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37926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274320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45464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FD5E8-B0EA-49AC-8485-0E4BD523E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274320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454640"/>
            <a:ext cx="77724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36449-9402-43C0-8C56-386AB8D86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454640"/>
            <a:ext cx="77724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2B7ED-7920-47A3-9E1E-4ECD7AE84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274320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45464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45464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2BC26-CB68-4294-B60B-4E922345A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25023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2743200"/>
            <a:ext cx="25023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2743200"/>
            <a:ext cx="25023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454640"/>
            <a:ext cx="25023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454640"/>
            <a:ext cx="25023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454640"/>
            <a:ext cx="25023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21EDA-F487-47B8-B4D6-B9DC63A04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C0840-5DC6-43C2-AE3E-FEF1AB38A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37926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2743200"/>
            <a:ext cx="37926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E64FA-A0D1-4216-A629-BF9C95137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B9DC4-E23B-4571-A8A4-3D6988702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666520" y="1219320"/>
            <a:ext cx="57913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83164-B95E-431D-9D50-372A50B14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743200"/>
            <a:ext cx="37926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45464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FA599-304B-4164-A853-00285A250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37926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274320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45464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74E1B-DC0E-41F9-B246-496B6B1BD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274320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454640"/>
            <a:ext cx="77724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09687-2212-4C5B-8F32-DA7BEC38E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de2c4"/>
                </a:solidFill>
                <a:latin typeface="Arial"/>
              </a:rPr>
              <a:t>Click to edit the title text format</a:t>
            </a: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743200"/>
            <a:ext cx="7772400" cy="32767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de2c4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de2c4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  <a:p>
            <a:pPr lvl="2" marL="1028520" indent="-205560">
              <a:spcBef>
                <a:spcPts val="700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de2c4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  <a:p>
            <a:pPr lvl="3" marL="1440000" indent="-205560">
              <a:spcBef>
                <a:spcPts val="700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de2c4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  <a:p>
            <a:pPr lvl="4" marL="1851480" indent="-205560">
              <a:spcBef>
                <a:spcPts val="700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de2c4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  <a:p>
            <a:pPr lvl="5" marL="1851480" indent="-205560">
              <a:spcBef>
                <a:spcPts val="700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de2c4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  <a:p>
            <a:pPr lvl="6" marL="1851480" indent="-205560">
              <a:spcBef>
                <a:spcPts val="700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de2c4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fde2c4"/>
                </a:solidFill>
                <a:latin typeface="Times New Roman"/>
                <a:ea typeface="ヒラギノ角ゴ Pro W3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de2c4"/>
                </a:solidFill>
                <a:latin typeface="Times New Roman"/>
                <a:ea typeface="ヒラギノ角ゴ Pro W3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720" y="6248520"/>
            <a:ext cx="2743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fde2c4"/>
                </a:solidFill>
                <a:latin typeface="Times New Roman"/>
                <a:ea typeface="ヒラギノ角ゴ Pro W3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de2c4"/>
                </a:solidFill>
                <a:latin typeface="Times New Roman"/>
                <a:ea typeface="ヒラギノ角ゴ Pro W3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fde2c4"/>
                </a:solidFill>
                <a:latin typeface="Times New Roman"/>
                <a:ea typeface="ヒラギノ角ゴ Pro W3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04138-8081-4799-80C4-7628594E149E}" type="slidenum">
              <a:rPr b="0" lang="es-ES_tradnl" sz="1400" spc="-1" strike="noStrike">
                <a:solidFill>
                  <a:srgbClr val="fde2c4"/>
                </a:solidFill>
                <a:latin typeface="Times New Roman"/>
                <a:ea typeface="ヒラギノ角ゴ Pro W3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7428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de2c4"/>
                </a:solidFill>
                <a:latin typeface="Arial"/>
              </a:rPr>
              <a:t>Click to edit the title text format</a:t>
            </a: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de2c4"/>
                </a:solidFill>
                <a:latin typeface="Times New Roman"/>
                <a:ea typeface="ヒラギノ角ゴ Pro W3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de2c4"/>
                </a:solidFill>
                <a:latin typeface="Times New Roman"/>
                <a:ea typeface="ヒラギノ角ゴ Pro W3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276720" y="6248520"/>
            <a:ext cx="2743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de2c4"/>
                </a:solidFill>
                <a:latin typeface="Times New Roman"/>
                <a:ea typeface="ヒラギノ角ゴ Pro W3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de2c4"/>
                </a:solidFill>
                <a:latin typeface="Times New Roman"/>
                <a:ea typeface="ヒラギノ角ゴ Pro W3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de2c4"/>
                </a:solidFill>
                <a:latin typeface="Times New Roman"/>
                <a:ea typeface="ヒラギノ角ゴ Pro W3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AD975-2D4A-437D-8788-629CA8BB960C}" type="slidenum">
              <a:rPr b="0" lang="de-DE" sz="1400" spc="-1" strike="noStrike">
                <a:solidFill>
                  <a:srgbClr val="fde2c4"/>
                </a:solidFill>
                <a:latin typeface="Times New Roman"/>
                <a:ea typeface="ヒラギノ角ゴ Pro W3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de2c4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de2c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de2c4"/>
              </a:buClr>
              <a:buFont typeface="Time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de2c4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de2c4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fde2c4"/>
              </a:buClr>
              <a:buFont typeface="Time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de2c4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de2c4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fde2c4"/>
              </a:buClr>
              <a:buFont typeface="Times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de2c4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de2c4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de2c4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de2c4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de2c4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de2c4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hyperlink" Target="http://www.facildehacer.com/domotica/domotica_casa_inteligente/?pagina=034_034" TargetMode="External"/><Relationship Id="rId4" Type="http://schemas.openxmlformats.org/officeDocument/2006/relationships/hyperlink" Target="http://www.physorg.com/news3505.html" TargetMode="External"/><Relationship Id="rId5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27428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000" spc="-1" strike="noStrike">
                <a:solidFill>
                  <a:srgbClr val="fde2c4"/>
                </a:solidFill>
                <a:latin typeface="Arial"/>
              </a:rPr>
              <a:t>Protocolos de comunicación</a:t>
            </a: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4114440"/>
            <a:ext cx="6400800" cy="15238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de2c4"/>
                </a:solidFill>
                <a:latin typeface="Arial"/>
              </a:rPr>
              <a:t>Javier Villanueva - Cristián Céspedes</a:t>
            </a: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000" spc="-1" strike="noStrike">
                <a:solidFill>
                  <a:srgbClr val="fde2c4"/>
                </a:solidFill>
                <a:latin typeface="Arial"/>
              </a:rPr>
              <a:t>IPv6</a:t>
            </a: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32767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En teoría permite conectar a 3.403 x 10</a:t>
            </a:r>
            <a:r>
              <a:rPr b="0" lang="es-ES_tradnl" sz="2400" spc="-1" strike="noStrike" baseline="30000">
                <a:solidFill>
                  <a:srgbClr val="fde2c4"/>
                </a:solidFill>
                <a:latin typeface="Arial"/>
              </a:rPr>
              <a:t>38</a:t>
            </a: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 computadores al mismo tiempo.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Si la Tierra estuviera hecha sólo de granos de arena, IPv6 permitiría darle a cada grano, en 300 millones de planetas del tamaño de la Tierra, una dirección única.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80720" y="1219320"/>
            <a:ext cx="6838920" cy="13716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000" spc="-1" strike="noStrike">
                <a:solidFill>
                  <a:srgbClr val="fde2c4"/>
                </a:solidFill>
                <a:latin typeface="Arial"/>
              </a:rPr>
              <a:t>IPv6 vs IPv4</a:t>
            </a: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32767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de2c4"/>
                </a:solidFill>
                <a:latin typeface="Arial"/>
              </a:rPr>
              <a:t>IPv6 no ha logrado reemplazar a IPv4 porque:</a:t>
            </a: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Requiere modificar las aplicaciones.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Proxy y NAT (Network Address Translation) permiten compartir una dirección IP entre varios equipos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000" spc="-1" strike="noStrike">
                <a:solidFill>
                  <a:srgbClr val="fde2c4"/>
                </a:solidFill>
                <a:latin typeface="Arial"/>
              </a:rPr>
              <a:t>Protocolo TCP</a:t>
            </a: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32767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de2c4"/>
                </a:solidFill>
                <a:latin typeface="Arial"/>
              </a:rPr>
              <a:t>Transmission Control Protocol 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Es uno de los protocolos principales de la suite TCP/IP (es el más utilizado de Internet).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Implementa la capa 4 del modelo OSI/ISO.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Usando TCP los programas pueden establecer conexiones entre distintos computadores y enviar datos a través de esta conexión.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TCP garantiza que los datos enviados serán recibidos en el mismo orden por el receptor.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000" spc="-1" strike="noStrike">
                <a:solidFill>
                  <a:srgbClr val="fde2c4"/>
                </a:solidFill>
                <a:latin typeface="Arial"/>
              </a:rPr>
              <a:t>Protocolo TCP</a:t>
            </a: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32767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de2c4"/>
                </a:solidFill>
                <a:latin typeface="Arial"/>
              </a:rPr>
              <a:t>Para enviar la información TCP crea “paquetes”:</a:t>
            </a: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3635280" y="3573360"/>
            <a:ext cx="4537080" cy="24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000" spc="-1" strike="noStrike">
                <a:solidFill>
                  <a:srgbClr val="fde2c4"/>
                </a:solidFill>
                <a:latin typeface="Arial"/>
              </a:rPr>
              <a:t>Protocolo TCP</a:t>
            </a: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32767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Sobre TCP se utilizan otros protocolos de transmisión, entre los cuales destacan: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de2c4"/>
                </a:solidFill>
                <a:latin typeface="Arial"/>
              </a:rPr>
              <a:t>HTTP: Protocolo de transmisión de páginas web.</a:t>
            </a:r>
            <a:endParaRPr b="0" lang="en-US" sz="2000" spc="-1" strike="noStrike">
              <a:solidFill>
                <a:srgbClr val="fde2c4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de2c4"/>
                </a:solidFill>
                <a:latin typeface="Arial"/>
              </a:rPr>
              <a:t>FTP: Protocolo de transmisión de archivos.</a:t>
            </a:r>
            <a:endParaRPr b="0" lang="en-US" sz="2000" spc="-1" strike="noStrike">
              <a:solidFill>
                <a:srgbClr val="fde2c4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de2c4"/>
                </a:solidFill>
                <a:latin typeface="Arial"/>
              </a:rPr>
              <a:t>SMTP: Protocolo para el envío de correo electrónico.</a:t>
            </a:r>
            <a:endParaRPr b="0" lang="en-US" sz="2000" spc="-1" strike="noStrike">
              <a:solidFill>
                <a:srgbClr val="fde2c4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de2c4"/>
                </a:solidFill>
                <a:latin typeface="Arial"/>
              </a:rPr>
              <a:t>SSH: Protocolo para conectarse remotamente a un servidor UNIX/LINUX.</a:t>
            </a:r>
            <a:endParaRPr b="0" lang="en-US" sz="2000" spc="-1" strike="noStrike">
              <a:solidFill>
                <a:srgbClr val="fde2c4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de2c4"/>
                </a:solidFill>
                <a:latin typeface="Arial"/>
              </a:rPr>
              <a:t>MSN: Protocolo utilizado para enviar mensajes a amigos.</a:t>
            </a:r>
            <a:endParaRPr b="0" lang="en-US" sz="2000" spc="-1" strike="noStrike">
              <a:solidFill>
                <a:srgbClr val="fde2c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000" spc="-1" strike="noStrike">
                <a:solidFill>
                  <a:srgbClr val="fde2c4"/>
                </a:solidFill>
                <a:latin typeface="Arial"/>
              </a:rPr>
              <a:t>Protocolo UDP</a:t>
            </a: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32767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User Datagram Protocol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Junto con TCP, son los principales protocolos de la suite TCP/IP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A través del Protocolo UDP los programas pueden enviarse mensajes cortos, que se les denomina “datagramas”.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TCP no garantiza el orden ni la consistencia de los datos (como lo hace TCP).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Por esto último es mucho más rápido y eficiente, pero poco confiable.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000" spc="-1" strike="noStrike">
                <a:solidFill>
                  <a:srgbClr val="fde2c4"/>
                </a:solidFill>
                <a:latin typeface="Arial"/>
              </a:rPr>
              <a:t>UDP</a:t>
            </a: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32767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de2c4"/>
                </a:solidFill>
                <a:latin typeface="Arial"/>
              </a:rPr>
              <a:t>Los datagramas son de la siguiente forma:</a:t>
            </a: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3443400" y="3429000"/>
            <a:ext cx="2857320" cy="25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000" spc="-1" strike="noStrike">
                <a:solidFill>
                  <a:srgbClr val="fde2c4"/>
                </a:solidFill>
                <a:latin typeface="Arial"/>
              </a:rPr>
              <a:t>UDP</a:t>
            </a: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32767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de2c4"/>
                </a:solidFill>
                <a:latin typeface="Arial"/>
              </a:rPr>
              <a:t>Algunos protocolos y aplicaciones que utilizan UDP son:</a:t>
            </a: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de2c4"/>
                </a:solidFill>
                <a:latin typeface="Arial"/>
              </a:rPr>
              <a:t>DNS: Resuelve los dominios a direcciones IP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de2c4"/>
                </a:solidFill>
                <a:latin typeface="Arial"/>
              </a:rPr>
              <a:t>VoIP: Voice Over IP (clase pasada)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de2c4"/>
                </a:solidFill>
                <a:latin typeface="Arial"/>
              </a:rPr>
              <a:t>Streaming Media: cualquier aplicación que transmita video/audio por la red.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de2c4"/>
                </a:solidFill>
                <a:latin typeface="Arial"/>
              </a:rPr>
              <a:t>Juegos Online: Quake2, Lineage, Unreal Tournament, etc.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480" y="27428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de2c4"/>
                </a:solidFill>
                <a:latin typeface="Arial"/>
              </a:rPr>
              <a:t>Dispositivos de Red</a:t>
            </a: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4114440"/>
            <a:ext cx="6400800" cy="15238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de2c4"/>
                </a:solidFill>
                <a:latin typeface="Arial"/>
              </a:rPr>
              <a:t>Javier Villanueva - Cristián Céspedes</a:t>
            </a: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666520" y="228600"/>
            <a:ext cx="5791320" cy="13716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de2c4"/>
                </a:solidFill>
                <a:latin typeface="Arial"/>
              </a:rPr>
              <a:t>¿Para qué? (BONUS)</a:t>
            </a: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914400" y="2819520"/>
            <a:ext cx="7365960" cy="171432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1660680" y="5029200"/>
            <a:ext cx="6568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BMW Assist and Bluetooth® wireless communication for hands-free mobile phone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41560" y="5943600"/>
            <a:ext cx="867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 u="sng">
                <a:solidFill>
                  <a:srgbClr val="ffff99"/>
                </a:solidFill>
                <a:uFillTx/>
                <a:latin typeface="Arial"/>
                <a:hlinkClick r:id="rId3"/>
              </a:rPr>
              <a:t>http://www.facildehacer.com/domotica/domotica_casa_inteligente/?pagina=034_034</a:t>
            </a:r>
            <a:endParaRPr b="0" lang="en-US" sz="1800" spc="-1" strike="noStrike">
              <a:solidFill>
                <a:srgbClr val="fde2c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 u="sng">
                <a:solidFill>
                  <a:srgbClr val="ffff99"/>
                </a:solidFill>
                <a:uFillTx/>
                <a:latin typeface="Arial"/>
                <a:hlinkClick r:id="rId4"/>
              </a:rPr>
              <a:t>http://www.physorg.com/news3505.html</a:t>
            </a:r>
            <a:endParaRPr b="0" lang="en-US" sz="1800" spc="-1" strike="noStrike">
              <a:solidFill>
                <a:srgbClr val="fde2c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000" spc="-1" strike="noStrike">
                <a:solidFill>
                  <a:srgbClr val="fde2c4"/>
                </a:solidFill>
                <a:latin typeface="Arial"/>
              </a:rPr>
              <a:t>Internet</a:t>
            </a: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378144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Es una red de redes a escala mundial.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Interconecta millones de computadores.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Utiliza el protocolo IP (Internet Protocol) en conjunto con muchos otros más (TCP, UDP, HTTP, POP3, etc.).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A todo el conjunto de protocolos usados por Internet se les denomina la Suite TCP/IP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Esta suite implementa las capas sobre las cuales funciona Internet (clase pasada).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742840" y="1219320"/>
            <a:ext cx="5791320" cy="13716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000" spc="-1" strike="noStrike">
                <a:solidFill>
                  <a:srgbClr val="fde2c4"/>
                </a:solidFill>
                <a:latin typeface="Arial"/>
              </a:rPr>
              <a:t>Modem</a:t>
            </a: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2895480"/>
            <a:ext cx="7772400" cy="32767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Computadores procesan señales digitales/líneas telefónicas son análogas.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Modulador emite señal analógica constante (portadora).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Para transmitir datos digitales se modifica alguna característica de la señal portadora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Así se indica si se está transmitiendo 0/1.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Demodulador interpreta los cambios en la portadora para reconstruir el flujo de datos digitales.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000" spc="-1" strike="noStrike">
                <a:solidFill>
                  <a:srgbClr val="fde2c4"/>
                </a:solidFill>
                <a:latin typeface="Arial"/>
              </a:rPr>
              <a:t>Modem</a:t>
            </a: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2590560"/>
            <a:ext cx="7772400" cy="327636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83000"/>
          </a:bodyPr>
          <a:p>
            <a:pPr lvl="1" marL="616680" indent="-237240">
              <a:lnSpc>
                <a:spcPct val="90000"/>
              </a:lnSpc>
              <a:spcBef>
                <a:spcPts val="499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de2c4"/>
                </a:solidFill>
                <a:latin typeface="Arial"/>
              </a:rPr>
              <a:t>V.32. Transmisión a 9.6 Kbps.</a:t>
            </a:r>
            <a:endParaRPr b="0" lang="en-US" sz="2000" spc="-1" strike="noStrike">
              <a:solidFill>
                <a:srgbClr val="fde2c4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499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de2c4"/>
                </a:solidFill>
                <a:latin typeface="Arial"/>
              </a:rPr>
              <a:t>V.32bis. Transmisión a 14.4 kbps.</a:t>
            </a:r>
            <a:endParaRPr b="0" lang="en-US" sz="2000" spc="-1" strike="noStrike">
              <a:solidFill>
                <a:srgbClr val="fde2c4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499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de2c4"/>
                </a:solidFill>
                <a:latin typeface="Arial"/>
              </a:rPr>
              <a:t>V.90. Transmisión a 56.6 kbps.</a:t>
            </a:r>
            <a:endParaRPr b="0" lang="en-US" sz="2000" spc="-1" strike="noStrike">
              <a:solidFill>
                <a:srgbClr val="fde2c4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499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de2c4"/>
                </a:solidFill>
                <a:latin typeface="Arial"/>
              </a:rPr>
              <a:t>V.92. Mejora sobre V.90 con compresión de datos y llamada en espera.</a:t>
            </a:r>
            <a:endParaRPr b="0" lang="en-US" sz="2000" spc="-1" strike="noStrike">
              <a:solidFill>
                <a:srgbClr val="fde2c4"/>
              </a:solidFill>
              <a:latin typeface="Arial"/>
            </a:endParaRPr>
          </a:p>
          <a:p>
            <a:pPr lvl="4" marL="1707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de2c4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Módems DSL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499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de2c4"/>
                </a:solidFill>
                <a:latin typeface="Arial"/>
              </a:rPr>
              <a:t>utilizan espectro situado encima de la banda vocal (300 - 3400 Hz) del cable telefónico.</a:t>
            </a:r>
            <a:endParaRPr b="0" lang="en-US" sz="2000" spc="-1" strike="noStrike">
              <a:solidFill>
                <a:srgbClr val="fde2c4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499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de2c4"/>
                </a:solidFill>
                <a:latin typeface="Arial"/>
              </a:rPr>
              <a:t>Permiten alcanzar velocidades mucho mayores que un módem telefónico. </a:t>
            </a:r>
            <a:endParaRPr b="0" lang="en-US" sz="2000" spc="-1" strike="noStrike">
              <a:solidFill>
                <a:srgbClr val="fde2c4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499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de2c4"/>
                </a:solidFill>
                <a:latin typeface="Arial"/>
              </a:rPr>
              <a:t>Posibilidad de establecer comunicación telefónica por voz simultáneamente.</a:t>
            </a:r>
            <a:endParaRPr b="0" lang="en-US" sz="2000" spc="-1" strike="noStrike">
              <a:solidFill>
                <a:srgbClr val="fde2c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de2c4"/>
                </a:solidFill>
                <a:latin typeface="Arial"/>
              </a:rPr>
              <a:t>Tarjeta de Red</a:t>
            </a: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32767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de2c4"/>
                </a:solidFill>
                <a:latin typeface="Arial"/>
              </a:rPr>
              <a:t>Permite la comunicación y el intercambio de información entre computadoras en Red.</a:t>
            </a: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de2c4"/>
                </a:solidFill>
                <a:latin typeface="Arial"/>
              </a:rPr>
              <a:t>Velocidad transmisión 10/100/1000 Mbps</a:t>
            </a: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de2c4"/>
                </a:solidFill>
                <a:latin typeface="Arial"/>
              </a:rPr>
              <a:t>Posee número de identificación único de 48 bits, en hexadecimal llamado MAC (Media Access Control address)</a:t>
            </a: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000" spc="-1" strike="noStrike">
                <a:solidFill>
                  <a:srgbClr val="fde2c4"/>
                </a:solidFill>
                <a:latin typeface="Arial"/>
              </a:rPr>
              <a:t>Hub</a:t>
            </a: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32767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de2c4"/>
                </a:solidFill>
                <a:latin typeface="Arial"/>
              </a:rPr>
              <a:t>Dispositivo que permite centralizar el cableado de una red.</a:t>
            </a: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de2c4"/>
                </a:solidFill>
                <a:latin typeface="Arial"/>
              </a:rPr>
              <a:t>Opera en la capa 1 OSI.</a:t>
            </a: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de2c4"/>
                </a:solidFill>
                <a:latin typeface="Arial"/>
              </a:rPr>
              <a:t>Repite cada paquete de datos en cada uno de los puertos.</a:t>
            </a: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de2c4"/>
                </a:solidFill>
                <a:latin typeface="Arial"/>
              </a:rPr>
              <a:t>Ancho de banda compartido.</a:t>
            </a: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de2c4"/>
                </a:solidFill>
                <a:latin typeface="Arial"/>
              </a:rPr>
              <a:t>Base de redes tipo estrella.</a:t>
            </a: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315200" y="4724280"/>
            <a:ext cx="1152360" cy="1079640"/>
          </a:xfrm>
          <a:prstGeom prst="rect">
            <a:avLst/>
          </a:prstGeom>
          <a:solidFill>
            <a:srgbClr val="ffffff"/>
          </a:solidFill>
          <a:ln w="316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de2c4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7391520" y="4800600"/>
            <a:ext cx="102852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000" spc="-1" strike="noStrike">
                <a:solidFill>
                  <a:srgbClr val="fde2c4"/>
                </a:solidFill>
                <a:latin typeface="Arial"/>
              </a:rPr>
              <a:t>Switch</a:t>
            </a: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32767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de2c4"/>
                </a:solidFill>
                <a:latin typeface="Arial"/>
              </a:rPr>
              <a:t>Un switch interconecta dos o más segmentos de red.</a:t>
            </a: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de2c4"/>
                </a:solidFill>
                <a:latin typeface="Arial"/>
              </a:rPr>
              <a:t>Opera en la capa 2 OSI.</a:t>
            </a: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de2c4"/>
                </a:solidFill>
                <a:latin typeface="Arial"/>
              </a:rPr>
              <a:t>Disminuye colisiones.</a:t>
            </a: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de2c4"/>
                </a:solidFill>
                <a:latin typeface="Arial"/>
              </a:rPr>
              <a:t>Retransmite solo al punto de destino.</a:t>
            </a: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124080" cy="274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000" spc="-1" strike="noStrike">
                <a:solidFill>
                  <a:srgbClr val="fde2c4"/>
                </a:solidFill>
                <a:latin typeface="Arial"/>
              </a:rPr>
              <a:t>Router</a:t>
            </a: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32767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de2c4"/>
                </a:solidFill>
                <a:latin typeface="Arial"/>
              </a:rPr>
              <a:t>Dispositivo hardware o software de interconexión de redes o computadores.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de2c4"/>
                </a:solidFill>
                <a:latin typeface="Arial"/>
              </a:rPr>
              <a:t>Opera en la capa 3 OSI.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de2c4"/>
                </a:solidFill>
                <a:latin typeface="Arial"/>
              </a:rPr>
              <a:t>Toma decisiones lógicas con respecto a la mejor ruta para el envío de datos en base a: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de2c4"/>
                </a:solidFill>
                <a:latin typeface="Arial"/>
              </a:rPr>
              <a:t>dirección IP</a:t>
            </a:r>
            <a:endParaRPr b="0" lang="en-US" sz="2000" spc="-1" strike="noStrike">
              <a:solidFill>
                <a:srgbClr val="fde2c4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de2c4"/>
                </a:solidFill>
                <a:latin typeface="Arial"/>
              </a:rPr>
              <a:t>tráfico de red en sus interfaces</a:t>
            </a:r>
            <a:endParaRPr b="0" lang="en-US" sz="2000" spc="-1" strike="noStrike">
              <a:solidFill>
                <a:srgbClr val="fde2c4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de2c4"/>
                </a:solidFill>
                <a:latin typeface="Arial"/>
              </a:rPr>
              <a:t>Velocidad</a:t>
            </a:r>
            <a:endParaRPr b="0" lang="en-US" sz="2000" spc="-1" strike="noStrike">
              <a:solidFill>
                <a:srgbClr val="fde2c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de2c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0" y="960480"/>
            <a:ext cx="9144000" cy="490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000" spc="-1" strike="noStrike">
                <a:solidFill>
                  <a:srgbClr val="fde2c4"/>
                </a:solidFill>
                <a:latin typeface="Arial"/>
              </a:rPr>
              <a:t>Gateway</a:t>
            </a: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32767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de2c4"/>
                </a:solidFill>
                <a:latin typeface="Arial"/>
              </a:rPr>
              <a:t>Permite a máquinas de una red local (LAN) acceso a una red exterior</a:t>
            </a: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de2c4"/>
                </a:solidFill>
                <a:latin typeface="Arial"/>
              </a:rPr>
              <a:t>Generalmente realiza operaciones de traducción de direcciones IP (NAT: Network Address Translation).</a:t>
            </a: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de2c4"/>
                </a:solidFill>
                <a:latin typeface="Arial"/>
              </a:rPr>
              <a:t>Ejemplo de puerta de enlace: 192.168.100.1</a:t>
            </a: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71476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de2c4"/>
                </a:solidFill>
                <a:latin typeface="Arial"/>
              </a:rPr>
              <a:t>Proxy</a:t>
            </a: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32767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Programa o dispositivo que realiza una acción en representación de otro.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Cuando un equipo de la red desea acceder a una información o recurso, es el proxy quien realiza la comunicación y a continuación traslada el resultado al equipo inicial.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Porque no es posible la comunicación directa o  porque añade funcionalidad adicional (ej. cache)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000" spc="-1" strike="noStrike">
                <a:solidFill>
                  <a:srgbClr val="fde2c4"/>
                </a:solidFill>
                <a:latin typeface="Arial"/>
              </a:rPr>
              <a:t>Firewall</a:t>
            </a: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762120" y="3276360"/>
            <a:ext cx="7772400" cy="327636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de2c4"/>
                </a:solidFill>
                <a:latin typeface="Arial"/>
              </a:rPr>
              <a:t>Elemento de hardware o software.</a:t>
            </a: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de2c4"/>
                </a:solidFill>
                <a:latin typeface="Arial"/>
              </a:rPr>
              <a:t>Protege de intrusiones.</a:t>
            </a: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de2c4"/>
                </a:solidFill>
                <a:latin typeface="Arial"/>
              </a:rPr>
              <a:t>Protección de información privada.</a:t>
            </a: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de2c4"/>
                </a:solidFill>
                <a:latin typeface="Arial"/>
              </a:rPr>
              <a:t>Protección contra virus</a:t>
            </a: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de2c4"/>
                </a:solidFill>
                <a:latin typeface="Arial"/>
              </a:rPr>
              <a:t>DeMilitarized Zone: permite que servidores interiores provean servicios al exterior, mientras protege la red interior.</a:t>
            </a: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380880" y="228600"/>
            <a:ext cx="4762800" cy="295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000" spc="-1" strike="noStrike">
                <a:solidFill>
                  <a:srgbClr val="fde2c4"/>
                </a:solidFill>
                <a:latin typeface="Arial"/>
              </a:rPr>
              <a:t>Protocolo IP</a:t>
            </a: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32767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de2c4"/>
                </a:solidFill>
                <a:latin typeface="Arial"/>
              </a:rPr>
              <a:t>Estándar que define el modo en que los sistemas intercambian información en Internet.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Provee Mecanismos para fragmentar y llevar la información desde un equipo a otro a través de la red.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Equivale a la capa 3 del modelo OSI/ISO.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Cada mensaje a enviar es dividido en “paquetes”, el cual contiene además la dirección de origen y destino (direcciones IP).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000" spc="-1" strike="noStrike">
                <a:solidFill>
                  <a:srgbClr val="fde2c4"/>
                </a:solidFill>
                <a:latin typeface="Arial"/>
              </a:rPr>
              <a:t>Access Point</a:t>
            </a: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32767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de2c4"/>
                </a:solidFill>
                <a:latin typeface="Arial"/>
              </a:rPr>
              <a:t>Dispositivo transmisor/receptor en una WLAN (Wireless Local Area Network).</a:t>
            </a: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de2c4"/>
                </a:solidFill>
                <a:latin typeface="Arial"/>
              </a:rPr>
              <a:t>Se conecta a la red alambrada desde un punto fijo utilizando un cable Ethernet.</a:t>
            </a: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de2c4"/>
                </a:solidFill>
                <a:latin typeface="Arial"/>
              </a:rPr>
              <a:t>Hasta 30 usuarios simultáneos.</a:t>
            </a: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de2c4"/>
                </a:solidFill>
                <a:latin typeface="Arial"/>
              </a:rPr>
              <a:t>Rango de 30 a 100 metros.</a:t>
            </a: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000" spc="-1" strike="noStrike">
                <a:solidFill>
                  <a:srgbClr val="fde2c4"/>
                </a:solidFill>
                <a:latin typeface="Arial"/>
              </a:rPr>
              <a:t>Protocolo IP</a:t>
            </a: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32767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de2c4"/>
                </a:solidFill>
                <a:latin typeface="Arial"/>
              </a:rPr>
              <a:t>Paquete IP:</a:t>
            </a: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3348000" y="2924280"/>
            <a:ext cx="5040360" cy="30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000" spc="-1" strike="noStrike">
                <a:solidFill>
                  <a:srgbClr val="fde2c4"/>
                </a:solidFill>
                <a:latin typeface="Arial"/>
              </a:rPr>
              <a:t>Direcciones IP</a:t>
            </a: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32767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de2c4"/>
                </a:solidFill>
                <a:latin typeface="Arial"/>
              </a:rPr>
              <a:t>Identifica a un computador en forma única dentro de una Red (LAN, Internet, etc.)</a:t>
            </a:r>
            <a:endParaRPr b="0" lang="en-US" sz="2000" spc="-1" strike="noStrike">
              <a:solidFill>
                <a:srgbClr val="fde2c4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de2c4"/>
                </a:solidFill>
                <a:latin typeface="Arial"/>
              </a:rPr>
              <a:t>Se compone de 4 bloques que van entre 0 y 255 separados por puntos. Ej.:</a:t>
            </a:r>
            <a:endParaRPr b="0" lang="en-US" sz="2000" spc="-1" strike="noStrike">
              <a:solidFill>
                <a:srgbClr val="fde2c4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de2c4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de2c4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de2c4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de2c4"/>
                </a:solidFill>
                <a:latin typeface="Arial"/>
              </a:rPr>
              <a:t>64.233.187.99</a:t>
            </a:r>
            <a:endParaRPr b="0" lang="en-US" sz="2000" spc="-1" strike="noStrike">
              <a:solidFill>
                <a:srgbClr val="fde2c4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de2c4"/>
                </a:solidFill>
                <a:latin typeface="Arial"/>
              </a:rPr>
              <a:t>Para recordarlas se usan los llamados “dominios”. </a:t>
            </a:r>
            <a:r>
              <a:rPr b="0" lang="es-ES" sz="2000" spc="-1" strike="noStrike">
                <a:solidFill>
                  <a:srgbClr val="fde2c4"/>
                </a:solidFill>
                <a:latin typeface="Arial"/>
              </a:rPr>
              <a:t>Ej.:</a:t>
            </a:r>
            <a:r>
              <a:rPr b="0" lang="es-ES_tradnl" sz="2000" spc="-1" strike="noStrike">
                <a:solidFill>
                  <a:srgbClr val="fde2c4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de2c4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de2c4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de2c4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de2c4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de2c4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de2c4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de2c4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de2c4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de2c4"/>
                </a:solidFill>
                <a:latin typeface="Arial"/>
              </a:rPr>
              <a:t>  </a:t>
            </a:r>
            <a:r>
              <a:rPr b="0" lang="es-ES_tradnl" sz="2000" spc="-1" strike="noStrike">
                <a:solidFill>
                  <a:srgbClr val="fde2c4"/>
                </a:solidFill>
                <a:latin typeface="Arial"/>
              </a:rPr>
              <a:t>www.google.cl</a:t>
            </a:r>
            <a:endParaRPr b="0" lang="en-US" sz="2000" spc="-1" strike="noStrike">
              <a:solidFill>
                <a:srgbClr val="fde2c4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de2c4"/>
                </a:solidFill>
                <a:latin typeface="Arial"/>
              </a:rPr>
              <a:t>A través de DNS (Domain Name System) los dominios se transforman en direcciones IP:</a:t>
            </a:r>
            <a:endParaRPr b="0" lang="en-US" sz="2000" spc="-1" strike="noStrike">
              <a:solidFill>
                <a:srgbClr val="fde2c4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de2c4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de2c4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de2c4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de2c4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de2c4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de2c4"/>
                </a:solidFill>
                <a:latin typeface="Arial"/>
              </a:rPr>
              <a:t>www.google.cl = 64.233.187.99 </a:t>
            </a:r>
            <a:endParaRPr b="0" lang="en-US" sz="2000" spc="-1" strike="noStrike">
              <a:solidFill>
                <a:srgbClr val="fde2c4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de2c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000" spc="-1" strike="noStrike">
                <a:solidFill>
                  <a:srgbClr val="fde2c4"/>
                </a:solidFill>
                <a:latin typeface="Arial"/>
              </a:rPr>
              <a:t>Direcciones IP</a:t>
            </a: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32767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Hay rangos que no pueden usarse en Internet (son para uso privado):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10.0.0.0 </a:t>
            </a:r>
            <a:r>
              <a:rPr b="0" lang="es-ES_tradnl" sz="2400" spc="-1" strike="noStrike">
                <a:solidFill>
                  <a:srgbClr val="fde2c4"/>
                </a:solidFill>
                <a:latin typeface="Wingdings"/>
                <a:ea typeface="Wingdings"/>
              </a:rPr>
              <a:t></a:t>
            </a: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 10.255.255.255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172.16.0.0 </a:t>
            </a:r>
            <a:r>
              <a:rPr b="0" lang="es-ES_tradnl" sz="2400" spc="-1" strike="noStrike">
                <a:solidFill>
                  <a:srgbClr val="fde2c4"/>
                </a:solidFill>
                <a:latin typeface="Wingdings"/>
                <a:ea typeface="Wingdings"/>
              </a:rPr>
              <a:t></a:t>
            </a: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 172.31.0.0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192.168.0.0 </a:t>
            </a:r>
            <a:r>
              <a:rPr b="0" lang="es-ES_tradnl" sz="2400" spc="-1" strike="noStrike">
                <a:solidFill>
                  <a:srgbClr val="fde2c4"/>
                </a:solidFill>
                <a:latin typeface="Wingdings"/>
                <a:ea typeface="Wingdings"/>
              </a:rPr>
              <a:t></a:t>
            </a: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 192.168.255.0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Otros rangos están reservados (son experimentales):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de2c4"/>
                </a:solidFill>
                <a:latin typeface="Arial"/>
              </a:rPr>
              <a:t>224.0.0.0 </a:t>
            </a:r>
            <a:r>
              <a:rPr b="0" lang="es-ES" sz="2400" spc="-1" strike="noStrike">
                <a:solidFill>
                  <a:srgbClr val="fde2c4"/>
                </a:solidFill>
                <a:latin typeface="Wingdings"/>
                <a:ea typeface="Wingdings"/>
              </a:rPr>
              <a:t></a:t>
            </a:r>
            <a:r>
              <a:rPr b="0" lang="es-ES" sz="2400" spc="-1" strike="noStrike">
                <a:solidFill>
                  <a:srgbClr val="fde2c4"/>
                </a:solidFill>
                <a:latin typeface="Arial"/>
              </a:rPr>
              <a:t> 254.0.0.0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000" spc="-1" strike="noStrike">
                <a:solidFill>
                  <a:srgbClr val="fde2c4"/>
                </a:solidFill>
                <a:latin typeface="Arial"/>
              </a:rPr>
              <a:t>Clases de Redes</a:t>
            </a: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32767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de2c4"/>
                </a:solidFill>
                <a:latin typeface="Arial"/>
              </a:rPr>
              <a:t>IANA (Internet Assigned Number Authority) es una empresa que reparte las direcciones IP de Internet.</a:t>
            </a:r>
            <a:endParaRPr b="0" lang="en-US" sz="2000" spc="-1" strike="noStrike">
              <a:solidFill>
                <a:srgbClr val="fde2c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de2c4"/>
                </a:solidFill>
                <a:latin typeface="Arial"/>
              </a:rPr>
              <a:t>Existen 3 clases de direcciones IP que se pueden otorgar:</a:t>
            </a:r>
            <a:endParaRPr b="0" lang="en-US" sz="2000" spc="-1" strike="noStrike">
              <a:solidFill>
                <a:srgbClr val="fde2c4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de2c4"/>
                </a:solidFill>
                <a:latin typeface="Arial"/>
              </a:rPr>
              <a:t>Clase A:</a:t>
            </a:r>
            <a:endParaRPr b="0" lang="en-US" sz="1800" spc="-1" strike="noStrike">
              <a:solidFill>
                <a:srgbClr val="fde2c4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fde2c4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de2c4"/>
                </a:solidFill>
                <a:latin typeface="Arial"/>
              </a:rPr>
              <a:t>desde 1.0.0.0 </a:t>
            </a:r>
            <a:r>
              <a:rPr b="0" lang="es-ES" sz="1600" spc="-1" strike="noStrike">
                <a:solidFill>
                  <a:srgbClr val="fde2c4"/>
                </a:solidFill>
                <a:latin typeface="Wingdings"/>
                <a:ea typeface="Wingdings"/>
              </a:rPr>
              <a:t></a:t>
            </a:r>
            <a:r>
              <a:rPr b="0" lang="es-ES" sz="1600" spc="-1" strike="noStrike">
                <a:solidFill>
                  <a:srgbClr val="fde2c4"/>
                </a:solidFill>
                <a:latin typeface="Arial"/>
              </a:rPr>
              <a:t> 127.0.0.0 </a:t>
            </a:r>
            <a:endParaRPr b="0" lang="en-US" sz="1600" spc="-1" strike="noStrike">
              <a:solidFill>
                <a:srgbClr val="fde2c4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fde2c4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de2c4"/>
                </a:solidFill>
                <a:latin typeface="Arial"/>
              </a:rPr>
              <a:t>1 sóla red, 1.6 millones hosts</a:t>
            </a:r>
            <a:endParaRPr b="0" lang="en-US" sz="1600" spc="-1" strike="noStrike">
              <a:solidFill>
                <a:srgbClr val="fde2c4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fde2c4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de2c4"/>
                </a:solidFill>
                <a:latin typeface="Arial"/>
              </a:rPr>
              <a:t>Se les otorga sólo a los gobiernos de todo el mundo.</a:t>
            </a:r>
            <a:endParaRPr b="0" lang="en-US" sz="1600" spc="-1" strike="noStrike">
              <a:solidFill>
                <a:srgbClr val="fde2c4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de2c4"/>
                </a:solidFill>
                <a:latin typeface="Arial"/>
              </a:rPr>
              <a:t>Clase B:</a:t>
            </a:r>
            <a:endParaRPr b="0" lang="en-US" sz="1800" spc="-1" strike="noStrike">
              <a:solidFill>
                <a:srgbClr val="fde2c4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fde2c4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de2c4"/>
                </a:solidFill>
                <a:latin typeface="Arial"/>
              </a:rPr>
              <a:t>desde 128.0.0.0 </a:t>
            </a:r>
            <a:r>
              <a:rPr b="0" lang="es-ES" sz="1600" spc="-1" strike="noStrike">
                <a:solidFill>
                  <a:srgbClr val="fde2c4"/>
                </a:solidFill>
                <a:latin typeface="Wingdings"/>
                <a:ea typeface="Wingdings"/>
              </a:rPr>
              <a:t></a:t>
            </a:r>
            <a:r>
              <a:rPr b="0" lang="es-ES" sz="1600" spc="-1" strike="noStrike">
                <a:solidFill>
                  <a:srgbClr val="fde2c4"/>
                </a:solidFill>
                <a:latin typeface="Arial"/>
              </a:rPr>
              <a:t> 191.255.0.0</a:t>
            </a:r>
            <a:endParaRPr b="0" lang="en-US" sz="1600" spc="-1" strike="noStrike">
              <a:solidFill>
                <a:srgbClr val="fde2c4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fde2c4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de2c4"/>
                </a:solidFill>
                <a:latin typeface="Arial"/>
              </a:rPr>
              <a:t>16.320 redes, 65.024 hosts</a:t>
            </a:r>
            <a:endParaRPr b="0" lang="en-US" sz="1600" spc="-1" strike="noStrike">
              <a:solidFill>
                <a:srgbClr val="fde2c4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fde2c4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de2c4"/>
                </a:solidFill>
                <a:latin typeface="Arial"/>
              </a:rPr>
              <a:t>Se les otorga a las medianas empresas.</a:t>
            </a:r>
            <a:endParaRPr b="0" lang="en-US" sz="1600" spc="-1" strike="noStrike">
              <a:solidFill>
                <a:srgbClr val="fde2c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de2c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000" spc="-1" strike="noStrike">
                <a:solidFill>
                  <a:srgbClr val="fde2c4"/>
                </a:solidFill>
                <a:latin typeface="Arial"/>
              </a:rPr>
              <a:t>Clases de Redes</a:t>
            </a: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32767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de2c4"/>
                </a:solidFill>
                <a:latin typeface="Arial"/>
              </a:rPr>
              <a:t>Clase C: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de2c4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de2c4"/>
                </a:solidFill>
                <a:latin typeface="Arial"/>
              </a:rPr>
              <a:t>192.0.0.0 -&gt; 223.255.255.0</a:t>
            </a:r>
            <a:endParaRPr b="0" lang="en-US" sz="2000" spc="-1" strike="noStrike">
              <a:solidFill>
                <a:srgbClr val="fde2c4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de2c4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de2c4"/>
                </a:solidFill>
                <a:latin typeface="Arial"/>
              </a:rPr>
              <a:t>2 millones de redes, 254 host </a:t>
            </a:r>
            <a:endParaRPr b="0" lang="en-US" sz="2000" spc="-1" strike="noStrike">
              <a:solidFill>
                <a:srgbClr val="fde2c4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de2c4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de2c4"/>
                </a:solidFill>
                <a:latin typeface="Arial"/>
              </a:rPr>
              <a:t>Para el resto de los solicitantes.</a:t>
            </a:r>
            <a:endParaRPr b="0" lang="en-US" sz="2000" spc="-1" strike="noStrike">
              <a:solidFill>
                <a:srgbClr val="fde2c4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de2c4"/>
                </a:solidFill>
                <a:latin typeface="Arial"/>
              </a:rPr>
              <a:t>Clase D, E y F: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de2c4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de2c4"/>
                </a:solidFill>
                <a:latin typeface="Arial"/>
              </a:rPr>
              <a:t>224.0.0.0 </a:t>
            </a:r>
            <a:r>
              <a:rPr b="0" lang="es-ES" sz="2000" spc="-1" strike="noStrike">
                <a:solidFill>
                  <a:srgbClr val="fde2c4"/>
                </a:solidFill>
                <a:latin typeface="Wingdings"/>
                <a:ea typeface="Wingdings"/>
              </a:rPr>
              <a:t></a:t>
            </a:r>
            <a:r>
              <a:rPr b="0" lang="es-ES" sz="2000" spc="-1" strike="noStrike">
                <a:solidFill>
                  <a:srgbClr val="fde2c4"/>
                </a:solidFill>
                <a:latin typeface="Arial"/>
              </a:rPr>
              <a:t> 254.0.0.0</a:t>
            </a:r>
            <a:endParaRPr b="0" lang="en-US" sz="2000" spc="-1" strike="noStrike">
              <a:solidFill>
                <a:srgbClr val="fde2c4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de2c4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de2c4"/>
                </a:solidFill>
                <a:latin typeface="Arial"/>
              </a:rPr>
              <a:t>Sólo para uso experimental.</a:t>
            </a:r>
            <a:endParaRPr b="0" lang="en-US" sz="2000" spc="-1" strike="noStrike">
              <a:solidFill>
                <a:srgbClr val="fde2c4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000" spc="-1" strike="noStrike">
                <a:solidFill>
                  <a:srgbClr val="fde2c4"/>
                </a:solidFill>
                <a:latin typeface="Arial"/>
              </a:rPr>
              <a:t>IPv6</a:t>
            </a: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32767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Dado el gran crecimiento de Internet, se están acabando las direcciones IP.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Por esto se creó una segunda versión de IP, llamada IPv6: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de2c4"/>
                </a:solidFill>
                <a:latin typeface="Arial"/>
              </a:rPr>
              <a:t>Las direcciones se escriben como 6 bloques de 4 dígitos hexadecimales que van desde 0000 hasta FFFF. Ej:</a:t>
            </a:r>
            <a:endParaRPr b="0" lang="en-US" sz="2000" spc="-1" strike="noStrike">
              <a:solidFill>
                <a:srgbClr val="fde2c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de2c4"/>
                </a:solidFill>
                <a:latin typeface="Arial"/>
              </a:rPr>
              <a:t>2001:0123:0004:00ab:0cde:3403:0001:0063 </a:t>
            </a:r>
            <a:endParaRPr b="0" lang="en-US" sz="2000" spc="-1" strike="noStrike">
              <a:solidFill>
                <a:srgbClr val="fde2c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de2c4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de2c4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de2c4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de2c4"/>
                </a:solidFill>
                <a:latin typeface="Arial"/>
              </a:rPr>
              <a:t>2001:123:4:ab:cde:3403:1:63</a:t>
            </a:r>
            <a:endParaRPr b="0" lang="en-US" sz="2000" spc="-1" strike="noStrike">
              <a:solidFill>
                <a:srgbClr val="fde2c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de2c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8T03:25:31Z</dcterms:created>
  <dc:creator>ccv</dc:creator>
  <dc:description/>
  <dc:language>en-US</dc:language>
  <cp:lastModifiedBy>Mr. JoTA</cp:lastModifiedBy>
  <dcterms:modified xsi:type="dcterms:W3CDTF">2005-09-28T04:10:29Z</dcterms:modified>
  <cp:revision>9</cp:revision>
  <dc:subject/>
  <dc:title>Protocolos</dc:title>
</cp:coreProperties>
</file>