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4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5.png" ContentType="image/png"/>
  <Override PartName="/ppt/media/image11.wmf" ContentType="image/x-wmf"/>
  <Override PartName="/ppt/media/image17.jpeg" ContentType="image/jpeg"/>
  <Override PartName="/ppt/media/image26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32.jpeg" ContentType="image/jpeg"/>
  <Override PartName="/ppt/media/image40.wmf" ContentType="image/x-wmf"/>
  <Override PartName="/ppt/media/image7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A223-7210-48F0-AB39-92DA918E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E55-7E56-457C-B62B-84499F08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6AD-6DF6-4D92-88D7-13310646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84A1-197D-4E14-BF22-3A61528C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EFA6-476F-436C-AA4D-81275AC0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035-C4CC-4F00-A359-237BD0F1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D17-0985-433E-8921-58697AC5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CDD-1E0A-40AD-99CD-D8940105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79DF-55CA-471B-9FCB-303388AC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34F-1F4E-4DF1-8C35-65EB3924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7955-DDC9-496D-8DFA-04EA2CDB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4E47-E368-408C-B0BB-D7150ED0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315C-A7CD-4AF7-B6EB-144203F5F79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95480" y="2279520"/>
            <a:ext cx="664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FISIOPATOLOGÍA D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TIROÍ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06960" y="510552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oberto R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360" y="476280"/>
            <a:ext cx="5256360" cy="5938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1280" y="3284640"/>
            <a:ext cx="24494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ACCIÓN DE T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EN CARDIOMIOC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16000" y="1413000"/>
          <a:ext cx="7115040" cy="46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413000"/>
                    <a:ext cx="71150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fectos de T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en coraz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2089080"/>
            <a:ext cx="77724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537000" y="228600"/>
          <a:ext cx="507348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7000" y="228600"/>
                    <a:ext cx="50734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05640" y="2743200"/>
            <a:ext cx="311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EFECTO FISIOLÓGIC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HORMONAS TIROÍ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SOBRE TEJIDOS D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0840" y="380880"/>
            <a:ext cx="87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EVALUACIÓN DE LABORATORIO DE FUNCIÓN TIROÍ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3280" y="1738440"/>
            <a:ext cx="86360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- T3 Y T4 SÉRICAS TOT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2- T4 SÉRICA LI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3-  TSH SÉ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4- TIROGLOBULINA SÉ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- CAPTACIÓN DE 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123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6- IMÁGENES DE TIROIDE MARCADA CON 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123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 O 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99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7- DETECCIÓN DE AUTOANTICUERPOS: ANTI-PEROXIDASA,  ANTI-TIROGLOBULI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NTI-RECEPTOR T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8- RESPUESTA DE TSH SÉRICA A ESTIMULACIÓN CON TR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320" y="363600"/>
            <a:ext cx="899136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73160" y="1073160"/>
            <a:ext cx="6997680" cy="4710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36040" y="343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HIPERTIROIDISMO: CLASIFICASIÓN ETIOLÓ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76320"/>
            <a:ext cx="8741160" cy="6553080"/>
            <a:chOff x="228600" y="76320"/>
            <a:chExt cx="8741160" cy="6553080"/>
          </a:xfrm>
        </p:grpSpPr>
        <p:grpSp>
          <p:nvGrpSpPr>
            <p:cNvPr id="98" name=""/>
            <p:cNvGrpSpPr/>
            <p:nvPr/>
          </p:nvGrpSpPr>
          <p:grpSpPr>
            <a:xfrm>
              <a:off x="457200" y="76320"/>
              <a:ext cx="2589120" cy="3429000"/>
              <a:chOff x="457200" y="76320"/>
              <a:chExt cx="2589120" cy="3429000"/>
            </a:xfrm>
          </p:grpSpPr>
          <p:pic>
            <p:nvPicPr>
              <p:cNvPr id="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95400"/>
                <a:ext cx="2512800" cy="340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457200" y="76320"/>
                <a:ext cx="3808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914400" y="2819520"/>
              <a:ext cx="182880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3633840" y="152280"/>
              <a:ext cx="4824720" cy="2906640"/>
              <a:chOff x="3633840" y="152280"/>
              <a:chExt cx="4824720" cy="2906640"/>
            </a:xfrm>
          </p:grpSpPr>
          <p:pic>
            <p:nvPicPr>
              <p:cNvPr id="1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33840" y="152280"/>
                <a:ext cx="237168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937120" y="606240"/>
                <a:ext cx="252144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EXOFTALM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MIXEDEMA PRETIBI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228600" y="3340080"/>
              <a:ext cx="1766880" cy="32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909080" y="621648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BOCIO DIFU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71080" y="3821040"/>
              <a:ext cx="50986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ANTICUERPOS ANTI-RECEPTOR T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CAPTACIÓN DE RADIOYODO AUMENTAD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T3-T4 AUMENTADAS Y TSH DISMINUÍ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MÁS FRECUENTE EN MUJE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AGREGACIÓN FAMILIAR (HAPLOTIPOS HLA-B8 Y -DR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ASOCIADA A OTRAS ENF. AUTOINMUNES (DIABE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TIPO I,  ANEMIA PERNICIOS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6560" y="4800600"/>
              <a:ext cx="153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MIRADA FI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1363680"/>
            <a:ext cx="2363760" cy="328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19320" y="3809880"/>
            <a:ext cx="16002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19520" y="1980720"/>
            <a:ext cx="2209680" cy="2210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90400" y="2119320"/>
            <a:ext cx="295884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OCO FREC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AUTÓNOMOS (DE T3-T4 Y TR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TSH Y T3-T4 ELEV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SUBUNIDAD </a:t>
            </a:r>
            <a:r>
              <a:rPr b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TS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CAPTACIÓN RADIOYODO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B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1752480"/>
            <a:ext cx="335268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734240" y="2590920"/>
          <a:ext cx="571680" cy="66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34240" y="2590920"/>
                    <a:ext cx="5716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774200" y="28954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67000" y="31240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4419720"/>
            <a:ext cx="160020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543800" y="304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3432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960" y="4619520"/>
            <a:ext cx="41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HIPÓFISIS NO RESPONDE A FEEDBACK T3-T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TSH Y T3-T4 ELEV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BOCIO DIFU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RESISTENCIA PA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4495680"/>
            <a:ext cx="44197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4160" y="442800"/>
            <a:ext cx="63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HIPERTIROIDISMO POR ESTIMULACION EXCESIVA CON T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80880" y="1295280"/>
            <a:ext cx="3190680" cy="4114800"/>
            <a:chOff x="380880" y="1295280"/>
            <a:chExt cx="3190680" cy="411480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609480" y="1390680"/>
              <a:ext cx="2962080" cy="40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80880" y="1295280"/>
              <a:ext cx="6094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2120" y="34146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G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648400" y="1582560"/>
            <a:ext cx="2124000" cy="1389960"/>
            <a:chOff x="5648400" y="1582560"/>
            <a:chExt cx="2124000" cy="1389960"/>
          </a:xfrm>
        </p:grpSpPr>
        <p:grpSp>
          <p:nvGrpSpPr>
            <p:cNvPr id="130" name=""/>
            <p:cNvGrpSpPr/>
            <p:nvPr/>
          </p:nvGrpSpPr>
          <p:grpSpPr>
            <a:xfrm>
              <a:off x="5648400" y="1582560"/>
              <a:ext cx="2124000" cy="1069920"/>
              <a:chOff x="5648400" y="1582560"/>
              <a:chExt cx="2124000" cy="1069920"/>
            </a:xfrm>
          </p:grpSpPr>
          <p:graphicFrame>
            <p:nvGraphicFramePr>
              <p:cNvPr id="131" name=""/>
              <p:cNvGraphicFramePr/>
              <p:nvPr/>
            </p:nvGraphicFramePr>
            <p:xfrm>
              <a:off x="5648400" y="1582560"/>
              <a:ext cx="2124000" cy="10699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32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648400" y="1582560"/>
                        <a:ext cx="2124000" cy="1069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" name=""/>
              <p:cNvSpPr/>
              <p:nvPr/>
            </p:nvSpPr>
            <p:spPr>
              <a:xfrm>
                <a:off x="5844960" y="21160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122960" y="21142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934960" y="2635200"/>
              <a:ext cx="174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TSH                 G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434240" y="800280"/>
            <a:ext cx="54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Times New Roman"/>
              </a:rPr>
              <a:t>MOLA TROFOBLÁSTICA O CORIOCARCIN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6520" y="3067200"/>
            <a:ext cx="4996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EMBARAZO ANORMAL: FETO NO SE FORMA O MUERE EN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AYORíA DE LOS CASOS PERO SE FORMAN ELE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LACENT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CRECIMIENTO PLACENTARIO ANORMAL (PROLIFERACIO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ROFOBLASTOS PLACENTARIOS): 1:1500 EMBARAZ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SIN FETO = MOLA PARCIAL (LA MAYORÍ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MOLA COMPLETA: MALIGNIZA A CORIOCARCIN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ALTOS NIVELES DE GONADOTROFINA CORIÓNICA (G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T3 – T4 ELEVADOS y TSH DISMINUÍ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BOCIO Y CAPTACIÓN DE RADIOYODO AUMENT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80880" y="152280"/>
            <a:ext cx="8610840" cy="6554160"/>
            <a:chOff x="380880" y="152280"/>
            <a:chExt cx="8610840" cy="655416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80880" y="838080"/>
              <a:ext cx="2571840" cy="38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4071960" y="1208160"/>
              <a:ext cx="4919760" cy="29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2181240" y="4060800"/>
              <a:ext cx="452448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325880" y="152280"/>
              <a:ext cx="628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33cc"/>
                  </a:solidFill>
                  <a:latin typeface="Times New Roman"/>
                </a:rPr>
                <a:t>ANATOMÍA DE LA GLÁNDULA TIROI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2800" y="595440"/>
              <a:ext cx="184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VISTA FRON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673960" y="609480"/>
              <a:ext cx="179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LOCALIZ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4480" y="6369120"/>
              <a:ext cx="189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VISTA SUPERI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441000" y="272880"/>
            <a:ext cx="8162280" cy="6052320"/>
            <a:chOff x="441000" y="272880"/>
            <a:chExt cx="8162280" cy="6052320"/>
          </a:xfrm>
        </p:grpSpPr>
        <p:sp>
          <p:nvSpPr>
            <p:cNvPr id="139" name=""/>
            <p:cNvSpPr/>
            <p:nvPr/>
          </p:nvSpPr>
          <p:spPr>
            <a:xfrm>
              <a:off x="971280" y="272880"/>
              <a:ext cx="73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cc"/>
                  </a:solidFill>
                  <a:latin typeface="Times New Roman"/>
                </a:rPr>
                <a:t>NÓDULO ÚNICO                                            BOCIO TÓXICO MULTINODULA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457200" y="2637000"/>
              <a:ext cx="2590920" cy="17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1000" y="4680000"/>
              <a:ext cx="3304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ADENOMA FOLICULAR (90% CASO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NÓDULO CALIENTE SOLI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HIPERSECRECIÓN AUTÓNOMA DE T3-T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TSH BAJA Y CAPTACIóN RADIOYOD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NÓDULO CONTRALATERAL ATROFI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429000" y="5257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1240" y="4710240"/>
              <a:ext cx="42620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FRECUENTEMENTE DERIVAN DE BOCIO NO TÓX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NÓDULOS DISEEMINADOS QUE CAPTAN RADIOYO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SECRECIÓN AUTÓNOMA DE T3 – T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TSH BA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MÁS FRECUENTE EN EDAD AVANZA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5105520" y="2819520"/>
              <a:ext cx="251460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449360" y="5987880"/>
              <a:ext cx="615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MAYOR FRECUENCIA  JUNTO A ENFERMEDAD DE GRA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6" name=""/>
            <p:cNvGraphicFramePr/>
            <p:nvPr/>
          </p:nvGraphicFramePr>
          <p:xfrm>
            <a:off x="1071720" y="609480"/>
            <a:ext cx="1747800" cy="1981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71720" y="609480"/>
                      <a:ext cx="174780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5508720" y="533520"/>
            <a:ext cx="1806480" cy="2133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08720" y="533520"/>
                      <a:ext cx="1806480" cy="21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990720" y="609480"/>
              <a:ext cx="228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62720" y="533520"/>
              <a:ext cx="228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216720" y="304920"/>
            <a:ext cx="8910360" cy="6019560"/>
            <a:chOff x="216720" y="304920"/>
            <a:chExt cx="8910360" cy="6019560"/>
          </a:xfrm>
        </p:grpSpPr>
        <p:sp>
          <p:nvSpPr>
            <p:cNvPr id="153" name=""/>
            <p:cNvSpPr/>
            <p:nvPr/>
          </p:nvSpPr>
          <p:spPr>
            <a:xfrm>
              <a:off x="1755000" y="304920"/>
              <a:ext cx="537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cc"/>
                  </a:solidFill>
                  <a:latin typeface="Times New Roman"/>
                </a:rPr>
                <a:t>LIBERACIÓN EXCESIVA DE HORMONAS TIROÍD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63880" y="1407960"/>
              <a:ext cx="5263200" cy="46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REACCIÓN INFLAMATO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SECONDARIA A INFECCIÓN DE VÍAS RESPIRATOTIAS SUPERI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LINFOCITOS T CITOTÓXICOS LESIONAN CÉLULAS FOLICU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REGIÓN GLANDULAR DURA Y ADOLO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FASE AGUDA: TSH BAJA Y T3-T4 ALT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NO HAY CAPTACIÓN DE RADIOYO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EVOLUCIONA DE  HIPER A HIPOTIROIDIS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RESOLUCIÓN ESPONTÁN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SE PRESENTA ENTRE LOS 30 A 50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AFECTA MÁS A MUJE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AUTOINMUNITARIA (HAPLOTIPOS HLA-DR3 Y –DR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HALLAZGOS DE LABORATORIO Y EVOLUCIÓN SIMILARES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TIROIDITIS GRNULOMATO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INDOLO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FRECUENTE EN PUERPE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6720" y="4506840"/>
              <a:ext cx="303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T3-T4 LIBERADOS POR LE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DE LAS CÉLULAS FOLICUL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762120" y="838080"/>
              <a:ext cx="2181240" cy="3267360"/>
              <a:chOff x="762120" y="838080"/>
              <a:chExt cx="2181240" cy="3267360"/>
            </a:xfrm>
          </p:grpSpPr>
          <p:graphicFrame>
            <p:nvGraphicFramePr>
              <p:cNvPr id="157" name=""/>
              <p:cNvGraphicFramePr/>
              <p:nvPr/>
            </p:nvGraphicFramePr>
            <p:xfrm>
              <a:off x="762120" y="838080"/>
              <a:ext cx="2181240" cy="3267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62120" y="838080"/>
                        <a:ext cx="2181240" cy="326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9" name=""/>
              <p:cNvSpPr/>
              <p:nvPr/>
            </p:nvSpPr>
            <p:spPr>
              <a:xfrm>
                <a:off x="762120" y="9144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V="1">
              <a:off x="2438280" y="2437920"/>
              <a:ext cx="129564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71800" y="3962520"/>
              <a:ext cx="685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86200" y="1219320"/>
              <a:ext cx="513540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86200" y="5029200"/>
              <a:ext cx="487692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1783800" y="228600"/>
            <a:ext cx="5680800" cy="5027760"/>
            <a:chOff x="1783800" y="228600"/>
            <a:chExt cx="5680800" cy="5027760"/>
          </a:xfrm>
        </p:grpSpPr>
        <p:sp>
          <p:nvSpPr>
            <p:cNvPr id="165" name=""/>
            <p:cNvSpPr/>
            <p:nvPr/>
          </p:nvSpPr>
          <p:spPr>
            <a:xfrm>
              <a:off x="2824560" y="228600"/>
              <a:ext cx="31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33cc"/>
                  </a:solidFill>
                  <a:latin typeface="Times New Roman"/>
                </a:rPr>
                <a:t>TIROTOXICOSIS  FICTI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83800" y="4432320"/>
              <a:ext cx="5680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FARMACOLÓG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CAPTACIÓN DE RADIOYODO SUPRIMI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TSH SUPRIMIDA Y ATROFIA GLANDULAR BILOB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7" name=""/>
            <p:cNvGraphicFramePr/>
            <p:nvPr/>
          </p:nvGraphicFramePr>
          <p:xfrm>
            <a:off x="2911320" y="990720"/>
            <a:ext cx="2346480" cy="31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11320" y="990720"/>
                      <a:ext cx="2346480" cy="31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>
              <a:off x="2971800" y="990720"/>
              <a:ext cx="3049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16200" y="595440"/>
            <a:ext cx="609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FUENTES  EXTRAGLANDULARES DE HORMONA TIROÍDE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0320" y="4416480"/>
            <a:ext cx="8629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MUY RAROS (SOLO AQUELLOS CARCINOMAS FOLICULARES BIEN DIFERENCI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O ALGUNOS TERATOMAS OVÁRIC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CAPTACIÓN DE RADIOYODO EN EL CUELLO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CAPTACIÓN DE RADIOYODO EN LA PELVIS O EN PULMÓN ELEV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TS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257800" y="1066680"/>
            <a:ext cx="2409840" cy="3181320"/>
            <a:chOff x="5257800" y="1066680"/>
            <a:chExt cx="2409840" cy="3181320"/>
          </a:xfrm>
        </p:grpSpPr>
        <p:graphicFrame>
          <p:nvGraphicFramePr>
            <p:cNvPr id="173" name=""/>
            <p:cNvGraphicFramePr/>
            <p:nvPr/>
          </p:nvGraphicFramePr>
          <p:xfrm>
            <a:off x="5257800" y="1066680"/>
            <a:ext cx="2409840" cy="3181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1066680"/>
                      <a:ext cx="2409840" cy="318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5" name=""/>
            <p:cNvSpPr/>
            <p:nvPr/>
          </p:nvSpPr>
          <p:spPr>
            <a:xfrm>
              <a:off x="5257800" y="1066680"/>
              <a:ext cx="30492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6" name=""/>
          <p:cNvGraphicFramePr/>
          <p:nvPr/>
        </p:nvGraphicFramePr>
        <p:xfrm>
          <a:off x="1752480" y="1066680"/>
          <a:ext cx="2152800" cy="315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066680"/>
                    <a:ext cx="215280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066680" y="54864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11430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70160" y="7477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0000" y="838080"/>
            <a:ext cx="48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ECUENCIAS DEL HIPOTIROID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95280" y="1773360"/>
          <a:ext cx="8259840" cy="434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259840" cy="43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3520" y="1197000"/>
            <a:ext cx="2492280" cy="5203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048120" y="1219320"/>
            <a:ext cx="2266920" cy="5329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016520" y="2890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ETI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7000" y="1306440"/>
            <a:ext cx="3830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1/4000 NACI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RETRASO ME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ALTERACIONES ESQUELÉ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ENAN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CARA TOS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MACROGLOSIA Y PROTRUSIÓN LENG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HERNIA UMBIL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LLANTO RON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41016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54165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67200" y="1649520"/>
            <a:ext cx="3008160" cy="4425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756600" y="5475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XED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4000" y="914400"/>
            <a:ext cx="8597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1954080"/>
            <a:ext cx="6629400" cy="444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0120" y="650880"/>
            <a:ext cx="66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LA UNIDAD FUNCIONAL DE LA GLÁND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TIROIDES: EL FOLÍCULO TIROÍD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1057320"/>
            <a:ext cx="79246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0" y="549360"/>
            <a:ext cx="4073400" cy="5894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974880" y="2652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152280"/>
            <a:ext cx="375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mponente genét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45960" y="4145040"/>
            <a:ext cx="95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, peroxid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80080" y="138240"/>
            <a:ext cx="26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TIROIDITIS HASHIMO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7160" y="1281240"/>
            <a:ext cx="38764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15-60% de los hipotiroidis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Mayor prevalencia: 45 - 65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Mayor prevalencia en mujeres (10: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Bocio indol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Pérdida gradual de función con TSH elev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Puede asociarse con lupus eritematoso y artrit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79840" y="101448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476360" y="620640"/>
          <a:ext cx="6467400" cy="544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620640"/>
                    <a:ext cx="6467400" cy="544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709640" y="385920"/>
            <a:ext cx="5724720" cy="6167160"/>
            <a:chOff x="1709640" y="385920"/>
            <a:chExt cx="5724720" cy="61671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709640" y="385920"/>
              <a:ext cx="5724720" cy="60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828800" y="3352680"/>
              <a:ext cx="3657600" cy="320040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48520" y="152280"/>
            <a:ext cx="77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LAS HORMONAS TIROÍDEAS Y SUS PRECURS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28680" y="900000"/>
            <a:ext cx="6010200" cy="54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7040" y="30492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BIOSÍNTESIS DE HORMONAS TIROÍ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3320" y="685800"/>
            <a:ext cx="5337360" cy="5486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07680" y="601992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anol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46483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29920" y="46846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580920" y="34290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15320" y="38862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36640" y="-3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2280" y="15228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BIOSÍNTESIS DE HORMONAS TIROÍ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380880"/>
            <a:ext cx="8686800" cy="4946400"/>
            <a:chOff x="228600" y="380880"/>
            <a:chExt cx="8686800" cy="4946400"/>
          </a:xfrm>
        </p:grpSpPr>
        <p:sp>
          <p:nvSpPr>
            <p:cNvPr id="68" name=""/>
            <p:cNvSpPr/>
            <p:nvPr/>
          </p:nvSpPr>
          <p:spPr>
            <a:xfrm>
              <a:off x="228600" y="1273320"/>
              <a:ext cx="86868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99.97% UNIDA A PROTEÍNAS (75%TBG, 20%TBPA, 5% ALBÚMINA)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100% T4 PLASMÁTIC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0.03% LIBRE = ACTIV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TIROIDES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99.7% UNIDA A PROTEÍNA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15% T3 PLASMÁTIC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85% T3 PLASMÁTIC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0.3% LIBRE: 3 – 4 VECES MÁS POTENTE QUE T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5’DESYODINASA O TIPO 1(40%)             T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DESYODINACIÓN PERIFÉRICA (HÍGAD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5 DESYODINASA O TIPO 2 (60%)              rT3 (INACTIVA)   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6680" y="2568600"/>
              <a:ext cx="3812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143000" y="1959120"/>
              <a:ext cx="38088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720" y="13492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2720880"/>
              <a:ext cx="152280" cy="11430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219320" y="3558960"/>
              <a:ext cx="60948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33920" y="43210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53080" y="43974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53080" y="51814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74440" y="380880"/>
              <a:ext cx="507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33cc"/>
                  </a:solidFill>
                  <a:latin typeface="Times New Roman"/>
                </a:rPr>
                <a:t>ORIGEN DE T3/T4 CIRCULAN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832720" cy="4864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74000" y="83808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MECANISMO DE ACCIÓN SOBRE CÉLULAS D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14600" y="533520"/>
            <a:ext cx="4473720" cy="5472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13120" y="304920"/>
            <a:ext cx="70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EL EJE HIPOTÁLAMO – HIPÓFISIS – TIR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06:40:49Z</dcterms:created>
  <dc:creator>usuario</dc:creator>
  <dc:description/>
  <dc:language>en-US</dc:language>
  <cp:lastModifiedBy>ines</cp:lastModifiedBy>
  <dcterms:modified xsi:type="dcterms:W3CDTF">2005-08-30T19:07:22Z</dcterms:modified>
  <cp:revision>18</cp:revision>
  <dc:subject/>
  <dc:title>Presentación de PowerPoint</dc:title>
</cp:coreProperties>
</file>