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8.png" ContentType="image/png"/>
  <Override PartName="/ppt/media/image46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56.jpeg" ContentType="image/jpeg"/>
  <Override PartName="/ppt/media/image3.png" ContentType="image/png"/>
  <Override PartName="/ppt/media/image11.png" ContentType="image/png"/>
  <Override PartName="/ppt/media/image66.jpeg" ContentType="image/jpeg"/>
  <Override PartName="/ppt/media/image15.jpeg" ContentType="image/jpeg"/>
  <Override PartName="/ppt/media/image16.jpeg" ContentType="image/jpeg"/>
  <Override PartName="/ppt/media/image6.jpeg" ContentType="image/jpeg"/>
  <Override PartName="/ppt/media/image60.png" ContentType="image/png"/>
  <Override PartName="/ppt/media/image67.jpeg" ContentType="image/jpeg"/>
  <Override PartName="/ppt/media/image24.png" ContentType="image/png"/>
  <Override PartName="/ppt/media/image65.jpeg" ContentType="image/jpeg"/>
  <Override PartName="/ppt/media/image39.jpeg" ContentType="image/jpeg"/>
  <Override PartName="/ppt/media/image64.jpeg" ContentType="image/jpeg"/>
  <Override PartName="/ppt/media/image38.jpeg" ContentType="image/jpeg"/>
  <Override PartName="/ppt/media/image12.png" ContentType="image/png"/>
  <Override PartName="/ppt/media/image8.png" ContentType="image/png"/>
  <Override PartName="/ppt/media/image23.jpeg" ContentType="image/jpeg"/>
  <Override PartName="/ppt/media/image20.jpeg" ContentType="image/jpeg"/>
  <Override PartName="/ppt/media/image2.png" ContentType="image/png"/>
  <Override PartName="/ppt/media/image25.png" ContentType="image/png"/>
  <Override PartName="/ppt/media/image62.png" ContentType="image/png"/>
  <Override PartName="/ppt/media/image28.jpeg" ContentType="image/jpeg"/>
  <Override PartName="/ppt/media/image51.jpeg" ContentType="image/jpeg"/>
  <Override PartName="/ppt/media/image17.jpeg" ContentType="image/jpeg"/>
  <Override PartName="/ppt/media/image61.jpeg" ContentType="image/jpeg"/>
  <Override PartName="/ppt/media/image21.jpeg" ContentType="image/jpeg"/>
  <Override PartName="/ppt/media/image22.png" ContentType="image/png"/>
  <Override PartName="/ppt/media/image5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29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9.jpeg" ContentType="image/jpeg"/>
  <Override PartName="/ppt/media/image36.png" ContentType="image/png"/>
  <Override PartName="/ppt/media/image37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2.jpeg" ContentType="image/jpeg"/>
  <Override PartName="/ppt/media/image53.jpeg" ContentType="image/jpe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3AF-E7A2-45A8-8515-C2B00665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4AC-4016-4526-BB3E-C70D8752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CE5-7534-4395-A730-2D4100EC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B8F-0A35-472D-B2C8-58C3097D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685-0787-4319-8829-6AB2A7E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0C2-37E2-49ED-93DA-EEE7763A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FC3-6164-4738-AABB-B4570762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F71-D0C1-4E0D-9D04-DD4B55F1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929-E4BC-4812-ACED-16B7351E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68D-6649-4513-A685-B8D1316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88D-8C20-4E04-A7C4-8773609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12E-2D04-4327-9170-F6FAC3B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D37-384D-4E2F-8399-B7301AE83C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univision.com/contentroot/uol/art/images/mujer/9999/mujer-embarazada-piensa-3.jpg&amp;imgrefurl=http://www.univision.com/content/content.jhtml%3Fcid%3D202692&amp;h=250&amp;w=190&amp;sz=12&amp;tbnid=saZkz9wHfO4J:&amp;tbnh=105&amp;tbnw=80&amp;s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hemerodigital.unam.mx/ANUIES/ipn/academia/9/gra_32.gif&amp;imgrefurl=http://www.hemerodigital.unam.mx/ANUIES/ipn/academia/9/sec_10.htm&amp;h=278&amp;w=314&amp;sz=61&amp;tbnid=-jO-ZLdfBO4J:&amp;tbnh=100&amp;tbnw=113&amp;start=2&amp;prev=/images%3Fq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nlm.nih.gov/medlineplus/spanish/ency/images/ency/fullsize/8718.jpg&amp;imgrefurl=http://www.nlm.nih.gov/medlineplus/spanish/ency/esp_imagepages/8718.htm&amp;h=320&amp;w=400&amp;sz=12&amp;tbnid=qKfwcQZkCGQJ:&amp;tbnh=96&amp;tbnw=120&amp;start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metroclinica.com.mx/images/sacando_sangre.jpg&amp;imgrefurl=http://metroclinica.com.mx/ventas/Check-Up.htm&amp;h=480&amp;w=640&amp;sz=16&amp;tbnid=5PEkpr05RuMJ:&amp;tbnh=101&amp;tbnw=135&amp;start=8&amp;prev=/images%3Fq%3Dexamen%2Bde%2Bsangre%2B%26hl%25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radioreloj.cu/images4/embarazo.jpg&amp;imgrefurl=http://www.radioreloj.cu/revista-temas/ciencia5-31-10-02.htm&amp;h=205&amp;w=174&amp;sz=6&amp;tbnid=mbo2l0AloOUJ:&amp;tbnh=99&amp;tbnw=84&amp;start=12&amp;prev=/images%3Fq%3Dembarazo%26hl%3Des%26lr%25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insa.gob.pe/dpspf/1foto7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ablemodem.fibertel.com.ar/upa/images/foto/embarazada%2520foto.jpg&amp;imgrefurl=http://cablemodem.fibertel.com.ar/upa/charlas.htm&amp;h=400&amp;w=251&amp;sz=9&amp;tbnid=klHIV3vWOuMJ:&amp;tbnh=120&amp;tbnw=75&amp;start=2&amp;prev=/images%3Fq%3Dembaraz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soloellas.com/mujer_embarazada.jpg&amp;imgrefurl=http://www.soloellas.com/embarazada.html&amp;h=365&amp;w=300&amp;sz=16&amp;tbnid=G2OQljVMXsYJ:&amp;tbnh=117&amp;tbnw=96&amp;start=1&amp;prev=/images%3Fq%3Dembarazada%26hl%3Des%26lr%3D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aepap.org/faqpad/imagen/grasa.jpg&amp;imgrefurl=http://www.aepap.org/faqpad/faqpad-guia_aliment.htm&amp;h=207&amp;w=207&amp;sz=15&amp;tbnid=9LDyrJX8XWEJ:&amp;tbnh=100&amp;tbnw=100&amp;start=24&amp;prev=/images%3Fq%3Dgrasas%26start%3D20%26hl%3Des%252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uanl.mx/publicaciones/respyn/iii/3/articulos/imagenes/calcio-plomo.jpg&amp;imgrefurl=http://www.uanl.mx/publicaciones/respyn/iii/3/&amp;h=303&amp;w=200&amp;sz=18&amp;tbnid=xvMI_COfr5AJ:&amp;tbnh=111&amp;tbnw=73&amp;start=2&amp;prev=/images%3Fq%3Di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tmc.edu/thi/crosslgs.jpg&amp;imgrefurl=http://www.tmc.edu/thi/anato_sp.html&amp;h=469&amp;w=363&amp;sz=67&amp;tbnid=KL8oj5AkCcoJ:&amp;tbnh=124&amp;tbnw=96&amp;start=13&amp;prev=/images%3Fq%3DCORAZON%26hl%3Des%26lr%3D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systenet.com/varices/images/var1.jpg&amp;imgrefurl=http://www.systenet.com/varices/derecha.htm&amp;h=237&amp;w=160&amp;sz=3&amp;tbnid=ja5C3K3rJdMJ:&amp;tbnh=104&amp;tbnw=70&amp;start=1&amp;prev=/images%3Fq%3Dvarices%26hl%3Des%26lr%3D%26sa%3D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nlm.nih.gov/medlineplus/spanish/ency/images/ency/fullsize/17095.jpg&amp;imgrefurl=http://www.nlm.nih.gov/medlineplus/spanish/ency/esp_imagepages/17095.htm&amp;h=320&amp;w=400&amp;sz=16&amp;tbnid=iGSOk_zV5NQJ:&amp;tbnh=96&amp;tbnw=120&amp;start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personales.ya.com/erfac/sangre.gif&amp;imgrefurl=http://personales.ya.com/erfac/circu.htm&amp;h=302&amp;w=539&amp;sz=31&amp;tbnid=CDy-VVrFQU0J:&amp;tbnh=72&amp;tbnw=129&amp;start=5&amp;prev=/images%3Fq%3Dsangre%26hl%3Des%26lr%3D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ris.cnice.mecd.es/biosfera/alumno/1bachillerato/animal/imagenes/respira/animares.gif&amp;imgrefurl=http://iris.cnice.mecd.es/biosfera/alumno/1bachillerato/animal/contenidos8.htm&amp;h=368&amp;w=154&amp;sz=50&amp;tbnid=QoBAcFSMSt8J:&amp;tb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personales.ya.com/erfac/renal.gif&amp;imgrefurl=http://personales.ya.com/erfac/excetor.htm&amp;h=334&amp;w=240&amp;sz=10&amp;tbnid=fSNSU1-s7_kJ:&amp;tbnh=114&amp;tbnw=82&amp;start=42&amp;prev=/images%3Fq%3Dfuncion%2Brenal%26start%3D40%26hl%3Des%26lr%253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mujer.latercera.cl/2001/09/01/img/riniones01.gif&amp;imgrefurl=http://mujer.latercera.cl/2001/09/01/renal1.htm&amp;h=151&amp;w=150&amp;sz=12&amp;tbnid=YjgJ77zxTwUJ:&amp;tbnh=90&amp;tbnw=89&amp;start=47&amp;prev=/images%3Fq%3Dfuncion%2Brenal%26start%3D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gatomaquia.freewebpage.org/bladder.gif&amp;imgrefurl=http://gatomaquia.freewebpage.org/gatomaquia3_vet_KRF.html&amp;h=352&amp;w=253&amp;sz=14&amp;tbnid=SYhLBBXyaOIJ:&amp;tbnh=115&amp;tbnw=83&amp;start=45&amp;prev=/images%3Fq%3Dfuncion%2Brenal%26start%25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edilegis.com/BancoConocimiento/T/Tribuna103n3_APB2/imagenes/orina.jpg&amp;imgrefurl=http://www.medilegis.com/BancoConocimiento/T/Tribuna103n3_APB2/ABP-2A.htm&amp;h=205&amp;w=167&amp;sz=5&amp;tbnid=ZRtCLvN2PFsJ:&amp;tbnh=99&amp;tbnw=81&amp;sta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araucaria2000.cl/digestivo/sistemadigestivo.gif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sicoactiva.com/atlas/hipofisis.jpg&amp;imgrefurl=http://www.psicoactiva.com/atlas/hipofisi.htm&amp;h=405&amp;w=557&amp;sz=24&amp;tbnid=DPPWYrK94jMJ:&amp;tbnh=95&amp;tbnw=131&amp;start=1&amp;prev=/images%3Fq%3Dhipofisis%26hl%3Des%26lr%3D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mhs.org/crs/wha/art/sdigesti.jpg&amp;imgrefurl=http://www.pmhs.org/crs/wha/art/sdigesti.htm&amp;h=1404&amp;w=953&amp;sz=123&amp;tbnid=MDyjTKF__5MJ:&amp;tbnh=149&amp;tbnw=101&amp;start=43&amp;prev=/images%3Fq%3Dsistema%2Bdigestivo%26start%3D40%26h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tienda.todamujer.com/imagenes/ima_talleres/alimen_g.jpg&amp;imgrefurl=http://tienda.todamujer.com/productos/talleres.html&amp;h=400&amp;w=400&amp;sz=43&amp;tbnid=3vAtNzG5Wz8J:&amp;tbnh=120&amp;tbnw=120&amp;start=1&amp;prev=/images%3Fq%3Dhabitos%2Balim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carito.latercera.cl/enc_virtual/c_nat/hepatitis/img/higado.gif&amp;imgrefurl=http://icarito.latercera.cl/enc_virtual/c_nat/hepatitis/&amp;h=230&amp;w=244&amp;sz=26&amp;tbnid=B5gMFYe57JUJ:&amp;tbnh=98&amp;tbnw=104&amp;start=2&amp;prev=/images%3Fq%3Dhi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ursos.puc.cl/citela/www.cti.espol.edu.ec/related/atees/lasalle/imagenes/trabajos/fotosbiolo/vesicula%2520biliar.gif&amp;imgrefurl=http://cursos.puc.cl/citela/www.cti.espol.edu.ec/related/atees/lasalle/html/biologia.htm" TargetMode="External"/><Relationship Id="rId2" Type="http://schemas.openxmlformats.org/officeDocument/2006/relationships/hyperlink" Target="http://images.google.cl/imgres?imgurl=http://cursos.puc.cl/citela/www.cti.espol.edu.ec/related/atees/lasalle/imagenes/trabajos/fotosbiolo/vesicula%2520biliar.gif&amp;imgrefurl=http://cursos.puc.cl/citela/www.cti.espol.edu.ec/related/atees/lasalle/html/biologia.htm" TargetMode="External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obesite.com/sante/diabete/images/pancreaP.jp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personales.ya.com/erfac/cerebro3.gif&amp;imgrefurl=http://personales.ya.com/erfac/nervio.htm&amp;h=331&amp;w=510&amp;sz=14&amp;tbnid=71yI1GpYthIJ:&amp;tbnh=83&amp;tbnw=128&amp;start=3&amp;prev=/images%3Fq%3Dsistema%2Bnervioso%26hl%3Des%26lr%3D" TargetMode="External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ibce.edu.uy/cerebro1.gif&amp;imgrefurl=http://iibce.edu.uy/material.htm&amp;h=357&amp;w=394&amp;sz=85&amp;tbnid=rtd-mFk6U4wJ:&amp;tbnh=108&amp;tbnw=119&amp;start=24&amp;prev=/images%3Fq%3Dsistema%2Bnervioso%26start%3D20%26hl%3Des%26lr%3D%26sa%3DN" TargetMode="External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acupuntura-orgon.com.ar/concie2.gif&amp;imgrefurl=http://www.acupuntura-orgon.com.ar/concierto1.htm&amp;h=106&amp;w=113&amp;sz=5&amp;tbnid=d9cQ4t1ORYwJ:&amp;tbnh=75&amp;tbnw=80&amp;start=54&amp;prev=/images%3Fq%3Dpsiquis%26start%3D40%26hl%3Des%26l" TargetMode="External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si-educa.net/basico/img/ct/157.gif&amp;imgrefurl=http://www.si-educa.net/sieduca-file-83&amp;h=206&amp;w=225&amp;sz=12&amp;tbnid=v-wnqex1rWoJ:&amp;tbnh=93&amp;tbnw=102&amp;start=9&amp;prev=/images%3Fq%3DORGANOS%2BSENTIDOS%26hl%3Des%26lr%3D%26sa%3D" TargetMode="External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areastematicas.com/www/areatematicadme/contenidos/8/Artritis/11.jpg&amp;imgrefurl=http://areastematicas.com/www/areatematicadme/contenidos/8/Artrosis.php&amp;h=940&amp;w=600&amp;sz=41&amp;tbnid=V6zL-CrCPwYJ:&amp;tbnh=146&amp;tbnw=93&amp;start=4&amp;pr" TargetMode="External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http://www.dermatologia.net/Fotos/estrias.jpg" TargetMode="External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dclassperu.com/embarazada.jpg&amp;imgrefurl=http://www.dclassperu.com/quienes.htm&amp;h=245&amp;w=152&amp;sz=8&amp;tbnid=AgJ26wIZ61QJ:&amp;tbnh=105&amp;tbnw=65&amp;start=29&amp;prev=/images%3Fq%3Dembarazada%26start%3D20%26hl%3Des%26lr%3D%26sa%3DN" TargetMode="External"/><Relationship Id="rId2" Type="http://schemas.openxmlformats.org/officeDocument/2006/relationships/image" Target="../media/image64.jpeg"/><Relationship Id="rId3" Type="http://schemas.openxmlformats.org/officeDocument/2006/relationships/hyperlink" Target="http://images.google.cl/imgres?imgurl=http://www.nordesud.it/jpg/uccelli02.JPG&amp;imgrefurl=http://www.nordesud.it/htm/uccelli.html&amp;h=340&amp;w=226&amp;sz=9&amp;tbnid=39f2SYXYrmoJ:&amp;tbnh=114&amp;tbnw=76&amp;start=40&amp;prev=/images%3Fq%3Dpinguino%26start%3D20%26hl%3Des%26lr%3D%26sa%3DN" TargetMode="External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2743200"/>
            <a:ext cx="7999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ahoma"/>
              </a:rPr>
              <a:t>Modificaciones anatóm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ahoma"/>
              </a:rPr>
              <a:t>y fisiológicas en la mujer embaraz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440" y="6035760"/>
            <a:ext cx="37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mma Góm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adémico Matr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to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360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óbulo posterior  Hipóf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Hormona Ocitoxi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vorece actividad uterina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imula fibra músculo ute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cta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Hormona  Vasopresina- Antidiur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gula presión ar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minuye la eliminación de agu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IDA MEDIA DE ESTAS HORMONAS ES DE 10 MIN APR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Glándula Pin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mpos de energía  del cere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akras ( rueda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o de las características sico- afectivas del individ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mo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ipersensibilidad de la embara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352600"/>
            <a:ext cx="38098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Otros cambios del sistema  Endocr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Tiroi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Hipertrofia no asociad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atologí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de 13 sem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o metabolismo basal de  20% llega 30% final embara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vorece relación curva del yodo en plasma con hormona tiroidea circu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o temperatura en la gestante ( 4 a 6 décimas de gr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513160"/>
            <a:ext cx="38098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Otros cambios del Sistema Endocr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tiroi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enta hiperfunció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respuest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etal de cal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 permite movilización de calcio desde las reservas de la madre al 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Otros cambios del Sistema Endocrin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PRAREN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estas glándulas se produce la Aldosterona que cumple un rol fundamental durante el embarazo dado que es la encargada de regular la pérdida de agua y 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umento cortisol, por mayor demanda gluc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132000" y="2120760"/>
            <a:ext cx="8894880" cy="360"/>
            <a:chOff x="3132000" y="2120760"/>
            <a:chExt cx="8894880" cy="360"/>
          </a:xfrm>
        </p:grpSpPr>
        <p:sp>
          <p:nvSpPr>
            <p:cNvPr id="78" name=""/>
            <p:cNvSpPr/>
            <p:nvPr/>
          </p:nvSpPr>
          <p:spPr>
            <a:xfrm>
              <a:off x="3132000" y="2120760"/>
              <a:ext cx="8894880" cy="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32000" y="2120760"/>
              <a:ext cx="8894880" cy="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suprarenales" descr=""/>
          <p:cNvPicPr/>
          <p:nvPr/>
        </p:nvPicPr>
        <p:blipFill>
          <a:blip r:embed="rId1"/>
          <a:stretch/>
        </p:blipFill>
        <p:spPr>
          <a:xfrm>
            <a:off x="4648320" y="2306520"/>
            <a:ext cx="3809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Sistema Endocr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prarre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an célula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roma fines las cuales secretan Adrenalina y Noradrenal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o de secreción de Glucocorticoide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drógenos que producen Hirsutismo mate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514600"/>
            <a:ext cx="38098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Hormonales 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onadotrofina Corionica Hum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c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la  encargan d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cretar la horm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inicia su producción 1-2 días despu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 detecta en examen con valor sobre 100.000 mUI/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Identificación Clínica del 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tificable en examen de laboratorio entre la  5 y 6 semanas de embarazo (su valor se duplica cada 2 dí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CG constituida por cadenas proteicas A 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orina o sangre (Test de embarazo). La más segura es la cuantificación en sangre y en ella se mide la sub.Unidad B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Niveles de HCG  en Sangr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2209680"/>
          <a:ext cx="5867280" cy="4253040"/>
        </p:xfrm>
        <a:graphic>
          <a:graphicData uri="http://schemas.openxmlformats.org/drawingml/2006/table">
            <a:tbl>
              <a:tblPr/>
              <a:tblGrid>
                <a:gridCol w="2819160"/>
                <a:gridCol w="3048120"/>
              </a:tblGrid>
              <a:tr h="135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 s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U/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800 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7  sem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200 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ficacion e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sem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 20 se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.000 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 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ta  60.000 p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424240" y="263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Hormonales 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detección de esta hormona permite el diagnóstico precoz del embarazo y constatar patologías generadas por este (Ej.: embarazo ectópico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ak 7a-8a semana,  disminuye nivel  progresivo hasta 17a semana manteniendo un valor constante hasta final del embar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resenta a nivel urinario hasta 60 días después del pa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Generalidades de las Modif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arcan todos los sistemas y órganos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to nivel de hormonas: Estrógenos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gesterona y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os cambios represent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respuesta del organismo materno a una adaptación impuesta por el f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demanda metabólica impuesta por f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Comportamiento de la curva  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90512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80060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022560"/>
            <a:ext cx="1981440" cy="1778040"/>
          </a:xfrm>
          <a:custGeom>
            <a:avLst/>
            <a:gdLst/>
            <a:ahLst/>
            <a:rect l="l" t="t" r="r" b="b"/>
            <a:pathLst>
              <a:path w="1248" h="1120">
                <a:moveTo>
                  <a:pt x="0" y="1120"/>
                </a:moveTo>
                <a:cubicBezTo>
                  <a:pt x="208" y="624"/>
                  <a:pt x="416" y="128"/>
                  <a:pt x="624" y="64"/>
                </a:cubicBezTo>
                <a:cubicBezTo>
                  <a:pt x="832" y="0"/>
                  <a:pt x="880" y="600"/>
                  <a:pt x="1248" y="7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19112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3044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70160" y="52228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3600" y="59850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MA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Hormonales HP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ormona Lactógeno Placent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sinciciotrofoblasto es el  encargado de secretar esta  horm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nto HCG ejerce acción lutiotro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 inhibe ovu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minuye absorción gluc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orma clínicas -efecto Diabeto gé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Transporte facilitado glucosa a nivel place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tectar posible efecto diabeto génico a través d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amen  de sang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Test tolerancia a glucosa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e solicita a todas  las embarazada e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ide nivel glucosa a las 2 ho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12880"/>
            <a:ext cx="38098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stró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l Cuerpo Lúteo, Placenta y la corteza adrenal del fe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: encargados de producirla y mantenerla durante el embara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a lentamente durante el embarazo llegando a su Peak al término de é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ción prolif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ndamental a nivel de los órgano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pios de la gestación (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útero,  vagi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ulva,mamas, conductos mamari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4560" y="1981080"/>
            <a:ext cx="349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Curva comparativa hormonas 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strogenos – Progesterona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6338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dad  embar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33720" y="2971800"/>
          <a:ext cx="5867280" cy="3124080"/>
        </p:xfrm>
        <a:graphic>
          <a:graphicData uri="http://schemas.openxmlformats.org/drawingml/2006/table">
            <a:tbl>
              <a:tblPr/>
              <a:tblGrid>
                <a:gridCol w="5867280"/>
              </a:tblGrid>
              <a:tr h="31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rim                 2 trim               3 tr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 flipV="1">
            <a:off x="2209680" y="3504960"/>
            <a:ext cx="426744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04812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1240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60199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601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714280" y="60199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609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-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5812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geste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Estro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962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Progeste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erpo amarillo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lacenta 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prarrenales f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creciente hasta 32  a 34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ción en  músculo liso,  proliferación celular nivel m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orina  se encuentra como pregnadi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7280" y="1981080"/>
            <a:ext cx="263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Acción de la Progesteron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idencia clínic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hibe acción de la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lacti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y se  activa al salir la plac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ndencia a la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jación músculo li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todos los órg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ndencia a vaso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latación veno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mbios percibidos al examen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mentario de la mujer Ej.  hipertrofia  mama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Hormonales no Placentarios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C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berada por la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ituitari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o progresivo durante gestación pero disminuye después 24 sem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dorf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berada por hipófisis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rmal gestación, aumento proximidades pa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lac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retada por pituitaria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cta alrededor 10º semana, su mayor concentración se produce con la salida de la place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Metabo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cuo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ención agua  responsable  de la mitad incremento  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ención  de agua acción de  est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posición de  pie que aumenta reabsorción sodio y agua por r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ión intra vascular miembros inf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 edem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67160" y="19810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Metabo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teic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minución de la albúm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brinógeno:  gran au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gG- IgA, IgM  disminuyen levemente para mantener homeat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1800" y="1981080"/>
            <a:ext cx="337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esarrollo 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docrino,  hormonas sostenedoras y coayud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ardiovascular y sangui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spi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iges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erv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mu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iel y tegu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titud y mar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Metabó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tabolismo Carbohidr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abeto génic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sulinaza y Lactógeno  Placentario potenciada por Estrógeno,  Progesterona, y  Cortisol  quienes bloquea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eptores par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r Consumo constante glucosa 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996920"/>
            <a:ext cx="380988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Metabó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etabolismo Carbohidr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luconegénesis a partir ácidos grasos libres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umulación  de  desech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ínicamente se  evalúa por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licemia ayun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tiend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 menor, se debe valorar según edad gest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de Test sobrecarga glucosa, Test toler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2247840"/>
            <a:ext cx="38098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Metabo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tabolismo Líp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o lípido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smáticos en l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nda mitad de la g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o de lípido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tales, colesterol 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iglicé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Metabo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tabolismo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erro: detecta a través de ferritina se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 normal (600 m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B  de 13 a 14 baja 10 g/d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alores disminuye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 partir 20 sema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vención: suplementacion de  fier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99120" y="1981080"/>
            <a:ext cx="270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EQUILIBRIO ÁCIDO BÁSIC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Y ELECTROLÍ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ponibilidad de O2 en tej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El aumento de la CO2 y de H+ disminuye la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Arial"/>
              </a:rPr>
              <a:t>afinidad de la HB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Arial"/>
              </a:rPr>
              <a:t>co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oxigen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sviación HB a la derech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 efecto Bohr) contrarres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-3 difosfoglicerato eritrocitos maternos, facilita entrega oxígeno al f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lectrolit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minuyen  la concentración por hemodiluc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icarbonat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0-220 mmo/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H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table 7.3 a 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2363760"/>
            <a:ext cx="38098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FECTO BOH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09480" y="2438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876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486400" y="2438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4876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378240"/>
            <a:ext cx="2286000" cy="1498680"/>
          </a:xfrm>
          <a:custGeom>
            <a:avLst/>
            <a:gdLst/>
            <a:ahLst/>
            <a:rect l="l" t="t" r="r" b="b"/>
            <a:pathLst>
              <a:path w="1440" h="944">
                <a:moveTo>
                  <a:pt x="0" y="944"/>
                </a:moveTo>
                <a:cubicBezTo>
                  <a:pt x="100" y="940"/>
                  <a:pt x="200" y="936"/>
                  <a:pt x="288" y="800"/>
                </a:cubicBezTo>
                <a:cubicBezTo>
                  <a:pt x="376" y="664"/>
                  <a:pt x="336" y="256"/>
                  <a:pt x="528" y="128"/>
                </a:cubicBezTo>
                <a:cubicBezTo>
                  <a:pt x="720" y="0"/>
                  <a:pt x="1312" y="40"/>
                  <a:pt x="1440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3124080"/>
            <a:ext cx="2209680" cy="1473480"/>
          </a:xfrm>
          <a:custGeom>
            <a:avLst/>
            <a:gdLst/>
            <a:ahLst/>
            <a:rect l="l" t="t" r="r" b="b"/>
            <a:pathLst>
              <a:path w="1392" h="928">
                <a:moveTo>
                  <a:pt x="1392" y="816"/>
                </a:moveTo>
                <a:cubicBezTo>
                  <a:pt x="1180" y="872"/>
                  <a:pt x="968" y="928"/>
                  <a:pt x="864" y="816"/>
                </a:cubicBezTo>
                <a:cubicBezTo>
                  <a:pt x="760" y="704"/>
                  <a:pt x="912" y="280"/>
                  <a:pt x="768" y="144"/>
                </a:cubicBezTo>
                <a:cubicBezTo>
                  <a:pt x="624" y="8"/>
                  <a:pt x="128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3520" y="5222880"/>
            <a:ext cx="50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h alterado AUMENTA ( H+ Y CO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53600" y="514656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H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6840" y="2438280"/>
            <a:ext cx="26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3 difosfoglic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7320" y="1336680"/>
            <a:ext cx="38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rva hemoglob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remento de afinidad  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0242" descr="Anatomía normal"/>
          <p:cNvPicPr/>
          <p:nvPr/>
        </p:nvPicPr>
        <p:blipFill>
          <a:blip r:embed="rId1"/>
          <a:stretch/>
        </p:blipFill>
        <p:spPr>
          <a:xfrm>
            <a:off x="609480" y="1752480"/>
            <a:ext cx="60199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en el Sistema Cardiovas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 de sangr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umenta de 4,5 a 6 lt/min. desde las 10 semana hasta term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uencia cardiac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umenta entre 15 y 20 latidos por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a oferta de oxig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ión venosa  de venas yugulares y aurícula derecha no se mod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fectos  cambios Circulatorios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orque se produc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querimientos f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daptación de la ma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eparación  de la gestante para el par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Hemodilución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yor produccion de 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Aumento  40 -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Eritrocitos aumenta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olo 33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4114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5867280" y="5410080"/>
            <a:ext cx="2286000" cy="838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4572000"/>
            <a:ext cx="243828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4572000"/>
            <a:ext cx="1447920" cy="76212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5638680"/>
            <a:ext cx="15242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matí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Sistema Endocr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ndo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1041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Cambios  Anatómicos  y Funcionales del Coraz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 desplaz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hacia arriba y delante por elevación diafrag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parición de soplos funcionale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transitorios por acodadura de v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a turbulencia sang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.C.G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uede alterarse cambios actividad elé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60800" y="1981080"/>
            <a:ext cx="3184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Gasto Cardiaco y Embar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 cardiaco, frecuencia cardiaca / volumen de ey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menta eyección  al do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istencia periférica disminuida por efecto progester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images" descr=""/>
          <p:cNvPicPr/>
          <p:nvPr/>
        </p:nvPicPr>
        <p:blipFill>
          <a:blip r:embed="rId1"/>
          <a:stretch/>
        </p:blipFill>
        <p:spPr>
          <a:xfrm>
            <a:off x="4960800" y="1981080"/>
            <a:ext cx="3184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Cardiovas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ión Ar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ólica y diast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mbios part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mend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urante trabajo de parto aumenta por contracciones por lo tanto debe ser medida en intervalos de rep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Comportamiento Presión Arterial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n  las embarazadas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2514600"/>
            <a:ext cx="5257800" cy="251460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24382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3200400"/>
            <a:ext cx="761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585324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trim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 embar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T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5105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0 24 se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94520" y="517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029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 Trim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6252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365760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36576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88620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257800" y="373356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373392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73392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Sistema Cardiovas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ión venos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n miembros inf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o progresiv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ión mecánica  del útero  (17 sem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ión cabeza sobre vena iliaca (32-34 sem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acción vena cava por torsión híg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strucción hidrodinámica por sangre út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parición varices y hemor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6360" y="1981080"/>
            <a:ext cx="276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Resumen Cambios Genera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43000" y="2057400"/>
          <a:ext cx="6810480" cy="46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81048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2286000"/>
          <a:ext cx="8381880" cy="316836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b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a to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a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o volemia y hemodiluc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idades fetales y adaptacion mater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mendación posicion decubito lateral izquierdo, descanso con alzamiento extremidades inferi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Sistema Sanguin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images" descr=""/>
          <p:cNvPicPr/>
          <p:nvPr/>
        </p:nvPicPr>
        <p:blipFill>
          <a:blip r:embed="rId1"/>
          <a:stretch/>
        </p:blipFill>
        <p:spPr>
          <a:xfrm>
            <a:off x="1905120" y="1689120"/>
            <a:ext cx="49528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del Sistema Sanguín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 sanguíneo total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incrementado,   aumenta volumen plasmático mas que glob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aumento comienza  en la 10º semana máximo en 32 s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uento eritrocitos 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centración de HB de                     (14 a 11 gr./100ml) baja a 11 gr. / 100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514600"/>
            <a:ext cx="38098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en Sistema Sanguín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Tahoma"/>
              </a:rPr>
              <a:t>COMPONENTES  SANG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lementos Coagulación: aumento de  todos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ibrinógeno: aumento en 50% llegando a 450-6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g/ml  determina el aumento veloc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05740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Sistema  Sanguín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actores coagul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comportamiento e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actor VII   aum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actor VIII  aum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actor IX   aum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actor X   aum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 V no camb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 XI  no ca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 XII no ca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pro trombina aum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 Eritro sedimentación aumenta de 20 hasta 80 mm en sangre citratada.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je  Hipotálamo –Hipófisi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ipotalamo_hipofisis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972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Velocidad Horaria de Sedimentacion (VH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valor en las no gestantes es de 20 mm/h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la gestante aumenta significativamente hasta (180mm/hora). Producida por aumento de globulina y fibrino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mendaci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no es una evidencia clinica para diagnosticar infecciones durante el embar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Resumen Cambios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80880" y="2438280"/>
          <a:ext cx="8305920" cy="321480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b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a to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uin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acion elementos coagulacion, componentes sangre (globulos rojos y blanc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modilucion,  aumento vol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 a traves de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es, hematocrito, hemoglobina, en casos particulares ingesta de fier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Cambios Sistema Respira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images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172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en Sistema Respira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mbios significativos por requerimiento de fe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fisiología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pacidad respiratori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antidad de aire que se aloja en el pulmón al termino de una expi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43160" y="1881360"/>
            <a:ext cx="9144000" cy="360"/>
            <a:chOff x="3143160" y="1881360"/>
            <a:chExt cx="9144000" cy="360"/>
          </a:xfrm>
        </p:grpSpPr>
        <p:sp>
          <p:nvSpPr>
            <p:cNvPr id="237" name=""/>
            <p:cNvSpPr/>
            <p:nvPr/>
          </p:nvSpPr>
          <p:spPr>
            <a:xfrm>
              <a:off x="3143160" y="188136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43160" y="188136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img3" descr=""/>
          <p:cNvPicPr/>
          <p:nvPr/>
        </p:nvPicPr>
        <p:blipFill>
          <a:blip r:embed="rId1"/>
          <a:stretch/>
        </p:blipFill>
        <p:spPr>
          <a:xfrm>
            <a:off x="465444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efinicion de volumen y capacidad respirator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olumen respir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aire que puede movilizar el aparato respirator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apacidad pulm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istintas cantidades de aire que mueve un individu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1981080"/>
            <a:ext cx="172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en la Función Pulmo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Ventilación alve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alor más importante de la función pulm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 constituy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ire corriente menos aire espacio muer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 lugar donde se produce intercambio gaseoso,  la sangre adquiere oxigeno y desprende CO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Función Respir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tir 20 sema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umenta volum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nuto respi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umento ventila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ve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yor volumen ai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minuye volum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ire resid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 air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lmonar 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minuy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Función Respir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sumo oxígeno aumenta 20%, oferta es 60% por aumento volumen minuto y camb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emodiná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Hiperventilación, necesidad aire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udo dis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centración alveolar anhídrido carbónico menor con una PCO2 31 mmHg (40mmhg), efecto Progesterona centro respi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piración gestante tipo costal sobre abdo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Resumen Camb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80880" y="1828800"/>
          <a:ext cx="8077320" cy="339552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  <a:gridCol w="2019240"/>
                <a:gridCol w="20192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b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a to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ira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o ventilacion alveol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mo oxige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cion diafr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o de necesidades fe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ptacion ma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cion descanso semisent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ubito lateral izquie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Sistema Re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3520" y="18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11_25apare2" descr=": : :  sistema excretor  : : :"/>
          <p:cNvPicPr/>
          <p:nvPr/>
        </p:nvPicPr>
        <p:blipFill>
          <a:blip r:embed="rId1"/>
          <a:stretch/>
        </p:blipFill>
        <p:spPr>
          <a:xfrm>
            <a:off x="2209680" y="1752480"/>
            <a:ext cx="510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je Neuro  Endocrin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eje se encuentra constituido por el hipotálamo y la hipófi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l hipotálamo quien a su vez influido por los diferentes impulsos nerviosos generados en el SNC, envía a la hipófisis toda la inform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procedencia  o naturaleza del estim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acción entre sistemas nervioso y endoc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 en el Sistema Renal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iñ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structura  histológica no ca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lujo sanguíneo renal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umenta 300 a 1.400 ml/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lujo plasmático renal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umenta 200 a 800 ml/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ienden 8 a 12 sema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vio al  pa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3480" y="1981080"/>
            <a:ext cx="29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en la  Función Renal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minución: obstrucción árbol urinario y cava 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 Filtración Glomerular aumenta 14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l/min. desde primeras semanas, evolu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terior no clara, disminuye final g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ltración sodio y  agua eleva progresiv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ltración glucosa, yodo, ácido fólico aumen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a depuración urea, ácido úrico y creatin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Función Re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nción renal varia según posición embara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bito dorsal meno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flujo plasmático y sanguíneo que de cubito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a compresión de útero y disminución volumen circulante (posición do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112840"/>
            <a:ext cx="38098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 Uréteres Re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latación y Acod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plazamien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 lateral encima estrecho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mbios acentúan más lado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rren después 19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 a altos niveles de progeste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67360" y="198108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Uréte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istológic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iperplasia e hipertrofia de tejido muscular nivel intermedio uréter, específicamente capa de Walde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aumento tejido conectivo, edema y congest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ncional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enso frecuencia contráctil cercana a veji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Nivel Ves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longación y ensancha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mento volumen residual por cambio en pared posterior, predisposición a la  infección urin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eatos ureterales separados, edematosos conges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Termino del   embarazo, se produce incontinencia funcional y polaqi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48320" y="2384280"/>
            <a:ext cx="38098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en la Or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uresis: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minuye progresivamente, dependiendo posición ge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mento diuresis nocturn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nsidad urinaria disminuy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aparecer gluc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teinuria hasta 0.3 g/l en orina 24 ho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mbarazadas sin pat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minuyen cloruros en presencia ed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dimento urinario no se 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7920" y="1981080"/>
            <a:ext cx="336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Resumen camb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62120" y="1981080"/>
          <a:ext cx="7696080" cy="4361040"/>
        </p:xfrm>
        <a:graphic>
          <a:graphicData uri="http://schemas.openxmlformats.org/drawingml/2006/table">
            <a:tbl>
              <a:tblPr/>
              <a:tblGrid>
                <a:gridCol w="1923840"/>
                <a:gridCol w="2021040"/>
                <a:gridCol w="1827000"/>
                <a:gridCol w="19242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b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a to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o flujo sanguineo y flujo plasmatico ren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eteral – ves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ongacion, compre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idades fetales y adaptacion ma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 progester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r sobre posicion de descanzo decubito lateral izquie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tener frecuencia mic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i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tiquez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Sistema Diges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images" descr=""/>
          <p:cNvPicPr/>
          <p:nvPr/>
        </p:nvPicPr>
        <p:blipFill>
          <a:blip r:embed="rId1"/>
          <a:stretch/>
        </p:blipFill>
        <p:spPr>
          <a:xfrm>
            <a:off x="1676520" y="1601640"/>
            <a:ext cx="51814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Diges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morfológicos y funcionales a nivel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o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Hiperemia enc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Caries dentarias (vitamina c y calc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ófa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tóma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tonía cardias y píl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30840" y="1981080"/>
            <a:ext cx="344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Sistema Endocr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Con el embarazo el sistema endocrino sufre cambios complejos, dado que actúa como un  mecanismo regulador  de  hormonas tanto de orige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ater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lac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655720"/>
            <a:ext cx="380988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Diges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ntesti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hazado hacia diafragma, disminuyendo peristalt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péndice y ci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le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osa rect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a los pliegues y posibilidad hemor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97000" y="1981080"/>
            <a:ext cx="278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Diges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mbios aliment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ificaciones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ali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eos imperiosos o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hazos (1º trimest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auseas y vómitos hasta 16 sema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alorrea excesiva en algunos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Digestivo Ane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hazado hacia diafragma y rotado a 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istológicamente sin cambios, solo por actividad pronunc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243160"/>
            <a:ext cx="38098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a nivel Hep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etabolismo bilirrubina alterado por conjugación y excreción, de ésta  aumentada en el  ultimo trimestre, sin causar ictericia (4 vec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mento coleste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leva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titóx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menta reserv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itamina A,  B y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2568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is" descr=""/>
          <p:cNvPicPr/>
          <p:nvPr/>
        </p:nvPicPr>
        <p:blipFill>
          <a:blip r:embed="rId1"/>
          <a:stretch/>
        </p:blipFill>
        <p:spPr>
          <a:xfrm>
            <a:off x="4648320" y="2521080"/>
            <a:ext cx="38098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Digestivo Ane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Arial"/>
              </a:rPr>
              <a:t>Vesícula B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Arial"/>
              </a:rPr>
              <a:t>-Atonía, distensión y espasmo esfínter de Od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Arial"/>
              </a:rPr>
              <a:t>-Aumento de frecuencia litiasis b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567160"/>
            <a:ext cx="38098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 Sistema Digestivo Ane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á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ación propiedades proteolíticas y li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Función insulina aumenta por desarrollo de islotes de Langerhans la cual es transi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597040"/>
            <a:ext cx="3809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Resumen camb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09480" y="1905120"/>
          <a:ext cx="8229600" cy="4674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b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a to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es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cion estomago e intesti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o y mot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eactividad hepa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 a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crea aumento secrecion insul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cimiento uter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ester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ogeno ,  Coleste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ester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bios habitos alimenticios (horario, cantidady cal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Sistema Nervio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images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419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Nervio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parición trastornos nervio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nsom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centuación s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ural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efal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dontal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i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arest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lam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érti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Lipotim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286000"/>
            <a:ext cx="3962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Nervio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estabilidad y desequilibrio sistema neurovege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tornos vagotónicos transi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radic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rritmia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ipotensión l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tornos diges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308320"/>
            <a:ext cx="38098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en la Hipófisis durante el Embar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Antero hipófisis aumenta tamaño y vascularización por incremento de las células Lactotropas (productoras de prolactina (PR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La prolactina se relaciona con el ciclo reproductivo, mantención del embarazo y crecimiento fetal, ya que actúa en sinergia con otras hormonas o como supresora de e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Nervio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ificaciones síqu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mbios de carácter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rivados estado y situación part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Electro encefalogram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emejante a modificaciones producidas por  epilepsia, disminución actividad bioeléctrica de cere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17656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Órganos Sent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is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lteración infrec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persecreción lagr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minución tensión o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o tensión arteri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ntral re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ondo ojo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d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Disminución agudeza aud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usto: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eración gus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lfa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persensibilidad de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298600"/>
            <a:ext cx="38098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Sistema Esquelé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images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572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Sistema Ós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posición  al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irregular calcio, determina formación  de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ostiofito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ravíd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ráne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lv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rticulación Sacr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ccíg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tílago Es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1960" y="1981080"/>
            <a:ext cx="2622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usa  de Cambios  Inmunológ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formación genética deferente (50% madre y 50% pad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brión es u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o injert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or que fue fecundado por miembros genéticamente diferente pero misma espe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embargo hay una respuesta de protección más que rech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333440" y="1981080"/>
            <a:ext cx="251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iely Tegu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images" descr=""/>
          <p:cNvPicPr/>
          <p:nvPr/>
        </p:nvPicPr>
        <p:blipFill>
          <a:blip r:embed="rId1"/>
          <a:stretch/>
        </p:blipFill>
        <p:spPr>
          <a:xfrm>
            <a:off x="2209680" y="1601640"/>
            <a:ext cx="4876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Piel y Teg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i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cent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posición tipográfic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ípica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, fren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ómulos, labio superior, mamas, pezón, en cicatrices, línea media abdominal infra y supra umbilical, genitales exter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lanosito estimul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648320" y="2649600"/>
            <a:ext cx="3809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Cambios Piel y Teg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ría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--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bredistencion dermi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Abd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Recientes: ro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Antiguas: blanc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aca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ipersecreción células sebáce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arición lanugo hipertricosis lanuginen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35000" y="1981080"/>
            <a:ext cx="311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mbios  en el peso   de la embaraza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mento peso: ca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tribuye al  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útero  y  su contenido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mento de las mam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 de sang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líquido extravascular y ex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a parte responde a la retención de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mento promedio 10 a 12 Kg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medio mensual 1.5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Kg. al 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istribucion Peso Embaraz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stribución  del p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tención de agu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jidos nuev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Ú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to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lac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otal aprox. : 420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mos o 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esos_embarazo" descr="pesos_embarazo.GIF (24429 bytes)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Otros cambios en Antero hipófisi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erbación de la    secre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CTH – adenocortitotropa liberación grasas, coagulació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loración de la 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matotrofina  (crecimiento fetal y matern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SH ( estimulante tiro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FSH (hormona foliculo estimul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H    (hormona luteiniz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umplen importante   rol en el ciclo menstrual ya que actuan sobre las celulas dia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ambios Actitud Mar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ifica el  centro grav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rdosis lumbo sacra de compens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cha lenta, pesada y balanceada semejante palmípe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78320" y="1981080"/>
            <a:ext cx="2548080" cy="4114800"/>
          </a:xfrm>
          <a:prstGeom prst="rect">
            <a:avLst/>
          </a:prstGeom>
          <a:ln w="0">
            <a:noFill/>
          </a:ln>
        </p:spPr>
      </p:pic>
      <p:pic>
        <p:nvPicPr>
          <p:cNvPr id="341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4495680"/>
            <a:ext cx="132552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FERENCIA POSTUR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idencia clí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ndencia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umb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dema  d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tremidade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eri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siciones vicios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7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n413_05" descr=""/>
          <p:cNvPicPr/>
          <p:nvPr/>
        </p:nvPicPr>
        <p:blipFill>
          <a:blip r:embed="rId1"/>
          <a:stretch/>
        </p:blipFill>
        <p:spPr>
          <a:xfrm>
            <a:off x="4648320" y="2560680"/>
            <a:ext cx="3809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322092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is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75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380880"/>
            <a:ext cx="3048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Yo y mi hi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endemos  de usted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1520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cia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8:55:20Z</dcterms:created>
  <dc:creator>ale</dc:creator>
  <dc:description/>
  <dc:language>en-US</dc:language>
  <cp:lastModifiedBy>Universidad Chile</cp:lastModifiedBy>
  <dcterms:modified xsi:type="dcterms:W3CDTF">2005-04-01T19:04:53Z</dcterms:modified>
  <cp:revision>53</cp:revision>
  <dc:subject/>
  <dc:title>Modificaciones de la anatomía y fisiología materna producidas en el embarazo</dc:title>
</cp:coreProperties>
</file>