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3.jpeg" ContentType="image/jpeg"/>
  <Override PartName="/ppt/media/image30.png" ContentType="image/png"/>
  <Override PartName="/ppt/media/image29.jpeg" ContentType="image/jpeg"/>
  <Override PartName="/ppt/media/image8.jpeg" ContentType="image/jpeg"/>
  <Override PartName="/ppt/media/image23.jpeg" ContentType="image/jpeg"/>
  <Override PartName="/ppt/media/image4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13.jpeg" ContentType="image/jpeg"/>
  <Override PartName="/ppt/media/image9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2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14A-171A-4B84-8665-A4845C17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AE6-882B-4507-B5F3-7B96C416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953-ABB9-4367-B919-DF1B4006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FF9-C1DF-479E-9638-945A8386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2CE-43BA-4452-8DC3-F1CC699B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7C5-12D5-46C5-A163-AA9A07FF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C6E-2B14-47AB-B4C8-D918EB96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7F0-E9B4-4BF0-BCA9-DE2D0D5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06A-2174-4EE6-9AC4-8F30222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8EC-715D-4873-AE36-FC5C2CF6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79C-5939-4A49-A118-34DC449F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65D-B8ED-4CFA-84F9-A5F074A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4DFE-C86E-4102-B22E-BD9E4B618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ario de anatomía e irr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f. Susana Domíng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5805360"/>
            <a:ext cx="78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ar las imágenes de la guía, se aconseja pintar los esqu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onozca las estructuras de las imágenes de este sem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992" t="1221" r="0" b="0"/>
          <a:stretch/>
        </p:blipFill>
        <p:spPr>
          <a:xfrm>
            <a:off x="5076720" y="3933720"/>
            <a:ext cx="3622680" cy="2924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2006" t="3039" r="1870" b="0"/>
          <a:stretch/>
        </p:blipFill>
        <p:spPr>
          <a:xfrm>
            <a:off x="0" y="333360"/>
            <a:ext cx="4645080" cy="6191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rcRect l="2277" t="3076" r="5412" b="0"/>
          <a:stretch/>
        </p:blipFill>
        <p:spPr>
          <a:xfrm>
            <a:off x="5651640" y="0"/>
            <a:ext cx="3141360" cy="4005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251160" cy="5257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67280" y="3357720"/>
            <a:ext cx="5076720" cy="3101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819" t="1298" r="2593" b="2178"/>
          <a:stretch/>
        </p:blipFill>
        <p:spPr>
          <a:xfrm>
            <a:off x="0" y="333360"/>
            <a:ext cx="496728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89560" y="3789360"/>
            <a:ext cx="1015920" cy="151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9560" y="3306600"/>
            <a:ext cx="2270160" cy="3362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2756" t="4006" r="0" b="1347"/>
          <a:stretch/>
        </p:blipFill>
        <p:spPr>
          <a:xfrm>
            <a:off x="4427640" y="692280"/>
            <a:ext cx="4781520" cy="6165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3765" t="4604" r="0" b="0"/>
          <a:stretch/>
        </p:blipFill>
        <p:spPr>
          <a:xfrm>
            <a:off x="5148360" y="476280"/>
            <a:ext cx="3713040" cy="4465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rcRect l="4323" t="2911" r="1761" b="3160"/>
          <a:stretch/>
        </p:blipFill>
        <p:spPr>
          <a:xfrm>
            <a:off x="179280" y="115920"/>
            <a:ext cx="3888000" cy="37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8360" y="3995640"/>
            <a:ext cx="4282920" cy="2862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546" t="3753" r="1503" b="0"/>
          <a:stretch/>
        </p:blipFill>
        <p:spPr>
          <a:xfrm>
            <a:off x="0" y="204840"/>
            <a:ext cx="4535640" cy="6653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64" t="2750" r="0" b="2750"/>
          <a:stretch/>
        </p:blipFill>
        <p:spPr>
          <a:xfrm>
            <a:off x="0" y="0"/>
            <a:ext cx="4842000" cy="64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0660" t="11141" r="0" b="1711"/>
          <a:stretch/>
        </p:blipFill>
        <p:spPr>
          <a:xfrm>
            <a:off x="7093080" y="0"/>
            <a:ext cx="1809720" cy="4365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643280" y="4191120"/>
            <a:ext cx="4140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bas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interna. Sifón carotí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in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ex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verteb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carótida comú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onco tiro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subcla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ra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orta asce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orta descen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radicular de Adamkiewi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s radicu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teria ilíaca comú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6000"/>
          </a:blip>
          <a:srcRect l="4456" t="2389" r="0" b="0"/>
          <a:stretch/>
        </p:blipFill>
        <p:spPr>
          <a:xfrm>
            <a:off x="2050920" y="0"/>
            <a:ext cx="537696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2000"/>
          </a:blip>
          <a:srcRect l="5471" t="2090" r="2345" b="0"/>
          <a:stretch/>
        </p:blipFill>
        <p:spPr>
          <a:xfrm>
            <a:off x="4971960" y="115920"/>
            <a:ext cx="4172040" cy="580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bright="6000"/>
          </a:blip>
          <a:srcRect l="3367" t="2406" r="4051" b="1225"/>
          <a:stretch/>
        </p:blipFill>
        <p:spPr>
          <a:xfrm>
            <a:off x="0" y="189000"/>
            <a:ext cx="4968720" cy="5761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684360" y="6308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que los vasos in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371" t="2155" r="1482" b="0"/>
          <a:stretch/>
        </p:blipFill>
        <p:spPr>
          <a:xfrm>
            <a:off x="179280" y="189000"/>
            <a:ext cx="4356360" cy="652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>
            <a:lum bright="6000"/>
          </a:blip>
          <a:srcRect l="3699" t="0" r="0" b="0"/>
          <a:stretch/>
        </p:blipFill>
        <p:spPr>
          <a:xfrm>
            <a:off x="4716360" y="0"/>
            <a:ext cx="4427640" cy="6453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611" t="1683" r="0" b="0"/>
          <a:stretch/>
        </p:blipFill>
        <p:spPr>
          <a:xfrm>
            <a:off x="0" y="0"/>
            <a:ext cx="4762440" cy="6742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73" t="2758" r="665" b="1038"/>
          <a:stretch/>
        </p:blipFill>
        <p:spPr>
          <a:xfrm>
            <a:off x="4686480" y="404640"/>
            <a:ext cx="4457520" cy="583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794" t="2874" r="2413" b="0"/>
          <a:stretch/>
        </p:blipFill>
        <p:spPr>
          <a:xfrm>
            <a:off x="4896000" y="189000"/>
            <a:ext cx="4248000" cy="640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202" t="2756" r="2413" b="0"/>
          <a:stretch/>
        </p:blipFill>
        <p:spPr>
          <a:xfrm>
            <a:off x="0" y="0"/>
            <a:ext cx="4680000" cy="6669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483" t="1794" r="0" b="0"/>
          <a:stretch/>
        </p:blipFill>
        <p:spPr>
          <a:xfrm>
            <a:off x="0" y="260280"/>
            <a:ext cx="4983120" cy="659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163" t="2356" r="0" b="1640"/>
          <a:stretch/>
        </p:blipFill>
        <p:spPr>
          <a:xfrm>
            <a:off x="5003640" y="333360"/>
            <a:ext cx="4140360" cy="590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672" r="0" b="0"/>
          <a:stretch/>
        </p:blipFill>
        <p:spPr>
          <a:xfrm>
            <a:off x="0" y="3716280"/>
            <a:ext cx="3960720" cy="2919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8549" t="4385" r="2643" b="0"/>
          <a:stretch/>
        </p:blipFill>
        <p:spPr>
          <a:xfrm>
            <a:off x="0" y="0"/>
            <a:ext cx="4859280" cy="315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3324" t="3305" r="0" b="0"/>
          <a:stretch/>
        </p:blipFill>
        <p:spPr>
          <a:xfrm>
            <a:off x="4932360" y="115920"/>
            <a:ext cx="4211640" cy="338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465" t="2204" r="0" b="0"/>
          <a:stretch/>
        </p:blipFill>
        <p:spPr>
          <a:xfrm>
            <a:off x="4932360" y="3573360"/>
            <a:ext cx="4037040" cy="328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987640" y="2781360"/>
            <a:ext cx="2190960" cy="1677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4:47:08Z</dcterms:created>
  <dc:creator>Susana</dc:creator>
  <dc:description/>
  <dc:language>en-US</dc:language>
  <cp:lastModifiedBy>Susana</cp:lastModifiedBy>
  <dcterms:modified xsi:type="dcterms:W3CDTF">2004-11-10T01:47:48Z</dcterms:modified>
  <cp:revision>4</cp:revision>
  <dc:subject/>
  <dc:title>Diapositiva 1</dc:title>
</cp:coreProperties>
</file>