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3.jpeg" ContentType="image/jpeg"/>
  <Override PartName="/ppt/media/image30.png" ContentType="image/png"/>
  <Override PartName="/ppt/media/image29.jpeg" ContentType="image/jpeg"/>
  <Override PartName="/ppt/media/image8.jpeg" ContentType="image/jpeg"/>
  <Override PartName="/ppt/media/image23.jpeg" ContentType="image/jpeg"/>
  <Override PartName="/ppt/media/image4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2.jpeg" ContentType="image/jpeg"/>
  <Override PartName="/ppt/media/image13.jpeg" ContentType="image/jpeg"/>
  <Override PartName="/ppt/media/image9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.wmf" ContentType="image/x-wmf"/>
  <Override PartName="/ppt/media/image21.jpeg" ContentType="image/jpeg"/>
  <Override PartName="/ppt/media/image22.jpeg" ContentType="image/jpeg"/>
  <Override PartName="/ppt/media/image2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CE7-9917-46E1-BA38-EBFFC95F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E0B-9B80-435E-817E-C7843207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40B-2347-4D3D-B824-0E2DF497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3C14-5223-40D8-9EEE-B4E74028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B69-C269-45CB-A1EF-C6248677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0459-3A00-4E71-BA9E-C7173B35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72D-334C-4E31-BC4B-D8A2904F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67A-A678-4B5C-B6E9-C652E7C1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A5F-E233-4138-9814-0F6E5909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1D4-E9D3-4A46-B4A6-88427B1D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250E-029A-4B19-91A4-8C3804C2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21B4-452A-4E97-8961-93660EA9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D8A7-24EA-4AB4-94F4-171E644AB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minario de anatomía e irri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f. Susana Domíngu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5805360"/>
            <a:ext cx="7885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letar las imágenes de la guía, se aconseja pintar los esqu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conozca las estructuras de las imágenes de este sem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992" t="1221" r="0" b="0"/>
          <a:stretch/>
        </p:blipFill>
        <p:spPr>
          <a:xfrm>
            <a:off x="5076720" y="3933720"/>
            <a:ext cx="3622680" cy="2924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rcRect l="2006" t="3039" r="1870" b="0"/>
          <a:stretch/>
        </p:blipFill>
        <p:spPr>
          <a:xfrm>
            <a:off x="0" y="333360"/>
            <a:ext cx="4645080" cy="6191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rcRect l="2277" t="3076" r="5412" b="0"/>
          <a:stretch/>
        </p:blipFill>
        <p:spPr>
          <a:xfrm>
            <a:off x="5651640" y="0"/>
            <a:ext cx="3141360" cy="4005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251160" cy="5257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067280" y="3357720"/>
            <a:ext cx="5076720" cy="3101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995640" y="0"/>
            <a:ext cx="51483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7819" t="1298" r="2593" b="2178"/>
          <a:stretch/>
        </p:blipFill>
        <p:spPr>
          <a:xfrm>
            <a:off x="0" y="333360"/>
            <a:ext cx="4967280" cy="5256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489560" y="3789360"/>
            <a:ext cx="1015920" cy="1511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89560" y="3306600"/>
            <a:ext cx="2270160" cy="3362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rcRect l="2756" t="4006" r="0" b="1347"/>
          <a:stretch/>
        </p:blipFill>
        <p:spPr>
          <a:xfrm>
            <a:off x="4427640" y="692280"/>
            <a:ext cx="4781520" cy="6165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3765" t="4604" r="0" b="0"/>
          <a:stretch/>
        </p:blipFill>
        <p:spPr>
          <a:xfrm>
            <a:off x="5148360" y="476280"/>
            <a:ext cx="3713040" cy="4465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rcRect l="4323" t="2911" r="1761" b="3160"/>
          <a:stretch/>
        </p:blipFill>
        <p:spPr>
          <a:xfrm>
            <a:off x="179280" y="115920"/>
            <a:ext cx="3888000" cy="3744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68360" y="3995640"/>
            <a:ext cx="4282920" cy="2862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1546" t="3753" r="1503" b="0"/>
          <a:stretch/>
        </p:blipFill>
        <p:spPr>
          <a:xfrm>
            <a:off x="0" y="204840"/>
            <a:ext cx="4535640" cy="6653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2164" t="2750" r="0" b="2750"/>
          <a:stretch/>
        </p:blipFill>
        <p:spPr>
          <a:xfrm>
            <a:off x="0" y="0"/>
            <a:ext cx="4842000" cy="64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rcRect l="10660" t="11141" r="0" b="1711"/>
          <a:stretch/>
        </p:blipFill>
        <p:spPr>
          <a:xfrm>
            <a:off x="7093080" y="0"/>
            <a:ext cx="1809720" cy="4365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643280" y="4191120"/>
            <a:ext cx="4140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teria bas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teria carótida interna. Sifón carotí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teria carótida inte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teria carótida exte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teria verteb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teria carótida comú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ronco tirocerv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teria subclav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teria rad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orta asced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orta descend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teria radicular de Adamkiewi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terias radicu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teria ilíaca comú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6000"/>
          </a:blip>
          <a:srcRect l="4456" t="2389" r="0" b="0"/>
          <a:stretch/>
        </p:blipFill>
        <p:spPr>
          <a:xfrm>
            <a:off x="2050920" y="0"/>
            <a:ext cx="537696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12000"/>
          </a:blip>
          <a:srcRect l="5471" t="2090" r="2345" b="0"/>
          <a:stretch/>
        </p:blipFill>
        <p:spPr>
          <a:xfrm>
            <a:off x="4971960" y="115920"/>
            <a:ext cx="4172040" cy="5807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>
            <a:lum bright="6000"/>
          </a:blip>
          <a:srcRect l="3367" t="2406" r="4051" b="1225"/>
          <a:stretch/>
        </p:blipFill>
        <p:spPr>
          <a:xfrm>
            <a:off x="0" y="189000"/>
            <a:ext cx="4968720" cy="5761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684360" y="630864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que los vasos indi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371" t="2155" r="1482" b="0"/>
          <a:stretch/>
        </p:blipFill>
        <p:spPr>
          <a:xfrm>
            <a:off x="179280" y="189000"/>
            <a:ext cx="4356360" cy="652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>
            <a:lum bright="6000"/>
          </a:blip>
          <a:srcRect l="3699" t="0" r="0" b="0"/>
          <a:stretch/>
        </p:blipFill>
        <p:spPr>
          <a:xfrm>
            <a:off x="4716360" y="0"/>
            <a:ext cx="4427640" cy="6453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3611" t="1683" r="0" b="0"/>
          <a:stretch/>
        </p:blipFill>
        <p:spPr>
          <a:xfrm>
            <a:off x="0" y="0"/>
            <a:ext cx="4762440" cy="6742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rcRect l="5073" t="2758" r="665" b="1038"/>
          <a:stretch/>
        </p:blipFill>
        <p:spPr>
          <a:xfrm>
            <a:off x="4686480" y="404640"/>
            <a:ext cx="4457520" cy="5832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794" t="2874" r="2413" b="0"/>
          <a:stretch/>
        </p:blipFill>
        <p:spPr>
          <a:xfrm>
            <a:off x="4896000" y="189000"/>
            <a:ext cx="4248000" cy="6408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rcRect l="2202" t="2756" r="2413" b="0"/>
          <a:stretch/>
        </p:blipFill>
        <p:spPr>
          <a:xfrm>
            <a:off x="0" y="0"/>
            <a:ext cx="4680000" cy="6669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3483" t="1794" r="0" b="0"/>
          <a:stretch/>
        </p:blipFill>
        <p:spPr>
          <a:xfrm>
            <a:off x="0" y="260280"/>
            <a:ext cx="4983120" cy="6597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rcRect l="4163" t="2356" r="0" b="1640"/>
          <a:stretch/>
        </p:blipFill>
        <p:spPr>
          <a:xfrm>
            <a:off x="5003640" y="333360"/>
            <a:ext cx="4140360" cy="5904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4672" r="0" b="0"/>
          <a:stretch/>
        </p:blipFill>
        <p:spPr>
          <a:xfrm>
            <a:off x="0" y="3716280"/>
            <a:ext cx="3960720" cy="2919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rcRect l="8549" t="4385" r="2643" b="0"/>
          <a:stretch/>
        </p:blipFill>
        <p:spPr>
          <a:xfrm>
            <a:off x="0" y="0"/>
            <a:ext cx="4859280" cy="315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rcRect l="3324" t="3305" r="0" b="0"/>
          <a:stretch/>
        </p:blipFill>
        <p:spPr>
          <a:xfrm>
            <a:off x="4932360" y="115920"/>
            <a:ext cx="4211640" cy="3382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4"/>
          <a:srcRect l="3465" t="2204" r="0" b="0"/>
          <a:stretch/>
        </p:blipFill>
        <p:spPr>
          <a:xfrm>
            <a:off x="4932360" y="3573360"/>
            <a:ext cx="4037040" cy="3284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987640" y="2781360"/>
            <a:ext cx="2190960" cy="1677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14:47:08Z</dcterms:created>
  <dc:creator>Susana</dc:creator>
  <dc:description/>
  <dc:language>en-US</dc:language>
  <cp:lastModifiedBy>Susana</cp:lastModifiedBy>
  <dcterms:modified xsi:type="dcterms:W3CDTF">2004-11-10T01:47:48Z</dcterms:modified>
  <cp:revision>4</cp:revision>
  <dc:subject/>
  <dc:title>Diapositiva 1</dc:title>
</cp:coreProperties>
</file>