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5.wmf" ContentType="image/x-wmf"/>
  <Override PartName="/ppt/media/image4.wmf" ContentType="image/x-wmf"/>
  <Override PartName="/ppt/media/image22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wmf" ContentType="image/x-wmf"/>
  <Override PartName="/ppt/media/image16.png" ContentType="image/png"/>
  <Override PartName="/ppt/media/image15.png" ContentType="image/png"/>
  <Override PartName="/ppt/media/image14.wmf" ContentType="image/x-wmf"/>
  <Override PartName="/ppt/media/image2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59FF-5A7B-4960-83F3-D54ABCD8F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F308-56FB-4883-9070-FDB2A8FF8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39595-92BB-4DF4-9A94-B6BBF0A61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B580-C67F-4FFF-9AA2-4A3DB95FA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609F4-D7FC-49CA-9EDC-50AB53634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BB44A-E47D-46E0-92BE-7EAB75BCE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F49EB-9C0D-4DE9-BC01-46FE727B1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859CB-8994-4DB4-A39E-7F4A99187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27A205-CFE8-4461-AB0D-680CE7851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CA901-0DE5-404F-A2D4-EEFE6F1C3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6835B-189F-4671-B0FA-10005ECA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4DC2F-E3C1-47FC-AF9B-4115624E6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64BA9-CF84-46D9-9E02-BAA53C0BF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75330-2C94-4B26-9F1C-801AB257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BFF67-2B09-4F4D-93A8-2B979745C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CDD44-51E6-41C1-9BD7-ABB0EA78A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B7068-DA03-435C-9958-79F8719D4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37CF-40C9-4887-A4D6-DA8A5AC84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2E57-A3F2-4713-B37A-0B173DB94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0B4D8-BC5F-4D97-9EB9-17F99A508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1E19-44FE-4E9A-8D60-63D7A9236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754E-4579-45D4-BAD6-706CE03BB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C4F9-5A0E-46E9-926E-41A61410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FC609-B04A-406C-B949-0CADEE37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21ECD-43CB-47E5-AC32-7996758165D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69606-3AFC-49CC-A628-B910DA2432D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Situación de Salud</a:t>
            </a:r>
            <a:br>
              <a:rPr sz="4400"/>
            </a:b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del Adulto Mayor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723920" y="3429000"/>
            <a:ext cx="4419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Docente: Alicia Muñoz Ayal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nfermería Comunitaria 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Escuela de Enfermerí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Universidad de Chi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Arial"/>
              </a:rPr>
              <a:t>20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219320" y="2590920"/>
            <a:ext cx="243828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4920" y="501120"/>
            <a:ext cx="74674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cc00"/>
                </a:solidFill>
                <a:latin typeface="Arial Black"/>
              </a:rPr>
              <a:t>Mortalidad según nivel educacional y edad.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74880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882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240" y="683280"/>
            <a:ext cx="7467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 Black"/>
              </a:rPr>
              <a:t> </a:t>
            </a:r>
            <a:r>
              <a:rPr b="1" lang="es-ES" sz="3200" spc="-1" strike="noStrike">
                <a:solidFill>
                  <a:srgbClr val="ffcc00"/>
                </a:solidFill>
                <a:latin typeface="Arial Black"/>
              </a:rPr>
              <a:t>Esperanza de vida al nacer por sexo, según país y año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777708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240" y="198000"/>
            <a:ext cx="7467480" cy="155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ffcc00"/>
                </a:solidFill>
                <a:latin typeface="Arial Black"/>
              </a:rPr>
              <a:t>DISTRIBUCION DE LA MORBILIDAD </a:t>
            </a:r>
            <a:r>
              <a:rPr b="1" lang="es-ES" sz="3200" spc="-1" strike="noStrike">
                <a:solidFill>
                  <a:srgbClr val="ffcc00"/>
                </a:solidFill>
                <a:latin typeface="Arial Black"/>
              </a:rPr>
              <a:t>SABE – Chile Adulto Mayo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71640" y="1916280"/>
          <a:ext cx="7345440" cy="446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916280"/>
                    <a:ext cx="7345440" cy="44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228240" y="189000"/>
            <a:ext cx="7543800" cy="59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457200" y="1676520"/>
          <a:ext cx="401940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676520"/>
                    <a:ext cx="401940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685800" y="597600"/>
            <a:ext cx="7772400" cy="116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cc00"/>
                </a:solidFill>
                <a:latin typeface="Arial Black"/>
              </a:rPr>
              <a:t>CARGA DE ENFERMEDAD </a:t>
            </a:r>
            <a:br>
              <a:rPr sz="4400"/>
            </a:br>
            <a:r>
              <a:rPr b="1" lang="es-ES_tradnl" sz="4400" spc="-1" strike="noStrike">
                <a:solidFill>
                  <a:srgbClr val="ffcc00"/>
                </a:solidFill>
                <a:latin typeface="Arial Black"/>
              </a:rPr>
              <a:t>Chile 1996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4727520" y="2133720"/>
          <a:ext cx="4173480" cy="4340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7520" y="2133720"/>
                    <a:ext cx="4173480" cy="43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228240" y="189000"/>
            <a:ext cx="8591400" cy="59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00"/>
                </a:solidFill>
                <a:latin typeface="Arial"/>
              </a:rPr>
              <a:t>Años de Vida Perdidos Por Muerte Prematura (AVPP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e consideran para los A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odas muertes ocurridas antes de los 80 añ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rimera causa es por Enfermedades Crónic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os AVPP es mayor en Homb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as principales causas son tumores y enfermedades del Aparato Circulatori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INSAL efectúo estudio de Carga de Enfermedad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45% fue por Muertes Prematuras(AVPM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l 55% Por Discapacidad (AVPD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240" y="-16200"/>
            <a:ext cx="74674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cc00"/>
                </a:solidFill>
                <a:latin typeface="Arial Black"/>
              </a:rPr>
              <a:t>AVISA: 15 primeras causas en ambos sexos Chile 1993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240" y="981000"/>
            <a:ext cx="754380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ENFERMEDAD*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AVISA 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%            Razón/100 0 h.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nomalías Congénitas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103.654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5.86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7.53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Infecciones respir.ag.baj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.     73.234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4.14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5.32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nf. Isquémica del Corazón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67.534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3.82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4.90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nf. Hipertensiva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60.172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3.40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4.37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Enf. Cerebrovascular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57.700               3.26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4.19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sma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              55.118              3.11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4.0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ccidente de tráfico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53.692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3.03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3.90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Dependencia de alcohol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   53.498              3.02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3.88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Trastornos vía biliar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         53.361   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3.02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3.87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Trastornos depresivos-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    53.279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3.01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3.87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rtrosis y afines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              48.452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2.74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3.52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lzheimer y tipo Alzheimer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42.889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2.42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3.11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Afecciones perinatales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     41.710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2.36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3.03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Psicosis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             32.474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.84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2.36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Arial"/>
              </a:rPr>
              <a:t>Cirrosis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             32.172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.82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2.34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otal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                828.941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46.84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60.19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105264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566100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580000" y="1052640"/>
            <a:ext cx="0" cy="5805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643280" y="1052640"/>
            <a:ext cx="0" cy="5805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14842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132000" y="1052640"/>
            <a:ext cx="0" cy="5805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323640" y="259920"/>
            <a:ext cx="78310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189000"/>
            <a:ext cx="8229600" cy="59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33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3048120" y="265104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458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153280" y="4572000"/>
            <a:ext cx="914400" cy="7038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14000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0"/>
            <a:ext cx="5867280" cy="1008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99"/>
                </a:solidFill>
                <a:latin typeface="Arial Black"/>
              </a:rPr>
              <a:t>Distintas causas de </a:t>
            </a:r>
            <a:r>
              <a:rPr b="0" lang="es-ES_tradnl" sz="3200" spc="-1" strike="noStrike">
                <a:solidFill>
                  <a:srgbClr val="ffff99"/>
                </a:solidFill>
                <a:latin typeface="Arial Black"/>
              </a:rPr>
              <a:t>muerte</a:t>
            </a:r>
            <a:r>
              <a:rPr b="0" lang="es-ES_tradnl" sz="2800" spc="-1" strike="noStrike">
                <a:solidFill>
                  <a:srgbClr val="ffff99"/>
                </a:solidFill>
                <a:latin typeface="Arial Black"/>
              </a:rPr>
              <a:t> prematura en Chile año 2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19520" y="3581280"/>
            <a:ext cx="457200" cy="4597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208960" y="1752480"/>
            <a:ext cx="228600" cy="33732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8600" y="609588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00"/>
                </a:solidFill>
                <a:latin typeface="Times New Roman"/>
              </a:rPr>
              <a:t>Departamento Epidemiología. MINSAL. Año 200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209680" y="2590920"/>
            <a:ext cx="304920" cy="53316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648320" y="3657600"/>
            <a:ext cx="121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2197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81280" y="1752480"/>
            <a:ext cx="121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33 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240" y="292680"/>
            <a:ext cx="74674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2e2e8c"/>
                </a:solidFill>
                <a:latin typeface="Arial Black"/>
              </a:rPr>
              <a:t>Impacto del Envejecimiento </a:t>
            </a:r>
            <a:br>
              <a:rPr sz="3600"/>
            </a:br>
            <a:r>
              <a:rPr b="0" lang="es-ES_tradnl" sz="3600" spc="-1" strike="noStrike">
                <a:solidFill>
                  <a:srgbClr val="2e2e8c"/>
                </a:solidFill>
                <a:latin typeface="Arial Black"/>
              </a:rPr>
              <a:t>de la Población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240" y="1557000"/>
            <a:ext cx="80154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ayor demanda de servicios sanit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ayor proporción de enfermedades degenerativas, crónicas y progresivas y cognitivas, mayor discapac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tinta exposición a factores de riesgo a través de su vi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nfoque intersector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olíticas de envejecimiento saludable.( OPS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cc00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9900"/>
                </a:solidFill>
                <a:latin typeface="Arial"/>
              </a:rPr>
              <a:t>Dra. Juana Silva Opazo. 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OBJETIVOS SANITARIO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240" y="1980720"/>
            <a:ext cx="7543800" cy="447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dc0000"/>
                </a:solidFill>
                <a:latin typeface="Arial"/>
              </a:rPr>
              <a:t>I</a:t>
            </a: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800" spc="-1" strike="noStrike">
                <a:solidFill>
                  <a:srgbClr val="cc9900"/>
                </a:solidFill>
                <a:latin typeface="Arial"/>
              </a:rPr>
              <a:t>Mejorar logros sanitarios alcanzad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dc0000"/>
                </a:solidFill>
                <a:latin typeface="Arial"/>
              </a:rPr>
              <a:t>II</a:t>
            </a:r>
            <a:r>
              <a:rPr b="1" lang="es-CL" sz="2800" spc="-1" strike="noStrike">
                <a:solidFill>
                  <a:srgbClr val="cc9900"/>
                </a:solidFill>
                <a:latin typeface="Arial"/>
              </a:rPr>
              <a:t>	</a:t>
            </a:r>
            <a:r>
              <a:rPr b="1" lang="es-CL" sz="2800" spc="-1" strike="noStrike">
                <a:solidFill>
                  <a:srgbClr val="cc9900"/>
                </a:solidFill>
                <a:latin typeface="Arial"/>
              </a:rPr>
              <a:t>      </a:t>
            </a: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Enfrentar los nuevos desafíos </a:t>
            </a: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derivados </a:t>
            </a: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del envejecimiento de la </a:t>
            </a: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población y los </a:t>
            </a: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cambios de l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lang="es-CL" sz="2800" spc="-1" strike="noStrike">
                <a:solidFill>
                  <a:srgbClr val="ffffff"/>
                </a:solidFill>
                <a:latin typeface="Arial"/>
              </a:rPr>
              <a:t>socie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Factores de Ries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Arial"/>
              </a:rPr>
              <a:t>Tabaco, sedentarismo, obesidad, conducta sexual segura, ambiente, salud ocupacion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incipales dañ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65000"/>
              <a:buFont typeface="Wingdings" charset="2"/>
              <a:buChar char="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3300"/>
                </a:solidFill>
                <a:latin typeface="Arial"/>
              </a:rPr>
              <a:t>Cardiovascular, </a:t>
            </a:r>
            <a:r>
              <a:rPr b="0" lang="es-MX" sz="2000" spc="-1" strike="noStrike">
                <a:solidFill>
                  <a:srgbClr val="ff3300"/>
                </a:solidFill>
                <a:latin typeface="Arial"/>
              </a:rPr>
              <a:t>Cáncer</a:t>
            </a:r>
            <a:r>
              <a:rPr b="0" lang="es-ES" sz="2000" spc="-1" strike="noStrike">
                <a:solidFill>
                  <a:srgbClr val="ff3300"/>
                </a:solidFill>
                <a:latin typeface="Arial"/>
              </a:rPr>
              <a:t>, Salud Mental, Traumatismos, Enf. Respiratorias, Diabetes VIH-SIDA, Osteoarticular, Salud Or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28240" y="333000"/>
            <a:ext cx="852012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Book Antiqua"/>
              </a:rPr>
              <a:t>Envejecimiento del Individuo </a:t>
            </a:r>
            <a:r>
              <a:rPr b="0" lang="es-ES" sz="3200" spc="-1" strike="noStrike">
                <a:solidFill>
                  <a:srgbClr val="ffcc63"/>
                </a:solidFill>
                <a:latin typeface="Book Antiqua"/>
              </a:rPr>
              <a:t>(OMS. 1974)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163ff"/>
                </a:solidFill>
                <a:latin typeface="Wingdings"/>
                <a:ea typeface="Wingdings"/>
              </a:rPr>
              <a:t>􀁺</a:t>
            </a:r>
            <a:r>
              <a:rPr b="1" lang="es-ES" sz="3200" spc="-1" strike="noStrike">
                <a:solidFill>
                  <a:srgbClr val="ffffff"/>
                </a:solidFill>
                <a:latin typeface="Book Antiqua"/>
              </a:rPr>
              <a:t>”</a:t>
            </a:r>
            <a:r>
              <a:rPr b="0" lang="es-ES" sz="3200" spc="-1" strike="noStrike">
                <a:solidFill>
                  <a:srgbClr val="ffffff"/>
                </a:solidFill>
                <a:latin typeface="Book Antiqua"/>
              </a:rPr>
              <a:t>Proceso fisiológico”Comienza en la concepció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163ff"/>
                </a:solidFill>
                <a:latin typeface="Wingdings"/>
                <a:ea typeface="Wingdings"/>
              </a:rPr>
              <a:t>􀁺</a:t>
            </a:r>
            <a:r>
              <a:rPr b="0" lang="es-ES" sz="3200" spc="-1" strike="noStrike">
                <a:solidFill>
                  <a:srgbClr val="ffffff"/>
                </a:solidFill>
                <a:latin typeface="Book Antiqua"/>
              </a:rPr>
              <a:t>Ocasiona cambios, durante todo el ciclo de la vida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163ff"/>
                </a:solidFill>
                <a:latin typeface="Wingdings"/>
                <a:ea typeface="Wingdings"/>
              </a:rPr>
              <a:t>􀁺</a:t>
            </a:r>
            <a:r>
              <a:rPr b="1" i="1" lang="es-ES" sz="3200" spc="-1" strike="noStrike">
                <a:solidFill>
                  <a:srgbClr val="ffffff"/>
                </a:solidFill>
                <a:latin typeface="Book Antiqua"/>
              </a:rPr>
              <a:t>En los últimos años, esos cambios producen una limitación de la adaptabilidad del organismo en relación con el medio</a:t>
            </a:r>
            <a:r>
              <a:rPr b="0" lang="es-ES" sz="3200" spc="-1" strike="noStrike">
                <a:solidFill>
                  <a:srgbClr val="ffffff"/>
                </a:solidFill>
                <a:latin typeface="Book Antiqua"/>
              </a:rPr>
              <a:t>...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e2e8c"/>
                </a:solidFill>
                <a:latin typeface="Arial"/>
              </a:rPr>
              <a:t>Cambio de escenar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e2e8c"/>
                </a:solidFill>
                <a:latin typeface="Arial"/>
              </a:rPr>
              <a:t>Cambio de objetivos: </a:t>
            </a:r>
            <a:r>
              <a:rPr b="0" lang="es-ES_tradnl" sz="3200" spc="-1" strike="noStrike">
                <a:solidFill>
                  <a:srgbClr val="ffcc00"/>
                </a:solidFill>
                <a:latin typeface="Arial"/>
              </a:rPr>
              <a:t>Vivir más y mej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2e2e8c"/>
                </a:solidFill>
                <a:latin typeface="Arial"/>
              </a:rPr>
              <a:t>Políticas sanitarias concordant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240" y="12240"/>
            <a:ext cx="7467480" cy="17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cc00"/>
                </a:solidFill>
                <a:latin typeface="Arial Black"/>
              </a:rPr>
              <a:t>Planteamiento de Nuevas Metas Sanitarias Período 2000 - 2010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557360"/>
            <a:ext cx="844704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1.- Control de factores determinantes de las enfermedades más releva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2.- Enfermedades con mayor carga de mortalidad con medidas de efectividad probad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ffcc00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3.- Problemas de salud no mortales pero que generan una disminución de la calidad de vi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cc00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9900"/>
                </a:solidFill>
                <a:latin typeface="Arial"/>
              </a:rPr>
              <a:t>Dra. Juana Silva Opazo. 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228240" y="259920"/>
            <a:ext cx="85914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1.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3300"/>
                </a:solidFill>
                <a:latin typeface="Arial"/>
              </a:rPr>
              <a:t>TABAQUISMO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Es la principal causa única prevenible de enfermedad y muerte en el mundo. OBESIDAD: implicancia en enfermedades como diabetes mellitus, hipertensión arterial, arteriosclerosis...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3300"/>
                </a:solidFill>
                <a:latin typeface="Arial"/>
              </a:rPr>
              <a:t>CONDUCTAS SEXUALES SEGURAS Y RESPONSABLES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 SIDA y embarazos no deseados y de adolescen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3300"/>
                </a:solidFill>
                <a:latin typeface="Arial"/>
              </a:rPr>
              <a:t>AMBIENTE SALUDABLE,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la contaminación atmosférica, del agua, del suelo, de los alimentos y de las enfermedades asociadas a reservorios animales y los vecto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3300"/>
                </a:solidFill>
                <a:latin typeface="Arial"/>
              </a:rPr>
              <a:t>CONDICIONES LABORALES,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reducir la morbilidad asociada a las relaciones de trabajo y la inequidad en la protección de los trabajado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228240" y="189000"/>
            <a:ext cx="7543800" cy="59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9900"/>
              </a:buClr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Enfermedades cardiovasculare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, centrando esfuerzos en la reducción de enfermedad isquemia y cerebro vascul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00"/>
              </a:buClr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Cánceres,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centrando esfuerzos en cáncer de cuello uterino, de mamas y vesícul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00"/>
              </a:buClr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Traumatismos y envenenamientos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, concentrando los esfuerzos en accidentes de tránsi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00"/>
              </a:buClr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Enfermedades respiratorias,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especialmente por neumonía en los adultos mayo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00"/>
              </a:buClr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Disminuir la discapacidad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sociada a diabet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9900"/>
              </a:buClr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evenir la aparición y el aumento sostenido de la epidemia </a:t>
            </a:r>
            <a:r>
              <a:rPr b="0" lang="es-ES" sz="2400" spc="-1" strike="noStrike">
                <a:solidFill>
                  <a:srgbClr val="ffcc00"/>
                </a:solidFill>
                <a:latin typeface="Arial"/>
              </a:rPr>
              <a:t>VIH/SI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228240" y="189000"/>
            <a:ext cx="7543800" cy="59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blemas de salud mental, disminuir la recurrencia de estrés depresivo, aumentando la cobertura de financiamiento y disminuir las adicciones a través de estrategias intersectori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alud dental, disminuyendo su índice en la población de niños y jóvenes con un aumento de planes dentales y fluoración del agu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fermedades osteoarticulares, disminuyendo la discapacidad que gen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228600" y="333000"/>
            <a:ext cx="84470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0880" y="304920"/>
            <a:ext cx="8561520" cy="62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3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657600" y="2666880"/>
            <a:ext cx="1981080" cy="1828800"/>
          </a:xfrm>
          <a:prstGeom prst="octagon">
            <a:avLst>
              <a:gd name="adj" fmla="val 29287"/>
            </a:avLst>
          </a:prstGeom>
          <a:gradFill rotWithShape="0">
            <a:gsLst>
              <a:gs pos="0">
                <a:srgbClr val="ffffff"/>
              </a:gs>
              <a:gs pos="100000">
                <a:srgbClr val="cc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ff"/>
                </a:solidFill>
                <a:latin typeface="Times New Roman"/>
              </a:rPr>
              <a:t>CAL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ff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6600ff"/>
                </a:solidFill>
                <a:latin typeface="Times New Roman"/>
              </a:rPr>
              <a:t>VI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1143000"/>
            <a:ext cx="2286000" cy="1828800"/>
          </a:xfrm>
          <a:prstGeom prst="foldedCorner">
            <a:avLst>
              <a:gd name="adj" fmla="val 12500"/>
            </a:avLst>
          </a:prstGeom>
          <a:blipFill rotWithShape="0">
            <a:blip r:embed="rId1"/>
            <a:srcRect/>
            <a:stretch/>
          </a:blip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SALU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MENTA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172200" y="4038480"/>
            <a:ext cx="2286000" cy="1981440"/>
          </a:xfrm>
          <a:prstGeom prst="foldedCorner">
            <a:avLst>
              <a:gd name="adj" fmla="val 12500"/>
            </a:avLst>
          </a:prstGeom>
          <a:gradFill rotWithShape="0">
            <a:gsLst>
              <a:gs pos="0">
                <a:srgbClr val="009900"/>
              </a:gs>
              <a:gs pos="100000">
                <a:srgbClr val="396f3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SALUD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EN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952880" y="380880"/>
            <a:ext cx="3505320" cy="2210040"/>
          </a:xfrm>
          <a:prstGeom prst="cloudCallout">
            <a:avLst>
              <a:gd name="adj1" fmla="val -19291"/>
              <a:gd name="adj2" fmla="val 30027"/>
            </a:avLst>
          </a:prstGeom>
          <a:gradFill rotWithShape="0">
            <a:gsLst>
              <a:gs pos="0">
                <a:srgbClr val="e3fb7d"/>
              </a:gs>
              <a:gs pos="100000">
                <a:srgbClr val="99ffcc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ff"/>
                </a:solidFill>
                <a:latin typeface="Times New Roman"/>
              </a:rPr>
              <a:t>ENFERMED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6600ff"/>
                </a:solidFill>
                <a:latin typeface="Times New Roman"/>
              </a:rPr>
              <a:t>TERMINAL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9480" y="4114800"/>
            <a:ext cx="3124440" cy="1600200"/>
          </a:xfrm>
          <a:prstGeom prst="ellipse">
            <a:avLst/>
          </a:prstGeom>
          <a:gradFill rotWithShape="0">
            <a:gsLst>
              <a:gs pos="0">
                <a:srgbClr val="663300"/>
              </a:gs>
              <a:gs pos="100000">
                <a:srgbClr val="396f39"/>
              </a:gs>
            </a:gsLst>
            <a:lin ang="81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ENFER. OSTE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ARTICULA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971800" y="2362320"/>
            <a:ext cx="914400" cy="5331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5409720" y="2438280"/>
            <a:ext cx="83844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581280" y="5105520"/>
            <a:ext cx="0" cy="75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3733920" y="4495680"/>
            <a:ext cx="533160" cy="5335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 flipV="1">
            <a:off x="5562360" y="4038480"/>
            <a:ext cx="609480" cy="1067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19320" y="6019920"/>
            <a:ext cx="7238880" cy="457200"/>
          </a:xfrm>
          <a:prstGeom prst="roundRect">
            <a:avLst>
              <a:gd name="adj" fmla="val 16667"/>
            </a:avLst>
          </a:prstGeom>
          <a:solidFill>
            <a:srgbClr val="ff00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iscapacidad,   Dolor,        Angust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04560" y="104400"/>
            <a:ext cx="7467480" cy="11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cc00"/>
                </a:solidFill>
                <a:latin typeface="Arial Black"/>
              </a:rPr>
              <a:t>CONCEPTO DE DISCAPACIDAD. 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24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Deficiencias función y deficiencias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ructuras ( antes “deficiencias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imitaciones en las actividad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ntes (discapacidad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Limitaciones en la particip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( antes minusvalía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228240" y="3049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579680" y="2790720"/>
            <a:ext cx="504720" cy="24764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35440" y="4148280"/>
            <a:ext cx="504720" cy="11188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105600" y="4809960"/>
            <a:ext cx="504720" cy="4572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084400" y="3800520"/>
            <a:ext cx="488880" cy="1466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724280"/>
            <a:ext cx="504720" cy="520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610320" y="5156280"/>
            <a:ext cx="488880" cy="1108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573280" y="5235480"/>
            <a:ext cx="504720" cy="31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844880" y="5203800"/>
            <a:ext cx="505080" cy="63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99200" y="5235480"/>
            <a:ext cx="505080" cy="31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201680" y="2381400"/>
            <a:ext cx="1800" cy="2885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22480" y="5267160"/>
            <a:ext cx="79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122480" y="4683240"/>
            <a:ext cx="79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22480" y="4116240"/>
            <a:ext cx="79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22480" y="3532320"/>
            <a:ext cx="79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122480" y="2965320"/>
            <a:ext cx="792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122480" y="2381400"/>
            <a:ext cx="792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201680" y="5267160"/>
            <a:ext cx="67816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1201680" y="5266800"/>
            <a:ext cx="1800" cy="79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56000" y="5266800"/>
            <a:ext cx="1440" cy="79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5727600" y="5266800"/>
            <a:ext cx="1800" cy="79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7983360" y="5266800"/>
            <a:ext cx="1800" cy="79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718280" y="2381400"/>
            <a:ext cx="354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80"/>
                </a:solidFill>
                <a:latin typeface="Arial"/>
              </a:rPr>
              <a:t>8,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972600" y="3736800"/>
            <a:ext cx="354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80"/>
                </a:solidFill>
                <a:latin typeface="Arial"/>
              </a:rPr>
              <a:t>3,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244200" y="4400640"/>
            <a:ext cx="354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80"/>
                </a:solidFill>
                <a:latin typeface="Arial"/>
              </a:rPr>
              <a:t>1,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07160" y="3390840"/>
            <a:ext cx="354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80"/>
                </a:solidFill>
                <a:latin typeface="Arial"/>
              </a:rPr>
              <a:t>5,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477320" y="4336920"/>
            <a:ext cx="354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80"/>
                </a:solidFill>
                <a:latin typeface="Arial"/>
              </a:rPr>
              <a:t>1,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733080" y="4746600"/>
            <a:ext cx="354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80"/>
                </a:solidFill>
                <a:latin typeface="Arial"/>
              </a:rPr>
              <a:t>0,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712240" y="4826160"/>
            <a:ext cx="354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80"/>
                </a:solidFill>
                <a:latin typeface="Arial"/>
              </a:rPr>
              <a:t>0,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982400" y="4794120"/>
            <a:ext cx="354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80"/>
                </a:solidFill>
                <a:latin typeface="Arial"/>
              </a:rPr>
              <a:t>0,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238160" y="4826160"/>
            <a:ext cx="3542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80"/>
                </a:solidFill>
                <a:latin typeface="Arial"/>
              </a:rPr>
              <a:t>0,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916920" y="512460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8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916920" y="454176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8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916920" y="397368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8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16920" y="339084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8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916920" y="2822400"/>
            <a:ext cx="1425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8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75440" y="2239920"/>
            <a:ext cx="284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80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194920" y="5504040"/>
            <a:ext cx="410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80"/>
                </a:solidFill>
                <a:latin typeface="Arial"/>
              </a:rPr>
              <a:t>V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16480" y="5504040"/>
            <a:ext cx="367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80"/>
                </a:solidFill>
                <a:latin typeface="Arial"/>
              </a:rPr>
              <a:t>Oí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513840" y="5504040"/>
            <a:ext cx="793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80"/>
                </a:solidFill>
                <a:latin typeface="Arial"/>
              </a:rPr>
              <a:t>Habla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rot="16200000">
            <a:off x="559800" y="3612240"/>
            <a:ext cx="2264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80"/>
                </a:solidFill>
                <a:latin typeface="Arial"/>
              </a:rPr>
              <a:t>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159520" y="2774880"/>
            <a:ext cx="142560" cy="14292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430600" y="2697120"/>
            <a:ext cx="18385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80"/>
                </a:solidFill>
                <a:latin typeface="Arial"/>
              </a:rPr>
              <a:t>Poca Dificult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59520" y="3154320"/>
            <a:ext cx="142560" cy="141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433840" y="3075120"/>
            <a:ext cx="2036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80"/>
                </a:solidFill>
                <a:latin typeface="Arial"/>
              </a:rPr>
              <a:t>Mucha Dificult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159520" y="3532320"/>
            <a:ext cx="142560" cy="142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432040" y="3454560"/>
            <a:ext cx="21358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80"/>
                </a:solidFill>
                <a:latin typeface="Arial"/>
              </a:rPr>
              <a:t>No puede hacerl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title"/>
          </p:nvPr>
        </p:nvSpPr>
        <p:spPr>
          <a:xfrm>
            <a:off x="1676160" y="3045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00"/>
                </a:solidFill>
                <a:latin typeface="Arial Black"/>
              </a:rPr>
              <a:t>Discapacidad sensorial según grado de la discapacidad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228240" y="228600"/>
            <a:ext cx="7543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620720" y="2828880"/>
            <a:ext cx="220680" cy="1652760"/>
          </a:xfrm>
          <a:prstGeom prst="rect">
            <a:avLst/>
          </a:prstGeom>
          <a:solidFill>
            <a:srgbClr val="333399"/>
          </a:solidFill>
          <a:ln cap="rnd"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360520" y="3314880"/>
            <a:ext cx="219240" cy="1166760"/>
          </a:xfrm>
          <a:prstGeom prst="rect">
            <a:avLst/>
          </a:prstGeom>
          <a:solidFill>
            <a:srgbClr val="333399"/>
          </a:solidFill>
          <a:ln cap="rnd"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100320" y="3797280"/>
            <a:ext cx="219240" cy="684360"/>
          </a:xfrm>
          <a:prstGeom prst="rect">
            <a:avLst/>
          </a:prstGeom>
          <a:solidFill>
            <a:srgbClr val="333399"/>
          </a:solidFill>
          <a:ln cap="rnd"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55960" y="3157560"/>
            <a:ext cx="219240" cy="1324080"/>
          </a:xfrm>
          <a:prstGeom prst="rect">
            <a:avLst/>
          </a:prstGeom>
          <a:solidFill>
            <a:srgbClr val="333399"/>
          </a:solidFill>
          <a:ln cap="rnd"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595760" y="3733920"/>
            <a:ext cx="220680" cy="747720"/>
          </a:xfrm>
          <a:prstGeom prst="rect">
            <a:avLst/>
          </a:prstGeom>
          <a:solidFill>
            <a:srgbClr val="333399"/>
          </a:solidFill>
          <a:ln cap="rnd"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34120" y="3843360"/>
            <a:ext cx="222120" cy="638280"/>
          </a:xfrm>
          <a:prstGeom prst="rect">
            <a:avLst/>
          </a:prstGeom>
          <a:solidFill>
            <a:srgbClr val="333399"/>
          </a:solidFill>
          <a:ln cap="rnd"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73920" y="4108320"/>
            <a:ext cx="220680" cy="373320"/>
          </a:xfrm>
          <a:prstGeom prst="rect">
            <a:avLst/>
          </a:prstGeom>
          <a:solidFill>
            <a:srgbClr val="333399"/>
          </a:solidFill>
          <a:ln cap="rnd"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29560" y="3205080"/>
            <a:ext cx="220680" cy="1276560"/>
          </a:xfrm>
          <a:prstGeom prst="rect">
            <a:avLst/>
          </a:prstGeom>
          <a:solidFill>
            <a:srgbClr val="333399"/>
          </a:solidFill>
          <a:ln cap="rnd"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569360" y="4062240"/>
            <a:ext cx="220680" cy="419400"/>
          </a:xfrm>
          <a:prstGeom prst="rect">
            <a:avLst/>
          </a:prstGeom>
          <a:solidFill>
            <a:srgbClr val="333399"/>
          </a:solidFill>
          <a:ln cap="rnd"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841400" y="1973160"/>
            <a:ext cx="204840" cy="2508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579760" y="2409840"/>
            <a:ext cx="204840" cy="20718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319560" y="3360600"/>
            <a:ext cx="220680" cy="11210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075200" y="1973160"/>
            <a:ext cx="204840" cy="25084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816440" y="3314880"/>
            <a:ext cx="203400" cy="11667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556240" y="3514680"/>
            <a:ext cx="204840" cy="9669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294600" y="3998880"/>
            <a:ext cx="220680" cy="4827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050240" y="2674800"/>
            <a:ext cx="204480" cy="18068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90040" y="3998880"/>
            <a:ext cx="204480" cy="4827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463760" y="1817640"/>
            <a:ext cx="1440" cy="266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384200" y="4481640"/>
            <a:ext cx="79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384200" y="3952800"/>
            <a:ext cx="79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384200" y="3422520"/>
            <a:ext cx="79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384200" y="2876400"/>
            <a:ext cx="79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384200" y="2346480"/>
            <a:ext cx="79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384200" y="1817640"/>
            <a:ext cx="795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467000" y="4484520"/>
            <a:ext cx="668808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1463760" y="4481640"/>
            <a:ext cx="144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2201760" y="4481640"/>
            <a:ext cx="180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2941560" y="4481640"/>
            <a:ext cx="180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3697200" y="4481640"/>
            <a:ext cx="180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4438800" y="4481640"/>
            <a:ext cx="144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5178600" y="4481640"/>
            <a:ext cx="144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5916600" y="4481640"/>
            <a:ext cx="144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6672240" y="4481640"/>
            <a:ext cx="144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7412040" y="4481640"/>
            <a:ext cx="144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8151840" y="4481640"/>
            <a:ext cx="1440" cy="63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762200" y="2332080"/>
            <a:ext cx="156960" cy="155520"/>
          </a:xfrm>
          <a:custGeom>
            <a:avLst/>
            <a:gdLst/>
            <a:ahLst/>
            <a:rect l="l" t="t" r="r" b="b"/>
            <a:pathLst>
              <a:path w="88" h="88">
                <a:moveTo>
                  <a:pt x="44" y="0"/>
                </a:moveTo>
                <a:lnTo>
                  <a:pt x="88" y="44"/>
                </a:lnTo>
                <a:lnTo>
                  <a:pt x="44" y="88"/>
                </a:lnTo>
                <a:lnTo>
                  <a:pt x="0" y="44"/>
                </a:lnTo>
                <a:lnTo>
                  <a:pt x="44" y="0"/>
                </a:lnTo>
                <a:close/>
              </a:path>
            </a:pathLst>
          </a:custGeom>
          <a:solidFill>
            <a:srgbClr val="ff0000"/>
          </a:solidFill>
          <a:ln cap="rnd"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502000" y="2800440"/>
            <a:ext cx="156960" cy="153720"/>
          </a:xfrm>
          <a:custGeom>
            <a:avLst/>
            <a:gdLst/>
            <a:ahLst/>
            <a:rect l="l" t="t" r="r" b="b"/>
            <a:pathLst>
              <a:path w="88" h="88">
                <a:moveTo>
                  <a:pt x="44" y="0"/>
                </a:moveTo>
                <a:lnTo>
                  <a:pt x="88" y="44"/>
                </a:lnTo>
                <a:lnTo>
                  <a:pt x="44" y="88"/>
                </a:lnTo>
                <a:lnTo>
                  <a:pt x="0" y="44"/>
                </a:lnTo>
                <a:lnTo>
                  <a:pt x="44" y="0"/>
                </a:lnTo>
                <a:close/>
              </a:path>
            </a:pathLst>
          </a:custGeom>
          <a:solidFill>
            <a:srgbClr val="ff0000"/>
          </a:solidFill>
          <a:ln cap="rnd"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241800" y="3502080"/>
            <a:ext cx="158760" cy="154080"/>
          </a:xfrm>
          <a:custGeom>
            <a:avLst/>
            <a:gdLst/>
            <a:ahLst/>
            <a:rect l="l" t="t" r="r" b="b"/>
            <a:pathLst>
              <a:path w="89" h="88">
                <a:moveTo>
                  <a:pt x="44" y="0"/>
                </a:moveTo>
                <a:lnTo>
                  <a:pt x="89" y="44"/>
                </a:lnTo>
                <a:lnTo>
                  <a:pt x="44" y="88"/>
                </a:lnTo>
                <a:lnTo>
                  <a:pt x="0" y="44"/>
                </a:lnTo>
                <a:lnTo>
                  <a:pt x="44" y="0"/>
                </a:lnTo>
                <a:close/>
              </a:path>
            </a:pathLst>
          </a:custGeom>
          <a:solidFill>
            <a:srgbClr val="ff0000"/>
          </a:solidFill>
          <a:ln cap="rnd"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979800" y="2487600"/>
            <a:ext cx="158760" cy="155520"/>
          </a:xfrm>
          <a:custGeom>
            <a:avLst/>
            <a:gdLst/>
            <a:ahLst/>
            <a:rect l="l" t="t" r="r" b="b"/>
            <a:pathLst>
              <a:path w="89" h="88">
                <a:moveTo>
                  <a:pt x="45" y="0"/>
                </a:moveTo>
                <a:lnTo>
                  <a:pt x="89" y="44"/>
                </a:lnTo>
                <a:lnTo>
                  <a:pt x="45" y="88"/>
                </a:lnTo>
                <a:lnTo>
                  <a:pt x="0" y="44"/>
                </a:lnTo>
                <a:lnTo>
                  <a:pt x="45" y="0"/>
                </a:lnTo>
                <a:close/>
              </a:path>
            </a:pathLst>
          </a:custGeom>
          <a:solidFill>
            <a:srgbClr val="ff0000"/>
          </a:solidFill>
          <a:ln cap="rnd"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735440" y="3438360"/>
            <a:ext cx="158760" cy="155880"/>
          </a:xfrm>
          <a:custGeom>
            <a:avLst/>
            <a:gdLst/>
            <a:ahLst/>
            <a:rect l="l" t="t" r="r" b="b"/>
            <a:pathLst>
              <a:path w="89" h="89">
                <a:moveTo>
                  <a:pt x="45" y="0"/>
                </a:moveTo>
                <a:lnTo>
                  <a:pt x="89" y="44"/>
                </a:lnTo>
                <a:lnTo>
                  <a:pt x="45" y="89"/>
                </a:lnTo>
                <a:lnTo>
                  <a:pt x="0" y="44"/>
                </a:lnTo>
                <a:lnTo>
                  <a:pt x="45" y="0"/>
                </a:lnTo>
                <a:close/>
              </a:path>
            </a:pathLst>
          </a:custGeom>
          <a:solidFill>
            <a:srgbClr val="ff0000"/>
          </a:solidFill>
          <a:ln cap="rnd"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477040" y="3608280"/>
            <a:ext cx="156960" cy="157320"/>
          </a:xfrm>
          <a:custGeom>
            <a:avLst/>
            <a:gdLst/>
            <a:ahLst/>
            <a:rect l="l" t="t" r="r" b="b"/>
            <a:pathLst>
              <a:path w="88" h="89">
                <a:moveTo>
                  <a:pt x="44" y="0"/>
                </a:moveTo>
                <a:lnTo>
                  <a:pt x="88" y="45"/>
                </a:lnTo>
                <a:lnTo>
                  <a:pt x="44" y="89"/>
                </a:lnTo>
                <a:lnTo>
                  <a:pt x="0" y="45"/>
                </a:lnTo>
                <a:lnTo>
                  <a:pt x="44" y="0"/>
                </a:lnTo>
                <a:close/>
              </a:path>
            </a:pathLst>
          </a:custGeom>
          <a:solidFill>
            <a:srgbClr val="ff0000"/>
          </a:solidFill>
          <a:ln cap="rnd"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216480" y="3984480"/>
            <a:ext cx="157320" cy="155880"/>
          </a:xfrm>
          <a:custGeom>
            <a:avLst/>
            <a:gdLst/>
            <a:ahLst/>
            <a:rect l="l" t="t" r="r" b="b"/>
            <a:pathLst>
              <a:path w="88" h="88">
                <a:moveTo>
                  <a:pt x="44" y="0"/>
                </a:moveTo>
                <a:lnTo>
                  <a:pt x="88" y="44"/>
                </a:lnTo>
                <a:lnTo>
                  <a:pt x="44" y="88"/>
                </a:lnTo>
                <a:lnTo>
                  <a:pt x="0" y="44"/>
                </a:lnTo>
                <a:lnTo>
                  <a:pt x="44" y="0"/>
                </a:lnTo>
                <a:close/>
              </a:path>
            </a:pathLst>
          </a:custGeom>
          <a:solidFill>
            <a:srgbClr val="ff0000"/>
          </a:solidFill>
          <a:ln cap="rnd"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956280" y="2800440"/>
            <a:ext cx="155880" cy="153720"/>
          </a:xfrm>
          <a:custGeom>
            <a:avLst/>
            <a:gdLst/>
            <a:ahLst/>
            <a:rect l="l" t="t" r="r" b="b"/>
            <a:pathLst>
              <a:path w="88" h="88">
                <a:moveTo>
                  <a:pt x="44" y="0"/>
                </a:moveTo>
                <a:lnTo>
                  <a:pt x="88" y="44"/>
                </a:lnTo>
                <a:lnTo>
                  <a:pt x="44" y="88"/>
                </a:lnTo>
                <a:lnTo>
                  <a:pt x="0" y="44"/>
                </a:lnTo>
                <a:lnTo>
                  <a:pt x="44" y="0"/>
                </a:lnTo>
                <a:close/>
              </a:path>
            </a:pathLst>
          </a:custGeom>
          <a:solidFill>
            <a:srgbClr val="ff0000"/>
          </a:solidFill>
          <a:ln cap="rnd"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694640" y="3984480"/>
            <a:ext cx="156960" cy="155880"/>
          </a:xfrm>
          <a:custGeom>
            <a:avLst/>
            <a:gdLst/>
            <a:ahLst/>
            <a:rect l="l" t="t" r="r" b="b"/>
            <a:pathLst>
              <a:path w="88" h="88">
                <a:moveTo>
                  <a:pt x="44" y="0"/>
                </a:moveTo>
                <a:lnTo>
                  <a:pt x="88" y="44"/>
                </a:lnTo>
                <a:lnTo>
                  <a:pt x="44" y="88"/>
                </a:lnTo>
                <a:lnTo>
                  <a:pt x="0" y="44"/>
                </a:lnTo>
                <a:lnTo>
                  <a:pt x="44" y="0"/>
                </a:lnTo>
                <a:close/>
              </a:path>
            </a:pathLst>
          </a:custGeom>
          <a:solidFill>
            <a:srgbClr val="ff0000"/>
          </a:solidFill>
          <a:ln cap="rnd"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960840" y="4341960"/>
            <a:ext cx="30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80"/>
                </a:solidFill>
                <a:latin typeface="Arial"/>
              </a:rPr>
              <a:t>0,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960840" y="3811680"/>
            <a:ext cx="30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80"/>
                </a:solidFill>
                <a:latin typeface="Arial"/>
              </a:rPr>
              <a:t>1,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960840" y="3282840"/>
            <a:ext cx="30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80"/>
                </a:solidFill>
                <a:latin typeface="Arial"/>
              </a:rPr>
              <a:t>2,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960840" y="2736720"/>
            <a:ext cx="30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80"/>
                </a:solidFill>
                <a:latin typeface="Arial"/>
              </a:rPr>
              <a:t>3,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960840" y="2206800"/>
            <a:ext cx="30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80"/>
                </a:solidFill>
                <a:latin typeface="Arial"/>
              </a:rPr>
              <a:t>4,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960840" y="1676520"/>
            <a:ext cx="30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000080"/>
                </a:solidFill>
                <a:latin typeface="Arial"/>
              </a:rPr>
              <a:t>5,0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rot="16200000">
            <a:off x="1461960" y="4860360"/>
            <a:ext cx="61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99"/>
                </a:solidFill>
                <a:latin typeface="Arial"/>
              </a:rPr>
              <a:t>Camin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rot="16200000">
            <a:off x="1845720" y="5216040"/>
            <a:ext cx="1326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99"/>
                </a:solidFill>
                <a:latin typeface="Arial"/>
              </a:rPr>
              <a:t>viajar micro,metr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rot="16200000">
            <a:off x="2498040" y="5298480"/>
            <a:ext cx="1498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99"/>
                </a:solidFill>
                <a:latin typeface="Arial"/>
              </a:rPr>
              <a:t>Vestirse/Desvestir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rot="16200000">
            <a:off x="3249720" y="5321520"/>
            <a:ext cx="1541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99"/>
                </a:solidFill>
                <a:latin typeface="Arial"/>
              </a:rPr>
              <a:t>Subir/bajar escaler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rot="16200000">
            <a:off x="4062960" y="5236560"/>
            <a:ext cx="1369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99"/>
                </a:solidFill>
                <a:latin typeface="Arial"/>
              </a:rPr>
              <a:t>Bañarse,ducharse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rot="16200000">
            <a:off x="4568400" y="5467680"/>
            <a:ext cx="1824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99"/>
                </a:solidFill>
                <a:latin typeface="Arial"/>
              </a:rPr>
              <a:t>Tomar/manipular objet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5678640" y="5096880"/>
            <a:ext cx="1087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99"/>
                </a:solidFill>
                <a:latin typeface="Arial"/>
              </a:rPr>
              <a:t>Beber y Com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rot="16200000">
            <a:off x="6228720" y="5282640"/>
            <a:ext cx="1463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99"/>
                </a:solidFill>
                <a:latin typeface="Arial"/>
              </a:rPr>
              <a:t>Mascar cosas dur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rot="16200000">
            <a:off x="7135560" y="5123880"/>
            <a:ext cx="1136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99"/>
                </a:solidFill>
                <a:latin typeface="Arial"/>
              </a:rPr>
              <a:t>Control esfín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rot="16200000">
            <a:off x="636480" y="3027960"/>
            <a:ext cx="15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94440" y="2158920"/>
            <a:ext cx="107640" cy="109440"/>
          </a:xfrm>
          <a:prstGeom prst="rect">
            <a:avLst/>
          </a:prstGeom>
          <a:solidFill>
            <a:srgbClr val="333399"/>
          </a:solidFill>
          <a:ln cap="rnd"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367240" y="2081160"/>
            <a:ext cx="7718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Arial"/>
              </a:rPr>
              <a:t>Hombr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194440" y="2487600"/>
            <a:ext cx="107640" cy="109440"/>
          </a:xfrm>
          <a:prstGeom prst="rect">
            <a:avLst/>
          </a:prstGeom>
          <a:solidFill>
            <a:srgbClr val="33cccc"/>
          </a:solidFill>
          <a:ln cap="rnd"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365080" y="2409840"/>
            <a:ext cx="674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Arial"/>
              </a:rPr>
              <a:t>Mujer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194440" y="2816280"/>
            <a:ext cx="123840" cy="122040"/>
          </a:xfrm>
          <a:custGeom>
            <a:avLst/>
            <a:gdLst/>
            <a:ahLst/>
            <a:rect l="l" t="t" r="r" b="b"/>
            <a:pathLst>
              <a:path w="70" h="70">
                <a:moveTo>
                  <a:pt x="35" y="0"/>
                </a:moveTo>
                <a:lnTo>
                  <a:pt x="70" y="35"/>
                </a:lnTo>
                <a:lnTo>
                  <a:pt x="35" y="70"/>
                </a:lnTo>
                <a:lnTo>
                  <a:pt x="0" y="35"/>
                </a:lnTo>
                <a:lnTo>
                  <a:pt x="35" y="0"/>
                </a:lnTo>
                <a:close/>
              </a:path>
            </a:pathLst>
          </a:custGeom>
          <a:solidFill>
            <a:srgbClr val="ff0000"/>
          </a:solidFill>
          <a:ln cap="rnd"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365440" y="2736720"/>
            <a:ext cx="425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Arial"/>
              </a:rPr>
              <a:t>Tot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676520" y="380880"/>
            <a:ext cx="7010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7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Dificultades para realizar actividades de la vid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117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cotidiana, según sex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228240" y="-360"/>
            <a:ext cx="8458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title"/>
          </p:nvPr>
        </p:nvSpPr>
        <p:spPr>
          <a:xfrm>
            <a:off x="1676160" y="280440"/>
            <a:ext cx="70102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cc00"/>
                </a:solidFill>
                <a:latin typeface="Arial Black"/>
              </a:rPr>
              <a:t>Discapacidad para caminar por grupo de edad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9" name=""/>
          <p:cNvSpPr/>
          <p:nvPr/>
        </p:nvSpPr>
        <p:spPr>
          <a:xfrm>
            <a:off x="1969920" y="5049720"/>
            <a:ext cx="247680" cy="44640"/>
          </a:xfrm>
          <a:prstGeom prst="rect">
            <a:avLst/>
          </a:prstGeom>
          <a:solidFill>
            <a:srgbClr val="000080"/>
          </a:solidFill>
          <a:ln w="42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841480" y="5049720"/>
            <a:ext cx="260640" cy="44640"/>
          </a:xfrm>
          <a:prstGeom prst="rect">
            <a:avLst/>
          </a:prstGeom>
          <a:solidFill>
            <a:srgbClr val="000080"/>
          </a:solidFill>
          <a:ln w="42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726000" y="5049720"/>
            <a:ext cx="247680" cy="44640"/>
          </a:xfrm>
          <a:prstGeom prst="rect">
            <a:avLst/>
          </a:prstGeom>
          <a:solidFill>
            <a:srgbClr val="000080"/>
          </a:solidFill>
          <a:ln w="42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597560" y="5006880"/>
            <a:ext cx="261720" cy="87480"/>
          </a:xfrm>
          <a:prstGeom prst="rect">
            <a:avLst/>
          </a:prstGeom>
          <a:solidFill>
            <a:srgbClr val="000080"/>
          </a:solidFill>
          <a:ln w="42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483160" y="4818240"/>
            <a:ext cx="246240" cy="276120"/>
          </a:xfrm>
          <a:prstGeom prst="rect">
            <a:avLst/>
          </a:prstGeom>
          <a:solidFill>
            <a:srgbClr val="000080"/>
          </a:solidFill>
          <a:ln w="42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353280" y="4251240"/>
            <a:ext cx="261720" cy="843120"/>
          </a:xfrm>
          <a:prstGeom prst="rect">
            <a:avLst/>
          </a:prstGeom>
          <a:solidFill>
            <a:srgbClr val="000080"/>
          </a:solidFill>
          <a:ln w="42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238880" y="3657600"/>
            <a:ext cx="246240" cy="1436760"/>
          </a:xfrm>
          <a:prstGeom prst="rect">
            <a:avLst/>
          </a:prstGeom>
          <a:solidFill>
            <a:srgbClr val="000080"/>
          </a:solidFill>
          <a:ln w="42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17600" y="5035680"/>
            <a:ext cx="246240" cy="58680"/>
          </a:xfrm>
          <a:prstGeom prst="rect">
            <a:avLst/>
          </a:prstGeom>
          <a:solidFill>
            <a:srgbClr val="33cccc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3102120" y="5064120"/>
            <a:ext cx="247680" cy="30240"/>
          </a:xfrm>
          <a:prstGeom prst="rect">
            <a:avLst/>
          </a:prstGeom>
          <a:solidFill>
            <a:srgbClr val="33cccc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973680" y="5064120"/>
            <a:ext cx="245880" cy="30240"/>
          </a:xfrm>
          <a:prstGeom prst="rect">
            <a:avLst/>
          </a:prstGeom>
          <a:solidFill>
            <a:srgbClr val="33cccc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859280" y="5006880"/>
            <a:ext cx="246240" cy="87480"/>
          </a:xfrm>
          <a:prstGeom prst="rect">
            <a:avLst/>
          </a:prstGeom>
          <a:solidFill>
            <a:srgbClr val="33cccc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729400" y="4687920"/>
            <a:ext cx="247680" cy="406440"/>
          </a:xfrm>
          <a:prstGeom prst="rect">
            <a:avLst/>
          </a:prstGeom>
          <a:solidFill>
            <a:srgbClr val="33cccc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615000" y="3976560"/>
            <a:ext cx="246240" cy="1117800"/>
          </a:xfrm>
          <a:prstGeom prst="rect">
            <a:avLst/>
          </a:prstGeom>
          <a:solidFill>
            <a:srgbClr val="33cccc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485120" y="2859120"/>
            <a:ext cx="247680" cy="2235240"/>
          </a:xfrm>
          <a:prstGeom prst="rect">
            <a:avLst/>
          </a:prstGeom>
          <a:solidFill>
            <a:srgbClr val="33cccc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781280" y="2162160"/>
            <a:ext cx="1440" cy="2932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9640" y="5094360"/>
            <a:ext cx="71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709640" y="4513320"/>
            <a:ext cx="71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709640" y="3917880"/>
            <a:ext cx="716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709640" y="3338640"/>
            <a:ext cx="71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709640" y="2743200"/>
            <a:ext cx="71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09640" y="2162160"/>
            <a:ext cx="7164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781280" y="5094360"/>
            <a:ext cx="61405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1781280" y="5094360"/>
            <a:ext cx="1440" cy="71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2652840" y="5094360"/>
            <a:ext cx="1440" cy="71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538440" y="5094360"/>
            <a:ext cx="1800" cy="71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4408560" y="5094360"/>
            <a:ext cx="1440" cy="71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5294160" y="5094360"/>
            <a:ext cx="1800" cy="71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6164280" y="5094360"/>
            <a:ext cx="1440" cy="71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050240" y="5094360"/>
            <a:ext cx="1440" cy="71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7921800" y="5094360"/>
            <a:ext cx="1440" cy="712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144880" y="4962600"/>
            <a:ext cx="144360" cy="145800"/>
          </a:xfrm>
          <a:custGeom>
            <a:avLst/>
            <a:gdLst/>
            <a:ahLst/>
            <a:rect l="l" t="t" r="r" b="b"/>
            <a:pathLst>
              <a:path w="91" h="92">
                <a:moveTo>
                  <a:pt x="46" y="0"/>
                </a:moveTo>
                <a:lnTo>
                  <a:pt x="91" y="46"/>
                </a:lnTo>
                <a:lnTo>
                  <a:pt x="46" y="92"/>
                </a:lnTo>
                <a:lnTo>
                  <a:pt x="0" y="46"/>
                </a:lnTo>
                <a:lnTo>
                  <a:pt x="46" y="0"/>
                </a:lnTo>
                <a:close/>
              </a:path>
            </a:pathLst>
          </a:custGeom>
          <a:solidFill>
            <a:srgbClr val="ff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030480" y="4976640"/>
            <a:ext cx="144360" cy="146160"/>
          </a:xfrm>
          <a:custGeom>
            <a:avLst/>
            <a:gdLst/>
            <a:ahLst/>
            <a:rect l="l" t="t" r="r" b="b"/>
            <a:pathLst>
              <a:path w="91" h="92">
                <a:moveTo>
                  <a:pt x="45" y="0"/>
                </a:moveTo>
                <a:lnTo>
                  <a:pt x="91" y="46"/>
                </a:lnTo>
                <a:lnTo>
                  <a:pt x="45" y="92"/>
                </a:lnTo>
                <a:lnTo>
                  <a:pt x="0" y="46"/>
                </a:lnTo>
                <a:lnTo>
                  <a:pt x="45" y="0"/>
                </a:lnTo>
                <a:close/>
              </a:path>
            </a:pathLst>
          </a:custGeom>
          <a:solidFill>
            <a:srgbClr val="ff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900600" y="4976640"/>
            <a:ext cx="145800" cy="146160"/>
          </a:xfrm>
          <a:custGeom>
            <a:avLst/>
            <a:gdLst/>
            <a:ahLst/>
            <a:rect l="l" t="t" r="r" b="b"/>
            <a:pathLst>
              <a:path w="92" h="92">
                <a:moveTo>
                  <a:pt x="46" y="0"/>
                </a:moveTo>
                <a:lnTo>
                  <a:pt x="92" y="46"/>
                </a:lnTo>
                <a:lnTo>
                  <a:pt x="46" y="92"/>
                </a:lnTo>
                <a:lnTo>
                  <a:pt x="0" y="46"/>
                </a:lnTo>
                <a:lnTo>
                  <a:pt x="46" y="0"/>
                </a:lnTo>
                <a:close/>
              </a:path>
            </a:pathLst>
          </a:custGeom>
          <a:solidFill>
            <a:srgbClr val="ff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786200" y="4933800"/>
            <a:ext cx="144720" cy="144720"/>
          </a:xfrm>
          <a:custGeom>
            <a:avLst/>
            <a:gdLst/>
            <a:ahLst/>
            <a:rect l="l" t="t" r="r" b="b"/>
            <a:pathLst>
              <a:path w="91" h="91">
                <a:moveTo>
                  <a:pt x="46" y="0"/>
                </a:moveTo>
                <a:lnTo>
                  <a:pt x="91" y="46"/>
                </a:lnTo>
                <a:lnTo>
                  <a:pt x="46" y="91"/>
                </a:lnTo>
                <a:lnTo>
                  <a:pt x="0" y="46"/>
                </a:lnTo>
                <a:lnTo>
                  <a:pt x="46" y="0"/>
                </a:lnTo>
                <a:close/>
              </a:path>
            </a:pathLst>
          </a:custGeom>
          <a:solidFill>
            <a:srgbClr val="ff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656320" y="4673520"/>
            <a:ext cx="146160" cy="144720"/>
          </a:xfrm>
          <a:custGeom>
            <a:avLst/>
            <a:gdLst/>
            <a:ahLst/>
            <a:rect l="l" t="t" r="r" b="b"/>
            <a:pathLst>
              <a:path w="92" h="91">
                <a:moveTo>
                  <a:pt x="46" y="0"/>
                </a:moveTo>
                <a:lnTo>
                  <a:pt x="92" y="45"/>
                </a:lnTo>
                <a:lnTo>
                  <a:pt x="46" y="91"/>
                </a:lnTo>
                <a:lnTo>
                  <a:pt x="0" y="45"/>
                </a:lnTo>
                <a:lnTo>
                  <a:pt x="46" y="0"/>
                </a:lnTo>
                <a:close/>
              </a:path>
            </a:pathLst>
          </a:custGeom>
          <a:solidFill>
            <a:srgbClr val="ff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527880" y="4033800"/>
            <a:ext cx="144360" cy="146160"/>
          </a:xfrm>
          <a:custGeom>
            <a:avLst/>
            <a:gdLst/>
            <a:ahLst/>
            <a:rect l="l" t="t" r="r" b="b"/>
            <a:pathLst>
              <a:path w="91" h="92">
                <a:moveTo>
                  <a:pt x="46" y="0"/>
                </a:moveTo>
                <a:lnTo>
                  <a:pt x="91" y="46"/>
                </a:lnTo>
                <a:lnTo>
                  <a:pt x="46" y="92"/>
                </a:lnTo>
                <a:lnTo>
                  <a:pt x="0" y="46"/>
                </a:lnTo>
                <a:lnTo>
                  <a:pt x="46" y="0"/>
                </a:lnTo>
                <a:close/>
              </a:path>
            </a:pathLst>
          </a:custGeom>
          <a:solidFill>
            <a:srgbClr val="ff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413480" y="3119400"/>
            <a:ext cx="144720" cy="146160"/>
          </a:xfrm>
          <a:custGeom>
            <a:avLst/>
            <a:gdLst/>
            <a:ahLst/>
            <a:rect l="l" t="t" r="r" b="b"/>
            <a:pathLst>
              <a:path w="91" h="92">
                <a:moveTo>
                  <a:pt x="45" y="0"/>
                </a:moveTo>
                <a:lnTo>
                  <a:pt x="91" y="46"/>
                </a:lnTo>
                <a:lnTo>
                  <a:pt x="45" y="92"/>
                </a:lnTo>
                <a:lnTo>
                  <a:pt x="0" y="46"/>
                </a:lnTo>
                <a:lnTo>
                  <a:pt x="45" y="0"/>
                </a:lnTo>
                <a:close/>
              </a:path>
            </a:pathLst>
          </a:custGeom>
          <a:solidFill>
            <a:srgbClr val="ff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077200" y="47592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8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962800" y="47592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8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832920" y="47592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8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718520" y="47163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8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588640" y="452772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80"/>
                </a:solidFill>
                <a:latin typeface="Arial"/>
              </a:rPr>
              <a:t>5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428880" y="396252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80"/>
                </a:solidFill>
                <a:latin typeface="Arial"/>
              </a:rPr>
              <a:t>14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298640" y="336708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80"/>
                </a:solidFill>
                <a:latin typeface="Arial"/>
              </a:rPr>
              <a:t>25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323080" y="47451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8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209040" y="47750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8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080600" y="477504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8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964760" y="471636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8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836320" y="4397400"/>
            <a:ext cx="92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80"/>
                </a:solidFill>
                <a:latin typeface="Arial"/>
              </a:rPr>
              <a:t>7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6674760" y="368604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80"/>
                </a:solidFill>
                <a:latin typeface="Arial"/>
              </a:rPr>
              <a:t>19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546320" y="2568600"/>
            <a:ext cx="183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000080"/>
                </a:solidFill>
                <a:latin typeface="Arial"/>
              </a:rPr>
              <a:t>38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521360" y="496260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8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401120" y="438300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8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1401120" y="378792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8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1120" y="32068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8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401120" y="261288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8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401120" y="2031840"/>
            <a:ext cx="253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8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rot="16200000">
            <a:off x="2010240" y="533628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99"/>
                </a:solidFill>
                <a:latin typeface="Arial"/>
              </a:rPr>
              <a:t>1-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rot="16200000">
            <a:off x="2896200" y="5336280"/>
            <a:ext cx="393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99"/>
                </a:solidFill>
                <a:latin typeface="Arial"/>
              </a:rPr>
              <a:t>5-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rot="16200000">
            <a:off x="3641400" y="5470920"/>
            <a:ext cx="646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99"/>
                </a:solidFill>
                <a:latin typeface="Arial"/>
              </a:rPr>
              <a:t>10-19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 rot="16200000">
            <a:off x="4525560" y="5470920"/>
            <a:ext cx="646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99"/>
                </a:solidFill>
                <a:latin typeface="Arial"/>
              </a:rPr>
              <a:t>20-4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rot="16200000">
            <a:off x="5397120" y="5470920"/>
            <a:ext cx="646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99"/>
                </a:solidFill>
                <a:latin typeface="Arial"/>
              </a:rPr>
              <a:t>45-6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 rot="16200000">
            <a:off x="6267240" y="5470920"/>
            <a:ext cx="646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99"/>
                </a:solidFill>
                <a:latin typeface="Arial"/>
              </a:rPr>
              <a:t>65-74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rot="16200000">
            <a:off x="7058160" y="5405760"/>
            <a:ext cx="515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es-ES" sz="1800" spc="-1" strike="noStrike">
                <a:solidFill>
                  <a:srgbClr val="ffff99"/>
                </a:solidFill>
                <a:latin typeface="Arial"/>
              </a:rPr>
              <a:t>&gt; 75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rot="16200000">
            <a:off x="7353360" y="5425200"/>
            <a:ext cx="534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99"/>
                </a:solidFill>
                <a:latin typeface="Arial"/>
              </a:rPr>
              <a:t>añ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rot="16200000">
            <a:off x="1002600" y="3444480"/>
            <a:ext cx="20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80"/>
                </a:solidFill>
                <a:latin typeface="Arial"/>
              </a:rPr>
              <a:t>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144880" y="2887560"/>
            <a:ext cx="129960" cy="131760"/>
          </a:xfrm>
          <a:prstGeom prst="rect">
            <a:avLst/>
          </a:prstGeom>
          <a:solidFill>
            <a:srgbClr val="000080"/>
          </a:solidFill>
          <a:ln w="428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441160" y="2830680"/>
            <a:ext cx="989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80"/>
                </a:solidFill>
                <a:latin typeface="Arial"/>
              </a:rPr>
              <a:t>Homb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144880" y="3251160"/>
            <a:ext cx="129960" cy="130320"/>
          </a:xfrm>
          <a:prstGeom prst="rect">
            <a:avLst/>
          </a:prstGeom>
          <a:solidFill>
            <a:srgbClr val="33cccc"/>
          </a:solidFill>
          <a:ln w="14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438640" y="3178080"/>
            <a:ext cx="863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80"/>
                </a:solidFill>
                <a:latin typeface="Arial"/>
              </a:rPr>
              <a:t>Mujer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44880" y="3598920"/>
            <a:ext cx="144360" cy="146160"/>
          </a:xfrm>
          <a:custGeom>
            <a:avLst/>
            <a:gdLst/>
            <a:ahLst/>
            <a:rect l="l" t="t" r="r" b="b"/>
            <a:pathLst>
              <a:path w="91" h="92">
                <a:moveTo>
                  <a:pt x="46" y="0"/>
                </a:moveTo>
                <a:lnTo>
                  <a:pt x="91" y="46"/>
                </a:lnTo>
                <a:lnTo>
                  <a:pt x="46" y="92"/>
                </a:lnTo>
                <a:lnTo>
                  <a:pt x="0" y="46"/>
                </a:lnTo>
                <a:lnTo>
                  <a:pt x="46" y="0"/>
                </a:lnTo>
                <a:close/>
              </a:path>
            </a:pathLst>
          </a:custGeom>
          <a:solidFill>
            <a:srgbClr val="ff0000"/>
          </a:solidFill>
          <a:ln w="14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429640" y="3525840"/>
            <a:ext cx="54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80"/>
                </a:solidFill>
                <a:latin typeface="Arial"/>
              </a:rPr>
              <a:t>Tota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28240" y="189000"/>
            <a:ext cx="7543800" cy="59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486400" y="1447920"/>
            <a:ext cx="327672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Arial"/>
              </a:rPr>
              <a:t>Pob.: 15.116.435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Arial"/>
              </a:rPr>
              <a:t>&lt;15: 25,7%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Arial"/>
              </a:rPr>
              <a:t>&gt;60: 11,4%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Arial"/>
              </a:rPr>
              <a:t>TMI:  8,9 (2000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Arial"/>
              </a:rPr>
              <a:t>TMG: 5,2 (2000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Arial"/>
              </a:rPr>
              <a:t>EVN:  76 (73/79)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5029200" y="3962520"/>
          <a:ext cx="4114800" cy="25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962520"/>
                    <a:ext cx="4114800" cy="25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76320" y="380880"/>
            <a:ext cx="4403520" cy="55627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4191120" y="6840"/>
            <a:ext cx="49514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cc00"/>
                </a:solidFill>
                <a:latin typeface="Arial Black"/>
              </a:rPr>
              <a:t>Demografía Chile</a:t>
            </a:r>
            <a:r>
              <a:rPr b="0" lang="es-CL" sz="4400" spc="-1" strike="noStrike">
                <a:solidFill>
                  <a:srgbClr val="ffcc00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/>
          </p:nvPr>
        </p:nvSpPr>
        <p:spPr>
          <a:xfrm>
            <a:off x="228600" y="-3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title"/>
          </p:nvPr>
        </p:nvSpPr>
        <p:spPr>
          <a:xfrm>
            <a:off x="1066320" y="220680"/>
            <a:ext cx="807732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cc00"/>
                </a:solidFill>
                <a:latin typeface="Arial Black"/>
              </a:rPr>
              <a:t>  </a:t>
            </a:r>
            <a:r>
              <a:rPr b="0" lang="es-ES" sz="2000" spc="-1" strike="noStrike">
                <a:solidFill>
                  <a:srgbClr val="ffcc00"/>
                </a:solidFill>
                <a:latin typeface="Arial Black"/>
              </a:rPr>
              <a:t>Prevalencia comparada de discapacidad población general y personas con diabetes mellitus, de 45 y más años, </a:t>
            </a:r>
            <a:br>
              <a:rPr sz="2000"/>
            </a:br>
            <a:r>
              <a:rPr b="0" lang="es-ES_tradnl" sz="2000" spc="-1" strike="noStrike">
                <a:solidFill>
                  <a:srgbClr val="ffcc00"/>
                </a:solidFill>
                <a:latin typeface="Arial Black"/>
              </a:rPr>
              <a:t>(</a:t>
            </a:r>
            <a:r>
              <a:rPr b="0" lang="es-ES" sz="2000" spc="-1" strike="noStrike">
                <a:solidFill>
                  <a:srgbClr val="ffcc00"/>
                </a:solidFill>
                <a:latin typeface="Arial Black"/>
              </a:rPr>
              <a:t>según tipo de discapacidad</a:t>
            </a:r>
            <a:r>
              <a:rPr b="0" lang="es-ES_tradnl" sz="2000" spc="-1" strike="noStrike">
                <a:solidFill>
                  <a:srgbClr val="ffcc00"/>
                </a:solidFill>
                <a:latin typeface="Arial Black"/>
              </a:rPr>
              <a:t>)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73" name=""/>
          <p:cNvSpPr/>
          <p:nvPr/>
        </p:nvSpPr>
        <p:spPr>
          <a:xfrm>
            <a:off x="3909960" y="1998720"/>
            <a:ext cx="1800" cy="4398840"/>
          </a:xfrm>
          <a:prstGeom prst="line">
            <a:avLst/>
          </a:prstGeom>
          <a:ln w="0">
            <a:solidFill>
              <a:srgbClr val="ffcc99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772160" y="1998720"/>
            <a:ext cx="1440" cy="4398840"/>
          </a:xfrm>
          <a:prstGeom prst="line">
            <a:avLst/>
          </a:prstGeom>
          <a:ln w="0">
            <a:solidFill>
              <a:srgbClr val="ffcc99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621400" y="1998720"/>
            <a:ext cx="1440" cy="4398840"/>
          </a:xfrm>
          <a:prstGeom prst="line">
            <a:avLst/>
          </a:prstGeom>
          <a:ln w="0">
            <a:solidFill>
              <a:srgbClr val="ffcc99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483240" y="1998720"/>
            <a:ext cx="1800" cy="4398840"/>
          </a:xfrm>
          <a:prstGeom prst="line">
            <a:avLst/>
          </a:prstGeom>
          <a:ln w="0">
            <a:solidFill>
              <a:srgbClr val="ffcc99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345440" y="1998720"/>
            <a:ext cx="1440" cy="4398840"/>
          </a:xfrm>
          <a:prstGeom prst="line">
            <a:avLst/>
          </a:prstGeom>
          <a:ln w="0">
            <a:solidFill>
              <a:srgbClr val="ffcc99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048120" y="2114640"/>
            <a:ext cx="3924360" cy="166680"/>
            <a:chOff x="3048120" y="2114640"/>
            <a:chExt cx="3924360" cy="166680"/>
          </a:xfrm>
        </p:grpSpPr>
        <p:sp>
          <p:nvSpPr>
            <p:cNvPr id="379" name=""/>
            <p:cNvSpPr/>
            <p:nvPr/>
          </p:nvSpPr>
          <p:spPr>
            <a:xfrm>
              <a:off x="3048120" y="2114640"/>
              <a:ext cx="3924360" cy="12600"/>
            </a:xfrm>
            <a:prstGeom prst="rect">
              <a:avLst/>
            </a:prstGeom>
            <a:solidFill>
              <a:srgbClr val="32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48120" y="2127240"/>
              <a:ext cx="3924360" cy="12600"/>
            </a:xfrm>
            <a:prstGeom prst="rect">
              <a:avLst/>
            </a:prstGeom>
            <a:solidFill>
              <a:srgbClr val="32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048120" y="2139840"/>
              <a:ext cx="3924360" cy="12960"/>
            </a:xfrm>
            <a:prstGeom prst="rect">
              <a:avLst/>
            </a:prstGeom>
            <a:solidFill>
              <a:srgbClr val="31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048120" y="2152800"/>
              <a:ext cx="3924360" cy="12600"/>
            </a:xfrm>
            <a:prstGeom prst="rect">
              <a:avLst/>
            </a:prstGeom>
            <a:solidFill>
              <a:srgbClr val="2f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048120" y="2165400"/>
              <a:ext cx="3924360" cy="12600"/>
            </a:xfrm>
            <a:prstGeom prst="rect">
              <a:avLst/>
            </a:prstGeom>
            <a:solidFill>
              <a:srgbClr val="2d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048120" y="2178000"/>
              <a:ext cx="3924360" cy="14400"/>
            </a:xfrm>
            <a:prstGeom prst="rect">
              <a:avLst/>
            </a:prstGeom>
            <a:solidFill>
              <a:srgbClr val="2a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48120" y="2192400"/>
              <a:ext cx="3924360" cy="12600"/>
            </a:xfrm>
            <a:prstGeom prst="rect">
              <a:avLst/>
            </a:prstGeom>
            <a:solidFill>
              <a:srgbClr val="27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048120" y="2205000"/>
              <a:ext cx="3924360" cy="12600"/>
            </a:xfrm>
            <a:prstGeom prst="rect">
              <a:avLst/>
            </a:prstGeom>
            <a:solidFill>
              <a:srgbClr val="24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048120" y="2217600"/>
              <a:ext cx="3924360" cy="12960"/>
            </a:xfrm>
            <a:prstGeom prst="rect">
              <a:avLst/>
            </a:prstGeom>
            <a:solidFill>
              <a:srgbClr val="20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048120" y="2230560"/>
              <a:ext cx="3924360" cy="12600"/>
            </a:xfrm>
            <a:prstGeom prst="rect">
              <a:avLst/>
            </a:prstGeom>
            <a:solidFill>
              <a:srgbClr val="1d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048120" y="2243160"/>
              <a:ext cx="3924360" cy="12600"/>
            </a:xfrm>
            <a:prstGeom prst="rect">
              <a:avLst/>
            </a:prstGeom>
            <a:solidFill>
              <a:srgbClr val="1a6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048120" y="2255760"/>
              <a:ext cx="3924360" cy="12960"/>
            </a:xfrm>
            <a:prstGeom prst="rect">
              <a:avLst/>
            </a:prstGeom>
            <a:solidFill>
              <a:srgbClr val="1864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048120" y="2268720"/>
              <a:ext cx="3924360" cy="12600"/>
            </a:xfrm>
            <a:prstGeom prst="rect">
              <a:avLst/>
            </a:prstGeom>
            <a:solidFill>
              <a:srgbClr val="17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048120" y="2114640"/>
            <a:ext cx="392436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3048120" y="2666880"/>
            <a:ext cx="1852560" cy="168480"/>
            <a:chOff x="3048120" y="2666880"/>
            <a:chExt cx="1852560" cy="168480"/>
          </a:xfrm>
        </p:grpSpPr>
        <p:sp>
          <p:nvSpPr>
            <p:cNvPr id="394" name=""/>
            <p:cNvSpPr/>
            <p:nvPr/>
          </p:nvSpPr>
          <p:spPr>
            <a:xfrm>
              <a:off x="3048120" y="2666880"/>
              <a:ext cx="1852560" cy="12960"/>
            </a:xfrm>
            <a:prstGeom prst="rect">
              <a:avLst/>
            </a:prstGeom>
            <a:solidFill>
              <a:srgbClr val="32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048120" y="2679840"/>
              <a:ext cx="1852560" cy="12600"/>
            </a:xfrm>
            <a:prstGeom prst="rect">
              <a:avLst/>
            </a:prstGeom>
            <a:solidFill>
              <a:srgbClr val="32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048120" y="2692440"/>
              <a:ext cx="1852560" cy="14400"/>
            </a:xfrm>
            <a:prstGeom prst="rect">
              <a:avLst/>
            </a:prstGeom>
            <a:solidFill>
              <a:srgbClr val="31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048120" y="2706840"/>
              <a:ext cx="1852560" cy="12600"/>
            </a:xfrm>
            <a:prstGeom prst="rect">
              <a:avLst/>
            </a:prstGeom>
            <a:solidFill>
              <a:srgbClr val="2f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048120" y="2719440"/>
              <a:ext cx="1852560" cy="12600"/>
            </a:xfrm>
            <a:prstGeom prst="rect">
              <a:avLst/>
            </a:prstGeom>
            <a:solidFill>
              <a:srgbClr val="2d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8120" y="2732040"/>
              <a:ext cx="1852560" cy="12960"/>
            </a:xfrm>
            <a:prstGeom prst="rect">
              <a:avLst/>
            </a:prstGeom>
            <a:solidFill>
              <a:srgbClr val="2a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048120" y="2745000"/>
              <a:ext cx="1852560" cy="12600"/>
            </a:xfrm>
            <a:prstGeom prst="rect">
              <a:avLst/>
            </a:prstGeom>
            <a:solidFill>
              <a:srgbClr val="27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048120" y="2757600"/>
              <a:ext cx="1852560" cy="12600"/>
            </a:xfrm>
            <a:prstGeom prst="rect">
              <a:avLst/>
            </a:prstGeom>
            <a:solidFill>
              <a:srgbClr val="24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048120" y="2770200"/>
              <a:ext cx="1852560" cy="12600"/>
            </a:xfrm>
            <a:prstGeom prst="rect">
              <a:avLst/>
            </a:prstGeom>
            <a:solidFill>
              <a:srgbClr val="20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048120" y="2782800"/>
              <a:ext cx="1852560" cy="12960"/>
            </a:xfrm>
            <a:prstGeom prst="rect">
              <a:avLst/>
            </a:prstGeom>
            <a:solidFill>
              <a:srgbClr val="1d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048120" y="2795760"/>
              <a:ext cx="1852560" cy="12600"/>
            </a:xfrm>
            <a:prstGeom prst="rect">
              <a:avLst/>
            </a:prstGeom>
            <a:solidFill>
              <a:srgbClr val="1a6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048120" y="2808360"/>
              <a:ext cx="1852560" cy="14400"/>
            </a:xfrm>
            <a:prstGeom prst="rect">
              <a:avLst/>
            </a:prstGeom>
            <a:solidFill>
              <a:srgbClr val="1864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048120" y="2822760"/>
              <a:ext cx="1852560" cy="12600"/>
            </a:xfrm>
            <a:prstGeom prst="rect">
              <a:avLst/>
            </a:prstGeom>
            <a:solidFill>
              <a:srgbClr val="17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3048120" y="2666880"/>
            <a:ext cx="18525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3048120" y="3220920"/>
            <a:ext cx="1673280" cy="154080"/>
            <a:chOff x="3048120" y="3220920"/>
            <a:chExt cx="1673280" cy="154080"/>
          </a:xfrm>
        </p:grpSpPr>
        <p:sp>
          <p:nvSpPr>
            <p:cNvPr id="409" name=""/>
            <p:cNvSpPr/>
            <p:nvPr/>
          </p:nvSpPr>
          <p:spPr>
            <a:xfrm>
              <a:off x="3048120" y="3220920"/>
              <a:ext cx="1673280" cy="12960"/>
            </a:xfrm>
            <a:prstGeom prst="rect">
              <a:avLst/>
            </a:prstGeom>
            <a:solidFill>
              <a:srgbClr val="32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048120" y="3233880"/>
              <a:ext cx="1673280" cy="12600"/>
            </a:xfrm>
            <a:prstGeom prst="rect">
              <a:avLst/>
            </a:prstGeom>
            <a:solidFill>
              <a:srgbClr val="32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048120" y="3246480"/>
              <a:ext cx="1673280" cy="12600"/>
            </a:xfrm>
            <a:prstGeom prst="rect">
              <a:avLst/>
            </a:prstGeom>
            <a:solidFill>
              <a:srgbClr val="30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048120" y="3259080"/>
              <a:ext cx="1673280" cy="12960"/>
            </a:xfrm>
            <a:prstGeom prst="rect">
              <a:avLst/>
            </a:prstGeom>
            <a:solidFill>
              <a:srgbClr val="2f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048120" y="3272040"/>
              <a:ext cx="1673280" cy="12600"/>
            </a:xfrm>
            <a:prstGeom prst="rect">
              <a:avLst/>
            </a:prstGeom>
            <a:solidFill>
              <a:srgbClr val="2c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048120" y="3284640"/>
              <a:ext cx="1673280" cy="12600"/>
            </a:xfrm>
            <a:prstGeom prst="rect">
              <a:avLst/>
            </a:prstGeom>
            <a:solidFill>
              <a:srgbClr val="29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048120" y="3297240"/>
              <a:ext cx="1673280" cy="12600"/>
            </a:xfrm>
            <a:prstGeom prst="rect">
              <a:avLst/>
            </a:prstGeom>
            <a:solidFill>
              <a:srgbClr val="25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048120" y="3309840"/>
              <a:ext cx="1673280" cy="12960"/>
            </a:xfrm>
            <a:prstGeom prst="rect">
              <a:avLst/>
            </a:prstGeom>
            <a:solidFill>
              <a:srgbClr val="21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048120" y="3322800"/>
              <a:ext cx="1673280" cy="14040"/>
            </a:xfrm>
            <a:prstGeom prst="rect">
              <a:avLst/>
            </a:prstGeom>
            <a:solidFill>
              <a:srgbClr val="1e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048120" y="3336840"/>
              <a:ext cx="1673280" cy="12960"/>
            </a:xfrm>
            <a:prstGeom prst="rect">
              <a:avLst/>
            </a:prstGeom>
            <a:solidFill>
              <a:srgbClr val="1b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048120" y="3349800"/>
              <a:ext cx="1673280" cy="12600"/>
            </a:xfrm>
            <a:prstGeom prst="rect">
              <a:avLst/>
            </a:prstGeom>
            <a:solidFill>
              <a:srgbClr val="186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048120" y="3362400"/>
              <a:ext cx="1673280" cy="12600"/>
            </a:xfrm>
            <a:prstGeom prst="rect">
              <a:avLst/>
            </a:prstGeom>
            <a:solidFill>
              <a:srgbClr val="17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3048120" y="3220920"/>
            <a:ext cx="167328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3048120" y="3760920"/>
            <a:ext cx="1403280" cy="166680"/>
            <a:chOff x="3048120" y="3760920"/>
            <a:chExt cx="1403280" cy="166680"/>
          </a:xfrm>
        </p:grpSpPr>
        <p:sp>
          <p:nvSpPr>
            <p:cNvPr id="423" name=""/>
            <p:cNvSpPr/>
            <p:nvPr/>
          </p:nvSpPr>
          <p:spPr>
            <a:xfrm>
              <a:off x="3048120" y="3760920"/>
              <a:ext cx="1403280" cy="12600"/>
            </a:xfrm>
            <a:prstGeom prst="rect">
              <a:avLst/>
            </a:prstGeom>
            <a:solidFill>
              <a:srgbClr val="32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048120" y="3773520"/>
              <a:ext cx="1403280" cy="12600"/>
            </a:xfrm>
            <a:prstGeom prst="rect">
              <a:avLst/>
            </a:prstGeom>
            <a:solidFill>
              <a:srgbClr val="32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48120" y="3786120"/>
              <a:ext cx="1403280" cy="12960"/>
            </a:xfrm>
            <a:prstGeom prst="rect">
              <a:avLst/>
            </a:prstGeom>
            <a:solidFill>
              <a:srgbClr val="31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048120" y="3799080"/>
              <a:ext cx="1403280" cy="12600"/>
            </a:xfrm>
            <a:prstGeom prst="rect">
              <a:avLst/>
            </a:prstGeom>
            <a:solidFill>
              <a:srgbClr val="2f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048120" y="3811680"/>
              <a:ext cx="1403280" cy="12600"/>
            </a:xfrm>
            <a:prstGeom prst="rect">
              <a:avLst/>
            </a:prstGeom>
            <a:solidFill>
              <a:srgbClr val="2d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048120" y="3824280"/>
              <a:ext cx="1403280" cy="12600"/>
            </a:xfrm>
            <a:prstGeom prst="rect">
              <a:avLst/>
            </a:prstGeom>
            <a:solidFill>
              <a:srgbClr val="2a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048120" y="3836880"/>
              <a:ext cx="1403280" cy="14400"/>
            </a:xfrm>
            <a:prstGeom prst="rect">
              <a:avLst/>
            </a:prstGeom>
            <a:solidFill>
              <a:srgbClr val="27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048120" y="3851280"/>
              <a:ext cx="1403280" cy="12600"/>
            </a:xfrm>
            <a:prstGeom prst="rect">
              <a:avLst/>
            </a:prstGeom>
            <a:solidFill>
              <a:srgbClr val="24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8120" y="3863880"/>
              <a:ext cx="1403280" cy="12960"/>
            </a:xfrm>
            <a:prstGeom prst="rect">
              <a:avLst/>
            </a:prstGeom>
            <a:solidFill>
              <a:srgbClr val="20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048120" y="3876840"/>
              <a:ext cx="1403280" cy="12600"/>
            </a:xfrm>
            <a:prstGeom prst="rect">
              <a:avLst/>
            </a:prstGeom>
            <a:solidFill>
              <a:srgbClr val="1d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48120" y="3889440"/>
              <a:ext cx="1403280" cy="12600"/>
            </a:xfrm>
            <a:prstGeom prst="rect">
              <a:avLst/>
            </a:prstGeom>
            <a:solidFill>
              <a:srgbClr val="1a6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048120" y="3902040"/>
              <a:ext cx="1403280" cy="12600"/>
            </a:xfrm>
            <a:prstGeom prst="rect">
              <a:avLst/>
            </a:prstGeom>
            <a:solidFill>
              <a:srgbClr val="1864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048120" y="3914640"/>
              <a:ext cx="1403280" cy="12960"/>
            </a:xfrm>
            <a:prstGeom prst="rect">
              <a:avLst/>
            </a:prstGeom>
            <a:solidFill>
              <a:srgbClr val="17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3048120" y="3760920"/>
            <a:ext cx="140328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7" name=""/>
          <p:cNvGrpSpPr/>
          <p:nvPr/>
        </p:nvGrpSpPr>
        <p:grpSpPr>
          <a:xfrm>
            <a:off x="3048120" y="4313160"/>
            <a:ext cx="1184040" cy="168480"/>
            <a:chOff x="3048120" y="4313160"/>
            <a:chExt cx="1184040" cy="168480"/>
          </a:xfrm>
        </p:grpSpPr>
        <p:sp>
          <p:nvSpPr>
            <p:cNvPr id="438" name=""/>
            <p:cNvSpPr/>
            <p:nvPr/>
          </p:nvSpPr>
          <p:spPr>
            <a:xfrm>
              <a:off x="3048120" y="4313160"/>
              <a:ext cx="1184040" cy="12960"/>
            </a:xfrm>
            <a:prstGeom prst="rect">
              <a:avLst/>
            </a:prstGeom>
            <a:solidFill>
              <a:srgbClr val="32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048120" y="4326120"/>
              <a:ext cx="1184040" cy="12600"/>
            </a:xfrm>
            <a:prstGeom prst="rect">
              <a:avLst/>
            </a:prstGeom>
            <a:solidFill>
              <a:srgbClr val="32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048120" y="4338720"/>
              <a:ext cx="1184040" cy="14400"/>
            </a:xfrm>
            <a:prstGeom prst="rect">
              <a:avLst/>
            </a:prstGeom>
            <a:solidFill>
              <a:srgbClr val="31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048120" y="4353120"/>
              <a:ext cx="1184040" cy="12600"/>
            </a:xfrm>
            <a:prstGeom prst="rect">
              <a:avLst/>
            </a:prstGeom>
            <a:solidFill>
              <a:srgbClr val="2f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048120" y="4365720"/>
              <a:ext cx="1184040" cy="12600"/>
            </a:xfrm>
            <a:prstGeom prst="rect">
              <a:avLst/>
            </a:prstGeom>
            <a:solidFill>
              <a:srgbClr val="2d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048120" y="4378320"/>
              <a:ext cx="1184040" cy="12600"/>
            </a:xfrm>
            <a:prstGeom prst="rect">
              <a:avLst/>
            </a:prstGeom>
            <a:solidFill>
              <a:srgbClr val="2a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048120" y="4390920"/>
              <a:ext cx="1184040" cy="12960"/>
            </a:xfrm>
            <a:prstGeom prst="rect">
              <a:avLst/>
            </a:prstGeom>
            <a:solidFill>
              <a:srgbClr val="27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048120" y="4403880"/>
              <a:ext cx="1184040" cy="12600"/>
            </a:xfrm>
            <a:prstGeom prst="rect">
              <a:avLst/>
            </a:prstGeom>
            <a:solidFill>
              <a:srgbClr val="24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048120" y="4416480"/>
              <a:ext cx="1184040" cy="12600"/>
            </a:xfrm>
            <a:prstGeom prst="rect">
              <a:avLst/>
            </a:prstGeom>
            <a:solidFill>
              <a:srgbClr val="20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048120" y="4429080"/>
              <a:ext cx="1184040" cy="12600"/>
            </a:xfrm>
            <a:prstGeom prst="rect">
              <a:avLst/>
            </a:prstGeom>
            <a:solidFill>
              <a:srgbClr val="1d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048120" y="4441680"/>
              <a:ext cx="1184040" cy="12960"/>
            </a:xfrm>
            <a:prstGeom prst="rect">
              <a:avLst/>
            </a:prstGeom>
            <a:solidFill>
              <a:srgbClr val="1a6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048120" y="4454640"/>
              <a:ext cx="1184040" cy="12600"/>
            </a:xfrm>
            <a:prstGeom prst="rect">
              <a:avLst/>
            </a:prstGeom>
            <a:solidFill>
              <a:srgbClr val="1864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048120" y="4467240"/>
              <a:ext cx="1184040" cy="14400"/>
            </a:xfrm>
            <a:prstGeom prst="rect">
              <a:avLst/>
            </a:prstGeom>
            <a:solidFill>
              <a:srgbClr val="17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3048120" y="4313160"/>
            <a:ext cx="118404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3048120" y="4867200"/>
            <a:ext cx="823680" cy="166680"/>
            <a:chOff x="3048120" y="4867200"/>
            <a:chExt cx="823680" cy="166680"/>
          </a:xfrm>
        </p:grpSpPr>
        <p:sp>
          <p:nvSpPr>
            <p:cNvPr id="453" name=""/>
            <p:cNvSpPr/>
            <p:nvPr/>
          </p:nvSpPr>
          <p:spPr>
            <a:xfrm>
              <a:off x="3048120" y="4867200"/>
              <a:ext cx="823680" cy="12960"/>
            </a:xfrm>
            <a:prstGeom prst="rect">
              <a:avLst/>
            </a:prstGeom>
            <a:solidFill>
              <a:srgbClr val="32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048120" y="4880160"/>
              <a:ext cx="823680" cy="12600"/>
            </a:xfrm>
            <a:prstGeom prst="rect">
              <a:avLst/>
            </a:prstGeom>
            <a:solidFill>
              <a:srgbClr val="32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048120" y="4892760"/>
              <a:ext cx="823680" cy="12600"/>
            </a:xfrm>
            <a:prstGeom prst="rect">
              <a:avLst/>
            </a:prstGeom>
            <a:solidFill>
              <a:srgbClr val="31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048120" y="4905360"/>
              <a:ext cx="823680" cy="12600"/>
            </a:xfrm>
            <a:prstGeom prst="rect">
              <a:avLst/>
            </a:prstGeom>
            <a:solidFill>
              <a:srgbClr val="2f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048120" y="4917960"/>
              <a:ext cx="823680" cy="12960"/>
            </a:xfrm>
            <a:prstGeom prst="rect">
              <a:avLst/>
            </a:prstGeom>
            <a:solidFill>
              <a:srgbClr val="2d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048120" y="4930920"/>
              <a:ext cx="823680" cy="12600"/>
            </a:xfrm>
            <a:prstGeom prst="rect">
              <a:avLst/>
            </a:prstGeom>
            <a:solidFill>
              <a:srgbClr val="2a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048120" y="4943520"/>
              <a:ext cx="823680" cy="12600"/>
            </a:xfrm>
            <a:prstGeom prst="rect">
              <a:avLst/>
            </a:prstGeom>
            <a:solidFill>
              <a:srgbClr val="27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048120" y="4956120"/>
              <a:ext cx="823680" cy="12960"/>
            </a:xfrm>
            <a:prstGeom prst="rect">
              <a:avLst/>
            </a:prstGeom>
            <a:solidFill>
              <a:srgbClr val="24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048120" y="4969080"/>
              <a:ext cx="823680" cy="12600"/>
            </a:xfrm>
            <a:prstGeom prst="rect">
              <a:avLst/>
            </a:prstGeom>
            <a:solidFill>
              <a:srgbClr val="20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048120" y="4981680"/>
              <a:ext cx="823680" cy="14040"/>
            </a:xfrm>
            <a:prstGeom prst="rect">
              <a:avLst/>
            </a:prstGeom>
            <a:solidFill>
              <a:srgbClr val="1d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048120" y="4995720"/>
              <a:ext cx="823680" cy="12960"/>
            </a:xfrm>
            <a:prstGeom prst="rect">
              <a:avLst/>
            </a:prstGeom>
            <a:solidFill>
              <a:srgbClr val="1a6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048120" y="5008680"/>
              <a:ext cx="823680" cy="12600"/>
            </a:xfrm>
            <a:prstGeom prst="rect">
              <a:avLst/>
            </a:prstGeom>
            <a:solidFill>
              <a:srgbClr val="1864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048120" y="5021280"/>
              <a:ext cx="823680" cy="12600"/>
            </a:xfrm>
            <a:prstGeom prst="rect">
              <a:avLst/>
            </a:prstGeom>
            <a:solidFill>
              <a:srgbClr val="17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6" name=""/>
          <p:cNvSpPr/>
          <p:nvPr/>
        </p:nvSpPr>
        <p:spPr>
          <a:xfrm>
            <a:off x="3048120" y="4867200"/>
            <a:ext cx="82368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3048120" y="5419800"/>
            <a:ext cx="657000" cy="154080"/>
            <a:chOff x="3048120" y="5419800"/>
            <a:chExt cx="657000" cy="154080"/>
          </a:xfrm>
        </p:grpSpPr>
        <p:sp>
          <p:nvSpPr>
            <p:cNvPr id="468" name=""/>
            <p:cNvSpPr/>
            <p:nvPr/>
          </p:nvSpPr>
          <p:spPr>
            <a:xfrm>
              <a:off x="3048120" y="5419800"/>
              <a:ext cx="657000" cy="12600"/>
            </a:xfrm>
            <a:prstGeom prst="rect">
              <a:avLst/>
            </a:prstGeom>
            <a:solidFill>
              <a:srgbClr val="32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048120" y="5432400"/>
              <a:ext cx="657000" cy="12600"/>
            </a:xfrm>
            <a:prstGeom prst="rect">
              <a:avLst/>
            </a:prstGeom>
            <a:solidFill>
              <a:srgbClr val="32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048120" y="5445000"/>
              <a:ext cx="657000" cy="12960"/>
            </a:xfrm>
            <a:prstGeom prst="rect">
              <a:avLst/>
            </a:prstGeom>
            <a:solidFill>
              <a:srgbClr val="30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048120" y="5457960"/>
              <a:ext cx="657000" cy="12600"/>
            </a:xfrm>
            <a:prstGeom prst="rect">
              <a:avLst/>
            </a:prstGeom>
            <a:solidFill>
              <a:srgbClr val="2fbcb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048120" y="5470560"/>
              <a:ext cx="657000" cy="12600"/>
            </a:xfrm>
            <a:prstGeom prst="rect">
              <a:avLst/>
            </a:prstGeom>
            <a:solidFill>
              <a:srgbClr val="2c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048120" y="5483160"/>
              <a:ext cx="657000" cy="14400"/>
            </a:xfrm>
            <a:prstGeom prst="rect">
              <a:avLst/>
            </a:prstGeom>
            <a:solidFill>
              <a:srgbClr val="29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048120" y="5497560"/>
              <a:ext cx="657000" cy="12600"/>
            </a:xfrm>
            <a:prstGeom prst="rect">
              <a:avLst/>
            </a:prstGeom>
            <a:solidFill>
              <a:srgbClr val="25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048120" y="5510160"/>
              <a:ext cx="657000" cy="12960"/>
            </a:xfrm>
            <a:prstGeom prst="rect">
              <a:avLst/>
            </a:prstGeom>
            <a:solidFill>
              <a:srgbClr val="21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048120" y="5523120"/>
              <a:ext cx="657000" cy="12600"/>
            </a:xfrm>
            <a:prstGeom prst="rect">
              <a:avLst/>
            </a:prstGeom>
            <a:solidFill>
              <a:srgbClr val="1e7a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048120" y="5535720"/>
              <a:ext cx="657000" cy="12600"/>
            </a:xfrm>
            <a:prstGeom prst="rect">
              <a:avLst/>
            </a:prstGeom>
            <a:solidFill>
              <a:srgbClr val="1b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048120" y="5548320"/>
              <a:ext cx="657000" cy="12600"/>
            </a:xfrm>
            <a:prstGeom prst="rect">
              <a:avLst/>
            </a:prstGeom>
            <a:solidFill>
              <a:srgbClr val="1865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3048120" y="5560920"/>
              <a:ext cx="657000" cy="12960"/>
            </a:xfrm>
            <a:prstGeom prst="rect">
              <a:avLst/>
            </a:prstGeom>
            <a:solidFill>
              <a:srgbClr val="17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0" name=""/>
          <p:cNvSpPr/>
          <p:nvPr/>
        </p:nvSpPr>
        <p:spPr>
          <a:xfrm>
            <a:off x="3048120" y="5419800"/>
            <a:ext cx="65700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81" name=""/>
          <p:cNvGrpSpPr/>
          <p:nvPr/>
        </p:nvGrpSpPr>
        <p:grpSpPr>
          <a:xfrm>
            <a:off x="3048120" y="5959440"/>
            <a:ext cx="385560" cy="166680"/>
            <a:chOff x="3048120" y="5959440"/>
            <a:chExt cx="385560" cy="166680"/>
          </a:xfrm>
        </p:grpSpPr>
        <p:sp>
          <p:nvSpPr>
            <p:cNvPr id="482" name=""/>
            <p:cNvSpPr/>
            <p:nvPr/>
          </p:nvSpPr>
          <p:spPr>
            <a:xfrm>
              <a:off x="3048120" y="5959440"/>
              <a:ext cx="385560" cy="12600"/>
            </a:xfrm>
            <a:prstGeom prst="rect">
              <a:avLst/>
            </a:prstGeom>
            <a:solidFill>
              <a:srgbClr val="32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048120" y="5972040"/>
              <a:ext cx="385560" cy="12960"/>
            </a:xfrm>
            <a:prstGeom prst="rect">
              <a:avLst/>
            </a:prstGeom>
            <a:solidFill>
              <a:srgbClr val="32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3048120" y="5985000"/>
              <a:ext cx="385560" cy="12600"/>
            </a:xfrm>
            <a:prstGeom prst="rect">
              <a:avLst/>
            </a:prstGeom>
            <a:solidFill>
              <a:srgbClr val="31c4c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048120" y="5997600"/>
              <a:ext cx="385560" cy="14400"/>
            </a:xfrm>
            <a:prstGeom prst="rect">
              <a:avLst/>
            </a:prstGeom>
            <a:solidFill>
              <a:srgbClr val="2fbe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048120" y="6012000"/>
              <a:ext cx="385560" cy="12600"/>
            </a:xfrm>
            <a:prstGeom prst="rect">
              <a:avLst/>
            </a:prstGeom>
            <a:solidFill>
              <a:srgbClr val="2db6b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048120" y="6024600"/>
              <a:ext cx="385560" cy="12600"/>
            </a:xfrm>
            <a:prstGeom prst="rect">
              <a:avLst/>
            </a:prstGeom>
            <a:solidFill>
              <a:srgbClr val="2aaba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048120" y="6037200"/>
              <a:ext cx="385560" cy="12960"/>
            </a:xfrm>
            <a:prstGeom prst="rect">
              <a:avLst/>
            </a:prstGeom>
            <a:solidFill>
              <a:srgbClr val="27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048120" y="6050160"/>
              <a:ext cx="385560" cy="12600"/>
            </a:xfrm>
            <a:prstGeom prst="rect">
              <a:avLst/>
            </a:prstGeom>
            <a:solidFill>
              <a:srgbClr val="24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3048120" y="6062760"/>
              <a:ext cx="385560" cy="12600"/>
            </a:xfrm>
            <a:prstGeom prst="rect">
              <a:avLst/>
            </a:prstGeom>
            <a:solidFill>
              <a:srgbClr val="20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048120" y="6075360"/>
              <a:ext cx="385560" cy="12600"/>
            </a:xfrm>
            <a:prstGeom prst="rect">
              <a:avLst/>
            </a:prstGeom>
            <a:solidFill>
              <a:srgbClr val="1d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048120" y="6087960"/>
              <a:ext cx="385560" cy="12960"/>
            </a:xfrm>
            <a:prstGeom prst="rect">
              <a:avLst/>
            </a:prstGeom>
            <a:solidFill>
              <a:srgbClr val="1a6c6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048120" y="6100920"/>
              <a:ext cx="385560" cy="12600"/>
            </a:xfrm>
            <a:prstGeom prst="rect">
              <a:avLst/>
            </a:prstGeom>
            <a:solidFill>
              <a:srgbClr val="1864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3048120" y="6113520"/>
              <a:ext cx="385560" cy="12600"/>
            </a:xfrm>
            <a:prstGeom prst="rect">
              <a:avLst/>
            </a:prstGeom>
            <a:solidFill>
              <a:srgbClr val="17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3048120" y="5959440"/>
            <a:ext cx="38556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96" name=""/>
          <p:cNvGrpSpPr/>
          <p:nvPr/>
        </p:nvGrpSpPr>
        <p:grpSpPr>
          <a:xfrm>
            <a:off x="3048120" y="2281320"/>
            <a:ext cx="2779560" cy="154080"/>
            <a:chOff x="3048120" y="2281320"/>
            <a:chExt cx="2779560" cy="154080"/>
          </a:xfrm>
        </p:grpSpPr>
        <p:sp>
          <p:nvSpPr>
            <p:cNvPr id="497" name=""/>
            <p:cNvSpPr/>
            <p:nvPr/>
          </p:nvSpPr>
          <p:spPr>
            <a:xfrm>
              <a:off x="3048120" y="2281320"/>
              <a:ext cx="2779560" cy="12600"/>
            </a:xfrm>
            <a:prstGeom prst="rect">
              <a:avLst/>
            </a:prstGeom>
            <a:solidFill>
              <a:srgbClr val="ff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048120" y="2293920"/>
              <a:ext cx="2779560" cy="1260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048120" y="2306520"/>
              <a:ext cx="2779560" cy="14400"/>
            </a:xfrm>
            <a:prstGeom prst="rect">
              <a:avLst/>
            </a:prstGeom>
            <a:solidFill>
              <a:srgbClr val="ff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048120" y="2320920"/>
              <a:ext cx="2779560" cy="12600"/>
            </a:xfrm>
            <a:prstGeom prst="rect">
              <a:avLst/>
            </a:prstGeom>
            <a:solidFill>
              <a:srgbClr val="ff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048120" y="2333520"/>
              <a:ext cx="2779560" cy="12960"/>
            </a:xfrm>
            <a:prstGeom prst="rect">
              <a:avLst/>
            </a:prstGeom>
            <a:solidFill>
              <a:srgbClr val="ff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048120" y="2346480"/>
              <a:ext cx="2779560" cy="12600"/>
            </a:xfrm>
            <a:prstGeom prst="rect">
              <a:avLst/>
            </a:prstGeom>
            <a:solidFill>
              <a:srgbClr val="ff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048120" y="2359080"/>
              <a:ext cx="2779560" cy="12600"/>
            </a:xfrm>
            <a:prstGeom prst="rect">
              <a:avLst/>
            </a:prstGeom>
            <a:solidFill>
              <a:srgbClr val="ffb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048120" y="2371680"/>
              <a:ext cx="2779560" cy="12600"/>
            </a:xfrm>
            <a:prstGeom prst="rect">
              <a:avLst/>
            </a:prstGeom>
            <a:solidFill>
              <a:srgbClr val="ff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048120" y="2384280"/>
              <a:ext cx="2779560" cy="12960"/>
            </a:xfrm>
            <a:prstGeom prst="rect">
              <a:avLst/>
            </a:prstGeom>
            <a:solidFill>
              <a:srgbClr val="ff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048120" y="2397240"/>
              <a:ext cx="2779560" cy="12600"/>
            </a:xfrm>
            <a:prstGeom prst="rect">
              <a:avLst/>
            </a:prstGeom>
            <a:solidFill>
              <a:srgbClr val="ff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048120" y="2409840"/>
              <a:ext cx="2779560" cy="12600"/>
            </a:xfrm>
            <a:prstGeom prst="rect">
              <a:avLst/>
            </a:prstGeom>
            <a:solidFill>
              <a:srgbClr val="ff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048120" y="2422440"/>
              <a:ext cx="2779560" cy="129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9" name=""/>
          <p:cNvSpPr/>
          <p:nvPr/>
        </p:nvSpPr>
        <p:spPr>
          <a:xfrm>
            <a:off x="3048120" y="2281320"/>
            <a:ext cx="277956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3048120" y="2835360"/>
            <a:ext cx="965160" cy="154080"/>
            <a:chOff x="3048120" y="2835360"/>
            <a:chExt cx="965160" cy="154080"/>
          </a:xfrm>
        </p:grpSpPr>
        <p:sp>
          <p:nvSpPr>
            <p:cNvPr id="511" name=""/>
            <p:cNvSpPr/>
            <p:nvPr/>
          </p:nvSpPr>
          <p:spPr>
            <a:xfrm>
              <a:off x="3048120" y="2835360"/>
              <a:ext cx="965160" cy="12600"/>
            </a:xfrm>
            <a:prstGeom prst="rect">
              <a:avLst/>
            </a:prstGeom>
            <a:solidFill>
              <a:srgbClr val="ff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048120" y="2847960"/>
              <a:ext cx="965160" cy="1260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3048120" y="2860560"/>
              <a:ext cx="965160" cy="12960"/>
            </a:xfrm>
            <a:prstGeom prst="rect">
              <a:avLst/>
            </a:prstGeom>
            <a:solidFill>
              <a:srgbClr val="ff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048120" y="2873520"/>
              <a:ext cx="965160" cy="12600"/>
            </a:xfrm>
            <a:prstGeom prst="rect">
              <a:avLst/>
            </a:prstGeom>
            <a:solidFill>
              <a:srgbClr val="ff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048120" y="2886120"/>
              <a:ext cx="965160" cy="12600"/>
            </a:xfrm>
            <a:prstGeom prst="rect">
              <a:avLst/>
            </a:prstGeom>
            <a:solidFill>
              <a:srgbClr val="ff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048120" y="2898720"/>
              <a:ext cx="965160" cy="12960"/>
            </a:xfrm>
            <a:prstGeom prst="rect">
              <a:avLst/>
            </a:prstGeom>
            <a:solidFill>
              <a:srgbClr val="ff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048120" y="2911680"/>
              <a:ext cx="965160" cy="12600"/>
            </a:xfrm>
            <a:prstGeom prst="rect">
              <a:avLst/>
            </a:prstGeom>
            <a:solidFill>
              <a:srgbClr val="ffb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048120" y="2924280"/>
              <a:ext cx="965160" cy="12600"/>
            </a:xfrm>
            <a:prstGeom prst="rect">
              <a:avLst/>
            </a:prstGeom>
            <a:solidFill>
              <a:srgbClr val="ff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048120" y="2936880"/>
              <a:ext cx="965160" cy="14400"/>
            </a:xfrm>
            <a:prstGeom prst="rect">
              <a:avLst/>
            </a:prstGeom>
            <a:solidFill>
              <a:srgbClr val="ff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048120" y="2951280"/>
              <a:ext cx="965160" cy="12600"/>
            </a:xfrm>
            <a:prstGeom prst="rect">
              <a:avLst/>
            </a:prstGeom>
            <a:solidFill>
              <a:srgbClr val="ff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3048120" y="2963880"/>
              <a:ext cx="965160" cy="12600"/>
            </a:xfrm>
            <a:prstGeom prst="rect">
              <a:avLst/>
            </a:prstGeom>
            <a:solidFill>
              <a:srgbClr val="ff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048120" y="2976480"/>
              <a:ext cx="965160" cy="1296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3" name=""/>
          <p:cNvSpPr/>
          <p:nvPr/>
        </p:nvSpPr>
        <p:spPr>
          <a:xfrm>
            <a:off x="3048120" y="2835360"/>
            <a:ext cx="96516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3048120" y="3375000"/>
            <a:ext cx="939600" cy="154080"/>
            <a:chOff x="3048120" y="3375000"/>
            <a:chExt cx="939600" cy="154080"/>
          </a:xfrm>
        </p:grpSpPr>
        <p:sp>
          <p:nvSpPr>
            <p:cNvPr id="525" name=""/>
            <p:cNvSpPr/>
            <p:nvPr/>
          </p:nvSpPr>
          <p:spPr>
            <a:xfrm>
              <a:off x="3048120" y="3375000"/>
              <a:ext cx="939600" cy="12600"/>
            </a:xfrm>
            <a:prstGeom prst="rect">
              <a:avLst/>
            </a:prstGeom>
            <a:solidFill>
              <a:srgbClr val="ff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3048120" y="3387600"/>
              <a:ext cx="939600" cy="1296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048120" y="3400560"/>
              <a:ext cx="939600" cy="12600"/>
            </a:xfrm>
            <a:prstGeom prst="rect">
              <a:avLst/>
            </a:prstGeom>
            <a:solidFill>
              <a:srgbClr val="ff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048120" y="3413160"/>
              <a:ext cx="939600" cy="12600"/>
            </a:xfrm>
            <a:prstGeom prst="rect">
              <a:avLst/>
            </a:prstGeom>
            <a:solidFill>
              <a:srgbClr val="ff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048120" y="3425760"/>
              <a:ext cx="939600" cy="12960"/>
            </a:xfrm>
            <a:prstGeom prst="rect">
              <a:avLst/>
            </a:prstGeom>
            <a:solidFill>
              <a:srgbClr val="ff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048120" y="3438720"/>
              <a:ext cx="939600" cy="12600"/>
            </a:xfrm>
            <a:prstGeom prst="rect">
              <a:avLst/>
            </a:prstGeom>
            <a:solidFill>
              <a:srgbClr val="ff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048120" y="3451320"/>
              <a:ext cx="939600" cy="14400"/>
            </a:xfrm>
            <a:prstGeom prst="rect">
              <a:avLst/>
            </a:prstGeom>
            <a:solidFill>
              <a:srgbClr val="ffb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048120" y="3465720"/>
              <a:ext cx="939600" cy="12600"/>
            </a:xfrm>
            <a:prstGeom prst="rect">
              <a:avLst/>
            </a:prstGeom>
            <a:solidFill>
              <a:srgbClr val="ff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048120" y="3478320"/>
              <a:ext cx="939600" cy="12600"/>
            </a:xfrm>
            <a:prstGeom prst="rect">
              <a:avLst/>
            </a:prstGeom>
            <a:solidFill>
              <a:srgbClr val="ff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048120" y="3490920"/>
              <a:ext cx="939600" cy="12600"/>
            </a:xfrm>
            <a:prstGeom prst="rect">
              <a:avLst/>
            </a:prstGeom>
            <a:solidFill>
              <a:srgbClr val="ff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048120" y="3503520"/>
              <a:ext cx="939600" cy="12960"/>
            </a:xfrm>
            <a:prstGeom prst="rect">
              <a:avLst/>
            </a:prstGeom>
            <a:solidFill>
              <a:srgbClr val="ff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048120" y="3516480"/>
              <a:ext cx="939600" cy="12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37" name=""/>
          <p:cNvSpPr/>
          <p:nvPr/>
        </p:nvSpPr>
        <p:spPr>
          <a:xfrm>
            <a:off x="3048120" y="3375000"/>
            <a:ext cx="93960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3048120" y="3927600"/>
            <a:ext cx="733320" cy="153720"/>
            <a:chOff x="3048120" y="3927600"/>
            <a:chExt cx="733320" cy="153720"/>
          </a:xfrm>
        </p:grpSpPr>
        <p:sp>
          <p:nvSpPr>
            <p:cNvPr id="539" name=""/>
            <p:cNvSpPr/>
            <p:nvPr/>
          </p:nvSpPr>
          <p:spPr>
            <a:xfrm>
              <a:off x="3048120" y="3927600"/>
              <a:ext cx="733320" cy="12600"/>
            </a:xfrm>
            <a:prstGeom prst="rect">
              <a:avLst/>
            </a:prstGeom>
            <a:solidFill>
              <a:srgbClr val="ff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048120" y="3940200"/>
              <a:ext cx="733320" cy="1260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048120" y="3952800"/>
              <a:ext cx="733320" cy="14400"/>
            </a:xfrm>
            <a:prstGeom prst="rect">
              <a:avLst/>
            </a:prstGeom>
            <a:solidFill>
              <a:srgbClr val="ff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048120" y="3967200"/>
              <a:ext cx="733320" cy="12600"/>
            </a:xfrm>
            <a:prstGeom prst="rect">
              <a:avLst/>
            </a:prstGeom>
            <a:solidFill>
              <a:srgbClr val="ff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048120" y="3979800"/>
              <a:ext cx="733320" cy="12960"/>
            </a:xfrm>
            <a:prstGeom prst="rect">
              <a:avLst/>
            </a:prstGeom>
            <a:solidFill>
              <a:srgbClr val="ff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048120" y="3992760"/>
              <a:ext cx="733320" cy="12600"/>
            </a:xfrm>
            <a:prstGeom prst="rect">
              <a:avLst/>
            </a:prstGeom>
            <a:solidFill>
              <a:srgbClr val="ff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048120" y="4005360"/>
              <a:ext cx="733320" cy="12600"/>
            </a:xfrm>
            <a:prstGeom prst="rect">
              <a:avLst/>
            </a:prstGeom>
            <a:solidFill>
              <a:srgbClr val="ffb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048120" y="4017960"/>
              <a:ext cx="733320" cy="12600"/>
            </a:xfrm>
            <a:prstGeom prst="rect">
              <a:avLst/>
            </a:prstGeom>
            <a:solidFill>
              <a:srgbClr val="ff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048120" y="4030560"/>
              <a:ext cx="733320" cy="12960"/>
            </a:xfrm>
            <a:prstGeom prst="rect">
              <a:avLst/>
            </a:prstGeom>
            <a:solidFill>
              <a:srgbClr val="ff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048120" y="4043520"/>
              <a:ext cx="733320" cy="12600"/>
            </a:xfrm>
            <a:prstGeom prst="rect">
              <a:avLst/>
            </a:prstGeom>
            <a:solidFill>
              <a:srgbClr val="ff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048120" y="4056120"/>
              <a:ext cx="733320" cy="12600"/>
            </a:xfrm>
            <a:prstGeom prst="rect">
              <a:avLst/>
            </a:prstGeom>
            <a:solidFill>
              <a:srgbClr val="ff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048120" y="4068720"/>
              <a:ext cx="733320" cy="12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3048120" y="3927600"/>
            <a:ext cx="733320" cy="1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3048120" y="4481640"/>
            <a:ext cx="695160" cy="153720"/>
            <a:chOff x="3048120" y="4481640"/>
            <a:chExt cx="695160" cy="153720"/>
          </a:xfrm>
        </p:grpSpPr>
        <p:sp>
          <p:nvSpPr>
            <p:cNvPr id="553" name=""/>
            <p:cNvSpPr/>
            <p:nvPr/>
          </p:nvSpPr>
          <p:spPr>
            <a:xfrm>
              <a:off x="3048120" y="4481640"/>
              <a:ext cx="695160" cy="12600"/>
            </a:xfrm>
            <a:prstGeom prst="rect">
              <a:avLst/>
            </a:prstGeom>
            <a:solidFill>
              <a:srgbClr val="ff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048120" y="4494240"/>
              <a:ext cx="695160" cy="1260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3048120" y="4506840"/>
              <a:ext cx="695160" cy="12960"/>
            </a:xfrm>
            <a:prstGeom prst="rect">
              <a:avLst/>
            </a:prstGeom>
            <a:solidFill>
              <a:srgbClr val="ff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048120" y="4519800"/>
              <a:ext cx="695160" cy="12600"/>
            </a:xfrm>
            <a:prstGeom prst="rect">
              <a:avLst/>
            </a:prstGeom>
            <a:solidFill>
              <a:srgbClr val="ff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048120" y="4532400"/>
              <a:ext cx="695160" cy="12600"/>
            </a:xfrm>
            <a:prstGeom prst="rect">
              <a:avLst/>
            </a:prstGeom>
            <a:solidFill>
              <a:srgbClr val="ff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048120" y="4545000"/>
              <a:ext cx="695160" cy="12600"/>
            </a:xfrm>
            <a:prstGeom prst="rect">
              <a:avLst/>
            </a:prstGeom>
            <a:solidFill>
              <a:srgbClr val="ff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048120" y="4557600"/>
              <a:ext cx="695160" cy="12960"/>
            </a:xfrm>
            <a:prstGeom prst="rect">
              <a:avLst/>
            </a:prstGeom>
            <a:solidFill>
              <a:srgbClr val="ffb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048120" y="4570560"/>
              <a:ext cx="695160" cy="12600"/>
            </a:xfrm>
            <a:prstGeom prst="rect">
              <a:avLst/>
            </a:prstGeom>
            <a:solidFill>
              <a:srgbClr val="ff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048120" y="4583160"/>
              <a:ext cx="695160" cy="12600"/>
            </a:xfrm>
            <a:prstGeom prst="rect">
              <a:avLst/>
            </a:prstGeom>
            <a:solidFill>
              <a:srgbClr val="ff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048120" y="4595760"/>
              <a:ext cx="695160" cy="14400"/>
            </a:xfrm>
            <a:prstGeom prst="rect">
              <a:avLst/>
            </a:prstGeom>
            <a:solidFill>
              <a:srgbClr val="ff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048120" y="4610160"/>
              <a:ext cx="695160" cy="12600"/>
            </a:xfrm>
            <a:prstGeom prst="rect">
              <a:avLst/>
            </a:prstGeom>
            <a:solidFill>
              <a:srgbClr val="ff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048120" y="4622760"/>
              <a:ext cx="695160" cy="12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65" name=""/>
          <p:cNvSpPr/>
          <p:nvPr/>
        </p:nvSpPr>
        <p:spPr>
          <a:xfrm>
            <a:off x="3048120" y="4481640"/>
            <a:ext cx="695160" cy="1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6" name=""/>
          <p:cNvGrpSpPr/>
          <p:nvPr/>
        </p:nvGrpSpPr>
        <p:grpSpPr>
          <a:xfrm>
            <a:off x="3048120" y="5033880"/>
            <a:ext cx="438120" cy="154080"/>
            <a:chOff x="3048120" y="5033880"/>
            <a:chExt cx="438120" cy="154080"/>
          </a:xfrm>
        </p:grpSpPr>
        <p:sp>
          <p:nvSpPr>
            <p:cNvPr id="567" name=""/>
            <p:cNvSpPr/>
            <p:nvPr/>
          </p:nvSpPr>
          <p:spPr>
            <a:xfrm>
              <a:off x="3048120" y="5033880"/>
              <a:ext cx="438120" cy="12960"/>
            </a:xfrm>
            <a:prstGeom prst="rect">
              <a:avLst/>
            </a:prstGeom>
            <a:solidFill>
              <a:srgbClr val="ff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048120" y="5046840"/>
              <a:ext cx="438120" cy="1260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048120" y="5059440"/>
              <a:ext cx="438120" cy="12600"/>
            </a:xfrm>
            <a:prstGeom prst="rect">
              <a:avLst/>
            </a:prstGeom>
            <a:solidFill>
              <a:srgbClr val="ff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3048120" y="5072040"/>
              <a:ext cx="438120" cy="12600"/>
            </a:xfrm>
            <a:prstGeom prst="rect">
              <a:avLst/>
            </a:prstGeom>
            <a:solidFill>
              <a:srgbClr val="ff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048120" y="5084640"/>
              <a:ext cx="438120" cy="12960"/>
            </a:xfrm>
            <a:prstGeom prst="rect">
              <a:avLst/>
            </a:prstGeom>
            <a:solidFill>
              <a:srgbClr val="ff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048120" y="5097600"/>
              <a:ext cx="438120" cy="12600"/>
            </a:xfrm>
            <a:prstGeom prst="rect">
              <a:avLst/>
            </a:prstGeom>
            <a:solidFill>
              <a:srgbClr val="ff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048120" y="5110200"/>
              <a:ext cx="438120" cy="14400"/>
            </a:xfrm>
            <a:prstGeom prst="rect">
              <a:avLst/>
            </a:prstGeom>
            <a:solidFill>
              <a:srgbClr val="ffb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048120" y="5124600"/>
              <a:ext cx="438120" cy="12600"/>
            </a:xfrm>
            <a:prstGeom prst="rect">
              <a:avLst/>
            </a:prstGeom>
            <a:solidFill>
              <a:srgbClr val="ff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048120" y="5137200"/>
              <a:ext cx="438120" cy="12600"/>
            </a:xfrm>
            <a:prstGeom prst="rect">
              <a:avLst/>
            </a:prstGeom>
            <a:solidFill>
              <a:srgbClr val="ff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3048120" y="5149800"/>
              <a:ext cx="438120" cy="12960"/>
            </a:xfrm>
            <a:prstGeom prst="rect">
              <a:avLst/>
            </a:prstGeom>
            <a:solidFill>
              <a:srgbClr val="ff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3048120" y="5162760"/>
              <a:ext cx="438120" cy="12600"/>
            </a:xfrm>
            <a:prstGeom prst="rect">
              <a:avLst/>
            </a:prstGeom>
            <a:solidFill>
              <a:srgbClr val="ff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048120" y="5175360"/>
              <a:ext cx="438120" cy="12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9" name=""/>
          <p:cNvSpPr/>
          <p:nvPr/>
        </p:nvSpPr>
        <p:spPr>
          <a:xfrm>
            <a:off x="3048120" y="5033880"/>
            <a:ext cx="438120" cy="1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80" name=""/>
          <p:cNvGrpSpPr/>
          <p:nvPr/>
        </p:nvGrpSpPr>
        <p:grpSpPr>
          <a:xfrm>
            <a:off x="3048120" y="5573880"/>
            <a:ext cx="398520" cy="153720"/>
            <a:chOff x="3048120" y="5573880"/>
            <a:chExt cx="398520" cy="153720"/>
          </a:xfrm>
        </p:grpSpPr>
        <p:sp>
          <p:nvSpPr>
            <p:cNvPr id="581" name=""/>
            <p:cNvSpPr/>
            <p:nvPr/>
          </p:nvSpPr>
          <p:spPr>
            <a:xfrm>
              <a:off x="3048120" y="5573880"/>
              <a:ext cx="398520" cy="12600"/>
            </a:xfrm>
            <a:prstGeom prst="rect">
              <a:avLst/>
            </a:prstGeom>
            <a:solidFill>
              <a:srgbClr val="ff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3048120" y="5586480"/>
              <a:ext cx="398520" cy="1260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3048120" y="5599080"/>
              <a:ext cx="398520" cy="12600"/>
            </a:xfrm>
            <a:prstGeom prst="rect">
              <a:avLst/>
            </a:prstGeom>
            <a:solidFill>
              <a:srgbClr val="ff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048120" y="5611680"/>
              <a:ext cx="398520" cy="14400"/>
            </a:xfrm>
            <a:prstGeom prst="rect">
              <a:avLst/>
            </a:prstGeom>
            <a:solidFill>
              <a:srgbClr val="ff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048120" y="5626080"/>
              <a:ext cx="398520" cy="12600"/>
            </a:xfrm>
            <a:prstGeom prst="rect">
              <a:avLst/>
            </a:prstGeom>
            <a:solidFill>
              <a:srgbClr val="ff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048120" y="5638680"/>
              <a:ext cx="398520" cy="12960"/>
            </a:xfrm>
            <a:prstGeom prst="rect">
              <a:avLst/>
            </a:prstGeom>
            <a:solidFill>
              <a:srgbClr val="ff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048120" y="5651640"/>
              <a:ext cx="398520" cy="12600"/>
            </a:xfrm>
            <a:prstGeom prst="rect">
              <a:avLst/>
            </a:prstGeom>
            <a:solidFill>
              <a:srgbClr val="ffb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3048120" y="5664240"/>
              <a:ext cx="398520" cy="12600"/>
            </a:xfrm>
            <a:prstGeom prst="rect">
              <a:avLst/>
            </a:prstGeom>
            <a:solidFill>
              <a:srgbClr val="ff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3048120" y="5676840"/>
              <a:ext cx="398520" cy="12960"/>
            </a:xfrm>
            <a:prstGeom prst="rect">
              <a:avLst/>
            </a:prstGeom>
            <a:solidFill>
              <a:srgbClr val="ff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048120" y="5689800"/>
              <a:ext cx="398520" cy="12600"/>
            </a:xfrm>
            <a:prstGeom prst="rect">
              <a:avLst/>
            </a:prstGeom>
            <a:solidFill>
              <a:srgbClr val="ff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3048120" y="5702400"/>
              <a:ext cx="398520" cy="12600"/>
            </a:xfrm>
            <a:prstGeom prst="rect">
              <a:avLst/>
            </a:prstGeom>
            <a:solidFill>
              <a:srgbClr val="ff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048120" y="5715000"/>
              <a:ext cx="398520" cy="12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3" name=""/>
          <p:cNvSpPr/>
          <p:nvPr/>
        </p:nvSpPr>
        <p:spPr>
          <a:xfrm>
            <a:off x="3048120" y="5573880"/>
            <a:ext cx="398520" cy="15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3048120" y="6126120"/>
            <a:ext cx="168120" cy="155520"/>
            <a:chOff x="3048120" y="6126120"/>
            <a:chExt cx="168120" cy="155520"/>
          </a:xfrm>
        </p:grpSpPr>
        <p:sp>
          <p:nvSpPr>
            <p:cNvPr id="595" name=""/>
            <p:cNvSpPr/>
            <p:nvPr/>
          </p:nvSpPr>
          <p:spPr>
            <a:xfrm>
              <a:off x="3048120" y="6126120"/>
              <a:ext cx="168120" cy="14400"/>
            </a:xfrm>
            <a:prstGeom prst="rect">
              <a:avLst/>
            </a:prstGeom>
            <a:solidFill>
              <a:srgbClr val="ff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048120" y="6140520"/>
              <a:ext cx="168120" cy="12600"/>
            </a:xfrm>
            <a:prstGeom prst="rect">
              <a:avLst/>
            </a:prstGeom>
            <a:solidFill>
              <a:srgbClr val="ffc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048120" y="6153120"/>
              <a:ext cx="168120" cy="12600"/>
            </a:xfrm>
            <a:prstGeom prst="rect">
              <a:avLst/>
            </a:prstGeom>
            <a:solidFill>
              <a:srgbClr val="ff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048120" y="6165720"/>
              <a:ext cx="168120" cy="12960"/>
            </a:xfrm>
            <a:prstGeom prst="rect">
              <a:avLst/>
            </a:prstGeom>
            <a:solidFill>
              <a:srgbClr val="ffc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3048120" y="6178680"/>
              <a:ext cx="168120" cy="12600"/>
            </a:xfrm>
            <a:prstGeom prst="rect">
              <a:avLst/>
            </a:prstGeom>
            <a:solidFill>
              <a:srgbClr val="ff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048120" y="6191280"/>
              <a:ext cx="168120" cy="12600"/>
            </a:xfrm>
            <a:prstGeom prst="rect">
              <a:avLst/>
            </a:prstGeom>
            <a:solidFill>
              <a:srgbClr val="ffb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3048120" y="6203880"/>
              <a:ext cx="168120" cy="12960"/>
            </a:xfrm>
            <a:prstGeom prst="rect">
              <a:avLst/>
            </a:prstGeom>
            <a:solidFill>
              <a:srgbClr val="ffb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3048120" y="6216840"/>
              <a:ext cx="168120" cy="12600"/>
            </a:xfrm>
            <a:prstGeom prst="rect">
              <a:avLst/>
            </a:prstGeom>
            <a:solidFill>
              <a:srgbClr val="ff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3048120" y="6229440"/>
              <a:ext cx="168120" cy="12600"/>
            </a:xfrm>
            <a:prstGeom prst="rect">
              <a:avLst/>
            </a:prstGeom>
            <a:solidFill>
              <a:srgbClr val="ffa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3048120" y="6242040"/>
              <a:ext cx="168120" cy="12600"/>
            </a:xfrm>
            <a:prstGeom prst="rect">
              <a:avLst/>
            </a:prstGeom>
            <a:solidFill>
              <a:srgbClr val="ff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3048120" y="6254640"/>
              <a:ext cx="168120" cy="14400"/>
            </a:xfrm>
            <a:prstGeom prst="rect">
              <a:avLst/>
            </a:prstGeom>
            <a:solidFill>
              <a:srgbClr val="ff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048120" y="6269040"/>
              <a:ext cx="168120" cy="12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07" name=""/>
          <p:cNvSpPr/>
          <p:nvPr/>
        </p:nvSpPr>
        <p:spPr>
          <a:xfrm>
            <a:off x="3048120" y="6126120"/>
            <a:ext cx="168120" cy="1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048120" y="1998720"/>
            <a:ext cx="4297320" cy="1440"/>
          </a:xfrm>
          <a:prstGeom prst="line">
            <a:avLst/>
          </a:prstGeom>
          <a:ln w="0">
            <a:solidFill>
              <a:srgbClr val="00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V="1">
            <a:off x="3048120" y="1947600"/>
            <a:ext cx="1440" cy="5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 flipV="1">
            <a:off x="3909960" y="1947600"/>
            <a:ext cx="1800" cy="5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V="1">
            <a:off x="4772160" y="1947600"/>
            <a:ext cx="1440" cy="5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V="1">
            <a:off x="5621400" y="1947600"/>
            <a:ext cx="1440" cy="5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V="1">
            <a:off x="6483240" y="1947600"/>
            <a:ext cx="1800" cy="5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 flipV="1">
            <a:off x="7345440" y="1947600"/>
            <a:ext cx="1440" cy="5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3048120" y="1998720"/>
            <a:ext cx="1440" cy="4398840"/>
          </a:xfrm>
          <a:prstGeom prst="line">
            <a:avLst/>
          </a:prstGeom>
          <a:ln w="0">
            <a:solidFill>
              <a:srgbClr val="00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997360" y="199872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2997360" y="255096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2997360" y="310500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997360" y="364500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997360" y="419724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997360" y="475128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997360" y="530388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997360" y="584352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997360" y="639756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009240" y="16509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818160" y="16509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4680000" y="16509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529240" y="16509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6391440" y="16509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7253280" y="16509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755080" y="2165400"/>
            <a:ext cx="238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99"/>
                </a:solidFill>
                <a:latin typeface="Arial"/>
              </a:rPr>
              <a:t>V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417400" y="2719440"/>
            <a:ext cx="576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99"/>
                </a:solidFill>
                <a:latin typeface="Arial"/>
              </a:rPr>
              <a:t>Camina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561320" y="3240000"/>
            <a:ext cx="1436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99"/>
                </a:solidFill>
                <a:latin typeface="Arial"/>
              </a:rPr>
              <a:t>Subir/bajar escaler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713960" y="3849840"/>
            <a:ext cx="12808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99"/>
                </a:solidFill>
                <a:latin typeface="Arial"/>
              </a:rPr>
              <a:t>Viajar micro, metr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628280" y="4383000"/>
            <a:ext cx="1367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99"/>
                </a:solidFill>
                <a:latin typeface="Arial"/>
              </a:rPr>
              <a:t>Mascar cosas dur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2424600" y="4917960"/>
            <a:ext cx="570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99"/>
                </a:solidFill>
                <a:latin typeface="Arial"/>
              </a:rPr>
              <a:t>Bañar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441880" y="5470560"/>
            <a:ext cx="552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99"/>
                </a:solidFill>
                <a:latin typeface="Arial"/>
              </a:rPr>
              <a:t>Vestirs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1737000" y="6059520"/>
            <a:ext cx="1259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99"/>
                </a:solidFill>
                <a:latin typeface="Arial"/>
              </a:rPr>
              <a:t>Control de esfínte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583240" y="4108320"/>
            <a:ext cx="1825560" cy="514440"/>
          </a:xfrm>
          <a:prstGeom prst="rect">
            <a:avLst/>
          </a:prstGeom>
          <a:solidFill>
            <a:srgbClr val="ffffff"/>
          </a:solidFill>
          <a:ln w="0">
            <a:solidFill>
              <a:srgbClr val="00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5646600" y="4197240"/>
            <a:ext cx="90360" cy="90720"/>
            <a:chOff x="5646600" y="4197240"/>
            <a:chExt cx="90360" cy="90720"/>
          </a:xfrm>
        </p:grpSpPr>
        <p:sp>
          <p:nvSpPr>
            <p:cNvPr id="641" name=""/>
            <p:cNvSpPr/>
            <p:nvPr/>
          </p:nvSpPr>
          <p:spPr>
            <a:xfrm>
              <a:off x="5646600" y="4197240"/>
              <a:ext cx="90360" cy="12960"/>
            </a:xfrm>
            <a:prstGeom prst="rect">
              <a:avLst/>
            </a:prstGeom>
            <a:solidFill>
              <a:srgbClr val="32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646600" y="4210200"/>
              <a:ext cx="90360" cy="14040"/>
            </a:xfrm>
            <a:prstGeom prst="rect">
              <a:avLst/>
            </a:prstGeom>
            <a:solidFill>
              <a:srgbClr val="30c3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646600" y="4224240"/>
              <a:ext cx="90360" cy="12960"/>
            </a:xfrm>
            <a:prstGeom prst="rect">
              <a:avLst/>
            </a:prstGeom>
            <a:solidFill>
              <a:srgbClr val="2db4b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646600" y="4237200"/>
              <a:ext cx="90360" cy="12600"/>
            </a:xfrm>
            <a:prstGeom prst="rect">
              <a:avLst/>
            </a:prstGeom>
            <a:solidFill>
              <a:srgbClr val="27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646600" y="4249800"/>
              <a:ext cx="90360" cy="12600"/>
            </a:xfrm>
            <a:prstGeom prst="rect">
              <a:avLst/>
            </a:prstGeom>
            <a:solidFill>
              <a:srgbClr val="21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646600" y="4262400"/>
              <a:ext cx="90360" cy="12600"/>
            </a:xfrm>
            <a:prstGeom prst="rect">
              <a:avLst/>
            </a:prstGeom>
            <a:solidFill>
              <a:srgbClr val="1b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646600" y="4275000"/>
              <a:ext cx="90360" cy="12960"/>
            </a:xfrm>
            <a:prstGeom prst="rect">
              <a:avLst/>
            </a:prstGeom>
            <a:solidFill>
              <a:srgbClr val="17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48" name=""/>
          <p:cNvSpPr/>
          <p:nvPr/>
        </p:nvSpPr>
        <p:spPr>
          <a:xfrm>
            <a:off x="5646600" y="4197240"/>
            <a:ext cx="103320" cy="1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783040" y="4146480"/>
            <a:ext cx="1486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99"/>
                </a:solidFill>
                <a:latin typeface="Arial"/>
              </a:rPr>
              <a:t>Con Diabetes Mellitu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0" name=""/>
          <p:cNvGrpSpPr/>
          <p:nvPr/>
        </p:nvGrpSpPr>
        <p:grpSpPr>
          <a:xfrm>
            <a:off x="5646600" y="4454640"/>
            <a:ext cx="90360" cy="90360"/>
            <a:chOff x="5646600" y="4454640"/>
            <a:chExt cx="90360" cy="90360"/>
          </a:xfrm>
        </p:grpSpPr>
        <p:sp>
          <p:nvSpPr>
            <p:cNvPr id="651" name=""/>
            <p:cNvSpPr/>
            <p:nvPr/>
          </p:nvSpPr>
          <p:spPr>
            <a:xfrm>
              <a:off x="5646600" y="4454640"/>
              <a:ext cx="90360" cy="12600"/>
            </a:xfrm>
            <a:prstGeom prst="rect">
              <a:avLst/>
            </a:prstGeom>
            <a:solidFill>
              <a:srgbClr val="ffc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5646600" y="4467240"/>
              <a:ext cx="90360" cy="14400"/>
            </a:xfrm>
            <a:prstGeom prst="rect">
              <a:avLst/>
            </a:prstGeom>
            <a:solidFill>
              <a:srgbClr val="ff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5646600" y="4481640"/>
              <a:ext cx="90360" cy="12600"/>
            </a:xfrm>
            <a:prstGeom prst="rect">
              <a:avLst/>
            </a:pr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646600" y="4494240"/>
              <a:ext cx="90360" cy="12600"/>
            </a:xfrm>
            <a:prstGeom prst="rect">
              <a:avLst/>
            </a:prstGeom>
            <a:solidFill>
              <a:srgbClr val="ffb4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646600" y="4506840"/>
              <a:ext cx="90360" cy="12960"/>
            </a:xfrm>
            <a:prstGeom prst="rect">
              <a:avLst/>
            </a:prstGeom>
            <a:solidFill>
              <a:srgbClr val="ffa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646600" y="4519800"/>
              <a:ext cx="90360" cy="12600"/>
            </a:xfrm>
            <a:prstGeom prst="rect">
              <a:avLst/>
            </a:prstGeom>
            <a:solidFill>
              <a:srgbClr val="ff9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646600" y="4532400"/>
              <a:ext cx="90360" cy="12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8" name=""/>
          <p:cNvSpPr/>
          <p:nvPr/>
        </p:nvSpPr>
        <p:spPr>
          <a:xfrm>
            <a:off x="5646600" y="4454640"/>
            <a:ext cx="103320" cy="1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781600" y="4403880"/>
            <a:ext cx="1226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99"/>
                </a:solidFill>
                <a:latin typeface="Arial"/>
              </a:rPr>
              <a:t>Población gener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/>
          </p:nvPr>
        </p:nvSpPr>
        <p:spPr>
          <a:xfrm>
            <a:off x="228240" y="228600"/>
            <a:ext cx="75438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title"/>
          </p:nvPr>
        </p:nvSpPr>
        <p:spPr>
          <a:xfrm>
            <a:off x="1676160" y="158760"/>
            <a:ext cx="70102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cc00"/>
                </a:solidFill>
                <a:latin typeface="Arial Black"/>
              </a:rPr>
              <a:t>Dificultades para Ver según grupos de Edad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662" name="" descr=""/>
          <p:cNvPicPr/>
          <p:nvPr/>
        </p:nvPicPr>
        <p:blipFill>
          <a:blip r:embed="rId1"/>
          <a:stretch/>
        </p:blipFill>
        <p:spPr>
          <a:xfrm>
            <a:off x="990720" y="1989000"/>
            <a:ext cx="73152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/>
          </p:nvPr>
        </p:nvSpPr>
        <p:spPr>
          <a:xfrm>
            <a:off x="228240" y="304920"/>
            <a:ext cx="83818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title"/>
          </p:nvPr>
        </p:nvSpPr>
        <p:spPr>
          <a:xfrm>
            <a:off x="1676160" y="341640"/>
            <a:ext cx="7010280" cy="106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Arial Black"/>
              </a:rPr>
              <a:t>P</a:t>
            </a:r>
            <a:r>
              <a:rPr b="0" lang="es-ES" sz="3200" spc="-1" strike="noStrike">
                <a:solidFill>
                  <a:srgbClr val="ffcc00"/>
                </a:solidFill>
                <a:latin typeface="Arial Black"/>
              </a:rPr>
              <a:t>ersonas con discapacidad </a:t>
            </a:r>
            <a:r>
              <a:rPr b="0" lang="es-ES_tradnl" sz="3200" spc="-1" strike="noStrike">
                <a:solidFill>
                  <a:srgbClr val="ffcc00"/>
                </a:solidFill>
                <a:latin typeface="Arial Black"/>
              </a:rPr>
              <a:t>con </a:t>
            </a:r>
            <a:r>
              <a:rPr b="0" lang="es-ES" sz="3200" spc="-1" strike="noStrike">
                <a:solidFill>
                  <a:srgbClr val="ffcc00"/>
                </a:solidFill>
                <a:latin typeface="Arial Black"/>
              </a:rPr>
              <a:t>dificultad de integración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65" name=""/>
          <p:cNvSpPr/>
          <p:nvPr/>
        </p:nvSpPr>
        <p:spPr>
          <a:xfrm>
            <a:off x="2432160" y="2327400"/>
            <a:ext cx="399960" cy="2306520"/>
          </a:xfrm>
          <a:prstGeom prst="rect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807000" y="3181320"/>
            <a:ext cx="399960" cy="1452600"/>
          </a:xfrm>
          <a:prstGeom prst="rect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180040" y="3314880"/>
            <a:ext cx="385560" cy="1319040"/>
          </a:xfrm>
          <a:prstGeom prst="rect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6540480" y="3166920"/>
            <a:ext cx="399960" cy="1467000"/>
          </a:xfrm>
          <a:prstGeom prst="rect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832120" y="2314440"/>
            <a:ext cx="387360" cy="231948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06960" y="3006720"/>
            <a:ext cx="385560" cy="162720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565600" y="2406600"/>
            <a:ext cx="387360" cy="222732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6940440" y="2781360"/>
            <a:ext cx="385920" cy="185256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139840" y="1539720"/>
            <a:ext cx="1800" cy="30942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085840" y="463392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2085840" y="402120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2085840" y="339408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2085840" y="278136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085840" y="2154240"/>
            <a:ext cx="54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085840" y="1539720"/>
            <a:ext cx="540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139840" y="4633920"/>
            <a:ext cx="5480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 flipV="1">
            <a:off x="2139840" y="463392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flipV="1">
            <a:off x="3513240" y="463392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 flipV="1">
            <a:off x="4886280" y="463392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flipV="1">
            <a:off x="6246720" y="4633920"/>
            <a:ext cx="180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 flipV="1">
            <a:off x="7620120" y="4633920"/>
            <a:ext cx="1440" cy="540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779560" y="2273400"/>
            <a:ext cx="133560" cy="133200"/>
          </a:xfrm>
          <a:custGeom>
            <a:avLst/>
            <a:gdLst/>
            <a:ahLst/>
            <a:rect l="l" t="t" r="r" b="b"/>
            <a:pathLst>
              <a:path w="84" h="84">
                <a:moveTo>
                  <a:pt x="42" y="0"/>
                </a:moveTo>
                <a:lnTo>
                  <a:pt x="84" y="42"/>
                </a:lnTo>
                <a:lnTo>
                  <a:pt x="42" y="84"/>
                </a:lnTo>
                <a:lnTo>
                  <a:pt x="0" y="42"/>
                </a:lnTo>
                <a:lnTo>
                  <a:pt x="42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52960" y="3033720"/>
            <a:ext cx="133200" cy="133200"/>
          </a:xfrm>
          <a:custGeom>
            <a:avLst/>
            <a:gdLst/>
            <a:ahLst/>
            <a:rect l="l" t="t" r="r" b="b"/>
            <a:pathLst>
              <a:path w="84" h="84">
                <a:moveTo>
                  <a:pt x="42" y="0"/>
                </a:moveTo>
                <a:lnTo>
                  <a:pt x="84" y="42"/>
                </a:lnTo>
                <a:lnTo>
                  <a:pt x="42" y="84"/>
                </a:lnTo>
                <a:lnTo>
                  <a:pt x="0" y="42"/>
                </a:lnTo>
                <a:lnTo>
                  <a:pt x="42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5526000" y="2754360"/>
            <a:ext cx="133560" cy="133200"/>
          </a:xfrm>
          <a:custGeom>
            <a:avLst/>
            <a:gdLst/>
            <a:ahLst/>
            <a:rect l="l" t="t" r="r" b="b"/>
            <a:pathLst>
              <a:path w="84" h="84">
                <a:moveTo>
                  <a:pt x="42" y="0"/>
                </a:moveTo>
                <a:lnTo>
                  <a:pt x="84" y="42"/>
                </a:lnTo>
                <a:lnTo>
                  <a:pt x="42" y="84"/>
                </a:lnTo>
                <a:lnTo>
                  <a:pt x="0" y="42"/>
                </a:lnTo>
                <a:lnTo>
                  <a:pt x="42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899400" y="2900520"/>
            <a:ext cx="133200" cy="133200"/>
          </a:xfrm>
          <a:custGeom>
            <a:avLst/>
            <a:gdLst/>
            <a:ahLst/>
            <a:rect l="l" t="t" r="r" b="b"/>
            <a:pathLst>
              <a:path w="84" h="84">
                <a:moveTo>
                  <a:pt x="42" y="0"/>
                </a:moveTo>
                <a:lnTo>
                  <a:pt x="84" y="42"/>
                </a:lnTo>
                <a:lnTo>
                  <a:pt x="42" y="84"/>
                </a:lnTo>
                <a:lnTo>
                  <a:pt x="0" y="42"/>
                </a:lnTo>
                <a:lnTo>
                  <a:pt x="42" y="0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752560" y="2247840"/>
            <a:ext cx="133560" cy="133560"/>
          </a:xfrm>
          <a:custGeom>
            <a:avLst/>
            <a:gdLst/>
            <a:ahLst/>
            <a:rect l="l" t="t" r="r" b="b"/>
            <a:pathLst>
              <a:path w="84" h="84">
                <a:moveTo>
                  <a:pt x="42" y="0"/>
                </a:moveTo>
                <a:lnTo>
                  <a:pt x="84" y="42"/>
                </a:lnTo>
                <a:lnTo>
                  <a:pt x="42" y="84"/>
                </a:lnTo>
                <a:lnTo>
                  <a:pt x="0" y="42"/>
                </a:lnTo>
                <a:lnTo>
                  <a:pt x="42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4125960" y="3006720"/>
            <a:ext cx="133200" cy="135000"/>
          </a:xfrm>
          <a:custGeom>
            <a:avLst/>
            <a:gdLst/>
            <a:ahLst/>
            <a:rect l="l" t="t" r="r" b="b"/>
            <a:pathLst>
              <a:path w="84" h="85">
                <a:moveTo>
                  <a:pt x="42" y="0"/>
                </a:moveTo>
                <a:lnTo>
                  <a:pt x="84" y="43"/>
                </a:lnTo>
                <a:lnTo>
                  <a:pt x="42" y="85"/>
                </a:lnTo>
                <a:lnTo>
                  <a:pt x="0" y="43"/>
                </a:lnTo>
                <a:lnTo>
                  <a:pt x="42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5499000" y="2727360"/>
            <a:ext cx="133560" cy="133200"/>
          </a:xfrm>
          <a:custGeom>
            <a:avLst/>
            <a:gdLst/>
            <a:ahLst/>
            <a:rect l="l" t="t" r="r" b="b"/>
            <a:pathLst>
              <a:path w="84" h="84">
                <a:moveTo>
                  <a:pt x="42" y="0"/>
                </a:moveTo>
                <a:lnTo>
                  <a:pt x="84" y="42"/>
                </a:lnTo>
                <a:lnTo>
                  <a:pt x="42" y="84"/>
                </a:lnTo>
                <a:lnTo>
                  <a:pt x="0" y="42"/>
                </a:lnTo>
                <a:lnTo>
                  <a:pt x="42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6873840" y="2873520"/>
            <a:ext cx="133560" cy="133200"/>
          </a:xfrm>
          <a:custGeom>
            <a:avLst/>
            <a:gdLst/>
            <a:ahLst/>
            <a:rect l="l" t="t" r="r" b="b"/>
            <a:pathLst>
              <a:path w="84" h="84">
                <a:moveTo>
                  <a:pt x="42" y="0"/>
                </a:moveTo>
                <a:lnTo>
                  <a:pt x="84" y="42"/>
                </a:lnTo>
                <a:lnTo>
                  <a:pt x="42" y="84"/>
                </a:lnTo>
                <a:lnTo>
                  <a:pt x="0" y="42"/>
                </a:lnTo>
                <a:lnTo>
                  <a:pt x="42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580480" y="206064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8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953520" y="29145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8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5313960" y="30481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8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6687360" y="29005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8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967840" y="204804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8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4340880" y="27399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8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5701320" y="213984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8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074720" y="25146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8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949400" y="452772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949400" y="3914640"/>
            <a:ext cx="99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9760" y="328788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Arial"/>
              </a:rPr>
              <a:t>1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859760" y="267336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Arial"/>
              </a:rPr>
              <a:t>1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859760" y="204804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Arial"/>
              </a:rPr>
              <a:t>20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1859760" y="1433520"/>
            <a:ext cx="19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Arial"/>
              </a:rPr>
              <a:t>25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 rot="16200000">
            <a:off x="2448720" y="4956120"/>
            <a:ext cx="456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99"/>
                </a:solidFill>
                <a:latin typeface="Arial Narrow"/>
              </a:rPr>
              <a:t>Trabajo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 rot="16200000">
            <a:off x="2554560" y="4955040"/>
            <a:ext cx="724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99"/>
                </a:solidFill>
                <a:latin typeface="Arial Narrow"/>
              </a:rPr>
              <a:t>remunerado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 rot="16200000">
            <a:off x="3925080" y="4871160"/>
            <a:ext cx="494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99"/>
                </a:solidFill>
                <a:latin typeface="Arial Narrow"/>
              </a:rPr>
              <a:t>Estudiar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 rot="16200000">
            <a:off x="5195160" y="4929120"/>
            <a:ext cx="4564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99"/>
                </a:solidFill>
                <a:latin typeface="Arial Narrow"/>
              </a:rPr>
              <a:t>Trabajo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 rot="16200000">
            <a:off x="5344200" y="4932000"/>
            <a:ext cx="637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99"/>
                </a:solidFill>
                <a:latin typeface="Arial Narrow"/>
              </a:rPr>
              <a:t>Doméstico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rot="16200000">
            <a:off x="6607800" y="4928040"/>
            <a:ext cx="619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99"/>
                </a:solidFill>
                <a:latin typeface="Arial Narrow"/>
              </a:rPr>
              <a:t>Recrearse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 rot="16200000">
            <a:off x="1550880" y="2930760"/>
            <a:ext cx="15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3780000" y="1739880"/>
            <a:ext cx="93600" cy="93600"/>
          </a:xfrm>
          <a:prstGeom prst="rect">
            <a:avLst/>
          </a:prstGeom>
          <a:solidFill>
            <a:srgbClr val="3333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3957840" y="1673280"/>
            <a:ext cx="723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80"/>
                </a:solidFill>
                <a:latin typeface="Arial"/>
              </a:rPr>
              <a:t>Hombr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699080" y="1739880"/>
            <a:ext cx="93600" cy="93600"/>
          </a:xfrm>
          <a:prstGeom prst="rect">
            <a:avLst/>
          </a:prstGeom>
          <a:solidFill>
            <a:srgbClr val="33cc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4876200" y="1673280"/>
            <a:ext cx="634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80"/>
                </a:solidFill>
                <a:latin typeface="Arial"/>
              </a:rPr>
              <a:t>Mujere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5540400" y="1739880"/>
            <a:ext cx="106200" cy="108000"/>
          </a:xfrm>
          <a:custGeom>
            <a:avLst/>
            <a:gdLst/>
            <a:ahLst/>
            <a:rect l="l" t="t" r="r" b="b"/>
            <a:pathLst>
              <a:path w="67" h="68">
                <a:moveTo>
                  <a:pt x="33" y="0"/>
                </a:moveTo>
                <a:lnTo>
                  <a:pt x="67" y="34"/>
                </a:lnTo>
                <a:lnTo>
                  <a:pt x="33" y="68"/>
                </a:lnTo>
                <a:lnTo>
                  <a:pt x="0" y="34"/>
                </a:lnTo>
                <a:lnTo>
                  <a:pt x="33" y="0"/>
                </a:lnTo>
                <a:close/>
              </a:path>
            </a:pathLst>
          </a:custGeom>
          <a:solidFill>
            <a:srgbClr val="ff0000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721120" y="167328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80"/>
                </a:solidFill>
                <a:latin typeface="Arial"/>
              </a:rPr>
              <a:t>Tota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1379520" y="5527800"/>
            <a:ext cx="6573960" cy="533160"/>
          </a:xfrm>
          <a:prstGeom prst="rect">
            <a:avLst/>
          </a:prstGeom>
          <a:noFill/>
          <a:ln w="1260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1393560" y="5541840"/>
            <a:ext cx="6327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99"/>
                </a:solidFill>
                <a:latin typeface="Arial"/>
              </a:rPr>
              <a:t>Además el 11,3% de las personas con discapacidad presentan problemas para</a:t>
            </a:r>
            <a:r>
              <a:rPr b="0" lang="es-ES" sz="14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396800" y="5767560"/>
            <a:ext cx="5266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99"/>
                </a:solidFill>
                <a:latin typeface="Arial"/>
              </a:rPr>
              <a:t>dormir o descansar; 9,4% de los hombres y 12,7% de las mujere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/>
          </p:nvPr>
        </p:nvSpPr>
        <p:spPr>
          <a:xfrm>
            <a:off x="228240" y="228240"/>
            <a:ext cx="8458200" cy="624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title"/>
          </p:nvPr>
        </p:nvSpPr>
        <p:spPr>
          <a:xfrm>
            <a:off x="1676160" y="91800"/>
            <a:ext cx="701028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Arial Black"/>
              </a:rPr>
              <a:t>Dolor permanente en los 12 meses previos, según sexo y localización del dolor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726" name=""/>
          <p:cNvSpPr/>
          <p:nvPr/>
        </p:nvSpPr>
        <p:spPr>
          <a:xfrm>
            <a:off x="1984320" y="4254480"/>
            <a:ext cx="6219720" cy="1440"/>
          </a:xfrm>
          <a:prstGeom prst="line">
            <a:avLst/>
          </a:prstGeom>
          <a:ln w="0">
            <a:solidFill>
              <a:srgbClr val="ffcc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984320" y="3844800"/>
            <a:ext cx="6219720" cy="1800"/>
          </a:xfrm>
          <a:prstGeom prst="line">
            <a:avLst/>
          </a:prstGeom>
          <a:ln w="0">
            <a:solidFill>
              <a:srgbClr val="ffcc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984320" y="3435480"/>
            <a:ext cx="6219720" cy="1440"/>
          </a:xfrm>
          <a:prstGeom prst="line">
            <a:avLst/>
          </a:prstGeom>
          <a:ln w="0">
            <a:solidFill>
              <a:srgbClr val="ffcc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984320" y="3025800"/>
            <a:ext cx="6219720" cy="1440"/>
          </a:xfrm>
          <a:prstGeom prst="line">
            <a:avLst/>
          </a:prstGeom>
          <a:ln w="0">
            <a:solidFill>
              <a:srgbClr val="ffcc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984320" y="2617920"/>
            <a:ext cx="6219720" cy="1440"/>
          </a:xfrm>
          <a:prstGeom prst="line">
            <a:avLst/>
          </a:prstGeom>
          <a:ln w="0">
            <a:solidFill>
              <a:srgbClr val="ffcc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984320" y="2208240"/>
            <a:ext cx="6219720" cy="1440"/>
          </a:xfrm>
          <a:prstGeom prst="line">
            <a:avLst/>
          </a:prstGeom>
          <a:ln w="0">
            <a:solidFill>
              <a:srgbClr val="ffcc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984320" y="1798560"/>
            <a:ext cx="6219720" cy="1800"/>
          </a:xfrm>
          <a:prstGeom prst="line">
            <a:avLst/>
          </a:prstGeom>
          <a:ln w="0">
            <a:solidFill>
              <a:srgbClr val="ffcc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984320" y="1389240"/>
            <a:ext cx="6219720" cy="1440"/>
          </a:xfrm>
          <a:prstGeom prst="line">
            <a:avLst/>
          </a:prstGeom>
          <a:ln w="0">
            <a:solidFill>
              <a:srgbClr val="ffcc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495520" y="2981160"/>
            <a:ext cx="34920" cy="1694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224080" y="4664160"/>
            <a:ext cx="3063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530520" y="2333520"/>
            <a:ext cx="34920" cy="2341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257640" y="4664160"/>
            <a:ext cx="30780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4576680" y="3992400"/>
            <a:ext cx="34920" cy="682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4292640" y="4664160"/>
            <a:ext cx="3189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611680" y="3844800"/>
            <a:ext cx="34920" cy="830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338800" y="4664160"/>
            <a:ext cx="30780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6647040" y="3798720"/>
            <a:ext cx="33120" cy="876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373800" y="4664160"/>
            <a:ext cx="3063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7682040" y="2992320"/>
            <a:ext cx="33120" cy="168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7408800" y="4664160"/>
            <a:ext cx="3063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2792520" y="1593720"/>
            <a:ext cx="33120" cy="3081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519280" y="4664160"/>
            <a:ext cx="3063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827520" y="3390840"/>
            <a:ext cx="33120" cy="1284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554280" y="4664160"/>
            <a:ext cx="3063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873680" y="3787920"/>
            <a:ext cx="33120" cy="887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600440" y="4664160"/>
            <a:ext cx="3063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907240" y="3913200"/>
            <a:ext cx="3492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634000" y="4664160"/>
            <a:ext cx="308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942240" y="3913200"/>
            <a:ext cx="3492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6669000" y="4664160"/>
            <a:ext cx="308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977240" y="3333600"/>
            <a:ext cx="34920" cy="1341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704000" y="4664160"/>
            <a:ext cx="308160" cy="11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58" name=""/>
          <p:cNvGrpSpPr/>
          <p:nvPr/>
        </p:nvGrpSpPr>
        <p:grpSpPr>
          <a:xfrm>
            <a:off x="2200320" y="2957400"/>
            <a:ext cx="295200" cy="1706760"/>
            <a:chOff x="2200320" y="2957400"/>
            <a:chExt cx="295200" cy="1706760"/>
          </a:xfrm>
        </p:grpSpPr>
        <p:sp>
          <p:nvSpPr>
            <p:cNvPr id="759" name=""/>
            <p:cNvSpPr/>
            <p:nvPr/>
          </p:nvSpPr>
          <p:spPr>
            <a:xfrm>
              <a:off x="2200320" y="2957400"/>
              <a:ext cx="295200" cy="237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200320" y="2981160"/>
              <a:ext cx="295200" cy="111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2200320" y="2992320"/>
              <a:ext cx="295200" cy="22320"/>
            </a:xfrm>
            <a:prstGeom prst="rect">
              <a:avLst/>
            </a:prstGeom>
            <a:solidFill>
              <a:srgbClr val="34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2200320" y="3014640"/>
              <a:ext cx="295200" cy="11160"/>
            </a:xfrm>
            <a:prstGeom prst="rect">
              <a:avLst/>
            </a:prstGeom>
            <a:solidFill>
              <a:srgbClr val="34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200320" y="3025800"/>
              <a:ext cx="295200" cy="23760"/>
            </a:xfrm>
            <a:prstGeom prst="rect">
              <a:avLst/>
            </a:prstGeom>
            <a:solidFill>
              <a:srgbClr val="35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2200320" y="3049560"/>
              <a:ext cx="295200" cy="11160"/>
            </a:xfrm>
            <a:prstGeom prst="rect">
              <a:avLst/>
            </a:prstGeom>
            <a:solidFill>
              <a:srgbClr val="35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2200320" y="3060720"/>
              <a:ext cx="295200" cy="22320"/>
            </a:xfrm>
            <a:prstGeom prst="rect">
              <a:avLst/>
            </a:prstGeom>
            <a:solidFill>
              <a:srgbClr val="36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2200320" y="3083040"/>
              <a:ext cx="295200" cy="11160"/>
            </a:xfrm>
            <a:prstGeom prst="rect">
              <a:avLst/>
            </a:prstGeom>
            <a:solidFill>
              <a:srgbClr val="376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00320" y="3094200"/>
              <a:ext cx="295200" cy="23760"/>
            </a:xfrm>
            <a:prstGeom prst="rect">
              <a:avLst/>
            </a:prstGeom>
            <a:solidFill>
              <a:srgbClr val="376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200320" y="3117960"/>
              <a:ext cx="295200" cy="11160"/>
            </a:xfrm>
            <a:prstGeom prst="rect">
              <a:avLst/>
            </a:prstGeom>
            <a:solidFill>
              <a:srgbClr val="386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2200320" y="3129120"/>
              <a:ext cx="295200" cy="21960"/>
            </a:xfrm>
            <a:prstGeom prst="rect">
              <a:avLst/>
            </a:prstGeom>
            <a:solidFill>
              <a:srgbClr val="396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2200320" y="3151080"/>
              <a:ext cx="295200" cy="11160"/>
            </a:xfrm>
            <a:prstGeom prst="rect">
              <a:avLst/>
            </a:prstGeom>
            <a:solidFill>
              <a:srgbClr val="3a6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200320" y="3162240"/>
              <a:ext cx="295200" cy="23760"/>
            </a:xfrm>
            <a:prstGeom prst="rect">
              <a:avLst/>
            </a:prstGeom>
            <a:solidFill>
              <a:srgbClr val="3b6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200320" y="3186000"/>
              <a:ext cx="295200" cy="11160"/>
            </a:xfrm>
            <a:prstGeom prst="rect">
              <a:avLst/>
            </a:prstGeom>
            <a:solidFill>
              <a:srgbClr val="3b6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200320" y="3197160"/>
              <a:ext cx="295200" cy="22320"/>
            </a:xfrm>
            <a:prstGeom prst="rect">
              <a:avLst/>
            </a:prstGeom>
            <a:solidFill>
              <a:srgbClr val="3d6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200320" y="3219480"/>
              <a:ext cx="295200" cy="11160"/>
            </a:xfrm>
            <a:prstGeom prst="rect">
              <a:avLst/>
            </a:prstGeom>
            <a:solidFill>
              <a:srgbClr val="3e6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2200320" y="3230640"/>
              <a:ext cx="295200" cy="23760"/>
            </a:xfrm>
            <a:prstGeom prst="rect">
              <a:avLst/>
            </a:prstGeom>
            <a:solidFill>
              <a:srgbClr val="3f6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200320" y="3254400"/>
              <a:ext cx="295200" cy="11160"/>
            </a:xfrm>
            <a:prstGeom prst="rect">
              <a:avLst/>
            </a:prstGeom>
            <a:solidFill>
              <a:srgbClr val="406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2200320" y="3265560"/>
              <a:ext cx="295200" cy="22320"/>
            </a:xfrm>
            <a:prstGeom prst="rect">
              <a:avLst/>
            </a:prstGeom>
            <a:solidFill>
              <a:srgbClr val="416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2200320" y="3287880"/>
              <a:ext cx="295200" cy="10800"/>
            </a:xfrm>
            <a:prstGeom prst="rect">
              <a:avLst/>
            </a:prstGeom>
            <a:solidFill>
              <a:srgbClr val="426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2200320" y="3298680"/>
              <a:ext cx="295200" cy="24120"/>
            </a:xfrm>
            <a:prstGeom prst="rect">
              <a:avLst/>
            </a:prstGeom>
            <a:solidFill>
              <a:srgbClr val="436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2200320" y="3322800"/>
              <a:ext cx="295200" cy="10800"/>
            </a:xfrm>
            <a:prstGeom prst="rect">
              <a:avLst/>
            </a:prstGeom>
            <a:solidFill>
              <a:srgbClr val="447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200320" y="3333600"/>
              <a:ext cx="295200" cy="22320"/>
            </a:xfrm>
            <a:prstGeom prst="rect">
              <a:avLst/>
            </a:prstGeom>
            <a:solidFill>
              <a:srgbClr val="467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200320" y="3355920"/>
              <a:ext cx="295200" cy="11160"/>
            </a:xfrm>
            <a:prstGeom prst="rect">
              <a:avLst/>
            </a:prstGeom>
            <a:solidFill>
              <a:srgbClr val="477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200320" y="3367080"/>
              <a:ext cx="295200" cy="23760"/>
            </a:xfrm>
            <a:prstGeom prst="rect">
              <a:avLst/>
            </a:prstGeom>
            <a:solidFill>
              <a:srgbClr val="497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200320" y="3390840"/>
              <a:ext cx="295200" cy="11160"/>
            </a:xfrm>
            <a:prstGeom prst="rect">
              <a:avLst/>
            </a:prstGeom>
            <a:solidFill>
              <a:srgbClr val="4a7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200320" y="3402000"/>
              <a:ext cx="295200" cy="22320"/>
            </a:xfrm>
            <a:prstGeom prst="rect">
              <a:avLst/>
            </a:prstGeom>
            <a:solidFill>
              <a:srgbClr val="4b7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200320" y="3424320"/>
              <a:ext cx="295200" cy="11160"/>
            </a:xfrm>
            <a:prstGeom prst="rect">
              <a:avLst/>
            </a:prstGeom>
            <a:solidFill>
              <a:srgbClr val="4d7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200320" y="3435480"/>
              <a:ext cx="295200" cy="23760"/>
            </a:xfrm>
            <a:prstGeom prst="rect">
              <a:avLst/>
            </a:prstGeom>
            <a:solidFill>
              <a:srgbClr val="4e7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200320" y="3459240"/>
              <a:ext cx="295200" cy="11160"/>
            </a:xfrm>
            <a:prstGeom prst="rect">
              <a:avLst/>
            </a:prstGeom>
            <a:solidFill>
              <a:srgbClr val="507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200320" y="3470400"/>
              <a:ext cx="295200" cy="21960"/>
            </a:xfrm>
            <a:prstGeom prst="rect">
              <a:avLst/>
            </a:prstGeom>
            <a:solidFill>
              <a:srgbClr val="517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200320" y="3492360"/>
              <a:ext cx="295200" cy="11160"/>
            </a:xfrm>
            <a:prstGeom prst="rect">
              <a:avLst/>
            </a:prstGeom>
            <a:solidFill>
              <a:srgbClr val="537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2200320" y="3503520"/>
              <a:ext cx="295200" cy="23760"/>
            </a:xfrm>
            <a:prstGeom prst="rect">
              <a:avLst/>
            </a:prstGeom>
            <a:solidFill>
              <a:srgbClr val="54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2200320" y="3527280"/>
              <a:ext cx="295200" cy="22320"/>
            </a:xfrm>
            <a:prstGeom prst="rect">
              <a:avLst/>
            </a:prstGeom>
            <a:solidFill>
              <a:srgbClr val="567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2200320" y="3549600"/>
              <a:ext cx="295200" cy="11160"/>
            </a:xfrm>
            <a:prstGeom prst="rect">
              <a:avLst/>
            </a:prstGeom>
            <a:solidFill>
              <a:srgbClr val="577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00320" y="3560760"/>
              <a:ext cx="295200" cy="22320"/>
            </a:xfrm>
            <a:prstGeom prst="rect">
              <a:avLst/>
            </a:prstGeom>
            <a:solidFill>
              <a:srgbClr val="597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2200320" y="3583080"/>
              <a:ext cx="295200" cy="12600"/>
            </a:xfrm>
            <a:prstGeom prst="rect">
              <a:avLst/>
            </a:prstGeom>
            <a:solidFill>
              <a:srgbClr val="5b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2200320" y="3595680"/>
              <a:ext cx="295200" cy="22320"/>
            </a:xfrm>
            <a:prstGeom prst="rect">
              <a:avLst/>
            </a:prstGeom>
            <a:solidFill>
              <a:srgbClr val="5c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2200320" y="3618000"/>
              <a:ext cx="295200" cy="11160"/>
            </a:xfrm>
            <a:prstGeom prst="rect">
              <a:avLst/>
            </a:prstGeom>
            <a:solidFill>
              <a:srgbClr val="5e8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200320" y="3629160"/>
              <a:ext cx="295200" cy="21960"/>
            </a:xfrm>
            <a:prstGeom prst="rect">
              <a:avLst/>
            </a:prstGeom>
            <a:solidFill>
              <a:srgbClr val="5f8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200320" y="3651120"/>
              <a:ext cx="295200" cy="11160"/>
            </a:xfrm>
            <a:prstGeom prst="rect">
              <a:avLst/>
            </a:prstGeom>
            <a:solidFill>
              <a:srgbClr val="61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200320" y="3662280"/>
              <a:ext cx="295200" cy="23760"/>
            </a:xfrm>
            <a:prstGeom prst="rect">
              <a:avLst/>
            </a:prstGeom>
            <a:solidFill>
              <a:srgbClr val="638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200320" y="3686040"/>
              <a:ext cx="295200" cy="11160"/>
            </a:xfrm>
            <a:prstGeom prst="rect">
              <a:avLst/>
            </a:prstGeom>
            <a:solidFill>
              <a:srgbClr val="648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200320" y="3697200"/>
              <a:ext cx="295200" cy="22320"/>
            </a:xfrm>
            <a:prstGeom prst="rect">
              <a:avLst/>
            </a:prstGeom>
            <a:solidFill>
              <a:srgbClr val="66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200320" y="3719520"/>
              <a:ext cx="295200" cy="11160"/>
            </a:xfrm>
            <a:prstGeom prst="rect">
              <a:avLst/>
            </a:prstGeom>
            <a:solidFill>
              <a:srgbClr val="678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200320" y="3730680"/>
              <a:ext cx="295200" cy="23760"/>
            </a:xfrm>
            <a:prstGeom prst="rect">
              <a:avLst/>
            </a:prstGeom>
            <a:solidFill>
              <a:srgbClr val="698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200320" y="3754440"/>
              <a:ext cx="295200" cy="11160"/>
            </a:xfrm>
            <a:prstGeom prst="rect">
              <a:avLst/>
            </a:prstGeom>
            <a:solidFill>
              <a:srgbClr val="6a8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200320" y="3765600"/>
              <a:ext cx="295200" cy="22320"/>
            </a:xfrm>
            <a:prstGeom prst="rect">
              <a:avLst/>
            </a:prstGeom>
            <a:solidFill>
              <a:srgbClr val="6c8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200320" y="3787920"/>
              <a:ext cx="295200" cy="10800"/>
            </a:xfrm>
            <a:prstGeom prst="rect">
              <a:avLst/>
            </a:prstGeom>
            <a:solidFill>
              <a:srgbClr val="6d8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200320" y="3798720"/>
              <a:ext cx="295200" cy="24120"/>
            </a:xfrm>
            <a:prstGeom prst="rect">
              <a:avLst/>
            </a:prstGeom>
            <a:solidFill>
              <a:srgbClr val="6f8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2200320" y="3822840"/>
              <a:ext cx="295200" cy="10800"/>
            </a:xfrm>
            <a:prstGeom prst="rect">
              <a:avLst/>
            </a:prstGeom>
            <a:solidFill>
              <a:srgbClr val="709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200320" y="3833640"/>
              <a:ext cx="295200" cy="22320"/>
            </a:xfrm>
            <a:prstGeom prst="rect">
              <a:avLst/>
            </a:prstGeom>
            <a:solidFill>
              <a:srgbClr val="729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2200320" y="3855960"/>
              <a:ext cx="295200" cy="11160"/>
            </a:xfrm>
            <a:prstGeom prst="rect">
              <a:avLst/>
            </a:prstGeom>
            <a:solidFill>
              <a:srgbClr val="739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2200320" y="3867120"/>
              <a:ext cx="295200" cy="23760"/>
            </a:xfrm>
            <a:prstGeom prst="rect">
              <a:avLst/>
            </a:prstGeom>
            <a:solidFill>
              <a:srgbClr val="759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200320" y="3890880"/>
              <a:ext cx="295200" cy="11160"/>
            </a:xfrm>
            <a:prstGeom prst="rect">
              <a:avLst/>
            </a:prstGeom>
            <a:solidFill>
              <a:srgbClr val="769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2200320" y="3902040"/>
              <a:ext cx="295200" cy="22320"/>
            </a:xfrm>
            <a:prstGeom prst="rect">
              <a:avLst/>
            </a:prstGeom>
            <a:solidFill>
              <a:srgbClr val="779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200320" y="3924360"/>
              <a:ext cx="295200" cy="11160"/>
            </a:xfrm>
            <a:prstGeom prst="rect">
              <a:avLst/>
            </a:prstGeom>
            <a:solidFill>
              <a:srgbClr val="799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200320" y="3935520"/>
              <a:ext cx="295200" cy="23760"/>
            </a:xfrm>
            <a:prstGeom prst="rect">
              <a:avLst/>
            </a:prstGeom>
            <a:solidFill>
              <a:srgbClr val="7a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200320" y="3959280"/>
              <a:ext cx="295200" cy="11160"/>
            </a:xfrm>
            <a:prstGeom prst="rect">
              <a:avLst/>
            </a:prstGeom>
            <a:solidFill>
              <a:srgbClr val="7b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2200320" y="3970440"/>
              <a:ext cx="295200" cy="21960"/>
            </a:xfrm>
            <a:prstGeom prst="rect">
              <a:avLst/>
            </a:prstGeom>
            <a:solidFill>
              <a:srgbClr val="7c9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2200320" y="3992400"/>
              <a:ext cx="295200" cy="11160"/>
            </a:xfrm>
            <a:prstGeom prst="rect">
              <a:avLst/>
            </a:prstGeom>
            <a:solidFill>
              <a:srgbClr val="7e9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2200320" y="4003560"/>
              <a:ext cx="295200" cy="23760"/>
            </a:xfrm>
            <a:prstGeom prst="rect">
              <a:avLst/>
            </a:prstGeom>
            <a:solidFill>
              <a:srgbClr val="7f9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2200320" y="4027320"/>
              <a:ext cx="295200" cy="11160"/>
            </a:xfrm>
            <a:prstGeom prst="rect">
              <a:avLst/>
            </a:prstGeom>
            <a:solidFill>
              <a:srgbClr val="809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2200320" y="4038480"/>
              <a:ext cx="295200" cy="22320"/>
            </a:xfrm>
            <a:prstGeom prst="rect">
              <a:avLst/>
            </a:prstGeom>
            <a:solidFill>
              <a:srgbClr val="81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2200320" y="4060800"/>
              <a:ext cx="295200" cy="11160"/>
            </a:xfrm>
            <a:prstGeom prst="rect">
              <a:avLst/>
            </a:prstGeom>
            <a:solidFill>
              <a:srgbClr val="82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2200320" y="4071960"/>
              <a:ext cx="295200" cy="23760"/>
            </a:xfrm>
            <a:prstGeom prst="rect">
              <a:avLst/>
            </a:prstGeom>
            <a:solidFill>
              <a:srgbClr val="83a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2200320" y="4095720"/>
              <a:ext cx="295200" cy="22320"/>
            </a:xfrm>
            <a:prstGeom prst="rect">
              <a:avLst/>
            </a:prstGeom>
            <a:solidFill>
              <a:srgbClr val="84a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2200320" y="4118040"/>
              <a:ext cx="295200" cy="11160"/>
            </a:xfrm>
            <a:prstGeom prst="rect">
              <a:avLst/>
            </a:prstGeom>
            <a:solidFill>
              <a:srgbClr val="85a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200320" y="4129200"/>
              <a:ext cx="295200" cy="21960"/>
            </a:xfrm>
            <a:prstGeom prst="rect">
              <a:avLst/>
            </a:prstGeom>
            <a:solidFill>
              <a:srgbClr val="86a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200320" y="4151160"/>
              <a:ext cx="295200" cy="12960"/>
            </a:xfrm>
            <a:prstGeom prst="rect">
              <a:avLst/>
            </a:prstGeom>
            <a:solidFill>
              <a:srgbClr val="87a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200320" y="4164120"/>
              <a:ext cx="295200" cy="21960"/>
            </a:xfrm>
            <a:prstGeom prst="rect">
              <a:avLst/>
            </a:prstGeom>
            <a:solidFill>
              <a:srgbClr val="88a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2200320" y="4186080"/>
              <a:ext cx="295200" cy="11160"/>
            </a:xfrm>
            <a:prstGeom prst="rect">
              <a:avLst/>
            </a:prstGeom>
            <a:solidFill>
              <a:srgbClr val="89a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2200320" y="4197240"/>
              <a:ext cx="295200" cy="22320"/>
            </a:xfrm>
            <a:prstGeom prst="rect">
              <a:avLst/>
            </a:prstGeom>
            <a:solidFill>
              <a:srgbClr val="8aa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2200320" y="4219560"/>
              <a:ext cx="295200" cy="12600"/>
            </a:xfrm>
            <a:prstGeom prst="rect">
              <a:avLst/>
            </a:prstGeom>
            <a:solidFill>
              <a:srgbClr val="8a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200320" y="4232160"/>
              <a:ext cx="295200" cy="22320"/>
            </a:xfrm>
            <a:prstGeom prst="rect">
              <a:avLst/>
            </a:prstGeom>
            <a:solidFill>
              <a:srgbClr val="8b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200320" y="4254480"/>
              <a:ext cx="295200" cy="11160"/>
            </a:xfrm>
            <a:prstGeom prst="rect">
              <a:avLst/>
            </a:prstGeom>
            <a:solidFill>
              <a:srgbClr val="8ca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2200320" y="4265640"/>
              <a:ext cx="295200" cy="22320"/>
            </a:xfrm>
            <a:prstGeom prst="rect">
              <a:avLst/>
            </a:prstGeom>
            <a:solidFill>
              <a:srgbClr val="8ca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2200320" y="4287960"/>
              <a:ext cx="295200" cy="12600"/>
            </a:xfrm>
            <a:prstGeom prst="rect">
              <a:avLst/>
            </a:prstGeom>
            <a:solidFill>
              <a:srgbClr val="8da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2200320" y="4300560"/>
              <a:ext cx="295200" cy="22320"/>
            </a:xfrm>
            <a:prstGeom prst="rect">
              <a:avLst/>
            </a:prstGeom>
            <a:solidFill>
              <a:srgbClr val="8ea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2200320" y="4322880"/>
              <a:ext cx="295200" cy="11160"/>
            </a:xfrm>
            <a:prstGeom prst="rect">
              <a:avLst/>
            </a:prstGeom>
            <a:solidFill>
              <a:srgbClr val="8e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2200320" y="4334040"/>
              <a:ext cx="295200" cy="21960"/>
            </a:xfrm>
            <a:prstGeom prst="rect">
              <a:avLst/>
            </a:prstGeom>
            <a:solidFill>
              <a:srgbClr val="8fa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2200320" y="4356000"/>
              <a:ext cx="295200" cy="12960"/>
            </a:xfrm>
            <a:prstGeom prst="rect">
              <a:avLst/>
            </a:prstGeom>
            <a:solidFill>
              <a:srgbClr val="8fa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2200320" y="4368960"/>
              <a:ext cx="295200" cy="21960"/>
            </a:xfrm>
            <a:prstGeom prst="rect">
              <a:avLst/>
            </a:prstGeom>
            <a:solidFill>
              <a:srgbClr val="90a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200320" y="4390920"/>
              <a:ext cx="295200" cy="11160"/>
            </a:xfrm>
            <a:prstGeom prst="rect">
              <a:avLst/>
            </a:prstGeom>
            <a:solidFill>
              <a:srgbClr val="90a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2200320" y="4402080"/>
              <a:ext cx="295200" cy="22320"/>
            </a:xfrm>
            <a:prstGeom prst="rect">
              <a:avLst/>
            </a:prstGeom>
            <a:solidFill>
              <a:srgbClr val="91a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2200320" y="4424400"/>
              <a:ext cx="295200" cy="12600"/>
            </a:xfrm>
            <a:prstGeom prst="rect">
              <a:avLst/>
            </a:prstGeom>
            <a:solidFill>
              <a:srgbClr val="91a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2200320" y="4437000"/>
              <a:ext cx="295200" cy="22320"/>
            </a:xfrm>
            <a:prstGeom prst="rect">
              <a:avLst/>
            </a:prstGeom>
            <a:solidFill>
              <a:srgbClr val="91a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200320" y="4459320"/>
              <a:ext cx="295200" cy="11160"/>
            </a:xfrm>
            <a:prstGeom prst="rect">
              <a:avLst/>
            </a:prstGeom>
            <a:solidFill>
              <a:srgbClr val="92a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200320" y="4470480"/>
              <a:ext cx="295200" cy="22320"/>
            </a:xfrm>
            <a:prstGeom prst="rect">
              <a:avLst/>
            </a:prstGeom>
            <a:solidFill>
              <a:srgbClr val="92a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200320" y="4492800"/>
              <a:ext cx="295200" cy="10800"/>
            </a:xfrm>
            <a:prstGeom prst="rect">
              <a:avLst/>
            </a:prstGeom>
            <a:solidFill>
              <a:srgbClr val="92a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2200320" y="4503600"/>
              <a:ext cx="295200" cy="24120"/>
            </a:xfrm>
            <a:prstGeom prst="rect">
              <a:avLst/>
            </a:prstGeom>
            <a:solidFill>
              <a:srgbClr val="93a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2200320" y="4527720"/>
              <a:ext cx="295200" cy="10800"/>
            </a:xfrm>
            <a:prstGeom prst="rect">
              <a:avLst/>
            </a:prstGeom>
            <a:solidFill>
              <a:srgbClr val="93a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2200320" y="4538520"/>
              <a:ext cx="295200" cy="22320"/>
            </a:xfrm>
            <a:prstGeom prst="rect">
              <a:avLst/>
            </a:prstGeom>
            <a:solidFill>
              <a:srgbClr val="93a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2200320" y="4560840"/>
              <a:ext cx="295200" cy="11160"/>
            </a:xfrm>
            <a:prstGeom prst="rect">
              <a:avLst/>
            </a:prstGeom>
            <a:solidFill>
              <a:srgbClr val="93a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2200320" y="4572000"/>
              <a:ext cx="295200" cy="23760"/>
            </a:xfrm>
            <a:prstGeom prst="rect">
              <a:avLst/>
            </a:prstGeom>
            <a:solidFill>
              <a:srgbClr val="94a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2200320" y="4595760"/>
              <a:ext cx="295200" cy="11160"/>
            </a:xfrm>
            <a:prstGeom prst="rect">
              <a:avLst/>
            </a:prstGeom>
            <a:solidFill>
              <a:srgbClr val="94a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2200320" y="4606920"/>
              <a:ext cx="295200" cy="22320"/>
            </a:xfrm>
            <a:prstGeom prst="rect">
              <a:avLst/>
            </a:prstGeom>
            <a:solidFill>
              <a:srgbClr val="94a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2200320" y="4629240"/>
              <a:ext cx="295200" cy="11160"/>
            </a:xfrm>
            <a:prstGeom prst="rect">
              <a:avLst/>
            </a:prstGeom>
            <a:solidFill>
              <a:srgbClr val="94a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2200320" y="4640400"/>
              <a:ext cx="295200" cy="23760"/>
            </a:xfrm>
            <a:prstGeom prst="rect">
              <a:avLst/>
            </a:prstGeom>
            <a:solidFill>
              <a:srgbClr val="95a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58" name=""/>
          <p:cNvSpPr/>
          <p:nvPr/>
        </p:nvSpPr>
        <p:spPr>
          <a:xfrm>
            <a:off x="2200320" y="2957400"/>
            <a:ext cx="295200" cy="17067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59" name=""/>
          <p:cNvGrpSpPr/>
          <p:nvPr/>
        </p:nvGrpSpPr>
        <p:grpSpPr>
          <a:xfrm>
            <a:off x="3235320" y="2309760"/>
            <a:ext cx="295200" cy="2354400"/>
            <a:chOff x="3235320" y="2309760"/>
            <a:chExt cx="295200" cy="2354400"/>
          </a:xfrm>
        </p:grpSpPr>
        <p:sp>
          <p:nvSpPr>
            <p:cNvPr id="860" name=""/>
            <p:cNvSpPr/>
            <p:nvPr/>
          </p:nvSpPr>
          <p:spPr>
            <a:xfrm>
              <a:off x="3235320" y="2309760"/>
              <a:ext cx="295200" cy="237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3235320" y="2333520"/>
              <a:ext cx="295200" cy="2232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3235320" y="2355840"/>
              <a:ext cx="295200" cy="22320"/>
            </a:xfrm>
            <a:prstGeom prst="rect">
              <a:avLst/>
            </a:prstGeom>
            <a:solidFill>
              <a:srgbClr val="34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235320" y="2378160"/>
              <a:ext cx="295200" cy="23760"/>
            </a:xfrm>
            <a:prstGeom prst="rect">
              <a:avLst/>
            </a:prstGeom>
            <a:solidFill>
              <a:srgbClr val="34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3235320" y="2401920"/>
              <a:ext cx="295200" cy="22320"/>
            </a:xfrm>
            <a:prstGeom prst="rect">
              <a:avLst/>
            </a:prstGeom>
            <a:solidFill>
              <a:srgbClr val="35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3235320" y="2424240"/>
              <a:ext cx="295200" cy="33120"/>
            </a:xfrm>
            <a:prstGeom prst="rect">
              <a:avLst/>
            </a:prstGeom>
            <a:solidFill>
              <a:srgbClr val="35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3235320" y="2457360"/>
              <a:ext cx="295200" cy="23760"/>
            </a:xfrm>
            <a:prstGeom prst="rect">
              <a:avLst/>
            </a:prstGeom>
            <a:solidFill>
              <a:srgbClr val="36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3235320" y="2481120"/>
              <a:ext cx="295200" cy="22320"/>
            </a:xfrm>
            <a:prstGeom prst="rect">
              <a:avLst/>
            </a:prstGeom>
            <a:solidFill>
              <a:srgbClr val="376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3235320" y="2503440"/>
              <a:ext cx="295200" cy="22320"/>
            </a:xfrm>
            <a:prstGeom prst="rect">
              <a:avLst/>
            </a:prstGeom>
            <a:solidFill>
              <a:srgbClr val="376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235320" y="2525760"/>
              <a:ext cx="295200" cy="23760"/>
            </a:xfrm>
            <a:prstGeom prst="rect">
              <a:avLst/>
            </a:prstGeom>
            <a:solidFill>
              <a:srgbClr val="386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3235320" y="2549520"/>
              <a:ext cx="295200" cy="22320"/>
            </a:xfrm>
            <a:prstGeom prst="rect">
              <a:avLst/>
            </a:prstGeom>
            <a:solidFill>
              <a:srgbClr val="396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3235320" y="2571840"/>
              <a:ext cx="295200" cy="21960"/>
            </a:xfrm>
            <a:prstGeom prst="rect">
              <a:avLst/>
            </a:prstGeom>
            <a:solidFill>
              <a:srgbClr val="3a6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235320" y="2593800"/>
              <a:ext cx="295200" cy="24120"/>
            </a:xfrm>
            <a:prstGeom prst="rect">
              <a:avLst/>
            </a:prstGeom>
            <a:solidFill>
              <a:srgbClr val="3b6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3235320" y="2617920"/>
              <a:ext cx="295200" cy="21960"/>
            </a:xfrm>
            <a:prstGeom prst="rect">
              <a:avLst/>
            </a:prstGeom>
            <a:solidFill>
              <a:srgbClr val="3b6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235320" y="2639880"/>
              <a:ext cx="295200" cy="22320"/>
            </a:xfrm>
            <a:prstGeom prst="rect">
              <a:avLst/>
            </a:prstGeom>
            <a:solidFill>
              <a:srgbClr val="3d6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3235320" y="2662200"/>
              <a:ext cx="295200" cy="23760"/>
            </a:xfrm>
            <a:prstGeom prst="rect">
              <a:avLst/>
            </a:prstGeom>
            <a:solidFill>
              <a:srgbClr val="3e6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3235320" y="2685960"/>
              <a:ext cx="295200" cy="33480"/>
            </a:xfrm>
            <a:prstGeom prst="rect">
              <a:avLst/>
            </a:prstGeom>
            <a:solidFill>
              <a:srgbClr val="3f6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3235320" y="2719440"/>
              <a:ext cx="295200" cy="22320"/>
            </a:xfrm>
            <a:prstGeom prst="rect">
              <a:avLst/>
            </a:prstGeom>
            <a:solidFill>
              <a:srgbClr val="406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3235320" y="2741760"/>
              <a:ext cx="295200" cy="23760"/>
            </a:xfrm>
            <a:prstGeom prst="rect">
              <a:avLst/>
            </a:prstGeom>
            <a:solidFill>
              <a:srgbClr val="416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3235320" y="2765520"/>
              <a:ext cx="295200" cy="21960"/>
            </a:xfrm>
            <a:prstGeom prst="rect">
              <a:avLst/>
            </a:prstGeom>
            <a:solidFill>
              <a:srgbClr val="426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3235320" y="2787480"/>
              <a:ext cx="295200" cy="22320"/>
            </a:xfrm>
            <a:prstGeom prst="rect">
              <a:avLst/>
            </a:prstGeom>
            <a:solidFill>
              <a:srgbClr val="436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3235320" y="2809800"/>
              <a:ext cx="295200" cy="23760"/>
            </a:xfrm>
            <a:prstGeom prst="rect">
              <a:avLst/>
            </a:prstGeom>
            <a:solidFill>
              <a:srgbClr val="447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3235320" y="2833560"/>
              <a:ext cx="295200" cy="22320"/>
            </a:xfrm>
            <a:prstGeom prst="rect">
              <a:avLst/>
            </a:prstGeom>
            <a:solidFill>
              <a:srgbClr val="467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3235320" y="2855880"/>
              <a:ext cx="295200" cy="22320"/>
            </a:xfrm>
            <a:prstGeom prst="rect">
              <a:avLst/>
            </a:prstGeom>
            <a:solidFill>
              <a:srgbClr val="477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3235320" y="2878200"/>
              <a:ext cx="295200" cy="23760"/>
            </a:xfrm>
            <a:prstGeom prst="rect">
              <a:avLst/>
            </a:prstGeom>
            <a:solidFill>
              <a:srgbClr val="497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235320" y="2901960"/>
              <a:ext cx="295200" cy="22320"/>
            </a:xfrm>
            <a:prstGeom prst="rect">
              <a:avLst/>
            </a:prstGeom>
            <a:solidFill>
              <a:srgbClr val="4a7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235320" y="2924280"/>
              <a:ext cx="295200" cy="21960"/>
            </a:xfrm>
            <a:prstGeom prst="rect">
              <a:avLst/>
            </a:prstGeom>
            <a:solidFill>
              <a:srgbClr val="4b7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235320" y="2946240"/>
              <a:ext cx="295200" cy="34920"/>
            </a:xfrm>
            <a:prstGeom prst="rect">
              <a:avLst/>
            </a:prstGeom>
            <a:solidFill>
              <a:srgbClr val="4d7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235320" y="2981160"/>
              <a:ext cx="295200" cy="22320"/>
            </a:xfrm>
            <a:prstGeom prst="rect">
              <a:avLst/>
            </a:prstGeom>
            <a:solidFill>
              <a:srgbClr val="4e7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235320" y="3003480"/>
              <a:ext cx="295200" cy="22320"/>
            </a:xfrm>
            <a:prstGeom prst="rect">
              <a:avLst/>
            </a:prstGeom>
            <a:solidFill>
              <a:srgbClr val="507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235320" y="3025800"/>
              <a:ext cx="295200" cy="23760"/>
            </a:xfrm>
            <a:prstGeom prst="rect">
              <a:avLst/>
            </a:prstGeom>
            <a:solidFill>
              <a:srgbClr val="517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235320" y="3049560"/>
              <a:ext cx="295200" cy="22320"/>
            </a:xfrm>
            <a:prstGeom prst="rect">
              <a:avLst/>
            </a:prstGeom>
            <a:solidFill>
              <a:srgbClr val="537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3235320" y="3071880"/>
              <a:ext cx="295200" cy="22320"/>
            </a:xfrm>
            <a:prstGeom prst="rect">
              <a:avLst/>
            </a:prstGeom>
            <a:solidFill>
              <a:srgbClr val="54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3235320" y="3094200"/>
              <a:ext cx="295200" cy="23760"/>
            </a:xfrm>
            <a:prstGeom prst="rect">
              <a:avLst/>
            </a:prstGeom>
            <a:solidFill>
              <a:srgbClr val="567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3235320" y="3117960"/>
              <a:ext cx="295200" cy="21960"/>
            </a:xfrm>
            <a:prstGeom prst="rect">
              <a:avLst/>
            </a:prstGeom>
            <a:solidFill>
              <a:srgbClr val="577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3235320" y="3139920"/>
              <a:ext cx="295200" cy="22320"/>
            </a:xfrm>
            <a:prstGeom prst="rect">
              <a:avLst/>
            </a:prstGeom>
            <a:solidFill>
              <a:srgbClr val="597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3235320" y="3162240"/>
              <a:ext cx="295200" cy="23760"/>
            </a:xfrm>
            <a:prstGeom prst="rect">
              <a:avLst/>
            </a:prstGeom>
            <a:solidFill>
              <a:srgbClr val="5b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3235320" y="3186000"/>
              <a:ext cx="295200" cy="22320"/>
            </a:xfrm>
            <a:prstGeom prst="rect">
              <a:avLst/>
            </a:prstGeom>
            <a:solidFill>
              <a:srgbClr val="5c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235320" y="3208320"/>
              <a:ext cx="295200" cy="33480"/>
            </a:xfrm>
            <a:prstGeom prst="rect">
              <a:avLst/>
            </a:prstGeom>
            <a:solidFill>
              <a:srgbClr val="5e8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235320" y="3241800"/>
              <a:ext cx="295200" cy="23760"/>
            </a:xfrm>
            <a:prstGeom prst="rect">
              <a:avLst/>
            </a:prstGeom>
            <a:solidFill>
              <a:srgbClr val="5f8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235320" y="3265560"/>
              <a:ext cx="295200" cy="22320"/>
            </a:xfrm>
            <a:prstGeom prst="rect">
              <a:avLst/>
            </a:prstGeom>
            <a:solidFill>
              <a:srgbClr val="61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235320" y="3287880"/>
              <a:ext cx="295200" cy="21960"/>
            </a:xfrm>
            <a:prstGeom prst="rect">
              <a:avLst/>
            </a:prstGeom>
            <a:solidFill>
              <a:srgbClr val="638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3235320" y="3309840"/>
              <a:ext cx="295200" cy="23760"/>
            </a:xfrm>
            <a:prstGeom prst="rect">
              <a:avLst/>
            </a:prstGeom>
            <a:solidFill>
              <a:srgbClr val="648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235320" y="3333600"/>
              <a:ext cx="295200" cy="22320"/>
            </a:xfrm>
            <a:prstGeom prst="rect">
              <a:avLst/>
            </a:prstGeom>
            <a:solidFill>
              <a:srgbClr val="66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3235320" y="3355920"/>
              <a:ext cx="295200" cy="22320"/>
            </a:xfrm>
            <a:prstGeom prst="rect">
              <a:avLst/>
            </a:prstGeom>
            <a:solidFill>
              <a:srgbClr val="678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3235320" y="3378240"/>
              <a:ext cx="295200" cy="23760"/>
            </a:xfrm>
            <a:prstGeom prst="rect">
              <a:avLst/>
            </a:prstGeom>
            <a:solidFill>
              <a:srgbClr val="698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3235320" y="3402000"/>
              <a:ext cx="295200" cy="22320"/>
            </a:xfrm>
            <a:prstGeom prst="rect">
              <a:avLst/>
            </a:prstGeom>
            <a:solidFill>
              <a:srgbClr val="6a8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3235320" y="3424320"/>
              <a:ext cx="295200" cy="22320"/>
            </a:xfrm>
            <a:prstGeom prst="rect">
              <a:avLst/>
            </a:prstGeom>
            <a:solidFill>
              <a:srgbClr val="6c8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3235320" y="3446640"/>
              <a:ext cx="295200" cy="23760"/>
            </a:xfrm>
            <a:prstGeom prst="rect">
              <a:avLst/>
            </a:prstGeom>
            <a:solidFill>
              <a:srgbClr val="6d8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235320" y="3470400"/>
              <a:ext cx="295200" cy="33120"/>
            </a:xfrm>
            <a:prstGeom prst="rect">
              <a:avLst/>
            </a:prstGeom>
            <a:solidFill>
              <a:srgbClr val="6f8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235320" y="3503520"/>
              <a:ext cx="295200" cy="23760"/>
            </a:xfrm>
            <a:prstGeom prst="rect">
              <a:avLst/>
            </a:prstGeom>
            <a:solidFill>
              <a:srgbClr val="709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3235320" y="3527280"/>
              <a:ext cx="295200" cy="22320"/>
            </a:xfrm>
            <a:prstGeom prst="rect">
              <a:avLst/>
            </a:prstGeom>
            <a:solidFill>
              <a:srgbClr val="729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3235320" y="3549600"/>
              <a:ext cx="295200" cy="22320"/>
            </a:xfrm>
            <a:prstGeom prst="rect">
              <a:avLst/>
            </a:prstGeom>
            <a:solidFill>
              <a:srgbClr val="739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3235320" y="3571920"/>
              <a:ext cx="295200" cy="23760"/>
            </a:xfrm>
            <a:prstGeom prst="rect">
              <a:avLst/>
            </a:prstGeom>
            <a:solidFill>
              <a:srgbClr val="759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235320" y="3595680"/>
              <a:ext cx="295200" cy="22320"/>
            </a:xfrm>
            <a:prstGeom prst="rect">
              <a:avLst/>
            </a:prstGeom>
            <a:solidFill>
              <a:srgbClr val="769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235320" y="3618000"/>
              <a:ext cx="295200" cy="21960"/>
            </a:xfrm>
            <a:prstGeom prst="rect">
              <a:avLst/>
            </a:prstGeom>
            <a:solidFill>
              <a:srgbClr val="779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3235320" y="3639960"/>
              <a:ext cx="295200" cy="22320"/>
            </a:xfrm>
            <a:prstGeom prst="rect">
              <a:avLst/>
            </a:prstGeom>
            <a:solidFill>
              <a:srgbClr val="799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235320" y="3662280"/>
              <a:ext cx="295200" cy="23760"/>
            </a:xfrm>
            <a:prstGeom prst="rect">
              <a:avLst/>
            </a:prstGeom>
            <a:solidFill>
              <a:srgbClr val="7a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235320" y="3686040"/>
              <a:ext cx="295200" cy="22320"/>
            </a:xfrm>
            <a:prstGeom prst="rect">
              <a:avLst/>
            </a:prstGeom>
            <a:solidFill>
              <a:srgbClr val="7b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235320" y="3708360"/>
              <a:ext cx="295200" cy="22320"/>
            </a:xfrm>
            <a:prstGeom prst="rect">
              <a:avLst/>
            </a:prstGeom>
            <a:solidFill>
              <a:srgbClr val="7c9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3235320" y="3730680"/>
              <a:ext cx="295200" cy="34920"/>
            </a:xfrm>
            <a:prstGeom prst="rect">
              <a:avLst/>
            </a:prstGeom>
            <a:solidFill>
              <a:srgbClr val="7e9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3235320" y="3765600"/>
              <a:ext cx="295200" cy="22320"/>
            </a:xfrm>
            <a:prstGeom prst="rect">
              <a:avLst/>
            </a:prstGeom>
            <a:solidFill>
              <a:srgbClr val="7f9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3235320" y="3787920"/>
              <a:ext cx="295200" cy="23760"/>
            </a:xfrm>
            <a:prstGeom prst="rect">
              <a:avLst/>
            </a:prstGeom>
            <a:solidFill>
              <a:srgbClr val="809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3235320" y="3811680"/>
              <a:ext cx="295200" cy="21960"/>
            </a:xfrm>
            <a:prstGeom prst="rect">
              <a:avLst/>
            </a:prstGeom>
            <a:solidFill>
              <a:srgbClr val="81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3235320" y="3833640"/>
              <a:ext cx="295200" cy="22320"/>
            </a:xfrm>
            <a:prstGeom prst="rect">
              <a:avLst/>
            </a:prstGeom>
            <a:solidFill>
              <a:srgbClr val="82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235320" y="3855960"/>
              <a:ext cx="295200" cy="23760"/>
            </a:xfrm>
            <a:prstGeom prst="rect">
              <a:avLst/>
            </a:prstGeom>
            <a:solidFill>
              <a:srgbClr val="83a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235320" y="3879720"/>
              <a:ext cx="295200" cy="22320"/>
            </a:xfrm>
            <a:prstGeom prst="rect">
              <a:avLst/>
            </a:prstGeom>
            <a:solidFill>
              <a:srgbClr val="84a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3235320" y="3902040"/>
              <a:ext cx="295200" cy="22320"/>
            </a:xfrm>
            <a:prstGeom prst="rect">
              <a:avLst/>
            </a:prstGeom>
            <a:solidFill>
              <a:srgbClr val="85a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3235320" y="3924360"/>
              <a:ext cx="295200" cy="23760"/>
            </a:xfrm>
            <a:prstGeom prst="rect">
              <a:avLst/>
            </a:prstGeom>
            <a:solidFill>
              <a:srgbClr val="86a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3235320" y="3948120"/>
              <a:ext cx="295200" cy="22320"/>
            </a:xfrm>
            <a:prstGeom prst="rect">
              <a:avLst/>
            </a:prstGeom>
            <a:solidFill>
              <a:srgbClr val="87a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3235320" y="3970440"/>
              <a:ext cx="295200" cy="21960"/>
            </a:xfrm>
            <a:prstGeom prst="rect">
              <a:avLst/>
            </a:prstGeom>
            <a:solidFill>
              <a:srgbClr val="88a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3235320" y="3992400"/>
              <a:ext cx="295200" cy="34920"/>
            </a:xfrm>
            <a:prstGeom prst="rect">
              <a:avLst/>
            </a:prstGeom>
            <a:solidFill>
              <a:srgbClr val="89a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3235320" y="4027320"/>
              <a:ext cx="295200" cy="22320"/>
            </a:xfrm>
            <a:prstGeom prst="rect">
              <a:avLst/>
            </a:prstGeom>
            <a:solidFill>
              <a:srgbClr val="8aa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3235320" y="4049640"/>
              <a:ext cx="295200" cy="22320"/>
            </a:xfrm>
            <a:prstGeom prst="rect">
              <a:avLst/>
            </a:prstGeom>
            <a:solidFill>
              <a:srgbClr val="8a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3235320" y="4071960"/>
              <a:ext cx="295200" cy="23760"/>
            </a:xfrm>
            <a:prstGeom prst="rect">
              <a:avLst/>
            </a:prstGeom>
            <a:solidFill>
              <a:srgbClr val="8b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3235320" y="4095720"/>
              <a:ext cx="295200" cy="22320"/>
            </a:xfrm>
            <a:prstGeom prst="rect">
              <a:avLst/>
            </a:prstGeom>
            <a:solidFill>
              <a:srgbClr val="8ca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3235320" y="4118040"/>
              <a:ext cx="295200" cy="22320"/>
            </a:xfrm>
            <a:prstGeom prst="rect">
              <a:avLst/>
            </a:prstGeom>
            <a:solidFill>
              <a:srgbClr val="8ca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3235320" y="4140360"/>
              <a:ext cx="295200" cy="23760"/>
            </a:xfrm>
            <a:prstGeom prst="rect">
              <a:avLst/>
            </a:prstGeom>
            <a:solidFill>
              <a:srgbClr val="8da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235320" y="4164120"/>
              <a:ext cx="295200" cy="21960"/>
            </a:xfrm>
            <a:prstGeom prst="rect">
              <a:avLst/>
            </a:prstGeom>
            <a:solidFill>
              <a:srgbClr val="8ea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235320" y="4186080"/>
              <a:ext cx="295200" cy="22320"/>
            </a:xfrm>
            <a:prstGeom prst="rect">
              <a:avLst/>
            </a:prstGeom>
            <a:solidFill>
              <a:srgbClr val="8e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3235320" y="4208400"/>
              <a:ext cx="295200" cy="23760"/>
            </a:xfrm>
            <a:prstGeom prst="rect">
              <a:avLst/>
            </a:prstGeom>
            <a:solidFill>
              <a:srgbClr val="8fa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3235320" y="4232160"/>
              <a:ext cx="295200" cy="22320"/>
            </a:xfrm>
            <a:prstGeom prst="rect">
              <a:avLst/>
            </a:prstGeom>
            <a:solidFill>
              <a:srgbClr val="8fa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3235320" y="4254480"/>
              <a:ext cx="295200" cy="33480"/>
            </a:xfrm>
            <a:prstGeom prst="rect">
              <a:avLst/>
            </a:prstGeom>
            <a:solidFill>
              <a:srgbClr val="90a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3235320" y="4287960"/>
              <a:ext cx="295200" cy="23760"/>
            </a:xfrm>
            <a:prstGeom prst="rect">
              <a:avLst/>
            </a:prstGeom>
            <a:solidFill>
              <a:srgbClr val="90a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3235320" y="4311720"/>
              <a:ext cx="295200" cy="22320"/>
            </a:xfrm>
            <a:prstGeom prst="rect">
              <a:avLst/>
            </a:prstGeom>
            <a:solidFill>
              <a:srgbClr val="91a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235320" y="4334040"/>
              <a:ext cx="295200" cy="21960"/>
            </a:xfrm>
            <a:prstGeom prst="rect">
              <a:avLst/>
            </a:prstGeom>
            <a:solidFill>
              <a:srgbClr val="91a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3235320" y="4356000"/>
              <a:ext cx="295200" cy="23760"/>
            </a:xfrm>
            <a:prstGeom prst="rect">
              <a:avLst/>
            </a:prstGeom>
            <a:solidFill>
              <a:srgbClr val="91a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3235320" y="4379760"/>
              <a:ext cx="295200" cy="22320"/>
            </a:xfrm>
            <a:prstGeom prst="rect">
              <a:avLst/>
            </a:prstGeom>
            <a:solidFill>
              <a:srgbClr val="92a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235320" y="4402080"/>
              <a:ext cx="295200" cy="22320"/>
            </a:xfrm>
            <a:prstGeom prst="rect">
              <a:avLst/>
            </a:prstGeom>
            <a:solidFill>
              <a:srgbClr val="92a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235320" y="4424400"/>
              <a:ext cx="295200" cy="23760"/>
            </a:xfrm>
            <a:prstGeom prst="rect">
              <a:avLst/>
            </a:prstGeom>
            <a:solidFill>
              <a:srgbClr val="92a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235320" y="4448160"/>
              <a:ext cx="295200" cy="22320"/>
            </a:xfrm>
            <a:prstGeom prst="rect">
              <a:avLst/>
            </a:prstGeom>
            <a:solidFill>
              <a:srgbClr val="93a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235320" y="4470480"/>
              <a:ext cx="295200" cy="22320"/>
            </a:xfrm>
            <a:prstGeom prst="rect">
              <a:avLst/>
            </a:prstGeom>
            <a:solidFill>
              <a:srgbClr val="93a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235320" y="4492800"/>
              <a:ext cx="295200" cy="23760"/>
            </a:xfrm>
            <a:prstGeom prst="rect">
              <a:avLst/>
            </a:prstGeom>
            <a:solidFill>
              <a:srgbClr val="93a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3235320" y="4516560"/>
              <a:ext cx="295200" cy="33120"/>
            </a:xfrm>
            <a:prstGeom prst="rect">
              <a:avLst/>
            </a:prstGeom>
            <a:solidFill>
              <a:srgbClr val="93a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235320" y="4549680"/>
              <a:ext cx="295200" cy="22320"/>
            </a:xfrm>
            <a:prstGeom prst="rect">
              <a:avLst/>
            </a:prstGeom>
            <a:solidFill>
              <a:srgbClr val="94a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235320" y="4572000"/>
              <a:ext cx="295200" cy="23760"/>
            </a:xfrm>
            <a:prstGeom prst="rect">
              <a:avLst/>
            </a:prstGeom>
            <a:solidFill>
              <a:srgbClr val="94a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235320" y="4595760"/>
              <a:ext cx="295200" cy="22320"/>
            </a:xfrm>
            <a:prstGeom prst="rect">
              <a:avLst/>
            </a:prstGeom>
            <a:solidFill>
              <a:srgbClr val="94a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3235320" y="4618080"/>
              <a:ext cx="295200" cy="22320"/>
            </a:xfrm>
            <a:prstGeom prst="rect">
              <a:avLst/>
            </a:prstGeom>
            <a:solidFill>
              <a:srgbClr val="94a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3235320" y="4640400"/>
              <a:ext cx="295200" cy="23760"/>
            </a:xfrm>
            <a:prstGeom prst="rect">
              <a:avLst/>
            </a:prstGeom>
            <a:solidFill>
              <a:srgbClr val="95a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3235320" y="2309760"/>
            <a:ext cx="295200" cy="23544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4270320" y="3970440"/>
            <a:ext cx="306360" cy="693720"/>
            <a:chOff x="4270320" y="3970440"/>
            <a:chExt cx="306360" cy="693720"/>
          </a:xfrm>
        </p:grpSpPr>
        <p:sp>
          <p:nvSpPr>
            <p:cNvPr id="961" name=""/>
            <p:cNvSpPr/>
            <p:nvPr/>
          </p:nvSpPr>
          <p:spPr>
            <a:xfrm>
              <a:off x="4270320" y="3970440"/>
              <a:ext cx="306360" cy="111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4270320" y="3981600"/>
              <a:ext cx="306360" cy="10800"/>
            </a:xfrm>
            <a:prstGeom prst="rect">
              <a:avLst/>
            </a:prstGeom>
            <a:solidFill>
              <a:srgbClr val="34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4270320" y="3992400"/>
              <a:ext cx="306360" cy="11160"/>
            </a:xfrm>
            <a:prstGeom prst="rect">
              <a:avLst/>
            </a:prstGeom>
            <a:solidFill>
              <a:srgbClr val="34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4270320" y="4003560"/>
              <a:ext cx="306360" cy="12960"/>
            </a:xfrm>
            <a:prstGeom prst="rect">
              <a:avLst/>
            </a:prstGeom>
            <a:solidFill>
              <a:srgbClr val="35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270320" y="4016520"/>
              <a:ext cx="306360" cy="10800"/>
            </a:xfrm>
            <a:prstGeom prst="rect">
              <a:avLst/>
            </a:prstGeom>
            <a:solidFill>
              <a:srgbClr val="366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4270320" y="4027320"/>
              <a:ext cx="306360" cy="11160"/>
            </a:xfrm>
            <a:prstGeom prst="rect">
              <a:avLst/>
            </a:prstGeom>
            <a:solidFill>
              <a:srgbClr val="386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4270320" y="4038480"/>
              <a:ext cx="306360" cy="11160"/>
            </a:xfrm>
            <a:prstGeom prst="rect">
              <a:avLst/>
            </a:prstGeom>
            <a:solidFill>
              <a:srgbClr val="396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4270320" y="4049640"/>
              <a:ext cx="306360" cy="11160"/>
            </a:xfrm>
            <a:prstGeom prst="rect">
              <a:avLst/>
            </a:prstGeom>
            <a:solidFill>
              <a:srgbClr val="3a6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4270320" y="4060800"/>
              <a:ext cx="306360" cy="11160"/>
            </a:xfrm>
            <a:prstGeom prst="rect">
              <a:avLst/>
            </a:prstGeom>
            <a:solidFill>
              <a:srgbClr val="3c6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4270320" y="4071960"/>
              <a:ext cx="306360" cy="11160"/>
            </a:xfrm>
            <a:prstGeom prst="rect">
              <a:avLst/>
            </a:prstGeom>
            <a:solidFill>
              <a:srgbClr val="3d6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4270320" y="4083120"/>
              <a:ext cx="306360" cy="12600"/>
            </a:xfrm>
            <a:prstGeom prst="rect">
              <a:avLst/>
            </a:prstGeom>
            <a:solidFill>
              <a:srgbClr val="3f6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270320" y="4095720"/>
              <a:ext cx="306360" cy="11160"/>
            </a:xfrm>
            <a:prstGeom prst="rect">
              <a:avLst/>
            </a:prstGeom>
            <a:solidFill>
              <a:srgbClr val="416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4270320" y="4106880"/>
              <a:ext cx="306360" cy="11160"/>
            </a:xfrm>
            <a:prstGeom prst="rect">
              <a:avLst/>
            </a:prstGeom>
            <a:solidFill>
              <a:srgbClr val="436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4270320" y="4118040"/>
              <a:ext cx="306360" cy="11160"/>
            </a:xfrm>
            <a:prstGeom prst="rect">
              <a:avLst/>
            </a:prstGeom>
            <a:solidFill>
              <a:srgbClr val="457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270320" y="4129200"/>
              <a:ext cx="306360" cy="11160"/>
            </a:xfrm>
            <a:prstGeom prst="rect">
              <a:avLst/>
            </a:prstGeom>
            <a:solidFill>
              <a:srgbClr val="477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4270320" y="4140360"/>
              <a:ext cx="306360" cy="10800"/>
            </a:xfrm>
            <a:prstGeom prst="rect">
              <a:avLst/>
            </a:prstGeom>
            <a:solidFill>
              <a:srgbClr val="4a7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4270320" y="4151160"/>
              <a:ext cx="306360" cy="12960"/>
            </a:xfrm>
            <a:prstGeom prst="rect">
              <a:avLst/>
            </a:prstGeom>
            <a:solidFill>
              <a:srgbClr val="4c7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4270320" y="4164120"/>
              <a:ext cx="306360" cy="11160"/>
            </a:xfrm>
            <a:prstGeom prst="rect">
              <a:avLst/>
            </a:prstGeom>
            <a:solidFill>
              <a:srgbClr val="4e7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4270320" y="4175280"/>
              <a:ext cx="306360" cy="10800"/>
            </a:xfrm>
            <a:prstGeom prst="rect">
              <a:avLst/>
            </a:prstGeom>
            <a:solidFill>
              <a:srgbClr val="507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4270320" y="4186080"/>
              <a:ext cx="306360" cy="11160"/>
            </a:xfrm>
            <a:prstGeom prst="rect">
              <a:avLst/>
            </a:prstGeom>
            <a:solidFill>
              <a:srgbClr val="537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4270320" y="4197240"/>
              <a:ext cx="306360" cy="11160"/>
            </a:xfrm>
            <a:prstGeom prst="rect">
              <a:avLst/>
            </a:prstGeom>
            <a:solidFill>
              <a:srgbClr val="567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4270320" y="4208400"/>
              <a:ext cx="306360" cy="11160"/>
            </a:xfrm>
            <a:prstGeom prst="rect">
              <a:avLst/>
            </a:prstGeom>
            <a:solidFill>
              <a:srgbClr val="587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4270320" y="4219560"/>
              <a:ext cx="306360" cy="12600"/>
            </a:xfrm>
            <a:prstGeom prst="rect">
              <a:avLst/>
            </a:prstGeom>
            <a:solidFill>
              <a:srgbClr val="5b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4270320" y="4232160"/>
              <a:ext cx="306360" cy="11160"/>
            </a:xfrm>
            <a:prstGeom prst="rect">
              <a:avLst/>
            </a:prstGeom>
            <a:solidFill>
              <a:srgbClr val="5d8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4270320" y="4243320"/>
              <a:ext cx="306360" cy="11160"/>
            </a:xfrm>
            <a:prstGeom prst="rect">
              <a:avLst/>
            </a:prstGeom>
            <a:solidFill>
              <a:srgbClr val="5f8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4270320" y="4254480"/>
              <a:ext cx="306360" cy="11160"/>
            </a:xfrm>
            <a:prstGeom prst="rect">
              <a:avLst/>
            </a:prstGeom>
            <a:solidFill>
              <a:srgbClr val="638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4270320" y="4265640"/>
              <a:ext cx="306360" cy="11160"/>
            </a:xfrm>
            <a:prstGeom prst="rect">
              <a:avLst/>
            </a:prstGeom>
            <a:solidFill>
              <a:srgbClr val="65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4270320" y="4276800"/>
              <a:ext cx="306360" cy="11160"/>
            </a:xfrm>
            <a:prstGeom prst="rect">
              <a:avLst/>
            </a:prstGeom>
            <a:solidFill>
              <a:srgbClr val="678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4270320" y="4287960"/>
              <a:ext cx="306360" cy="12600"/>
            </a:xfrm>
            <a:prstGeom prst="rect">
              <a:avLst/>
            </a:prstGeom>
            <a:solidFill>
              <a:srgbClr val="6a8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4270320" y="4300560"/>
              <a:ext cx="306360" cy="11160"/>
            </a:xfrm>
            <a:prstGeom prst="rect">
              <a:avLst/>
            </a:prstGeom>
            <a:solidFill>
              <a:srgbClr val="6c8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4270320" y="4311720"/>
              <a:ext cx="306360" cy="11160"/>
            </a:xfrm>
            <a:prstGeom prst="rect">
              <a:avLst/>
            </a:prstGeom>
            <a:solidFill>
              <a:srgbClr val="6f8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4270320" y="4322880"/>
              <a:ext cx="306360" cy="11160"/>
            </a:xfrm>
            <a:prstGeom prst="rect">
              <a:avLst/>
            </a:prstGeom>
            <a:solidFill>
              <a:srgbClr val="719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4270320" y="4334040"/>
              <a:ext cx="306360" cy="10800"/>
            </a:xfrm>
            <a:prstGeom prst="rect">
              <a:avLst/>
            </a:prstGeom>
            <a:solidFill>
              <a:srgbClr val="749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4270320" y="4344840"/>
              <a:ext cx="306360" cy="11160"/>
            </a:xfrm>
            <a:prstGeom prst="rect">
              <a:avLst/>
            </a:prstGeom>
            <a:solidFill>
              <a:srgbClr val="769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4270320" y="4356000"/>
              <a:ext cx="306360" cy="12960"/>
            </a:xfrm>
            <a:prstGeom prst="rect">
              <a:avLst/>
            </a:prstGeom>
            <a:solidFill>
              <a:srgbClr val="789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4270320" y="4368960"/>
              <a:ext cx="306360" cy="10800"/>
            </a:xfrm>
            <a:prstGeom prst="rect">
              <a:avLst/>
            </a:prstGeom>
            <a:solidFill>
              <a:srgbClr val="7a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4270320" y="4379760"/>
              <a:ext cx="306360" cy="11160"/>
            </a:xfrm>
            <a:prstGeom prst="rect">
              <a:avLst/>
            </a:prstGeom>
            <a:solidFill>
              <a:srgbClr val="7c9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4270320" y="4390920"/>
              <a:ext cx="306360" cy="11160"/>
            </a:xfrm>
            <a:prstGeom prst="rect">
              <a:avLst/>
            </a:prstGeom>
            <a:solidFill>
              <a:srgbClr val="7e9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4270320" y="4402080"/>
              <a:ext cx="306360" cy="11160"/>
            </a:xfrm>
            <a:prstGeom prst="rect">
              <a:avLst/>
            </a:prstGeom>
            <a:solidFill>
              <a:srgbClr val="809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4270320" y="4413240"/>
              <a:ext cx="306360" cy="11160"/>
            </a:xfrm>
            <a:prstGeom prst="rect">
              <a:avLst/>
            </a:prstGeom>
            <a:solidFill>
              <a:srgbClr val="82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4270320" y="4424400"/>
              <a:ext cx="306360" cy="12600"/>
            </a:xfrm>
            <a:prstGeom prst="rect">
              <a:avLst/>
            </a:prstGeom>
            <a:solidFill>
              <a:srgbClr val="83a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4270320" y="4437000"/>
              <a:ext cx="306360" cy="11160"/>
            </a:xfrm>
            <a:prstGeom prst="rect">
              <a:avLst/>
            </a:prstGeom>
            <a:solidFill>
              <a:srgbClr val="85a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4270320" y="4448160"/>
              <a:ext cx="306360" cy="11160"/>
            </a:xfrm>
            <a:prstGeom prst="rect">
              <a:avLst/>
            </a:prstGeom>
            <a:solidFill>
              <a:srgbClr val="87a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4270320" y="4459320"/>
              <a:ext cx="306360" cy="11160"/>
            </a:xfrm>
            <a:prstGeom prst="rect">
              <a:avLst/>
            </a:prstGeom>
            <a:solidFill>
              <a:srgbClr val="88a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4270320" y="4470480"/>
              <a:ext cx="306360" cy="11160"/>
            </a:xfrm>
            <a:prstGeom prst="rect">
              <a:avLst/>
            </a:prstGeom>
            <a:solidFill>
              <a:srgbClr val="89a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4270320" y="4481640"/>
              <a:ext cx="306360" cy="11160"/>
            </a:xfrm>
            <a:prstGeom prst="rect">
              <a:avLst/>
            </a:prstGeom>
            <a:solidFill>
              <a:srgbClr val="8a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4270320" y="4492800"/>
              <a:ext cx="306360" cy="10800"/>
            </a:xfrm>
            <a:prstGeom prst="rect">
              <a:avLst/>
            </a:prstGeom>
            <a:solidFill>
              <a:srgbClr val="8ca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4270320" y="4503600"/>
              <a:ext cx="306360" cy="12960"/>
            </a:xfrm>
            <a:prstGeom prst="rect">
              <a:avLst/>
            </a:prstGeom>
            <a:solidFill>
              <a:srgbClr val="8da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4270320" y="4516560"/>
              <a:ext cx="306360" cy="11160"/>
            </a:xfrm>
            <a:prstGeom prst="rect">
              <a:avLst/>
            </a:prstGeom>
            <a:solidFill>
              <a:srgbClr val="8e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4270320" y="4527720"/>
              <a:ext cx="306360" cy="10800"/>
            </a:xfrm>
            <a:prstGeom prst="rect">
              <a:avLst/>
            </a:prstGeom>
            <a:solidFill>
              <a:srgbClr val="8f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4270320" y="4538520"/>
              <a:ext cx="306360" cy="11160"/>
            </a:xfrm>
            <a:prstGeom prst="rect">
              <a:avLst/>
            </a:prstGeom>
            <a:solidFill>
              <a:srgbClr val="8fa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270320" y="4549680"/>
              <a:ext cx="306360" cy="11160"/>
            </a:xfrm>
            <a:prstGeom prst="rect">
              <a:avLst/>
            </a:prstGeom>
            <a:solidFill>
              <a:srgbClr val="90a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270320" y="4560840"/>
              <a:ext cx="306360" cy="11160"/>
            </a:xfrm>
            <a:prstGeom prst="rect">
              <a:avLst/>
            </a:prstGeom>
            <a:solidFill>
              <a:srgbClr val="91a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270320" y="4572000"/>
              <a:ext cx="306360" cy="12600"/>
            </a:xfrm>
            <a:prstGeom prst="rect">
              <a:avLst/>
            </a:prstGeom>
            <a:solidFill>
              <a:srgbClr val="92a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270320" y="4584600"/>
              <a:ext cx="306360" cy="11160"/>
            </a:xfrm>
            <a:prstGeom prst="rect">
              <a:avLst/>
            </a:prstGeom>
            <a:solidFill>
              <a:srgbClr val="92a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4270320" y="4595760"/>
              <a:ext cx="306360" cy="11160"/>
            </a:xfrm>
            <a:prstGeom prst="rect">
              <a:avLst/>
            </a:prstGeom>
            <a:solidFill>
              <a:srgbClr val="93a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4270320" y="4606920"/>
              <a:ext cx="306360" cy="11160"/>
            </a:xfrm>
            <a:prstGeom prst="rect">
              <a:avLst/>
            </a:prstGeom>
            <a:solidFill>
              <a:srgbClr val="93a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4270320" y="4618080"/>
              <a:ext cx="306360" cy="11160"/>
            </a:xfrm>
            <a:prstGeom prst="rect">
              <a:avLst/>
            </a:prstGeom>
            <a:solidFill>
              <a:srgbClr val="93a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270320" y="4629240"/>
              <a:ext cx="306360" cy="11160"/>
            </a:xfrm>
            <a:prstGeom prst="rect">
              <a:avLst/>
            </a:prstGeom>
            <a:solidFill>
              <a:srgbClr val="94a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270320" y="4640400"/>
              <a:ext cx="306360" cy="12600"/>
            </a:xfrm>
            <a:prstGeom prst="rect">
              <a:avLst/>
            </a:prstGeom>
            <a:solidFill>
              <a:srgbClr val="94a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4270320" y="4653000"/>
              <a:ext cx="306360" cy="11160"/>
            </a:xfrm>
            <a:prstGeom prst="rect">
              <a:avLst/>
            </a:prstGeom>
            <a:solidFill>
              <a:srgbClr val="95a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22" name=""/>
          <p:cNvSpPr/>
          <p:nvPr/>
        </p:nvSpPr>
        <p:spPr>
          <a:xfrm>
            <a:off x="4270320" y="3970440"/>
            <a:ext cx="306360" cy="6937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23" name=""/>
          <p:cNvGrpSpPr/>
          <p:nvPr/>
        </p:nvGrpSpPr>
        <p:grpSpPr>
          <a:xfrm>
            <a:off x="5316480" y="3822840"/>
            <a:ext cx="295200" cy="841320"/>
            <a:chOff x="5316480" y="3822840"/>
            <a:chExt cx="295200" cy="841320"/>
          </a:xfrm>
        </p:grpSpPr>
        <p:sp>
          <p:nvSpPr>
            <p:cNvPr id="1024" name=""/>
            <p:cNvSpPr/>
            <p:nvPr/>
          </p:nvSpPr>
          <p:spPr>
            <a:xfrm>
              <a:off x="5316480" y="3822840"/>
              <a:ext cx="295200" cy="108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5316480" y="3833640"/>
              <a:ext cx="295200" cy="111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5316480" y="3844800"/>
              <a:ext cx="295200" cy="11160"/>
            </a:xfrm>
            <a:prstGeom prst="rect">
              <a:avLst/>
            </a:prstGeom>
            <a:solidFill>
              <a:srgbClr val="34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5316480" y="3855960"/>
              <a:ext cx="295200" cy="11160"/>
            </a:xfrm>
            <a:prstGeom prst="rect">
              <a:avLst/>
            </a:prstGeom>
            <a:solidFill>
              <a:srgbClr val="35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5316480" y="3867120"/>
              <a:ext cx="295200" cy="12600"/>
            </a:xfrm>
            <a:prstGeom prst="rect">
              <a:avLst/>
            </a:prstGeom>
            <a:solidFill>
              <a:srgbClr val="36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5316480" y="3879720"/>
              <a:ext cx="295200" cy="11160"/>
            </a:xfrm>
            <a:prstGeom prst="rect">
              <a:avLst/>
            </a:prstGeom>
            <a:solidFill>
              <a:srgbClr val="376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5316480" y="3890880"/>
              <a:ext cx="295200" cy="11160"/>
            </a:xfrm>
            <a:prstGeom prst="rect">
              <a:avLst/>
            </a:prstGeom>
            <a:solidFill>
              <a:srgbClr val="386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5316480" y="3902040"/>
              <a:ext cx="295200" cy="11160"/>
            </a:xfrm>
            <a:prstGeom prst="rect">
              <a:avLst/>
            </a:prstGeom>
            <a:solidFill>
              <a:srgbClr val="386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316480" y="3913200"/>
              <a:ext cx="295200" cy="11160"/>
            </a:xfrm>
            <a:prstGeom prst="rect">
              <a:avLst/>
            </a:prstGeom>
            <a:solidFill>
              <a:srgbClr val="3a6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5316480" y="3924360"/>
              <a:ext cx="295200" cy="11160"/>
            </a:xfrm>
            <a:prstGeom prst="rect">
              <a:avLst/>
            </a:prstGeom>
            <a:solidFill>
              <a:srgbClr val="3b6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316480" y="3935520"/>
              <a:ext cx="295200" cy="12600"/>
            </a:xfrm>
            <a:prstGeom prst="rect">
              <a:avLst/>
            </a:prstGeom>
            <a:solidFill>
              <a:srgbClr val="3c6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316480" y="3948120"/>
              <a:ext cx="295200" cy="11160"/>
            </a:xfrm>
            <a:prstGeom prst="rect">
              <a:avLst/>
            </a:prstGeom>
            <a:solidFill>
              <a:srgbClr val="3d6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316480" y="3959280"/>
              <a:ext cx="295200" cy="11160"/>
            </a:xfrm>
            <a:prstGeom prst="rect">
              <a:avLst/>
            </a:prstGeom>
            <a:solidFill>
              <a:srgbClr val="3f6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316480" y="3970440"/>
              <a:ext cx="295200" cy="11160"/>
            </a:xfrm>
            <a:prstGeom prst="rect">
              <a:avLst/>
            </a:prstGeom>
            <a:solidFill>
              <a:srgbClr val="406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5316480" y="3981600"/>
              <a:ext cx="295200" cy="10800"/>
            </a:xfrm>
            <a:prstGeom prst="rect">
              <a:avLst/>
            </a:prstGeom>
            <a:solidFill>
              <a:srgbClr val="426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5316480" y="3992400"/>
              <a:ext cx="295200" cy="11160"/>
            </a:xfrm>
            <a:prstGeom prst="rect">
              <a:avLst/>
            </a:prstGeom>
            <a:solidFill>
              <a:srgbClr val="436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5316480" y="4003560"/>
              <a:ext cx="295200" cy="12960"/>
            </a:xfrm>
            <a:prstGeom prst="rect">
              <a:avLst/>
            </a:prstGeom>
            <a:solidFill>
              <a:srgbClr val="457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5316480" y="4016520"/>
              <a:ext cx="295200" cy="10800"/>
            </a:xfrm>
            <a:prstGeom prst="rect">
              <a:avLst/>
            </a:prstGeom>
            <a:solidFill>
              <a:srgbClr val="477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5316480" y="4027320"/>
              <a:ext cx="295200" cy="11160"/>
            </a:xfrm>
            <a:prstGeom prst="rect">
              <a:avLst/>
            </a:prstGeom>
            <a:solidFill>
              <a:srgbClr val="497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316480" y="4038480"/>
              <a:ext cx="295200" cy="11160"/>
            </a:xfrm>
            <a:prstGeom prst="rect">
              <a:avLst/>
            </a:prstGeom>
            <a:solidFill>
              <a:srgbClr val="4b7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316480" y="4049640"/>
              <a:ext cx="295200" cy="11160"/>
            </a:xfrm>
            <a:prstGeom prst="rect">
              <a:avLst/>
            </a:prstGeom>
            <a:solidFill>
              <a:srgbClr val="4c7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5316480" y="4060800"/>
              <a:ext cx="295200" cy="11160"/>
            </a:xfrm>
            <a:prstGeom prst="rect">
              <a:avLst/>
            </a:prstGeom>
            <a:solidFill>
              <a:srgbClr val="4f7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5316480" y="4071960"/>
              <a:ext cx="295200" cy="11160"/>
            </a:xfrm>
            <a:prstGeom prst="rect">
              <a:avLst/>
            </a:prstGeom>
            <a:solidFill>
              <a:srgbClr val="507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316480" y="4083120"/>
              <a:ext cx="295200" cy="12600"/>
            </a:xfrm>
            <a:prstGeom prst="rect">
              <a:avLst/>
            </a:prstGeom>
            <a:solidFill>
              <a:srgbClr val="537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5316480" y="4095720"/>
              <a:ext cx="295200" cy="11160"/>
            </a:xfrm>
            <a:prstGeom prst="rect">
              <a:avLst/>
            </a:prstGeom>
            <a:solidFill>
              <a:srgbClr val="54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5316480" y="4106880"/>
              <a:ext cx="295200" cy="11160"/>
            </a:xfrm>
            <a:prstGeom prst="rect">
              <a:avLst/>
            </a:prstGeom>
            <a:solidFill>
              <a:srgbClr val="577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5316480" y="4118040"/>
              <a:ext cx="295200" cy="11160"/>
            </a:xfrm>
            <a:prstGeom prst="rect">
              <a:avLst/>
            </a:prstGeom>
            <a:solidFill>
              <a:srgbClr val="597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5316480" y="4129200"/>
              <a:ext cx="295200" cy="11160"/>
            </a:xfrm>
            <a:prstGeom prst="rect">
              <a:avLst/>
            </a:prstGeom>
            <a:solidFill>
              <a:srgbClr val="5b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5316480" y="4140360"/>
              <a:ext cx="295200" cy="10800"/>
            </a:xfrm>
            <a:prstGeom prst="rect">
              <a:avLst/>
            </a:prstGeom>
            <a:solidFill>
              <a:srgbClr val="5d8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5316480" y="4151160"/>
              <a:ext cx="295200" cy="12960"/>
            </a:xfrm>
            <a:prstGeom prst="rect">
              <a:avLst/>
            </a:prstGeom>
            <a:solidFill>
              <a:srgbClr val="5f8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5316480" y="4164120"/>
              <a:ext cx="295200" cy="11160"/>
            </a:xfrm>
            <a:prstGeom prst="rect">
              <a:avLst/>
            </a:prstGeom>
            <a:solidFill>
              <a:srgbClr val="61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5316480" y="4175280"/>
              <a:ext cx="295200" cy="10800"/>
            </a:xfrm>
            <a:prstGeom prst="rect">
              <a:avLst/>
            </a:prstGeom>
            <a:solidFill>
              <a:srgbClr val="638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5316480" y="4186080"/>
              <a:ext cx="295200" cy="11160"/>
            </a:xfrm>
            <a:prstGeom prst="rect">
              <a:avLst/>
            </a:prstGeom>
            <a:solidFill>
              <a:srgbClr val="66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316480" y="4197240"/>
              <a:ext cx="295200" cy="11160"/>
            </a:xfrm>
            <a:prstGeom prst="rect">
              <a:avLst/>
            </a:prstGeom>
            <a:solidFill>
              <a:srgbClr val="678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5316480" y="4208400"/>
              <a:ext cx="295200" cy="11160"/>
            </a:xfrm>
            <a:prstGeom prst="rect">
              <a:avLst/>
            </a:prstGeom>
            <a:solidFill>
              <a:srgbClr val="6a8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5316480" y="4219560"/>
              <a:ext cx="295200" cy="12600"/>
            </a:xfrm>
            <a:prstGeom prst="rect">
              <a:avLst/>
            </a:prstGeom>
            <a:solidFill>
              <a:srgbClr val="6c8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5316480" y="4232160"/>
              <a:ext cx="295200" cy="11160"/>
            </a:xfrm>
            <a:prstGeom prst="rect">
              <a:avLst/>
            </a:prstGeom>
            <a:solidFill>
              <a:srgbClr val="6e8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5316480" y="4243320"/>
              <a:ext cx="295200" cy="11160"/>
            </a:xfrm>
            <a:prstGeom prst="rect">
              <a:avLst/>
            </a:prstGeom>
            <a:solidFill>
              <a:srgbClr val="708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5316480" y="4254480"/>
              <a:ext cx="295200" cy="11160"/>
            </a:xfrm>
            <a:prstGeom prst="rect">
              <a:avLst/>
            </a:prstGeom>
            <a:solidFill>
              <a:srgbClr val="729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5316480" y="4265640"/>
              <a:ext cx="295200" cy="11160"/>
            </a:xfrm>
            <a:prstGeom prst="rect">
              <a:avLst/>
            </a:prstGeom>
            <a:solidFill>
              <a:srgbClr val="749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5316480" y="4276800"/>
              <a:ext cx="295200" cy="11160"/>
            </a:xfrm>
            <a:prstGeom prst="rect">
              <a:avLst/>
            </a:prstGeom>
            <a:solidFill>
              <a:srgbClr val="769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5316480" y="4287960"/>
              <a:ext cx="295200" cy="12600"/>
            </a:xfrm>
            <a:prstGeom prst="rect">
              <a:avLst/>
            </a:prstGeom>
            <a:solidFill>
              <a:srgbClr val="779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5316480" y="4300560"/>
              <a:ext cx="295200" cy="11160"/>
            </a:xfrm>
            <a:prstGeom prst="rect">
              <a:avLst/>
            </a:prstGeom>
            <a:solidFill>
              <a:srgbClr val="799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5316480" y="4311720"/>
              <a:ext cx="295200" cy="11160"/>
            </a:xfrm>
            <a:prstGeom prst="rect">
              <a:avLst/>
            </a:prstGeom>
            <a:solidFill>
              <a:srgbClr val="7b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316480" y="4322880"/>
              <a:ext cx="295200" cy="11160"/>
            </a:xfrm>
            <a:prstGeom prst="rect">
              <a:avLst/>
            </a:prstGeom>
            <a:solidFill>
              <a:srgbClr val="7c9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5316480" y="4334040"/>
              <a:ext cx="295200" cy="10800"/>
            </a:xfrm>
            <a:prstGeom prst="rect">
              <a:avLst/>
            </a:prstGeom>
            <a:solidFill>
              <a:srgbClr val="7e9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5316480" y="4344840"/>
              <a:ext cx="295200" cy="11160"/>
            </a:xfrm>
            <a:prstGeom prst="rect">
              <a:avLst/>
            </a:prstGeom>
            <a:solidFill>
              <a:srgbClr val="809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5316480" y="4356000"/>
              <a:ext cx="295200" cy="12960"/>
            </a:xfrm>
            <a:prstGeom prst="rect">
              <a:avLst/>
            </a:prstGeom>
            <a:solidFill>
              <a:srgbClr val="81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5316480" y="4368960"/>
              <a:ext cx="295200" cy="10800"/>
            </a:xfrm>
            <a:prstGeom prst="rect">
              <a:avLst/>
            </a:prstGeom>
            <a:solidFill>
              <a:srgbClr val="83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5316480" y="4379760"/>
              <a:ext cx="295200" cy="11160"/>
            </a:xfrm>
            <a:prstGeom prst="rect">
              <a:avLst/>
            </a:prstGeom>
            <a:solidFill>
              <a:srgbClr val="84a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5316480" y="4390920"/>
              <a:ext cx="295200" cy="11160"/>
            </a:xfrm>
            <a:prstGeom prst="rect">
              <a:avLst/>
            </a:prstGeom>
            <a:solidFill>
              <a:srgbClr val="85a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5316480" y="4402080"/>
              <a:ext cx="295200" cy="11160"/>
            </a:xfrm>
            <a:prstGeom prst="rect">
              <a:avLst/>
            </a:prstGeom>
            <a:solidFill>
              <a:srgbClr val="87a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5316480" y="4413240"/>
              <a:ext cx="295200" cy="11160"/>
            </a:xfrm>
            <a:prstGeom prst="rect">
              <a:avLst/>
            </a:prstGeom>
            <a:solidFill>
              <a:srgbClr val="88a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5316480" y="4424400"/>
              <a:ext cx="295200" cy="12600"/>
            </a:xfrm>
            <a:prstGeom prst="rect">
              <a:avLst/>
            </a:prstGeom>
            <a:solidFill>
              <a:srgbClr val="89a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5316480" y="4437000"/>
              <a:ext cx="295200" cy="11160"/>
            </a:xfrm>
            <a:prstGeom prst="rect">
              <a:avLst/>
            </a:prstGeom>
            <a:solidFill>
              <a:srgbClr val="8aa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5316480" y="4448160"/>
              <a:ext cx="295200" cy="11160"/>
            </a:xfrm>
            <a:prstGeom prst="rect">
              <a:avLst/>
            </a:prstGeom>
            <a:solidFill>
              <a:srgbClr val="8b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5316480" y="4459320"/>
              <a:ext cx="295200" cy="11160"/>
            </a:xfrm>
            <a:prstGeom prst="rect">
              <a:avLst/>
            </a:prstGeom>
            <a:solidFill>
              <a:srgbClr val="8ca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5316480" y="4470480"/>
              <a:ext cx="295200" cy="11160"/>
            </a:xfrm>
            <a:prstGeom prst="rect">
              <a:avLst/>
            </a:prstGeom>
            <a:solidFill>
              <a:srgbClr val="8da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5316480" y="4481640"/>
              <a:ext cx="295200" cy="11160"/>
            </a:xfrm>
            <a:prstGeom prst="rect">
              <a:avLst/>
            </a:prstGeom>
            <a:solidFill>
              <a:srgbClr val="8ea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5316480" y="4492800"/>
              <a:ext cx="295200" cy="10800"/>
            </a:xfrm>
            <a:prstGeom prst="rect">
              <a:avLst/>
            </a:prstGeom>
            <a:solidFill>
              <a:srgbClr val="8e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5316480" y="4503600"/>
              <a:ext cx="295200" cy="12960"/>
            </a:xfrm>
            <a:prstGeom prst="rect">
              <a:avLst/>
            </a:prstGeom>
            <a:solidFill>
              <a:srgbClr val="8fa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5316480" y="4516560"/>
              <a:ext cx="295200" cy="11160"/>
            </a:xfrm>
            <a:prstGeom prst="rect">
              <a:avLst/>
            </a:prstGeom>
            <a:solidFill>
              <a:srgbClr val="90a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5316480" y="4527720"/>
              <a:ext cx="295200" cy="10800"/>
            </a:xfrm>
            <a:prstGeom prst="rect">
              <a:avLst/>
            </a:prstGeom>
            <a:solidFill>
              <a:srgbClr val="90a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5316480" y="4538520"/>
              <a:ext cx="295200" cy="11160"/>
            </a:xfrm>
            <a:prstGeom prst="rect">
              <a:avLst/>
            </a:prstGeom>
            <a:solidFill>
              <a:srgbClr val="91a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316480" y="4549680"/>
              <a:ext cx="295200" cy="11160"/>
            </a:xfrm>
            <a:prstGeom prst="rect">
              <a:avLst/>
            </a:prstGeom>
            <a:solidFill>
              <a:srgbClr val="91a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316480" y="4560840"/>
              <a:ext cx="295200" cy="11160"/>
            </a:xfrm>
            <a:prstGeom prst="rect">
              <a:avLst/>
            </a:prstGeom>
            <a:solidFill>
              <a:srgbClr val="92a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316480" y="4572000"/>
              <a:ext cx="295200" cy="12600"/>
            </a:xfrm>
            <a:prstGeom prst="rect">
              <a:avLst/>
            </a:prstGeom>
            <a:solidFill>
              <a:srgbClr val="92a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5316480" y="4584600"/>
              <a:ext cx="295200" cy="11160"/>
            </a:xfrm>
            <a:prstGeom prst="rect">
              <a:avLst/>
            </a:prstGeom>
            <a:solidFill>
              <a:srgbClr val="93a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5316480" y="4595760"/>
              <a:ext cx="295200" cy="11160"/>
            </a:xfrm>
            <a:prstGeom prst="rect">
              <a:avLst/>
            </a:prstGeom>
            <a:solidFill>
              <a:srgbClr val="93a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5316480" y="4606920"/>
              <a:ext cx="295200" cy="11160"/>
            </a:xfrm>
            <a:prstGeom prst="rect">
              <a:avLst/>
            </a:prstGeom>
            <a:solidFill>
              <a:srgbClr val="93a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5316480" y="4618080"/>
              <a:ext cx="295200" cy="11160"/>
            </a:xfrm>
            <a:prstGeom prst="rect">
              <a:avLst/>
            </a:prstGeom>
            <a:solidFill>
              <a:srgbClr val="94a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5316480" y="4629240"/>
              <a:ext cx="295200" cy="11160"/>
            </a:xfrm>
            <a:prstGeom prst="rect">
              <a:avLst/>
            </a:prstGeom>
            <a:solidFill>
              <a:srgbClr val="94a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5316480" y="4640400"/>
              <a:ext cx="295200" cy="12600"/>
            </a:xfrm>
            <a:prstGeom prst="rect">
              <a:avLst/>
            </a:prstGeom>
            <a:solidFill>
              <a:srgbClr val="94a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316480" y="4653000"/>
              <a:ext cx="295200" cy="11160"/>
            </a:xfrm>
            <a:prstGeom prst="rect">
              <a:avLst/>
            </a:prstGeom>
            <a:solidFill>
              <a:srgbClr val="95a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98" name=""/>
          <p:cNvSpPr/>
          <p:nvPr/>
        </p:nvSpPr>
        <p:spPr>
          <a:xfrm>
            <a:off x="5316480" y="3822840"/>
            <a:ext cx="295200" cy="8413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99" name=""/>
          <p:cNvGrpSpPr/>
          <p:nvPr/>
        </p:nvGrpSpPr>
        <p:grpSpPr>
          <a:xfrm>
            <a:off x="6351480" y="3776760"/>
            <a:ext cx="295560" cy="887400"/>
            <a:chOff x="6351480" y="3776760"/>
            <a:chExt cx="295560" cy="887400"/>
          </a:xfrm>
        </p:grpSpPr>
        <p:sp>
          <p:nvSpPr>
            <p:cNvPr id="1100" name=""/>
            <p:cNvSpPr/>
            <p:nvPr/>
          </p:nvSpPr>
          <p:spPr>
            <a:xfrm>
              <a:off x="6351480" y="3776760"/>
              <a:ext cx="295560" cy="111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6351480" y="3787920"/>
              <a:ext cx="295560" cy="1080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6351480" y="3798720"/>
              <a:ext cx="295560" cy="12960"/>
            </a:xfrm>
            <a:prstGeom prst="rect">
              <a:avLst/>
            </a:prstGeom>
            <a:solidFill>
              <a:srgbClr val="34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6351480" y="3811680"/>
              <a:ext cx="295560" cy="11160"/>
            </a:xfrm>
            <a:prstGeom prst="rect">
              <a:avLst/>
            </a:prstGeom>
            <a:solidFill>
              <a:srgbClr val="35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6351480" y="3822840"/>
              <a:ext cx="295560" cy="10800"/>
            </a:xfrm>
            <a:prstGeom prst="rect">
              <a:avLst/>
            </a:prstGeom>
            <a:solidFill>
              <a:srgbClr val="35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6351480" y="3833640"/>
              <a:ext cx="295560" cy="11160"/>
            </a:xfrm>
            <a:prstGeom prst="rect">
              <a:avLst/>
            </a:prstGeom>
            <a:solidFill>
              <a:srgbClr val="366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6351480" y="3844800"/>
              <a:ext cx="295560" cy="11160"/>
            </a:xfrm>
            <a:prstGeom prst="rect">
              <a:avLst/>
            </a:prstGeom>
            <a:solidFill>
              <a:srgbClr val="376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6351480" y="3855960"/>
              <a:ext cx="295560" cy="11160"/>
            </a:xfrm>
            <a:prstGeom prst="rect">
              <a:avLst/>
            </a:prstGeom>
            <a:solidFill>
              <a:srgbClr val="386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6351480" y="3867120"/>
              <a:ext cx="295560" cy="12600"/>
            </a:xfrm>
            <a:prstGeom prst="rect">
              <a:avLst/>
            </a:prstGeom>
            <a:solidFill>
              <a:srgbClr val="396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6351480" y="3879720"/>
              <a:ext cx="295560" cy="11160"/>
            </a:xfrm>
            <a:prstGeom prst="rect">
              <a:avLst/>
            </a:prstGeom>
            <a:solidFill>
              <a:srgbClr val="3a6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6351480" y="3890880"/>
              <a:ext cx="295560" cy="11160"/>
            </a:xfrm>
            <a:prstGeom prst="rect">
              <a:avLst/>
            </a:prstGeom>
            <a:solidFill>
              <a:srgbClr val="3b6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6351480" y="3902040"/>
              <a:ext cx="295560" cy="11160"/>
            </a:xfrm>
            <a:prstGeom prst="rect">
              <a:avLst/>
            </a:prstGeom>
            <a:solidFill>
              <a:srgbClr val="3d6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6351480" y="3913200"/>
              <a:ext cx="295560" cy="11160"/>
            </a:xfrm>
            <a:prstGeom prst="rect">
              <a:avLst/>
            </a:prstGeom>
            <a:solidFill>
              <a:srgbClr val="3e6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6351480" y="3924360"/>
              <a:ext cx="295560" cy="11160"/>
            </a:xfrm>
            <a:prstGeom prst="rect">
              <a:avLst/>
            </a:prstGeom>
            <a:solidFill>
              <a:srgbClr val="3f6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6351480" y="3935520"/>
              <a:ext cx="295560" cy="12600"/>
            </a:xfrm>
            <a:prstGeom prst="rect">
              <a:avLst/>
            </a:prstGeom>
            <a:solidFill>
              <a:srgbClr val="416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6351480" y="3948120"/>
              <a:ext cx="295560" cy="11160"/>
            </a:xfrm>
            <a:prstGeom prst="rect">
              <a:avLst/>
            </a:prstGeom>
            <a:solidFill>
              <a:srgbClr val="426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6351480" y="3959280"/>
              <a:ext cx="295560" cy="11160"/>
            </a:xfrm>
            <a:prstGeom prst="rect">
              <a:avLst/>
            </a:prstGeom>
            <a:solidFill>
              <a:srgbClr val="447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6351480" y="3970440"/>
              <a:ext cx="295560" cy="11160"/>
            </a:xfrm>
            <a:prstGeom prst="rect">
              <a:avLst/>
            </a:prstGeom>
            <a:solidFill>
              <a:srgbClr val="457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6351480" y="3981600"/>
              <a:ext cx="295560" cy="10800"/>
            </a:xfrm>
            <a:prstGeom prst="rect">
              <a:avLst/>
            </a:prstGeom>
            <a:solidFill>
              <a:srgbClr val="477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6351480" y="3992400"/>
              <a:ext cx="295560" cy="11160"/>
            </a:xfrm>
            <a:prstGeom prst="rect">
              <a:avLst/>
            </a:prstGeom>
            <a:solidFill>
              <a:srgbClr val="497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6351480" y="4003560"/>
              <a:ext cx="295560" cy="12960"/>
            </a:xfrm>
            <a:prstGeom prst="rect">
              <a:avLst/>
            </a:prstGeom>
            <a:solidFill>
              <a:srgbClr val="4b7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6351480" y="4016520"/>
              <a:ext cx="295560" cy="10800"/>
            </a:xfrm>
            <a:prstGeom prst="rect">
              <a:avLst/>
            </a:prstGeom>
            <a:solidFill>
              <a:srgbClr val="4c7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6351480" y="4027320"/>
              <a:ext cx="295560" cy="11160"/>
            </a:xfrm>
            <a:prstGeom prst="rect">
              <a:avLst/>
            </a:prstGeom>
            <a:solidFill>
              <a:srgbClr val="4e7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6351480" y="4038480"/>
              <a:ext cx="295560" cy="11160"/>
            </a:xfrm>
            <a:prstGeom prst="rect">
              <a:avLst/>
            </a:prstGeom>
            <a:solidFill>
              <a:srgbClr val="507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6351480" y="4049640"/>
              <a:ext cx="295560" cy="11160"/>
            </a:xfrm>
            <a:prstGeom prst="rect">
              <a:avLst/>
            </a:prstGeom>
            <a:solidFill>
              <a:srgbClr val="527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6351480" y="4060800"/>
              <a:ext cx="295560" cy="11160"/>
            </a:xfrm>
            <a:prstGeom prst="rect">
              <a:avLst/>
            </a:prstGeom>
            <a:solidFill>
              <a:srgbClr val="547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6351480" y="4071960"/>
              <a:ext cx="295560" cy="11160"/>
            </a:xfrm>
            <a:prstGeom prst="rect">
              <a:avLst/>
            </a:prstGeom>
            <a:solidFill>
              <a:srgbClr val="567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6351480" y="4083120"/>
              <a:ext cx="295560" cy="12600"/>
            </a:xfrm>
            <a:prstGeom prst="rect">
              <a:avLst/>
            </a:prstGeom>
            <a:solidFill>
              <a:srgbClr val="587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6351480" y="4095720"/>
              <a:ext cx="295560" cy="11160"/>
            </a:xfrm>
            <a:prstGeom prst="rect">
              <a:avLst/>
            </a:prstGeom>
            <a:solidFill>
              <a:srgbClr val="5a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6351480" y="4106880"/>
              <a:ext cx="295560" cy="11160"/>
            </a:xfrm>
            <a:prstGeom prst="rect">
              <a:avLst/>
            </a:prstGeom>
            <a:solidFill>
              <a:srgbClr val="5c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6351480" y="4118040"/>
              <a:ext cx="295560" cy="11160"/>
            </a:xfrm>
            <a:prstGeom prst="rect">
              <a:avLst/>
            </a:prstGeom>
            <a:solidFill>
              <a:srgbClr val="5e8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6351480" y="4129200"/>
              <a:ext cx="295560" cy="11160"/>
            </a:xfrm>
            <a:prstGeom prst="rect">
              <a:avLst/>
            </a:prstGeom>
            <a:solidFill>
              <a:srgbClr val="608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6351480" y="4140360"/>
              <a:ext cx="295560" cy="10800"/>
            </a:xfrm>
            <a:prstGeom prst="rect">
              <a:avLst/>
            </a:prstGeom>
            <a:solidFill>
              <a:srgbClr val="628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6351480" y="4151160"/>
              <a:ext cx="295560" cy="12960"/>
            </a:xfrm>
            <a:prstGeom prst="rect">
              <a:avLst/>
            </a:prstGeom>
            <a:solidFill>
              <a:srgbClr val="648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6351480" y="4164120"/>
              <a:ext cx="295560" cy="11160"/>
            </a:xfrm>
            <a:prstGeom prst="rect">
              <a:avLst/>
            </a:prstGeom>
            <a:solidFill>
              <a:srgbClr val="668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6351480" y="4175280"/>
              <a:ext cx="295560" cy="10800"/>
            </a:xfrm>
            <a:prstGeom prst="rect">
              <a:avLst/>
            </a:prstGeom>
            <a:solidFill>
              <a:srgbClr val="688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6351480" y="4186080"/>
              <a:ext cx="295560" cy="11160"/>
            </a:xfrm>
            <a:prstGeom prst="rect">
              <a:avLst/>
            </a:prstGeom>
            <a:solidFill>
              <a:srgbClr val="6a8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6351480" y="4197240"/>
              <a:ext cx="295560" cy="11160"/>
            </a:xfrm>
            <a:prstGeom prst="rect">
              <a:avLst/>
            </a:prstGeom>
            <a:solidFill>
              <a:srgbClr val="6c8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6351480" y="4208400"/>
              <a:ext cx="295560" cy="11160"/>
            </a:xfrm>
            <a:prstGeom prst="rect">
              <a:avLst/>
            </a:prstGeom>
            <a:solidFill>
              <a:srgbClr val="6e8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6351480" y="4219560"/>
              <a:ext cx="295560" cy="12600"/>
            </a:xfrm>
            <a:prstGeom prst="rect">
              <a:avLst/>
            </a:prstGeom>
            <a:solidFill>
              <a:srgbClr val="708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6351480" y="4232160"/>
              <a:ext cx="295560" cy="11160"/>
            </a:xfrm>
            <a:prstGeom prst="rect">
              <a:avLst/>
            </a:prstGeom>
            <a:solidFill>
              <a:srgbClr val="719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6351480" y="4243320"/>
              <a:ext cx="295560" cy="11160"/>
            </a:xfrm>
            <a:prstGeom prst="rect">
              <a:avLst/>
            </a:prstGeom>
            <a:solidFill>
              <a:srgbClr val="749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351480" y="4254480"/>
              <a:ext cx="295560" cy="11160"/>
            </a:xfrm>
            <a:prstGeom prst="rect">
              <a:avLst/>
            </a:prstGeom>
            <a:solidFill>
              <a:srgbClr val="759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351480" y="4265640"/>
              <a:ext cx="295560" cy="11160"/>
            </a:xfrm>
            <a:prstGeom prst="rect">
              <a:avLst/>
            </a:prstGeom>
            <a:solidFill>
              <a:srgbClr val="779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351480" y="4276800"/>
              <a:ext cx="295560" cy="11160"/>
            </a:xfrm>
            <a:prstGeom prst="rect">
              <a:avLst/>
            </a:prstGeom>
            <a:solidFill>
              <a:srgbClr val="799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6351480" y="4287960"/>
              <a:ext cx="295560" cy="12600"/>
            </a:xfrm>
            <a:prstGeom prst="rect">
              <a:avLst/>
            </a:prstGeom>
            <a:solidFill>
              <a:srgbClr val="7a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6351480" y="4300560"/>
              <a:ext cx="295560" cy="11160"/>
            </a:xfrm>
            <a:prstGeom prst="rect">
              <a:avLst/>
            </a:prstGeom>
            <a:solidFill>
              <a:srgbClr val="7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6351480" y="4311720"/>
              <a:ext cx="295560" cy="11160"/>
            </a:xfrm>
            <a:prstGeom prst="rect">
              <a:avLst/>
            </a:prstGeom>
            <a:solidFill>
              <a:srgbClr val="7d9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6351480" y="4322880"/>
              <a:ext cx="295560" cy="11160"/>
            </a:xfrm>
            <a:prstGeom prst="rect">
              <a:avLst/>
            </a:prstGeom>
            <a:solidFill>
              <a:srgbClr val="7f9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6351480" y="4334040"/>
              <a:ext cx="295560" cy="10800"/>
            </a:xfrm>
            <a:prstGeom prst="rect">
              <a:avLst/>
            </a:prstGeom>
            <a:solidFill>
              <a:srgbClr val="809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6351480" y="4344840"/>
              <a:ext cx="295560" cy="11160"/>
            </a:xfrm>
            <a:prstGeom prst="rect">
              <a:avLst/>
            </a:prstGeom>
            <a:solidFill>
              <a:srgbClr val="82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6351480" y="4356000"/>
              <a:ext cx="295560" cy="12960"/>
            </a:xfrm>
            <a:prstGeom prst="rect">
              <a:avLst/>
            </a:prstGeom>
            <a:solidFill>
              <a:srgbClr val="83a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6351480" y="4368960"/>
              <a:ext cx="295560" cy="10800"/>
            </a:xfrm>
            <a:prstGeom prst="rect">
              <a:avLst/>
            </a:prstGeom>
            <a:solidFill>
              <a:srgbClr val="84a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6351480" y="4379760"/>
              <a:ext cx="295560" cy="11160"/>
            </a:xfrm>
            <a:prstGeom prst="rect">
              <a:avLst/>
            </a:prstGeom>
            <a:solidFill>
              <a:srgbClr val="86a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6351480" y="4390920"/>
              <a:ext cx="295560" cy="11160"/>
            </a:xfrm>
            <a:prstGeom prst="rect">
              <a:avLst/>
            </a:prstGeom>
            <a:solidFill>
              <a:srgbClr val="87a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6351480" y="4402080"/>
              <a:ext cx="295560" cy="11160"/>
            </a:xfrm>
            <a:prstGeom prst="rect">
              <a:avLst/>
            </a:prstGeom>
            <a:solidFill>
              <a:srgbClr val="88a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6351480" y="4413240"/>
              <a:ext cx="295560" cy="11160"/>
            </a:xfrm>
            <a:prstGeom prst="rect">
              <a:avLst/>
            </a:prstGeom>
            <a:solidFill>
              <a:srgbClr val="89a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6351480" y="4424400"/>
              <a:ext cx="295560" cy="12600"/>
            </a:xfrm>
            <a:prstGeom prst="rect">
              <a:avLst/>
            </a:prstGeom>
            <a:solidFill>
              <a:srgbClr val="8aa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6351480" y="4437000"/>
              <a:ext cx="295560" cy="11160"/>
            </a:xfrm>
            <a:prstGeom prst="rect">
              <a:avLst/>
            </a:prstGeom>
            <a:solidFill>
              <a:srgbClr val="8b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351480" y="4448160"/>
              <a:ext cx="295560" cy="11160"/>
            </a:xfrm>
            <a:prstGeom prst="rect">
              <a:avLst/>
            </a:prstGeom>
            <a:solidFill>
              <a:srgbClr val="8ca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6351480" y="4459320"/>
              <a:ext cx="295560" cy="11160"/>
            </a:xfrm>
            <a:prstGeom prst="rect">
              <a:avLst/>
            </a:prstGeom>
            <a:solidFill>
              <a:srgbClr val="8da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6351480" y="4470480"/>
              <a:ext cx="295560" cy="11160"/>
            </a:xfrm>
            <a:prstGeom prst="rect">
              <a:avLst/>
            </a:prstGeom>
            <a:solidFill>
              <a:srgbClr val="8da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6351480" y="4481640"/>
              <a:ext cx="295560" cy="11160"/>
            </a:xfrm>
            <a:prstGeom prst="rect">
              <a:avLst/>
            </a:prstGeom>
            <a:solidFill>
              <a:srgbClr val="8e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6351480" y="4492800"/>
              <a:ext cx="295560" cy="10800"/>
            </a:xfrm>
            <a:prstGeom prst="rect">
              <a:avLst/>
            </a:prstGeom>
            <a:solidFill>
              <a:srgbClr val="8fa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6351480" y="4503600"/>
              <a:ext cx="295560" cy="12960"/>
            </a:xfrm>
            <a:prstGeom prst="rect">
              <a:avLst/>
            </a:prstGeom>
            <a:solidFill>
              <a:srgbClr val="8fa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6351480" y="4516560"/>
              <a:ext cx="295560" cy="11160"/>
            </a:xfrm>
            <a:prstGeom prst="rect">
              <a:avLst/>
            </a:prstGeom>
            <a:solidFill>
              <a:srgbClr val="90a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6351480" y="4527720"/>
              <a:ext cx="295560" cy="10800"/>
            </a:xfrm>
            <a:prstGeom prst="rect">
              <a:avLst/>
            </a:prstGeom>
            <a:solidFill>
              <a:srgbClr val="91a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6351480" y="4538520"/>
              <a:ext cx="295560" cy="11160"/>
            </a:xfrm>
            <a:prstGeom prst="rect">
              <a:avLst/>
            </a:prstGeom>
            <a:solidFill>
              <a:srgbClr val="91a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6351480" y="4549680"/>
              <a:ext cx="295560" cy="11160"/>
            </a:xfrm>
            <a:prstGeom prst="rect">
              <a:avLst/>
            </a:prstGeom>
            <a:solidFill>
              <a:srgbClr val="92a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6351480" y="4560840"/>
              <a:ext cx="295560" cy="11160"/>
            </a:xfrm>
            <a:prstGeom prst="rect">
              <a:avLst/>
            </a:prstGeom>
            <a:solidFill>
              <a:srgbClr val="92a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6351480" y="4572000"/>
              <a:ext cx="295560" cy="12600"/>
            </a:xfrm>
            <a:prstGeom prst="rect">
              <a:avLst/>
            </a:prstGeom>
            <a:solidFill>
              <a:srgbClr val="92a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6351480" y="4584600"/>
              <a:ext cx="295560" cy="11160"/>
            </a:xfrm>
            <a:prstGeom prst="rect">
              <a:avLst/>
            </a:prstGeom>
            <a:solidFill>
              <a:srgbClr val="93a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6351480" y="4595760"/>
              <a:ext cx="295560" cy="11160"/>
            </a:xfrm>
            <a:prstGeom prst="rect">
              <a:avLst/>
            </a:prstGeom>
            <a:solidFill>
              <a:srgbClr val="93a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6351480" y="4606920"/>
              <a:ext cx="295560" cy="11160"/>
            </a:xfrm>
            <a:prstGeom prst="rect">
              <a:avLst/>
            </a:prstGeom>
            <a:solidFill>
              <a:srgbClr val="93a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6351480" y="4618080"/>
              <a:ext cx="295560" cy="11160"/>
            </a:xfrm>
            <a:prstGeom prst="rect">
              <a:avLst/>
            </a:prstGeom>
            <a:solidFill>
              <a:srgbClr val="94a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6351480" y="4629240"/>
              <a:ext cx="295560" cy="11160"/>
            </a:xfrm>
            <a:prstGeom prst="rect">
              <a:avLst/>
            </a:prstGeom>
            <a:solidFill>
              <a:srgbClr val="94a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6351480" y="4640400"/>
              <a:ext cx="295560" cy="12600"/>
            </a:xfrm>
            <a:prstGeom prst="rect">
              <a:avLst/>
            </a:prstGeom>
            <a:solidFill>
              <a:srgbClr val="94a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6351480" y="4653000"/>
              <a:ext cx="295560" cy="11160"/>
            </a:xfrm>
            <a:prstGeom prst="rect">
              <a:avLst/>
            </a:prstGeom>
            <a:solidFill>
              <a:srgbClr val="95a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78" name=""/>
          <p:cNvSpPr/>
          <p:nvPr/>
        </p:nvSpPr>
        <p:spPr>
          <a:xfrm>
            <a:off x="6351480" y="3776760"/>
            <a:ext cx="295560" cy="8874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79" name=""/>
          <p:cNvGrpSpPr/>
          <p:nvPr/>
        </p:nvGrpSpPr>
        <p:grpSpPr>
          <a:xfrm>
            <a:off x="7386480" y="2970360"/>
            <a:ext cx="295560" cy="1693800"/>
            <a:chOff x="7386480" y="2970360"/>
            <a:chExt cx="295560" cy="1693800"/>
          </a:xfrm>
        </p:grpSpPr>
        <p:sp>
          <p:nvSpPr>
            <p:cNvPr id="1180" name=""/>
            <p:cNvSpPr/>
            <p:nvPr/>
          </p:nvSpPr>
          <p:spPr>
            <a:xfrm>
              <a:off x="7386480" y="2970360"/>
              <a:ext cx="295560" cy="219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7386480" y="2992320"/>
              <a:ext cx="295560" cy="11160"/>
            </a:xfrm>
            <a:prstGeom prst="rect">
              <a:avLst/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7386480" y="3003480"/>
              <a:ext cx="295560" cy="22320"/>
            </a:xfrm>
            <a:prstGeom prst="rect">
              <a:avLst/>
            </a:prstGeom>
            <a:solidFill>
              <a:srgbClr val="34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7386480" y="3025800"/>
              <a:ext cx="295560" cy="12600"/>
            </a:xfrm>
            <a:prstGeom prst="rect">
              <a:avLst/>
            </a:prstGeom>
            <a:solidFill>
              <a:srgbClr val="34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7386480" y="3038400"/>
              <a:ext cx="295560" cy="22320"/>
            </a:xfrm>
            <a:prstGeom prst="rect">
              <a:avLst/>
            </a:prstGeom>
            <a:solidFill>
              <a:srgbClr val="35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7386480" y="3060720"/>
              <a:ext cx="295560" cy="11160"/>
            </a:xfrm>
            <a:prstGeom prst="rect">
              <a:avLst/>
            </a:prstGeom>
            <a:solidFill>
              <a:srgbClr val="35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7386480" y="3071880"/>
              <a:ext cx="295560" cy="22320"/>
            </a:xfrm>
            <a:prstGeom prst="rect">
              <a:avLst/>
            </a:prstGeom>
            <a:solidFill>
              <a:srgbClr val="366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7386480" y="3094200"/>
              <a:ext cx="295560" cy="12600"/>
            </a:xfrm>
            <a:prstGeom prst="rect">
              <a:avLst/>
            </a:prstGeom>
            <a:solidFill>
              <a:srgbClr val="376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7386480" y="3106800"/>
              <a:ext cx="295560" cy="22320"/>
            </a:xfrm>
            <a:prstGeom prst="rect">
              <a:avLst/>
            </a:prstGeom>
            <a:solidFill>
              <a:srgbClr val="376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7386480" y="3129120"/>
              <a:ext cx="295560" cy="10800"/>
            </a:xfrm>
            <a:prstGeom prst="rect">
              <a:avLst/>
            </a:prstGeom>
            <a:solidFill>
              <a:srgbClr val="386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7386480" y="3139920"/>
              <a:ext cx="295560" cy="22320"/>
            </a:xfrm>
            <a:prstGeom prst="rect">
              <a:avLst/>
            </a:prstGeom>
            <a:solidFill>
              <a:srgbClr val="396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7386480" y="3162240"/>
              <a:ext cx="295560" cy="12600"/>
            </a:xfrm>
            <a:prstGeom prst="rect">
              <a:avLst/>
            </a:prstGeom>
            <a:solidFill>
              <a:srgbClr val="3a6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7386480" y="3174840"/>
              <a:ext cx="295560" cy="22320"/>
            </a:xfrm>
            <a:prstGeom prst="rect">
              <a:avLst/>
            </a:prstGeom>
            <a:solidFill>
              <a:srgbClr val="3b6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7386480" y="3197160"/>
              <a:ext cx="295560" cy="11160"/>
            </a:xfrm>
            <a:prstGeom prst="rect">
              <a:avLst/>
            </a:prstGeom>
            <a:solidFill>
              <a:srgbClr val="3b6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7386480" y="3208320"/>
              <a:ext cx="295560" cy="22320"/>
            </a:xfrm>
            <a:prstGeom prst="rect">
              <a:avLst/>
            </a:prstGeom>
            <a:solidFill>
              <a:srgbClr val="3d6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7386480" y="3230640"/>
              <a:ext cx="295560" cy="11160"/>
            </a:xfrm>
            <a:prstGeom prst="rect">
              <a:avLst/>
            </a:prstGeom>
            <a:solidFill>
              <a:srgbClr val="3e6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7386480" y="3241800"/>
              <a:ext cx="295560" cy="23760"/>
            </a:xfrm>
            <a:prstGeom prst="rect">
              <a:avLst/>
            </a:prstGeom>
            <a:solidFill>
              <a:srgbClr val="3f6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7386480" y="3265560"/>
              <a:ext cx="295560" cy="11160"/>
            </a:xfrm>
            <a:prstGeom prst="rect">
              <a:avLst/>
            </a:prstGeom>
            <a:solidFill>
              <a:srgbClr val="406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7386480" y="3276720"/>
              <a:ext cx="295560" cy="21960"/>
            </a:xfrm>
            <a:prstGeom prst="rect">
              <a:avLst/>
            </a:prstGeom>
            <a:solidFill>
              <a:srgbClr val="416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7386480" y="3298680"/>
              <a:ext cx="295560" cy="11160"/>
            </a:xfrm>
            <a:prstGeom prst="rect">
              <a:avLst/>
            </a:prstGeom>
            <a:solidFill>
              <a:srgbClr val="426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7386480" y="3309840"/>
              <a:ext cx="295560" cy="23760"/>
            </a:xfrm>
            <a:prstGeom prst="rect">
              <a:avLst/>
            </a:prstGeom>
            <a:solidFill>
              <a:srgbClr val="436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7386480" y="3333600"/>
              <a:ext cx="295560" cy="11160"/>
            </a:xfrm>
            <a:prstGeom prst="rect">
              <a:avLst/>
            </a:prstGeom>
            <a:solidFill>
              <a:srgbClr val="447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7386480" y="3344760"/>
              <a:ext cx="295560" cy="22320"/>
            </a:xfrm>
            <a:prstGeom prst="rect">
              <a:avLst/>
            </a:prstGeom>
            <a:solidFill>
              <a:srgbClr val="467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7386480" y="3367080"/>
              <a:ext cx="295560" cy="11160"/>
            </a:xfrm>
            <a:prstGeom prst="rect">
              <a:avLst/>
            </a:prstGeom>
            <a:solidFill>
              <a:srgbClr val="477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7386480" y="3378240"/>
              <a:ext cx="295560" cy="23760"/>
            </a:xfrm>
            <a:prstGeom prst="rect">
              <a:avLst/>
            </a:prstGeom>
            <a:solidFill>
              <a:srgbClr val="497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7386480" y="3402000"/>
              <a:ext cx="295560" cy="11160"/>
            </a:xfrm>
            <a:prstGeom prst="rect">
              <a:avLst/>
            </a:prstGeom>
            <a:solidFill>
              <a:srgbClr val="4a7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7386480" y="3413160"/>
              <a:ext cx="295560" cy="22320"/>
            </a:xfrm>
            <a:prstGeom prst="rect">
              <a:avLst/>
            </a:prstGeom>
            <a:solidFill>
              <a:srgbClr val="4b7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7386480" y="3435480"/>
              <a:ext cx="295560" cy="11160"/>
            </a:xfrm>
            <a:prstGeom prst="rect">
              <a:avLst/>
            </a:prstGeom>
            <a:solidFill>
              <a:srgbClr val="4d7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7386480" y="3446640"/>
              <a:ext cx="295560" cy="23760"/>
            </a:xfrm>
            <a:prstGeom prst="rect">
              <a:avLst/>
            </a:prstGeom>
            <a:solidFill>
              <a:srgbClr val="4e7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7386480" y="3470400"/>
              <a:ext cx="295560" cy="11160"/>
            </a:xfrm>
            <a:prstGeom prst="rect">
              <a:avLst/>
            </a:prstGeom>
            <a:solidFill>
              <a:srgbClr val="507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7386480" y="3481560"/>
              <a:ext cx="295560" cy="21960"/>
            </a:xfrm>
            <a:prstGeom prst="rect">
              <a:avLst/>
            </a:prstGeom>
            <a:solidFill>
              <a:srgbClr val="517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7386480" y="3503520"/>
              <a:ext cx="295560" cy="11160"/>
            </a:xfrm>
            <a:prstGeom prst="rect">
              <a:avLst/>
            </a:prstGeom>
            <a:solidFill>
              <a:srgbClr val="537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7386480" y="3514680"/>
              <a:ext cx="295560" cy="23760"/>
            </a:xfrm>
            <a:prstGeom prst="rect">
              <a:avLst/>
            </a:prstGeom>
            <a:solidFill>
              <a:srgbClr val="54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7386480" y="3538440"/>
              <a:ext cx="295560" cy="11160"/>
            </a:xfrm>
            <a:prstGeom prst="rect">
              <a:avLst/>
            </a:prstGeom>
            <a:solidFill>
              <a:srgbClr val="567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7386480" y="3549600"/>
              <a:ext cx="295560" cy="22320"/>
            </a:xfrm>
            <a:prstGeom prst="rect">
              <a:avLst/>
            </a:prstGeom>
            <a:solidFill>
              <a:srgbClr val="577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7386480" y="3571920"/>
              <a:ext cx="295560" cy="11160"/>
            </a:xfrm>
            <a:prstGeom prst="rect">
              <a:avLst/>
            </a:prstGeom>
            <a:solidFill>
              <a:srgbClr val="597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7386480" y="3583080"/>
              <a:ext cx="295560" cy="23760"/>
            </a:xfrm>
            <a:prstGeom prst="rect">
              <a:avLst/>
            </a:prstGeom>
            <a:solidFill>
              <a:srgbClr val="5b7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7386480" y="3606840"/>
              <a:ext cx="295560" cy="11160"/>
            </a:xfrm>
            <a:prstGeom prst="rect">
              <a:avLst/>
            </a:prstGeom>
            <a:solidFill>
              <a:srgbClr val="5c8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7386480" y="3618000"/>
              <a:ext cx="295560" cy="21960"/>
            </a:xfrm>
            <a:prstGeom prst="rect">
              <a:avLst/>
            </a:prstGeom>
            <a:solidFill>
              <a:srgbClr val="5e8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7386480" y="3639960"/>
              <a:ext cx="295560" cy="11160"/>
            </a:xfrm>
            <a:prstGeom prst="rect">
              <a:avLst/>
            </a:prstGeom>
            <a:solidFill>
              <a:srgbClr val="5f8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7386480" y="3651120"/>
              <a:ext cx="295560" cy="24120"/>
            </a:xfrm>
            <a:prstGeom prst="rect">
              <a:avLst/>
            </a:prstGeom>
            <a:solidFill>
              <a:srgbClr val="618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7386480" y="3675240"/>
              <a:ext cx="295560" cy="10800"/>
            </a:xfrm>
            <a:prstGeom prst="rect">
              <a:avLst/>
            </a:prstGeom>
            <a:solidFill>
              <a:srgbClr val="638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7386480" y="3686040"/>
              <a:ext cx="295560" cy="22320"/>
            </a:xfrm>
            <a:prstGeom prst="rect">
              <a:avLst/>
            </a:prstGeom>
            <a:solidFill>
              <a:srgbClr val="648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7386480" y="3708360"/>
              <a:ext cx="295560" cy="11160"/>
            </a:xfrm>
            <a:prstGeom prst="rect">
              <a:avLst/>
            </a:prstGeom>
            <a:solidFill>
              <a:srgbClr val="668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7386480" y="3719520"/>
              <a:ext cx="295560" cy="23760"/>
            </a:xfrm>
            <a:prstGeom prst="rect">
              <a:avLst/>
            </a:prstGeom>
            <a:solidFill>
              <a:srgbClr val="678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7386480" y="3743280"/>
              <a:ext cx="295560" cy="11160"/>
            </a:xfrm>
            <a:prstGeom prst="rect">
              <a:avLst/>
            </a:prstGeom>
            <a:solidFill>
              <a:srgbClr val="698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7386480" y="3754440"/>
              <a:ext cx="295560" cy="22320"/>
            </a:xfrm>
            <a:prstGeom prst="rect">
              <a:avLst/>
            </a:prstGeom>
            <a:solidFill>
              <a:srgbClr val="6a8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7386480" y="3776760"/>
              <a:ext cx="295560" cy="11160"/>
            </a:xfrm>
            <a:prstGeom prst="rect">
              <a:avLst/>
            </a:prstGeom>
            <a:solidFill>
              <a:srgbClr val="6c8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7386480" y="3787920"/>
              <a:ext cx="295560" cy="23760"/>
            </a:xfrm>
            <a:prstGeom prst="rect">
              <a:avLst/>
            </a:prstGeom>
            <a:solidFill>
              <a:srgbClr val="6d8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7386480" y="3811680"/>
              <a:ext cx="295560" cy="11160"/>
            </a:xfrm>
            <a:prstGeom prst="rect">
              <a:avLst/>
            </a:prstGeom>
            <a:solidFill>
              <a:srgbClr val="6f8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7386480" y="3822840"/>
              <a:ext cx="295560" cy="21960"/>
            </a:xfrm>
            <a:prstGeom prst="rect">
              <a:avLst/>
            </a:prstGeom>
            <a:solidFill>
              <a:srgbClr val="709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7386480" y="3844800"/>
              <a:ext cx="295560" cy="11160"/>
            </a:xfrm>
            <a:prstGeom prst="rect">
              <a:avLst/>
            </a:prstGeom>
            <a:solidFill>
              <a:srgbClr val="729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7386480" y="3855960"/>
              <a:ext cx="295560" cy="23760"/>
            </a:xfrm>
            <a:prstGeom prst="rect">
              <a:avLst/>
            </a:prstGeom>
            <a:solidFill>
              <a:srgbClr val="739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386480" y="3879720"/>
              <a:ext cx="295560" cy="11160"/>
            </a:xfrm>
            <a:prstGeom prst="rect">
              <a:avLst/>
            </a:prstGeom>
            <a:solidFill>
              <a:srgbClr val="759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386480" y="3890880"/>
              <a:ext cx="295560" cy="22320"/>
            </a:xfrm>
            <a:prstGeom prst="rect">
              <a:avLst/>
            </a:prstGeom>
            <a:solidFill>
              <a:srgbClr val="769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7386480" y="3913200"/>
              <a:ext cx="295560" cy="11160"/>
            </a:xfrm>
            <a:prstGeom prst="rect">
              <a:avLst/>
            </a:prstGeom>
            <a:solidFill>
              <a:srgbClr val="779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7386480" y="3924360"/>
              <a:ext cx="295560" cy="23760"/>
            </a:xfrm>
            <a:prstGeom prst="rect">
              <a:avLst/>
            </a:prstGeom>
            <a:solidFill>
              <a:srgbClr val="799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7386480" y="3948120"/>
              <a:ext cx="295560" cy="11160"/>
            </a:xfrm>
            <a:prstGeom prst="rect">
              <a:avLst/>
            </a:prstGeom>
            <a:solidFill>
              <a:srgbClr val="7a9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7386480" y="3959280"/>
              <a:ext cx="295560" cy="22320"/>
            </a:xfrm>
            <a:prstGeom prst="rect">
              <a:avLst/>
            </a:prstGeom>
            <a:solidFill>
              <a:srgbClr val="7b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7386480" y="3981600"/>
              <a:ext cx="295560" cy="10800"/>
            </a:xfrm>
            <a:prstGeom prst="rect">
              <a:avLst/>
            </a:prstGeom>
            <a:solidFill>
              <a:srgbClr val="7c9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7386480" y="3992400"/>
              <a:ext cx="295560" cy="24120"/>
            </a:xfrm>
            <a:prstGeom prst="rect">
              <a:avLst/>
            </a:prstGeom>
            <a:solidFill>
              <a:srgbClr val="7e9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7386480" y="4016520"/>
              <a:ext cx="295560" cy="10800"/>
            </a:xfrm>
            <a:prstGeom prst="rect">
              <a:avLst/>
            </a:prstGeom>
            <a:solidFill>
              <a:srgbClr val="7f9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7386480" y="4027320"/>
              <a:ext cx="295560" cy="22320"/>
            </a:xfrm>
            <a:prstGeom prst="rect">
              <a:avLst/>
            </a:prstGeom>
            <a:solidFill>
              <a:srgbClr val="809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7386480" y="4049640"/>
              <a:ext cx="295560" cy="11160"/>
            </a:xfrm>
            <a:prstGeom prst="rect">
              <a:avLst/>
            </a:prstGeom>
            <a:solidFill>
              <a:srgbClr val="81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7386480" y="4060800"/>
              <a:ext cx="295560" cy="22320"/>
            </a:xfrm>
            <a:prstGeom prst="rect">
              <a:avLst/>
            </a:prstGeom>
            <a:solidFill>
              <a:srgbClr val="829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7386480" y="4083120"/>
              <a:ext cx="295560" cy="12600"/>
            </a:xfrm>
            <a:prstGeom prst="rect">
              <a:avLst/>
            </a:prstGeom>
            <a:solidFill>
              <a:srgbClr val="83a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7386480" y="4095720"/>
              <a:ext cx="295560" cy="22320"/>
            </a:xfrm>
            <a:prstGeom prst="rect">
              <a:avLst/>
            </a:prstGeom>
            <a:solidFill>
              <a:srgbClr val="84a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7386480" y="4118040"/>
              <a:ext cx="295560" cy="11160"/>
            </a:xfrm>
            <a:prstGeom prst="rect">
              <a:avLst/>
            </a:prstGeom>
            <a:solidFill>
              <a:srgbClr val="85a1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7386480" y="4129200"/>
              <a:ext cx="295560" cy="21960"/>
            </a:xfrm>
            <a:prstGeom prst="rect">
              <a:avLst/>
            </a:prstGeom>
            <a:solidFill>
              <a:srgbClr val="86a2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7386480" y="4151160"/>
              <a:ext cx="295560" cy="12960"/>
            </a:xfrm>
            <a:prstGeom prst="rect">
              <a:avLst/>
            </a:prstGeom>
            <a:solidFill>
              <a:srgbClr val="87a3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7386480" y="4164120"/>
              <a:ext cx="295560" cy="21960"/>
            </a:xfrm>
            <a:prstGeom prst="rect">
              <a:avLst/>
            </a:prstGeom>
            <a:solidFill>
              <a:srgbClr val="88a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7386480" y="4186080"/>
              <a:ext cx="295560" cy="11160"/>
            </a:xfrm>
            <a:prstGeom prst="rect">
              <a:avLst/>
            </a:prstGeom>
            <a:solidFill>
              <a:srgbClr val="89a4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7386480" y="4197240"/>
              <a:ext cx="295560" cy="22320"/>
            </a:xfrm>
            <a:prstGeom prst="rect">
              <a:avLst/>
            </a:prstGeom>
            <a:solidFill>
              <a:srgbClr val="8aa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7386480" y="4219560"/>
              <a:ext cx="295560" cy="12600"/>
            </a:xfrm>
            <a:prstGeom prst="rect">
              <a:avLst/>
            </a:prstGeom>
            <a:solidFill>
              <a:srgbClr val="8a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7386480" y="4232160"/>
              <a:ext cx="295560" cy="22320"/>
            </a:xfrm>
            <a:prstGeom prst="rect">
              <a:avLst/>
            </a:prstGeom>
            <a:solidFill>
              <a:srgbClr val="8ba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7386480" y="4254480"/>
              <a:ext cx="295560" cy="11160"/>
            </a:xfrm>
            <a:prstGeom prst="rect">
              <a:avLst/>
            </a:prstGeom>
            <a:solidFill>
              <a:srgbClr val="8ca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7386480" y="4265640"/>
              <a:ext cx="295560" cy="22320"/>
            </a:xfrm>
            <a:prstGeom prst="rect">
              <a:avLst/>
            </a:prstGeom>
            <a:solidFill>
              <a:srgbClr val="8ca7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7386480" y="4287960"/>
              <a:ext cx="295560" cy="12600"/>
            </a:xfrm>
            <a:prstGeom prst="rect">
              <a:avLst/>
            </a:prstGeom>
            <a:solidFill>
              <a:srgbClr val="8da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7386480" y="4300560"/>
              <a:ext cx="295560" cy="22320"/>
            </a:xfrm>
            <a:prstGeom prst="rect">
              <a:avLst/>
            </a:prstGeom>
            <a:solidFill>
              <a:srgbClr val="8ea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7386480" y="4322880"/>
              <a:ext cx="295560" cy="11160"/>
            </a:xfrm>
            <a:prstGeom prst="rect">
              <a:avLst/>
            </a:prstGeom>
            <a:solidFill>
              <a:srgbClr val="8ea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7386480" y="4334040"/>
              <a:ext cx="295560" cy="21960"/>
            </a:xfrm>
            <a:prstGeom prst="rect">
              <a:avLst/>
            </a:prstGeom>
            <a:solidFill>
              <a:srgbClr val="8fa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7386480" y="4356000"/>
              <a:ext cx="295560" cy="12960"/>
            </a:xfrm>
            <a:prstGeom prst="rect">
              <a:avLst/>
            </a:prstGeom>
            <a:solidFill>
              <a:srgbClr val="8fa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7386480" y="4368960"/>
              <a:ext cx="295560" cy="21960"/>
            </a:xfrm>
            <a:prstGeom prst="rect">
              <a:avLst/>
            </a:prstGeom>
            <a:solidFill>
              <a:srgbClr val="90aa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7386480" y="4390920"/>
              <a:ext cx="295560" cy="11160"/>
            </a:xfrm>
            <a:prstGeom prst="rect">
              <a:avLst/>
            </a:prstGeom>
            <a:solidFill>
              <a:srgbClr val="90a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7386480" y="4402080"/>
              <a:ext cx="295560" cy="22320"/>
            </a:xfrm>
            <a:prstGeom prst="rect">
              <a:avLst/>
            </a:prstGeom>
            <a:solidFill>
              <a:srgbClr val="91a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7386480" y="4424400"/>
              <a:ext cx="295560" cy="12600"/>
            </a:xfrm>
            <a:prstGeom prst="rect">
              <a:avLst/>
            </a:prstGeom>
            <a:solidFill>
              <a:srgbClr val="91a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7386480" y="4437000"/>
              <a:ext cx="295560" cy="22320"/>
            </a:xfrm>
            <a:prstGeom prst="rect">
              <a:avLst/>
            </a:prstGeom>
            <a:solidFill>
              <a:srgbClr val="91a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7386480" y="4459320"/>
              <a:ext cx="295560" cy="11160"/>
            </a:xfrm>
            <a:prstGeom prst="rect">
              <a:avLst/>
            </a:prstGeom>
            <a:solidFill>
              <a:srgbClr val="92a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7386480" y="4470480"/>
              <a:ext cx="295560" cy="22320"/>
            </a:xfrm>
            <a:prstGeom prst="rect">
              <a:avLst/>
            </a:prstGeom>
            <a:solidFill>
              <a:srgbClr val="92a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7386480" y="4492800"/>
              <a:ext cx="295560" cy="10800"/>
            </a:xfrm>
            <a:prstGeom prst="rect">
              <a:avLst/>
            </a:prstGeom>
            <a:solidFill>
              <a:srgbClr val="92a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7386480" y="4503600"/>
              <a:ext cx="295560" cy="24120"/>
            </a:xfrm>
            <a:prstGeom prst="rect">
              <a:avLst/>
            </a:prstGeom>
            <a:solidFill>
              <a:srgbClr val="93a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7386480" y="4527720"/>
              <a:ext cx="295560" cy="10800"/>
            </a:xfrm>
            <a:prstGeom prst="rect">
              <a:avLst/>
            </a:prstGeom>
            <a:solidFill>
              <a:srgbClr val="93a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7386480" y="4538520"/>
              <a:ext cx="295560" cy="22320"/>
            </a:xfrm>
            <a:prstGeom prst="rect">
              <a:avLst/>
            </a:prstGeom>
            <a:solidFill>
              <a:srgbClr val="93a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7386480" y="4560840"/>
              <a:ext cx="295560" cy="11160"/>
            </a:xfrm>
            <a:prstGeom prst="rect">
              <a:avLst/>
            </a:prstGeom>
            <a:solidFill>
              <a:srgbClr val="93a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7386480" y="4572000"/>
              <a:ext cx="295560" cy="23760"/>
            </a:xfrm>
            <a:prstGeom prst="rect">
              <a:avLst/>
            </a:prstGeom>
            <a:solidFill>
              <a:srgbClr val="94a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7386480" y="4595760"/>
              <a:ext cx="295560" cy="11160"/>
            </a:xfrm>
            <a:prstGeom prst="rect">
              <a:avLst/>
            </a:prstGeom>
            <a:solidFill>
              <a:srgbClr val="94a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386480" y="4606920"/>
              <a:ext cx="295560" cy="22320"/>
            </a:xfrm>
            <a:prstGeom prst="rect">
              <a:avLst/>
            </a:prstGeom>
            <a:solidFill>
              <a:srgbClr val="94a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7386480" y="4629240"/>
              <a:ext cx="295560" cy="11160"/>
            </a:xfrm>
            <a:prstGeom prst="rect">
              <a:avLst/>
            </a:prstGeom>
            <a:solidFill>
              <a:srgbClr val="94a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386480" y="4640400"/>
              <a:ext cx="295560" cy="23760"/>
            </a:xfrm>
            <a:prstGeom prst="rect">
              <a:avLst/>
            </a:prstGeom>
            <a:solidFill>
              <a:srgbClr val="95a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79" name=""/>
          <p:cNvSpPr/>
          <p:nvPr/>
        </p:nvSpPr>
        <p:spPr>
          <a:xfrm>
            <a:off x="7386480" y="2970360"/>
            <a:ext cx="295560" cy="16938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80" name=""/>
          <p:cNvGrpSpPr/>
          <p:nvPr/>
        </p:nvGrpSpPr>
        <p:grpSpPr>
          <a:xfrm>
            <a:off x="2495520" y="1571760"/>
            <a:ext cx="297000" cy="3092400"/>
            <a:chOff x="2495520" y="1571760"/>
            <a:chExt cx="297000" cy="3092400"/>
          </a:xfrm>
        </p:grpSpPr>
        <p:sp>
          <p:nvSpPr>
            <p:cNvPr id="1281" name=""/>
            <p:cNvSpPr/>
            <p:nvPr/>
          </p:nvSpPr>
          <p:spPr>
            <a:xfrm>
              <a:off x="2495520" y="1571760"/>
              <a:ext cx="297000" cy="154620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495520" y="3117960"/>
              <a:ext cx="297000" cy="154620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83" name=""/>
          <p:cNvSpPr/>
          <p:nvPr/>
        </p:nvSpPr>
        <p:spPr>
          <a:xfrm>
            <a:off x="2495520" y="1571760"/>
            <a:ext cx="297000" cy="30924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84" name=""/>
          <p:cNvGrpSpPr/>
          <p:nvPr/>
        </p:nvGrpSpPr>
        <p:grpSpPr>
          <a:xfrm>
            <a:off x="3530520" y="3367080"/>
            <a:ext cx="297000" cy="1297080"/>
            <a:chOff x="3530520" y="3367080"/>
            <a:chExt cx="297000" cy="1297080"/>
          </a:xfrm>
        </p:grpSpPr>
        <p:sp>
          <p:nvSpPr>
            <p:cNvPr id="1285" name=""/>
            <p:cNvSpPr/>
            <p:nvPr/>
          </p:nvSpPr>
          <p:spPr>
            <a:xfrm>
              <a:off x="3530520" y="3367080"/>
              <a:ext cx="297000" cy="64944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3530520" y="4016520"/>
              <a:ext cx="297000" cy="64764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87" name=""/>
          <p:cNvSpPr/>
          <p:nvPr/>
        </p:nvSpPr>
        <p:spPr>
          <a:xfrm>
            <a:off x="3530520" y="3367080"/>
            <a:ext cx="297000" cy="12970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88" name=""/>
          <p:cNvGrpSpPr/>
          <p:nvPr/>
        </p:nvGrpSpPr>
        <p:grpSpPr>
          <a:xfrm>
            <a:off x="4576680" y="3765600"/>
            <a:ext cx="297000" cy="898560"/>
            <a:chOff x="4576680" y="3765600"/>
            <a:chExt cx="297000" cy="898560"/>
          </a:xfrm>
        </p:grpSpPr>
        <p:sp>
          <p:nvSpPr>
            <p:cNvPr id="1289" name=""/>
            <p:cNvSpPr/>
            <p:nvPr/>
          </p:nvSpPr>
          <p:spPr>
            <a:xfrm>
              <a:off x="4576680" y="3765600"/>
              <a:ext cx="297000" cy="45396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576680" y="4219560"/>
              <a:ext cx="297000" cy="44460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91" name=""/>
          <p:cNvSpPr/>
          <p:nvPr/>
        </p:nvSpPr>
        <p:spPr>
          <a:xfrm>
            <a:off x="4576680" y="3765600"/>
            <a:ext cx="297000" cy="8985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92" name=""/>
          <p:cNvGrpSpPr/>
          <p:nvPr/>
        </p:nvGrpSpPr>
        <p:grpSpPr>
          <a:xfrm>
            <a:off x="5611680" y="3890880"/>
            <a:ext cx="295560" cy="773280"/>
            <a:chOff x="5611680" y="3890880"/>
            <a:chExt cx="295560" cy="773280"/>
          </a:xfrm>
        </p:grpSpPr>
        <p:sp>
          <p:nvSpPr>
            <p:cNvPr id="1293" name=""/>
            <p:cNvSpPr/>
            <p:nvPr/>
          </p:nvSpPr>
          <p:spPr>
            <a:xfrm>
              <a:off x="5611680" y="3890880"/>
              <a:ext cx="295560" cy="38592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5611680" y="4276800"/>
              <a:ext cx="295560" cy="38736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95" name=""/>
          <p:cNvSpPr/>
          <p:nvPr/>
        </p:nvSpPr>
        <p:spPr>
          <a:xfrm>
            <a:off x="5611680" y="3890880"/>
            <a:ext cx="295560" cy="7732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96" name=""/>
          <p:cNvGrpSpPr/>
          <p:nvPr/>
        </p:nvGrpSpPr>
        <p:grpSpPr>
          <a:xfrm>
            <a:off x="6647040" y="3890880"/>
            <a:ext cx="295200" cy="773280"/>
            <a:chOff x="6647040" y="3890880"/>
            <a:chExt cx="295200" cy="773280"/>
          </a:xfrm>
        </p:grpSpPr>
        <p:sp>
          <p:nvSpPr>
            <p:cNvPr id="1297" name=""/>
            <p:cNvSpPr/>
            <p:nvPr/>
          </p:nvSpPr>
          <p:spPr>
            <a:xfrm>
              <a:off x="6647040" y="3890880"/>
              <a:ext cx="295200" cy="38592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6647040" y="4276800"/>
              <a:ext cx="295200" cy="38736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299" name=""/>
          <p:cNvSpPr/>
          <p:nvPr/>
        </p:nvSpPr>
        <p:spPr>
          <a:xfrm>
            <a:off x="6647040" y="3890880"/>
            <a:ext cx="295200" cy="7732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00" name=""/>
          <p:cNvGrpSpPr/>
          <p:nvPr/>
        </p:nvGrpSpPr>
        <p:grpSpPr>
          <a:xfrm>
            <a:off x="7682040" y="3309840"/>
            <a:ext cx="295200" cy="1354320"/>
            <a:chOff x="7682040" y="3309840"/>
            <a:chExt cx="295200" cy="1354320"/>
          </a:xfrm>
        </p:grpSpPr>
        <p:sp>
          <p:nvSpPr>
            <p:cNvPr id="1301" name=""/>
            <p:cNvSpPr/>
            <p:nvPr/>
          </p:nvSpPr>
          <p:spPr>
            <a:xfrm>
              <a:off x="7682040" y="3309840"/>
              <a:ext cx="295200" cy="68256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7682040" y="3992400"/>
              <a:ext cx="295200" cy="67176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03" name=""/>
          <p:cNvSpPr/>
          <p:nvPr/>
        </p:nvSpPr>
        <p:spPr>
          <a:xfrm>
            <a:off x="7682040" y="3309840"/>
            <a:ext cx="295200" cy="13543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1984320" y="1389240"/>
            <a:ext cx="1800" cy="327492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1938240" y="4664160"/>
            <a:ext cx="46080" cy="14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1938240" y="4254480"/>
            <a:ext cx="46080" cy="14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1938240" y="3844800"/>
            <a:ext cx="46080" cy="180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1938240" y="3435480"/>
            <a:ext cx="46080" cy="14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938240" y="3025800"/>
            <a:ext cx="46080" cy="14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1938240" y="2617920"/>
            <a:ext cx="46080" cy="14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1938240" y="2208240"/>
            <a:ext cx="46080" cy="14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1938240" y="1798560"/>
            <a:ext cx="46080" cy="180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938240" y="1389240"/>
            <a:ext cx="46080" cy="14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1984320" y="4664160"/>
            <a:ext cx="6219720" cy="14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 flipV="1">
            <a:off x="1984320" y="4663800"/>
            <a:ext cx="1800" cy="4428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V="1">
            <a:off x="3019320" y="4663800"/>
            <a:ext cx="1800" cy="4428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 flipV="1">
            <a:off x="4054320" y="4663800"/>
            <a:ext cx="1800" cy="4428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 flipV="1">
            <a:off x="5100480" y="4663800"/>
            <a:ext cx="1800" cy="4428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 flipV="1">
            <a:off x="6135840" y="4663800"/>
            <a:ext cx="1440" cy="4428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 flipV="1">
            <a:off x="7169040" y="4663800"/>
            <a:ext cx="1800" cy="4428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 flipV="1">
            <a:off x="8204040" y="4663800"/>
            <a:ext cx="1800" cy="4428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2462040" y="2104920"/>
            <a:ext cx="136800" cy="136800"/>
          </a:xfrm>
          <a:custGeom>
            <a:avLst/>
            <a:gdLst/>
            <a:ahLst/>
            <a:rect l="l" t="t" r="r" b="b"/>
            <a:pathLst>
              <a:path w="86" h="86">
                <a:moveTo>
                  <a:pt x="43" y="0"/>
                </a:moveTo>
                <a:lnTo>
                  <a:pt x="86" y="43"/>
                </a:lnTo>
                <a:lnTo>
                  <a:pt x="43" y="86"/>
                </a:lnTo>
                <a:lnTo>
                  <a:pt x="0" y="43"/>
                </a:lnTo>
                <a:lnTo>
                  <a:pt x="43" y="0"/>
                </a:lnTo>
                <a:close/>
              </a:path>
            </a:pathLst>
          </a:custGeom>
          <a:solidFill>
            <a:srgbClr val="00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3497400" y="2878200"/>
            <a:ext cx="136440" cy="136440"/>
          </a:xfrm>
          <a:custGeom>
            <a:avLst/>
            <a:gdLst/>
            <a:ahLst/>
            <a:rect l="l" t="t" r="r" b="b"/>
            <a:pathLst>
              <a:path w="86" h="86">
                <a:moveTo>
                  <a:pt x="43" y="0"/>
                </a:moveTo>
                <a:lnTo>
                  <a:pt x="86" y="43"/>
                </a:lnTo>
                <a:lnTo>
                  <a:pt x="43" y="86"/>
                </a:lnTo>
                <a:lnTo>
                  <a:pt x="0" y="43"/>
                </a:lnTo>
                <a:lnTo>
                  <a:pt x="43" y="0"/>
                </a:lnTo>
                <a:close/>
              </a:path>
            </a:pathLst>
          </a:custGeom>
          <a:solidFill>
            <a:srgbClr val="00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4532400" y="3798720"/>
            <a:ext cx="136440" cy="136800"/>
          </a:xfrm>
          <a:custGeom>
            <a:avLst/>
            <a:gdLst/>
            <a:ahLst/>
            <a:rect l="l" t="t" r="r" b="b"/>
            <a:pathLst>
              <a:path w="86" h="86">
                <a:moveTo>
                  <a:pt x="43" y="0"/>
                </a:moveTo>
                <a:lnTo>
                  <a:pt x="86" y="43"/>
                </a:lnTo>
                <a:lnTo>
                  <a:pt x="43" y="86"/>
                </a:lnTo>
                <a:lnTo>
                  <a:pt x="0" y="43"/>
                </a:lnTo>
                <a:lnTo>
                  <a:pt x="43" y="0"/>
                </a:lnTo>
                <a:close/>
              </a:path>
            </a:pathLst>
          </a:custGeom>
          <a:solidFill>
            <a:srgbClr val="00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5565600" y="3811680"/>
            <a:ext cx="136800" cy="136440"/>
          </a:xfrm>
          <a:custGeom>
            <a:avLst/>
            <a:gdLst/>
            <a:ahLst/>
            <a:rect l="l" t="t" r="r" b="b"/>
            <a:pathLst>
              <a:path w="86" h="86">
                <a:moveTo>
                  <a:pt x="43" y="0"/>
                </a:moveTo>
                <a:lnTo>
                  <a:pt x="86" y="43"/>
                </a:lnTo>
                <a:lnTo>
                  <a:pt x="43" y="86"/>
                </a:lnTo>
                <a:lnTo>
                  <a:pt x="0" y="43"/>
                </a:lnTo>
                <a:lnTo>
                  <a:pt x="43" y="0"/>
                </a:lnTo>
                <a:close/>
              </a:path>
            </a:pathLst>
          </a:custGeom>
          <a:solidFill>
            <a:srgbClr val="00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6600960" y="3798720"/>
            <a:ext cx="136440" cy="136800"/>
          </a:xfrm>
          <a:custGeom>
            <a:avLst/>
            <a:gdLst/>
            <a:ahLst/>
            <a:rect l="l" t="t" r="r" b="b"/>
            <a:pathLst>
              <a:path w="86" h="86">
                <a:moveTo>
                  <a:pt x="43" y="0"/>
                </a:moveTo>
                <a:lnTo>
                  <a:pt x="86" y="43"/>
                </a:lnTo>
                <a:lnTo>
                  <a:pt x="43" y="86"/>
                </a:lnTo>
                <a:lnTo>
                  <a:pt x="0" y="43"/>
                </a:lnTo>
                <a:lnTo>
                  <a:pt x="43" y="0"/>
                </a:lnTo>
                <a:close/>
              </a:path>
            </a:pathLst>
          </a:custGeom>
          <a:solidFill>
            <a:srgbClr val="00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7635960" y="3129120"/>
            <a:ext cx="136440" cy="136440"/>
          </a:xfrm>
          <a:custGeom>
            <a:avLst/>
            <a:gdLst/>
            <a:ahLst/>
            <a:rect l="l" t="t" r="r" b="b"/>
            <a:pathLst>
              <a:path w="86" h="86">
                <a:moveTo>
                  <a:pt x="43" y="0"/>
                </a:moveTo>
                <a:lnTo>
                  <a:pt x="86" y="43"/>
                </a:lnTo>
                <a:lnTo>
                  <a:pt x="43" y="86"/>
                </a:lnTo>
                <a:lnTo>
                  <a:pt x="0" y="43"/>
                </a:lnTo>
                <a:lnTo>
                  <a:pt x="43" y="0"/>
                </a:lnTo>
                <a:close/>
              </a:path>
            </a:pathLst>
          </a:custGeom>
          <a:solidFill>
            <a:srgbClr val="00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2440080" y="2082960"/>
            <a:ext cx="136440" cy="136440"/>
          </a:xfrm>
          <a:custGeom>
            <a:avLst/>
            <a:gdLst/>
            <a:ahLst/>
            <a:rect l="l" t="t" r="r" b="b"/>
            <a:pathLst>
              <a:path w="86" h="86">
                <a:moveTo>
                  <a:pt x="43" y="0"/>
                </a:moveTo>
                <a:lnTo>
                  <a:pt x="86" y="43"/>
                </a:lnTo>
                <a:lnTo>
                  <a:pt x="43" y="86"/>
                </a:lnTo>
                <a:lnTo>
                  <a:pt x="0" y="43"/>
                </a:lnTo>
                <a:lnTo>
                  <a:pt x="43" y="0"/>
                </a:lnTo>
                <a:close/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3473280" y="2855880"/>
            <a:ext cx="136800" cy="136440"/>
          </a:xfrm>
          <a:custGeom>
            <a:avLst/>
            <a:gdLst/>
            <a:ahLst/>
            <a:rect l="l" t="t" r="r" b="b"/>
            <a:pathLst>
              <a:path w="86" h="86">
                <a:moveTo>
                  <a:pt x="43" y="0"/>
                </a:moveTo>
                <a:lnTo>
                  <a:pt x="86" y="43"/>
                </a:lnTo>
                <a:lnTo>
                  <a:pt x="43" y="86"/>
                </a:lnTo>
                <a:lnTo>
                  <a:pt x="0" y="43"/>
                </a:lnTo>
                <a:lnTo>
                  <a:pt x="43" y="0"/>
                </a:lnTo>
                <a:close/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4508640" y="3776760"/>
            <a:ext cx="136440" cy="136440"/>
          </a:xfrm>
          <a:custGeom>
            <a:avLst/>
            <a:gdLst/>
            <a:ahLst/>
            <a:rect l="l" t="t" r="r" b="b"/>
            <a:pathLst>
              <a:path w="86" h="86">
                <a:moveTo>
                  <a:pt x="43" y="0"/>
                </a:moveTo>
                <a:lnTo>
                  <a:pt x="86" y="43"/>
                </a:lnTo>
                <a:lnTo>
                  <a:pt x="43" y="86"/>
                </a:lnTo>
                <a:lnTo>
                  <a:pt x="0" y="43"/>
                </a:lnTo>
                <a:lnTo>
                  <a:pt x="43" y="0"/>
                </a:lnTo>
                <a:close/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543640" y="3787920"/>
            <a:ext cx="136440" cy="136440"/>
          </a:xfrm>
          <a:custGeom>
            <a:avLst/>
            <a:gdLst/>
            <a:ahLst/>
            <a:rect l="l" t="t" r="r" b="b"/>
            <a:pathLst>
              <a:path w="86" h="86">
                <a:moveTo>
                  <a:pt x="43" y="0"/>
                </a:moveTo>
                <a:lnTo>
                  <a:pt x="86" y="43"/>
                </a:lnTo>
                <a:lnTo>
                  <a:pt x="43" y="86"/>
                </a:lnTo>
                <a:lnTo>
                  <a:pt x="0" y="43"/>
                </a:lnTo>
                <a:lnTo>
                  <a:pt x="43" y="0"/>
                </a:lnTo>
                <a:close/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6578640" y="3776760"/>
            <a:ext cx="136440" cy="136440"/>
          </a:xfrm>
          <a:custGeom>
            <a:avLst/>
            <a:gdLst/>
            <a:ahLst/>
            <a:rect l="l" t="t" r="r" b="b"/>
            <a:pathLst>
              <a:path w="86" h="86">
                <a:moveTo>
                  <a:pt x="43" y="0"/>
                </a:moveTo>
                <a:lnTo>
                  <a:pt x="86" y="43"/>
                </a:lnTo>
                <a:lnTo>
                  <a:pt x="43" y="86"/>
                </a:lnTo>
                <a:lnTo>
                  <a:pt x="0" y="43"/>
                </a:lnTo>
                <a:lnTo>
                  <a:pt x="43" y="0"/>
                </a:lnTo>
                <a:close/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3" name=""/>
          <p:cNvSpPr/>
          <p:nvPr/>
        </p:nvSpPr>
        <p:spPr>
          <a:xfrm>
            <a:off x="7613640" y="3106800"/>
            <a:ext cx="136440" cy="135000"/>
          </a:xfrm>
          <a:custGeom>
            <a:avLst/>
            <a:gdLst/>
            <a:ahLst/>
            <a:rect l="l" t="t" r="r" b="b"/>
            <a:pathLst>
              <a:path w="86" h="85">
                <a:moveTo>
                  <a:pt x="43" y="0"/>
                </a:moveTo>
                <a:lnTo>
                  <a:pt x="86" y="43"/>
                </a:lnTo>
                <a:lnTo>
                  <a:pt x="43" y="85"/>
                </a:lnTo>
                <a:lnTo>
                  <a:pt x="0" y="43"/>
                </a:lnTo>
                <a:lnTo>
                  <a:pt x="43" y="0"/>
                </a:lnTo>
                <a:close/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>
            <a:off x="2305800" y="27306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80"/>
                </a:solidFill>
                <a:latin typeface="Arial"/>
              </a:rPr>
              <a:t>2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5" name=""/>
          <p:cNvSpPr/>
          <p:nvPr/>
        </p:nvSpPr>
        <p:spPr>
          <a:xfrm>
            <a:off x="3341160" y="20829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80"/>
                </a:solidFill>
                <a:latin typeface="Arial"/>
              </a:rPr>
              <a:t>2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6" name=""/>
          <p:cNvSpPr/>
          <p:nvPr/>
        </p:nvSpPr>
        <p:spPr>
          <a:xfrm>
            <a:off x="4411800" y="3743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8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5422320" y="35956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8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8" name=""/>
          <p:cNvSpPr/>
          <p:nvPr/>
        </p:nvSpPr>
        <p:spPr>
          <a:xfrm>
            <a:off x="6457320" y="35496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80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7492320" y="27417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80"/>
                </a:solidFill>
                <a:latin typeface="Arial"/>
              </a:rPr>
              <a:t>2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0" name=""/>
          <p:cNvSpPr/>
          <p:nvPr/>
        </p:nvSpPr>
        <p:spPr>
          <a:xfrm>
            <a:off x="3636360" y="3139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80"/>
                </a:solidFill>
                <a:latin typeface="Arial"/>
              </a:rPr>
              <a:t>1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1" name=""/>
          <p:cNvSpPr/>
          <p:nvPr/>
        </p:nvSpPr>
        <p:spPr>
          <a:xfrm>
            <a:off x="4682520" y="35384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80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2" name=""/>
          <p:cNvSpPr/>
          <p:nvPr/>
        </p:nvSpPr>
        <p:spPr>
          <a:xfrm>
            <a:off x="5753160" y="3662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8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6788160" y="366228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80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7787520" y="30830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80"/>
                </a:solidFill>
                <a:latin typeface="Arial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2602800" y="13431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80"/>
                </a:solidFill>
                <a:latin typeface="Arial"/>
              </a:rPr>
              <a:t>3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6" name=""/>
          <p:cNvSpPr/>
          <p:nvPr/>
        </p:nvSpPr>
        <p:spPr>
          <a:xfrm>
            <a:off x="1821240" y="45720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80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7" name=""/>
          <p:cNvSpPr/>
          <p:nvPr/>
        </p:nvSpPr>
        <p:spPr>
          <a:xfrm>
            <a:off x="1821240" y="416412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8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8" name=""/>
          <p:cNvSpPr/>
          <p:nvPr/>
        </p:nvSpPr>
        <p:spPr>
          <a:xfrm>
            <a:off x="1744560" y="375444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8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9" name=""/>
          <p:cNvSpPr/>
          <p:nvPr/>
        </p:nvSpPr>
        <p:spPr>
          <a:xfrm>
            <a:off x="1744560" y="33447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8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0" name=""/>
          <p:cNvSpPr/>
          <p:nvPr/>
        </p:nvSpPr>
        <p:spPr>
          <a:xfrm>
            <a:off x="1744560" y="293544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8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1" name=""/>
          <p:cNvSpPr/>
          <p:nvPr/>
        </p:nvSpPr>
        <p:spPr>
          <a:xfrm>
            <a:off x="1744560" y="25257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8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2" name=""/>
          <p:cNvSpPr/>
          <p:nvPr/>
        </p:nvSpPr>
        <p:spPr>
          <a:xfrm>
            <a:off x="1744560" y="211608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80"/>
                </a:solidFill>
                <a:latin typeface="Arial"/>
              </a:rPr>
              <a:t>3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1744560" y="17082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8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1744560" y="129852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80"/>
                </a:solidFill>
                <a:latin typeface="Arial"/>
              </a:rPr>
              <a:t>4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 rot="16200000">
            <a:off x="2241720" y="4920480"/>
            <a:ext cx="528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99"/>
                </a:solidFill>
                <a:latin typeface="Arial"/>
              </a:rPr>
              <a:t>Cabez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 rot="16200000">
            <a:off x="3263760" y="4942800"/>
            <a:ext cx="554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99"/>
                </a:solidFill>
                <a:latin typeface="Arial"/>
              </a:rPr>
              <a:t>Espald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 rot="16200000">
            <a:off x="4100040" y="5141880"/>
            <a:ext cx="951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99"/>
                </a:solidFill>
                <a:latin typeface="Arial"/>
              </a:rPr>
              <a:t>Articulacion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 rot="16200000">
            <a:off x="5351760" y="4926240"/>
            <a:ext cx="518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99"/>
                </a:solidFill>
                <a:latin typeface="Arial"/>
              </a:rPr>
              <a:t>Piern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 rot="16200000">
            <a:off x="6301440" y="5011200"/>
            <a:ext cx="689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99"/>
                </a:solidFill>
                <a:latin typeface="Arial"/>
              </a:rPr>
              <a:t>Estómag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 rot="16200000">
            <a:off x="7492320" y="4860720"/>
            <a:ext cx="374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99"/>
                </a:solidFill>
                <a:latin typeface="Arial"/>
              </a:rPr>
              <a:t>Otra</a:t>
            </a:r>
            <a:r>
              <a:rPr b="0" lang="es-ES" sz="1200" spc="-1" strike="noStrike">
                <a:solidFill>
                  <a:srgbClr val="00008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 rot="16200000">
            <a:off x="1430280" y="2876760"/>
            <a:ext cx="159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80"/>
                </a:solidFill>
                <a:latin typeface="Arial"/>
              </a:rPr>
              <a:t>%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62" name=""/>
          <p:cNvGrpSpPr/>
          <p:nvPr/>
        </p:nvGrpSpPr>
        <p:grpSpPr>
          <a:xfrm>
            <a:off x="5827680" y="2741760"/>
            <a:ext cx="79560" cy="80640"/>
            <a:chOff x="5827680" y="2741760"/>
            <a:chExt cx="79560" cy="80640"/>
          </a:xfrm>
        </p:grpSpPr>
        <p:sp>
          <p:nvSpPr>
            <p:cNvPr id="1363" name=""/>
            <p:cNvSpPr/>
            <p:nvPr/>
          </p:nvSpPr>
          <p:spPr>
            <a:xfrm>
              <a:off x="5827680" y="2741760"/>
              <a:ext cx="79560" cy="12600"/>
            </a:xfrm>
            <a:prstGeom prst="rect">
              <a:avLst/>
            </a:prstGeom>
            <a:solidFill>
              <a:srgbClr val="366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827680" y="2754360"/>
              <a:ext cx="79560" cy="11160"/>
            </a:xfrm>
            <a:prstGeom prst="rect">
              <a:avLst/>
            </a:prstGeom>
            <a:solidFill>
              <a:srgbClr val="447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827680" y="2765520"/>
              <a:ext cx="79560" cy="11160"/>
            </a:xfrm>
            <a:prstGeom prst="rect">
              <a:avLst/>
            </a:prstGeom>
            <a:solidFill>
              <a:srgbClr val="597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827680" y="2776680"/>
              <a:ext cx="79560" cy="10800"/>
            </a:xfrm>
            <a:prstGeom prst="rect">
              <a:avLst/>
            </a:prstGeom>
            <a:solidFill>
              <a:srgbClr val="6f8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827680" y="2787480"/>
              <a:ext cx="79560" cy="11160"/>
            </a:xfrm>
            <a:prstGeom prst="rect">
              <a:avLst/>
            </a:prstGeom>
            <a:solidFill>
              <a:srgbClr val="819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827680" y="2798640"/>
              <a:ext cx="79560" cy="11160"/>
            </a:xfrm>
            <a:prstGeom prst="rect">
              <a:avLst/>
            </a:prstGeom>
            <a:solidFill>
              <a:srgbClr val="8da8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827680" y="2809800"/>
              <a:ext cx="79560" cy="12600"/>
            </a:xfrm>
            <a:prstGeom prst="rect">
              <a:avLst/>
            </a:prstGeom>
            <a:solidFill>
              <a:srgbClr val="95a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0" name=""/>
          <p:cNvSpPr/>
          <p:nvPr/>
        </p:nvSpPr>
        <p:spPr>
          <a:xfrm>
            <a:off x="5827680" y="2741760"/>
            <a:ext cx="79560" cy="806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840" bIns="338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1" name=""/>
          <p:cNvSpPr/>
          <p:nvPr/>
        </p:nvSpPr>
        <p:spPr>
          <a:xfrm>
            <a:off x="5978880" y="2685960"/>
            <a:ext cx="61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80"/>
                </a:solidFill>
                <a:latin typeface="Arial"/>
              </a:rPr>
              <a:t>Homb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72" name=""/>
          <p:cNvGrpSpPr/>
          <p:nvPr/>
        </p:nvGrpSpPr>
        <p:grpSpPr>
          <a:xfrm>
            <a:off x="5827680" y="2981160"/>
            <a:ext cx="79560" cy="79560"/>
            <a:chOff x="5827680" y="2981160"/>
            <a:chExt cx="79560" cy="79560"/>
          </a:xfrm>
        </p:grpSpPr>
        <p:sp>
          <p:nvSpPr>
            <p:cNvPr id="1373" name=""/>
            <p:cNvSpPr/>
            <p:nvPr/>
          </p:nvSpPr>
          <p:spPr>
            <a:xfrm>
              <a:off x="5827680" y="2981160"/>
              <a:ext cx="79560" cy="4464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827680" y="3025800"/>
              <a:ext cx="79560" cy="34920"/>
            </a:xfrm>
            <a:prstGeom prst="rect">
              <a:avLst/>
            </a:prstGeom>
            <a:solidFill>
              <a:srgbClr val="ff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5" name=""/>
          <p:cNvSpPr/>
          <p:nvPr/>
        </p:nvSpPr>
        <p:spPr>
          <a:xfrm>
            <a:off x="5827680" y="2981160"/>
            <a:ext cx="79560" cy="795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5977440" y="2924280"/>
            <a:ext cx="543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80"/>
                </a:solidFill>
                <a:latin typeface="Arial"/>
              </a:rPr>
              <a:t>Mujer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5827680" y="3219480"/>
            <a:ext cx="92160" cy="90360"/>
          </a:xfrm>
          <a:custGeom>
            <a:avLst/>
            <a:gdLst/>
            <a:ahLst/>
            <a:rect l="l" t="t" r="r" b="b"/>
            <a:pathLst>
              <a:path w="58" h="57">
                <a:moveTo>
                  <a:pt x="29" y="0"/>
                </a:moveTo>
                <a:lnTo>
                  <a:pt x="58" y="29"/>
                </a:lnTo>
                <a:lnTo>
                  <a:pt x="29" y="57"/>
                </a:lnTo>
                <a:lnTo>
                  <a:pt x="0" y="29"/>
                </a:lnTo>
                <a:lnTo>
                  <a:pt x="29" y="0"/>
                </a:lnTo>
                <a:close/>
              </a:path>
            </a:pathLst>
          </a:custGeom>
          <a:solidFill>
            <a:srgbClr val="ff0000"/>
          </a:solidFill>
          <a:ln w="11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5981760" y="3162240"/>
            <a:ext cx="340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80"/>
                </a:solidFill>
                <a:latin typeface="Arial"/>
              </a:rPr>
              <a:t>Tot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1620720" y="5846760"/>
            <a:ext cx="6492960" cy="533520"/>
          </a:xfrm>
          <a:prstGeom prst="rect">
            <a:avLst/>
          </a:prstGeom>
          <a:noFill/>
          <a:ln w="11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1671480" y="5869080"/>
            <a:ext cx="6291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99"/>
                </a:solidFill>
                <a:latin typeface="Arial"/>
              </a:rPr>
              <a:t>El 61% de las personas entrevistadas  (64% de las mujeres y el 56% de los hombres)</a:t>
            </a:r>
            <a:r>
              <a:rPr b="0" lang="es-ES" sz="1300" spc="-1" strike="noStrike">
                <a:solidFill>
                  <a:srgbClr val="000080"/>
                </a:solidFill>
                <a:latin typeface="Arial"/>
              </a:rPr>
              <a:t>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1671480" y="6084720"/>
            <a:ext cx="5304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99"/>
                </a:solidFill>
                <a:latin typeface="Arial"/>
              </a:rPr>
              <a:t>dice haber tenido algún dolor permanente o frecuente en el último año.</a:t>
            </a:r>
            <a:r>
              <a:rPr b="0" lang="es-ES" sz="1300" spc="-1" strike="noStrike">
                <a:solidFill>
                  <a:srgbClr val="000080"/>
                </a:solidFill>
                <a:latin typeface="Arial"/>
              </a:rPr>
              <a:t>   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/>
          </p:nvPr>
        </p:nvSpPr>
        <p:spPr>
          <a:xfrm>
            <a:off x="228240" y="304920"/>
            <a:ext cx="75438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 type="title"/>
          </p:nvPr>
        </p:nvSpPr>
        <p:spPr>
          <a:xfrm>
            <a:off x="1676160" y="244440"/>
            <a:ext cx="7010280" cy="126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cc00"/>
                </a:solidFill>
                <a:latin typeface="Arial Black"/>
              </a:rPr>
              <a:t>Dolor permanente según localización del dolor por grupo de edad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4" name=""/>
          <p:cNvSpPr/>
          <p:nvPr/>
        </p:nvSpPr>
        <p:spPr>
          <a:xfrm>
            <a:off x="2244600" y="1406520"/>
            <a:ext cx="4867560" cy="344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2727360" y="1406520"/>
            <a:ext cx="1440" cy="3443400"/>
          </a:xfrm>
          <a:prstGeom prst="line">
            <a:avLst/>
          </a:prstGeom>
          <a:ln w="0">
            <a:solidFill>
              <a:srgbClr val="ffcc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3220920" y="1406520"/>
            <a:ext cx="1800" cy="3443400"/>
          </a:xfrm>
          <a:prstGeom prst="line">
            <a:avLst/>
          </a:prstGeom>
          <a:ln w="0">
            <a:solidFill>
              <a:srgbClr val="ffcc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3701880" y="1406520"/>
            <a:ext cx="1800" cy="3443400"/>
          </a:xfrm>
          <a:prstGeom prst="line">
            <a:avLst/>
          </a:prstGeom>
          <a:ln w="0">
            <a:solidFill>
              <a:srgbClr val="ffcc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4195800" y="1406520"/>
            <a:ext cx="1440" cy="3443400"/>
          </a:xfrm>
          <a:prstGeom prst="line">
            <a:avLst/>
          </a:prstGeom>
          <a:ln w="0">
            <a:solidFill>
              <a:srgbClr val="ffcc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4678200" y="1406520"/>
            <a:ext cx="1800" cy="3443400"/>
          </a:xfrm>
          <a:prstGeom prst="line">
            <a:avLst/>
          </a:prstGeom>
          <a:ln w="0">
            <a:solidFill>
              <a:srgbClr val="ffcc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5160960" y="1406520"/>
            <a:ext cx="1440" cy="3443400"/>
          </a:xfrm>
          <a:prstGeom prst="line">
            <a:avLst/>
          </a:prstGeom>
          <a:ln w="0">
            <a:solidFill>
              <a:srgbClr val="ffcc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5654520" y="1406520"/>
            <a:ext cx="1800" cy="3443400"/>
          </a:xfrm>
          <a:prstGeom prst="line">
            <a:avLst/>
          </a:prstGeom>
          <a:ln w="0">
            <a:solidFill>
              <a:srgbClr val="ffcc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6135840" y="1406520"/>
            <a:ext cx="1440" cy="3443400"/>
          </a:xfrm>
          <a:prstGeom prst="line">
            <a:avLst/>
          </a:prstGeom>
          <a:ln w="0">
            <a:solidFill>
              <a:srgbClr val="ffcc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6629400" y="1406520"/>
            <a:ext cx="1440" cy="3443400"/>
          </a:xfrm>
          <a:prstGeom prst="line">
            <a:avLst/>
          </a:prstGeom>
          <a:ln w="0">
            <a:solidFill>
              <a:srgbClr val="ffcc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7112160" y="1406520"/>
            <a:ext cx="1440" cy="3443400"/>
          </a:xfrm>
          <a:prstGeom prst="line">
            <a:avLst/>
          </a:prstGeom>
          <a:ln w="0">
            <a:solidFill>
              <a:srgbClr val="ffcc0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2244600" y="4321080"/>
            <a:ext cx="1549440" cy="36828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2244600" y="3633840"/>
            <a:ext cx="1711440" cy="36684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2244600" y="2944800"/>
            <a:ext cx="1378080" cy="36684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2244600" y="2255760"/>
            <a:ext cx="965160" cy="36684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2244600" y="1566720"/>
            <a:ext cx="700200" cy="36828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3794040" y="4321080"/>
            <a:ext cx="596880" cy="368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3956040" y="3633840"/>
            <a:ext cx="1112760" cy="3668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3622680" y="2944800"/>
            <a:ext cx="1044720" cy="3668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3209760" y="2255760"/>
            <a:ext cx="963720" cy="36684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2944800" y="1566720"/>
            <a:ext cx="1171440" cy="3682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4390920" y="4321080"/>
            <a:ext cx="48276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5068800" y="3633840"/>
            <a:ext cx="217440" cy="366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4667400" y="2944800"/>
            <a:ext cx="688680" cy="366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4173480" y="2255760"/>
            <a:ext cx="1090800" cy="3668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4116240" y="1566720"/>
            <a:ext cx="84960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4873680" y="4321080"/>
            <a:ext cx="39060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5286240" y="3633840"/>
            <a:ext cx="287640" cy="366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5356080" y="2944800"/>
            <a:ext cx="596880" cy="366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5264280" y="2255760"/>
            <a:ext cx="803160" cy="3668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4965840" y="1566720"/>
            <a:ext cx="1296720" cy="368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5264280" y="4321080"/>
            <a:ext cx="676080" cy="3682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5573880" y="3633840"/>
            <a:ext cx="574560" cy="3668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5952960" y="2944800"/>
            <a:ext cx="331920" cy="3668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6067440" y="2255760"/>
            <a:ext cx="493560" cy="3668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6262560" y="1566720"/>
            <a:ext cx="195480" cy="36828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5940360" y="4321080"/>
            <a:ext cx="1171800" cy="3682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6148440" y="3633840"/>
            <a:ext cx="963720" cy="3668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6284880" y="2944800"/>
            <a:ext cx="827280" cy="3668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6561000" y="2255760"/>
            <a:ext cx="551160" cy="3668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6458040" y="1566720"/>
            <a:ext cx="654120" cy="36828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2244600" y="4849920"/>
            <a:ext cx="48675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 flipV="1">
            <a:off x="2244600" y="484956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 flipV="1">
            <a:off x="2727360" y="484956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 flipV="1">
            <a:off x="3220920" y="484956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 flipV="1">
            <a:off x="3701880" y="484956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 flipV="1">
            <a:off x="4195800" y="484956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 flipV="1">
            <a:off x="4678200" y="484956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 flipV="1">
            <a:off x="5160960" y="484956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 flipV="1">
            <a:off x="5654520" y="4849560"/>
            <a:ext cx="180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 flipV="1">
            <a:off x="6135840" y="484956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 flipV="1">
            <a:off x="6629400" y="484956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 flipV="1">
            <a:off x="7112160" y="4849560"/>
            <a:ext cx="1440" cy="349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2244600" y="1406520"/>
            <a:ext cx="1800" cy="34434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2209680" y="4849920"/>
            <a:ext cx="34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2209680" y="4160880"/>
            <a:ext cx="34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2209680" y="3471840"/>
            <a:ext cx="34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2209680" y="2784600"/>
            <a:ext cx="34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2209680" y="2095560"/>
            <a:ext cx="34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2209680" y="1406520"/>
            <a:ext cx="34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2971800" y="4424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3052800" y="3736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2892600" y="30481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2684520" y="2359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2548080" y="16700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4051440" y="4424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4464360" y="3736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4097520" y="30481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3649680" y="2359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3489480" y="16700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4591080" y="4424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5165280" y="37368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4969080" y="30481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4670640" y="2359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4499280" y="16700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5061960" y="44244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5417640" y="373680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5612040" y="30481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5624640" y="2359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3" name=""/>
          <p:cNvSpPr/>
          <p:nvPr/>
        </p:nvSpPr>
        <p:spPr>
          <a:xfrm>
            <a:off x="5565960" y="16700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5554800" y="4424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5818320" y="3736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6266160" y="2359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6485040" y="44244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6588360" y="3736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6656400" y="30481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>
            <a:off x="6794640" y="2359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>
            <a:off x="6737400" y="167004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6106680" y="304812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6347880" y="1670040"/>
            <a:ext cx="70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2181600" y="495288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2628000" y="495288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3121920" y="495288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3604320" y="495288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30%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4098240" y="495288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4580640" y="495288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50%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5061600" y="495288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60%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5555520" y="495288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70%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>
            <a:off x="6037920" y="495288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80%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3" name=""/>
          <p:cNvSpPr/>
          <p:nvPr/>
        </p:nvSpPr>
        <p:spPr>
          <a:xfrm>
            <a:off x="6531840" y="495288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6979320" y="495288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00%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1455480" y="4424400"/>
            <a:ext cx="730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15 a 19 año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>
            <a:off x="1455480" y="3736800"/>
            <a:ext cx="730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20 a 44 año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7" name=""/>
          <p:cNvSpPr/>
          <p:nvPr/>
        </p:nvSpPr>
        <p:spPr>
          <a:xfrm>
            <a:off x="1455480" y="3048120"/>
            <a:ext cx="730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45 a 64 año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8" name=""/>
          <p:cNvSpPr/>
          <p:nvPr/>
        </p:nvSpPr>
        <p:spPr>
          <a:xfrm>
            <a:off x="1425600" y="2359080"/>
            <a:ext cx="88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99"/>
                </a:solidFill>
                <a:latin typeface="Arial"/>
              </a:rPr>
              <a:t>65 a 74 añ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9" name=""/>
          <p:cNvSpPr/>
          <p:nvPr/>
        </p:nvSpPr>
        <p:spPr>
          <a:xfrm>
            <a:off x="1334880" y="1670040"/>
            <a:ext cx="995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99"/>
                </a:solidFill>
                <a:latin typeface="Arial"/>
              </a:rPr>
              <a:t>75 y más año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0" name=""/>
          <p:cNvSpPr/>
          <p:nvPr/>
        </p:nvSpPr>
        <p:spPr>
          <a:xfrm>
            <a:off x="7203960" y="2874960"/>
            <a:ext cx="987480" cy="130968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>
            <a:off x="7250040" y="2955960"/>
            <a:ext cx="79560" cy="8100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>
            <a:off x="7392960" y="2909880"/>
            <a:ext cx="43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abez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3" name=""/>
          <p:cNvSpPr/>
          <p:nvPr/>
        </p:nvSpPr>
        <p:spPr>
          <a:xfrm>
            <a:off x="7250040" y="3173400"/>
            <a:ext cx="79560" cy="8100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4" name=""/>
          <p:cNvSpPr/>
          <p:nvPr/>
        </p:nvSpPr>
        <p:spPr>
          <a:xfrm>
            <a:off x="7394040" y="3129120"/>
            <a:ext cx="456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spalda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5" name=""/>
          <p:cNvSpPr/>
          <p:nvPr/>
        </p:nvSpPr>
        <p:spPr>
          <a:xfrm>
            <a:off x="7250040" y="3392640"/>
            <a:ext cx="79560" cy="79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7395480" y="3346560"/>
            <a:ext cx="786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Articulacione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7250040" y="3610080"/>
            <a:ext cx="79560" cy="81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7391160" y="3564000"/>
            <a:ext cx="429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iernas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7250040" y="3828960"/>
            <a:ext cx="79560" cy="795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7395840" y="3782880"/>
            <a:ext cx="56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Estómago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1" name=""/>
          <p:cNvSpPr/>
          <p:nvPr/>
        </p:nvSpPr>
        <p:spPr>
          <a:xfrm>
            <a:off x="7250040" y="4046400"/>
            <a:ext cx="79560" cy="8100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2" name=""/>
          <p:cNvSpPr/>
          <p:nvPr/>
        </p:nvSpPr>
        <p:spPr>
          <a:xfrm>
            <a:off x="7389720" y="4000680"/>
            <a:ext cx="247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Otro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3" name=""/>
          <p:cNvSpPr/>
          <p:nvPr/>
        </p:nvSpPr>
        <p:spPr>
          <a:xfrm>
            <a:off x="1235160" y="5435640"/>
            <a:ext cx="6989760" cy="825480"/>
          </a:xfrm>
          <a:prstGeom prst="rect">
            <a:avLst/>
          </a:prstGeom>
          <a:noFill/>
          <a:ln w="111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4" name=""/>
          <p:cNvSpPr/>
          <p:nvPr/>
        </p:nvSpPr>
        <p:spPr>
          <a:xfrm>
            <a:off x="1293120" y="5446800"/>
            <a:ext cx="102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</a:rPr>
              <a:t>El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5" name=""/>
          <p:cNvSpPr/>
          <p:nvPr/>
        </p:nvSpPr>
        <p:spPr>
          <a:xfrm>
            <a:off x="1438200" y="5446800"/>
            <a:ext cx="294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</a:rPr>
              <a:t>grad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1749960" y="5446800"/>
            <a:ext cx="128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</a:rPr>
              <a:t>e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1902240" y="5446800"/>
            <a:ext cx="192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</a:rPr>
              <a:t>qu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2118960" y="5446800"/>
            <a:ext cx="90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</a:rPr>
              <a:t>el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9" name=""/>
          <p:cNvSpPr/>
          <p:nvPr/>
        </p:nvSpPr>
        <p:spPr>
          <a:xfrm>
            <a:off x="2230560" y="5446800"/>
            <a:ext cx="256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</a:rPr>
              <a:t>dolo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0" name=""/>
          <p:cNvSpPr/>
          <p:nvPr/>
        </p:nvSpPr>
        <p:spPr>
          <a:xfrm>
            <a:off x="2508480" y="5446800"/>
            <a:ext cx="448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</a:rPr>
              <a:t>interfier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1" name=""/>
          <p:cNvSpPr/>
          <p:nvPr/>
        </p:nvSpPr>
        <p:spPr>
          <a:xfrm>
            <a:off x="2932560" y="5446800"/>
            <a:ext cx="128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</a:rPr>
              <a:t>e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2" name=""/>
          <p:cNvSpPr/>
          <p:nvPr/>
        </p:nvSpPr>
        <p:spPr>
          <a:xfrm>
            <a:off x="3094920" y="5446800"/>
            <a:ext cx="148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</a:rPr>
              <a:t>la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3263760" y="5446800"/>
            <a:ext cx="578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</a:rPr>
              <a:t>actividad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3850200" y="5446800"/>
            <a:ext cx="128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</a:rPr>
              <a:t>d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4001760" y="5446800"/>
            <a:ext cx="90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</a:rPr>
              <a:t>la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4104000" y="5446800"/>
            <a:ext cx="212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99"/>
                </a:solidFill>
                <a:latin typeface="Arial Narrow"/>
              </a:rPr>
              <a:t>vida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4366080" y="5446800"/>
            <a:ext cx="462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</a:rPr>
              <a:t>cotidiana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4829400" y="5446800"/>
            <a:ext cx="122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</a:rPr>
              <a:t>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4953240" y="5446800"/>
            <a:ext cx="320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99"/>
                </a:solidFill>
                <a:latin typeface="Arial Narrow"/>
              </a:rPr>
              <a:t>mayo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5331600" y="5446800"/>
            <a:ext cx="128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</a:rPr>
              <a:t>e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5482440" y="5446800"/>
            <a:ext cx="148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</a:rPr>
              <a:t>la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5660280" y="5446800"/>
            <a:ext cx="410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</a:rPr>
              <a:t>mujer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6078600" y="5446800"/>
            <a:ext cx="58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</a:rPr>
              <a:t>y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6193080" y="5446800"/>
            <a:ext cx="448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</a:rPr>
              <a:t>aumenta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6606000" y="5446800"/>
            <a:ext cx="186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99"/>
                </a:solidFill>
                <a:latin typeface="Arial Narrow"/>
              </a:rPr>
              <a:t>co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>
            <a:off x="6848280" y="5446800"/>
            <a:ext cx="90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</a:rPr>
              <a:t>la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>
            <a:off x="6961320" y="5446800"/>
            <a:ext cx="256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</a:rPr>
              <a:t>edad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7236360" y="5446800"/>
            <a:ext cx="128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</a:rPr>
              <a:t>e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>
            <a:off x="7386120" y="5446800"/>
            <a:ext cx="346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</a:rPr>
              <a:t>ambo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0" name=""/>
          <p:cNvSpPr/>
          <p:nvPr/>
        </p:nvSpPr>
        <p:spPr>
          <a:xfrm>
            <a:off x="7729200" y="5446800"/>
            <a:ext cx="334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99"/>
                </a:solidFill>
                <a:latin typeface="Arial Narrow"/>
              </a:rPr>
              <a:t>sexos</a:t>
            </a:r>
            <a:r>
              <a:rPr b="0" lang="es-ES" sz="11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1" name=""/>
          <p:cNvSpPr/>
          <p:nvPr/>
        </p:nvSpPr>
        <p:spPr>
          <a:xfrm>
            <a:off x="8122320" y="5446800"/>
            <a:ext cx="102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</a:rPr>
              <a:t>El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2" name=""/>
          <p:cNvSpPr/>
          <p:nvPr/>
        </p:nvSpPr>
        <p:spPr>
          <a:xfrm>
            <a:off x="1269000" y="5653080"/>
            <a:ext cx="230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99"/>
                </a:solidFill>
                <a:latin typeface="Arial Narrow"/>
              </a:rPr>
              <a:t>32%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3" name=""/>
          <p:cNvSpPr/>
          <p:nvPr/>
        </p:nvSpPr>
        <p:spPr>
          <a:xfrm>
            <a:off x="1577160" y="5653080"/>
            <a:ext cx="128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</a:rPr>
              <a:t>d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4" name=""/>
          <p:cNvSpPr/>
          <p:nvPr/>
        </p:nvSpPr>
        <p:spPr>
          <a:xfrm>
            <a:off x="1740960" y="5653080"/>
            <a:ext cx="148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</a:rPr>
              <a:t>la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5" name=""/>
          <p:cNvSpPr/>
          <p:nvPr/>
        </p:nvSpPr>
        <p:spPr>
          <a:xfrm>
            <a:off x="1918440" y="5653080"/>
            <a:ext cx="410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</a:rPr>
              <a:t>mujer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6" name=""/>
          <p:cNvSpPr/>
          <p:nvPr/>
        </p:nvSpPr>
        <p:spPr>
          <a:xfrm>
            <a:off x="2347560" y="5653080"/>
            <a:ext cx="1864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</a:rPr>
              <a:t>co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7" name=""/>
          <p:cNvSpPr/>
          <p:nvPr/>
        </p:nvSpPr>
        <p:spPr>
          <a:xfrm>
            <a:off x="2530800" y="5653080"/>
            <a:ext cx="256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99"/>
                </a:solidFill>
                <a:latin typeface="Arial Narrow"/>
              </a:rPr>
              <a:t>dolo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8" name=""/>
          <p:cNvSpPr/>
          <p:nvPr/>
        </p:nvSpPr>
        <p:spPr>
          <a:xfrm>
            <a:off x="2826000" y="5653080"/>
            <a:ext cx="614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</a:rPr>
              <a:t>permanent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9" name=""/>
          <p:cNvSpPr/>
          <p:nvPr/>
        </p:nvSpPr>
        <p:spPr>
          <a:xfrm>
            <a:off x="3410280" y="5653080"/>
            <a:ext cx="526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</a:rPr>
              <a:t>manifiesta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0" name=""/>
          <p:cNvSpPr/>
          <p:nvPr/>
        </p:nvSpPr>
        <p:spPr>
          <a:xfrm>
            <a:off x="3934080" y="5653080"/>
            <a:ext cx="192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</a:rPr>
              <a:t>qu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>
            <a:off x="4138560" y="5653080"/>
            <a:ext cx="218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</a:rPr>
              <a:t>est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>
            <a:off x="4355640" y="5653080"/>
            <a:ext cx="448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99"/>
                </a:solidFill>
                <a:latin typeface="Arial Narrow"/>
              </a:rPr>
              <a:t>interfier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>
            <a:off x="4803480" y="5653080"/>
            <a:ext cx="346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</a:rPr>
              <a:t>much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4" name=""/>
          <p:cNvSpPr/>
          <p:nvPr/>
        </p:nvSpPr>
        <p:spPr>
          <a:xfrm>
            <a:off x="5171040" y="5653080"/>
            <a:ext cx="128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</a:rPr>
              <a:t>e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5" name=""/>
          <p:cNvSpPr/>
          <p:nvPr/>
        </p:nvSpPr>
        <p:spPr>
          <a:xfrm>
            <a:off x="5317560" y="5653080"/>
            <a:ext cx="180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</a:rPr>
              <a:t>su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6" name=""/>
          <p:cNvSpPr/>
          <p:nvPr/>
        </p:nvSpPr>
        <p:spPr>
          <a:xfrm>
            <a:off x="5538600" y="5653080"/>
            <a:ext cx="610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</a:rPr>
              <a:t>actividades,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6145920" y="5653080"/>
            <a:ext cx="128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</a:rPr>
              <a:t>e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6306480" y="5653080"/>
            <a:ext cx="404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</a:rPr>
              <a:t>cambio,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6720480" y="5653080"/>
            <a:ext cx="128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</a:rPr>
              <a:t>e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0" name=""/>
          <p:cNvSpPr/>
          <p:nvPr/>
        </p:nvSpPr>
        <p:spPr>
          <a:xfrm>
            <a:off x="6882840" y="5653080"/>
            <a:ext cx="148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</a:rPr>
              <a:t>lo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1" name=""/>
          <p:cNvSpPr/>
          <p:nvPr/>
        </p:nvSpPr>
        <p:spPr>
          <a:xfrm>
            <a:off x="7053480" y="5653080"/>
            <a:ext cx="448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</a:rPr>
              <a:t>hombre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2" name=""/>
          <p:cNvSpPr/>
          <p:nvPr/>
        </p:nvSpPr>
        <p:spPr>
          <a:xfrm>
            <a:off x="7513560" y="5653080"/>
            <a:ext cx="218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</a:rPr>
              <a:t>est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3" name=""/>
          <p:cNvSpPr/>
          <p:nvPr/>
        </p:nvSpPr>
        <p:spPr>
          <a:xfrm>
            <a:off x="7737840" y="5653080"/>
            <a:ext cx="5385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</a:rPr>
              <a:t>porcentaj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4" name=""/>
          <p:cNvSpPr/>
          <p:nvPr/>
        </p:nvSpPr>
        <p:spPr>
          <a:xfrm>
            <a:off x="1288800" y="5859360"/>
            <a:ext cx="398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</a:rPr>
              <a:t>alcanza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5" name=""/>
          <p:cNvSpPr/>
          <p:nvPr/>
        </p:nvSpPr>
        <p:spPr>
          <a:xfrm>
            <a:off x="1702440" y="5859360"/>
            <a:ext cx="212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</a:rPr>
              <a:t>sól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1935000" y="5859360"/>
            <a:ext cx="90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</a:rPr>
              <a:t>al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2036880" y="5859360"/>
            <a:ext cx="263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99"/>
                </a:solidFill>
                <a:latin typeface="Arial Narrow"/>
              </a:rPr>
              <a:t>25</a:t>
            </a:r>
            <a:r>
              <a:rPr b="0" lang="es-ES" sz="1100" spc="-1" strike="noStrike">
                <a:solidFill>
                  <a:srgbClr val="000000"/>
                </a:solidFill>
                <a:latin typeface="Arial Narrow"/>
              </a:rPr>
              <a:t>%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2372040" y="5859360"/>
            <a:ext cx="146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</a:rPr>
              <a:t>U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9" name=""/>
          <p:cNvSpPr/>
          <p:nvPr/>
        </p:nvSpPr>
        <p:spPr>
          <a:xfrm>
            <a:off x="2541960" y="5859360"/>
            <a:ext cx="231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99"/>
                </a:solidFill>
                <a:latin typeface="Arial Narrow"/>
              </a:rPr>
              <a:t>53</a:t>
            </a:r>
            <a:r>
              <a:rPr b="0" lang="es-ES" sz="1100" spc="-1" strike="noStrike">
                <a:solidFill>
                  <a:srgbClr val="000000"/>
                </a:solidFill>
                <a:latin typeface="Arial Narrow"/>
              </a:rPr>
              <a:t>%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2840760" y="5859360"/>
            <a:ext cx="128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</a:rPr>
              <a:t>d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3002760" y="5859360"/>
            <a:ext cx="148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</a:rPr>
              <a:t>la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3171600" y="5859360"/>
            <a:ext cx="4748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</a:rPr>
              <a:t>persona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3632760" y="5859360"/>
            <a:ext cx="262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99"/>
                </a:solidFill>
                <a:latin typeface="Arial Narrow"/>
              </a:rPr>
              <a:t>entr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3918600" y="5859360"/>
            <a:ext cx="128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</a:rPr>
              <a:t>15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4081320" y="5859360"/>
            <a:ext cx="58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</a:rPr>
              <a:t>y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4183560" y="5859360"/>
            <a:ext cx="128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</a:rPr>
              <a:t>19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4346640" y="5859360"/>
            <a:ext cx="2505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</a:rPr>
              <a:t>año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4609080" y="5859360"/>
            <a:ext cx="3207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</a:rPr>
              <a:t>afirma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>
            <a:off x="4943880" y="5859360"/>
            <a:ext cx="192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</a:rPr>
              <a:t>qu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5149800" y="5859360"/>
            <a:ext cx="90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</a:rPr>
              <a:t>el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5274000" y="5859360"/>
            <a:ext cx="2566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</a:rPr>
              <a:t>dolo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5484240" y="5867280"/>
            <a:ext cx="448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99"/>
                </a:solidFill>
                <a:latin typeface="Arial Narrow"/>
              </a:rPr>
              <a:t>interfier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5971680" y="5859360"/>
            <a:ext cx="880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</a:rPr>
              <a:t>"moderadament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6815880" y="5859360"/>
            <a:ext cx="648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</a:rPr>
              <a:t>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6913080" y="5859360"/>
            <a:ext cx="3877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</a:rPr>
              <a:t>mucho"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7317360" y="5859360"/>
            <a:ext cx="128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</a:rPr>
              <a:t>e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7" name=""/>
          <p:cNvSpPr/>
          <p:nvPr/>
        </p:nvSpPr>
        <p:spPr>
          <a:xfrm>
            <a:off x="1295280" y="5334120"/>
            <a:ext cx="7086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 Narrow"/>
              </a:rPr>
              <a:t>su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7659360" y="5859360"/>
            <a:ext cx="5785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99"/>
                </a:solidFill>
                <a:latin typeface="Arial Narrow"/>
              </a:rPr>
              <a:t>actividade</a:t>
            </a:r>
            <a:r>
              <a:rPr b="0" lang="es-ES" sz="1100" spc="-1" strike="noStrike">
                <a:solidFill>
                  <a:srgbClr val="000000"/>
                </a:solidFill>
                <a:latin typeface="Arial Narrow"/>
              </a:rPr>
              <a:t>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1249920" y="6066000"/>
            <a:ext cx="45486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99"/>
                </a:solidFill>
                <a:latin typeface="Arial Narrow"/>
              </a:rPr>
              <a:t>diarias, en cambio en las personas de  75 o más años este porcentaje aumenta a 75%.</a:t>
            </a:r>
            <a:r>
              <a:rPr b="0" lang="es-ES" sz="1100" spc="-1" strike="noStrike">
                <a:solidFill>
                  <a:srgbClr val="000000"/>
                </a:solidFill>
                <a:latin typeface="Arial Narrow"/>
              </a:rPr>
              <a:t>  .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/>
          </p:nvPr>
        </p:nvSpPr>
        <p:spPr>
          <a:xfrm>
            <a:off x="228240" y="228600"/>
            <a:ext cx="83818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 type="title"/>
          </p:nvPr>
        </p:nvSpPr>
        <p:spPr>
          <a:xfrm>
            <a:off x="1676160" y="190080"/>
            <a:ext cx="7010280" cy="137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00"/>
                </a:solidFill>
                <a:latin typeface="Arial Black"/>
              </a:rPr>
              <a:t>Composición de Episodios Agudos en las </a:t>
            </a:r>
            <a:r>
              <a:rPr b="0" lang="es-ES_tradnl" sz="2800" spc="-1" strike="noStrike">
                <a:solidFill>
                  <a:srgbClr val="ffcc00"/>
                </a:solidFill>
                <a:latin typeface="Arial Black"/>
              </a:rPr>
              <a:t>d</a:t>
            </a:r>
            <a:r>
              <a:rPr b="0" lang="es-ES" sz="2800" spc="-1" strike="noStrike">
                <a:solidFill>
                  <a:srgbClr val="ffcc00"/>
                </a:solidFill>
                <a:latin typeface="Arial Black"/>
              </a:rPr>
              <a:t>os </a:t>
            </a:r>
            <a:r>
              <a:rPr b="0" lang="es-ES_tradnl" sz="2800" spc="-1" strike="noStrike">
                <a:solidFill>
                  <a:srgbClr val="ffcc00"/>
                </a:solidFill>
                <a:latin typeface="Arial Black"/>
              </a:rPr>
              <a:t>s</a:t>
            </a:r>
            <a:r>
              <a:rPr b="0" lang="es-ES" sz="2800" spc="-1" strike="noStrike">
                <a:solidFill>
                  <a:srgbClr val="ffcc00"/>
                </a:solidFill>
                <a:latin typeface="Arial Black"/>
              </a:rPr>
              <a:t>emanas </a:t>
            </a:r>
            <a:r>
              <a:rPr b="0" lang="es-ES_tradnl" sz="2800" spc="-1" strike="noStrike">
                <a:solidFill>
                  <a:srgbClr val="ffcc00"/>
                </a:solidFill>
                <a:latin typeface="Arial Black"/>
              </a:rPr>
              <a:t>p</a:t>
            </a:r>
            <a:r>
              <a:rPr b="0" lang="es-ES" sz="2800" spc="-1" strike="noStrike">
                <a:solidFill>
                  <a:srgbClr val="ffcc00"/>
                </a:solidFill>
                <a:latin typeface="Arial Black"/>
              </a:rPr>
              <a:t>revias </a:t>
            </a:r>
            <a:r>
              <a:rPr b="0" lang="es-CL" sz="2800" spc="-1" strike="noStrike">
                <a:solidFill>
                  <a:srgbClr val="ffcc00"/>
                </a:solidFill>
                <a:latin typeface="Arial Black"/>
              </a:rPr>
              <a:t>según edad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2" name=""/>
          <p:cNvSpPr/>
          <p:nvPr/>
        </p:nvSpPr>
        <p:spPr>
          <a:xfrm>
            <a:off x="1798560" y="5551560"/>
            <a:ext cx="1165320" cy="41256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1798560" y="4968720"/>
            <a:ext cx="812880" cy="42228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1798560" y="4395960"/>
            <a:ext cx="631800" cy="41256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1798560" y="3824280"/>
            <a:ext cx="422280" cy="4111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1798560" y="3251160"/>
            <a:ext cx="230400" cy="4111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7" name=""/>
          <p:cNvSpPr/>
          <p:nvPr/>
        </p:nvSpPr>
        <p:spPr>
          <a:xfrm>
            <a:off x="1798560" y="2668680"/>
            <a:ext cx="211320" cy="42228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8" name=""/>
          <p:cNvSpPr/>
          <p:nvPr/>
        </p:nvSpPr>
        <p:spPr>
          <a:xfrm>
            <a:off x="1798560" y="2095560"/>
            <a:ext cx="130320" cy="41256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1798560" y="1523880"/>
            <a:ext cx="109440" cy="4111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2963880" y="5551560"/>
            <a:ext cx="220680" cy="412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2611440" y="4968720"/>
            <a:ext cx="222120" cy="422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2430360" y="4395960"/>
            <a:ext cx="473040" cy="412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2220840" y="3824280"/>
            <a:ext cx="852480" cy="411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2028960" y="3251160"/>
            <a:ext cx="1095120" cy="411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2009880" y="2668680"/>
            <a:ext cx="912600" cy="4222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1928880" y="2095560"/>
            <a:ext cx="944640" cy="412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1908000" y="1523880"/>
            <a:ext cx="824040" cy="411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3184560" y="5551560"/>
            <a:ext cx="2481120" cy="4125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2833560" y="4968720"/>
            <a:ext cx="2419560" cy="422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>
            <a:off x="2903400" y="4395960"/>
            <a:ext cx="2159280" cy="4125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1" name=""/>
          <p:cNvSpPr/>
          <p:nvPr/>
        </p:nvSpPr>
        <p:spPr>
          <a:xfrm>
            <a:off x="3073320" y="3824280"/>
            <a:ext cx="1447920" cy="4111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2" name=""/>
          <p:cNvSpPr/>
          <p:nvPr/>
        </p:nvSpPr>
        <p:spPr>
          <a:xfrm>
            <a:off x="3124080" y="3251160"/>
            <a:ext cx="803520" cy="4111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3" name=""/>
          <p:cNvSpPr/>
          <p:nvPr/>
        </p:nvSpPr>
        <p:spPr>
          <a:xfrm>
            <a:off x="2922480" y="2668680"/>
            <a:ext cx="714600" cy="422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2873520" y="2095560"/>
            <a:ext cx="691920" cy="4125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5" name=""/>
          <p:cNvSpPr/>
          <p:nvPr/>
        </p:nvSpPr>
        <p:spPr>
          <a:xfrm>
            <a:off x="2732040" y="1523880"/>
            <a:ext cx="693720" cy="4111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6" name=""/>
          <p:cNvSpPr/>
          <p:nvPr/>
        </p:nvSpPr>
        <p:spPr>
          <a:xfrm>
            <a:off x="5665680" y="5551560"/>
            <a:ext cx="220680" cy="412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7" name=""/>
          <p:cNvSpPr/>
          <p:nvPr/>
        </p:nvSpPr>
        <p:spPr>
          <a:xfrm>
            <a:off x="5253120" y="4968720"/>
            <a:ext cx="623880" cy="422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5062680" y="4395960"/>
            <a:ext cx="352440" cy="412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9" name=""/>
          <p:cNvSpPr/>
          <p:nvPr/>
        </p:nvSpPr>
        <p:spPr>
          <a:xfrm>
            <a:off x="4521240" y="3824280"/>
            <a:ext cx="431640" cy="411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3927600" y="3251160"/>
            <a:ext cx="361800" cy="411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1" name=""/>
          <p:cNvSpPr/>
          <p:nvPr/>
        </p:nvSpPr>
        <p:spPr>
          <a:xfrm>
            <a:off x="3637080" y="2668680"/>
            <a:ext cx="301680" cy="422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2" name=""/>
          <p:cNvSpPr/>
          <p:nvPr/>
        </p:nvSpPr>
        <p:spPr>
          <a:xfrm>
            <a:off x="3565440" y="2095560"/>
            <a:ext cx="373320" cy="4125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3" name=""/>
          <p:cNvSpPr/>
          <p:nvPr/>
        </p:nvSpPr>
        <p:spPr>
          <a:xfrm>
            <a:off x="3425760" y="1523880"/>
            <a:ext cx="441360" cy="4111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4" name=""/>
          <p:cNvSpPr/>
          <p:nvPr/>
        </p:nvSpPr>
        <p:spPr>
          <a:xfrm>
            <a:off x="5886360" y="5551560"/>
            <a:ext cx="90720" cy="412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5" name=""/>
          <p:cNvSpPr/>
          <p:nvPr/>
        </p:nvSpPr>
        <p:spPr>
          <a:xfrm>
            <a:off x="5877000" y="4968720"/>
            <a:ext cx="60120" cy="422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6" name=""/>
          <p:cNvSpPr/>
          <p:nvPr/>
        </p:nvSpPr>
        <p:spPr>
          <a:xfrm>
            <a:off x="5415120" y="4395960"/>
            <a:ext cx="390240" cy="412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7" name=""/>
          <p:cNvSpPr/>
          <p:nvPr/>
        </p:nvSpPr>
        <p:spPr>
          <a:xfrm>
            <a:off x="4952880" y="3824280"/>
            <a:ext cx="432000" cy="411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8" name=""/>
          <p:cNvSpPr/>
          <p:nvPr/>
        </p:nvSpPr>
        <p:spPr>
          <a:xfrm>
            <a:off x="4289400" y="3251160"/>
            <a:ext cx="311040" cy="411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9" name=""/>
          <p:cNvSpPr/>
          <p:nvPr/>
        </p:nvSpPr>
        <p:spPr>
          <a:xfrm>
            <a:off x="3938760" y="2668680"/>
            <a:ext cx="250560" cy="422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0" name=""/>
          <p:cNvSpPr/>
          <p:nvPr/>
        </p:nvSpPr>
        <p:spPr>
          <a:xfrm>
            <a:off x="3938760" y="2095560"/>
            <a:ext cx="190440" cy="4125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1" name=""/>
          <p:cNvSpPr/>
          <p:nvPr/>
        </p:nvSpPr>
        <p:spPr>
          <a:xfrm>
            <a:off x="3867120" y="1523880"/>
            <a:ext cx="141480" cy="41112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2" name=""/>
          <p:cNvSpPr/>
          <p:nvPr/>
        </p:nvSpPr>
        <p:spPr>
          <a:xfrm>
            <a:off x="5977080" y="5551560"/>
            <a:ext cx="9360" cy="412560"/>
          </a:xfrm>
          <a:prstGeom prst="rect">
            <a:avLst/>
          </a:prstGeom>
          <a:solidFill>
            <a:srgbClr val="ff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3" name=""/>
          <p:cNvSpPr/>
          <p:nvPr/>
        </p:nvSpPr>
        <p:spPr>
          <a:xfrm>
            <a:off x="5937120" y="4968720"/>
            <a:ext cx="19080" cy="422280"/>
          </a:xfrm>
          <a:prstGeom prst="rect">
            <a:avLst/>
          </a:prstGeom>
          <a:solidFill>
            <a:srgbClr val="ff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4" name=""/>
          <p:cNvSpPr/>
          <p:nvPr/>
        </p:nvSpPr>
        <p:spPr>
          <a:xfrm>
            <a:off x="5713560" y="4697280"/>
            <a:ext cx="10800" cy="412920"/>
          </a:xfrm>
          <a:prstGeom prst="rect">
            <a:avLst/>
          </a:prstGeom>
          <a:solidFill>
            <a:srgbClr val="ff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5" name=""/>
          <p:cNvSpPr/>
          <p:nvPr/>
        </p:nvSpPr>
        <p:spPr>
          <a:xfrm>
            <a:off x="5384880" y="3824280"/>
            <a:ext cx="79200" cy="411120"/>
          </a:xfrm>
          <a:prstGeom prst="rect">
            <a:avLst/>
          </a:prstGeom>
          <a:solidFill>
            <a:srgbClr val="ff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6" name=""/>
          <p:cNvSpPr/>
          <p:nvPr/>
        </p:nvSpPr>
        <p:spPr>
          <a:xfrm>
            <a:off x="4600440" y="3251160"/>
            <a:ext cx="171720" cy="411120"/>
          </a:xfrm>
          <a:prstGeom prst="rect">
            <a:avLst/>
          </a:prstGeom>
          <a:solidFill>
            <a:srgbClr val="ff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7" name=""/>
          <p:cNvSpPr/>
          <p:nvPr/>
        </p:nvSpPr>
        <p:spPr>
          <a:xfrm>
            <a:off x="4189320" y="2668680"/>
            <a:ext cx="139680" cy="422280"/>
          </a:xfrm>
          <a:prstGeom prst="rect">
            <a:avLst/>
          </a:prstGeom>
          <a:solidFill>
            <a:srgbClr val="ff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8" name=""/>
          <p:cNvSpPr/>
          <p:nvPr/>
        </p:nvSpPr>
        <p:spPr>
          <a:xfrm>
            <a:off x="4129200" y="2095560"/>
            <a:ext cx="60120" cy="412560"/>
          </a:xfrm>
          <a:prstGeom prst="rect">
            <a:avLst/>
          </a:prstGeom>
          <a:solidFill>
            <a:srgbClr val="ff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9" name=""/>
          <p:cNvSpPr/>
          <p:nvPr/>
        </p:nvSpPr>
        <p:spPr>
          <a:xfrm>
            <a:off x="4008600" y="1523880"/>
            <a:ext cx="29880" cy="411120"/>
          </a:xfrm>
          <a:prstGeom prst="rect">
            <a:avLst/>
          </a:prstGeom>
          <a:solidFill>
            <a:srgbClr val="ff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0" name=""/>
          <p:cNvSpPr/>
          <p:nvPr/>
        </p:nvSpPr>
        <p:spPr>
          <a:xfrm>
            <a:off x="5986440" y="5551560"/>
            <a:ext cx="11160" cy="4125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5956200" y="4968720"/>
            <a:ext cx="11160" cy="422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5816520" y="4395960"/>
            <a:ext cx="49320" cy="4125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5464080" y="3824280"/>
            <a:ext cx="241560" cy="4111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4772160" y="3251160"/>
            <a:ext cx="682560" cy="4111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4329000" y="2668680"/>
            <a:ext cx="1104840" cy="42228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4189320" y="2095560"/>
            <a:ext cx="1335240" cy="4125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4038480" y="1523880"/>
            <a:ext cx="1395360" cy="41112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5875200" y="5270400"/>
            <a:ext cx="9720" cy="422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5865840" y="4395960"/>
            <a:ext cx="20520" cy="412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5705640" y="3824280"/>
            <a:ext cx="141120" cy="411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>
            <a:off x="5454720" y="3251160"/>
            <a:ext cx="441360" cy="411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2" name=""/>
          <p:cNvSpPr/>
          <p:nvPr/>
        </p:nvSpPr>
        <p:spPr>
          <a:xfrm>
            <a:off x="5433840" y="2668680"/>
            <a:ext cx="533520" cy="422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3" name=""/>
          <p:cNvSpPr/>
          <p:nvPr/>
        </p:nvSpPr>
        <p:spPr>
          <a:xfrm>
            <a:off x="5524560" y="2095560"/>
            <a:ext cx="552240" cy="41256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4" name=""/>
          <p:cNvSpPr/>
          <p:nvPr/>
        </p:nvSpPr>
        <p:spPr>
          <a:xfrm>
            <a:off x="5433840" y="1523880"/>
            <a:ext cx="642960" cy="411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5" name=""/>
          <p:cNvSpPr/>
          <p:nvPr/>
        </p:nvSpPr>
        <p:spPr>
          <a:xfrm>
            <a:off x="5997600" y="5551560"/>
            <a:ext cx="19080" cy="41256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6" name=""/>
          <p:cNvSpPr/>
          <p:nvPr/>
        </p:nvSpPr>
        <p:spPr>
          <a:xfrm>
            <a:off x="5886360" y="4395960"/>
            <a:ext cx="30240" cy="41256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7" name=""/>
          <p:cNvSpPr/>
          <p:nvPr/>
        </p:nvSpPr>
        <p:spPr>
          <a:xfrm>
            <a:off x="5846760" y="3824280"/>
            <a:ext cx="19080" cy="4111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8" name=""/>
          <p:cNvSpPr/>
          <p:nvPr/>
        </p:nvSpPr>
        <p:spPr>
          <a:xfrm>
            <a:off x="5896080" y="3251160"/>
            <a:ext cx="60120" cy="4111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9" name=""/>
          <p:cNvSpPr/>
          <p:nvPr/>
        </p:nvSpPr>
        <p:spPr>
          <a:xfrm>
            <a:off x="5967360" y="2668680"/>
            <a:ext cx="130320" cy="4222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0" name=""/>
          <p:cNvSpPr/>
          <p:nvPr/>
        </p:nvSpPr>
        <p:spPr>
          <a:xfrm>
            <a:off x="6076800" y="2095560"/>
            <a:ext cx="141480" cy="41256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1" name=""/>
          <p:cNvSpPr/>
          <p:nvPr/>
        </p:nvSpPr>
        <p:spPr>
          <a:xfrm>
            <a:off x="6076800" y="1523880"/>
            <a:ext cx="120960" cy="4111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2" name=""/>
          <p:cNvSpPr/>
          <p:nvPr/>
        </p:nvSpPr>
        <p:spPr>
          <a:xfrm>
            <a:off x="6016680" y="5551560"/>
            <a:ext cx="20520" cy="4125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3" name=""/>
          <p:cNvSpPr/>
          <p:nvPr/>
        </p:nvSpPr>
        <p:spPr>
          <a:xfrm>
            <a:off x="5977080" y="4968720"/>
            <a:ext cx="9360" cy="422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4" name=""/>
          <p:cNvSpPr/>
          <p:nvPr/>
        </p:nvSpPr>
        <p:spPr>
          <a:xfrm>
            <a:off x="5916600" y="4395960"/>
            <a:ext cx="30240" cy="4125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5" name=""/>
          <p:cNvSpPr/>
          <p:nvPr/>
        </p:nvSpPr>
        <p:spPr>
          <a:xfrm>
            <a:off x="5865840" y="3824280"/>
            <a:ext cx="11160" cy="4111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6" name=""/>
          <p:cNvSpPr/>
          <p:nvPr/>
        </p:nvSpPr>
        <p:spPr>
          <a:xfrm>
            <a:off x="5956200" y="3251160"/>
            <a:ext cx="20880" cy="4111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7" name=""/>
          <p:cNvSpPr/>
          <p:nvPr/>
        </p:nvSpPr>
        <p:spPr>
          <a:xfrm>
            <a:off x="6097680" y="2668680"/>
            <a:ext cx="30240" cy="42228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8" name=""/>
          <p:cNvSpPr/>
          <p:nvPr/>
        </p:nvSpPr>
        <p:spPr>
          <a:xfrm>
            <a:off x="6218280" y="2095560"/>
            <a:ext cx="49320" cy="41256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9" name=""/>
          <p:cNvSpPr/>
          <p:nvPr/>
        </p:nvSpPr>
        <p:spPr>
          <a:xfrm>
            <a:off x="6197760" y="1523880"/>
            <a:ext cx="90360" cy="4111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0" name=""/>
          <p:cNvSpPr/>
          <p:nvPr/>
        </p:nvSpPr>
        <p:spPr>
          <a:xfrm>
            <a:off x="6037200" y="5551560"/>
            <a:ext cx="422280" cy="412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1" name=""/>
          <p:cNvSpPr/>
          <p:nvPr/>
        </p:nvSpPr>
        <p:spPr>
          <a:xfrm>
            <a:off x="5986440" y="4968720"/>
            <a:ext cx="492120" cy="422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2" name=""/>
          <p:cNvSpPr/>
          <p:nvPr/>
        </p:nvSpPr>
        <p:spPr>
          <a:xfrm>
            <a:off x="5946840" y="4395960"/>
            <a:ext cx="522360" cy="412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3" name=""/>
          <p:cNvSpPr/>
          <p:nvPr/>
        </p:nvSpPr>
        <p:spPr>
          <a:xfrm>
            <a:off x="5877000" y="3824280"/>
            <a:ext cx="552240" cy="41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4" name=""/>
          <p:cNvSpPr/>
          <p:nvPr/>
        </p:nvSpPr>
        <p:spPr>
          <a:xfrm>
            <a:off x="5977080" y="3251160"/>
            <a:ext cx="492120" cy="41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5" name=""/>
          <p:cNvSpPr/>
          <p:nvPr/>
        </p:nvSpPr>
        <p:spPr>
          <a:xfrm>
            <a:off x="6127920" y="2668680"/>
            <a:ext cx="331560" cy="422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>
            <a:off x="6267600" y="2095560"/>
            <a:ext cx="210960" cy="412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6288120" y="1523880"/>
            <a:ext cx="171360" cy="4111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6459480" y="5551560"/>
            <a:ext cx="69840" cy="412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6478560" y="4968720"/>
            <a:ext cx="50760" cy="422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6469200" y="4395960"/>
            <a:ext cx="60120" cy="412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6429240" y="3824280"/>
            <a:ext cx="100080" cy="411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6469200" y="3251160"/>
            <a:ext cx="60120" cy="411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6459480" y="2668680"/>
            <a:ext cx="69840" cy="422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6478560" y="2095560"/>
            <a:ext cx="50760" cy="4125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6459480" y="1523880"/>
            <a:ext cx="69840" cy="4111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1798560" y="6043680"/>
            <a:ext cx="473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 flipV="1">
            <a:off x="1798560" y="6043320"/>
            <a:ext cx="1800" cy="5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 flipV="1">
            <a:off x="2743200" y="6043320"/>
            <a:ext cx="1440" cy="5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 flipV="1">
            <a:off x="3686040" y="6043320"/>
            <a:ext cx="1800" cy="5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0" name=""/>
          <p:cNvSpPr/>
          <p:nvPr/>
        </p:nvSpPr>
        <p:spPr>
          <a:xfrm flipV="1">
            <a:off x="4640400" y="6043320"/>
            <a:ext cx="1440" cy="5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 flipV="1">
            <a:off x="5584680" y="6043320"/>
            <a:ext cx="1800" cy="5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 flipV="1">
            <a:off x="6529320" y="6043320"/>
            <a:ext cx="1800" cy="507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1798560" y="1442880"/>
            <a:ext cx="1800" cy="4600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1747800" y="604368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1747800" y="547200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1747800" y="488952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1747800" y="431640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>
            <a:off x="1747800" y="374328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1747800" y="317016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>
            <a:off x="1747800" y="2587680"/>
            <a:ext cx="50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>
            <a:off x="1747800" y="201600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1747800" y="1442880"/>
            <a:ext cx="5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3" name=""/>
          <p:cNvSpPr/>
          <p:nvPr/>
        </p:nvSpPr>
        <p:spPr>
          <a:xfrm>
            <a:off x="2278440" y="568152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24,6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4" name=""/>
          <p:cNvSpPr/>
          <p:nvPr/>
        </p:nvSpPr>
        <p:spPr>
          <a:xfrm>
            <a:off x="2099160" y="511020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17,1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5" name=""/>
          <p:cNvSpPr/>
          <p:nvPr/>
        </p:nvSpPr>
        <p:spPr>
          <a:xfrm>
            <a:off x="2008800" y="452772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13,3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6" name=""/>
          <p:cNvSpPr/>
          <p:nvPr/>
        </p:nvSpPr>
        <p:spPr>
          <a:xfrm>
            <a:off x="1937160" y="395460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8,9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7" name=""/>
          <p:cNvSpPr/>
          <p:nvPr/>
        </p:nvSpPr>
        <p:spPr>
          <a:xfrm>
            <a:off x="1837080" y="338148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4,9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8" name=""/>
          <p:cNvSpPr/>
          <p:nvPr/>
        </p:nvSpPr>
        <p:spPr>
          <a:xfrm>
            <a:off x="1827720" y="280980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4,4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9" name=""/>
          <p:cNvSpPr/>
          <p:nvPr/>
        </p:nvSpPr>
        <p:spPr>
          <a:xfrm>
            <a:off x="1786320" y="222732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2,7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0" name=""/>
          <p:cNvSpPr/>
          <p:nvPr/>
        </p:nvSpPr>
        <p:spPr>
          <a:xfrm>
            <a:off x="1776960" y="165420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2,3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1" name=""/>
          <p:cNvSpPr/>
          <p:nvPr/>
        </p:nvSpPr>
        <p:spPr>
          <a:xfrm>
            <a:off x="3002400" y="568152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4,8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2" name=""/>
          <p:cNvSpPr/>
          <p:nvPr/>
        </p:nvSpPr>
        <p:spPr>
          <a:xfrm>
            <a:off x="2651760" y="511020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4,7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3" name=""/>
          <p:cNvSpPr/>
          <p:nvPr/>
        </p:nvSpPr>
        <p:spPr>
          <a:xfrm>
            <a:off x="2561040" y="452772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10,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4" name=""/>
          <p:cNvSpPr/>
          <p:nvPr/>
        </p:nvSpPr>
        <p:spPr>
          <a:xfrm>
            <a:off x="2540520" y="395460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18,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5" name=""/>
          <p:cNvSpPr/>
          <p:nvPr/>
        </p:nvSpPr>
        <p:spPr>
          <a:xfrm>
            <a:off x="2470680" y="338148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23,1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6" name=""/>
          <p:cNvSpPr/>
          <p:nvPr/>
        </p:nvSpPr>
        <p:spPr>
          <a:xfrm>
            <a:off x="2359440" y="280980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19,4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7" name=""/>
          <p:cNvSpPr/>
          <p:nvPr/>
        </p:nvSpPr>
        <p:spPr>
          <a:xfrm>
            <a:off x="2299320" y="222732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20,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2219760" y="165420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17,5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>
            <a:off x="4318560" y="568152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52,3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>
            <a:off x="3937680" y="511020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51,2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3877200" y="452772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45,6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3696120" y="395460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30,6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3424680" y="338148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17,1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4" name=""/>
          <p:cNvSpPr/>
          <p:nvPr/>
        </p:nvSpPr>
        <p:spPr>
          <a:xfrm>
            <a:off x="3173760" y="280980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15,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5" name=""/>
          <p:cNvSpPr/>
          <p:nvPr/>
        </p:nvSpPr>
        <p:spPr>
          <a:xfrm>
            <a:off x="3113640" y="222732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14,7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6" name=""/>
          <p:cNvSpPr/>
          <p:nvPr/>
        </p:nvSpPr>
        <p:spPr>
          <a:xfrm>
            <a:off x="2972160" y="165420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14,6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7" name=""/>
          <p:cNvSpPr/>
          <p:nvPr/>
        </p:nvSpPr>
        <p:spPr>
          <a:xfrm>
            <a:off x="5704560" y="568152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4,9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8" name=""/>
          <p:cNvSpPr/>
          <p:nvPr/>
        </p:nvSpPr>
        <p:spPr>
          <a:xfrm>
            <a:off x="5463000" y="511020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13,1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9" name=""/>
          <p:cNvSpPr/>
          <p:nvPr/>
        </p:nvSpPr>
        <p:spPr>
          <a:xfrm>
            <a:off x="5161320" y="452772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7,6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0" name=""/>
          <p:cNvSpPr/>
          <p:nvPr/>
        </p:nvSpPr>
        <p:spPr>
          <a:xfrm>
            <a:off x="4659840" y="395460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9,2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1" name=""/>
          <p:cNvSpPr/>
          <p:nvPr/>
        </p:nvSpPr>
        <p:spPr>
          <a:xfrm>
            <a:off x="4037400" y="338148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7,7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2" name=""/>
          <p:cNvSpPr/>
          <p:nvPr/>
        </p:nvSpPr>
        <p:spPr>
          <a:xfrm>
            <a:off x="3715200" y="280980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6,4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3" name=""/>
          <p:cNvSpPr/>
          <p:nvPr/>
        </p:nvSpPr>
        <p:spPr>
          <a:xfrm>
            <a:off x="3675600" y="222732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7,9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3575520" y="165420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9,4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5534640" y="452772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8,1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5091480" y="395460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9,1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4369320" y="338148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6,5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3986640" y="280980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5,3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3956400" y="222732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3,9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3866040" y="165420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3,1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>
            <a:off x="5513760" y="395460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5,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5012280" y="338148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14,4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>
            <a:off x="4780440" y="280980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23,4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>
            <a:off x="4750200" y="222732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28,3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4629600" y="165420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29,4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6" name=""/>
          <p:cNvSpPr/>
          <p:nvPr/>
        </p:nvSpPr>
        <p:spPr>
          <a:xfrm>
            <a:off x="5604480" y="338148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9,3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7" name=""/>
          <p:cNvSpPr/>
          <p:nvPr/>
        </p:nvSpPr>
        <p:spPr>
          <a:xfrm>
            <a:off x="5594760" y="280980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11,1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8" name=""/>
          <p:cNvSpPr/>
          <p:nvPr/>
        </p:nvSpPr>
        <p:spPr>
          <a:xfrm>
            <a:off x="5694840" y="222732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11,8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9" name=""/>
          <p:cNvSpPr/>
          <p:nvPr/>
        </p:nvSpPr>
        <p:spPr>
          <a:xfrm>
            <a:off x="5655240" y="165420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13,6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0" name=""/>
          <p:cNvSpPr/>
          <p:nvPr/>
        </p:nvSpPr>
        <p:spPr>
          <a:xfrm>
            <a:off x="6177600" y="568152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8,9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6126840" y="511020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10,4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6105960" y="452772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11,1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6045840" y="395460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11,8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6117120" y="3381480"/>
            <a:ext cx="2246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10,3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6217200" y="280980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7,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6" name=""/>
          <p:cNvSpPr/>
          <p:nvPr/>
        </p:nvSpPr>
        <p:spPr>
          <a:xfrm>
            <a:off x="6296400" y="222732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4,5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7" name=""/>
          <p:cNvSpPr/>
          <p:nvPr/>
        </p:nvSpPr>
        <p:spPr>
          <a:xfrm>
            <a:off x="6296400" y="1654200"/>
            <a:ext cx="160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003366"/>
                </a:solidFill>
                <a:latin typeface="Arial"/>
              </a:rPr>
              <a:t>3,6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8" name=""/>
          <p:cNvSpPr/>
          <p:nvPr/>
        </p:nvSpPr>
        <p:spPr>
          <a:xfrm>
            <a:off x="1687680" y="6184800"/>
            <a:ext cx="2383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3366"/>
                </a:solidFill>
                <a:latin typeface="Arial"/>
              </a:rPr>
              <a:t>0%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9" name=""/>
          <p:cNvSpPr/>
          <p:nvPr/>
        </p:nvSpPr>
        <p:spPr>
          <a:xfrm>
            <a:off x="2581200" y="618480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3366"/>
                </a:solidFill>
                <a:latin typeface="Arial"/>
              </a:rPr>
              <a:t>20%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0" name=""/>
          <p:cNvSpPr/>
          <p:nvPr/>
        </p:nvSpPr>
        <p:spPr>
          <a:xfrm>
            <a:off x="3525840" y="618480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3366"/>
                </a:solidFill>
                <a:latin typeface="Arial"/>
              </a:rPr>
              <a:t>40%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1" name=""/>
          <p:cNvSpPr/>
          <p:nvPr/>
        </p:nvSpPr>
        <p:spPr>
          <a:xfrm>
            <a:off x="4479840" y="618480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3366"/>
                </a:solidFill>
                <a:latin typeface="Arial"/>
              </a:rPr>
              <a:t>60%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2" name=""/>
          <p:cNvSpPr/>
          <p:nvPr/>
        </p:nvSpPr>
        <p:spPr>
          <a:xfrm>
            <a:off x="5424480" y="6184800"/>
            <a:ext cx="3297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3366"/>
                </a:solidFill>
                <a:latin typeface="Arial"/>
              </a:rPr>
              <a:t>80%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3" name=""/>
          <p:cNvSpPr/>
          <p:nvPr/>
        </p:nvSpPr>
        <p:spPr>
          <a:xfrm>
            <a:off x="6328080" y="6184800"/>
            <a:ext cx="4212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3366"/>
                </a:solidFill>
                <a:latin typeface="Arial"/>
              </a:rPr>
              <a:t>100%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4" name=""/>
          <p:cNvSpPr/>
          <p:nvPr/>
        </p:nvSpPr>
        <p:spPr>
          <a:xfrm>
            <a:off x="1145880" y="5662440"/>
            <a:ext cx="554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3366"/>
                </a:solidFill>
                <a:latin typeface="Arial"/>
              </a:rPr>
              <a:t>&lt; 1 año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5" name=""/>
          <p:cNvSpPr/>
          <p:nvPr/>
        </p:nvSpPr>
        <p:spPr>
          <a:xfrm>
            <a:off x="1397880" y="5089680"/>
            <a:ext cx="284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1300" spc="-1" strike="noStrike">
                <a:solidFill>
                  <a:srgbClr val="003366"/>
                </a:solidFill>
                <a:latin typeface="Arial"/>
              </a:rPr>
              <a:t>1-4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6" name=""/>
          <p:cNvSpPr/>
          <p:nvPr/>
        </p:nvSpPr>
        <p:spPr>
          <a:xfrm>
            <a:off x="1397880" y="4516560"/>
            <a:ext cx="284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1300" spc="-1" strike="noStrike">
                <a:solidFill>
                  <a:srgbClr val="003366"/>
                </a:solidFill>
                <a:latin typeface="Arial"/>
              </a:rPr>
              <a:t>5-9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7" name=""/>
          <p:cNvSpPr/>
          <p:nvPr/>
        </p:nvSpPr>
        <p:spPr>
          <a:xfrm>
            <a:off x="1217520" y="3944880"/>
            <a:ext cx="466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1300" spc="-1" strike="noStrike">
                <a:solidFill>
                  <a:srgbClr val="003366"/>
                </a:solidFill>
                <a:latin typeface="Arial"/>
              </a:rPr>
              <a:t>10-19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1217520" y="3362400"/>
            <a:ext cx="466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1300" spc="-1" strike="noStrike">
                <a:solidFill>
                  <a:srgbClr val="003366"/>
                </a:solidFill>
                <a:latin typeface="Arial"/>
              </a:rPr>
              <a:t>20-44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>
            <a:off x="1217520" y="2789280"/>
            <a:ext cx="466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1300" spc="-1" strike="noStrike">
                <a:solidFill>
                  <a:srgbClr val="003366"/>
                </a:solidFill>
                <a:latin typeface="Arial"/>
              </a:rPr>
              <a:t>45-64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1217520" y="2216160"/>
            <a:ext cx="4669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s-ES" sz="1300" spc="-1" strike="noStrike">
                <a:solidFill>
                  <a:srgbClr val="ffff99"/>
                </a:solidFill>
                <a:latin typeface="Arial"/>
              </a:rPr>
              <a:t>65-74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1" name=""/>
          <p:cNvSpPr/>
          <p:nvPr/>
        </p:nvSpPr>
        <p:spPr>
          <a:xfrm>
            <a:off x="1036440" y="1643040"/>
            <a:ext cx="668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99"/>
                </a:solidFill>
                <a:latin typeface="Arial"/>
              </a:rPr>
              <a:t>75 y má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2" name=""/>
          <p:cNvSpPr/>
          <p:nvPr/>
        </p:nvSpPr>
        <p:spPr>
          <a:xfrm>
            <a:off x="6873840" y="2365200"/>
            <a:ext cx="1970280" cy="2743200"/>
          </a:xfrm>
          <a:prstGeom prst="rect">
            <a:avLst/>
          </a:pr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3" name=""/>
          <p:cNvSpPr/>
          <p:nvPr/>
        </p:nvSpPr>
        <p:spPr>
          <a:xfrm>
            <a:off x="7012080" y="2479680"/>
            <a:ext cx="166680" cy="130320"/>
          </a:xfrm>
          <a:prstGeom prst="rect">
            <a:avLst/>
          </a:prstGeom>
          <a:solidFill>
            <a:srgbClr val="99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4" name=""/>
          <p:cNvSpPr/>
          <p:nvPr/>
        </p:nvSpPr>
        <p:spPr>
          <a:xfrm>
            <a:off x="7254720" y="2441520"/>
            <a:ext cx="9669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3366"/>
                </a:solidFill>
                <a:latin typeface="Arial"/>
              </a:rPr>
              <a:t>Fiebre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5" name=""/>
          <p:cNvSpPr/>
          <p:nvPr/>
        </p:nvSpPr>
        <p:spPr>
          <a:xfrm>
            <a:off x="7012080" y="2749680"/>
            <a:ext cx="166680" cy="1299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6" name=""/>
          <p:cNvSpPr/>
          <p:nvPr/>
        </p:nvSpPr>
        <p:spPr>
          <a:xfrm>
            <a:off x="7257960" y="2716200"/>
            <a:ext cx="12351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3366"/>
                </a:solidFill>
                <a:latin typeface="Arial"/>
              </a:rPr>
              <a:t>Dolor de Cabeza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7" name=""/>
          <p:cNvSpPr/>
          <p:nvPr/>
        </p:nvSpPr>
        <p:spPr>
          <a:xfrm>
            <a:off x="7012080" y="2960640"/>
            <a:ext cx="166680" cy="1303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8" name=""/>
          <p:cNvSpPr/>
          <p:nvPr/>
        </p:nvSpPr>
        <p:spPr>
          <a:xfrm>
            <a:off x="7254720" y="2927520"/>
            <a:ext cx="8366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3366"/>
                </a:solidFill>
                <a:latin typeface="Arial"/>
              </a:rPr>
              <a:t>Gripe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9" name=""/>
          <p:cNvSpPr/>
          <p:nvPr/>
        </p:nvSpPr>
        <p:spPr>
          <a:xfrm>
            <a:off x="7012080" y="3170160"/>
            <a:ext cx="166680" cy="1303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0" name=""/>
          <p:cNvSpPr/>
          <p:nvPr/>
        </p:nvSpPr>
        <p:spPr>
          <a:xfrm>
            <a:off x="7254720" y="3137040"/>
            <a:ext cx="11178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3366"/>
                </a:solidFill>
                <a:latin typeface="Arial"/>
              </a:rPr>
              <a:t>Diarrea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1" name=""/>
          <p:cNvSpPr/>
          <p:nvPr/>
        </p:nvSpPr>
        <p:spPr>
          <a:xfrm>
            <a:off x="7012080" y="3381480"/>
            <a:ext cx="166680" cy="1299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2" name=""/>
          <p:cNvSpPr/>
          <p:nvPr/>
        </p:nvSpPr>
        <p:spPr>
          <a:xfrm>
            <a:off x="7254720" y="3348000"/>
            <a:ext cx="984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3366"/>
                </a:solidFill>
                <a:latin typeface="Arial"/>
              </a:rPr>
              <a:t>Dental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3" name=""/>
          <p:cNvSpPr/>
          <p:nvPr/>
        </p:nvSpPr>
        <p:spPr>
          <a:xfrm>
            <a:off x="7012080" y="3592440"/>
            <a:ext cx="166680" cy="130320"/>
          </a:xfrm>
          <a:prstGeom prst="rect">
            <a:avLst/>
          </a:prstGeom>
          <a:solidFill>
            <a:srgbClr val="ff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4" name=""/>
          <p:cNvSpPr/>
          <p:nvPr/>
        </p:nvSpPr>
        <p:spPr>
          <a:xfrm>
            <a:off x="7254720" y="3559320"/>
            <a:ext cx="11350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3366"/>
                </a:solidFill>
                <a:latin typeface="Arial"/>
              </a:rPr>
              <a:t>Vaginal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5" name=""/>
          <p:cNvSpPr/>
          <p:nvPr/>
        </p:nvSpPr>
        <p:spPr>
          <a:xfrm>
            <a:off x="7012080" y="3803760"/>
            <a:ext cx="166680" cy="129960"/>
          </a:xfrm>
          <a:prstGeom prst="rect">
            <a:avLst/>
          </a:prstGeom>
          <a:solidFill>
            <a:srgbClr val="0066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6" name=""/>
          <p:cNvSpPr/>
          <p:nvPr/>
        </p:nvSpPr>
        <p:spPr>
          <a:xfrm>
            <a:off x="7254720" y="3770280"/>
            <a:ext cx="895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3366"/>
                </a:solidFill>
                <a:latin typeface="Arial"/>
              </a:rPr>
              <a:t>Espalda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7" name=""/>
          <p:cNvSpPr/>
          <p:nvPr/>
        </p:nvSpPr>
        <p:spPr>
          <a:xfrm>
            <a:off x="7012080" y="4014720"/>
            <a:ext cx="166680" cy="130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8" name=""/>
          <p:cNvSpPr/>
          <p:nvPr/>
        </p:nvSpPr>
        <p:spPr>
          <a:xfrm>
            <a:off x="7254720" y="3981600"/>
            <a:ext cx="11574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3366"/>
                </a:solidFill>
                <a:latin typeface="Arial"/>
              </a:rPr>
              <a:t>Nervio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7012080" y="4227480"/>
            <a:ext cx="166680" cy="1285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7254720" y="4192560"/>
            <a:ext cx="11941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3366"/>
                </a:solidFill>
                <a:latin typeface="Arial"/>
              </a:rPr>
              <a:t>Urinaria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7012080" y="4437000"/>
            <a:ext cx="166680" cy="130320"/>
          </a:xfrm>
          <a:prstGeom prst="rect">
            <a:avLst/>
          </a:prstGeom>
          <a:solidFill>
            <a:srgbClr val="ff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7256160" y="4403880"/>
            <a:ext cx="814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3366"/>
                </a:solidFill>
                <a:latin typeface="Arial"/>
              </a:rPr>
              <a:t>Prostático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7012080" y="4648320"/>
            <a:ext cx="166680" cy="1299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7254720" y="4614840"/>
            <a:ext cx="8956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3366"/>
                </a:solidFill>
                <a:latin typeface="Arial"/>
              </a:rPr>
              <a:t>Alergia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5" name=""/>
          <p:cNvSpPr/>
          <p:nvPr/>
        </p:nvSpPr>
        <p:spPr>
          <a:xfrm>
            <a:off x="7012080" y="4859280"/>
            <a:ext cx="166680" cy="13032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6" name=""/>
          <p:cNvSpPr/>
          <p:nvPr/>
        </p:nvSpPr>
        <p:spPr>
          <a:xfrm>
            <a:off x="7254720" y="4826160"/>
            <a:ext cx="838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3366"/>
                </a:solidFill>
                <a:latin typeface="Arial"/>
              </a:rPr>
              <a:t>Otros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/>
          </p:nvPr>
        </p:nvSpPr>
        <p:spPr>
          <a:xfrm>
            <a:off x="228240" y="456840"/>
            <a:ext cx="7543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4038480" y="2055960"/>
            <a:ext cx="1770120" cy="1364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4038480" y="2509920"/>
            <a:ext cx="514440" cy="1364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4038480" y="2963880"/>
            <a:ext cx="847800" cy="1364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4038480" y="3417840"/>
            <a:ext cx="1285920" cy="1364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4038480" y="3886200"/>
            <a:ext cx="621000" cy="1364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4038480" y="4340160"/>
            <a:ext cx="787680" cy="1364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4038480" y="4794120"/>
            <a:ext cx="136800" cy="1368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4038480" y="5248440"/>
            <a:ext cx="76320" cy="1346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>
            <a:off x="4038480" y="2192400"/>
            <a:ext cx="2616480" cy="120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7" name=""/>
          <p:cNvSpPr/>
          <p:nvPr/>
        </p:nvSpPr>
        <p:spPr>
          <a:xfrm>
            <a:off x="4038480" y="2646360"/>
            <a:ext cx="574920" cy="120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8" name=""/>
          <p:cNvSpPr/>
          <p:nvPr/>
        </p:nvSpPr>
        <p:spPr>
          <a:xfrm>
            <a:off x="4038480" y="3100320"/>
            <a:ext cx="1119240" cy="120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9" name=""/>
          <p:cNvSpPr/>
          <p:nvPr/>
        </p:nvSpPr>
        <p:spPr>
          <a:xfrm>
            <a:off x="4038480" y="3554280"/>
            <a:ext cx="560520" cy="135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4038480" y="4022640"/>
            <a:ext cx="574920" cy="120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4038480" y="4479840"/>
            <a:ext cx="303480" cy="120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2" name=""/>
          <p:cNvSpPr/>
          <p:nvPr/>
        </p:nvSpPr>
        <p:spPr>
          <a:xfrm>
            <a:off x="4038480" y="4930920"/>
            <a:ext cx="227160" cy="1206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3" name=""/>
          <p:cNvSpPr/>
          <p:nvPr/>
        </p:nvSpPr>
        <p:spPr>
          <a:xfrm>
            <a:off x="4038480" y="5383080"/>
            <a:ext cx="30240" cy="122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4" name=""/>
          <p:cNvSpPr/>
          <p:nvPr/>
        </p:nvSpPr>
        <p:spPr>
          <a:xfrm>
            <a:off x="4038480" y="5610240"/>
            <a:ext cx="3009960" cy="14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5" name=""/>
          <p:cNvSpPr/>
          <p:nvPr/>
        </p:nvSpPr>
        <p:spPr>
          <a:xfrm flipV="1">
            <a:off x="4038480" y="5610240"/>
            <a:ext cx="1800" cy="6048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6" name=""/>
          <p:cNvSpPr/>
          <p:nvPr/>
        </p:nvSpPr>
        <p:spPr>
          <a:xfrm flipV="1">
            <a:off x="4643280" y="5610240"/>
            <a:ext cx="1800" cy="6048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7" name=""/>
          <p:cNvSpPr/>
          <p:nvPr/>
        </p:nvSpPr>
        <p:spPr>
          <a:xfrm flipV="1">
            <a:off x="5248440" y="5610240"/>
            <a:ext cx="1440" cy="6048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 flipV="1">
            <a:off x="5838840" y="5610240"/>
            <a:ext cx="1440" cy="6048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9" name=""/>
          <p:cNvSpPr/>
          <p:nvPr/>
        </p:nvSpPr>
        <p:spPr>
          <a:xfrm flipV="1">
            <a:off x="6443640" y="5610240"/>
            <a:ext cx="1440" cy="6048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0" name=""/>
          <p:cNvSpPr/>
          <p:nvPr/>
        </p:nvSpPr>
        <p:spPr>
          <a:xfrm flipV="1">
            <a:off x="7048440" y="5610240"/>
            <a:ext cx="1800" cy="6048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1" name=""/>
          <p:cNvSpPr/>
          <p:nvPr/>
        </p:nvSpPr>
        <p:spPr>
          <a:xfrm>
            <a:off x="4038480" y="1965240"/>
            <a:ext cx="1800" cy="364500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2" name=""/>
          <p:cNvSpPr/>
          <p:nvPr/>
        </p:nvSpPr>
        <p:spPr>
          <a:xfrm>
            <a:off x="3978360" y="1965240"/>
            <a:ext cx="60120" cy="180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3" name=""/>
          <p:cNvSpPr/>
          <p:nvPr/>
        </p:nvSpPr>
        <p:spPr>
          <a:xfrm>
            <a:off x="3978360" y="2419200"/>
            <a:ext cx="60120" cy="180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4" name=""/>
          <p:cNvSpPr/>
          <p:nvPr/>
        </p:nvSpPr>
        <p:spPr>
          <a:xfrm>
            <a:off x="3978360" y="2873520"/>
            <a:ext cx="60120" cy="14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5" name=""/>
          <p:cNvSpPr/>
          <p:nvPr/>
        </p:nvSpPr>
        <p:spPr>
          <a:xfrm>
            <a:off x="3978360" y="3327480"/>
            <a:ext cx="60120" cy="14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6" name=""/>
          <p:cNvSpPr/>
          <p:nvPr/>
        </p:nvSpPr>
        <p:spPr>
          <a:xfrm>
            <a:off x="3978360" y="3795840"/>
            <a:ext cx="60120" cy="14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7" name=""/>
          <p:cNvSpPr/>
          <p:nvPr/>
        </p:nvSpPr>
        <p:spPr>
          <a:xfrm>
            <a:off x="3978360" y="4249800"/>
            <a:ext cx="60120" cy="14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8" name=""/>
          <p:cNvSpPr/>
          <p:nvPr/>
        </p:nvSpPr>
        <p:spPr>
          <a:xfrm>
            <a:off x="3978360" y="4703760"/>
            <a:ext cx="60120" cy="14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3978360" y="5157720"/>
            <a:ext cx="60120" cy="180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3978360" y="5610240"/>
            <a:ext cx="60120" cy="1440"/>
          </a:xfrm>
          <a:prstGeom prst="line">
            <a:avLst/>
          </a:prstGeom>
          <a:ln w="0">
            <a:solidFill>
              <a:srgbClr val="333399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3993840" y="577692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4538160" y="57769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5143320" y="57769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2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5732280" y="57769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6337080" y="57769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4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6941880" y="57769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2918520" y="2071800"/>
            <a:ext cx="994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99"/>
                </a:solidFill>
                <a:latin typeface="Arial"/>
              </a:rPr>
              <a:t>En la Cas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2889000" y="2525760"/>
            <a:ext cx="1027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99"/>
                </a:solidFill>
                <a:latin typeface="Arial"/>
              </a:rPr>
              <a:t>Del tránsi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1860480" y="2979720"/>
            <a:ext cx="207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99"/>
                </a:solidFill>
                <a:latin typeface="Arial"/>
              </a:rPr>
              <a:t>En la calle (no tr</a:t>
            </a:r>
            <a:r>
              <a:rPr b="0" lang="es-ES_tradnl" sz="1600" spc="-1" strike="noStrike">
                <a:solidFill>
                  <a:srgbClr val="ffff99"/>
                </a:solidFill>
                <a:latin typeface="Arial"/>
              </a:rPr>
              <a:t>á</a:t>
            </a:r>
            <a:r>
              <a:rPr b="0" lang="es-ES" sz="1600" spc="-1" strike="noStrike">
                <a:solidFill>
                  <a:srgbClr val="ffff99"/>
                </a:solidFill>
                <a:latin typeface="Arial"/>
              </a:rPr>
              <a:t>nsito</a:t>
            </a: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2782440" y="3432240"/>
            <a:ext cx="1140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99"/>
                </a:solidFill>
                <a:latin typeface="Arial"/>
              </a:rPr>
              <a:t>En el trabaj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1982160" y="3902040"/>
            <a:ext cx="1965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99"/>
                </a:solidFill>
                <a:latin typeface="Arial"/>
              </a:rPr>
              <a:t>En el lugar de estudi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1649880" y="4356000"/>
            <a:ext cx="2324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99"/>
                </a:solidFill>
                <a:latin typeface="Arial"/>
              </a:rPr>
              <a:t>En un lugar de recre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3511440" y="4808520"/>
            <a:ext cx="393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99"/>
                </a:solidFill>
                <a:latin typeface="Arial"/>
              </a:rPr>
              <a:t>Otr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1921320" y="5262480"/>
            <a:ext cx="2053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99"/>
                </a:solidFill>
                <a:latin typeface="Arial"/>
              </a:rPr>
              <a:t>No sabe donde ocurrió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 rot="21540000">
            <a:off x="5446440" y="6136920"/>
            <a:ext cx="18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5899320" y="2903400"/>
            <a:ext cx="106200" cy="10656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6066000" y="2827440"/>
            <a:ext cx="82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Homb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5899320" y="3220920"/>
            <a:ext cx="106200" cy="1065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6065640" y="3144960"/>
            <a:ext cx="7232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Mujer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0" name="PlaceHolder 2"/>
          <p:cNvSpPr>
            <a:spLocks noGrp="1"/>
          </p:cNvSpPr>
          <p:nvPr>
            <p:ph type="title"/>
          </p:nvPr>
        </p:nvSpPr>
        <p:spPr>
          <a:xfrm>
            <a:off x="1676160" y="3045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cc00"/>
                </a:solidFill>
                <a:latin typeface="Arial Black"/>
              </a:rPr>
              <a:t>Accidentes en los últimos seis meses, según lugar de ocurrencia y sexo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1" name="PlaceHolder 1"/>
          <p:cNvSpPr>
            <a:spLocks noGrp="1"/>
          </p:cNvSpPr>
          <p:nvPr>
            <p:ph/>
          </p:nvPr>
        </p:nvSpPr>
        <p:spPr>
          <a:xfrm>
            <a:off x="228600" y="304920"/>
            <a:ext cx="830592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2" name="PlaceHolder 2"/>
          <p:cNvSpPr>
            <a:spLocks noGrp="1"/>
          </p:cNvSpPr>
          <p:nvPr>
            <p:ph type="title"/>
          </p:nvPr>
        </p:nvSpPr>
        <p:spPr>
          <a:xfrm>
            <a:off x="1676160" y="3045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cc00"/>
                </a:solidFill>
                <a:latin typeface="Arial Black"/>
              </a:rPr>
              <a:t>Ocurrencia de al menos un accidente en los últimos seis meses, según edad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43" name=""/>
          <p:cNvSpPr/>
          <p:nvPr/>
        </p:nvSpPr>
        <p:spPr>
          <a:xfrm>
            <a:off x="1523880" y="2027160"/>
            <a:ext cx="6489720" cy="35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44" name=""/>
          <p:cNvGrpSpPr/>
          <p:nvPr/>
        </p:nvGrpSpPr>
        <p:grpSpPr>
          <a:xfrm>
            <a:off x="1797120" y="4191120"/>
            <a:ext cx="380880" cy="1401120"/>
            <a:chOff x="1797120" y="4191120"/>
            <a:chExt cx="380880" cy="1401120"/>
          </a:xfrm>
        </p:grpSpPr>
        <p:sp>
          <p:nvSpPr>
            <p:cNvPr id="1845" name=""/>
            <p:cNvSpPr/>
            <p:nvPr/>
          </p:nvSpPr>
          <p:spPr>
            <a:xfrm>
              <a:off x="1797120" y="4191120"/>
              <a:ext cx="380880" cy="14040"/>
            </a:xfrm>
            <a:prstGeom prst="rect">
              <a:avLst/>
            </a:prstGeom>
            <a:solidFill>
              <a:srgbClr val="3366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1797120" y="4205160"/>
              <a:ext cx="380880" cy="15480"/>
            </a:xfrm>
            <a:prstGeom prst="rect">
              <a:avLst/>
            </a:prstGeom>
            <a:solidFill>
              <a:srgbClr val="3366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797120" y="4221000"/>
              <a:ext cx="380880" cy="14040"/>
            </a:xfrm>
            <a:prstGeom prst="rect">
              <a:avLst/>
            </a:prstGeom>
            <a:solidFill>
              <a:srgbClr val="3366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1797120" y="4235400"/>
              <a:ext cx="380880" cy="15480"/>
            </a:xfrm>
            <a:prstGeom prst="rect">
              <a:avLst/>
            </a:prstGeom>
            <a:solidFill>
              <a:srgbClr val="3367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1797120" y="4251240"/>
              <a:ext cx="380880" cy="15480"/>
            </a:xfrm>
            <a:prstGeom prst="rect">
              <a:avLst/>
            </a:prstGeom>
            <a:solidFill>
              <a:srgbClr val="3367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1797120" y="4267080"/>
              <a:ext cx="380880" cy="14040"/>
            </a:xfrm>
            <a:prstGeom prst="rect">
              <a:avLst/>
            </a:prstGeom>
            <a:solidFill>
              <a:srgbClr val="336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1797120" y="4281480"/>
              <a:ext cx="380880" cy="15480"/>
            </a:xfrm>
            <a:prstGeom prst="rect">
              <a:avLst/>
            </a:prstGeom>
            <a:solidFill>
              <a:srgbClr val="3369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1797120" y="4297320"/>
              <a:ext cx="380880" cy="13680"/>
            </a:xfrm>
            <a:prstGeom prst="rect">
              <a:avLst/>
            </a:prstGeom>
            <a:solidFill>
              <a:srgbClr val="3369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1797120" y="4311360"/>
              <a:ext cx="380880" cy="15480"/>
            </a:xfrm>
            <a:prstGeom prst="rect">
              <a:avLst/>
            </a:prstGeom>
            <a:solidFill>
              <a:srgbClr val="336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1797120" y="4327200"/>
              <a:ext cx="380880" cy="15840"/>
            </a:xfrm>
            <a:prstGeom prst="rect">
              <a:avLst/>
            </a:prstGeom>
            <a:solidFill>
              <a:srgbClr val="336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1797120" y="4343400"/>
              <a:ext cx="380880" cy="13680"/>
            </a:xfrm>
            <a:prstGeom prst="rect">
              <a:avLst/>
            </a:prstGeom>
            <a:solidFill>
              <a:srgbClr val="336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1797120" y="4357440"/>
              <a:ext cx="380880" cy="15480"/>
            </a:xfrm>
            <a:prstGeom prst="rect">
              <a:avLst/>
            </a:prstGeom>
            <a:solidFill>
              <a:srgbClr val="336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1797120" y="4373280"/>
              <a:ext cx="380880" cy="14040"/>
            </a:xfrm>
            <a:prstGeom prst="rect">
              <a:avLst/>
            </a:prstGeom>
            <a:solidFill>
              <a:srgbClr val="336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1797120" y="4387680"/>
              <a:ext cx="380880" cy="15480"/>
            </a:xfrm>
            <a:prstGeom prst="rect">
              <a:avLst/>
            </a:prstGeom>
            <a:solidFill>
              <a:srgbClr val="336e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1797120" y="4403520"/>
              <a:ext cx="380880" cy="14040"/>
            </a:xfrm>
            <a:prstGeom prst="rect">
              <a:avLst/>
            </a:prstGeom>
            <a:solidFill>
              <a:srgbClr val="336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1797120" y="4417920"/>
              <a:ext cx="380880" cy="15480"/>
            </a:xfrm>
            <a:prstGeom prst="rect">
              <a:avLst/>
            </a:prstGeom>
            <a:solidFill>
              <a:srgbClr val="3370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1797120" y="4433760"/>
              <a:ext cx="380880" cy="15480"/>
            </a:xfrm>
            <a:prstGeom prst="rect">
              <a:avLst/>
            </a:prstGeom>
            <a:solidFill>
              <a:srgbClr val="3371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1797120" y="4449600"/>
              <a:ext cx="380880" cy="14040"/>
            </a:xfrm>
            <a:prstGeom prst="rect">
              <a:avLst/>
            </a:prstGeom>
            <a:solidFill>
              <a:srgbClr val="337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1797120" y="4464000"/>
              <a:ext cx="380880" cy="15480"/>
            </a:xfrm>
            <a:prstGeom prst="rect">
              <a:avLst/>
            </a:prstGeom>
            <a:solidFill>
              <a:srgbClr val="337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1797120" y="4479840"/>
              <a:ext cx="380880" cy="13680"/>
            </a:xfrm>
            <a:prstGeom prst="rect">
              <a:avLst/>
            </a:prstGeom>
            <a:solidFill>
              <a:srgbClr val="3375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1797120" y="4493880"/>
              <a:ext cx="380880" cy="15840"/>
            </a:xfrm>
            <a:prstGeom prst="rect">
              <a:avLst/>
            </a:prstGeom>
            <a:solidFill>
              <a:srgbClr val="3376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1797120" y="4510080"/>
              <a:ext cx="380880" cy="15480"/>
            </a:xfrm>
            <a:prstGeom prst="rect">
              <a:avLst/>
            </a:prstGeom>
            <a:solidFill>
              <a:srgbClr val="337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1797120" y="4525920"/>
              <a:ext cx="380880" cy="13680"/>
            </a:xfrm>
            <a:prstGeom prst="rect">
              <a:avLst/>
            </a:prstGeom>
            <a:solidFill>
              <a:srgbClr val="337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1797120" y="4539960"/>
              <a:ext cx="380880" cy="15480"/>
            </a:xfrm>
            <a:prstGeom prst="rect">
              <a:avLst/>
            </a:prstGeom>
            <a:solidFill>
              <a:srgbClr val="337a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1797120" y="4555800"/>
              <a:ext cx="380880" cy="14040"/>
            </a:xfrm>
            <a:prstGeom prst="rect">
              <a:avLst/>
            </a:prstGeom>
            <a:solidFill>
              <a:srgbClr val="337c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1797120" y="4570200"/>
              <a:ext cx="380880" cy="15480"/>
            </a:xfrm>
            <a:prstGeom prst="rect">
              <a:avLst/>
            </a:prstGeom>
            <a:solidFill>
              <a:srgbClr val="337d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1797120" y="4586040"/>
              <a:ext cx="380880" cy="15480"/>
            </a:xfrm>
            <a:prstGeom prst="rect">
              <a:avLst/>
            </a:prstGeom>
            <a:solidFill>
              <a:srgbClr val="337e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1797120" y="4601880"/>
              <a:ext cx="380880" cy="14040"/>
            </a:xfrm>
            <a:prstGeom prst="rect">
              <a:avLst/>
            </a:prstGeom>
            <a:solidFill>
              <a:srgbClr val="3380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1797120" y="4616280"/>
              <a:ext cx="380880" cy="15480"/>
            </a:xfrm>
            <a:prstGeom prst="rect">
              <a:avLst/>
            </a:prstGeom>
            <a:solidFill>
              <a:srgbClr val="3382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1797120" y="4632120"/>
              <a:ext cx="380880" cy="14040"/>
            </a:xfrm>
            <a:prstGeom prst="rect">
              <a:avLst/>
            </a:prstGeom>
            <a:solidFill>
              <a:srgbClr val="338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797120" y="4646520"/>
              <a:ext cx="380880" cy="15480"/>
            </a:xfrm>
            <a:prstGeom prst="rect">
              <a:avLst/>
            </a:prstGeom>
            <a:solidFill>
              <a:srgbClr val="3385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797120" y="4662360"/>
              <a:ext cx="380880" cy="15480"/>
            </a:xfrm>
            <a:prstGeom prst="rect">
              <a:avLst/>
            </a:prstGeom>
            <a:solidFill>
              <a:srgbClr val="3387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797120" y="4678200"/>
              <a:ext cx="380880" cy="14040"/>
            </a:xfrm>
            <a:prstGeom prst="rect">
              <a:avLst/>
            </a:prstGeom>
            <a:solidFill>
              <a:srgbClr val="3388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797120" y="4692600"/>
              <a:ext cx="380880" cy="15480"/>
            </a:xfrm>
            <a:prstGeom prst="rect">
              <a:avLst/>
            </a:prstGeom>
            <a:solidFill>
              <a:srgbClr val="338a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1797120" y="4708440"/>
              <a:ext cx="380880" cy="13680"/>
            </a:xfrm>
            <a:prstGeom prst="rect">
              <a:avLst/>
            </a:prstGeom>
            <a:solidFill>
              <a:srgbClr val="338c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1797120" y="4722480"/>
              <a:ext cx="380880" cy="15840"/>
            </a:xfrm>
            <a:prstGeom prst="rect">
              <a:avLst/>
            </a:prstGeom>
            <a:solidFill>
              <a:srgbClr val="338e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1797120" y="4738680"/>
              <a:ext cx="380880" cy="15480"/>
            </a:xfrm>
            <a:prstGeom prst="rect">
              <a:avLst/>
            </a:prstGeom>
            <a:solidFill>
              <a:srgbClr val="339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797120" y="4754520"/>
              <a:ext cx="380880" cy="13680"/>
            </a:xfrm>
            <a:prstGeom prst="rect">
              <a:avLst/>
            </a:prstGeom>
            <a:solidFill>
              <a:srgbClr val="3391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797120" y="4768560"/>
              <a:ext cx="380880" cy="15480"/>
            </a:xfrm>
            <a:prstGeom prst="rect">
              <a:avLst/>
            </a:prstGeom>
            <a:solidFill>
              <a:srgbClr val="339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797120" y="4784400"/>
              <a:ext cx="380880" cy="14040"/>
            </a:xfrm>
            <a:prstGeom prst="rect">
              <a:avLst/>
            </a:prstGeom>
            <a:solidFill>
              <a:srgbClr val="3395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1797120" y="4798800"/>
              <a:ext cx="380880" cy="15480"/>
            </a:xfrm>
            <a:prstGeom prst="rect">
              <a:avLst/>
            </a:prstGeom>
            <a:solidFill>
              <a:srgbClr val="3397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1797120" y="4814640"/>
              <a:ext cx="380880" cy="15480"/>
            </a:xfrm>
            <a:prstGeom prst="rect">
              <a:avLst/>
            </a:prstGeom>
            <a:solidFill>
              <a:srgbClr val="3399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1797120" y="4830480"/>
              <a:ext cx="380880" cy="14040"/>
            </a:xfrm>
            <a:prstGeom prst="rect">
              <a:avLst/>
            </a:prstGeom>
            <a:solidFill>
              <a:srgbClr val="339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1797120" y="4844880"/>
              <a:ext cx="380880" cy="15480"/>
            </a:xfrm>
            <a:prstGeom prst="rect">
              <a:avLst/>
            </a:prstGeom>
            <a:solidFill>
              <a:srgbClr val="339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1797120" y="4860720"/>
              <a:ext cx="380880" cy="14040"/>
            </a:xfrm>
            <a:prstGeom prst="rect">
              <a:avLst/>
            </a:prstGeom>
            <a:solidFill>
              <a:srgbClr val="339e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1797120" y="4875120"/>
              <a:ext cx="380880" cy="15480"/>
            </a:xfrm>
            <a:prstGeom prst="rect">
              <a:avLst/>
            </a:prstGeom>
            <a:solidFill>
              <a:srgbClr val="33a0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1797120" y="4890960"/>
              <a:ext cx="380880" cy="15480"/>
            </a:xfrm>
            <a:prstGeom prst="rect">
              <a:avLst/>
            </a:prstGeom>
            <a:solidFill>
              <a:srgbClr val="33a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1797120" y="4906800"/>
              <a:ext cx="380880" cy="14040"/>
            </a:xfrm>
            <a:prstGeom prst="rect">
              <a:avLst/>
            </a:prstGeom>
            <a:solidFill>
              <a:srgbClr val="33a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1797120" y="4921200"/>
              <a:ext cx="380880" cy="15480"/>
            </a:xfrm>
            <a:prstGeom prst="rect">
              <a:avLst/>
            </a:prstGeom>
            <a:solidFill>
              <a:srgbClr val="33a5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1797120" y="4937040"/>
              <a:ext cx="380880" cy="13680"/>
            </a:xfrm>
            <a:prstGeom prst="rect">
              <a:avLst/>
            </a:prstGeom>
            <a:solidFill>
              <a:srgbClr val="33a7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1797120" y="4951080"/>
              <a:ext cx="380880" cy="15840"/>
            </a:xfrm>
            <a:prstGeom prst="rect">
              <a:avLst/>
            </a:prstGeom>
            <a:solidFill>
              <a:srgbClr val="33a8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1797120" y="4967280"/>
              <a:ext cx="380880" cy="15480"/>
            </a:xfrm>
            <a:prstGeom prst="rect">
              <a:avLst/>
            </a:prstGeom>
            <a:solidFill>
              <a:srgbClr val="33aa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1797120" y="4983120"/>
              <a:ext cx="380880" cy="13680"/>
            </a:xfrm>
            <a:prstGeom prst="rect">
              <a:avLst/>
            </a:prstGeom>
            <a:solidFill>
              <a:srgbClr val="33a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1797120" y="4997160"/>
              <a:ext cx="380880" cy="15480"/>
            </a:xfrm>
            <a:prstGeom prst="rect">
              <a:avLst/>
            </a:prstGeom>
            <a:solidFill>
              <a:srgbClr val="33a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1797120" y="5013000"/>
              <a:ext cx="380880" cy="14040"/>
            </a:xfrm>
            <a:prstGeom prst="rect">
              <a:avLst/>
            </a:prstGeom>
            <a:solidFill>
              <a:srgbClr val="33a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1797120" y="5027400"/>
              <a:ext cx="380880" cy="15480"/>
            </a:xfrm>
            <a:prstGeom prst="rect">
              <a:avLst/>
            </a:prstGeom>
            <a:solidFill>
              <a:srgbClr val="33b0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1797120" y="5043240"/>
              <a:ext cx="380880" cy="15480"/>
            </a:xfrm>
            <a:prstGeom prst="rect">
              <a:avLst/>
            </a:prstGeom>
            <a:solidFill>
              <a:srgbClr val="33b2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1797120" y="5059080"/>
              <a:ext cx="380880" cy="14040"/>
            </a:xfrm>
            <a:prstGeom prst="rect">
              <a:avLst/>
            </a:prstGeom>
            <a:solidFill>
              <a:srgbClr val="33b3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1797120" y="5073480"/>
              <a:ext cx="380880" cy="15480"/>
            </a:xfrm>
            <a:prstGeom prst="rect">
              <a:avLst/>
            </a:prstGeom>
            <a:solidFill>
              <a:srgbClr val="33b4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1797120" y="5089320"/>
              <a:ext cx="380880" cy="14040"/>
            </a:xfrm>
            <a:prstGeom prst="rect">
              <a:avLst/>
            </a:prstGeom>
            <a:solidFill>
              <a:srgbClr val="33b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1797120" y="5103720"/>
              <a:ext cx="380880" cy="15480"/>
            </a:xfrm>
            <a:prstGeom prst="rect">
              <a:avLst/>
            </a:prstGeom>
            <a:solidFill>
              <a:srgbClr val="33b7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1797120" y="5119560"/>
              <a:ext cx="380880" cy="15480"/>
            </a:xfrm>
            <a:prstGeom prst="rect">
              <a:avLst/>
            </a:prstGeom>
            <a:solidFill>
              <a:srgbClr val="33b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1797120" y="5135400"/>
              <a:ext cx="380880" cy="14040"/>
            </a:xfrm>
            <a:prstGeom prst="rect">
              <a:avLst/>
            </a:prstGeom>
            <a:solidFill>
              <a:srgbClr val="33b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1797120" y="5149800"/>
              <a:ext cx="380880" cy="15480"/>
            </a:xfrm>
            <a:prstGeom prst="rect">
              <a:avLst/>
            </a:prstGeom>
            <a:solidFill>
              <a:srgbClr val="33bb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1797120" y="5165640"/>
              <a:ext cx="380880" cy="13680"/>
            </a:xfrm>
            <a:prstGeom prst="rect">
              <a:avLst/>
            </a:prstGeom>
            <a:solidFill>
              <a:srgbClr val="33b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1797120" y="5179680"/>
              <a:ext cx="380880" cy="15840"/>
            </a:xfrm>
            <a:prstGeom prst="rect">
              <a:avLst/>
            </a:prstGeom>
            <a:solidFill>
              <a:srgbClr val="33b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1797120" y="5195880"/>
              <a:ext cx="380880" cy="15480"/>
            </a:xfrm>
            <a:prstGeom prst="rect">
              <a:avLst/>
            </a:prstGeom>
            <a:solidFill>
              <a:srgbClr val="33be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1797120" y="5211720"/>
              <a:ext cx="380880" cy="13680"/>
            </a:xfrm>
            <a:prstGeom prst="rect">
              <a:avLst/>
            </a:prstGeom>
            <a:solidFill>
              <a:srgbClr val="33b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1797120" y="5225760"/>
              <a:ext cx="380880" cy="15480"/>
            </a:xfrm>
            <a:prstGeom prst="rect">
              <a:avLst/>
            </a:prstGeom>
            <a:solidFill>
              <a:srgbClr val="33c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1797120" y="5241600"/>
              <a:ext cx="380880" cy="14040"/>
            </a:xfrm>
            <a:prstGeom prst="rect">
              <a:avLst/>
            </a:prstGeom>
            <a:solidFill>
              <a:srgbClr val="33c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1797120" y="5256000"/>
              <a:ext cx="380880" cy="15480"/>
            </a:xfrm>
            <a:prstGeom prst="rect">
              <a:avLst/>
            </a:prstGeom>
            <a:solidFill>
              <a:srgbClr val="33c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1797120" y="5271840"/>
              <a:ext cx="380880" cy="15480"/>
            </a:xfrm>
            <a:prstGeom prst="rect">
              <a:avLst/>
            </a:prstGeom>
            <a:solidFill>
              <a:srgbClr val="33c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1797120" y="5287680"/>
              <a:ext cx="380880" cy="14040"/>
            </a:xfrm>
            <a:prstGeom prst="rect">
              <a:avLst/>
            </a:prstGeom>
            <a:solidFill>
              <a:srgbClr val="33c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1797120" y="5302080"/>
              <a:ext cx="380880" cy="15480"/>
            </a:xfrm>
            <a:prstGeom prst="rect">
              <a:avLst/>
            </a:prstGeom>
            <a:solidFill>
              <a:srgbClr val="33c4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1797120" y="5317920"/>
              <a:ext cx="380880" cy="14040"/>
            </a:xfrm>
            <a:prstGeom prst="rect">
              <a:avLst/>
            </a:prstGeom>
            <a:solidFill>
              <a:srgbClr val="33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1797120" y="5332320"/>
              <a:ext cx="380880" cy="15480"/>
            </a:xfrm>
            <a:prstGeom prst="rect">
              <a:avLst/>
            </a:prstGeom>
            <a:solidFill>
              <a:srgbClr val="33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1797120" y="5348160"/>
              <a:ext cx="380880" cy="15480"/>
            </a:xfrm>
            <a:prstGeom prst="rect">
              <a:avLst/>
            </a:prstGeom>
            <a:solidFill>
              <a:srgbClr val="33c6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1797120" y="5364000"/>
              <a:ext cx="380880" cy="14040"/>
            </a:xfrm>
            <a:prstGeom prst="rect">
              <a:avLst/>
            </a:prstGeom>
            <a:solidFill>
              <a:srgbClr val="33c6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1797120" y="5378400"/>
              <a:ext cx="380880" cy="15480"/>
            </a:xfrm>
            <a:prstGeom prst="rect">
              <a:avLst/>
            </a:prstGeom>
            <a:solidFill>
              <a:srgbClr val="33c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1797120" y="5394240"/>
              <a:ext cx="380880" cy="13680"/>
            </a:xfrm>
            <a:prstGeom prst="rect">
              <a:avLst/>
            </a:prstGeom>
            <a:solidFill>
              <a:srgbClr val="33c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1797120" y="5408280"/>
              <a:ext cx="380880" cy="15840"/>
            </a:xfrm>
            <a:prstGeom prst="rect">
              <a:avLst/>
            </a:prstGeom>
            <a:solidFill>
              <a:srgbClr val="33c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1797120" y="5424480"/>
              <a:ext cx="380880" cy="15480"/>
            </a:xfrm>
            <a:prstGeom prst="rect">
              <a:avLst/>
            </a:prstGeom>
            <a:solidFill>
              <a:srgbClr val="33c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1797120" y="5440320"/>
              <a:ext cx="380880" cy="13680"/>
            </a:xfrm>
            <a:prstGeom prst="rect">
              <a:avLst/>
            </a:prstGeom>
            <a:solidFill>
              <a:srgbClr val="33c9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1797120" y="5454360"/>
              <a:ext cx="380880" cy="15480"/>
            </a:xfrm>
            <a:prstGeom prst="rect">
              <a:avLst/>
            </a:prstGeom>
            <a:solidFill>
              <a:srgbClr val="33c9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1797120" y="5470200"/>
              <a:ext cx="380880" cy="14040"/>
            </a:xfrm>
            <a:prstGeom prst="rect">
              <a:avLst/>
            </a:prstGeom>
            <a:solidFill>
              <a:srgbClr val="33ca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1797120" y="5484600"/>
              <a:ext cx="380880" cy="15480"/>
            </a:xfrm>
            <a:prstGeom prst="rect">
              <a:avLst/>
            </a:prstGeom>
            <a:solidFill>
              <a:srgbClr val="33ca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1797120" y="5500440"/>
              <a:ext cx="380880" cy="15480"/>
            </a:xfrm>
            <a:prstGeom prst="rect">
              <a:avLst/>
            </a:prstGeom>
            <a:solidFill>
              <a:srgbClr val="33c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1797120" y="5516280"/>
              <a:ext cx="380880" cy="14040"/>
            </a:xfrm>
            <a:prstGeom prst="rect">
              <a:avLst/>
            </a:prstGeom>
            <a:solidFill>
              <a:srgbClr val="33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1797120" y="5530680"/>
              <a:ext cx="380880" cy="15480"/>
            </a:xfrm>
            <a:prstGeom prst="rect">
              <a:avLst/>
            </a:prstGeom>
            <a:solidFill>
              <a:srgbClr val="33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1797120" y="5546520"/>
              <a:ext cx="380880" cy="14040"/>
            </a:xfrm>
            <a:prstGeom prst="rect">
              <a:avLst/>
            </a:prstGeom>
            <a:solidFill>
              <a:srgbClr val="33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1797120" y="5560920"/>
              <a:ext cx="380880" cy="15480"/>
            </a:xfrm>
            <a:prstGeom prst="rect">
              <a:avLst/>
            </a:prstGeom>
            <a:solidFill>
              <a:srgbClr val="33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1797120" y="5576760"/>
              <a:ext cx="380880" cy="15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937" name=""/>
          <p:cNvSpPr/>
          <p:nvPr/>
        </p:nvSpPr>
        <p:spPr>
          <a:xfrm>
            <a:off x="1797120" y="4191120"/>
            <a:ext cx="380880" cy="14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8" name=""/>
          <p:cNvGrpSpPr/>
          <p:nvPr/>
        </p:nvGrpSpPr>
        <p:grpSpPr>
          <a:xfrm>
            <a:off x="2727360" y="4343400"/>
            <a:ext cx="380880" cy="1249200"/>
            <a:chOff x="2727360" y="4343400"/>
            <a:chExt cx="380880" cy="1249200"/>
          </a:xfrm>
        </p:grpSpPr>
        <p:sp>
          <p:nvSpPr>
            <p:cNvPr id="1939" name=""/>
            <p:cNvSpPr/>
            <p:nvPr/>
          </p:nvSpPr>
          <p:spPr>
            <a:xfrm>
              <a:off x="2727360" y="4343400"/>
              <a:ext cx="380880" cy="14040"/>
            </a:xfrm>
            <a:prstGeom prst="rect">
              <a:avLst/>
            </a:prstGeom>
            <a:solidFill>
              <a:srgbClr val="3366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2727360" y="4357440"/>
              <a:ext cx="380880" cy="15840"/>
            </a:xfrm>
            <a:prstGeom prst="rect">
              <a:avLst/>
            </a:prstGeom>
            <a:solidFill>
              <a:srgbClr val="3366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2727360" y="4373280"/>
              <a:ext cx="380880" cy="14400"/>
            </a:xfrm>
            <a:prstGeom prst="rect">
              <a:avLst/>
            </a:prstGeom>
            <a:solidFill>
              <a:srgbClr val="3367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2727360" y="4387680"/>
              <a:ext cx="380880" cy="15840"/>
            </a:xfrm>
            <a:prstGeom prst="rect">
              <a:avLst/>
            </a:prstGeom>
            <a:solidFill>
              <a:srgbClr val="3367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2727360" y="4403520"/>
              <a:ext cx="380880" cy="14400"/>
            </a:xfrm>
            <a:prstGeom prst="rect">
              <a:avLst/>
            </a:prstGeom>
            <a:solidFill>
              <a:srgbClr val="336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2727360" y="4417920"/>
              <a:ext cx="380880" cy="15840"/>
            </a:xfrm>
            <a:prstGeom prst="rect">
              <a:avLst/>
            </a:prstGeom>
            <a:solidFill>
              <a:srgbClr val="336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2727360" y="4433760"/>
              <a:ext cx="380880" cy="15840"/>
            </a:xfrm>
            <a:prstGeom prst="rect">
              <a:avLst/>
            </a:prstGeom>
            <a:solidFill>
              <a:srgbClr val="3369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2727360" y="4449600"/>
              <a:ext cx="380880" cy="14400"/>
            </a:xfrm>
            <a:prstGeom prst="rect">
              <a:avLst/>
            </a:prstGeom>
            <a:solidFill>
              <a:srgbClr val="336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2727360" y="4464000"/>
              <a:ext cx="380880" cy="15840"/>
            </a:xfrm>
            <a:prstGeom prst="rect">
              <a:avLst/>
            </a:prstGeom>
            <a:solidFill>
              <a:srgbClr val="336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2727360" y="4479840"/>
              <a:ext cx="380880" cy="14040"/>
            </a:xfrm>
            <a:prstGeom prst="rect">
              <a:avLst/>
            </a:prstGeom>
            <a:solidFill>
              <a:srgbClr val="336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2727360" y="4493880"/>
              <a:ext cx="380880" cy="16200"/>
            </a:xfrm>
            <a:prstGeom prst="rect">
              <a:avLst/>
            </a:prstGeom>
            <a:solidFill>
              <a:srgbClr val="336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2727360" y="4510080"/>
              <a:ext cx="380880" cy="15840"/>
            </a:xfrm>
            <a:prstGeom prst="rect">
              <a:avLst/>
            </a:prstGeom>
            <a:solidFill>
              <a:srgbClr val="336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2727360" y="4525920"/>
              <a:ext cx="380880" cy="14040"/>
            </a:xfrm>
            <a:prstGeom prst="rect">
              <a:avLst/>
            </a:prstGeom>
            <a:solidFill>
              <a:srgbClr val="336f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2727360" y="4539960"/>
              <a:ext cx="380880" cy="15840"/>
            </a:xfrm>
            <a:prstGeom prst="rect">
              <a:avLst/>
            </a:prstGeom>
            <a:solidFill>
              <a:srgbClr val="3370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2727360" y="4555800"/>
              <a:ext cx="380880" cy="14400"/>
            </a:xfrm>
            <a:prstGeom prst="rect">
              <a:avLst/>
            </a:prstGeom>
            <a:solidFill>
              <a:srgbClr val="3371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2727360" y="4570200"/>
              <a:ext cx="380880" cy="15840"/>
            </a:xfrm>
            <a:prstGeom prst="rect">
              <a:avLst/>
            </a:prstGeom>
            <a:solidFill>
              <a:srgbClr val="337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2727360" y="4586040"/>
              <a:ext cx="380880" cy="15840"/>
            </a:xfrm>
            <a:prstGeom prst="rect">
              <a:avLst/>
            </a:prstGeom>
            <a:solidFill>
              <a:srgbClr val="337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2727360" y="4601880"/>
              <a:ext cx="380880" cy="14400"/>
            </a:xfrm>
            <a:prstGeom prst="rect">
              <a:avLst/>
            </a:prstGeom>
            <a:solidFill>
              <a:srgbClr val="3375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2727360" y="4616280"/>
              <a:ext cx="380880" cy="15840"/>
            </a:xfrm>
            <a:prstGeom prst="rect">
              <a:avLst/>
            </a:prstGeom>
            <a:solidFill>
              <a:srgbClr val="3376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2727360" y="4632120"/>
              <a:ext cx="380880" cy="14400"/>
            </a:xfrm>
            <a:prstGeom prst="rect">
              <a:avLst/>
            </a:prstGeom>
            <a:solidFill>
              <a:srgbClr val="337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2727360" y="4646520"/>
              <a:ext cx="380880" cy="15840"/>
            </a:xfrm>
            <a:prstGeom prst="rect">
              <a:avLst/>
            </a:prstGeom>
            <a:solidFill>
              <a:srgbClr val="3379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2727360" y="4662360"/>
              <a:ext cx="380880" cy="15840"/>
            </a:xfrm>
            <a:prstGeom prst="rect">
              <a:avLst/>
            </a:prstGeom>
            <a:solidFill>
              <a:srgbClr val="337b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2727360" y="4678200"/>
              <a:ext cx="380880" cy="14400"/>
            </a:xfrm>
            <a:prstGeom prst="rect">
              <a:avLst/>
            </a:prstGeom>
            <a:solidFill>
              <a:srgbClr val="337d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2727360" y="4692600"/>
              <a:ext cx="380880" cy="15840"/>
            </a:xfrm>
            <a:prstGeom prst="rect">
              <a:avLst/>
            </a:prstGeom>
            <a:solidFill>
              <a:srgbClr val="337e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2727360" y="4708440"/>
              <a:ext cx="380880" cy="14040"/>
            </a:xfrm>
            <a:prstGeom prst="rect">
              <a:avLst/>
            </a:prstGeom>
            <a:solidFill>
              <a:srgbClr val="3380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2727360" y="4722480"/>
              <a:ext cx="380880" cy="16200"/>
            </a:xfrm>
            <a:prstGeom prst="rect">
              <a:avLst/>
            </a:prstGeom>
            <a:solidFill>
              <a:srgbClr val="3382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2727360" y="4738680"/>
              <a:ext cx="380880" cy="15840"/>
            </a:xfrm>
            <a:prstGeom prst="rect">
              <a:avLst/>
            </a:prstGeom>
            <a:solidFill>
              <a:srgbClr val="338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2727360" y="4754520"/>
              <a:ext cx="380880" cy="14040"/>
            </a:xfrm>
            <a:prstGeom prst="rect">
              <a:avLst/>
            </a:prstGeom>
            <a:solidFill>
              <a:srgbClr val="3385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2727360" y="4768560"/>
              <a:ext cx="380880" cy="15840"/>
            </a:xfrm>
            <a:prstGeom prst="rect">
              <a:avLst/>
            </a:prstGeom>
            <a:solidFill>
              <a:srgbClr val="338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2727360" y="4784400"/>
              <a:ext cx="380880" cy="14400"/>
            </a:xfrm>
            <a:prstGeom prst="rect">
              <a:avLst/>
            </a:prstGeom>
            <a:solidFill>
              <a:srgbClr val="338a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2727360" y="4798800"/>
              <a:ext cx="380880" cy="15840"/>
            </a:xfrm>
            <a:prstGeom prst="rect">
              <a:avLst/>
            </a:prstGeom>
            <a:solidFill>
              <a:srgbClr val="338c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2727360" y="4814640"/>
              <a:ext cx="380880" cy="15840"/>
            </a:xfrm>
            <a:prstGeom prst="rect">
              <a:avLst/>
            </a:prstGeom>
            <a:solidFill>
              <a:srgbClr val="338e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2727360" y="4830480"/>
              <a:ext cx="380880" cy="14400"/>
            </a:xfrm>
            <a:prstGeom prst="rect">
              <a:avLst/>
            </a:prstGeom>
            <a:solidFill>
              <a:srgbClr val="339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2727360" y="4844880"/>
              <a:ext cx="380880" cy="15840"/>
            </a:xfrm>
            <a:prstGeom prst="rect">
              <a:avLst/>
            </a:prstGeom>
            <a:solidFill>
              <a:srgbClr val="3391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2727360" y="4860720"/>
              <a:ext cx="380880" cy="14400"/>
            </a:xfrm>
            <a:prstGeom prst="rect">
              <a:avLst/>
            </a:prstGeom>
            <a:solidFill>
              <a:srgbClr val="339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2727360" y="4875120"/>
              <a:ext cx="380880" cy="15840"/>
            </a:xfrm>
            <a:prstGeom prst="rect">
              <a:avLst/>
            </a:prstGeom>
            <a:solidFill>
              <a:srgbClr val="3395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2727360" y="4890960"/>
              <a:ext cx="380880" cy="15840"/>
            </a:xfrm>
            <a:prstGeom prst="rect">
              <a:avLst/>
            </a:prstGeom>
            <a:solidFill>
              <a:srgbClr val="3397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2727360" y="4906800"/>
              <a:ext cx="380880" cy="14400"/>
            </a:xfrm>
            <a:prstGeom prst="rect">
              <a:avLst/>
            </a:prstGeom>
            <a:solidFill>
              <a:srgbClr val="339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2727360" y="4921200"/>
              <a:ext cx="380880" cy="15840"/>
            </a:xfrm>
            <a:prstGeom prst="rect">
              <a:avLst/>
            </a:prstGeom>
            <a:solidFill>
              <a:srgbClr val="339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2727360" y="4937040"/>
              <a:ext cx="380880" cy="14040"/>
            </a:xfrm>
            <a:prstGeom prst="rect">
              <a:avLst/>
            </a:prstGeom>
            <a:solidFill>
              <a:srgbClr val="339e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2727360" y="4951080"/>
              <a:ext cx="380880" cy="16200"/>
            </a:xfrm>
            <a:prstGeom prst="rect">
              <a:avLst/>
            </a:prstGeom>
            <a:solidFill>
              <a:srgbClr val="33a0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2727360" y="4967280"/>
              <a:ext cx="380880" cy="15840"/>
            </a:xfrm>
            <a:prstGeom prst="rect">
              <a:avLst/>
            </a:prstGeom>
            <a:solidFill>
              <a:srgbClr val="33a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2727360" y="4983120"/>
              <a:ext cx="380880" cy="14040"/>
            </a:xfrm>
            <a:prstGeom prst="rect">
              <a:avLst/>
            </a:prstGeom>
            <a:solidFill>
              <a:srgbClr val="33a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2727360" y="4997160"/>
              <a:ext cx="380880" cy="15840"/>
            </a:xfrm>
            <a:prstGeom prst="rect">
              <a:avLst/>
            </a:prstGeom>
            <a:solidFill>
              <a:srgbClr val="33a5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2727360" y="5013000"/>
              <a:ext cx="380880" cy="14400"/>
            </a:xfrm>
            <a:prstGeom prst="rect">
              <a:avLst/>
            </a:prstGeom>
            <a:solidFill>
              <a:srgbClr val="33a7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2727360" y="5027400"/>
              <a:ext cx="380880" cy="15840"/>
            </a:xfrm>
            <a:prstGeom prst="rect">
              <a:avLst/>
            </a:prstGeom>
            <a:solidFill>
              <a:srgbClr val="33a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2727360" y="5043240"/>
              <a:ext cx="380880" cy="15840"/>
            </a:xfrm>
            <a:prstGeom prst="rect">
              <a:avLst/>
            </a:prstGeom>
            <a:solidFill>
              <a:srgbClr val="33a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2727360" y="5059080"/>
              <a:ext cx="380880" cy="14400"/>
            </a:xfrm>
            <a:prstGeom prst="rect">
              <a:avLst/>
            </a:prstGeom>
            <a:solidFill>
              <a:srgbClr val="33a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2727360" y="5073480"/>
              <a:ext cx="380880" cy="15840"/>
            </a:xfrm>
            <a:prstGeom prst="rect">
              <a:avLst/>
            </a:prstGeom>
            <a:solidFill>
              <a:srgbClr val="33a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2727360" y="5089320"/>
              <a:ext cx="380880" cy="14400"/>
            </a:xfrm>
            <a:prstGeom prst="rect">
              <a:avLst/>
            </a:prstGeom>
            <a:solidFill>
              <a:srgbClr val="33b0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2727360" y="5103720"/>
              <a:ext cx="380880" cy="15840"/>
            </a:xfrm>
            <a:prstGeom prst="rect">
              <a:avLst/>
            </a:prstGeom>
            <a:solidFill>
              <a:srgbClr val="33b2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2727360" y="5119560"/>
              <a:ext cx="380880" cy="15840"/>
            </a:xfrm>
            <a:prstGeom prst="rect">
              <a:avLst/>
            </a:prstGeom>
            <a:solidFill>
              <a:srgbClr val="33b3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2727360" y="5135400"/>
              <a:ext cx="380880" cy="14400"/>
            </a:xfrm>
            <a:prstGeom prst="rect">
              <a:avLst/>
            </a:prstGeom>
            <a:solidFill>
              <a:srgbClr val="33b5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2727360" y="5149800"/>
              <a:ext cx="380880" cy="15840"/>
            </a:xfrm>
            <a:prstGeom prst="rect">
              <a:avLst/>
            </a:prstGeom>
            <a:solidFill>
              <a:srgbClr val="33b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2727360" y="5165640"/>
              <a:ext cx="380880" cy="14040"/>
            </a:xfrm>
            <a:prstGeom prst="rect">
              <a:avLst/>
            </a:prstGeom>
            <a:solidFill>
              <a:srgbClr val="33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2727360" y="5179680"/>
              <a:ext cx="380880" cy="16200"/>
            </a:xfrm>
            <a:prstGeom prst="rect">
              <a:avLst/>
            </a:prstGeom>
            <a:solidFill>
              <a:srgbClr val="33b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2727360" y="5195880"/>
              <a:ext cx="380880" cy="15840"/>
            </a:xfrm>
            <a:prstGeom prst="rect">
              <a:avLst/>
            </a:prstGeom>
            <a:solidFill>
              <a:srgbClr val="33bb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2727360" y="5211720"/>
              <a:ext cx="380880" cy="14040"/>
            </a:xfrm>
            <a:prstGeom prst="rect">
              <a:avLst/>
            </a:prstGeom>
            <a:solidFill>
              <a:srgbClr val="33b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2727360" y="5225760"/>
              <a:ext cx="380880" cy="15840"/>
            </a:xfrm>
            <a:prstGeom prst="rect">
              <a:avLst/>
            </a:prstGeom>
            <a:solidFill>
              <a:srgbClr val="33b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2727360" y="5241600"/>
              <a:ext cx="380880" cy="14400"/>
            </a:xfrm>
            <a:prstGeom prst="rect">
              <a:avLst/>
            </a:prstGeom>
            <a:solidFill>
              <a:srgbClr val="33be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2727360" y="5256000"/>
              <a:ext cx="380880" cy="15840"/>
            </a:xfrm>
            <a:prstGeom prst="rect">
              <a:avLst/>
            </a:prstGeom>
            <a:solidFill>
              <a:srgbClr val="33b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2727360" y="5271840"/>
              <a:ext cx="380880" cy="15840"/>
            </a:xfrm>
            <a:prstGeom prst="rect">
              <a:avLst/>
            </a:prstGeom>
            <a:solidFill>
              <a:srgbClr val="33c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2727360" y="5287680"/>
              <a:ext cx="380880" cy="14400"/>
            </a:xfrm>
            <a:prstGeom prst="rect">
              <a:avLst/>
            </a:prstGeom>
            <a:solidFill>
              <a:srgbClr val="33c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2727360" y="5302080"/>
              <a:ext cx="380880" cy="15840"/>
            </a:xfrm>
            <a:prstGeom prst="rect">
              <a:avLst/>
            </a:prstGeom>
            <a:solidFill>
              <a:srgbClr val="33c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2727360" y="5317920"/>
              <a:ext cx="380880" cy="14400"/>
            </a:xfrm>
            <a:prstGeom prst="rect">
              <a:avLst/>
            </a:prstGeom>
            <a:solidFill>
              <a:srgbClr val="33c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2727360" y="5332320"/>
              <a:ext cx="380880" cy="15840"/>
            </a:xfrm>
            <a:prstGeom prst="rect">
              <a:avLst/>
            </a:prstGeom>
            <a:solidFill>
              <a:srgbClr val="33c4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2727360" y="5348160"/>
              <a:ext cx="380880" cy="15840"/>
            </a:xfrm>
            <a:prstGeom prst="rect">
              <a:avLst/>
            </a:prstGeom>
            <a:solidFill>
              <a:srgbClr val="33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2727360" y="5364000"/>
              <a:ext cx="380880" cy="14400"/>
            </a:xfrm>
            <a:prstGeom prst="rect">
              <a:avLst/>
            </a:prstGeom>
            <a:solidFill>
              <a:srgbClr val="33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2727360" y="5378400"/>
              <a:ext cx="380880" cy="15840"/>
            </a:xfrm>
            <a:prstGeom prst="rect">
              <a:avLst/>
            </a:prstGeom>
            <a:solidFill>
              <a:srgbClr val="33c6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2727360" y="5394240"/>
              <a:ext cx="380880" cy="14040"/>
            </a:xfrm>
            <a:prstGeom prst="rect">
              <a:avLst/>
            </a:prstGeom>
            <a:solidFill>
              <a:srgbClr val="33c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2727360" y="5408280"/>
              <a:ext cx="380880" cy="16200"/>
            </a:xfrm>
            <a:prstGeom prst="rect">
              <a:avLst/>
            </a:prstGeom>
            <a:solidFill>
              <a:srgbClr val="33c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2727360" y="5424480"/>
              <a:ext cx="380880" cy="15840"/>
            </a:xfrm>
            <a:prstGeom prst="rect">
              <a:avLst/>
            </a:prstGeom>
            <a:solidFill>
              <a:srgbClr val="33c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2727360" y="5440320"/>
              <a:ext cx="380880" cy="14040"/>
            </a:xfrm>
            <a:prstGeom prst="rect">
              <a:avLst/>
            </a:prstGeom>
            <a:solidFill>
              <a:srgbClr val="33c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2727360" y="5454360"/>
              <a:ext cx="380880" cy="15840"/>
            </a:xfrm>
            <a:prstGeom prst="rect">
              <a:avLst/>
            </a:prstGeom>
            <a:solidFill>
              <a:srgbClr val="33c9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2727360" y="5470200"/>
              <a:ext cx="380880" cy="14400"/>
            </a:xfrm>
            <a:prstGeom prst="rect">
              <a:avLst/>
            </a:prstGeom>
            <a:solidFill>
              <a:srgbClr val="33c9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2727360" y="5484600"/>
              <a:ext cx="380880" cy="15840"/>
            </a:xfrm>
            <a:prstGeom prst="rect">
              <a:avLst/>
            </a:prstGeom>
            <a:solidFill>
              <a:srgbClr val="33ca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2727360" y="5500440"/>
              <a:ext cx="380880" cy="15840"/>
            </a:xfrm>
            <a:prstGeom prst="rect">
              <a:avLst/>
            </a:prstGeom>
            <a:solidFill>
              <a:srgbClr val="33ca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2727360" y="5516280"/>
              <a:ext cx="380880" cy="14400"/>
            </a:xfrm>
            <a:prstGeom prst="rect">
              <a:avLst/>
            </a:prstGeom>
            <a:solidFill>
              <a:srgbClr val="33c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2727360" y="5530680"/>
              <a:ext cx="380880" cy="15840"/>
            </a:xfrm>
            <a:prstGeom prst="rect">
              <a:avLst/>
            </a:prstGeom>
            <a:solidFill>
              <a:srgbClr val="33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2727360" y="5546520"/>
              <a:ext cx="380880" cy="14400"/>
            </a:xfrm>
            <a:prstGeom prst="rect">
              <a:avLst/>
            </a:prstGeom>
            <a:solidFill>
              <a:srgbClr val="33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2727360" y="5560920"/>
              <a:ext cx="380880" cy="15840"/>
            </a:xfrm>
            <a:prstGeom prst="rect">
              <a:avLst/>
            </a:prstGeom>
            <a:solidFill>
              <a:srgbClr val="33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2727360" y="5576760"/>
              <a:ext cx="380880" cy="158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21" name=""/>
          <p:cNvSpPr/>
          <p:nvPr/>
        </p:nvSpPr>
        <p:spPr>
          <a:xfrm>
            <a:off x="2727360" y="4343400"/>
            <a:ext cx="380880" cy="12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22" name=""/>
          <p:cNvGrpSpPr/>
          <p:nvPr/>
        </p:nvGrpSpPr>
        <p:grpSpPr>
          <a:xfrm>
            <a:off x="3656160" y="4525920"/>
            <a:ext cx="380880" cy="1066680"/>
            <a:chOff x="3656160" y="4525920"/>
            <a:chExt cx="380880" cy="1066680"/>
          </a:xfrm>
        </p:grpSpPr>
        <p:sp>
          <p:nvSpPr>
            <p:cNvPr id="2023" name=""/>
            <p:cNvSpPr/>
            <p:nvPr/>
          </p:nvSpPr>
          <p:spPr>
            <a:xfrm>
              <a:off x="3656160" y="4525920"/>
              <a:ext cx="380880" cy="14040"/>
            </a:xfrm>
            <a:prstGeom prst="rect">
              <a:avLst/>
            </a:prstGeom>
            <a:solidFill>
              <a:srgbClr val="3366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3656160" y="4539960"/>
              <a:ext cx="380880" cy="15840"/>
            </a:xfrm>
            <a:prstGeom prst="rect">
              <a:avLst/>
            </a:prstGeom>
            <a:solidFill>
              <a:srgbClr val="3366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3656160" y="4555800"/>
              <a:ext cx="380880" cy="14400"/>
            </a:xfrm>
            <a:prstGeom prst="rect">
              <a:avLst/>
            </a:prstGeom>
            <a:solidFill>
              <a:srgbClr val="3367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3656160" y="4570200"/>
              <a:ext cx="380880" cy="15840"/>
            </a:xfrm>
            <a:prstGeom prst="rect">
              <a:avLst/>
            </a:prstGeom>
            <a:solidFill>
              <a:srgbClr val="3367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3656160" y="4586040"/>
              <a:ext cx="380880" cy="15840"/>
            </a:xfrm>
            <a:prstGeom prst="rect">
              <a:avLst/>
            </a:prstGeom>
            <a:solidFill>
              <a:srgbClr val="336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3656160" y="4601880"/>
              <a:ext cx="380880" cy="14400"/>
            </a:xfrm>
            <a:prstGeom prst="rect">
              <a:avLst/>
            </a:prstGeom>
            <a:solidFill>
              <a:srgbClr val="3369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3656160" y="4616280"/>
              <a:ext cx="380880" cy="15840"/>
            </a:xfrm>
            <a:prstGeom prst="rect">
              <a:avLst/>
            </a:prstGeom>
            <a:solidFill>
              <a:srgbClr val="336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3656160" y="4632120"/>
              <a:ext cx="380880" cy="14400"/>
            </a:xfrm>
            <a:prstGeom prst="rect">
              <a:avLst/>
            </a:prstGeom>
            <a:solidFill>
              <a:srgbClr val="336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3656160" y="4646520"/>
              <a:ext cx="380880" cy="15840"/>
            </a:xfrm>
            <a:prstGeom prst="rect">
              <a:avLst/>
            </a:prstGeom>
            <a:solidFill>
              <a:srgbClr val="336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3656160" y="4662360"/>
              <a:ext cx="380880" cy="15840"/>
            </a:xfrm>
            <a:prstGeom prst="rect">
              <a:avLst/>
            </a:prstGeom>
            <a:solidFill>
              <a:srgbClr val="336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3656160" y="4678200"/>
              <a:ext cx="380880" cy="14400"/>
            </a:xfrm>
            <a:prstGeom prst="rect">
              <a:avLst/>
            </a:prstGeom>
            <a:solidFill>
              <a:srgbClr val="336e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3656160" y="4692600"/>
              <a:ext cx="380880" cy="15840"/>
            </a:xfrm>
            <a:prstGeom prst="rect">
              <a:avLst/>
            </a:prstGeom>
            <a:solidFill>
              <a:srgbClr val="3370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3656160" y="4708440"/>
              <a:ext cx="380880" cy="14040"/>
            </a:xfrm>
            <a:prstGeom prst="rect">
              <a:avLst/>
            </a:prstGeom>
            <a:solidFill>
              <a:srgbClr val="3371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3656160" y="4722480"/>
              <a:ext cx="380880" cy="16200"/>
            </a:xfrm>
            <a:prstGeom prst="rect">
              <a:avLst/>
            </a:prstGeom>
            <a:solidFill>
              <a:srgbClr val="337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3656160" y="4738680"/>
              <a:ext cx="380880" cy="15840"/>
            </a:xfrm>
            <a:prstGeom prst="rect">
              <a:avLst/>
            </a:prstGeom>
            <a:solidFill>
              <a:srgbClr val="3374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3656160" y="4754520"/>
              <a:ext cx="380880" cy="14040"/>
            </a:xfrm>
            <a:prstGeom prst="rect">
              <a:avLst/>
            </a:prstGeom>
            <a:solidFill>
              <a:srgbClr val="3376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3656160" y="4768560"/>
              <a:ext cx="380880" cy="15840"/>
            </a:xfrm>
            <a:prstGeom prst="rect">
              <a:avLst/>
            </a:prstGeom>
            <a:solidFill>
              <a:srgbClr val="337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3656160" y="4784400"/>
              <a:ext cx="380880" cy="14400"/>
            </a:xfrm>
            <a:prstGeom prst="rect">
              <a:avLst/>
            </a:prstGeom>
            <a:solidFill>
              <a:srgbClr val="3379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3656160" y="4798800"/>
              <a:ext cx="380880" cy="15840"/>
            </a:xfrm>
            <a:prstGeom prst="rect">
              <a:avLst/>
            </a:prstGeom>
            <a:solidFill>
              <a:srgbClr val="337b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3656160" y="4814640"/>
              <a:ext cx="380880" cy="15840"/>
            </a:xfrm>
            <a:prstGeom prst="rect">
              <a:avLst/>
            </a:prstGeom>
            <a:solidFill>
              <a:srgbClr val="337d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3656160" y="4830480"/>
              <a:ext cx="380880" cy="14400"/>
            </a:xfrm>
            <a:prstGeom prst="rect">
              <a:avLst/>
            </a:prstGeom>
            <a:solidFill>
              <a:srgbClr val="337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3656160" y="4844880"/>
              <a:ext cx="380880" cy="15840"/>
            </a:xfrm>
            <a:prstGeom prst="rect">
              <a:avLst/>
            </a:prstGeom>
            <a:solidFill>
              <a:srgbClr val="3381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3656160" y="4860720"/>
              <a:ext cx="380880" cy="14400"/>
            </a:xfrm>
            <a:prstGeom prst="rect">
              <a:avLst/>
            </a:prstGeom>
            <a:solidFill>
              <a:srgbClr val="338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3656160" y="4875120"/>
              <a:ext cx="380880" cy="15840"/>
            </a:xfrm>
            <a:prstGeom prst="rect">
              <a:avLst/>
            </a:prstGeom>
            <a:solidFill>
              <a:srgbClr val="3385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3656160" y="4890960"/>
              <a:ext cx="380880" cy="15840"/>
            </a:xfrm>
            <a:prstGeom prst="rect">
              <a:avLst/>
            </a:prstGeom>
            <a:solidFill>
              <a:srgbClr val="3388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3656160" y="4906800"/>
              <a:ext cx="380880" cy="14400"/>
            </a:xfrm>
            <a:prstGeom prst="rect">
              <a:avLst/>
            </a:prstGeom>
            <a:solidFill>
              <a:srgbClr val="338a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3656160" y="4921200"/>
              <a:ext cx="380880" cy="15840"/>
            </a:xfrm>
            <a:prstGeom prst="rect">
              <a:avLst/>
            </a:prstGeom>
            <a:solidFill>
              <a:srgbClr val="338c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3656160" y="4937040"/>
              <a:ext cx="380880" cy="14040"/>
            </a:xfrm>
            <a:prstGeom prst="rect">
              <a:avLst/>
            </a:prstGeom>
            <a:solidFill>
              <a:srgbClr val="33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3656160" y="4951080"/>
              <a:ext cx="380880" cy="16200"/>
            </a:xfrm>
            <a:prstGeom prst="rect">
              <a:avLst/>
            </a:prstGeom>
            <a:solidFill>
              <a:srgbClr val="3391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3656160" y="4967280"/>
              <a:ext cx="380880" cy="15840"/>
            </a:xfrm>
            <a:prstGeom prst="rect">
              <a:avLst/>
            </a:prstGeom>
            <a:solidFill>
              <a:srgbClr val="339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3656160" y="4983120"/>
              <a:ext cx="380880" cy="14040"/>
            </a:xfrm>
            <a:prstGeom prst="rect">
              <a:avLst/>
            </a:prstGeom>
            <a:solidFill>
              <a:srgbClr val="3396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3656160" y="4997160"/>
              <a:ext cx="380880" cy="15840"/>
            </a:xfrm>
            <a:prstGeom prst="rect">
              <a:avLst/>
            </a:prstGeom>
            <a:solidFill>
              <a:srgbClr val="3399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3656160" y="5013000"/>
              <a:ext cx="380880" cy="14400"/>
            </a:xfrm>
            <a:prstGeom prst="rect">
              <a:avLst/>
            </a:prstGeom>
            <a:solidFill>
              <a:srgbClr val="339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3656160" y="5027400"/>
              <a:ext cx="380880" cy="15840"/>
            </a:xfrm>
            <a:prstGeom prst="rect">
              <a:avLst/>
            </a:prstGeom>
            <a:solidFill>
              <a:srgbClr val="339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3656160" y="5043240"/>
              <a:ext cx="380880" cy="15840"/>
            </a:xfrm>
            <a:prstGeom prst="rect">
              <a:avLst/>
            </a:prstGeom>
            <a:solidFill>
              <a:srgbClr val="33a0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3656160" y="5059080"/>
              <a:ext cx="380880" cy="14400"/>
            </a:xfrm>
            <a:prstGeom prst="rect">
              <a:avLst/>
            </a:prstGeom>
            <a:solidFill>
              <a:srgbClr val="33a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3656160" y="5073480"/>
              <a:ext cx="380880" cy="15840"/>
            </a:xfrm>
            <a:prstGeom prst="rect">
              <a:avLst/>
            </a:prstGeom>
            <a:solidFill>
              <a:srgbClr val="33a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3656160" y="5089320"/>
              <a:ext cx="380880" cy="14400"/>
            </a:xfrm>
            <a:prstGeom prst="rect">
              <a:avLst/>
            </a:prstGeom>
            <a:solidFill>
              <a:srgbClr val="33a7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3656160" y="5103720"/>
              <a:ext cx="380880" cy="15840"/>
            </a:xfrm>
            <a:prstGeom prst="rect">
              <a:avLst/>
            </a:prstGeom>
            <a:solidFill>
              <a:srgbClr val="33a8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3656160" y="5119560"/>
              <a:ext cx="380880" cy="15840"/>
            </a:xfrm>
            <a:prstGeom prst="rect">
              <a:avLst/>
            </a:prstGeom>
            <a:solidFill>
              <a:srgbClr val="33a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3656160" y="5135400"/>
              <a:ext cx="380880" cy="14400"/>
            </a:xfrm>
            <a:prstGeom prst="rect">
              <a:avLst/>
            </a:prstGeom>
            <a:solidFill>
              <a:srgbClr val="33a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3656160" y="5149800"/>
              <a:ext cx="380880" cy="15840"/>
            </a:xfrm>
            <a:prstGeom prst="rect">
              <a:avLst/>
            </a:prstGeom>
            <a:solidFill>
              <a:srgbClr val="33af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3656160" y="5165640"/>
              <a:ext cx="380880" cy="14040"/>
            </a:xfrm>
            <a:prstGeom prst="rect">
              <a:avLst/>
            </a:prstGeom>
            <a:solidFill>
              <a:srgbClr val="33b1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3656160" y="5179680"/>
              <a:ext cx="380880" cy="16200"/>
            </a:xfrm>
            <a:prstGeom prst="rect">
              <a:avLst/>
            </a:prstGeom>
            <a:solidFill>
              <a:srgbClr val="33b3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3656160" y="5195880"/>
              <a:ext cx="380880" cy="15840"/>
            </a:xfrm>
            <a:prstGeom prst="rect">
              <a:avLst/>
            </a:prstGeom>
            <a:solidFill>
              <a:srgbClr val="33b4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3656160" y="5211720"/>
              <a:ext cx="380880" cy="14040"/>
            </a:xfrm>
            <a:prstGeom prst="rect">
              <a:avLst/>
            </a:prstGeom>
            <a:solidFill>
              <a:srgbClr val="33b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3656160" y="5225760"/>
              <a:ext cx="380880" cy="15840"/>
            </a:xfrm>
            <a:prstGeom prst="rect">
              <a:avLst/>
            </a:prstGeom>
            <a:solidFill>
              <a:srgbClr val="33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3656160" y="5241600"/>
              <a:ext cx="380880" cy="14400"/>
            </a:xfrm>
            <a:prstGeom prst="rect">
              <a:avLst/>
            </a:prstGeom>
            <a:solidFill>
              <a:srgbClr val="33b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3656160" y="5256000"/>
              <a:ext cx="380880" cy="15840"/>
            </a:xfrm>
            <a:prstGeom prst="rect">
              <a:avLst/>
            </a:prstGeom>
            <a:solidFill>
              <a:srgbClr val="33bb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3656160" y="5271840"/>
              <a:ext cx="380880" cy="15840"/>
            </a:xfrm>
            <a:prstGeom prst="rect">
              <a:avLst/>
            </a:prstGeom>
            <a:solidFill>
              <a:srgbClr val="33b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3656160" y="5287680"/>
              <a:ext cx="380880" cy="14400"/>
            </a:xfrm>
            <a:prstGeom prst="rect">
              <a:avLst/>
            </a:prstGeom>
            <a:solidFill>
              <a:srgbClr val="33be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3656160" y="5302080"/>
              <a:ext cx="380880" cy="15840"/>
            </a:xfrm>
            <a:prstGeom prst="rect">
              <a:avLst/>
            </a:prstGeom>
            <a:solidFill>
              <a:srgbClr val="33b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3656160" y="5317920"/>
              <a:ext cx="380880" cy="14400"/>
            </a:xfrm>
            <a:prstGeom prst="rect">
              <a:avLst/>
            </a:prstGeom>
            <a:solidFill>
              <a:srgbClr val="33c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3656160" y="5332320"/>
              <a:ext cx="380880" cy="15840"/>
            </a:xfrm>
            <a:prstGeom prst="rect">
              <a:avLst/>
            </a:prstGeom>
            <a:solidFill>
              <a:srgbClr val="33c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3656160" y="5348160"/>
              <a:ext cx="380880" cy="15840"/>
            </a:xfrm>
            <a:prstGeom prst="rect">
              <a:avLst/>
            </a:prstGeom>
            <a:solidFill>
              <a:srgbClr val="33c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3656160" y="5364000"/>
              <a:ext cx="380880" cy="14400"/>
            </a:xfrm>
            <a:prstGeom prst="rect">
              <a:avLst/>
            </a:prstGeom>
            <a:solidFill>
              <a:srgbClr val="33c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3656160" y="5378400"/>
              <a:ext cx="380880" cy="15840"/>
            </a:xfrm>
            <a:prstGeom prst="rect">
              <a:avLst/>
            </a:prstGeom>
            <a:solidFill>
              <a:srgbClr val="33c4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3656160" y="5394240"/>
              <a:ext cx="380880" cy="14040"/>
            </a:xfrm>
            <a:prstGeom prst="rect">
              <a:avLst/>
            </a:prstGeom>
            <a:solidFill>
              <a:srgbClr val="33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3656160" y="5408280"/>
              <a:ext cx="380880" cy="16200"/>
            </a:xfrm>
            <a:prstGeom prst="rect">
              <a:avLst/>
            </a:prstGeom>
            <a:solidFill>
              <a:srgbClr val="33c6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3656160" y="5424480"/>
              <a:ext cx="380880" cy="15840"/>
            </a:xfrm>
            <a:prstGeom prst="rect">
              <a:avLst/>
            </a:prstGeom>
            <a:solidFill>
              <a:srgbClr val="33c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3656160" y="5440320"/>
              <a:ext cx="380880" cy="14040"/>
            </a:xfrm>
            <a:prstGeom prst="rect">
              <a:avLst/>
            </a:prstGeom>
            <a:solidFill>
              <a:srgbClr val="33c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3656160" y="5454360"/>
              <a:ext cx="380880" cy="15840"/>
            </a:xfrm>
            <a:prstGeom prst="rect">
              <a:avLst/>
            </a:prstGeom>
            <a:solidFill>
              <a:srgbClr val="33c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3656160" y="5470200"/>
              <a:ext cx="380880" cy="14400"/>
            </a:xfrm>
            <a:prstGeom prst="rect">
              <a:avLst/>
            </a:prstGeom>
            <a:solidFill>
              <a:srgbClr val="33c9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3656160" y="5484600"/>
              <a:ext cx="380880" cy="15840"/>
            </a:xfrm>
            <a:prstGeom prst="rect">
              <a:avLst/>
            </a:prstGeom>
            <a:solidFill>
              <a:srgbClr val="33c9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3656160" y="5500440"/>
              <a:ext cx="380880" cy="15840"/>
            </a:xfrm>
            <a:prstGeom prst="rect">
              <a:avLst/>
            </a:prstGeom>
            <a:solidFill>
              <a:srgbClr val="33ca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3656160" y="5516280"/>
              <a:ext cx="380880" cy="14400"/>
            </a:xfrm>
            <a:prstGeom prst="rect">
              <a:avLst/>
            </a:prstGeom>
            <a:solidFill>
              <a:srgbClr val="33ca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3656160" y="5530680"/>
              <a:ext cx="380880" cy="15840"/>
            </a:xfrm>
            <a:prstGeom prst="rect">
              <a:avLst/>
            </a:prstGeom>
            <a:solidFill>
              <a:srgbClr val="33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3656160" y="5546520"/>
              <a:ext cx="380880" cy="14400"/>
            </a:xfrm>
            <a:prstGeom prst="rect">
              <a:avLst/>
            </a:prstGeom>
            <a:solidFill>
              <a:srgbClr val="33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3656160" y="5560920"/>
              <a:ext cx="380880" cy="15840"/>
            </a:xfrm>
            <a:prstGeom prst="rect">
              <a:avLst/>
            </a:prstGeom>
            <a:solidFill>
              <a:srgbClr val="33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3656160" y="5576760"/>
              <a:ext cx="380880" cy="158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93" name=""/>
          <p:cNvSpPr/>
          <p:nvPr/>
        </p:nvSpPr>
        <p:spPr>
          <a:xfrm>
            <a:off x="3656160" y="4525920"/>
            <a:ext cx="3808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4" name=""/>
          <p:cNvGrpSpPr/>
          <p:nvPr/>
        </p:nvGrpSpPr>
        <p:grpSpPr>
          <a:xfrm>
            <a:off x="4586400" y="4387680"/>
            <a:ext cx="365040" cy="1204920"/>
            <a:chOff x="4586400" y="4387680"/>
            <a:chExt cx="365040" cy="1204920"/>
          </a:xfrm>
        </p:grpSpPr>
        <p:sp>
          <p:nvSpPr>
            <p:cNvPr id="2095" name=""/>
            <p:cNvSpPr/>
            <p:nvPr/>
          </p:nvSpPr>
          <p:spPr>
            <a:xfrm>
              <a:off x="4586400" y="4387680"/>
              <a:ext cx="365040" cy="15840"/>
            </a:xfrm>
            <a:prstGeom prst="rect">
              <a:avLst/>
            </a:prstGeom>
            <a:solidFill>
              <a:srgbClr val="3366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4586400" y="4403520"/>
              <a:ext cx="365040" cy="14400"/>
            </a:xfrm>
            <a:prstGeom prst="rect">
              <a:avLst/>
            </a:prstGeom>
            <a:solidFill>
              <a:srgbClr val="3366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4586400" y="4417920"/>
              <a:ext cx="365040" cy="15840"/>
            </a:xfrm>
            <a:prstGeom prst="rect">
              <a:avLst/>
            </a:prstGeom>
            <a:solidFill>
              <a:srgbClr val="3367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4586400" y="4433760"/>
              <a:ext cx="365040" cy="15840"/>
            </a:xfrm>
            <a:prstGeom prst="rect">
              <a:avLst/>
            </a:prstGeom>
            <a:solidFill>
              <a:srgbClr val="3367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4586400" y="4449600"/>
              <a:ext cx="365040" cy="14400"/>
            </a:xfrm>
            <a:prstGeom prst="rect">
              <a:avLst/>
            </a:prstGeom>
            <a:solidFill>
              <a:srgbClr val="336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4586400" y="4464000"/>
              <a:ext cx="365040" cy="15840"/>
            </a:xfrm>
            <a:prstGeom prst="rect">
              <a:avLst/>
            </a:prstGeom>
            <a:solidFill>
              <a:srgbClr val="336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4586400" y="4479840"/>
              <a:ext cx="365040" cy="14040"/>
            </a:xfrm>
            <a:prstGeom prst="rect">
              <a:avLst/>
            </a:prstGeom>
            <a:solidFill>
              <a:srgbClr val="3369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4586400" y="4493880"/>
              <a:ext cx="365040" cy="16200"/>
            </a:xfrm>
            <a:prstGeom prst="rect">
              <a:avLst/>
            </a:prstGeom>
            <a:solidFill>
              <a:srgbClr val="336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4586400" y="4510080"/>
              <a:ext cx="365040" cy="15840"/>
            </a:xfrm>
            <a:prstGeom prst="rect">
              <a:avLst/>
            </a:prstGeom>
            <a:solidFill>
              <a:srgbClr val="336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4586400" y="4525920"/>
              <a:ext cx="365040" cy="14040"/>
            </a:xfrm>
            <a:prstGeom prst="rect">
              <a:avLst/>
            </a:prstGeom>
            <a:solidFill>
              <a:srgbClr val="336c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4586400" y="4539960"/>
              <a:ext cx="365040" cy="15840"/>
            </a:xfrm>
            <a:prstGeom prst="rect">
              <a:avLst/>
            </a:prstGeom>
            <a:solidFill>
              <a:srgbClr val="336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4586400" y="4555800"/>
              <a:ext cx="365040" cy="14400"/>
            </a:xfrm>
            <a:prstGeom prst="rect">
              <a:avLst/>
            </a:prstGeom>
            <a:solidFill>
              <a:srgbClr val="336e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4586400" y="4570200"/>
              <a:ext cx="365040" cy="15840"/>
            </a:xfrm>
            <a:prstGeom prst="rect">
              <a:avLst/>
            </a:prstGeom>
            <a:solidFill>
              <a:srgbClr val="336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4586400" y="4586040"/>
              <a:ext cx="365040" cy="15840"/>
            </a:xfrm>
            <a:prstGeom prst="rect">
              <a:avLst/>
            </a:prstGeom>
            <a:solidFill>
              <a:srgbClr val="3370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4586400" y="4601880"/>
              <a:ext cx="365040" cy="14400"/>
            </a:xfrm>
            <a:prstGeom prst="rect">
              <a:avLst/>
            </a:prstGeom>
            <a:solidFill>
              <a:srgbClr val="3371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4586400" y="4616280"/>
              <a:ext cx="365040" cy="15840"/>
            </a:xfrm>
            <a:prstGeom prst="rect">
              <a:avLst/>
            </a:prstGeom>
            <a:solidFill>
              <a:srgbClr val="337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4586400" y="4632120"/>
              <a:ext cx="365040" cy="14400"/>
            </a:xfrm>
            <a:prstGeom prst="rect">
              <a:avLst/>
            </a:prstGeom>
            <a:solidFill>
              <a:srgbClr val="3374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4586400" y="4646520"/>
              <a:ext cx="365040" cy="15840"/>
            </a:xfrm>
            <a:prstGeom prst="rect">
              <a:avLst/>
            </a:prstGeom>
            <a:solidFill>
              <a:srgbClr val="3376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4586400" y="4662360"/>
              <a:ext cx="365040" cy="15840"/>
            </a:xfrm>
            <a:prstGeom prst="rect">
              <a:avLst/>
            </a:prstGeom>
            <a:solidFill>
              <a:srgbClr val="337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4586400" y="4678200"/>
              <a:ext cx="365040" cy="14400"/>
            </a:xfrm>
            <a:prstGeom prst="rect">
              <a:avLst/>
            </a:prstGeom>
            <a:solidFill>
              <a:srgbClr val="3379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4586400" y="4692600"/>
              <a:ext cx="365040" cy="15840"/>
            </a:xfrm>
            <a:prstGeom prst="rect">
              <a:avLst/>
            </a:prstGeom>
            <a:solidFill>
              <a:srgbClr val="337b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4586400" y="4708440"/>
              <a:ext cx="365040" cy="14040"/>
            </a:xfrm>
            <a:prstGeom prst="rect">
              <a:avLst/>
            </a:prstGeom>
            <a:solidFill>
              <a:srgbClr val="337c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4586400" y="4722480"/>
              <a:ext cx="365040" cy="16200"/>
            </a:xfrm>
            <a:prstGeom prst="rect">
              <a:avLst/>
            </a:prstGeom>
            <a:solidFill>
              <a:srgbClr val="337e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4586400" y="4738680"/>
              <a:ext cx="365040" cy="15840"/>
            </a:xfrm>
            <a:prstGeom prst="rect">
              <a:avLst/>
            </a:prstGeom>
            <a:solidFill>
              <a:srgbClr val="3380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4586400" y="4754520"/>
              <a:ext cx="365040" cy="14040"/>
            </a:xfrm>
            <a:prstGeom prst="rect">
              <a:avLst/>
            </a:prstGeom>
            <a:solidFill>
              <a:srgbClr val="3382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4586400" y="4768560"/>
              <a:ext cx="365040" cy="15840"/>
            </a:xfrm>
            <a:prstGeom prst="rect">
              <a:avLst/>
            </a:prstGeom>
            <a:solidFill>
              <a:srgbClr val="338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4586400" y="4784400"/>
              <a:ext cx="365040" cy="14400"/>
            </a:xfrm>
            <a:prstGeom prst="rect">
              <a:avLst/>
            </a:prstGeom>
            <a:solidFill>
              <a:srgbClr val="3385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4586400" y="4798800"/>
              <a:ext cx="365040" cy="15840"/>
            </a:xfrm>
            <a:prstGeom prst="rect">
              <a:avLst/>
            </a:prstGeom>
            <a:solidFill>
              <a:srgbClr val="3388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4586400" y="4814640"/>
              <a:ext cx="365040" cy="15840"/>
            </a:xfrm>
            <a:prstGeom prst="rect">
              <a:avLst/>
            </a:prstGeom>
            <a:solidFill>
              <a:srgbClr val="338a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4586400" y="4830480"/>
              <a:ext cx="365040" cy="14400"/>
            </a:xfrm>
            <a:prstGeom prst="rect">
              <a:avLst/>
            </a:prstGeom>
            <a:solidFill>
              <a:srgbClr val="338c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4586400" y="4844880"/>
              <a:ext cx="365040" cy="15840"/>
            </a:xfrm>
            <a:prstGeom prst="rect">
              <a:avLst/>
            </a:prstGeom>
            <a:solidFill>
              <a:srgbClr val="338e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4586400" y="4860720"/>
              <a:ext cx="365040" cy="14400"/>
            </a:xfrm>
            <a:prstGeom prst="rect">
              <a:avLst/>
            </a:prstGeom>
            <a:solidFill>
              <a:srgbClr val="339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4586400" y="4875120"/>
              <a:ext cx="365040" cy="15840"/>
            </a:xfrm>
            <a:prstGeom prst="rect">
              <a:avLst/>
            </a:prstGeom>
            <a:solidFill>
              <a:srgbClr val="3392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4586400" y="4890960"/>
              <a:ext cx="365040" cy="15840"/>
            </a:xfrm>
            <a:prstGeom prst="rect">
              <a:avLst/>
            </a:prstGeom>
            <a:solidFill>
              <a:srgbClr val="3394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4586400" y="4906800"/>
              <a:ext cx="365040" cy="14400"/>
            </a:xfrm>
            <a:prstGeom prst="rect">
              <a:avLst/>
            </a:prstGeom>
            <a:solidFill>
              <a:srgbClr val="3396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4586400" y="4921200"/>
              <a:ext cx="365040" cy="15840"/>
            </a:xfrm>
            <a:prstGeom prst="rect">
              <a:avLst/>
            </a:prstGeom>
            <a:solidFill>
              <a:srgbClr val="3399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4586400" y="4937040"/>
              <a:ext cx="365040" cy="14040"/>
            </a:xfrm>
            <a:prstGeom prst="rect">
              <a:avLst/>
            </a:prstGeom>
            <a:solidFill>
              <a:srgbClr val="339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4586400" y="4951080"/>
              <a:ext cx="365040" cy="16200"/>
            </a:xfrm>
            <a:prstGeom prst="rect">
              <a:avLst/>
            </a:prstGeom>
            <a:solidFill>
              <a:srgbClr val="339d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4586400" y="4967280"/>
              <a:ext cx="365040" cy="15840"/>
            </a:xfrm>
            <a:prstGeom prst="rect">
              <a:avLst/>
            </a:prstGeom>
            <a:solidFill>
              <a:srgbClr val="339f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4586400" y="4983120"/>
              <a:ext cx="365040" cy="14040"/>
            </a:xfrm>
            <a:prstGeom prst="rect">
              <a:avLst/>
            </a:prstGeom>
            <a:solidFill>
              <a:srgbClr val="33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4586400" y="4997160"/>
              <a:ext cx="365040" cy="15840"/>
            </a:xfrm>
            <a:prstGeom prst="rect">
              <a:avLst/>
            </a:prstGeom>
            <a:solidFill>
              <a:srgbClr val="33a3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4586400" y="5013000"/>
              <a:ext cx="365040" cy="14400"/>
            </a:xfrm>
            <a:prstGeom prst="rect">
              <a:avLst/>
            </a:prstGeom>
            <a:solidFill>
              <a:srgbClr val="33a5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4586400" y="5027400"/>
              <a:ext cx="365040" cy="15840"/>
            </a:xfrm>
            <a:prstGeom prst="rect">
              <a:avLst/>
            </a:prstGeom>
            <a:solidFill>
              <a:srgbClr val="33a7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4586400" y="5043240"/>
              <a:ext cx="365040" cy="15840"/>
            </a:xfrm>
            <a:prstGeom prst="rect">
              <a:avLst/>
            </a:prstGeom>
            <a:solidFill>
              <a:srgbClr val="33a8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4586400" y="5059080"/>
              <a:ext cx="365040" cy="14400"/>
            </a:xfrm>
            <a:prstGeom prst="rect">
              <a:avLst/>
            </a:prstGeom>
            <a:solidFill>
              <a:srgbClr val="33a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4586400" y="5073480"/>
              <a:ext cx="365040" cy="15840"/>
            </a:xfrm>
            <a:prstGeom prst="rect">
              <a:avLst/>
            </a:prstGeom>
            <a:solidFill>
              <a:srgbClr val="33a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4586400" y="5089320"/>
              <a:ext cx="365040" cy="14400"/>
            </a:xfrm>
            <a:prstGeom prst="rect">
              <a:avLst/>
            </a:prstGeom>
            <a:solidFill>
              <a:srgbClr val="33ae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4586400" y="5103720"/>
              <a:ext cx="365040" cy="15840"/>
            </a:xfrm>
            <a:prstGeom prst="rect">
              <a:avLst/>
            </a:prstGeom>
            <a:solidFill>
              <a:srgbClr val="33b0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4586400" y="5119560"/>
              <a:ext cx="365040" cy="15840"/>
            </a:xfrm>
            <a:prstGeom prst="rect">
              <a:avLst/>
            </a:prstGeom>
            <a:solidFill>
              <a:srgbClr val="33b2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4586400" y="5135400"/>
              <a:ext cx="365040" cy="14400"/>
            </a:xfrm>
            <a:prstGeom prst="rect">
              <a:avLst/>
            </a:prstGeom>
            <a:solidFill>
              <a:srgbClr val="33b3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4586400" y="5149800"/>
              <a:ext cx="365040" cy="15840"/>
            </a:xfrm>
            <a:prstGeom prst="rect">
              <a:avLst/>
            </a:prstGeom>
            <a:solidFill>
              <a:srgbClr val="33b5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4586400" y="5165640"/>
              <a:ext cx="365040" cy="14040"/>
            </a:xfrm>
            <a:prstGeom prst="rect">
              <a:avLst/>
            </a:prstGeom>
            <a:solidFill>
              <a:srgbClr val="33b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4586400" y="5179680"/>
              <a:ext cx="365040" cy="16200"/>
            </a:xfrm>
            <a:prstGeom prst="rect">
              <a:avLst/>
            </a:prstGeom>
            <a:solidFill>
              <a:srgbClr val="33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4586400" y="5195880"/>
              <a:ext cx="365040" cy="15840"/>
            </a:xfrm>
            <a:prstGeom prst="rect">
              <a:avLst/>
            </a:prstGeom>
            <a:solidFill>
              <a:srgbClr val="33b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4586400" y="5211720"/>
              <a:ext cx="365040" cy="14040"/>
            </a:xfrm>
            <a:prstGeom prst="rect">
              <a:avLst/>
            </a:prstGeom>
            <a:solidFill>
              <a:srgbClr val="33bb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4586400" y="5225760"/>
              <a:ext cx="365040" cy="15840"/>
            </a:xfrm>
            <a:prstGeom prst="rect">
              <a:avLst/>
            </a:prstGeom>
            <a:solidFill>
              <a:srgbClr val="33b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4586400" y="5241600"/>
              <a:ext cx="365040" cy="14400"/>
            </a:xfrm>
            <a:prstGeom prst="rect">
              <a:avLst/>
            </a:prstGeom>
            <a:solidFill>
              <a:srgbClr val="33bd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4586400" y="5256000"/>
              <a:ext cx="365040" cy="15840"/>
            </a:xfrm>
            <a:prstGeom prst="rect">
              <a:avLst/>
            </a:prstGeom>
            <a:solidFill>
              <a:srgbClr val="33bf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4586400" y="5271840"/>
              <a:ext cx="365040" cy="15840"/>
            </a:xfrm>
            <a:prstGeom prst="rect">
              <a:avLst/>
            </a:prstGeom>
            <a:solidFill>
              <a:srgbClr val="33c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4586400" y="5287680"/>
              <a:ext cx="365040" cy="14400"/>
            </a:xfrm>
            <a:prstGeom prst="rect">
              <a:avLst/>
            </a:prstGeom>
            <a:solidFill>
              <a:srgbClr val="33c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4586400" y="5302080"/>
              <a:ext cx="365040" cy="15840"/>
            </a:xfrm>
            <a:prstGeom prst="rect">
              <a:avLst/>
            </a:prstGeom>
            <a:solidFill>
              <a:srgbClr val="33c2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4586400" y="5317920"/>
              <a:ext cx="365040" cy="14400"/>
            </a:xfrm>
            <a:prstGeom prst="rect">
              <a:avLst/>
            </a:prstGeom>
            <a:solidFill>
              <a:srgbClr val="33c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4586400" y="5332320"/>
              <a:ext cx="365040" cy="15840"/>
            </a:xfrm>
            <a:prstGeom prst="rect">
              <a:avLst/>
            </a:prstGeom>
            <a:solidFill>
              <a:srgbClr val="33c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4586400" y="5348160"/>
              <a:ext cx="365040" cy="15840"/>
            </a:xfrm>
            <a:prstGeom prst="rect">
              <a:avLst/>
            </a:prstGeom>
            <a:solidFill>
              <a:srgbClr val="33c4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4586400" y="5364000"/>
              <a:ext cx="365040" cy="14400"/>
            </a:xfrm>
            <a:prstGeom prst="rect">
              <a:avLst/>
            </a:prstGeom>
            <a:solidFill>
              <a:srgbClr val="33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4586400" y="5378400"/>
              <a:ext cx="365040" cy="15840"/>
            </a:xfrm>
            <a:prstGeom prst="rect">
              <a:avLst/>
            </a:prstGeom>
            <a:solidFill>
              <a:srgbClr val="33c6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4586400" y="5394240"/>
              <a:ext cx="365040" cy="14040"/>
            </a:xfrm>
            <a:prstGeom prst="rect">
              <a:avLst/>
            </a:prstGeom>
            <a:solidFill>
              <a:srgbClr val="33c6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4586400" y="5408280"/>
              <a:ext cx="365040" cy="16200"/>
            </a:xfrm>
            <a:prstGeom prst="rect">
              <a:avLst/>
            </a:prstGeom>
            <a:solidFill>
              <a:srgbClr val="33c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4586400" y="5424480"/>
              <a:ext cx="365040" cy="15840"/>
            </a:xfrm>
            <a:prstGeom prst="rect">
              <a:avLst/>
            </a:prstGeom>
            <a:solidFill>
              <a:srgbClr val="33c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4586400" y="5440320"/>
              <a:ext cx="365040" cy="14040"/>
            </a:xfrm>
            <a:prstGeom prst="rect">
              <a:avLst/>
            </a:prstGeom>
            <a:solidFill>
              <a:srgbClr val="33c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4586400" y="5454360"/>
              <a:ext cx="365040" cy="15840"/>
            </a:xfrm>
            <a:prstGeom prst="rect">
              <a:avLst/>
            </a:prstGeom>
            <a:solidFill>
              <a:srgbClr val="33c9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4586400" y="5470200"/>
              <a:ext cx="365040" cy="14400"/>
            </a:xfrm>
            <a:prstGeom prst="rect">
              <a:avLst/>
            </a:prstGeom>
            <a:solidFill>
              <a:srgbClr val="33c9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4586400" y="5484600"/>
              <a:ext cx="365040" cy="15840"/>
            </a:xfrm>
            <a:prstGeom prst="rect">
              <a:avLst/>
            </a:prstGeom>
            <a:solidFill>
              <a:srgbClr val="33ca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4586400" y="5500440"/>
              <a:ext cx="365040" cy="15840"/>
            </a:xfrm>
            <a:prstGeom prst="rect">
              <a:avLst/>
            </a:prstGeom>
            <a:solidFill>
              <a:srgbClr val="33ca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4586400" y="5516280"/>
              <a:ext cx="365040" cy="14400"/>
            </a:xfrm>
            <a:prstGeom prst="rect">
              <a:avLst/>
            </a:prstGeom>
            <a:solidFill>
              <a:srgbClr val="33c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4586400" y="5530680"/>
              <a:ext cx="365040" cy="15840"/>
            </a:xfrm>
            <a:prstGeom prst="rect">
              <a:avLst/>
            </a:prstGeom>
            <a:solidFill>
              <a:srgbClr val="33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4586400" y="5546520"/>
              <a:ext cx="365040" cy="14400"/>
            </a:xfrm>
            <a:prstGeom prst="rect">
              <a:avLst/>
            </a:prstGeom>
            <a:solidFill>
              <a:srgbClr val="33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4586400" y="5560920"/>
              <a:ext cx="365040" cy="15840"/>
            </a:xfrm>
            <a:prstGeom prst="rect">
              <a:avLst/>
            </a:prstGeom>
            <a:solidFill>
              <a:srgbClr val="33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4586400" y="5576760"/>
              <a:ext cx="365040" cy="158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74" name=""/>
          <p:cNvSpPr/>
          <p:nvPr/>
        </p:nvSpPr>
        <p:spPr>
          <a:xfrm>
            <a:off x="4586400" y="4387680"/>
            <a:ext cx="36504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75" name=""/>
          <p:cNvGrpSpPr/>
          <p:nvPr/>
        </p:nvGrpSpPr>
        <p:grpSpPr>
          <a:xfrm>
            <a:off x="5500800" y="4433760"/>
            <a:ext cx="380880" cy="1158840"/>
            <a:chOff x="5500800" y="4433760"/>
            <a:chExt cx="380880" cy="1158840"/>
          </a:xfrm>
        </p:grpSpPr>
        <p:sp>
          <p:nvSpPr>
            <p:cNvPr id="2176" name=""/>
            <p:cNvSpPr/>
            <p:nvPr/>
          </p:nvSpPr>
          <p:spPr>
            <a:xfrm>
              <a:off x="5500800" y="4433760"/>
              <a:ext cx="380880" cy="15840"/>
            </a:xfrm>
            <a:prstGeom prst="rect">
              <a:avLst/>
            </a:prstGeom>
            <a:solidFill>
              <a:srgbClr val="3366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5500800" y="4449600"/>
              <a:ext cx="380880" cy="14400"/>
            </a:xfrm>
            <a:prstGeom prst="rect">
              <a:avLst/>
            </a:prstGeom>
            <a:solidFill>
              <a:srgbClr val="3366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5500800" y="4464000"/>
              <a:ext cx="380880" cy="15840"/>
            </a:xfrm>
            <a:prstGeom prst="rect">
              <a:avLst/>
            </a:prstGeom>
            <a:solidFill>
              <a:srgbClr val="3367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5500800" y="4479840"/>
              <a:ext cx="380880" cy="14040"/>
            </a:xfrm>
            <a:prstGeom prst="rect">
              <a:avLst/>
            </a:prstGeom>
            <a:solidFill>
              <a:srgbClr val="3367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5500800" y="4493880"/>
              <a:ext cx="380880" cy="16200"/>
            </a:xfrm>
            <a:prstGeom prst="rect">
              <a:avLst/>
            </a:prstGeom>
            <a:solidFill>
              <a:srgbClr val="336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5500800" y="4510080"/>
              <a:ext cx="380880" cy="15840"/>
            </a:xfrm>
            <a:prstGeom prst="rect">
              <a:avLst/>
            </a:prstGeom>
            <a:solidFill>
              <a:srgbClr val="3369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5500800" y="4525920"/>
              <a:ext cx="380880" cy="14040"/>
            </a:xfrm>
            <a:prstGeom prst="rect">
              <a:avLst/>
            </a:prstGeom>
            <a:solidFill>
              <a:srgbClr val="3369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5500800" y="4539960"/>
              <a:ext cx="380880" cy="15840"/>
            </a:xfrm>
            <a:prstGeom prst="rect">
              <a:avLst/>
            </a:prstGeom>
            <a:solidFill>
              <a:srgbClr val="336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5500800" y="4555800"/>
              <a:ext cx="380880" cy="14400"/>
            </a:xfrm>
            <a:prstGeom prst="rect">
              <a:avLst/>
            </a:prstGeom>
            <a:solidFill>
              <a:srgbClr val="336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5500800" y="4570200"/>
              <a:ext cx="380880" cy="15840"/>
            </a:xfrm>
            <a:prstGeom prst="rect">
              <a:avLst/>
            </a:prstGeom>
            <a:solidFill>
              <a:srgbClr val="336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5500800" y="4586040"/>
              <a:ext cx="380880" cy="15840"/>
            </a:xfrm>
            <a:prstGeom prst="rect">
              <a:avLst/>
            </a:prstGeom>
            <a:solidFill>
              <a:srgbClr val="336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5500800" y="4601880"/>
              <a:ext cx="380880" cy="14400"/>
            </a:xfrm>
            <a:prstGeom prst="rect">
              <a:avLst/>
            </a:prstGeom>
            <a:solidFill>
              <a:srgbClr val="336e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5500800" y="4616280"/>
              <a:ext cx="380880" cy="15840"/>
            </a:xfrm>
            <a:prstGeom prst="rect">
              <a:avLst/>
            </a:prstGeom>
            <a:solidFill>
              <a:srgbClr val="3370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5500800" y="4632120"/>
              <a:ext cx="380880" cy="14400"/>
            </a:xfrm>
            <a:prstGeom prst="rect">
              <a:avLst/>
            </a:prstGeom>
            <a:solidFill>
              <a:srgbClr val="3371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5500800" y="4646520"/>
              <a:ext cx="380880" cy="15840"/>
            </a:xfrm>
            <a:prstGeom prst="rect">
              <a:avLst/>
            </a:prstGeom>
            <a:solidFill>
              <a:srgbClr val="337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5500800" y="4662360"/>
              <a:ext cx="380880" cy="15840"/>
            </a:xfrm>
            <a:prstGeom prst="rect">
              <a:avLst/>
            </a:prstGeom>
            <a:solidFill>
              <a:srgbClr val="3374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5500800" y="4678200"/>
              <a:ext cx="380880" cy="14400"/>
            </a:xfrm>
            <a:prstGeom prst="rect">
              <a:avLst/>
            </a:prstGeom>
            <a:solidFill>
              <a:srgbClr val="337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5500800" y="4692600"/>
              <a:ext cx="380880" cy="15840"/>
            </a:xfrm>
            <a:prstGeom prst="rect">
              <a:avLst/>
            </a:prstGeom>
            <a:solidFill>
              <a:srgbClr val="337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5500800" y="4708440"/>
              <a:ext cx="380880" cy="14040"/>
            </a:xfrm>
            <a:prstGeom prst="rect">
              <a:avLst/>
            </a:prstGeom>
            <a:solidFill>
              <a:srgbClr val="337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5500800" y="4722480"/>
              <a:ext cx="380880" cy="16200"/>
            </a:xfrm>
            <a:prstGeom prst="rect">
              <a:avLst/>
            </a:prstGeom>
            <a:solidFill>
              <a:srgbClr val="337a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5500800" y="4738680"/>
              <a:ext cx="380880" cy="15840"/>
            </a:xfrm>
            <a:prstGeom prst="rect">
              <a:avLst/>
            </a:prstGeom>
            <a:solidFill>
              <a:srgbClr val="337c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5500800" y="4754520"/>
              <a:ext cx="380880" cy="14040"/>
            </a:xfrm>
            <a:prstGeom prst="rect">
              <a:avLst/>
            </a:prstGeom>
            <a:solidFill>
              <a:srgbClr val="337e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5500800" y="4768560"/>
              <a:ext cx="380880" cy="15840"/>
            </a:xfrm>
            <a:prstGeom prst="rect">
              <a:avLst/>
            </a:prstGeom>
            <a:solidFill>
              <a:srgbClr val="337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5500800" y="4784400"/>
              <a:ext cx="380880" cy="14400"/>
            </a:xfrm>
            <a:prstGeom prst="rect">
              <a:avLst/>
            </a:prstGeom>
            <a:solidFill>
              <a:srgbClr val="3382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5500800" y="4798800"/>
              <a:ext cx="380880" cy="15840"/>
            </a:xfrm>
            <a:prstGeom prst="rect">
              <a:avLst/>
            </a:prstGeom>
            <a:solidFill>
              <a:srgbClr val="338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5500800" y="4814640"/>
              <a:ext cx="380880" cy="15840"/>
            </a:xfrm>
            <a:prstGeom prst="rect">
              <a:avLst/>
            </a:prstGeom>
            <a:solidFill>
              <a:srgbClr val="3385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5500800" y="4830480"/>
              <a:ext cx="380880" cy="14400"/>
            </a:xfrm>
            <a:prstGeom prst="rect">
              <a:avLst/>
            </a:prstGeom>
            <a:solidFill>
              <a:srgbClr val="3388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5500800" y="4844880"/>
              <a:ext cx="380880" cy="15840"/>
            </a:xfrm>
            <a:prstGeom prst="rect">
              <a:avLst/>
            </a:prstGeom>
            <a:solidFill>
              <a:srgbClr val="338a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5500800" y="4860720"/>
              <a:ext cx="380880" cy="14400"/>
            </a:xfrm>
            <a:prstGeom prst="rect">
              <a:avLst/>
            </a:prstGeom>
            <a:solidFill>
              <a:srgbClr val="338c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5500800" y="4875120"/>
              <a:ext cx="380880" cy="15840"/>
            </a:xfrm>
            <a:prstGeom prst="rect">
              <a:avLst/>
            </a:prstGeom>
            <a:solidFill>
              <a:srgbClr val="338e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5500800" y="4890960"/>
              <a:ext cx="380880" cy="15840"/>
            </a:xfrm>
            <a:prstGeom prst="rect">
              <a:avLst/>
            </a:prstGeom>
            <a:solidFill>
              <a:srgbClr val="3390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5500800" y="4906800"/>
              <a:ext cx="380880" cy="14400"/>
            </a:xfrm>
            <a:prstGeom prst="rect">
              <a:avLst/>
            </a:prstGeom>
            <a:solidFill>
              <a:srgbClr val="3393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5500800" y="4921200"/>
              <a:ext cx="380880" cy="15840"/>
            </a:xfrm>
            <a:prstGeom prst="rect">
              <a:avLst/>
            </a:prstGeom>
            <a:solidFill>
              <a:srgbClr val="3395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5500800" y="4937040"/>
              <a:ext cx="380880" cy="14040"/>
            </a:xfrm>
            <a:prstGeom prst="rect">
              <a:avLst/>
            </a:prstGeom>
            <a:solidFill>
              <a:srgbClr val="3397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5500800" y="4951080"/>
              <a:ext cx="380880" cy="16200"/>
            </a:xfrm>
            <a:prstGeom prst="rect">
              <a:avLst/>
            </a:prstGeom>
            <a:solidFill>
              <a:srgbClr val="3399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5500800" y="4967280"/>
              <a:ext cx="380880" cy="15840"/>
            </a:xfrm>
            <a:prstGeom prst="rect">
              <a:avLst/>
            </a:prstGeom>
            <a:solidFill>
              <a:srgbClr val="339b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5500800" y="4983120"/>
              <a:ext cx="380880" cy="14040"/>
            </a:xfrm>
            <a:prstGeom prst="rect">
              <a:avLst/>
            </a:prstGeom>
            <a:solidFill>
              <a:srgbClr val="339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5500800" y="4997160"/>
              <a:ext cx="380880" cy="15840"/>
            </a:xfrm>
            <a:prstGeom prst="rect">
              <a:avLst/>
            </a:prstGeom>
            <a:solidFill>
              <a:srgbClr val="33a0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5500800" y="5013000"/>
              <a:ext cx="380880" cy="14400"/>
            </a:xfrm>
            <a:prstGeom prst="rect">
              <a:avLst/>
            </a:prstGeom>
            <a:solidFill>
              <a:srgbClr val="33a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5500800" y="5027400"/>
              <a:ext cx="380880" cy="15840"/>
            </a:xfrm>
            <a:prstGeom prst="rect">
              <a:avLst/>
            </a:prstGeom>
            <a:solidFill>
              <a:srgbClr val="33a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5500800" y="5043240"/>
              <a:ext cx="380880" cy="15840"/>
            </a:xfrm>
            <a:prstGeom prst="rect">
              <a:avLst/>
            </a:prstGeom>
            <a:solidFill>
              <a:srgbClr val="33a6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5500800" y="5059080"/>
              <a:ext cx="380880" cy="14400"/>
            </a:xfrm>
            <a:prstGeom prst="rect">
              <a:avLst/>
            </a:prstGeom>
            <a:solidFill>
              <a:srgbClr val="33a8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5500800" y="5073480"/>
              <a:ext cx="380880" cy="15840"/>
            </a:xfrm>
            <a:prstGeom prst="rect">
              <a:avLst/>
            </a:prstGeom>
            <a:solidFill>
              <a:srgbClr val="33aa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5500800" y="5089320"/>
              <a:ext cx="380880" cy="14400"/>
            </a:xfrm>
            <a:prstGeom prst="rect">
              <a:avLst/>
            </a:prstGeom>
            <a:solidFill>
              <a:srgbClr val="33ac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5500800" y="5103720"/>
              <a:ext cx="380880" cy="15840"/>
            </a:xfrm>
            <a:prstGeom prst="rect">
              <a:avLst/>
            </a:prstGeom>
            <a:solidFill>
              <a:srgbClr val="33ae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5500800" y="5119560"/>
              <a:ext cx="380880" cy="15840"/>
            </a:xfrm>
            <a:prstGeom prst="rect">
              <a:avLst/>
            </a:prstGeom>
            <a:solidFill>
              <a:srgbClr val="33b0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5500800" y="5135400"/>
              <a:ext cx="380880" cy="14400"/>
            </a:xfrm>
            <a:prstGeom prst="rect">
              <a:avLst/>
            </a:prstGeom>
            <a:solidFill>
              <a:srgbClr val="33b1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5500800" y="5149800"/>
              <a:ext cx="380880" cy="15840"/>
            </a:xfrm>
            <a:prstGeom prst="rect">
              <a:avLst/>
            </a:prstGeom>
            <a:solidFill>
              <a:srgbClr val="33b3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5500800" y="5165640"/>
              <a:ext cx="380880" cy="14040"/>
            </a:xfrm>
            <a:prstGeom prst="rect">
              <a:avLst/>
            </a:prstGeom>
            <a:solidFill>
              <a:srgbClr val="33b5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5500800" y="5179680"/>
              <a:ext cx="380880" cy="16200"/>
            </a:xfrm>
            <a:prstGeom prst="rect">
              <a:avLst/>
            </a:prstGeom>
            <a:solidFill>
              <a:srgbClr val="33b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5500800" y="5195880"/>
              <a:ext cx="380880" cy="15840"/>
            </a:xfrm>
            <a:prstGeom prst="rect">
              <a:avLst/>
            </a:prstGeom>
            <a:solidFill>
              <a:srgbClr val="33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5500800" y="5211720"/>
              <a:ext cx="380880" cy="14040"/>
            </a:xfrm>
            <a:prstGeom prst="rect">
              <a:avLst/>
            </a:prstGeom>
            <a:solidFill>
              <a:srgbClr val="33b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5500800" y="5225760"/>
              <a:ext cx="380880" cy="15840"/>
            </a:xfrm>
            <a:prstGeom prst="rect">
              <a:avLst/>
            </a:prstGeom>
            <a:solidFill>
              <a:srgbClr val="33bb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5500800" y="5241600"/>
              <a:ext cx="380880" cy="14400"/>
            </a:xfrm>
            <a:prstGeom prst="rect">
              <a:avLst/>
            </a:prstGeom>
            <a:solidFill>
              <a:srgbClr val="33b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5500800" y="5256000"/>
              <a:ext cx="380880" cy="15840"/>
            </a:xfrm>
            <a:prstGeom prst="rect">
              <a:avLst/>
            </a:prstGeom>
            <a:solidFill>
              <a:srgbClr val="33bd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5500800" y="5271840"/>
              <a:ext cx="380880" cy="15840"/>
            </a:xfrm>
            <a:prstGeom prst="rect">
              <a:avLst/>
            </a:prstGeom>
            <a:solidFill>
              <a:srgbClr val="33bf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5500800" y="5287680"/>
              <a:ext cx="380880" cy="14400"/>
            </a:xfrm>
            <a:prstGeom prst="rect">
              <a:avLst/>
            </a:prstGeom>
            <a:solidFill>
              <a:srgbClr val="33c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5500800" y="5302080"/>
              <a:ext cx="380880" cy="15840"/>
            </a:xfrm>
            <a:prstGeom prst="rect">
              <a:avLst/>
            </a:prstGeom>
            <a:solidFill>
              <a:srgbClr val="33c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5500800" y="5317920"/>
              <a:ext cx="380880" cy="14400"/>
            </a:xfrm>
            <a:prstGeom prst="rect">
              <a:avLst/>
            </a:prstGeom>
            <a:solidFill>
              <a:srgbClr val="33c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5500800" y="5332320"/>
              <a:ext cx="380880" cy="15840"/>
            </a:xfrm>
            <a:prstGeom prst="rect">
              <a:avLst/>
            </a:prstGeom>
            <a:solidFill>
              <a:srgbClr val="33c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5500800" y="5348160"/>
              <a:ext cx="380880" cy="15840"/>
            </a:xfrm>
            <a:prstGeom prst="rect">
              <a:avLst/>
            </a:prstGeom>
            <a:solidFill>
              <a:srgbClr val="33c4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5500800" y="5364000"/>
              <a:ext cx="380880" cy="14400"/>
            </a:xfrm>
            <a:prstGeom prst="rect">
              <a:avLst/>
            </a:prstGeom>
            <a:solidFill>
              <a:srgbClr val="33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5500800" y="5378400"/>
              <a:ext cx="380880" cy="15840"/>
            </a:xfrm>
            <a:prstGeom prst="rect">
              <a:avLst/>
            </a:prstGeom>
            <a:solidFill>
              <a:srgbClr val="33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5500800" y="5394240"/>
              <a:ext cx="380880" cy="14040"/>
            </a:xfrm>
            <a:prstGeom prst="rect">
              <a:avLst/>
            </a:prstGeom>
            <a:solidFill>
              <a:srgbClr val="33c6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5500800" y="5408280"/>
              <a:ext cx="380880" cy="16200"/>
            </a:xfrm>
            <a:prstGeom prst="rect">
              <a:avLst/>
            </a:prstGeom>
            <a:solidFill>
              <a:srgbClr val="33c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5500800" y="5424480"/>
              <a:ext cx="380880" cy="15840"/>
            </a:xfrm>
            <a:prstGeom prst="rect">
              <a:avLst/>
            </a:prstGeom>
            <a:solidFill>
              <a:srgbClr val="33c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5500800" y="5440320"/>
              <a:ext cx="380880" cy="14040"/>
            </a:xfrm>
            <a:prstGeom prst="rect">
              <a:avLst/>
            </a:prstGeom>
            <a:solidFill>
              <a:srgbClr val="33c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5500800" y="5454360"/>
              <a:ext cx="380880" cy="15840"/>
            </a:xfrm>
            <a:prstGeom prst="rect">
              <a:avLst/>
            </a:prstGeom>
            <a:solidFill>
              <a:srgbClr val="33c9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5500800" y="5470200"/>
              <a:ext cx="380880" cy="14400"/>
            </a:xfrm>
            <a:prstGeom prst="rect">
              <a:avLst/>
            </a:prstGeom>
            <a:solidFill>
              <a:srgbClr val="33c9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5500800" y="5484600"/>
              <a:ext cx="380880" cy="15840"/>
            </a:xfrm>
            <a:prstGeom prst="rect">
              <a:avLst/>
            </a:prstGeom>
            <a:solidFill>
              <a:srgbClr val="33ca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5500800" y="5500440"/>
              <a:ext cx="380880" cy="15840"/>
            </a:xfrm>
            <a:prstGeom prst="rect">
              <a:avLst/>
            </a:prstGeom>
            <a:solidFill>
              <a:srgbClr val="33ca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5500800" y="5516280"/>
              <a:ext cx="380880" cy="14400"/>
            </a:xfrm>
            <a:prstGeom prst="rect">
              <a:avLst/>
            </a:prstGeom>
            <a:solidFill>
              <a:srgbClr val="33c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5500800" y="5530680"/>
              <a:ext cx="380880" cy="15840"/>
            </a:xfrm>
            <a:prstGeom prst="rect">
              <a:avLst/>
            </a:prstGeom>
            <a:solidFill>
              <a:srgbClr val="33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5500800" y="5546520"/>
              <a:ext cx="380880" cy="14400"/>
            </a:xfrm>
            <a:prstGeom prst="rect">
              <a:avLst/>
            </a:prstGeom>
            <a:solidFill>
              <a:srgbClr val="33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5500800" y="5560920"/>
              <a:ext cx="380880" cy="15840"/>
            </a:xfrm>
            <a:prstGeom prst="rect">
              <a:avLst/>
            </a:prstGeom>
            <a:solidFill>
              <a:srgbClr val="33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5500800" y="5576760"/>
              <a:ext cx="380880" cy="158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52" name=""/>
          <p:cNvSpPr/>
          <p:nvPr/>
        </p:nvSpPr>
        <p:spPr>
          <a:xfrm>
            <a:off x="5500800" y="4433760"/>
            <a:ext cx="380880" cy="11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53" name=""/>
          <p:cNvGrpSpPr/>
          <p:nvPr/>
        </p:nvGrpSpPr>
        <p:grpSpPr>
          <a:xfrm>
            <a:off x="6429240" y="3930480"/>
            <a:ext cx="380880" cy="1662120"/>
            <a:chOff x="6429240" y="3930480"/>
            <a:chExt cx="380880" cy="1662120"/>
          </a:xfrm>
        </p:grpSpPr>
        <p:sp>
          <p:nvSpPr>
            <p:cNvPr id="2254" name=""/>
            <p:cNvSpPr/>
            <p:nvPr/>
          </p:nvSpPr>
          <p:spPr>
            <a:xfrm>
              <a:off x="6429240" y="3930480"/>
              <a:ext cx="380880" cy="15840"/>
            </a:xfrm>
            <a:prstGeom prst="rect">
              <a:avLst/>
            </a:prstGeom>
            <a:solidFill>
              <a:srgbClr val="3366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6429240" y="3946320"/>
              <a:ext cx="380880" cy="15840"/>
            </a:xfrm>
            <a:prstGeom prst="rect">
              <a:avLst/>
            </a:prstGeom>
            <a:solidFill>
              <a:srgbClr val="3366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6429240" y="3962160"/>
              <a:ext cx="380880" cy="14400"/>
            </a:xfrm>
            <a:prstGeom prst="rect">
              <a:avLst/>
            </a:prstGeom>
            <a:solidFill>
              <a:srgbClr val="3366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6429240" y="3976560"/>
              <a:ext cx="380880" cy="15840"/>
            </a:xfrm>
            <a:prstGeom prst="rect">
              <a:avLst/>
            </a:prstGeom>
            <a:solidFill>
              <a:srgbClr val="3367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6429240" y="3992400"/>
              <a:ext cx="380880" cy="14400"/>
            </a:xfrm>
            <a:prstGeom prst="rect">
              <a:avLst/>
            </a:prstGeom>
            <a:solidFill>
              <a:srgbClr val="3367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6429240" y="4006800"/>
              <a:ext cx="380880" cy="15840"/>
            </a:xfrm>
            <a:prstGeom prst="rect">
              <a:avLst/>
            </a:prstGeom>
            <a:solidFill>
              <a:srgbClr val="336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6429240" y="4022640"/>
              <a:ext cx="380880" cy="15840"/>
            </a:xfrm>
            <a:prstGeom prst="rect">
              <a:avLst/>
            </a:prstGeom>
            <a:solidFill>
              <a:srgbClr val="336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6429240" y="4038480"/>
              <a:ext cx="380880" cy="14400"/>
            </a:xfrm>
            <a:prstGeom prst="rect">
              <a:avLst/>
            </a:prstGeom>
            <a:solidFill>
              <a:srgbClr val="3369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6429240" y="4052880"/>
              <a:ext cx="380880" cy="29880"/>
            </a:xfrm>
            <a:prstGeom prst="rect">
              <a:avLst/>
            </a:prstGeom>
            <a:solidFill>
              <a:srgbClr val="3369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6429240" y="4082760"/>
              <a:ext cx="380880" cy="15840"/>
            </a:xfrm>
            <a:prstGeom prst="rect">
              <a:avLst/>
            </a:prstGeom>
            <a:solidFill>
              <a:srgbClr val="336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6429240" y="4098600"/>
              <a:ext cx="380880" cy="16200"/>
            </a:xfrm>
            <a:prstGeom prst="rect">
              <a:avLst/>
            </a:prstGeom>
            <a:solidFill>
              <a:srgbClr val="336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6429240" y="4114800"/>
              <a:ext cx="380880" cy="14040"/>
            </a:xfrm>
            <a:prstGeom prst="rect">
              <a:avLst/>
            </a:prstGeom>
            <a:solidFill>
              <a:srgbClr val="336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6429240" y="4128840"/>
              <a:ext cx="380880" cy="15840"/>
            </a:xfrm>
            <a:prstGeom prst="rect">
              <a:avLst/>
            </a:prstGeom>
            <a:solidFill>
              <a:srgbClr val="336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6429240" y="4144680"/>
              <a:ext cx="380880" cy="14400"/>
            </a:xfrm>
            <a:prstGeom prst="rect">
              <a:avLst/>
            </a:prstGeom>
            <a:solidFill>
              <a:srgbClr val="336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6429240" y="4159080"/>
              <a:ext cx="380880" cy="15840"/>
            </a:xfrm>
            <a:prstGeom prst="rect">
              <a:avLst/>
            </a:prstGeom>
            <a:solidFill>
              <a:srgbClr val="336e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6429240" y="4174920"/>
              <a:ext cx="380880" cy="15840"/>
            </a:xfrm>
            <a:prstGeom prst="rect">
              <a:avLst/>
            </a:prstGeom>
            <a:solidFill>
              <a:srgbClr val="336e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6429240" y="4190760"/>
              <a:ext cx="380880" cy="14400"/>
            </a:xfrm>
            <a:prstGeom prst="rect">
              <a:avLst/>
            </a:prstGeom>
            <a:solidFill>
              <a:srgbClr val="336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6429240" y="4205160"/>
              <a:ext cx="380880" cy="15840"/>
            </a:xfrm>
            <a:prstGeom prst="rect">
              <a:avLst/>
            </a:prstGeom>
            <a:solidFill>
              <a:srgbClr val="3370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6429240" y="4221000"/>
              <a:ext cx="380880" cy="14400"/>
            </a:xfrm>
            <a:prstGeom prst="rect">
              <a:avLst/>
            </a:prstGeom>
            <a:solidFill>
              <a:srgbClr val="3371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6429240" y="4235400"/>
              <a:ext cx="380880" cy="15840"/>
            </a:xfrm>
            <a:prstGeom prst="rect">
              <a:avLst/>
            </a:prstGeom>
            <a:solidFill>
              <a:srgbClr val="337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6429240" y="4251240"/>
              <a:ext cx="380880" cy="15840"/>
            </a:xfrm>
            <a:prstGeom prst="rect">
              <a:avLst/>
            </a:prstGeom>
            <a:solidFill>
              <a:srgbClr val="337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6429240" y="4267080"/>
              <a:ext cx="380880" cy="14400"/>
            </a:xfrm>
            <a:prstGeom prst="rect">
              <a:avLst/>
            </a:prstGeom>
            <a:solidFill>
              <a:srgbClr val="3374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6429240" y="4281480"/>
              <a:ext cx="380880" cy="15840"/>
            </a:xfrm>
            <a:prstGeom prst="rect">
              <a:avLst/>
            </a:prstGeom>
            <a:solidFill>
              <a:srgbClr val="337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6429240" y="4297320"/>
              <a:ext cx="380880" cy="14040"/>
            </a:xfrm>
            <a:prstGeom prst="rect">
              <a:avLst/>
            </a:prstGeom>
            <a:solidFill>
              <a:srgbClr val="337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6429240" y="4311360"/>
              <a:ext cx="380880" cy="15840"/>
            </a:xfrm>
            <a:prstGeom prst="rect">
              <a:avLst/>
            </a:prstGeom>
            <a:solidFill>
              <a:srgbClr val="337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6429240" y="4327200"/>
              <a:ext cx="380880" cy="30240"/>
            </a:xfrm>
            <a:prstGeom prst="rect">
              <a:avLst/>
            </a:prstGeom>
            <a:solidFill>
              <a:srgbClr val="3379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6429240" y="4357440"/>
              <a:ext cx="380880" cy="15840"/>
            </a:xfrm>
            <a:prstGeom prst="rect">
              <a:avLst/>
            </a:prstGeom>
            <a:solidFill>
              <a:srgbClr val="337a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6429240" y="4373280"/>
              <a:ext cx="380880" cy="14400"/>
            </a:xfrm>
            <a:prstGeom prst="rect">
              <a:avLst/>
            </a:prstGeom>
            <a:solidFill>
              <a:srgbClr val="337c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6429240" y="4387680"/>
              <a:ext cx="380880" cy="15840"/>
            </a:xfrm>
            <a:prstGeom prst="rect">
              <a:avLst/>
            </a:prstGeom>
            <a:solidFill>
              <a:srgbClr val="337d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6429240" y="4403520"/>
              <a:ext cx="380880" cy="14400"/>
            </a:xfrm>
            <a:prstGeom prst="rect">
              <a:avLst/>
            </a:prstGeom>
            <a:solidFill>
              <a:srgbClr val="337e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6429240" y="4417920"/>
              <a:ext cx="380880" cy="15840"/>
            </a:xfrm>
            <a:prstGeom prst="rect">
              <a:avLst/>
            </a:prstGeom>
            <a:solidFill>
              <a:srgbClr val="337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6429240" y="4433760"/>
              <a:ext cx="380880" cy="15840"/>
            </a:xfrm>
            <a:prstGeom prst="rect">
              <a:avLst/>
            </a:prstGeom>
            <a:solidFill>
              <a:srgbClr val="3381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6429240" y="4449600"/>
              <a:ext cx="380880" cy="14400"/>
            </a:xfrm>
            <a:prstGeom prst="rect">
              <a:avLst/>
            </a:prstGeom>
            <a:solidFill>
              <a:srgbClr val="338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6429240" y="4464000"/>
              <a:ext cx="380880" cy="15840"/>
            </a:xfrm>
            <a:prstGeom prst="rect">
              <a:avLst/>
            </a:prstGeom>
            <a:solidFill>
              <a:srgbClr val="338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6429240" y="4479840"/>
              <a:ext cx="380880" cy="14040"/>
            </a:xfrm>
            <a:prstGeom prst="rect">
              <a:avLst/>
            </a:prstGeom>
            <a:solidFill>
              <a:srgbClr val="3385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6429240" y="4493880"/>
              <a:ext cx="380880" cy="16200"/>
            </a:xfrm>
            <a:prstGeom prst="rect">
              <a:avLst/>
            </a:prstGeom>
            <a:solidFill>
              <a:srgbClr val="338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6429240" y="4510080"/>
              <a:ext cx="380880" cy="15840"/>
            </a:xfrm>
            <a:prstGeom prst="rect">
              <a:avLst/>
            </a:prstGeom>
            <a:solidFill>
              <a:srgbClr val="3388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6429240" y="4525920"/>
              <a:ext cx="380880" cy="14040"/>
            </a:xfrm>
            <a:prstGeom prst="rect">
              <a:avLst/>
            </a:prstGeom>
            <a:solidFill>
              <a:srgbClr val="338a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6429240" y="4539960"/>
              <a:ext cx="380880" cy="15840"/>
            </a:xfrm>
            <a:prstGeom prst="rect">
              <a:avLst/>
            </a:prstGeom>
            <a:solidFill>
              <a:srgbClr val="338c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6429240" y="4555800"/>
              <a:ext cx="380880" cy="14400"/>
            </a:xfrm>
            <a:prstGeom prst="rect">
              <a:avLst/>
            </a:prstGeom>
            <a:solidFill>
              <a:srgbClr val="338e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6429240" y="4570200"/>
              <a:ext cx="380880" cy="15840"/>
            </a:xfrm>
            <a:prstGeom prst="rect">
              <a:avLst/>
            </a:prstGeom>
            <a:solidFill>
              <a:srgbClr val="33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6429240" y="4586040"/>
              <a:ext cx="380880" cy="15840"/>
            </a:xfrm>
            <a:prstGeom prst="rect">
              <a:avLst/>
            </a:prstGeom>
            <a:solidFill>
              <a:srgbClr val="3391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6429240" y="4601880"/>
              <a:ext cx="380880" cy="30240"/>
            </a:xfrm>
            <a:prstGeom prst="rect">
              <a:avLst/>
            </a:prstGeom>
            <a:solidFill>
              <a:srgbClr val="3392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>
              <a:off x="6429240" y="4632120"/>
              <a:ext cx="380880" cy="14400"/>
            </a:xfrm>
            <a:prstGeom prst="rect">
              <a:avLst/>
            </a:prstGeom>
            <a:solidFill>
              <a:srgbClr val="3394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>
              <a:off x="6429240" y="4646520"/>
              <a:ext cx="380880" cy="15840"/>
            </a:xfrm>
            <a:prstGeom prst="rect">
              <a:avLst/>
            </a:prstGeom>
            <a:solidFill>
              <a:srgbClr val="3395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>
              <a:off x="6429240" y="4662360"/>
              <a:ext cx="380880" cy="15840"/>
            </a:xfrm>
            <a:prstGeom prst="rect">
              <a:avLst/>
            </a:prstGeom>
            <a:solidFill>
              <a:srgbClr val="3397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>
              <a:off x="6429240" y="4678200"/>
              <a:ext cx="380880" cy="14400"/>
            </a:xfrm>
            <a:prstGeom prst="rect">
              <a:avLst/>
            </a:prstGeom>
            <a:solidFill>
              <a:srgbClr val="3399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6429240" y="4692600"/>
              <a:ext cx="380880" cy="15840"/>
            </a:xfrm>
            <a:prstGeom prst="rect">
              <a:avLst/>
            </a:prstGeom>
            <a:solidFill>
              <a:srgbClr val="339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>
              <a:off x="6429240" y="4708440"/>
              <a:ext cx="380880" cy="14040"/>
            </a:xfrm>
            <a:prstGeom prst="rect">
              <a:avLst/>
            </a:prstGeom>
            <a:solidFill>
              <a:srgbClr val="339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6429240" y="4722480"/>
              <a:ext cx="380880" cy="16200"/>
            </a:xfrm>
            <a:prstGeom prst="rect">
              <a:avLst/>
            </a:prstGeom>
            <a:solidFill>
              <a:srgbClr val="339e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>
              <a:off x="6429240" y="4738680"/>
              <a:ext cx="380880" cy="15840"/>
            </a:xfrm>
            <a:prstGeom prst="rect">
              <a:avLst/>
            </a:prstGeom>
            <a:solidFill>
              <a:srgbClr val="339f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6429240" y="4754520"/>
              <a:ext cx="380880" cy="14040"/>
            </a:xfrm>
            <a:prstGeom prst="rect">
              <a:avLst/>
            </a:prstGeom>
            <a:solidFill>
              <a:srgbClr val="33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6429240" y="4768560"/>
              <a:ext cx="380880" cy="15840"/>
            </a:xfrm>
            <a:prstGeom prst="rect">
              <a:avLst/>
            </a:prstGeom>
            <a:solidFill>
              <a:srgbClr val="33a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>
              <a:off x="6429240" y="4784400"/>
              <a:ext cx="380880" cy="14400"/>
            </a:xfrm>
            <a:prstGeom prst="rect">
              <a:avLst/>
            </a:prstGeom>
            <a:solidFill>
              <a:srgbClr val="33a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>
              <a:off x="6429240" y="4798800"/>
              <a:ext cx="380880" cy="15840"/>
            </a:xfrm>
            <a:prstGeom prst="rect">
              <a:avLst/>
            </a:prstGeom>
            <a:solidFill>
              <a:srgbClr val="33a5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6429240" y="4814640"/>
              <a:ext cx="380880" cy="15840"/>
            </a:xfrm>
            <a:prstGeom prst="rect">
              <a:avLst/>
            </a:prstGeom>
            <a:solidFill>
              <a:srgbClr val="33a7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>
              <a:off x="6429240" y="4830480"/>
              <a:ext cx="380880" cy="14400"/>
            </a:xfrm>
            <a:prstGeom prst="rect">
              <a:avLst/>
            </a:prstGeom>
            <a:solidFill>
              <a:srgbClr val="33a8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>
              <a:off x="6429240" y="4844880"/>
              <a:ext cx="380880" cy="15840"/>
            </a:xfrm>
            <a:prstGeom prst="rect">
              <a:avLst/>
            </a:prstGeom>
            <a:solidFill>
              <a:srgbClr val="33a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6429240" y="4860720"/>
              <a:ext cx="380880" cy="14400"/>
            </a:xfrm>
            <a:prstGeom prst="rect">
              <a:avLst/>
            </a:prstGeom>
            <a:solidFill>
              <a:srgbClr val="33a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>
              <a:off x="6429240" y="4875120"/>
              <a:ext cx="380880" cy="15840"/>
            </a:xfrm>
            <a:prstGeom prst="rect">
              <a:avLst/>
            </a:prstGeom>
            <a:solidFill>
              <a:srgbClr val="33a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>
              <a:off x="6429240" y="4890960"/>
              <a:ext cx="380880" cy="30240"/>
            </a:xfrm>
            <a:prstGeom prst="rect">
              <a:avLst/>
            </a:prstGeom>
            <a:solidFill>
              <a:srgbClr val="33ae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>
              <a:off x="6429240" y="4921200"/>
              <a:ext cx="380880" cy="15840"/>
            </a:xfrm>
            <a:prstGeom prst="rect">
              <a:avLst/>
            </a:prstGeom>
            <a:solidFill>
              <a:srgbClr val="33a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>
              <a:off x="6429240" y="4937040"/>
              <a:ext cx="380880" cy="14040"/>
            </a:xfrm>
            <a:prstGeom prst="rect">
              <a:avLst/>
            </a:prstGeom>
            <a:solidFill>
              <a:srgbClr val="33b1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6429240" y="4951080"/>
              <a:ext cx="380880" cy="16200"/>
            </a:xfrm>
            <a:prstGeom prst="rect">
              <a:avLst/>
            </a:prstGeom>
            <a:solidFill>
              <a:srgbClr val="33b2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>
              <a:off x="6429240" y="4967280"/>
              <a:ext cx="380880" cy="15840"/>
            </a:xfrm>
            <a:prstGeom prst="rect">
              <a:avLst/>
            </a:prstGeom>
            <a:solidFill>
              <a:srgbClr val="33b3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>
              <a:off x="6429240" y="4983120"/>
              <a:ext cx="380880" cy="14040"/>
            </a:xfrm>
            <a:prstGeom prst="rect">
              <a:avLst/>
            </a:prstGeom>
            <a:solidFill>
              <a:srgbClr val="33b4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>
              <a:off x="6429240" y="4997160"/>
              <a:ext cx="380880" cy="15840"/>
            </a:xfrm>
            <a:prstGeom prst="rect">
              <a:avLst/>
            </a:prstGeom>
            <a:solidFill>
              <a:srgbClr val="33b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6429240" y="5013000"/>
              <a:ext cx="380880" cy="14400"/>
            </a:xfrm>
            <a:prstGeom prst="rect">
              <a:avLst/>
            </a:prstGeom>
            <a:solidFill>
              <a:srgbClr val="33b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6429240" y="5027400"/>
              <a:ext cx="380880" cy="15840"/>
            </a:xfrm>
            <a:prstGeom prst="rect">
              <a:avLst/>
            </a:prstGeom>
            <a:solidFill>
              <a:srgbClr val="33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6429240" y="5043240"/>
              <a:ext cx="380880" cy="15840"/>
            </a:xfrm>
            <a:prstGeom prst="rect">
              <a:avLst/>
            </a:prstGeom>
            <a:solidFill>
              <a:srgbClr val="33b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6429240" y="5059080"/>
              <a:ext cx="380880" cy="14400"/>
            </a:xfrm>
            <a:prstGeom prst="rect">
              <a:avLst/>
            </a:prstGeom>
            <a:solidFill>
              <a:srgbClr val="33b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6429240" y="5073480"/>
              <a:ext cx="380880" cy="15840"/>
            </a:xfrm>
            <a:prstGeom prst="rect">
              <a:avLst/>
            </a:prstGeom>
            <a:solidFill>
              <a:srgbClr val="33bb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6429240" y="5089320"/>
              <a:ext cx="380880" cy="14400"/>
            </a:xfrm>
            <a:prstGeom prst="rect">
              <a:avLst/>
            </a:prstGeom>
            <a:solidFill>
              <a:srgbClr val="33b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6429240" y="5103720"/>
              <a:ext cx="380880" cy="15840"/>
            </a:xfrm>
            <a:prstGeom prst="rect">
              <a:avLst/>
            </a:prstGeom>
            <a:solidFill>
              <a:srgbClr val="33b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6429240" y="5119560"/>
              <a:ext cx="380880" cy="15840"/>
            </a:xfrm>
            <a:prstGeom prst="rect">
              <a:avLst/>
            </a:prstGeom>
            <a:solidFill>
              <a:srgbClr val="33be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6429240" y="5135400"/>
              <a:ext cx="380880" cy="14400"/>
            </a:xfrm>
            <a:prstGeom prst="rect">
              <a:avLst/>
            </a:prstGeom>
            <a:solidFill>
              <a:srgbClr val="33b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6429240" y="5149800"/>
              <a:ext cx="380880" cy="15840"/>
            </a:xfrm>
            <a:prstGeom prst="rect">
              <a:avLst/>
            </a:prstGeom>
            <a:solidFill>
              <a:srgbClr val="33c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6429240" y="5165640"/>
              <a:ext cx="380880" cy="30240"/>
            </a:xfrm>
            <a:prstGeom prst="rect">
              <a:avLst/>
            </a:prstGeom>
            <a:solidFill>
              <a:srgbClr val="33c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6429240" y="5195880"/>
              <a:ext cx="380880" cy="15840"/>
            </a:xfrm>
            <a:prstGeom prst="rect">
              <a:avLst/>
            </a:prstGeom>
            <a:solidFill>
              <a:srgbClr val="33c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6429240" y="5211720"/>
              <a:ext cx="380880" cy="14040"/>
            </a:xfrm>
            <a:prstGeom prst="rect">
              <a:avLst/>
            </a:prstGeom>
            <a:solidFill>
              <a:srgbClr val="33c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6429240" y="5225760"/>
              <a:ext cx="380880" cy="15840"/>
            </a:xfrm>
            <a:prstGeom prst="rect">
              <a:avLst/>
            </a:prstGeom>
            <a:solidFill>
              <a:srgbClr val="33c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6429240" y="5241600"/>
              <a:ext cx="380880" cy="14400"/>
            </a:xfrm>
            <a:prstGeom prst="rect">
              <a:avLst/>
            </a:prstGeom>
            <a:solidFill>
              <a:srgbClr val="33c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6429240" y="5256000"/>
              <a:ext cx="380880" cy="15840"/>
            </a:xfrm>
            <a:prstGeom prst="rect">
              <a:avLst/>
            </a:prstGeom>
            <a:solidFill>
              <a:srgbClr val="33c4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6429240" y="5271840"/>
              <a:ext cx="380880" cy="15840"/>
            </a:xfrm>
            <a:prstGeom prst="rect">
              <a:avLst/>
            </a:prstGeom>
            <a:solidFill>
              <a:srgbClr val="33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6429240" y="5287680"/>
              <a:ext cx="380880" cy="14400"/>
            </a:xfrm>
            <a:prstGeom prst="rect">
              <a:avLst/>
            </a:prstGeom>
            <a:solidFill>
              <a:srgbClr val="33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6429240" y="5302080"/>
              <a:ext cx="380880" cy="15840"/>
            </a:xfrm>
            <a:prstGeom prst="rect">
              <a:avLst/>
            </a:prstGeom>
            <a:solidFill>
              <a:srgbClr val="33c6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6429240" y="5317920"/>
              <a:ext cx="380880" cy="14400"/>
            </a:xfrm>
            <a:prstGeom prst="rect">
              <a:avLst/>
            </a:prstGeom>
            <a:solidFill>
              <a:srgbClr val="33c6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6429240" y="5332320"/>
              <a:ext cx="380880" cy="15840"/>
            </a:xfrm>
            <a:prstGeom prst="rect">
              <a:avLst/>
            </a:prstGeom>
            <a:solidFill>
              <a:srgbClr val="33c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6429240" y="5348160"/>
              <a:ext cx="380880" cy="15840"/>
            </a:xfrm>
            <a:prstGeom prst="rect">
              <a:avLst/>
            </a:prstGeom>
            <a:solidFill>
              <a:srgbClr val="33c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6429240" y="5364000"/>
              <a:ext cx="380880" cy="14400"/>
            </a:xfrm>
            <a:prstGeom prst="rect">
              <a:avLst/>
            </a:prstGeom>
            <a:solidFill>
              <a:srgbClr val="33c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6429240" y="5378400"/>
              <a:ext cx="380880" cy="15840"/>
            </a:xfrm>
            <a:prstGeom prst="rect">
              <a:avLst/>
            </a:prstGeom>
            <a:solidFill>
              <a:srgbClr val="33c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6429240" y="5394240"/>
              <a:ext cx="380880" cy="14040"/>
            </a:xfrm>
            <a:prstGeom prst="rect">
              <a:avLst/>
            </a:prstGeom>
            <a:solidFill>
              <a:srgbClr val="33c9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6429240" y="5408280"/>
              <a:ext cx="380880" cy="16200"/>
            </a:xfrm>
            <a:prstGeom prst="rect">
              <a:avLst/>
            </a:prstGeom>
            <a:solidFill>
              <a:srgbClr val="33c9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6429240" y="5424480"/>
              <a:ext cx="380880" cy="15840"/>
            </a:xfrm>
            <a:prstGeom prst="rect">
              <a:avLst/>
            </a:prstGeom>
            <a:solidFill>
              <a:srgbClr val="33c9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6429240" y="5440320"/>
              <a:ext cx="380880" cy="29880"/>
            </a:xfrm>
            <a:prstGeom prst="rect">
              <a:avLst/>
            </a:prstGeom>
            <a:solidFill>
              <a:srgbClr val="33ca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6429240" y="5470200"/>
              <a:ext cx="380880" cy="14400"/>
            </a:xfrm>
            <a:prstGeom prst="rect">
              <a:avLst/>
            </a:prstGeom>
            <a:solidFill>
              <a:srgbClr val="33ca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6429240" y="5484600"/>
              <a:ext cx="380880" cy="15840"/>
            </a:xfrm>
            <a:prstGeom prst="rect">
              <a:avLst/>
            </a:prstGeom>
            <a:solidFill>
              <a:srgbClr val="33ca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6429240" y="5500440"/>
              <a:ext cx="380880" cy="15840"/>
            </a:xfrm>
            <a:prstGeom prst="rect">
              <a:avLst/>
            </a:prstGeom>
            <a:solidFill>
              <a:srgbClr val="33c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6429240" y="5516280"/>
              <a:ext cx="380880" cy="14400"/>
            </a:xfrm>
            <a:prstGeom prst="rect">
              <a:avLst/>
            </a:prstGeom>
            <a:solidFill>
              <a:srgbClr val="33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6429240" y="5530680"/>
              <a:ext cx="380880" cy="15840"/>
            </a:xfrm>
            <a:prstGeom prst="rect">
              <a:avLst/>
            </a:prstGeom>
            <a:solidFill>
              <a:srgbClr val="33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6429240" y="5546520"/>
              <a:ext cx="380880" cy="14400"/>
            </a:xfrm>
            <a:prstGeom prst="rect">
              <a:avLst/>
            </a:prstGeom>
            <a:solidFill>
              <a:srgbClr val="33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6429240" y="5560920"/>
              <a:ext cx="380880" cy="15840"/>
            </a:xfrm>
            <a:prstGeom prst="rect">
              <a:avLst/>
            </a:prstGeom>
            <a:solidFill>
              <a:srgbClr val="33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6429240" y="5576760"/>
              <a:ext cx="380880" cy="158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57" name=""/>
          <p:cNvSpPr/>
          <p:nvPr/>
        </p:nvSpPr>
        <p:spPr>
          <a:xfrm>
            <a:off x="6429240" y="3930480"/>
            <a:ext cx="381240" cy="16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358" name=""/>
          <p:cNvGrpSpPr/>
          <p:nvPr/>
        </p:nvGrpSpPr>
        <p:grpSpPr>
          <a:xfrm>
            <a:off x="7359480" y="3214800"/>
            <a:ext cx="380880" cy="2377440"/>
            <a:chOff x="7359480" y="3214800"/>
            <a:chExt cx="380880" cy="2377440"/>
          </a:xfrm>
        </p:grpSpPr>
        <p:sp>
          <p:nvSpPr>
            <p:cNvPr id="2359" name=""/>
            <p:cNvSpPr/>
            <p:nvPr/>
          </p:nvSpPr>
          <p:spPr>
            <a:xfrm>
              <a:off x="7359480" y="3214800"/>
              <a:ext cx="380880" cy="29880"/>
            </a:xfrm>
            <a:prstGeom prst="rect">
              <a:avLst/>
            </a:prstGeom>
            <a:solidFill>
              <a:srgbClr val="3366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7359480" y="3244680"/>
              <a:ext cx="380880" cy="15480"/>
            </a:xfrm>
            <a:prstGeom prst="rect">
              <a:avLst/>
            </a:prstGeom>
            <a:solidFill>
              <a:srgbClr val="3366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7359480" y="3260520"/>
              <a:ext cx="380880" cy="29880"/>
            </a:xfrm>
            <a:prstGeom prst="rect">
              <a:avLst/>
            </a:prstGeom>
            <a:solidFill>
              <a:srgbClr val="3366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7359480" y="3290760"/>
              <a:ext cx="380880" cy="15480"/>
            </a:xfrm>
            <a:prstGeom prst="rect">
              <a:avLst/>
            </a:prstGeom>
            <a:solidFill>
              <a:srgbClr val="3367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7359480" y="3306600"/>
              <a:ext cx="380880" cy="29880"/>
            </a:xfrm>
            <a:prstGeom prst="rect">
              <a:avLst/>
            </a:prstGeom>
            <a:solidFill>
              <a:srgbClr val="3367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7359480" y="3336840"/>
              <a:ext cx="380880" cy="15480"/>
            </a:xfrm>
            <a:prstGeom prst="rect">
              <a:avLst/>
            </a:prstGeom>
            <a:solidFill>
              <a:srgbClr val="336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7359480" y="3352680"/>
              <a:ext cx="380880" cy="29880"/>
            </a:xfrm>
            <a:prstGeom prst="rect">
              <a:avLst/>
            </a:prstGeom>
            <a:solidFill>
              <a:srgbClr val="3368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7359480" y="3382920"/>
              <a:ext cx="380880" cy="13680"/>
            </a:xfrm>
            <a:prstGeom prst="rect">
              <a:avLst/>
            </a:prstGeom>
            <a:solidFill>
              <a:srgbClr val="3369f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7359480" y="3396960"/>
              <a:ext cx="380880" cy="31680"/>
            </a:xfrm>
            <a:prstGeom prst="rect">
              <a:avLst/>
            </a:prstGeom>
            <a:solidFill>
              <a:srgbClr val="3369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7359480" y="3429000"/>
              <a:ext cx="380880" cy="13680"/>
            </a:xfrm>
            <a:prstGeom prst="rect">
              <a:avLst/>
            </a:prstGeom>
            <a:solidFill>
              <a:srgbClr val="336a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7359480" y="3443040"/>
              <a:ext cx="380880" cy="29880"/>
            </a:xfrm>
            <a:prstGeom prst="rect">
              <a:avLst/>
            </a:prstGeom>
            <a:solidFill>
              <a:srgbClr val="336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7359480" y="3473280"/>
              <a:ext cx="380880" cy="15480"/>
            </a:xfrm>
            <a:prstGeom prst="rect">
              <a:avLst/>
            </a:prstGeom>
            <a:solidFill>
              <a:srgbClr val="336b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7359480" y="3489120"/>
              <a:ext cx="380880" cy="29880"/>
            </a:xfrm>
            <a:prstGeom prst="rect">
              <a:avLst/>
            </a:prstGeom>
            <a:solidFill>
              <a:srgbClr val="336c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7359480" y="3519360"/>
              <a:ext cx="380880" cy="15480"/>
            </a:xfrm>
            <a:prstGeom prst="rect">
              <a:avLst/>
            </a:prstGeom>
            <a:solidFill>
              <a:srgbClr val="336d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7359480" y="3535200"/>
              <a:ext cx="380880" cy="29880"/>
            </a:xfrm>
            <a:prstGeom prst="rect">
              <a:avLst/>
            </a:prstGeom>
            <a:solidFill>
              <a:srgbClr val="336e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7359480" y="3565440"/>
              <a:ext cx="380880" cy="15480"/>
            </a:xfrm>
            <a:prstGeom prst="rect">
              <a:avLst/>
            </a:prstGeom>
            <a:solidFill>
              <a:srgbClr val="336ef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7359480" y="3581280"/>
              <a:ext cx="380880" cy="29880"/>
            </a:xfrm>
            <a:prstGeom prst="rect">
              <a:avLst/>
            </a:prstGeom>
            <a:solidFill>
              <a:srgbClr val="336f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7359480" y="3611520"/>
              <a:ext cx="380880" cy="13680"/>
            </a:xfrm>
            <a:prstGeom prst="rect">
              <a:avLst/>
            </a:prstGeom>
            <a:solidFill>
              <a:srgbClr val="3370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7359480" y="3625560"/>
              <a:ext cx="380880" cy="31680"/>
            </a:xfrm>
            <a:prstGeom prst="rect">
              <a:avLst/>
            </a:prstGeom>
            <a:solidFill>
              <a:srgbClr val="3371f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7359480" y="3657600"/>
              <a:ext cx="380880" cy="13680"/>
            </a:xfrm>
            <a:prstGeom prst="rect">
              <a:avLst/>
            </a:prstGeom>
            <a:solidFill>
              <a:srgbClr val="3372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7359480" y="3671640"/>
              <a:ext cx="380880" cy="29880"/>
            </a:xfrm>
            <a:prstGeom prst="rect">
              <a:avLst/>
            </a:prstGeom>
            <a:solidFill>
              <a:srgbClr val="3373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7359480" y="3701880"/>
              <a:ext cx="380880" cy="15480"/>
            </a:xfrm>
            <a:prstGeom prst="rect">
              <a:avLst/>
            </a:prstGeom>
            <a:solidFill>
              <a:srgbClr val="3374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7359480" y="3717720"/>
              <a:ext cx="380880" cy="29880"/>
            </a:xfrm>
            <a:prstGeom prst="rect">
              <a:avLst/>
            </a:prstGeom>
            <a:solidFill>
              <a:srgbClr val="3375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7359480" y="3747960"/>
              <a:ext cx="380880" cy="15480"/>
            </a:xfrm>
            <a:prstGeom prst="rect">
              <a:avLst/>
            </a:prstGeom>
            <a:solidFill>
              <a:srgbClr val="337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7359480" y="3763800"/>
              <a:ext cx="380880" cy="29880"/>
            </a:xfrm>
            <a:prstGeom prst="rect">
              <a:avLst/>
            </a:prstGeom>
            <a:solidFill>
              <a:srgbClr val="3377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7359480" y="3794040"/>
              <a:ext cx="380880" cy="15480"/>
            </a:xfrm>
            <a:prstGeom prst="rect">
              <a:avLst/>
            </a:prstGeom>
            <a:solidFill>
              <a:srgbClr val="3379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7359480" y="3809880"/>
              <a:ext cx="380880" cy="29880"/>
            </a:xfrm>
            <a:prstGeom prst="rect">
              <a:avLst/>
            </a:prstGeom>
            <a:solidFill>
              <a:srgbClr val="337a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7359480" y="3840120"/>
              <a:ext cx="380880" cy="13680"/>
            </a:xfrm>
            <a:prstGeom prst="rect">
              <a:avLst/>
            </a:prstGeom>
            <a:solidFill>
              <a:srgbClr val="337c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7359480" y="3854160"/>
              <a:ext cx="380880" cy="31680"/>
            </a:xfrm>
            <a:prstGeom prst="rect">
              <a:avLst/>
            </a:prstGeom>
            <a:solidFill>
              <a:srgbClr val="337d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7359480" y="3886200"/>
              <a:ext cx="380880" cy="13680"/>
            </a:xfrm>
            <a:prstGeom prst="rect">
              <a:avLst/>
            </a:prstGeom>
            <a:solidFill>
              <a:srgbClr val="337e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7359480" y="3900240"/>
              <a:ext cx="380880" cy="29880"/>
            </a:xfrm>
            <a:prstGeom prst="rect">
              <a:avLst/>
            </a:prstGeom>
            <a:solidFill>
              <a:srgbClr val="337ff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7359480" y="3930480"/>
              <a:ext cx="380880" cy="15480"/>
            </a:xfrm>
            <a:prstGeom prst="rect">
              <a:avLst/>
            </a:prstGeom>
            <a:solidFill>
              <a:srgbClr val="3381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7359480" y="3946320"/>
              <a:ext cx="380880" cy="29880"/>
            </a:xfrm>
            <a:prstGeom prst="rect">
              <a:avLst/>
            </a:prstGeom>
            <a:solidFill>
              <a:srgbClr val="3382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7359480" y="3976560"/>
              <a:ext cx="380880" cy="15480"/>
            </a:xfrm>
            <a:prstGeom prst="rect">
              <a:avLst/>
            </a:prstGeom>
            <a:solidFill>
              <a:srgbClr val="3384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7359480" y="3992400"/>
              <a:ext cx="380880" cy="29880"/>
            </a:xfrm>
            <a:prstGeom prst="rect">
              <a:avLst/>
            </a:prstGeom>
            <a:solidFill>
              <a:srgbClr val="3385f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7359480" y="4022640"/>
              <a:ext cx="380880" cy="29880"/>
            </a:xfrm>
            <a:prstGeom prst="rect">
              <a:avLst/>
            </a:prstGeom>
            <a:solidFill>
              <a:srgbClr val="3387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7359480" y="4052880"/>
              <a:ext cx="380880" cy="15480"/>
            </a:xfrm>
            <a:prstGeom prst="rect">
              <a:avLst/>
            </a:prstGeom>
            <a:solidFill>
              <a:srgbClr val="3388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7359480" y="4068720"/>
              <a:ext cx="380880" cy="29520"/>
            </a:xfrm>
            <a:prstGeom prst="rect">
              <a:avLst/>
            </a:prstGeom>
            <a:solidFill>
              <a:srgbClr val="338a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7359480" y="4098600"/>
              <a:ext cx="380880" cy="15840"/>
            </a:xfrm>
            <a:prstGeom prst="rect">
              <a:avLst/>
            </a:prstGeom>
            <a:solidFill>
              <a:srgbClr val="338cf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7359480" y="4114800"/>
              <a:ext cx="380880" cy="29520"/>
            </a:xfrm>
            <a:prstGeom prst="rect">
              <a:avLst/>
            </a:prstGeom>
            <a:solidFill>
              <a:srgbClr val="338e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7359480" y="4144680"/>
              <a:ext cx="380880" cy="14040"/>
            </a:xfrm>
            <a:prstGeom prst="rect">
              <a:avLst/>
            </a:prstGeom>
            <a:solidFill>
              <a:srgbClr val="338f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7359480" y="4159080"/>
              <a:ext cx="380880" cy="31320"/>
            </a:xfrm>
            <a:prstGeom prst="rect">
              <a:avLst/>
            </a:prstGeom>
            <a:solidFill>
              <a:srgbClr val="3391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7359480" y="4190760"/>
              <a:ext cx="380880" cy="14040"/>
            </a:xfrm>
            <a:prstGeom prst="rect">
              <a:avLst/>
            </a:prstGeom>
            <a:solidFill>
              <a:srgbClr val="3392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7359480" y="4205160"/>
              <a:ext cx="380880" cy="29880"/>
            </a:xfrm>
            <a:prstGeom prst="rect">
              <a:avLst/>
            </a:prstGeom>
            <a:solidFill>
              <a:srgbClr val="3394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7359480" y="4235400"/>
              <a:ext cx="380880" cy="15480"/>
            </a:xfrm>
            <a:prstGeom prst="rect">
              <a:avLst/>
            </a:prstGeom>
            <a:solidFill>
              <a:srgbClr val="3395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7359480" y="4251240"/>
              <a:ext cx="380880" cy="29880"/>
            </a:xfrm>
            <a:prstGeom prst="rect">
              <a:avLst/>
            </a:prstGeom>
            <a:solidFill>
              <a:srgbClr val="3397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7359480" y="4281480"/>
              <a:ext cx="380880" cy="15480"/>
            </a:xfrm>
            <a:prstGeom prst="rect">
              <a:avLst/>
            </a:prstGeom>
            <a:solidFill>
              <a:srgbClr val="3399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7359480" y="4297320"/>
              <a:ext cx="380880" cy="29520"/>
            </a:xfrm>
            <a:prstGeom prst="rect">
              <a:avLst/>
            </a:prstGeom>
            <a:solidFill>
              <a:srgbClr val="339b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7359480" y="4327200"/>
              <a:ext cx="380880" cy="15840"/>
            </a:xfrm>
            <a:prstGeom prst="rect">
              <a:avLst/>
            </a:prstGeom>
            <a:solidFill>
              <a:srgbClr val="339c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7359480" y="4343400"/>
              <a:ext cx="380880" cy="29520"/>
            </a:xfrm>
            <a:prstGeom prst="rect">
              <a:avLst/>
            </a:prstGeom>
            <a:solidFill>
              <a:srgbClr val="339e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7359480" y="4373280"/>
              <a:ext cx="380880" cy="14040"/>
            </a:xfrm>
            <a:prstGeom prst="rect">
              <a:avLst/>
            </a:prstGeom>
            <a:solidFill>
              <a:srgbClr val="339fe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7359480" y="4387680"/>
              <a:ext cx="380880" cy="29880"/>
            </a:xfrm>
            <a:prstGeom prst="rect">
              <a:avLst/>
            </a:prstGeom>
            <a:solidFill>
              <a:srgbClr val="33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7359480" y="4417920"/>
              <a:ext cx="380880" cy="15480"/>
            </a:xfrm>
            <a:prstGeom prst="rect">
              <a:avLst/>
            </a:prstGeom>
            <a:solidFill>
              <a:srgbClr val="33a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7359480" y="4433760"/>
              <a:ext cx="380880" cy="29880"/>
            </a:xfrm>
            <a:prstGeom prst="rect">
              <a:avLst/>
            </a:prstGeom>
            <a:solidFill>
              <a:srgbClr val="33a4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7359480" y="4464000"/>
              <a:ext cx="380880" cy="15480"/>
            </a:xfrm>
            <a:prstGeom prst="rect">
              <a:avLst/>
            </a:prstGeom>
            <a:solidFill>
              <a:srgbClr val="33a5e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7359480" y="4479840"/>
              <a:ext cx="380880" cy="29880"/>
            </a:xfrm>
            <a:prstGeom prst="rect">
              <a:avLst/>
            </a:prstGeom>
            <a:solidFill>
              <a:srgbClr val="33a7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7359480" y="4510080"/>
              <a:ext cx="380880" cy="15480"/>
            </a:xfrm>
            <a:prstGeom prst="rect">
              <a:avLst/>
            </a:prstGeom>
            <a:solidFill>
              <a:srgbClr val="33a8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>
              <a:off x="7359480" y="4525920"/>
              <a:ext cx="380880" cy="29520"/>
            </a:xfrm>
            <a:prstGeom prst="rect">
              <a:avLst/>
            </a:prstGeom>
            <a:solidFill>
              <a:srgbClr val="33a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>
              <a:off x="7359480" y="4555800"/>
              <a:ext cx="380880" cy="14040"/>
            </a:xfrm>
            <a:prstGeom prst="rect">
              <a:avLst/>
            </a:prstGeom>
            <a:solidFill>
              <a:srgbClr val="33ab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>
              <a:off x="7359480" y="4570200"/>
              <a:ext cx="380880" cy="31320"/>
            </a:xfrm>
            <a:prstGeom prst="rect">
              <a:avLst/>
            </a:prstGeom>
            <a:solidFill>
              <a:srgbClr val="33ad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>
              <a:off x="7359480" y="4601880"/>
              <a:ext cx="380880" cy="14040"/>
            </a:xfrm>
            <a:prstGeom prst="rect">
              <a:avLst/>
            </a:prstGeom>
            <a:solidFill>
              <a:srgbClr val="33ae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7359480" y="4616280"/>
              <a:ext cx="380880" cy="29880"/>
            </a:xfrm>
            <a:prstGeom prst="rect">
              <a:avLst/>
            </a:prstGeom>
            <a:solidFill>
              <a:srgbClr val="33a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7359480" y="4646520"/>
              <a:ext cx="380880" cy="15480"/>
            </a:xfrm>
            <a:prstGeom prst="rect">
              <a:avLst/>
            </a:prstGeom>
            <a:solidFill>
              <a:srgbClr val="33b1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7359480" y="4662360"/>
              <a:ext cx="380880" cy="29880"/>
            </a:xfrm>
            <a:prstGeom prst="rect">
              <a:avLst/>
            </a:prstGeom>
            <a:solidFill>
              <a:srgbClr val="33b2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7359480" y="4692600"/>
              <a:ext cx="380880" cy="15480"/>
            </a:xfrm>
            <a:prstGeom prst="rect">
              <a:avLst/>
            </a:prstGeom>
            <a:solidFill>
              <a:srgbClr val="33b3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7359480" y="4708440"/>
              <a:ext cx="380880" cy="29880"/>
            </a:xfrm>
            <a:prstGeom prst="rect">
              <a:avLst/>
            </a:prstGeom>
            <a:solidFill>
              <a:srgbClr val="33b4d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7359480" y="4738680"/>
              <a:ext cx="380880" cy="15480"/>
            </a:xfrm>
            <a:prstGeom prst="rect">
              <a:avLst/>
            </a:prstGeom>
            <a:solidFill>
              <a:srgbClr val="33b6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7359480" y="4754520"/>
              <a:ext cx="380880" cy="29520"/>
            </a:xfrm>
            <a:prstGeom prst="rect">
              <a:avLst/>
            </a:prstGeom>
            <a:solidFill>
              <a:srgbClr val="33b7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7359480" y="4784400"/>
              <a:ext cx="380880" cy="29880"/>
            </a:xfrm>
            <a:prstGeom prst="rect">
              <a:avLst/>
            </a:prstGeom>
            <a:solidFill>
              <a:srgbClr val="33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7359480" y="4814640"/>
              <a:ext cx="380880" cy="15480"/>
            </a:xfrm>
            <a:prstGeom prst="rect">
              <a:avLst/>
            </a:prstGeom>
            <a:solidFill>
              <a:srgbClr val="33b9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7359480" y="4830480"/>
              <a:ext cx="380880" cy="29880"/>
            </a:xfrm>
            <a:prstGeom prst="rect">
              <a:avLst/>
            </a:prstGeom>
            <a:solidFill>
              <a:srgbClr val="33b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7359480" y="4860720"/>
              <a:ext cx="380880" cy="14040"/>
            </a:xfrm>
            <a:prstGeom prst="rect">
              <a:avLst/>
            </a:prstGeom>
            <a:solidFill>
              <a:srgbClr val="33bb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7359480" y="4875120"/>
              <a:ext cx="380880" cy="31320"/>
            </a:xfrm>
            <a:prstGeom prst="rect">
              <a:avLst/>
            </a:prstGeom>
            <a:solidFill>
              <a:srgbClr val="33b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7359480" y="4906800"/>
              <a:ext cx="380880" cy="14040"/>
            </a:xfrm>
            <a:prstGeom prst="rect">
              <a:avLst/>
            </a:prstGeom>
            <a:solidFill>
              <a:srgbClr val="33bd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7359480" y="4921200"/>
              <a:ext cx="380880" cy="29520"/>
            </a:xfrm>
            <a:prstGeom prst="rect">
              <a:avLst/>
            </a:prstGeom>
            <a:solidFill>
              <a:srgbClr val="33be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7359480" y="4951080"/>
              <a:ext cx="380880" cy="15840"/>
            </a:xfrm>
            <a:prstGeom prst="rect">
              <a:avLst/>
            </a:prstGeom>
            <a:solidFill>
              <a:srgbClr val="33bf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7359480" y="4967280"/>
              <a:ext cx="380880" cy="29520"/>
            </a:xfrm>
            <a:prstGeom prst="rect">
              <a:avLst/>
            </a:prstGeom>
            <a:solidFill>
              <a:srgbClr val="33c0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7359480" y="4997160"/>
              <a:ext cx="380880" cy="15480"/>
            </a:xfrm>
            <a:prstGeom prst="rect">
              <a:avLst/>
            </a:prstGeom>
            <a:solidFill>
              <a:srgbClr val="33c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7359480" y="5013000"/>
              <a:ext cx="380880" cy="29880"/>
            </a:xfrm>
            <a:prstGeom prst="rect">
              <a:avLst/>
            </a:prstGeom>
            <a:solidFill>
              <a:srgbClr val="33c1d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7359480" y="5043240"/>
              <a:ext cx="380880" cy="15480"/>
            </a:xfrm>
            <a:prstGeom prst="rect">
              <a:avLst/>
            </a:prstGeom>
            <a:solidFill>
              <a:srgbClr val="33c2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7359480" y="5059080"/>
              <a:ext cx="380880" cy="29880"/>
            </a:xfrm>
            <a:prstGeom prst="rect">
              <a:avLst/>
            </a:prstGeom>
            <a:solidFill>
              <a:srgbClr val="33c3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7359480" y="5089320"/>
              <a:ext cx="380880" cy="14040"/>
            </a:xfrm>
            <a:prstGeom prst="rect">
              <a:avLst/>
            </a:prstGeom>
            <a:solidFill>
              <a:srgbClr val="33c3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7359480" y="5103720"/>
              <a:ext cx="380880" cy="31320"/>
            </a:xfrm>
            <a:prstGeom prst="rect">
              <a:avLst/>
            </a:prstGeom>
            <a:solidFill>
              <a:srgbClr val="33c4d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7359480" y="5135400"/>
              <a:ext cx="380880" cy="14040"/>
            </a:xfrm>
            <a:prstGeom prst="rect">
              <a:avLst/>
            </a:prstGeom>
            <a:solidFill>
              <a:srgbClr val="33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7359480" y="5149800"/>
              <a:ext cx="380880" cy="29520"/>
            </a:xfrm>
            <a:prstGeom prst="rect">
              <a:avLst/>
            </a:prstGeom>
            <a:solidFill>
              <a:srgbClr val="33c5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7359480" y="5179680"/>
              <a:ext cx="380880" cy="15840"/>
            </a:xfrm>
            <a:prstGeom prst="rect">
              <a:avLst/>
            </a:prstGeom>
            <a:solidFill>
              <a:srgbClr val="33c6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7359480" y="5195880"/>
              <a:ext cx="380880" cy="29520"/>
            </a:xfrm>
            <a:prstGeom prst="rect">
              <a:avLst/>
            </a:prstGeom>
            <a:solidFill>
              <a:srgbClr val="33c6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7359480" y="5225760"/>
              <a:ext cx="380880" cy="15480"/>
            </a:xfrm>
            <a:prstGeom prst="rect">
              <a:avLst/>
            </a:prstGeom>
            <a:solidFill>
              <a:srgbClr val="33c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7359480" y="5241600"/>
              <a:ext cx="380880" cy="29880"/>
            </a:xfrm>
            <a:prstGeom prst="rect">
              <a:avLst/>
            </a:prstGeom>
            <a:solidFill>
              <a:srgbClr val="33c7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7359480" y="5271840"/>
              <a:ext cx="380880" cy="15480"/>
            </a:xfrm>
            <a:prstGeom prst="rect">
              <a:avLst/>
            </a:prstGeom>
            <a:solidFill>
              <a:srgbClr val="33c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7359480" y="5287680"/>
              <a:ext cx="380880" cy="29880"/>
            </a:xfrm>
            <a:prstGeom prst="rect">
              <a:avLst/>
            </a:prstGeom>
            <a:solidFill>
              <a:srgbClr val="33c8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7359480" y="5317920"/>
              <a:ext cx="380880" cy="14040"/>
            </a:xfrm>
            <a:prstGeom prst="rect">
              <a:avLst/>
            </a:prstGeom>
            <a:solidFill>
              <a:srgbClr val="33c9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7359480" y="5332320"/>
              <a:ext cx="380880" cy="31320"/>
            </a:xfrm>
            <a:prstGeom prst="rect">
              <a:avLst/>
            </a:prstGeom>
            <a:solidFill>
              <a:srgbClr val="33c9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7359480" y="5364000"/>
              <a:ext cx="380880" cy="14040"/>
            </a:xfrm>
            <a:prstGeom prst="rect">
              <a:avLst/>
            </a:prstGeom>
            <a:solidFill>
              <a:srgbClr val="33c9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7359480" y="5378400"/>
              <a:ext cx="380880" cy="29520"/>
            </a:xfrm>
            <a:prstGeom prst="rect">
              <a:avLst/>
            </a:prstGeom>
            <a:solidFill>
              <a:srgbClr val="33ca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7359480" y="5408280"/>
              <a:ext cx="380880" cy="15840"/>
            </a:xfrm>
            <a:prstGeom prst="rect">
              <a:avLst/>
            </a:prstGeom>
            <a:solidFill>
              <a:srgbClr val="33ca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7359480" y="5424480"/>
              <a:ext cx="380880" cy="29520"/>
            </a:xfrm>
            <a:prstGeom prst="rect">
              <a:avLst/>
            </a:prstGeom>
            <a:solidFill>
              <a:srgbClr val="33ca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7359480" y="5454360"/>
              <a:ext cx="380880" cy="15480"/>
            </a:xfrm>
            <a:prstGeom prst="rect">
              <a:avLst/>
            </a:prstGeom>
            <a:solidFill>
              <a:srgbClr val="33ca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7359480" y="5470200"/>
              <a:ext cx="380880" cy="29880"/>
            </a:xfrm>
            <a:prstGeom prst="rect">
              <a:avLst/>
            </a:prstGeom>
            <a:solidFill>
              <a:srgbClr val="33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7359480" y="5500440"/>
              <a:ext cx="380880" cy="15480"/>
            </a:xfrm>
            <a:prstGeom prst="rect">
              <a:avLst/>
            </a:prstGeom>
            <a:solidFill>
              <a:srgbClr val="33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7359480" y="5516280"/>
              <a:ext cx="380880" cy="29880"/>
            </a:xfrm>
            <a:prstGeom prst="rect">
              <a:avLst/>
            </a:prstGeom>
            <a:solidFill>
              <a:srgbClr val="33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7359480" y="5546520"/>
              <a:ext cx="380880" cy="14040"/>
            </a:xfrm>
            <a:prstGeom prst="rect">
              <a:avLst/>
            </a:prstGeom>
            <a:solidFill>
              <a:srgbClr val="33cb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7359480" y="5560920"/>
              <a:ext cx="380880" cy="3132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62" name=""/>
          <p:cNvSpPr/>
          <p:nvPr/>
        </p:nvSpPr>
        <p:spPr>
          <a:xfrm>
            <a:off x="7359480" y="3214800"/>
            <a:ext cx="38124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3" name=""/>
          <p:cNvSpPr/>
          <p:nvPr/>
        </p:nvSpPr>
        <p:spPr>
          <a:xfrm>
            <a:off x="1523880" y="2027160"/>
            <a:ext cx="1800" cy="3565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4" name=""/>
          <p:cNvSpPr/>
          <p:nvPr/>
        </p:nvSpPr>
        <p:spPr>
          <a:xfrm>
            <a:off x="1461960" y="5592600"/>
            <a:ext cx="61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5" name=""/>
          <p:cNvSpPr/>
          <p:nvPr/>
        </p:nvSpPr>
        <p:spPr>
          <a:xfrm>
            <a:off x="1461960" y="508968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6" name=""/>
          <p:cNvSpPr/>
          <p:nvPr/>
        </p:nvSpPr>
        <p:spPr>
          <a:xfrm>
            <a:off x="1461960" y="457056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7" name=""/>
          <p:cNvSpPr/>
          <p:nvPr/>
        </p:nvSpPr>
        <p:spPr>
          <a:xfrm>
            <a:off x="1461960" y="4068720"/>
            <a:ext cx="61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8" name=""/>
          <p:cNvSpPr/>
          <p:nvPr/>
        </p:nvSpPr>
        <p:spPr>
          <a:xfrm>
            <a:off x="1461960" y="3549600"/>
            <a:ext cx="61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9" name=""/>
          <p:cNvSpPr/>
          <p:nvPr/>
        </p:nvSpPr>
        <p:spPr>
          <a:xfrm>
            <a:off x="1461960" y="304812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0" name=""/>
          <p:cNvSpPr/>
          <p:nvPr/>
        </p:nvSpPr>
        <p:spPr>
          <a:xfrm>
            <a:off x="1461960" y="2529000"/>
            <a:ext cx="619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1" name=""/>
          <p:cNvSpPr/>
          <p:nvPr/>
        </p:nvSpPr>
        <p:spPr>
          <a:xfrm>
            <a:off x="1461960" y="2027160"/>
            <a:ext cx="619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2" name=""/>
          <p:cNvSpPr/>
          <p:nvPr/>
        </p:nvSpPr>
        <p:spPr>
          <a:xfrm>
            <a:off x="1523880" y="5592600"/>
            <a:ext cx="64897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3" name=""/>
          <p:cNvSpPr/>
          <p:nvPr/>
        </p:nvSpPr>
        <p:spPr>
          <a:xfrm flipV="1">
            <a:off x="1523880" y="5592600"/>
            <a:ext cx="180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4" name=""/>
          <p:cNvSpPr/>
          <p:nvPr/>
        </p:nvSpPr>
        <p:spPr>
          <a:xfrm flipV="1">
            <a:off x="2452680" y="559260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5" name=""/>
          <p:cNvSpPr/>
          <p:nvPr/>
        </p:nvSpPr>
        <p:spPr>
          <a:xfrm flipV="1">
            <a:off x="3382920" y="5592600"/>
            <a:ext cx="180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6" name=""/>
          <p:cNvSpPr/>
          <p:nvPr/>
        </p:nvSpPr>
        <p:spPr>
          <a:xfrm flipV="1">
            <a:off x="4311720" y="559260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7" name=""/>
          <p:cNvSpPr/>
          <p:nvPr/>
        </p:nvSpPr>
        <p:spPr>
          <a:xfrm flipV="1">
            <a:off x="5226120" y="559260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8" name=""/>
          <p:cNvSpPr/>
          <p:nvPr/>
        </p:nvSpPr>
        <p:spPr>
          <a:xfrm flipV="1">
            <a:off x="6156360" y="559260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9" name=""/>
          <p:cNvSpPr/>
          <p:nvPr/>
        </p:nvSpPr>
        <p:spPr>
          <a:xfrm flipV="1">
            <a:off x="7085160" y="5592600"/>
            <a:ext cx="144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0" name=""/>
          <p:cNvSpPr/>
          <p:nvPr/>
        </p:nvSpPr>
        <p:spPr>
          <a:xfrm flipV="1">
            <a:off x="8013600" y="5592600"/>
            <a:ext cx="1800" cy="6048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1" name=""/>
          <p:cNvSpPr/>
          <p:nvPr/>
        </p:nvSpPr>
        <p:spPr>
          <a:xfrm>
            <a:off x="1843560" y="3854520"/>
            <a:ext cx="46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80"/>
                </a:solidFill>
                <a:latin typeface="Arial"/>
              </a:rPr>
              <a:t>5,5</a:t>
            </a:r>
            <a:r>
              <a:rPr b="0" lang="es-ES_tradnl" sz="1600" spc="-1" strike="noStrike">
                <a:solidFill>
                  <a:srgbClr val="000080"/>
                </a:solidFill>
                <a:latin typeface="Arial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2" name=""/>
          <p:cNvSpPr/>
          <p:nvPr/>
        </p:nvSpPr>
        <p:spPr>
          <a:xfrm>
            <a:off x="2773800" y="4006800"/>
            <a:ext cx="46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80"/>
                </a:solidFill>
                <a:latin typeface="Arial"/>
              </a:rPr>
              <a:t>4,9</a:t>
            </a:r>
            <a:r>
              <a:rPr b="0" lang="es-ES_tradnl" sz="1600" spc="-1" strike="noStrike">
                <a:solidFill>
                  <a:srgbClr val="000080"/>
                </a:solidFill>
                <a:latin typeface="Arial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3" name=""/>
          <p:cNvSpPr/>
          <p:nvPr/>
        </p:nvSpPr>
        <p:spPr>
          <a:xfrm>
            <a:off x="3702240" y="4191120"/>
            <a:ext cx="46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80"/>
                </a:solidFill>
                <a:latin typeface="Arial"/>
              </a:rPr>
              <a:t>4,2</a:t>
            </a:r>
            <a:r>
              <a:rPr b="0" lang="es-ES_tradnl" sz="1600" spc="-1" strike="noStrike">
                <a:solidFill>
                  <a:srgbClr val="000080"/>
                </a:solidFill>
                <a:latin typeface="Arial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4" name=""/>
          <p:cNvSpPr/>
          <p:nvPr/>
        </p:nvSpPr>
        <p:spPr>
          <a:xfrm>
            <a:off x="4632840" y="4052880"/>
            <a:ext cx="46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80"/>
                </a:solidFill>
                <a:latin typeface="Arial"/>
              </a:rPr>
              <a:t>4,7</a:t>
            </a:r>
            <a:r>
              <a:rPr b="0" lang="es-ES_tradnl" sz="1600" spc="-1" strike="noStrike">
                <a:solidFill>
                  <a:srgbClr val="000080"/>
                </a:solidFill>
                <a:latin typeface="Arial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5" name=""/>
          <p:cNvSpPr/>
          <p:nvPr/>
        </p:nvSpPr>
        <p:spPr>
          <a:xfrm>
            <a:off x="5547240" y="4098960"/>
            <a:ext cx="46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80"/>
                </a:solidFill>
                <a:latin typeface="Arial"/>
              </a:rPr>
              <a:t>4,5</a:t>
            </a:r>
            <a:r>
              <a:rPr b="0" lang="es-ES_tradnl" sz="1600" spc="-1" strike="noStrike">
                <a:solidFill>
                  <a:srgbClr val="000080"/>
                </a:solidFill>
                <a:latin typeface="Arial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6" name=""/>
          <p:cNvSpPr/>
          <p:nvPr/>
        </p:nvSpPr>
        <p:spPr>
          <a:xfrm>
            <a:off x="6475680" y="3595680"/>
            <a:ext cx="46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80"/>
                </a:solidFill>
                <a:latin typeface="Arial"/>
              </a:rPr>
              <a:t>6,5</a:t>
            </a:r>
            <a:r>
              <a:rPr b="0" lang="es-ES_tradnl" sz="1600" spc="-1" strike="noStrike">
                <a:solidFill>
                  <a:srgbClr val="000080"/>
                </a:solidFill>
                <a:latin typeface="Arial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7" name=""/>
          <p:cNvSpPr/>
          <p:nvPr/>
        </p:nvSpPr>
        <p:spPr>
          <a:xfrm>
            <a:off x="7405920" y="2879640"/>
            <a:ext cx="462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80"/>
                </a:solidFill>
                <a:latin typeface="Arial"/>
              </a:rPr>
              <a:t>9,3</a:t>
            </a:r>
            <a:r>
              <a:rPr b="0" lang="es-ES_tradnl" sz="1600" spc="-1" strike="noStrike">
                <a:solidFill>
                  <a:srgbClr val="000080"/>
                </a:solidFill>
                <a:latin typeface="Arial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8" name=""/>
          <p:cNvSpPr/>
          <p:nvPr/>
        </p:nvSpPr>
        <p:spPr>
          <a:xfrm>
            <a:off x="1265040" y="547056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80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9" name=""/>
          <p:cNvSpPr/>
          <p:nvPr/>
        </p:nvSpPr>
        <p:spPr>
          <a:xfrm>
            <a:off x="1265040" y="49672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8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0" name=""/>
          <p:cNvSpPr/>
          <p:nvPr/>
        </p:nvSpPr>
        <p:spPr>
          <a:xfrm>
            <a:off x="1265040" y="44496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80"/>
                </a:solidFill>
                <a:latin typeface="Arial"/>
              </a:rPr>
              <a:t>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1" name=""/>
          <p:cNvSpPr/>
          <p:nvPr/>
        </p:nvSpPr>
        <p:spPr>
          <a:xfrm>
            <a:off x="1265040" y="394668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80"/>
                </a:solidFill>
                <a:latin typeface="Arial"/>
              </a:rPr>
              <a:t>6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2" name=""/>
          <p:cNvSpPr/>
          <p:nvPr/>
        </p:nvSpPr>
        <p:spPr>
          <a:xfrm>
            <a:off x="1265040" y="3429000"/>
            <a:ext cx="113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80"/>
                </a:solidFill>
                <a:latin typeface="Arial"/>
              </a:rPr>
              <a:t>8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3" name=""/>
          <p:cNvSpPr/>
          <p:nvPr/>
        </p:nvSpPr>
        <p:spPr>
          <a:xfrm>
            <a:off x="1157040" y="29257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80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4" name=""/>
          <p:cNvSpPr/>
          <p:nvPr/>
        </p:nvSpPr>
        <p:spPr>
          <a:xfrm>
            <a:off x="1157040" y="24084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80"/>
                </a:solidFill>
                <a:latin typeface="Arial"/>
              </a:rPr>
              <a:t>12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5" name=""/>
          <p:cNvSpPr/>
          <p:nvPr/>
        </p:nvSpPr>
        <p:spPr>
          <a:xfrm>
            <a:off x="1157040" y="19051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80"/>
                </a:solidFill>
                <a:latin typeface="Arial"/>
              </a:rPr>
              <a:t>1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6" name=""/>
          <p:cNvSpPr/>
          <p:nvPr/>
        </p:nvSpPr>
        <p:spPr>
          <a:xfrm>
            <a:off x="1767240" y="57592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80"/>
                </a:solidFill>
                <a:latin typeface="Arial"/>
              </a:rPr>
              <a:t>0 a 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7" name=""/>
          <p:cNvSpPr/>
          <p:nvPr/>
        </p:nvSpPr>
        <p:spPr>
          <a:xfrm>
            <a:off x="2635560" y="5759280"/>
            <a:ext cx="56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80"/>
                </a:solidFill>
                <a:latin typeface="Arial"/>
              </a:rPr>
              <a:t>5 a 1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8" name=""/>
          <p:cNvSpPr/>
          <p:nvPr/>
        </p:nvSpPr>
        <p:spPr>
          <a:xfrm>
            <a:off x="3519360" y="5759280"/>
            <a:ext cx="677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80"/>
                </a:solidFill>
                <a:latin typeface="Arial"/>
              </a:rPr>
              <a:t>15 a 19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9" name=""/>
          <p:cNvSpPr/>
          <p:nvPr/>
        </p:nvSpPr>
        <p:spPr>
          <a:xfrm>
            <a:off x="4449600" y="5759280"/>
            <a:ext cx="677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80"/>
                </a:solidFill>
                <a:latin typeface="Arial"/>
              </a:rPr>
              <a:t>20 a 4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0" name=""/>
          <p:cNvSpPr/>
          <p:nvPr/>
        </p:nvSpPr>
        <p:spPr>
          <a:xfrm>
            <a:off x="5378400" y="5759280"/>
            <a:ext cx="677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80"/>
                </a:solidFill>
                <a:latin typeface="Arial"/>
              </a:rPr>
              <a:t>45 a 6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1" name=""/>
          <p:cNvSpPr/>
          <p:nvPr/>
        </p:nvSpPr>
        <p:spPr>
          <a:xfrm>
            <a:off x="6307200" y="5759280"/>
            <a:ext cx="677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99"/>
                </a:solidFill>
                <a:latin typeface="Arial"/>
              </a:rPr>
              <a:t>65 a 74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2" name=""/>
          <p:cNvSpPr/>
          <p:nvPr/>
        </p:nvSpPr>
        <p:spPr>
          <a:xfrm>
            <a:off x="7145280" y="5759280"/>
            <a:ext cx="825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99"/>
                </a:solidFill>
                <a:latin typeface="Arial"/>
              </a:rPr>
              <a:t>75 y má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3" name=""/>
          <p:cNvSpPr/>
          <p:nvPr/>
        </p:nvSpPr>
        <p:spPr>
          <a:xfrm>
            <a:off x="4130640" y="6110280"/>
            <a:ext cx="13525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80"/>
                </a:solidFill>
                <a:latin typeface="Arial"/>
              </a:rPr>
              <a:t>Grupo de e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4" name=""/>
          <p:cNvSpPr/>
          <p:nvPr/>
        </p:nvSpPr>
        <p:spPr>
          <a:xfrm>
            <a:off x="914400" y="3687840"/>
            <a:ext cx="180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80"/>
                </a:solidFill>
                <a:latin typeface="Arial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5" name="PlaceHolder 1"/>
          <p:cNvSpPr>
            <a:spLocks noGrp="1"/>
          </p:cNvSpPr>
          <p:nvPr>
            <p:ph/>
          </p:nvPr>
        </p:nvSpPr>
        <p:spPr>
          <a:xfrm>
            <a:off x="228240" y="333000"/>
            <a:ext cx="75438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6" name=""/>
          <p:cNvSpPr/>
          <p:nvPr/>
        </p:nvSpPr>
        <p:spPr>
          <a:xfrm>
            <a:off x="457200" y="333360"/>
            <a:ext cx="8229600" cy="57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7" name=""/>
          <p:cNvSpPr/>
          <p:nvPr/>
        </p:nvSpPr>
        <p:spPr>
          <a:xfrm flipH="1">
            <a:off x="2224800" y="2590920"/>
            <a:ext cx="2127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08" name=""/>
          <p:cNvGrpSpPr/>
          <p:nvPr/>
        </p:nvGrpSpPr>
        <p:grpSpPr>
          <a:xfrm>
            <a:off x="2193840" y="407880"/>
            <a:ext cx="5959440" cy="6068520"/>
            <a:chOff x="2193840" y="407880"/>
            <a:chExt cx="5959440" cy="6068520"/>
          </a:xfrm>
        </p:grpSpPr>
        <p:sp>
          <p:nvSpPr>
            <p:cNvPr id="2509" name=""/>
            <p:cNvSpPr/>
            <p:nvPr/>
          </p:nvSpPr>
          <p:spPr>
            <a:xfrm>
              <a:off x="4002120" y="407880"/>
              <a:ext cx="300600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200" spc="-1" strike="noStrike">
                  <a:solidFill>
                    <a:srgbClr val="000080"/>
                  </a:solidFill>
                  <a:latin typeface="Tahoma"/>
                </a:rPr>
                <a:t>Distribuci</a:t>
              </a:r>
              <a:r>
                <a:rPr b="1" lang="es-MX" sz="2200" spc="-1" strike="noStrike">
                  <a:solidFill>
                    <a:srgbClr val="000080"/>
                  </a:solidFill>
                  <a:latin typeface="Tahoma"/>
                </a:rPr>
                <a:t>ó</a:t>
              </a:r>
              <a:r>
                <a:rPr b="1" lang="es-ES" sz="2200" spc="-1" strike="noStrike">
                  <a:solidFill>
                    <a:srgbClr val="000080"/>
                  </a:solidFill>
                  <a:latin typeface="Tahoma"/>
                </a:rPr>
                <a:t>n por Edad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4013280" y="762120"/>
              <a:ext cx="30106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Tahoma"/>
                </a:rPr>
                <a:t>Programa Nacional de </a:t>
              </a:r>
              <a:r>
                <a:rPr b="1" lang="es-MX" sz="1600" spc="-1" strike="noStrike">
                  <a:solidFill>
                    <a:srgbClr val="000080"/>
                  </a:solidFill>
                  <a:latin typeface="Tahoma"/>
                </a:rPr>
                <a:t>Cánc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4660200" y="988920"/>
              <a:ext cx="148968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200" spc="-1" strike="noStrike">
                  <a:solidFill>
                    <a:srgbClr val="000080"/>
                  </a:solidFill>
                  <a:latin typeface="Tahoma"/>
                </a:rPr>
                <a:t>Chile, </a:t>
              </a:r>
              <a:r>
                <a:rPr b="1" lang="es-MX" sz="2200" spc="-1" strike="noStrike">
                  <a:solidFill>
                    <a:srgbClr val="000080"/>
                  </a:solidFill>
                  <a:latin typeface="Tahoma"/>
                </a:rPr>
                <a:t>2002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5230440" y="3430440"/>
              <a:ext cx="2222640" cy="479520"/>
            </a:xfrm>
            <a:custGeom>
              <a:avLst/>
              <a:gdLst/>
              <a:ahLst/>
              <a:rect l="l" t="t" r="r" b="b"/>
              <a:pathLst>
                <a:path w="5601" h="905">
                  <a:moveTo>
                    <a:pt x="5601" y="0"/>
                  </a:moveTo>
                  <a:lnTo>
                    <a:pt x="5601" y="721"/>
                  </a:lnTo>
                  <a:lnTo>
                    <a:pt x="0" y="905"/>
                  </a:lnTo>
                  <a:lnTo>
                    <a:pt x="0" y="184"/>
                  </a:lnTo>
                  <a:lnTo>
                    <a:pt x="5601" y="0"/>
                  </a:lnTo>
                  <a:close/>
                </a:path>
              </a:pathLst>
            </a:custGeom>
            <a:solidFill>
              <a:srgbClr val="001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5230440" y="3430440"/>
              <a:ext cx="2222640" cy="479520"/>
            </a:xfrm>
            <a:custGeom>
              <a:avLst/>
              <a:gdLst/>
              <a:ahLst/>
              <a:rect l="l" t="t" r="r" b="b"/>
              <a:pathLst>
                <a:path w="5601" h="905">
                  <a:moveTo>
                    <a:pt x="5601" y="0"/>
                  </a:moveTo>
                  <a:lnTo>
                    <a:pt x="5601" y="721"/>
                  </a:lnTo>
                  <a:lnTo>
                    <a:pt x="0" y="905"/>
                  </a:lnTo>
                  <a:lnTo>
                    <a:pt x="0" y="184"/>
                  </a:lnTo>
                  <a:lnTo>
                    <a:pt x="5601" y="0"/>
                  </a:lnTo>
                </a:path>
              </a:pathLst>
            </a:custGeom>
            <a:noFill/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4" name=""/>
            <p:cNvSpPr/>
            <p:nvPr/>
          </p:nvSpPr>
          <p:spPr>
            <a:xfrm>
              <a:off x="3706560" y="2395440"/>
              <a:ext cx="1523880" cy="1514520"/>
            </a:xfrm>
            <a:custGeom>
              <a:avLst/>
              <a:gdLst/>
              <a:ahLst/>
              <a:rect l="l" t="t" r="r" b="b"/>
              <a:pathLst>
                <a:path w="3840" h="2863">
                  <a:moveTo>
                    <a:pt x="0" y="0"/>
                  </a:moveTo>
                  <a:lnTo>
                    <a:pt x="0" y="721"/>
                  </a:lnTo>
                  <a:lnTo>
                    <a:pt x="3840" y="2863"/>
                  </a:lnTo>
                  <a:lnTo>
                    <a:pt x="3840" y="21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1f5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5" name=""/>
            <p:cNvSpPr/>
            <p:nvPr/>
          </p:nvSpPr>
          <p:spPr>
            <a:xfrm>
              <a:off x="3706560" y="2395440"/>
              <a:ext cx="1523880" cy="1514520"/>
            </a:xfrm>
            <a:custGeom>
              <a:avLst/>
              <a:gdLst/>
              <a:ahLst/>
              <a:rect l="l" t="t" r="r" b="b"/>
              <a:pathLst>
                <a:path w="3840" h="2863">
                  <a:moveTo>
                    <a:pt x="0" y="0"/>
                  </a:moveTo>
                  <a:lnTo>
                    <a:pt x="0" y="721"/>
                  </a:lnTo>
                  <a:lnTo>
                    <a:pt x="3840" y="2863"/>
                  </a:lnTo>
                  <a:lnTo>
                    <a:pt x="3840" y="2142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6" name=""/>
            <p:cNvSpPr/>
            <p:nvPr/>
          </p:nvSpPr>
          <p:spPr>
            <a:xfrm>
              <a:off x="5230440" y="3529080"/>
              <a:ext cx="2227320" cy="380880"/>
            </a:xfrm>
            <a:prstGeom prst="rect">
              <a:avLst/>
            </a:prstGeom>
            <a:solidFill>
              <a:srgbClr val="757f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>
              <a:off x="5235480" y="3533760"/>
              <a:ext cx="2217600" cy="371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>
              <a:off x="3003120" y="3529080"/>
              <a:ext cx="4454640" cy="1936800"/>
            </a:xfrm>
            <a:custGeom>
              <a:avLst/>
              <a:gdLst/>
              <a:ahLst/>
              <a:rect l="l" t="t" r="r" b="b"/>
              <a:pathLst>
                <a:path w="11223" h="3661">
                  <a:moveTo>
                    <a:pt x="0" y="0"/>
                  </a:moveTo>
                  <a:lnTo>
                    <a:pt x="7" y="150"/>
                  </a:lnTo>
                  <a:lnTo>
                    <a:pt x="28" y="299"/>
                  </a:lnTo>
                  <a:lnTo>
                    <a:pt x="64" y="447"/>
                  </a:lnTo>
                  <a:lnTo>
                    <a:pt x="113" y="592"/>
                  </a:lnTo>
                  <a:lnTo>
                    <a:pt x="176" y="734"/>
                  </a:lnTo>
                  <a:lnTo>
                    <a:pt x="251" y="874"/>
                  </a:lnTo>
                  <a:lnTo>
                    <a:pt x="340" y="1011"/>
                  </a:lnTo>
                  <a:lnTo>
                    <a:pt x="440" y="1143"/>
                  </a:lnTo>
                  <a:lnTo>
                    <a:pt x="553" y="1274"/>
                  </a:lnTo>
                  <a:lnTo>
                    <a:pt x="676" y="1400"/>
                  </a:lnTo>
                  <a:lnTo>
                    <a:pt x="812" y="1523"/>
                  </a:lnTo>
                  <a:lnTo>
                    <a:pt x="958" y="1643"/>
                  </a:lnTo>
                  <a:lnTo>
                    <a:pt x="1113" y="1758"/>
                  </a:lnTo>
                  <a:lnTo>
                    <a:pt x="1280" y="1869"/>
                  </a:lnTo>
                  <a:lnTo>
                    <a:pt x="1456" y="1975"/>
                  </a:lnTo>
                  <a:lnTo>
                    <a:pt x="1642" y="2078"/>
                  </a:lnTo>
                  <a:lnTo>
                    <a:pt x="1837" y="2175"/>
                  </a:lnTo>
                  <a:lnTo>
                    <a:pt x="2041" y="2268"/>
                  </a:lnTo>
                  <a:lnTo>
                    <a:pt x="2253" y="2355"/>
                  </a:lnTo>
                  <a:lnTo>
                    <a:pt x="2473" y="2437"/>
                  </a:lnTo>
                  <a:lnTo>
                    <a:pt x="2700" y="2513"/>
                  </a:lnTo>
                  <a:lnTo>
                    <a:pt x="2936" y="2584"/>
                  </a:lnTo>
                  <a:lnTo>
                    <a:pt x="3178" y="2649"/>
                  </a:lnTo>
                  <a:lnTo>
                    <a:pt x="3426" y="2708"/>
                  </a:lnTo>
                  <a:lnTo>
                    <a:pt x="3681" y="2761"/>
                  </a:lnTo>
                  <a:lnTo>
                    <a:pt x="3942" y="2807"/>
                  </a:lnTo>
                  <a:lnTo>
                    <a:pt x="4208" y="2846"/>
                  </a:lnTo>
                  <a:lnTo>
                    <a:pt x="4479" y="2879"/>
                  </a:lnTo>
                  <a:lnTo>
                    <a:pt x="4756" y="2905"/>
                  </a:lnTo>
                  <a:lnTo>
                    <a:pt x="5037" y="2924"/>
                  </a:lnTo>
                  <a:lnTo>
                    <a:pt x="5322" y="2935"/>
                  </a:lnTo>
                  <a:lnTo>
                    <a:pt x="5611" y="2939"/>
                  </a:lnTo>
                  <a:lnTo>
                    <a:pt x="5899" y="2935"/>
                  </a:lnTo>
                  <a:lnTo>
                    <a:pt x="6184" y="2924"/>
                  </a:lnTo>
                  <a:lnTo>
                    <a:pt x="6465" y="2905"/>
                  </a:lnTo>
                  <a:lnTo>
                    <a:pt x="6742" y="2879"/>
                  </a:lnTo>
                  <a:lnTo>
                    <a:pt x="7013" y="2846"/>
                  </a:lnTo>
                  <a:lnTo>
                    <a:pt x="7279" y="2807"/>
                  </a:lnTo>
                  <a:lnTo>
                    <a:pt x="7540" y="2761"/>
                  </a:lnTo>
                  <a:lnTo>
                    <a:pt x="7795" y="2708"/>
                  </a:lnTo>
                  <a:lnTo>
                    <a:pt x="8043" y="2649"/>
                  </a:lnTo>
                  <a:lnTo>
                    <a:pt x="8285" y="2584"/>
                  </a:lnTo>
                  <a:lnTo>
                    <a:pt x="8521" y="2513"/>
                  </a:lnTo>
                  <a:lnTo>
                    <a:pt x="8748" y="2437"/>
                  </a:lnTo>
                  <a:lnTo>
                    <a:pt x="8968" y="2355"/>
                  </a:lnTo>
                  <a:lnTo>
                    <a:pt x="9180" y="2268"/>
                  </a:lnTo>
                  <a:lnTo>
                    <a:pt x="9384" y="2175"/>
                  </a:lnTo>
                  <a:lnTo>
                    <a:pt x="9579" y="2078"/>
                  </a:lnTo>
                  <a:lnTo>
                    <a:pt x="9765" y="1975"/>
                  </a:lnTo>
                  <a:lnTo>
                    <a:pt x="9941" y="1869"/>
                  </a:lnTo>
                  <a:lnTo>
                    <a:pt x="10108" y="1758"/>
                  </a:lnTo>
                  <a:lnTo>
                    <a:pt x="10263" y="1643"/>
                  </a:lnTo>
                  <a:lnTo>
                    <a:pt x="10409" y="1523"/>
                  </a:lnTo>
                  <a:lnTo>
                    <a:pt x="10545" y="1400"/>
                  </a:lnTo>
                  <a:lnTo>
                    <a:pt x="10668" y="1274"/>
                  </a:lnTo>
                  <a:lnTo>
                    <a:pt x="10781" y="1143"/>
                  </a:lnTo>
                  <a:lnTo>
                    <a:pt x="10881" y="1011"/>
                  </a:lnTo>
                  <a:lnTo>
                    <a:pt x="10970" y="874"/>
                  </a:lnTo>
                  <a:lnTo>
                    <a:pt x="11045" y="734"/>
                  </a:lnTo>
                  <a:lnTo>
                    <a:pt x="11108" y="592"/>
                  </a:lnTo>
                  <a:lnTo>
                    <a:pt x="11157" y="447"/>
                  </a:lnTo>
                  <a:lnTo>
                    <a:pt x="11193" y="299"/>
                  </a:lnTo>
                  <a:lnTo>
                    <a:pt x="11214" y="150"/>
                  </a:lnTo>
                  <a:lnTo>
                    <a:pt x="11223" y="0"/>
                  </a:lnTo>
                  <a:lnTo>
                    <a:pt x="11223" y="721"/>
                  </a:lnTo>
                  <a:lnTo>
                    <a:pt x="11214" y="872"/>
                  </a:lnTo>
                  <a:lnTo>
                    <a:pt x="11193" y="1021"/>
                  </a:lnTo>
                  <a:lnTo>
                    <a:pt x="11157" y="1168"/>
                  </a:lnTo>
                  <a:lnTo>
                    <a:pt x="11108" y="1313"/>
                  </a:lnTo>
                  <a:lnTo>
                    <a:pt x="11045" y="1455"/>
                  </a:lnTo>
                  <a:lnTo>
                    <a:pt x="10970" y="1595"/>
                  </a:lnTo>
                  <a:lnTo>
                    <a:pt x="10881" y="1732"/>
                  </a:lnTo>
                  <a:lnTo>
                    <a:pt x="10781" y="1865"/>
                  </a:lnTo>
                  <a:lnTo>
                    <a:pt x="10668" y="1995"/>
                  </a:lnTo>
                  <a:lnTo>
                    <a:pt x="10545" y="2122"/>
                  </a:lnTo>
                  <a:lnTo>
                    <a:pt x="10409" y="2245"/>
                  </a:lnTo>
                  <a:lnTo>
                    <a:pt x="10263" y="2365"/>
                  </a:lnTo>
                  <a:lnTo>
                    <a:pt x="10108" y="2480"/>
                  </a:lnTo>
                  <a:lnTo>
                    <a:pt x="9941" y="2591"/>
                  </a:lnTo>
                  <a:lnTo>
                    <a:pt x="9765" y="2697"/>
                  </a:lnTo>
                  <a:lnTo>
                    <a:pt x="9579" y="2799"/>
                  </a:lnTo>
                  <a:lnTo>
                    <a:pt x="9384" y="2897"/>
                  </a:lnTo>
                  <a:lnTo>
                    <a:pt x="9180" y="2990"/>
                  </a:lnTo>
                  <a:lnTo>
                    <a:pt x="8968" y="3076"/>
                  </a:lnTo>
                  <a:lnTo>
                    <a:pt x="8748" y="3159"/>
                  </a:lnTo>
                  <a:lnTo>
                    <a:pt x="8521" y="3235"/>
                  </a:lnTo>
                  <a:lnTo>
                    <a:pt x="8285" y="3306"/>
                  </a:lnTo>
                  <a:lnTo>
                    <a:pt x="8043" y="3371"/>
                  </a:lnTo>
                  <a:lnTo>
                    <a:pt x="7795" y="3429"/>
                  </a:lnTo>
                  <a:lnTo>
                    <a:pt x="7540" y="3482"/>
                  </a:lnTo>
                  <a:lnTo>
                    <a:pt x="7279" y="3528"/>
                  </a:lnTo>
                  <a:lnTo>
                    <a:pt x="7013" y="3568"/>
                  </a:lnTo>
                  <a:lnTo>
                    <a:pt x="6742" y="3601"/>
                  </a:lnTo>
                  <a:lnTo>
                    <a:pt x="6465" y="3627"/>
                  </a:lnTo>
                  <a:lnTo>
                    <a:pt x="6184" y="3645"/>
                  </a:lnTo>
                  <a:lnTo>
                    <a:pt x="5899" y="3657"/>
                  </a:lnTo>
                  <a:lnTo>
                    <a:pt x="5611" y="3661"/>
                  </a:lnTo>
                  <a:lnTo>
                    <a:pt x="5322" y="3657"/>
                  </a:lnTo>
                  <a:lnTo>
                    <a:pt x="5037" y="3645"/>
                  </a:lnTo>
                  <a:lnTo>
                    <a:pt x="4756" y="3627"/>
                  </a:lnTo>
                  <a:lnTo>
                    <a:pt x="4479" y="3601"/>
                  </a:lnTo>
                  <a:lnTo>
                    <a:pt x="4208" y="3568"/>
                  </a:lnTo>
                  <a:lnTo>
                    <a:pt x="3942" y="3528"/>
                  </a:lnTo>
                  <a:lnTo>
                    <a:pt x="3681" y="3482"/>
                  </a:lnTo>
                  <a:lnTo>
                    <a:pt x="3426" y="3429"/>
                  </a:lnTo>
                  <a:lnTo>
                    <a:pt x="3178" y="3371"/>
                  </a:lnTo>
                  <a:lnTo>
                    <a:pt x="2936" y="3306"/>
                  </a:lnTo>
                  <a:lnTo>
                    <a:pt x="2700" y="3235"/>
                  </a:lnTo>
                  <a:lnTo>
                    <a:pt x="2473" y="3159"/>
                  </a:lnTo>
                  <a:lnTo>
                    <a:pt x="2253" y="3076"/>
                  </a:lnTo>
                  <a:lnTo>
                    <a:pt x="2041" y="2990"/>
                  </a:lnTo>
                  <a:lnTo>
                    <a:pt x="1837" y="2897"/>
                  </a:lnTo>
                  <a:lnTo>
                    <a:pt x="1642" y="2799"/>
                  </a:lnTo>
                  <a:lnTo>
                    <a:pt x="1456" y="2697"/>
                  </a:lnTo>
                  <a:lnTo>
                    <a:pt x="1280" y="2591"/>
                  </a:lnTo>
                  <a:lnTo>
                    <a:pt x="1113" y="2480"/>
                  </a:lnTo>
                  <a:lnTo>
                    <a:pt x="958" y="2365"/>
                  </a:lnTo>
                  <a:lnTo>
                    <a:pt x="812" y="2245"/>
                  </a:lnTo>
                  <a:lnTo>
                    <a:pt x="676" y="2122"/>
                  </a:lnTo>
                  <a:lnTo>
                    <a:pt x="553" y="1995"/>
                  </a:lnTo>
                  <a:lnTo>
                    <a:pt x="440" y="1865"/>
                  </a:lnTo>
                  <a:lnTo>
                    <a:pt x="340" y="1732"/>
                  </a:lnTo>
                  <a:lnTo>
                    <a:pt x="251" y="1595"/>
                  </a:lnTo>
                  <a:lnTo>
                    <a:pt x="176" y="1455"/>
                  </a:lnTo>
                  <a:lnTo>
                    <a:pt x="113" y="1313"/>
                  </a:lnTo>
                  <a:lnTo>
                    <a:pt x="64" y="1168"/>
                  </a:lnTo>
                  <a:lnTo>
                    <a:pt x="28" y="1021"/>
                  </a:lnTo>
                  <a:lnTo>
                    <a:pt x="7" y="872"/>
                  </a:lnTo>
                  <a:lnTo>
                    <a:pt x="0" y="7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3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3003120" y="3529080"/>
              <a:ext cx="4454640" cy="1936800"/>
            </a:xfrm>
            <a:custGeom>
              <a:avLst/>
              <a:gdLst/>
              <a:ahLst/>
              <a:rect l="l" t="t" r="r" b="b"/>
              <a:pathLst>
                <a:path w="11223" h="3661">
                  <a:moveTo>
                    <a:pt x="0" y="0"/>
                  </a:moveTo>
                  <a:lnTo>
                    <a:pt x="7" y="150"/>
                  </a:lnTo>
                  <a:lnTo>
                    <a:pt x="28" y="299"/>
                  </a:lnTo>
                  <a:lnTo>
                    <a:pt x="64" y="447"/>
                  </a:lnTo>
                  <a:lnTo>
                    <a:pt x="113" y="592"/>
                  </a:lnTo>
                  <a:lnTo>
                    <a:pt x="176" y="734"/>
                  </a:lnTo>
                  <a:lnTo>
                    <a:pt x="251" y="874"/>
                  </a:lnTo>
                  <a:lnTo>
                    <a:pt x="340" y="1011"/>
                  </a:lnTo>
                  <a:lnTo>
                    <a:pt x="440" y="1143"/>
                  </a:lnTo>
                  <a:lnTo>
                    <a:pt x="553" y="1274"/>
                  </a:lnTo>
                  <a:lnTo>
                    <a:pt x="676" y="1400"/>
                  </a:lnTo>
                  <a:lnTo>
                    <a:pt x="812" y="1523"/>
                  </a:lnTo>
                  <a:lnTo>
                    <a:pt x="958" y="1643"/>
                  </a:lnTo>
                  <a:lnTo>
                    <a:pt x="1113" y="1758"/>
                  </a:lnTo>
                  <a:lnTo>
                    <a:pt x="1280" y="1869"/>
                  </a:lnTo>
                  <a:lnTo>
                    <a:pt x="1456" y="1975"/>
                  </a:lnTo>
                  <a:lnTo>
                    <a:pt x="1642" y="2078"/>
                  </a:lnTo>
                  <a:lnTo>
                    <a:pt x="1837" y="2175"/>
                  </a:lnTo>
                  <a:lnTo>
                    <a:pt x="2041" y="2268"/>
                  </a:lnTo>
                  <a:lnTo>
                    <a:pt x="2253" y="2355"/>
                  </a:lnTo>
                  <a:lnTo>
                    <a:pt x="2473" y="2437"/>
                  </a:lnTo>
                  <a:lnTo>
                    <a:pt x="2700" y="2513"/>
                  </a:lnTo>
                  <a:lnTo>
                    <a:pt x="2936" y="2584"/>
                  </a:lnTo>
                  <a:lnTo>
                    <a:pt x="3178" y="2649"/>
                  </a:lnTo>
                  <a:lnTo>
                    <a:pt x="3426" y="2708"/>
                  </a:lnTo>
                  <a:lnTo>
                    <a:pt x="3681" y="2761"/>
                  </a:lnTo>
                  <a:lnTo>
                    <a:pt x="3942" y="2807"/>
                  </a:lnTo>
                  <a:lnTo>
                    <a:pt x="4208" y="2846"/>
                  </a:lnTo>
                  <a:lnTo>
                    <a:pt x="4479" y="2879"/>
                  </a:lnTo>
                  <a:lnTo>
                    <a:pt x="4756" y="2905"/>
                  </a:lnTo>
                  <a:lnTo>
                    <a:pt x="5037" y="2924"/>
                  </a:lnTo>
                  <a:lnTo>
                    <a:pt x="5322" y="2935"/>
                  </a:lnTo>
                  <a:lnTo>
                    <a:pt x="5611" y="2939"/>
                  </a:lnTo>
                  <a:lnTo>
                    <a:pt x="5899" y="2935"/>
                  </a:lnTo>
                  <a:lnTo>
                    <a:pt x="6184" y="2924"/>
                  </a:lnTo>
                  <a:lnTo>
                    <a:pt x="6465" y="2905"/>
                  </a:lnTo>
                  <a:lnTo>
                    <a:pt x="6742" y="2879"/>
                  </a:lnTo>
                  <a:lnTo>
                    <a:pt x="7013" y="2846"/>
                  </a:lnTo>
                  <a:lnTo>
                    <a:pt x="7279" y="2807"/>
                  </a:lnTo>
                  <a:lnTo>
                    <a:pt x="7540" y="2761"/>
                  </a:lnTo>
                  <a:lnTo>
                    <a:pt x="7795" y="2708"/>
                  </a:lnTo>
                  <a:lnTo>
                    <a:pt x="8043" y="2649"/>
                  </a:lnTo>
                  <a:lnTo>
                    <a:pt x="8285" y="2584"/>
                  </a:lnTo>
                  <a:lnTo>
                    <a:pt x="8521" y="2513"/>
                  </a:lnTo>
                  <a:lnTo>
                    <a:pt x="8748" y="2437"/>
                  </a:lnTo>
                  <a:lnTo>
                    <a:pt x="8968" y="2355"/>
                  </a:lnTo>
                  <a:lnTo>
                    <a:pt x="9180" y="2268"/>
                  </a:lnTo>
                  <a:lnTo>
                    <a:pt x="9384" y="2175"/>
                  </a:lnTo>
                  <a:lnTo>
                    <a:pt x="9579" y="2078"/>
                  </a:lnTo>
                  <a:lnTo>
                    <a:pt x="9765" y="1975"/>
                  </a:lnTo>
                  <a:lnTo>
                    <a:pt x="9941" y="1869"/>
                  </a:lnTo>
                  <a:lnTo>
                    <a:pt x="10108" y="1758"/>
                  </a:lnTo>
                  <a:lnTo>
                    <a:pt x="10263" y="1643"/>
                  </a:lnTo>
                  <a:lnTo>
                    <a:pt x="10409" y="1523"/>
                  </a:lnTo>
                  <a:lnTo>
                    <a:pt x="10545" y="1400"/>
                  </a:lnTo>
                  <a:lnTo>
                    <a:pt x="10668" y="1274"/>
                  </a:lnTo>
                  <a:lnTo>
                    <a:pt x="10781" y="1143"/>
                  </a:lnTo>
                  <a:lnTo>
                    <a:pt x="10881" y="1011"/>
                  </a:lnTo>
                  <a:lnTo>
                    <a:pt x="10970" y="874"/>
                  </a:lnTo>
                  <a:lnTo>
                    <a:pt x="11045" y="734"/>
                  </a:lnTo>
                  <a:lnTo>
                    <a:pt x="11108" y="592"/>
                  </a:lnTo>
                  <a:lnTo>
                    <a:pt x="11157" y="447"/>
                  </a:lnTo>
                  <a:lnTo>
                    <a:pt x="11193" y="299"/>
                  </a:lnTo>
                  <a:lnTo>
                    <a:pt x="11214" y="150"/>
                  </a:lnTo>
                  <a:lnTo>
                    <a:pt x="11223" y="0"/>
                  </a:lnTo>
                  <a:lnTo>
                    <a:pt x="11223" y="721"/>
                  </a:lnTo>
                  <a:lnTo>
                    <a:pt x="11214" y="872"/>
                  </a:lnTo>
                  <a:lnTo>
                    <a:pt x="11193" y="1021"/>
                  </a:lnTo>
                  <a:lnTo>
                    <a:pt x="11157" y="1168"/>
                  </a:lnTo>
                  <a:lnTo>
                    <a:pt x="11108" y="1313"/>
                  </a:lnTo>
                  <a:lnTo>
                    <a:pt x="11045" y="1455"/>
                  </a:lnTo>
                  <a:lnTo>
                    <a:pt x="10970" y="1595"/>
                  </a:lnTo>
                  <a:lnTo>
                    <a:pt x="10881" y="1732"/>
                  </a:lnTo>
                  <a:lnTo>
                    <a:pt x="10781" y="1865"/>
                  </a:lnTo>
                  <a:lnTo>
                    <a:pt x="10668" y="1995"/>
                  </a:lnTo>
                  <a:lnTo>
                    <a:pt x="10545" y="2122"/>
                  </a:lnTo>
                  <a:lnTo>
                    <a:pt x="10409" y="2245"/>
                  </a:lnTo>
                  <a:lnTo>
                    <a:pt x="10263" y="2365"/>
                  </a:lnTo>
                  <a:lnTo>
                    <a:pt x="10108" y="2480"/>
                  </a:lnTo>
                  <a:lnTo>
                    <a:pt x="9941" y="2591"/>
                  </a:lnTo>
                  <a:lnTo>
                    <a:pt x="9765" y="2697"/>
                  </a:lnTo>
                  <a:lnTo>
                    <a:pt x="9579" y="2799"/>
                  </a:lnTo>
                  <a:lnTo>
                    <a:pt x="9384" y="2897"/>
                  </a:lnTo>
                  <a:lnTo>
                    <a:pt x="9180" y="2990"/>
                  </a:lnTo>
                  <a:lnTo>
                    <a:pt x="8968" y="3076"/>
                  </a:lnTo>
                  <a:lnTo>
                    <a:pt x="8748" y="3159"/>
                  </a:lnTo>
                  <a:lnTo>
                    <a:pt x="8521" y="3235"/>
                  </a:lnTo>
                  <a:lnTo>
                    <a:pt x="8285" y="3306"/>
                  </a:lnTo>
                  <a:lnTo>
                    <a:pt x="8043" y="3371"/>
                  </a:lnTo>
                  <a:lnTo>
                    <a:pt x="7795" y="3429"/>
                  </a:lnTo>
                  <a:lnTo>
                    <a:pt x="7540" y="3482"/>
                  </a:lnTo>
                  <a:lnTo>
                    <a:pt x="7279" y="3528"/>
                  </a:lnTo>
                  <a:lnTo>
                    <a:pt x="7013" y="3568"/>
                  </a:lnTo>
                  <a:lnTo>
                    <a:pt x="6742" y="3601"/>
                  </a:lnTo>
                  <a:lnTo>
                    <a:pt x="6465" y="3627"/>
                  </a:lnTo>
                  <a:lnTo>
                    <a:pt x="6184" y="3645"/>
                  </a:lnTo>
                  <a:lnTo>
                    <a:pt x="5899" y="3657"/>
                  </a:lnTo>
                  <a:lnTo>
                    <a:pt x="5611" y="3661"/>
                  </a:lnTo>
                  <a:lnTo>
                    <a:pt x="5322" y="3657"/>
                  </a:lnTo>
                  <a:lnTo>
                    <a:pt x="5037" y="3645"/>
                  </a:lnTo>
                  <a:lnTo>
                    <a:pt x="4756" y="3627"/>
                  </a:lnTo>
                  <a:lnTo>
                    <a:pt x="4479" y="3601"/>
                  </a:lnTo>
                  <a:lnTo>
                    <a:pt x="4208" y="3568"/>
                  </a:lnTo>
                  <a:lnTo>
                    <a:pt x="3942" y="3528"/>
                  </a:lnTo>
                  <a:lnTo>
                    <a:pt x="3681" y="3482"/>
                  </a:lnTo>
                  <a:lnTo>
                    <a:pt x="3426" y="3429"/>
                  </a:lnTo>
                  <a:lnTo>
                    <a:pt x="3178" y="3371"/>
                  </a:lnTo>
                  <a:lnTo>
                    <a:pt x="2936" y="3306"/>
                  </a:lnTo>
                  <a:lnTo>
                    <a:pt x="2700" y="3235"/>
                  </a:lnTo>
                  <a:lnTo>
                    <a:pt x="2473" y="3159"/>
                  </a:lnTo>
                  <a:lnTo>
                    <a:pt x="2253" y="3076"/>
                  </a:lnTo>
                  <a:lnTo>
                    <a:pt x="2041" y="2990"/>
                  </a:lnTo>
                  <a:lnTo>
                    <a:pt x="1837" y="2897"/>
                  </a:lnTo>
                  <a:lnTo>
                    <a:pt x="1642" y="2799"/>
                  </a:lnTo>
                  <a:lnTo>
                    <a:pt x="1456" y="2697"/>
                  </a:lnTo>
                  <a:lnTo>
                    <a:pt x="1280" y="2591"/>
                  </a:lnTo>
                  <a:lnTo>
                    <a:pt x="1113" y="2480"/>
                  </a:lnTo>
                  <a:lnTo>
                    <a:pt x="958" y="2365"/>
                  </a:lnTo>
                  <a:lnTo>
                    <a:pt x="812" y="2245"/>
                  </a:lnTo>
                  <a:lnTo>
                    <a:pt x="676" y="2122"/>
                  </a:lnTo>
                  <a:lnTo>
                    <a:pt x="553" y="1995"/>
                  </a:lnTo>
                  <a:lnTo>
                    <a:pt x="440" y="1865"/>
                  </a:lnTo>
                  <a:lnTo>
                    <a:pt x="340" y="1732"/>
                  </a:lnTo>
                  <a:lnTo>
                    <a:pt x="251" y="1595"/>
                  </a:lnTo>
                  <a:lnTo>
                    <a:pt x="176" y="1455"/>
                  </a:lnTo>
                  <a:lnTo>
                    <a:pt x="113" y="1313"/>
                  </a:lnTo>
                  <a:lnTo>
                    <a:pt x="64" y="1168"/>
                  </a:lnTo>
                  <a:lnTo>
                    <a:pt x="28" y="1021"/>
                  </a:lnTo>
                  <a:lnTo>
                    <a:pt x="7" y="872"/>
                  </a:lnTo>
                  <a:lnTo>
                    <a:pt x="0" y="721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ff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3705120" y="1973160"/>
              <a:ext cx="3747960" cy="1555920"/>
            </a:xfrm>
            <a:custGeom>
              <a:avLst/>
              <a:gdLst/>
              <a:ahLst/>
              <a:rect l="l" t="t" r="r" b="b"/>
              <a:pathLst>
                <a:path w="9442" h="2940">
                  <a:moveTo>
                    <a:pt x="9442" y="2746"/>
                  </a:moveTo>
                  <a:lnTo>
                    <a:pt x="9418" y="2603"/>
                  </a:lnTo>
                  <a:lnTo>
                    <a:pt x="9380" y="2462"/>
                  </a:lnTo>
                  <a:lnTo>
                    <a:pt x="9331" y="2323"/>
                  </a:lnTo>
                  <a:lnTo>
                    <a:pt x="9269" y="2188"/>
                  </a:lnTo>
                  <a:lnTo>
                    <a:pt x="9196" y="2054"/>
                  </a:lnTo>
                  <a:lnTo>
                    <a:pt x="9109" y="1922"/>
                  </a:lnTo>
                  <a:lnTo>
                    <a:pt x="9013" y="1795"/>
                  </a:lnTo>
                  <a:lnTo>
                    <a:pt x="8905" y="1670"/>
                  </a:lnTo>
                  <a:lnTo>
                    <a:pt x="8787" y="1547"/>
                  </a:lnTo>
                  <a:lnTo>
                    <a:pt x="8658" y="1429"/>
                  </a:lnTo>
                  <a:lnTo>
                    <a:pt x="8520" y="1314"/>
                  </a:lnTo>
                  <a:lnTo>
                    <a:pt x="8371" y="1203"/>
                  </a:lnTo>
                  <a:lnTo>
                    <a:pt x="8213" y="1095"/>
                  </a:lnTo>
                  <a:lnTo>
                    <a:pt x="8047" y="992"/>
                  </a:lnTo>
                  <a:lnTo>
                    <a:pt x="7871" y="893"/>
                  </a:lnTo>
                  <a:lnTo>
                    <a:pt x="7687" y="798"/>
                  </a:lnTo>
                  <a:lnTo>
                    <a:pt x="7495" y="707"/>
                  </a:lnTo>
                  <a:lnTo>
                    <a:pt x="7294" y="621"/>
                  </a:lnTo>
                  <a:lnTo>
                    <a:pt x="7087" y="540"/>
                  </a:lnTo>
                  <a:lnTo>
                    <a:pt x="6872" y="463"/>
                  </a:lnTo>
                  <a:lnTo>
                    <a:pt x="6649" y="392"/>
                  </a:lnTo>
                  <a:lnTo>
                    <a:pt x="6421" y="328"/>
                  </a:lnTo>
                  <a:lnTo>
                    <a:pt x="6186" y="267"/>
                  </a:lnTo>
                  <a:lnTo>
                    <a:pt x="5945" y="213"/>
                  </a:lnTo>
                  <a:lnTo>
                    <a:pt x="5700" y="164"/>
                  </a:lnTo>
                  <a:lnTo>
                    <a:pt x="5448" y="121"/>
                  </a:lnTo>
                  <a:lnTo>
                    <a:pt x="5192" y="84"/>
                  </a:lnTo>
                  <a:lnTo>
                    <a:pt x="4930" y="54"/>
                  </a:lnTo>
                  <a:lnTo>
                    <a:pt x="4664" y="30"/>
                  </a:lnTo>
                  <a:lnTo>
                    <a:pt x="4394" y="13"/>
                  </a:lnTo>
                  <a:lnTo>
                    <a:pt x="4120" y="3"/>
                  </a:lnTo>
                  <a:lnTo>
                    <a:pt x="3843" y="0"/>
                  </a:lnTo>
                  <a:lnTo>
                    <a:pt x="3566" y="3"/>
                  </a:lnTo>
                  <a:lnTo>
                    <a:pt x="3291" y="13"/>
                  </a:lnTo>
                  <a:lnTo>
                    <a:pt x="3021" y="30"/>
                  </a:lnTo>
                  <a:lnTo>
                    <a:pt x="2756" y="54"/>
                  </a:lnTo>
                  <a:lnTo>
                    <a:pt x="2495" y="84"/>
                  </a:lnTo>
                  <a:lnTo>
                    <a:pt x="2237" y="121"/>
                  </a:lnTo>
                  <a:lnTo>
                    <a:pt x="1985" y="164"/>
                  </a:lnTo>
                  <a:lnTo>
                    <a:pt x="1740" y="213"/>
                  </a:lnTo>
                  <a:lnTo>
                    <a:pt x="1499" y="267"/>
                  </a:lnTo>
                  <a:lnTo>
                    <a:pt x="1264" y="327"/>
                  </a:lnTo>
                  <a:lnTo>
                    <a:pt x="1036" y="392"/>
                  </a:lnTo>
                  <a:lnTo>
                    <a:pt x="813" y="463"/>
                  </a:lnTo>
                  <a:lnTo>
                    <a:pt x="599" y="540"/>
                  </a:lnTo>
                  <a:lnTo>
                    <a:pt x="391" y="621"/>
                  </a:lnTo>
                  <a:lnTo>
                    <a:pt x="192" y="707"/>
                  </a:lnTo>
                  <a:lnTo>
                    <a:pt x="0" y="798"/>
                  </a:lnTo>
                  <a:lnTo>
                    <a:pt x="3843" y="2940"/>
                  </a:lnTo>
                  <a:lnTo>
                    <a:pt x="9442" y="2746"/>
                  </a:lnTo>
                  <a:close/>
                </a:path>
              </a:pathLst>
            </a:custGeom>
            <a:solidFill>
              <a:srgbClr val="0040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>
              <a:off x="3705120" y="1973160"/>
              <a:ext cx="3747960" cy="1555920"/>
            </a:xfrm>
            <a:custGeom>
              <a:avLst/>
              <a:gdLst/>
              <a:ahLst/>
              <a:rect l="l" t="t" r="r" b="b"/>
              <a:pathLst>
                <a:path w="9442" h="2940">
                  <a:moveTo>
                    <a:pt x="9442" y="2746"/>
                  </a:moveTo>
                  <a:lnTo>
                    <a:pt x="9418" y="2603"/>
                  </a:lnTo>
                  <a:lnTo>
                    <a:pt x="9380" y="2462"/>
                  </a:lnTo>
                  <a:lnTo>
                    <a:pt x="9331" y="2323"/>
                  </a:lnTo>
                  <a:lnTo>
                    <a:pt x="9269" y="2188"/>
                  </a:lnTo>
                  <a:lnTo>
                    <a:pt x="9196" y="2054"/>
                  </a:lnTo>
                  <a:lnTo>
                    <a:pt x="9109" y="1922"/>
                  </a:lnTo>
                  <a:lnTo>
                    <a:pt x="9013" y="1795"/>
                  </a:lnTo>
                  <a:lnTo>
                    <a:pt x="8905" y="1670"/>
                  </a:lnTo>
                  <a:lnTo>
                    <a:pt x="8787" y="1547"/>
                  </a:lnTo>
                  <a:lnTo>
                    <a:pt x="8658" y="1429"/>
                  </a:lnTo>
                  <a:lnTo>
                    <a:pt x="8520" y="1314"/>
                  </a:lnTo>
                  <a:lnTo>
                    <a:pt x="8371" y="1203"/>
                  </a:lnTo>
                  <a:lnTo>
                    <a:pt x="8213" y="1095"/>
                  </a:lnTo>
                  <a:lnTo>
                    <a:pt x="8047" y="992"/>
                  </a:lnTo>
                  <a:lnTo>
                    <a:pt x="7871" y="893"/>
                  </a:lnTo>
                  <a:lnTo>
                    <a:pt x="7687" y="798"/>
                  </a:lnTo>
                  <a:lnTo>
                    <a:pt x="7495" y="707"/>
                  </a:lnTo>
                  <a:lnTo>
                    <a:pt x="7294" y="621"/>
                  </a:lnTo>
                  <a:lnTo>
                    <a:pt x="7087" y="540"/>
                  </a:lnTo>
                  <a:lnTo>
                    <a:pt x="6872" y="463"/>
                  </a:lnTo>
                  <a:lnTo>
                    <a:pt x="6649" y="392"/>
                  </a:lnTo>
                  <a:lnTo>
                    <a:pt x="6421" y="328"/>
                  </a:lnTo>
                  <a:lnTo>
                    <a:pt x="6186" y="267"/>
                  </a:lnTo>
                  <a:lnTo>
                    <a:pt x="5945" y="213"/>
                  </a:lnTo>
                  <a:lnTo>
                    <a:pt x="5700" y="164"/>
                  </a:lnTo>
                  <a:lnTo>
                    <a:pt x="5448" y="121"/>
                  </a:lnTo>
                  <a:lnTo>
                    <a:pt x="5192" y="84"/>
                  </a:lnTo>
                  <a:lnTo>
                    <a:pt x="4930" y="54"/>
                  </a:lnTo>
                  <a:lnTo>
                    <a:pt x="4664" y="30"/>
                  </a:lnTo>
                  <a:lnTo>
                    <a:pt x="4394" y="13"/>
                  </a:lnTo>
                  <a:lnTo>
                    <a:pt x="4120" y="3"/>
                  </a:lnTo>
                  <a:lnTo>
                    <a:pt x="3843" y="0"/>
                  </a:lnTo>
                  <a:lnTo>
                    <a:pt x="3566" y="3"/>
                  </a:lnTo>
                  <a:lnTo>
                    <a:pt x="3291" y="13"/>
                  </a:lnTo>
                  <a:lnTo>
                    <a:pt x="3021" y="30"/>
                  </a:lnTo>
                  <a:lnTo>
                    <a:pt x="2756" y="54"/>
                  </a:lnTo>
                  <a:lnTo>
                    <a:pt x="2495" y="84"/>
                  </a:lnTo>
                  <a:lnTo>
                    <a:pt x="2237" y="121"/>
                  </a:lnTo>
                  <a:lnTo>
                    <a:pt x="1985" y="164"/>
                  </a:lnTo>
                  <a:lnTo>
                    <a:pt x="1740" y="213"/>
                  </a:lnTo>
                  <a:lnTo>
                    <a:pt x="1499" y="267"/>
                  </a:lnTo>
                  <a:lnTo>
                    <a:pt x="1264" y="327"/>
                  </a:lnTo>
                  <a:lnTo>
                    <a:pt x="1036" y="392"/>
                  </a:lnTo>
                  <a:lnTo>
                    <a:pt x="813" y="463"/>
                  </a:lnTo>
                  <a:lnTo>
                    <a:pt x="599" y="540"/>
                  </a:lnTo>
                  <a:lnTo>
                    <a:pt x="391" y="621"/>
                  </a:lnTo>
                  <a:lnTo>
                    <a:pt x="192" y="707"/>
                  </a:lnTo>
                  <a:lnTo>
                    <a:pt x="0" y="798"/>
                  </a:lnTo>
                  <a:lnTo>
                    <a:pt x="3843" y="2940"/>
                  </a:lnTo>
                  <a:lnTo>
                    <a:pt x="9442" y="2746"/>
                  </a:lnTo>
                  <a:lnTo>
                    <a:pt x="9442" y="2746"/>
                  </a:lnTo>
                </a:path>
              </a:pathLst>
            </a:custGeom>
            <a:noFill/>
            <a:ln w="9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 flipV="1">
              <a:off x="6049800" y="1868040"/>
              <a:ext cx="120600" cy="21276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5230440" y="3425760"/>
              <a:ext cx="2227320" cy="103320"/>
            </a:xfrm>
            <a:custGeom>
              <a:avLst/>
              <a:gdLst/>
              <a:ahLst/>
              <a:rect l="l" t="t" r="r" b="b"/>
              <a:pathLst>
                <a:path w="5612" h="194">
                  <a:moveTo>
                    <a:pt x="5612" y="194"/>
                  </a:moveTo>
                  <a:lnTo>
                    <a:pt x="5599" y="0"/>
                  </a:lnTo>
                  <a:lnTo>
                    <a:pt x="0" y="194"/>
                  </a:lnTo>
                  <a:lnTo>
                    <a:pt x="5612" y="194"/>
                  </a:lnTo>
                  <a:close/>
                </a:path>
              </a:pathLst>
            </a:custGeom>
            <a:solidFill>
              <a:srgbClr val="ecff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>
              <a:off x="5230440" y="3425760"/>
              <a:ext cx="2227320" cy="103320"/>
            </a:xfrm>
            <a:custGeom>
              <a:avLst/>
              <a:gdLst/>
              <a:ahLst/>
              <a:rect l="l" t="t" r="r" b="b"/>
              <a:pathLst>
                <a:path w="5612" h="194">
                  <a:moveTo>
                    <a:pt x="5612" y="194"/>
                  </a:moveTo>
                  <a:lnTo>
                    <a:pt x="5599" y="0"/>
                  </a:lnTo>
                  <a:lnTo>
                    <a:pt x="0" y="194"/>
                  </a:lnTo>
                  <a:lnTo>
                    <a:pt x="5612" y="194"/>
                  </a:lnTo>
                  <a:lnTo>
                    <a:pt x="5612" y="194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 flipV="1">
              <a:off x="7456320" y="3474720"/>
              <a:ext cx="222120" cy="46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>
              <a:off x="3003120" y="2395440"/>
              <a:ext cx="4454640" cy="2687760"/>
            </a:xfrm>
            <a:custGeom>
              <a:avLst/>
              <a:gdLst/>
              <a:ahLst/>
              <a:rect l="l" t="t" r="r" b="b"/>
              <a:pathLst>
                <a:path w="11223" h="5081">
                  <a:moveTo>
                    <a:pt x="1768" y="0"/>
                  </a:moveTo>
                  <a:lnTo>
                    <a:pt x="1568" y="102"/>
                  </a:lnTo>
                  <a:lnTo>
                    <a:pt x="1378" y="211"/>
                  </a:lnTo>
                  <a:lnTo>
                    <a:pt x="1200" y="323"/>
                  </a:lnTo>
                  <a:lnTo>
                    <a:pt x="1032" y="441"/>
                  </a:lnTo>
                  <a:lnTo>
                    <a:pt x="875" y="564"/>
                  </a:lnTo>
                  <a:lnTo>
                    <a:pt x="729" y="690"/>
                  </a:lnTo>
                  <a:lnTo>
                    <a:pt x="595" y="820"/>
                  </a:lnTo>
                  <a:lnTo>
                    <a:pt x="475" y="954"/>
                  </a:lnTo>
                  <a:lnTo>
                    <a:pt x="367" y="1092"/>
                  </a:lnTo>
                  <a:lnTo>
                    <a:pt x="272" y="1234"/>
                  </a:lnTo>
                  <a:lnTo>
                    <a:pt x="189" y="1378"/>
                  </a:lnTo>
                  <a:lnTo>
                    <a:pt x="122" y="1525"/>
                  </a:lnTo>
                  <a:lnTo>
                    <a:pt x="69" y="1676"/>
                  </a:lnTo>
                  <a:lnTo>
                    <a:pt x="30" y="1828"/>
                  </a:lnTo>
                  <a:lnTo>
                    <a:pt x="7" y="1984"/>
                  </a:lnTo>
                  <a:lnTo>
                    <a:pt x="0" y="2142"/>
                  </a:lnTo>
                  <a:lnTo>
                    <a:pt x="7" y="2292"/>
                  </a:lnTo>
                  <a:lnTo>
                    <a:pt x="28" y="2441"/>
                  </a:lnTo>
                  <a:lnTo>
                    <a:pt x="64" y="2589"/>
                  </a:lnTo>
                  <a:lnTo>
                    <a:pt x="113" y="2734"/>
                  </a:lnTo>
                  <a:lnTo>
                    <a:pt x="176" y="2876"/>
                  </a:lnTo>
                  <a:lnTo>
                    <a:pt x="251" y="3016"/>
                  </a:lnTo>
                  <a:lnTo>
                    <a:pt x="340" y="3153"/>
                  </a:lnTo>
                  <a:lnTo>
                    <a:pt x="440" y="3285"/>
                  </a:lnTo>
                  <a:lnTo>
                    <a:pt x="553" y="3416"/>
                  </a:lnTo>
                  <a:lnTo>
                    <a:pt x="676" y="3542"/>
                  </a:lnTo>
                  <a:lnTo>
                    <a:pt x="812" y="3665"/>
                  </a:lnTo>
                  <a:lnTo>
                    <a:pt x="958" y="3785"/>
                  </a:lnTo>
                  <a:lnTo>
                    <a:pt x="1113" y="3900"/>
                  </a:lnTo>
                  <a:lnTo>
                    <a:pt x="1280" y="4011"/>
                  </a:lnTo>
                  <a:lnTo>
                    <a:pt x="1456" y="4117"/>
                  </a:lnTo>
                  <a:lnTo>
                    <a:pt x="1642" y="4220"/>
                  </a:lnTo>
                  <a:lnTo>
                    <a:pt x="1837" y="4317"/>
                  </a:lnTo>
                  <a:lnTo>
                    <a:pt x="2041" y="4410"/>
                  </a:lnTo>
                  <a:lnTo>
                    <a:pt x="2253" y="4497"/>
                  </a:lnTo>
                  <a:lnTo>
                    <a:pt x="2473" y="4579"/>
                  </a:lnTo>
                  <a:lnTo>
                    <a:pt x="2700" y="4655"/>
                  </a:lnTo>
                  <a:lnTo>
                    <a:pt x="2936" y="4726"/>
                  </a:lnTo>
                  <a:lnTo>
                    <a:pt x="3178" y="4791"/>
                  </a:lnTo>
                  <a:lnTo>
                    <a:pt x="3426" y="4850"/>
                  </a:lnTo>
                  <a:lnTo>
                    <a:pt x="3681" y="4903"/>
                  </a:lnTo>
                  <a:lnTo>
                    <a:pt x="3942" y="4949"/>
                  </a:lnTo>
                  <a:lnTo>
                    <a:pt x="4208" y="4988"/>
                  </a:lnTo>
                  <a:lnTo>
                    <a:pt x="4479" y="5021"/>
                  </a:lnTo>
                  <a:lnTo>
                    <a:pt x="4756" y="5047"/>
                  </a:lnTo>
                  <a:lnTo>
                    <a:pt x="5037" y="5066"/>
                  </a:lnTo>
                  <a:lnTo>
                    <a:pt x="5322" y="5077"/>
                  </a:lnTo>
                  <a:lnTo>
                    <a:pt x="5611" y="5081"/>
                  </a:lnTo>
                  <a:lnTo>
                    <a:pt x="5899" y="5077"/>
                  </a:lnTo>
                  <a:lnTo>
                    <a:pt x="6184" y="5066"/>
                  </a:lnTo>
                  <a:lnTo>
                    <a:pt x="6465" y="5047"/>
                  </a:lnTo>
                  <a:lnTo>
                    <a:pt x="6742" y="5021"/>
                  </a:lnTo>
                  <a:lnTo>
                    <a:pt x="7013" y="4988"/>
                  </a:lnTo>
                  <a:lnTo>
                    <a:pt x="7279" y="4949"/>
                  </a:lnTo>
                  <a:lnTo>
                    <a:pt x="7540" y="4903"/>
                  </a:lnTo>
                  <a:lnTo>
                    <a:pt x="7795" y="4850"/>
                  </a:lnTo>
                  <a:lnTo>
                    <a:pt x="8043" y="4791"/>
                  </a:lnTo>
                  <a:lnTo>
                    <a:pt x="8285" y="4726"/>
                  </a:lnTo>
                  <a:lnTo>
                    <a:pt x="8521" y="4655"/>
                  </a:lnTo>
                  <a:lnTo>
                    <a:pt x="8748" y="4579"/>
                  </a:lnTo>
                  <a:lnTo>
                    <a:pt x="8968" y="4497"/>
                  </a:lnTo>
                  <a:lnTo>
                    <a:pt x="9180" y="4410"/>
                  </a:lnTo>
                  <a:lnTo>
                    <a:pt x="9384" y="4317"/>
                  </a:lnTo>
                  <a:lnTo>
                    <a:pt x="9579" y="4220"/>
                  </a:lnTo>
                  <a:lnTo>
                    <a:pt x="9765" y="4117"/>
                  </a:lnTo>
                  <a:lnTo>
                    <a:pt x="9941" y="4011"/>
                  </a:lnTo>
                  <a:lnTo>
                    <a:pt x="10108" y="3900"/>
                  </a:lnTo>
                  <a:lnTo>
                    <a:pt x="10263" y="3785"/>
                  </a:lnTo>
                  <a:lnTo>
                    <a:pt x="10409" y="3665"/>
                  </a:lnTo>
                  <a:lnTo>
                    <a:pt x="10545" y="3542"/>
                  </a:lnTo>
                  <a:lnTo>
                    <a:pt x="10668" y="3416"/>
                  </a:lnTo>
                  <a:lnTo>
                    <a:pt x="10781" y="3285"/>
                  </a:lnTo>
                  <a:lnTo>
                    <a:pt x="10881" y="3153"/>
                  </a:lnTo>
                  <a:lnTo>
                    <a:pt x="10970" y="3016"/>
                  </a:lnTo>
                  <a:lnTo>
                    <a:pt x="11045" y="2876"/>
                  </a:lnTo>
                  <a:lnTo>
                    <a:pt x="11108" y="2734"/>
                  </a:lnTo>
                  <a:lnTo>
                    <a:pt x="11157" y="2589"/>
                  </a:lnTo>
                  <a:lnTo>
                    <a:pt x="11193" y="2441"/>
                  </a:lnTo>
                  <a:lnTo>
                    <a:pt x="11214" y="2292"/>
                  </a:lnTo>
                  <a:lnTo>
                    <a:pt x="11223" y="2142"/>
                  </a:lnTo>
                  <a:lnTo>
                    <a:pt x="5611" y="2142"/>
                  </a:lnTo>
                  <a:lnTo>
                    <a:pt x="1768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>
              <a:off x="3003120" y="2395440"/>
              <a:ext cx="4454640" cy="2687760"/>
            </a:xfrm>
            <a:custGeom>
              <a:avLst/>
              <a:gdLst/>
              <a:ahLst/>
              <a:rect l="l" t="t" r="r" b="b"/>
              <a:pathLst>
                <a:path w="11223" h="5081">
                  <a:moveTo>
                    <a:pt x="1768" y="0"/>
                  </a:moveTo>
                  <a:lnTo>
                    <a:pt x="1568" y="102"/>
                  </a:lnTo>
                  <a:lnTo>
                    <a:pt x="1378" y="211"/>
                  </a:lnTo>
                  <a:lnTo>
                    <a:pt x="1200" y="323"/>
                  </a:lnTo>
                  <a:lnTo>
                    <a:pt x="1032" y="441"/>
                  </a:lnTo>
                  <a:lnTo>
                    <a:pt x="875" y="564"/>
                  </a:lnTo>
                  <a:lnTo>
                    <a:pt x="729" y="690"/>
                  </a:lnTo>
                  <a:lnTo>
                    <a:pt x="595" y="820"/>
                  </a:lnTo>
                  <a:lnTo>
                    <a:pt x="475" y="954"/>
                  </a:lnTo>
                  <a:lnTo>
                    <a:pt x="367" y="1092"/>
                  </a:lnTo>
                  <a:lnTo>
                    <a:pt x="272" y="1234"/>
                  </a:lnTo>
                  <a:lnTo>
                    <a:pt x="189" y="1378"/>
                  </a:lnTo>
                  <a:lnTo>
                    <a:pt x="122" y="1525"/>
                  </a:lnTo>
                  <a:lnTo>
                    <a:pt x="69" y="1676"/>
                  </a:lnTo>
                  <a:lnTo>
                    <a:pt x="30" y="1828"/>
                  </a:lnTo>
                  <a:lnTo>
                    <a:pt x="7" y="1984"/>
                  </a:lnTo>
                  <a:lnTo>
                    <a:pt x="0" y="2142"/>
                  </a:lnTo>
                  <a:lnTo>
                    <a:pt x="7" y="2292"/>
                  </a:lnTo>
                  <a:lnTo>
                    <a:pt x="28" y="2441"/>
                  </a:lnTo>
                  <a:lnTo>
                    <a:pt x="64" y="2589"/>
                  </a:lnTo>
                  <a:lnTo>
                    <a:pt x="113" y="2734"/>
                  </a:lnTo>
                  <a:lnTo>
                    <a:pt x="176" y="2876"/>
                  </a:lnTo>
                  <a:lnTo>
                    <a:pt x="251" y="3016"/>
                  </a:lnTo>
                  <a:lnTo>
                    <a:pt x="340" y="3153"/>
                  </a:lnTo>
                  <a:lnTo>
                    <a:pt x="440" y="3285"/>
                  </a:lnTo>
                  <a:lnTo>
                    <a:pt x="553" y="3416"/>
                  </a:lnTo>
                  <a:lnTo>
                    <a:pt x="676" y="3542"/>
                  </a:lnTo>
                  <a:lnTo>
                    <a:pt x="812" y="3665"/>
                  </a:lnTo>
                  <a:lnTo>
                    <a:pt x="958" y="3785"/>
                  </a:lnTo>
                  <a:lnTo>
                    <a:pt x="1113" y="3900"/>
                  </a:lnTo>
                  <a:lnTo>
                    <a:pt x="1280" y="4011"/>
                  </a:lnTo>
                  <a:lnTo>
                    <a:pt x="1456" y="4117"/>
                  </a:lnTo>
                  <a:lnTo>
                    <a:pt x="1642" y="4220"/>
                  </a:lnTo>
                  <a:lnTo>
                    <a:pt x="1837" y="4317"/>
                  </a:lnTo>
                  <a:lnTo>
                    <a:pt x="2041" y="4410"/>
                  </a:lnTo>
                  <a:lnTo>
                    <a:pt x="2253" y="4497"/>
                  </a:lnTo>
                  <a:lnTo>
                    <a:pt x="2473" y="4579"/>
                  </a:lnTo>
                  <a:lnTo>
                    <a:pt x="2700" y="4655"/>
                  </a:lnTo>
                  <a:lnTo>
                    <a:pt x="2936" y="4726"/>
                  </a:lnTo>
                  <a:lnTo>
                    <a:pt x="3178" y="4791"/>
                  </a:lnTo>
                  <a:lnTo>
                    <a:pt x="3426" y="4850"/>
                  </a:lnTo>
                  <a:lnTo>
                    <a:pt x="3681" y="4903"/>
                  </a:lnTo>
                  <a:lnTo>
                    <a:pt x="3942" y="4949"/>
                  </a:lnTo>
                  <a:lnTo>
                    <a:pt x="4208" y="4988"/>
                  </a:lnTo>
                  <a:lnTo>
                    <a:pt x="4479" y="5021"/>
                  </a:lnTo>
                  <a:lnTo>
                    <a:pt x="4756" y="5047"/>
                  </a:lnTo>
                  <a:lnTo>
                    <a:pt x="5037" y="5066"/>
                  </a:lnTo>
                  <a:lnTo>
                    <a:pt x="5322" y="5077"/>
                  </a:lnTo>
                  <a:lnTo>
                    <a:pt x="5611" y="5081"/>
                  </a:lnTo>
                  <a:lnTo>
                    <a:pt x="5899" y="5077"/>
                  </a:lnTo>
                  <a:lnTo>
                    <a:pt x="6184" y="5066"/>
                  </a:lnTo>
                  <a:lnTo>
                    <a:pt x="6465" y="5047"/>
                  </a:lnTo>
                  <a:lnTo>
                    <a:pt x="6742" y="5021"/>
                  </a:lnTo>
                  <a:lnTo>
                    <a:pt x="7013" y="4988"/>
                  </a:lnTo>
                  <a:lnTo>
                    <a:pt x="7279" y="4949"/>
                  </a:lnTo>
                  <a:lnTo>
                    <a:pt x="7540" y="4903"/>
                  </a:lnTo>
                  <a:lnTo>
                    <a:pt x="7795" y="4850"/>
                  </a:lnTo>
                  <a:lnTo>
                    <a:pt x="8043" y="4791"/>
                  </a:lnTo>
                  <a:lnTo>
                    <a:pt x="8285" y="4726"/>
                  </a:lnTo>
                  <a:lnTo>
                    <a:pt x="8521" y="4655"/>
                  </a:lnTo>
                  <a:lnTo>
                    <a:pt x="8748" y="4579"/>
                  </a:lnTo>
                  <a:lnTo>
                    <a:pt x="8968" y="4497"/>
                  </a:lnTo>
                  <a:lnTo>
                    <a:pt x="9180" y="4410"/>
                  </a:lnTo>
                  <a:lnTo>
                    <a:pt x="9384" y="4317"/>
                  </a:lnTo>
                  <a:lnTo>
                    <a:pt x="9579" y="4220"/>
                  </a:lnTo>
                  <a:lnTo>
                    <a:pt x="9765" y="4117"/>
                  </a:lnTo>
                  <a:lnTo>
                    <a:pt x="9941" y="4011"/>
                  </a:lnTo>
                  <a:lnTo>
                    <a:pt x="10108" y="3900"/>
                  </a:lnTo>
                  <a:lnTo>
                    <a:pt x="10263" y="3785"/>
                  </a:lnTo>
                  <a:lnTo>
                    <a:pt x="10409" y="3665"/>
                  </a:lnTo>
                  <a:lnTo>
                    <a:pt x="10545" y="3542"/>
                  </a:lnTo>
                  <a:lnTo>
                    <a:pt x="10668" y="3416"/>
                  </a:lnTo>
                  <a:lnTo>
                    <a:pt x="10781" y="3285"/>
                  </a:lnTo>
                  <a:lnTo>
                    <a:pt x="10881" y="3153"/>
                  </a:lnTo>
                  <a:lnTo>
                    <a:pt x="10970" y="3016"/>
                  </a:lnTo>
                  <a:lnTo>
                    <a:pt x="11045" y="2876"/>
                  </a:lnTo>
                  <a:lnTo>
                    <a:pt x="11108" y="2734"/>
                  </a:lnTo>
                  <a:lnTo>
                    <a:pt x="11157" y="2589"/>
                  </a:lnTo>
                  <a:lnTo>
                    <a:pt x="11193" y="2441"/>
                  </a:lnTo>
                  <a:lnTo>
                    <a:pt x="11214" y="2292"/>
                  </a:lnTo>
                  <a:lnTo>
                    <a:pt x="11223" y="2142"/>
                  </a:lnTo>
                  <a:lnTo>
                    <a:pt x="5611" y="2142"/>
                  </a:lnTo>
                  <a:lnTo>
                    <a:pt x="1768" y="0"/>
                  </a:lnTo>
                  <a:lnTo>
                    <a:pt x="1768" y="0"/>
                  </a:lnTo>
                </a:path>
              </a:pathLst>
            </a:custGeom>
            <a:noFill/>
            <a:ln w="9360">
              <a:solidFill>
                <a:srgbClr val="ff8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 flipH="1">
              <a:off x="4217400" y="5337000"/>
              <a:ext cx="128520" cy="208080"/>
            </a:xfrm>
            <a:prstGeom prst="line">
              <a:avLst/>
            </a:prstGeom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>
              <a:off x="7678440" y="3319560"/>
              <a:ext cx="4748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200" spc="-1" strike="noStrike">
                  <a:solidFill>
                    <a:srgbClr val="0000ff"/>
                  </a:solidFill>
                  <a:latin typeface="Arial"/>
                </a:rPr>
                <a:t>&lt;15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>
              <a:off x="5861160" y="1549440"/>
              <a:ext cx="71532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200" spc="-1" strike="noStrike">
                  <a:solidFill>
                    <a:srgbClr val="0000ff"/>
                  </a:solidFill>
                  <a:latin typeface="Arial"/>
                </a:rPr>
                <a:t>15-64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3808080" y="5554800"/>
              <a:ext cx="47484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200" spc="-1" strike="noStrike">
                  <a:solidFill>
                    <a:srgbClr val="0000ff"/>
                  </a:solidFill>
                  <a:latin typeface="Arial"/>
                </a:rPr>
                <a:t>&gt;65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>
              <a:off x="6620400" y="3376440"/>
              <a:ext cx="3589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ffffff"/>
                  </a:solidFill>
                  <a:latin typeface="Arial Black"/>
                </a:rPr>
                <a:t>1%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5534640" y="2409840"/>
              <a:ext cx="5601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200" spc="-1" strike="noStrike">
                  <a:solidFill>
                    <a:srgbClr val="ffffff"/>
                  </a:solidFill>
                  <a:latin typeface="Arial"/>
                </a:rPr>
                <a:t>36%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>
              <a:off x="4399560" y="4325760"/>
              <a:ext cx="560160" cy="3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200" spc="-1" strike="noStrike">
                  <a:solidFill>
                    <a:srgbClr val="ffffff"/>
                  </a:solidFill>
                  <a:latin typeface="Arial"/>
                </a:rPr>
                <a:t>63%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>
              <a:off x="2193840" y="1785960"/>
              <a:ext cx="80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Arial"/>
                </a:rPr>
                <a:t>n </a:t>
              </a:r>
              <a:r>
                <a:rPr b="1" lang="es-MX" sz="1600" spc="-1" strike="noStrike">
                  <a:solidFill>
                    <a:srgbClr val="000080"/>
                  </a:solidFill>
                  <a:latin typeface="Arial"/>
                </a:rPr>
                <a:t>1</a:t>
              </a:r>
              <a:r>
                <a:rPr b="1" lang="es-ES" sz="1600" spc="-1" strike="noStrike">
                  <a:solidFill>
                    <a:srgbClr val="000080"/>
                  </a:solidFill>
                  <a:latin typeface="Arial"/>
                </a:rPr>
                <a:t>8.</a:t>
              </a:r>
              <a:r>
                <a:rPr b="1" lang="es-MX" sz="1600" spc="-1" strike="noStrike">
                  <a:solidFill>
                    <a:srgbClr val="000080"/>
                  </a:solidFill>
                  <a:latin typeface="Arial"/>
                </a:rPr>
                <a:t>049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>
              <a:off x="3857400" y="6232680"/>
              <a:ext cx="3728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000080"/>
                  </a:solidFill>
                  <a:latin typeface="Arial"/>
                </a:rPr>
                <a:t>MINSAL   UNIDAD DE CANC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7" name="PlaceHolder 1"/>
          <p:cNvSpPr>
            <a:spLocks noGrp="1"/>
          </p:cNvSpPr>
          <p:nvPr>
            <p:ph/>
          </p:nvPr>
        </p:nvSpPr>
        <p:spPr>
          <a:xfrm>
            <a:off x="228240" y="333000"/>
            <a:ext cx="75438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ADULTO MAYOR FUNCIONALMENTE SANO (OPS - OM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SzPct val="65000"/>
              <a:buFont typeface="Wingdings" charset="2"/>
              <a:buChar char="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0" lang="es-ES" sz="2400" spc="-1" strike="noStrike">
                <a:solidFill>
                  <a:srgbClr val="ff3300"/>
                </a:solidFill>
                <a:latin typeface="Arial"/>
              </a:rPr>
              <a:t>DESDE UNA PERSPECTIVA FUNCIONAL”, EL ANCIANO SANO ES: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QUEL CAPAZ DE ENFRENTAR EL PROCESO DE CAMBI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 UN NIVEL ADECUADO DE ADAPTABILIDAD 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SATISFACCIÓN PERSONAL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ffcc00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9900"/>
                </a:solidFill>
                <a:latin typeface="Arial"/>
              </a:rPr>
              <a:t>Dra. Juana Silva Opazo. 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560880"/>
            <a:ext cx="746748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cc00"/>
                </a:solidFill>
                <a:latin typeface="Arial Black"/>
              </a:rPr>
              <a:t>Tamaño de la población mayor en Chile: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799308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8" name="PlaceHolder 1"/>
          <p:cNvSpPr>
            <a:spLocks noGrp="1"/>
          </p:cNvSpPr>
          <p:nvPr>
            <p:ph/>
          </p:nvPr>
        </p:nvSpPr>
        <p:spPr>
          <a:xfrm>
            <a:off x="228240" y="333000"/>
            <a:ext cx="75438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c00"/>
                </a:solidFill>
                <a:latin typeface="Book Antiqua"/>
              </a:rPr>
              <a:t>AREAS BÁSICAS EN LA EVALUACIÓN FUNCIONAL DEL AM - O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Actividades de la vida diar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Salud men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Funcionalidad Psicoso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Salud Fís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Recursos soci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Recursos Económic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 Antiqua"/>
              </a:rPr>
              <a:t>Recursos Ambienta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9900"/>
                </a:solidFill>
                <a:latin typeface="Arial"/>
              </a:rPr>
              <a:t>Dra. Juana Silva O.. 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9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765648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cc00"/>
                </a:solidFill>
                <a:latin typeface="SimSun"/>
              </a:rPr>
              <a:t>Lograr un </a:t>
            </a:r>
            <a:r>
              <a:rPr b="1" i="1" lang="es-ES" sz="3200" spc="-1" strike="noStrike">
                <a:solidFill>
                  <a:srgbClr val="ffcc00"/>
                </a:solidFill>
                <a:latin typeface="SimSun"/>
              </a:rPr>
              <a:t>cambio cultural </a:t>
            </a:r>
            <a:r>
              <a:rPr b="1" lang="es-ES" sz="3200" spc="-1" strike="noStrike">
                <a:solidFill>
                  <a:srgbClr val="ffcc00"/>
                </a:solidFill>
                <a:latin typeface="SimSun"/>
              </a:rPr>
              <a:t>en toda la población que signifique un mejor trato y valoración de los Adultos Mayores en nuestra sociedad, lo que implica una percepción distinta sobre el envejecimiento y , alcanzar mejores niveles en la calidad de vida para todos los Adultos Mayo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OLITICA PARA EL ADULTO PARA EL ADULTO MAYOR CHILE - LA GRAN ME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0" name="PlaceHolder 1"/>
          <p:cNvSpPr>
            <a:spLocks noGrp="1"/>
          </p:cNvSpPr>
          <p:nvPr>
            <p:ph/>
          </p:nvPr>
        </p:nvSpPr>
        <p:spPr>
          <a:xfrm>
            <a:off x="228240" y="404280"/>
            <a:ext cx="75438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s-ES" sz="2800" spc="-1" strike="noStrike">
                <a:solidFill>
                  <a:srgbClr val="ffffff"/>
                </a:solidFill>
                <a:latin typeface="Comic Sans MS"/>
              </a:rPr>
              <a:t>SALUD FAMILI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Comic Sans MS"/>
              </a:rPr>
              <a:t>Instancia con mayor autonomía, resolutividad y continuidad en los cuid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Comic Sans MS"/>
              </a:rPr>
              <a:t>Reconocimiento de la Prevención y Promoción como fundament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Comic Sans MS"/>
              </a:rPr>
              <a:t>Fomento de responsabilidades compartid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cc00"/>
                </a:solidFill>
                <a:latin typeface="Comic Sans MS"/>
              </a:rPr>
              <a:t>Perspectiva BIOPSICO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Comic Sans MS"/>
              </a:rPr>
              <a:t>Equipos Multiprofesion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Comic Sans MS"/>
              </a:rPr>
              <a:t>Trabajo en Red: sectorial e intersecto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66"/>
                </a:solidFill>
                <a:latin typeface="Comic Sans MS"/>
              </a:rPr>
              <a:t>VALORIZACION COMUNIDAD ORGANIZADA: Empoderamient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9900"/>
                </a:solidFill>
                <a:latin typeface="Arial"/>
              </a:rPr>
              <a:t>Astrid Arévalo Salin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9900"/>
                </a:solidFill>
                <a:latin typeface="Arial"/>
              </a:rPr>
              <a:t>Asistente So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cc00"/>
                </a:solidFill>
                <a:latin typeface="Arial Black"/>
              </a:rPr>
              <a:t>EMPODERAMIENTO para la salud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42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7543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3300"/>
                </a:solidFill>
                <a:latin typeface="바탕"/>
              </a:rPr>
              <a:t>En promoción de la salud del individu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바탕"/>
              </a:rPr>
              <a:t>Proceso mediante el cual las personas adquieren un mayor control sobre las decisiones y acciones que afectan a su salu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3300"/>
                </a:solidFill>
                <a:latin typeface="바탕"/>
              </a:rPr>
              <a:t>En comunida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바탕"/>
              </a:rPr>
              <a:t>Supone que los individuos actúen colectivamente con el fin de conseguir una mayor influencia y control sobre los determinantes de la salud y la calidad de vida de su comunidad, siendo éste un importante objetivo de la acción comunitaria para la salu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3" name="PlaceHolder 1"/>
          <p:cNvSpPr>
            <a:spLocks noGrp="1"/>
          </p:cNvSpPr>
          <p:nvPr>
            <p:ph/>
          </p:nvPr>
        </p:nvSpPr>
        <p:spPr>
          <a:xfrm>
            <a:off x="228240" y="549360"/>
            <a:ext cx="83041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1" lang="es-ES" sz="3200" spc="-1" strike="noStrike">
                <a:solidFill>
                  <a:srgbClr val="ffff66"/>
                </a:solidFill>
                <a:latin typeface="Comic Sans MS"/>
              </a:rPr>
              <a:t>Objetivos de la Participación Social según MINSA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66"/>
                </a:solidFill>
                <a:latin typeface="Comic Sans MS"/>
              </a:rPr>
              <a:t>Desarrollo de personas como sujetos activos del cuidado de su salu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66"/>
                </a:solidFill>
                <a:latin typeface="Comic Sans MS"/>
              </a:rPr>
              <a:t>Creación de Comunidades con capacidad de interlocución con el sector Salu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66"/>
                </a:solidFill>
                <a:latin typeface="Comic Sans MS"/>
              </a:rPr>
              <a:t>Construcción de ciudadanía que expresa opiniones, demandas, ejerce un control social sobre el  Sistema de salud y se involucra activamente en la producción social de la salud y bienestar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9900"/>
                </a:solidFill>
                <a:latin typeface="Arial"/>
              </a:rPr>
              <a:t>Astrid Arévalo Salina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9900"/>
                </a:solidFill>
                <a:latin typeface="Arial"/>
              </a:rPr>
              <a:t>Asistente Soci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4" name="PlaceHolder 1"/>
          <p:cNvSpPr>
            <a:spLocks noGrp="1"/>
          </p:cNvSpPr>
          <p:nvPr>
            <p:ph type="title"/>
          </p:nvPr>
        </p:nvSpPr>
        <p:spPr>
          <a:xfrm>
            <a:off x="228600" y="979920"/>
            <a:ext cx="7872480" cy="10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cc00"/>
                </a:solidFill>
                <a:latin typeface="Comic Sans MS"/>
              </a:rPr>
              <a:t>PARTICIPACION COMUNITARIA DE LOS ADULTOS MAYORES DESDE EL CONTEXTO DE SALUD: UNA RESPUESTA AL AISLAMIENTO SOCIAL</a:t>
            </a:r>
            <a:endParaRPr b="0" lang="en-US" sz="2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45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66"/>
                </a:solidFill>
                <a:latin typeface="Comic Sans MS"/>
              </a:rPr>
              <a:t>Desde Salud: 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durante década 80 =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Trabajo con Adultos Mayores  vinculado 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La patología   reducción de dañ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66"/>
                </a:solidFill>
                <a:latin typeface="Comic Sans MS"/>
              </a:rPr>
              <a:t>Década del 90 = </a:t>
            </a: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Promoción Humana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Fortalecimiento Comunitario 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Comic Sans MS"/>
              </a:rPr>
              <a:t>Asociativ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Astrid Arévalo Salin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9900"/>
                </a:solidFill>
                <a:latin typeface="Arial"/>
              </a:rPr>
              <a:t>Asistente Soci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PlaceHolder 1"/>
          <p:cNvSpPr>
            <a:spLocks noGrp="1"/>
          </p:cNvSpPr>
          <p:nvPr>
            <p:ph type="title"/>
          </p:nvPr>
        </p:nvSpPr>
        <p:spPr>
          <a:xfrm>
            <a:off x="228240" y="805320"/>
            <a:ext cx="746748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cc00"/>
                </a:solidFill>
                <a:latin typeface="Comic Sans MS"/>
              </a:rPr>
              <a:t>Atención Primaria – Trabajo con Adultos Mayores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47" name="PlaceHolder 2"/>
          <p:cNvSpPr>
            <a:spLocks noGrp="1"/>
          </p:cNvSpPr>
          <p:nvPr>
            <p:ph/>
          </p:nvPr>
        </p:nvSpPr>
        <p:spPr>
          <a:xfrm>
            <a:off x="250560" y="1915920"/>
            <a:ext cx="7543800" cy="476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66"/>
                </a:solidFill>
                <a:latin typeface="Comic Sans MS"/>
              </a:rPr>
              <a:t>Envejecimiento Sano – Activo y Participativ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66"/>
                </a:solidFill>
                <a:latin typeface="Comic Sans MS"/>
              </a:rPr>
              <a:t>Estrategias Vigen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1" lang="es-ES" sz="32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1" lang="es-ES" sz="32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1" lang="es-ES" sz="3200" spc="-1" strike="noStrike">
                <a:solidFill>
                  <a:srgbClr val="ffff66"/>
                </a:solidFill>
                <a:latin typeface="Comic Sans MS"/>
              </a:rPr>
              <a:t>ANTES</a:t>
            </a:r>
            <a:r>
              <a:rPr b="1" lang="es-ES" sz="32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1" lang="es-ES" sz="32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1" lang="es-ES" sz="3200" spc="-1" strike="noStrike">
                <a:solidFill>
                  <a:srgbClr val="ffff66"/>
                </a:solidFill>
                <a:latin typeface="Comic Sans MS"/>
              </a:rPr>
              <a:t>	</a:t>
            </a:r>
            <a:r>
              <a:rPr b="1" lang="es-ES" sz="3200" spc="-1" strike="noStrike">
                <a:solidFill>
                  <a:srgbClr val="ffff66"/>
                </a:solidFill>
                <a:latin typeface="Comic Sans MS"/>
              </a:rPr>
              <a:t>DESPU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8" name=""/>
          <p:cNvSpPr/>
          <p:nvPr/>
        </p:nvSpPr>
        <p:spPr>
          <a:xfrm>
            <a:off x="324000" y="5157720"/>
            <a:ext cx="3600360" cy="151128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Educa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Talleres Educa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Centrados en la patologí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9" name=""/>
          <p:cNvSpPr/>
          <p:nvPr/>
        </p:nvSpPr>
        <p:spPr>
          <a:xfrm>
            <a:off x="4427640" y="5157720"/>
            <a:ext cx="4392360" cy="1440000"/>
          </a:xfrm>
          <a:prstGeom prst="rect">
            <a:avLst/>
          </a:prstGeom>
          <a:solidFill>
            <a:srgbClr val="00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Facilitador  en form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de Organizaciones Comunitari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para el Adulto May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imes New Roman"/>
              </a:rPr>
              <a:t>Fundamental en Salu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0" name=""/>
          <p:cNvSpPr/>
          <p:nvPr/>
        </p:nvSpPr>
        <p:spPr>
          <a:xfrm>
            <a:off x="1979640" y="4653000"/>
            <a:ext cx="360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5867280" y="4653000"/>
            <a:ext cx="360360" cy="431640"/>
          </a:xfrm>
          <a:prstGeom prst="downArrow">
            <a:avLst>
              <a:gd name="adj1" fmla="val 50000"/>
              <a:gd name="adj2" fmla="val 29945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3203640" y="4365720"/>
            <a:ext cx="1584360" cy="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4067280" y="2924280"/>
            <a:ext cx="360360" cy="433440"/>
          </a:xfrm>
          <a:prstGeom prst="downArrow">
            <a:avLst>
              <a:gd name="adj1" fmla="val 50000"/>
              <a:gd name="adj2" fmla="val 30070"/>
            </a:avLst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/>
          </p:nvPr>
        </p:nvSpPr>
        <p:spPr>
          <a:xfrm>
            <a:off x="228240" y="189000"/>
            <a:ext cx="7543800" cy="59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cc63"/>
                </a:solidFill>
                <a:latin typeface="Arial"/>
              </a:rPr>
              <a:t>PLAN DE ACCION MUNDIAL  SOBRE EL  ENVEJECIMIENTO MADRID 2002</a:t>
            </a:r>
            <a:r>
              <a:rPr b="0" lang="es-ES" sz="2400" spc="-1" strike="noStrike">
                <a:solidFill>
                  <a:srgbClr val="ffcc6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ffcc63"/>
                </a:solidFill>
                <a:latin typeface="Arial"/>
              </a:rPr>
              <a:t>II.-</a:t>
            </a:r>
            <a:r>
              <a:rPr b="0" lang="es-ES" sz="2000" spc="-1" strike="noStrike">
                <a:solidFill>
                  <a:srgbClr val="ffcc63"/>
                </a:solidFill>
                <a:latin typeface="Arial"/>
              </a:rPr>
              <a:t>RECOMENDACIONES PARA LA ADOPCIÓN DE MEDIDA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I.   Las personas de edad y el desarrol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II.  El fomento de la salud y el bienestar en l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vejez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III. Creación de un entorno propicio 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0" lang="es-ES" sz="2800" spc="-1" strike="noStrike">
                <a:solidFill>
                  <a:srgbClr val="ffffff"/>
                </a:solidFill>
                <a:latin typeface="Times New Roman"/>
              </a:rPr>
              <a:t>favor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cc00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9900"/>
                </a:solidFill>
                <a:latin typeface="Arial"/>
              </a:rPr>
              <a:t>Dra. Juana Silva O.. 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/>
          </p:nvPr>
        </p:nvSpPr>
        <p:spPr>
          <a:xfrm>
            <a:off x="228240" y="189000"/>
            <a:ext cx="8591400" cy="59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cc00"/>
                </a:solidFill>
                <a:latin typeface="Arial"/>
              </a:rPr>
              <a:t>I. LAS PERSONAS DE EDAD Y EL DESARROLLO (temas)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1.Participación activa en la sociedad y el desarroll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2.El empleo y el envejecimiento de la fuerza de trabaj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3.Desarrollo rural, migración y urbaniz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4.Acceso al conocimiento, la educación y la capacitació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5.Solidaridad intergeneraciona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6.Erradicación de la pobrez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7.Seguridad de los ingresos y del emple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8.Situaciones de emergenci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ffcc00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9900"/>
                </a:solidFill>
                <a:latin typeface="Arial"/>
              </a:rPr>
              <a:t>Dra. Juana Silva O.. I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/>
          </p:nvPr>
        </p:nvSpPr>
        <p:spPr>
          <a:xfrm>
            <a:off x="-360" y="404280"/>
            <a:ext cx="845964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00"/>
                </a:solidFill>
                <a:latin typeface="Arial"/>
              </a:rPr>
              <a:t>II. EL FOMENTO DE LA SALUD Y EL BIENESTAR EN LA VEJEZ (temas)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1.El fomento de la salud y el bienestar durante toda la vi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2.Acceso universal y equitativo a los servicios de atención de salu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3.Las personas de edad y el VIH/SID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4.Capacitación de los proveedores de servicios de salud y de los profesionales de la salu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5.Necesidades relacionadas con la salud mental de las personas de e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6.Las personas de edad y las discapacidad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9900"/>
                </a:solidFill>
                <a:latin typeface="Arial"/>
              </a:rPr>
              <a:t>Dra. Juana Silva O.. 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250560" y="188640"/>
            <a:ext cx="852012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cc00"/>
                </a:solidFill>
                <a:latin typeface="Bookman Old Style"/>
              </a:rPr>
              <a:t>Población por grupos etáreos y participación porcentual para los añ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ffcc00"/>
                </a:solidFill>
                <a:latin typeface="Bookman Old Style"/>
              </a:rPr>
              <a:t>1995 - 2002* - 2025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51"/>
              </a:spcBef>
              <a:buClr>
                <a:srgbClr val="000000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man Old Style"/>
              </a:rPr>
              <a:t>Fuente: Chile Estimaciones y Proyecciones de Población por Sexo y Edad Total País: 1950 –2050 INE-CELADE.* Censo 20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man Old Style"/>
              </a:rPr>
              <a:t>Grupo etáreo Año 1995(%)</a:t>
            </a:r>
            <a:r>
              <a:rPr b="0" lang="es-ES" sz="1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Bookman Old Style"/>
              </a:rPr>
              <a:t>Año 2002*(%)</a:t>
            </a:r>
            <a:r>
              <a:rPr b="0" lang="es-ES" sz="1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Bookman Old Style"/>
              </a:rPr>
              <a:t>     Año 2025</a:t>
            </a:r>
            <a:r>
              <a:rPr b="0" lang="es-ES" sz="18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s-ES" sz="1800" spc="-1" strike="noStrike">
                <a:solidFill>
                  <a:srgbClr val="ffffff"/>
                </a:solidFill>
                <a:latin typeface="Bookman Old Style"/>
              </a:rPr>
              <a:t>(%)</a:t>
            </a:r>
            <a:r>
              <a:rPr b="0" lang="es-ES" sz="2400" spc="-1" strike="noStrike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man Old Style"/>
              </a:rPr>
              <a:t>0 -14</a:t>
            </a:r>
            <a:r>
              <a:rPr b="0" lang="es-ES" sz="2000" spc="-1" strike="noStrike">
                <a:solidFill>
                  <a:srgbClr val="ffffff"/>
                </a:solidFill>
                <a:latin typeface="Bookman Old Style"/>
              </a:rPr>
              <a:t>     4.185.281</a:t>
            </a:r>
            <a:r>
              <a:rPr b="0" lang="es-E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Bookman Old Style"/>
              </a:rPr>
              <a:t>29,44</a:t>
            </a:r>
            <a:r>
              <a:rPr b="0" lang="es-E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Bookman Old Style"/>
              </a:rPr>
              <a:t>3.890.126 25,74  4.330614</a:t>
            </a:r>
            <a:r>
              <a:rPr b="0" lang="es-E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Bookman Old Style"/>
              </a:rPr>
              <a:t>22,16</a:t>
            </a:r>
            <a:r>
              <a:rPr b="0" lang="es-E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Bookman Old Style"/>
              </a:rPr>
              <a:t>15 -59</a:t>
            </a:r>
            <a:r>
              <a:rPr b="0" lang="es-ES" sz="2000" spc="-1" strike="noStrike">
                <a:solidFill>
                  <a:srgbClr val="ffffff"/>
                </a:solidFill>
                <a:latin typeface="Bookman Old Style"/>
              </a:rPr>
              <a:t>   8.665.119</a:t>
            </a:r>
            <a:r>
              <a:rPr b="0" lang="es-E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Bookman Old Style"/>
              </a:rPr>
              <a:t>60,98</a:t>
            </a:r>
            <a:r>
              <a:rPr b="0" lang="es-E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Bookman Old Style"/>
              </a:rPr>
              <a:t>9.508.831  62,9  11.659.736</a:t>
            </a:r>
            <a:r>
              <a:rPr b="0" lang="es-E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Bookman Old Style"/>
              </a:rPr>
              <a:t>59,64</a:t>
            </a:r>
            <a:r>
              <a:rPr b="0" lang="es-E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Bookman Old Style"/>
              </a:rPr>
              <a:t>60 -79</a:t>
            </a:r>
            <a:r>
              <a:rPr b="1" lang="es-ES" sz="2000" spc="-1" strike="noStrike">
                <a:solidFill>
                  <a:srgbClr val="ffffff"/>
                </a:solidFill>
                <a:latin typeface="Bookman Old Style"/>
              </a:rPr>
              <a:t>   </a:t>
            </a:r>
            <a:r>
              <a:rPr b="1" lang="es-ES" sz="2000" spc="-1" strike="noStrike">
                <a:solidFill>
                  <a:srgbClr val="ffcc00"/>
                </a:solidFill>
                <a:latin typeface="Bookman Old Style"/>
              </a:rPr>
              <a:t>1.191.973</a:t>
            </a:r>
            <a:r>
              <a:rPr b="0" lang="es-ES" sz="2000" spc="-1" strike="noStrike">
                <a:solidFill>
                  <a:srgbClr val="ffcc00"/>
                </a:solidFill>
                <a:latin typeface="Bookman Old Style"/>
              </a:rPr>
              <a:t>	</a:t>
            </a:r>
            <a:r>
              <a:rPr b="1" lang="es-ES" sz="2000" spc="-1" strike="noStrike">
                <a:solidFill>
                  <a:srgbClr val="ffcc00"/>
                </a:solidFill>
                <a:latin typeface="Bookman Old Style"/>
              </a:rPr>
              <a:t>8,42</a:t>
            </a:r>
            <a:r>
              <a:rPr b="0" lang="es-ES" sz="2000" spc="-1" strike="noStrike">
                <a:solidFill>
                  <a:srgbClr val="ffcc00"/>
                </a:solidFill>
                <a:latin typeface="Bookman Old Style"/>
              </a:rPr>
              <a:t>	</a:t>
            </a:r>
            <a:r>
              <a:rPr b="1" lang="es-ES" sz="2000" spc="-1" strike="noStrike">
                <a:solidFill>
                  <a:srgbClr val="ffcc00"/>
                </a:solidFill>
                <a:latin typeface="Bookman Old Style"/>
              </a:rPr>
              <a:t>1.466.638 9,7   3.465.375</a:t>
            </a:r>
            <a:r>
              <a:rPr b="0" lang="es-ES" sz="2000" spc="-1" strike="noStrike">
                <a:solidFill>
                  <a:srgbClr val="ffcc00"/>
                </a:solidFill>
                <a:latin typeface="Bookman Old Style"/>
              </a:rPr>
              <a:t>	</a:t>
            </a:r>
            <a:r>
              <a:rPr b="1" lang="es-ES" sz="2000" spc="-1" strike="noStrike">
                <a:solidFill>
                  <a:srgbClr val="ffcc00"/>
                </a:solidFill>
                <a:latin typeface="Bookman Old Style"/>
              </a:rPr>
              <a:t>15,68</a:t>
            </a:r>
            <a:r>
              <a:rPr b="0" lang="es-ES" sz="2000" spc="-1" strike="noStrike">
                <a:solidFill>
                  <a:srgbClr val="ffcc00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Bookman Old Style"/>
              </a:rPr>
              <a:t>80 y +   </a:t>
            </a:r>
            <a:r>
              <a:rPr b="1" lang="es-ES" sz="2000" spc="-1" strike="noStrike">
                <a:solidFill>
                  <a:srgbClr val="ffcc00"/>
                </a:solidFill>
                <a:latin typeface="Bookman Old Style"/>
              </a:rPr>
              <a:t> 165.050</a:t>
            </a:r>
            <a:r>
              <a:rPr b="0" lang="es-ES" sz="2000" spc="-1" strike="noStrike">
                <a:solidFill>
                  <a:srgbClr val="ffcc00"/>
                </a:solidFill>
                <a:latin typeface="Bookman Old Style"/>
              </a:rPr>
              <a:t>	</a:t>
            </a:r>
            <a:r>
              <a:rPr b="1" lang="es-ES" sz="2000" spc="-1" strike="noStrike">
                <a:solidFill>
                  <a:srgbClr val="ffcc00"/>
                </a:solidFill>
                <a:latin typeface="Bookman Old Style"/>
              </a:rPr>
              <a:t>1,16</a:t>
            </a:r>
            <a:r>
              <a:rPr b="0" lang="es-ES" sz="2000" spc="-1" strike="noStrike">
                <a:solidFill>
                  <a:srgbClr val="ffcc00"/>
                </a:solidFill>
                <a:latin typeface="Bookman Old Style"/>
              </a:rPr>
              <a:t>	</a:t>
            </a:r>
            <a:r>
              <a:rPr b="1" lang="es-ES" sz="2000" spc="-1" strike="noStrike">
                <a:solidFill>
                  <a:srgbClr val="ffcc00"/>
                </a:solidFill>
                <a:latin typeface="Bookman Old Style"/>
              </a:rPr>
              <a:t>250.840    1,66 </a:t>
            </a:r>
            <a:r>
              <a:rPr b="0" lang="es-ES" sz="2000" spc="-1" strike="noStrike">
                <a:solidFill>
                  <a:srgbClr val="ffcc00"/>
                </a:solidFill>
                <a:latin typeface="Bookman Old Style"/>
              </a:rPr>
              <a:t>  </a:t>
            </a:r>
            <a:r>
              <a:rPr b="1" lang="es-ES" sz="2000" spc="-1" strike="noStrike">
                <a:solidFill>
                  <a:srgbClr val="ffcc00"/>
                </a:solidFill>
                <a:latin typeface="Bookman Old Style"/>
              </a:rPr>
              <a:t>492.232</a:t>
            </a:r>
            <a:r>
              <a:rPr b="0" lang="es-ES" sz="2000" spc="-1" strike="noStrike">
                <a:solidFill>
                  <a:srgbClr val="ffcc00"/>
                </a:solidFill>
                <a:latin typeface="Bookman Old Style"/>
              </a:rPr>
              <a:t>	</a:t>
            </a:r>
            <a:r>
              <a:rPr b="1" lang="es-ES" sz="2000" spc="-1" strike="noStrike">
                <a:solidFill>
                  <a:srgbClr val="ffcc00"/>
                </a:solidFill>
                <a:latin typeface="Bookman Old Style"/>
              </a:rPr>
              <a:t>2,52</a:t>
            </a:r>
            <a:r>
              <a:rPr b="0" lang="es-E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Bookman Old Style"/>
              </a:rPr>
              <a:t>TOTAL  14.207.423</a:t>
            </a:r>
            <a:r>
              <a:rPr b="0" lang="es-E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Bookman Old Style"/>
              </a:rPr>
              <a:t>100% 15.116.435 100% 19.947.957</a:t>
            </a:r>
            <a:r>
              <a:rPr b="0" lang="es-E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Bookman Old Style"/>
              </a:rPr>
              <a:t>100%</a:t>
            </a:r>
            <a:r>
              <a:rPr b="0" lang="es-ES" sz="2000" spc="-1" strike="noStrike">
                <a:solidFill>
                  <a:srgbClr val="ffffff"/>
                </a:solidFill>
                <a:latin typeface="Bookman Old Style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0920" y="3213000"/>
            <a:ext cx="856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50920" y="3645000"/>
            <a:ext cx="8497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4005360"/>
            <a:ext cx="856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4365720"/>
            <a:ext cx="856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4724280"/>
            <a:ext cx="84247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258920" y="321300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916360" y="321300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51280" y="321300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64000" y="3213000"/>
            <a:ext cx="0" cy="18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84720" y="321300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596360" y="3213000"/>
            <a:ext cx="0" cy="187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5157720"/>
            <a:ext cx="8569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3141720"/>
            <a:ext cx="0" cy="1942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675640" y="321300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7" name="PlaceHolder 1"/>
          <p:cNvSpPr>
            <a:spLocks noGrp="1"/>
          </p:cNvSpPr>
          <p:nvPr>
            <p:ph/>
          </p:nvPr>
        </p:nvSpPr>
        <p:spPr>
          <a:xfrm>
            <a:off x="228240" y="333000"/>
            <a:ext cx="75438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cc00"/>
                </a:solidFill>
                <a:latin typeface="Arial"/>
              </a:rPr>
              <a:t>III. CREACION DE UN ENTORNO PROPICIO Y FAVORABLE (tema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1.La vivienda y las condiciones de vi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2.Asistencia y apoyo a las personas que prestan asistenci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3.Abandono maltrato y violenc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4.Imágenes del envejecimien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9900"/>
                </a:solidFill>
                <a:latin typeface="Arial"/>
              </a:rPr>
              <a:t>Dra. Juana Silva O.. 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228240" y="195840"/>
            <a:ext cx="746748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 Black"/>
              </a:rPr>
              <a:t>¿</a:t>
            </a:r>
            <a:r>
              <a:rPr b="0" lang="es-ES_tradnl" sz="3200" spc="-1" strike="noStrike">
                <a:solidFill>
                  <a:srgbClr val="ffff00"/>
                </a:solidFill>
                <a:latin typeface="Arial Black"/>
              </a:rPr>
              <a:t>Qué significa que la salud es un derecho para las personas adultas mayores?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5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110000"/>
              </a:lnSpc>
              <a:spcBef>
                <a:spcPts val="451"/>
              </a:spcBef>
              <a:buClr>
                <a:srgbClr val="66ff33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Los Planes y Programas de Salud se basan en principio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just">
              <a:lnSpc>
                <a:spcPct val="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 algn="just">
              <a:lnSpc>
                <a:spcPct val="110000"/>
              </a:lnSpc>
              <a:spcBef>
                <a:spcPts val="400"/>
              </a:spcBef>
              <a:buClr>
                <a:srgbClr val="66ff33"/>
              </a:buClr>
              <a:buSzPct val="15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 Unicode MS"/>
              </a:rPr>
              <a:t>Dignidad.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 algn="just">
              <a:lnSpc>
                <a:spcPct val="110000"/>
              </a:lnSpc>
              <a:spcBef>
                <a:spcPts val="400"/>
              </a:spcBef>
              <a:buClr>
                <a:srgbClr val="66ff33"/>
              </a:buClr>
              <a:buSzPct val="15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 Unicode MS"/>
              </a:rPr>
              <a:t>Presta atención a los grupos más vulnerables de la població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 algn="just">
              <a:lnSpc>
                <a:spcPct val="110000"/>
              </a:lnSpc>
              <a:spcBef>
                <a:spcPts val="400"/>
              </a:spcBef>
              <a:buClr>
                <a:srgbClr val="66ff33"/>
              </a:buClr>
              <a:buSzPct val="15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 Unicode MS"/>
              </a:rPr>
              <a:t>Accesibilidad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 algn="just">
              <a:lnSpc>
                <a:spcPct val="110000"/>
              </a:lnSpc>
              <a:spcBef>
                <a:spcPts val="400"/>
              </a:spcBef>
              <a:buClr>
                <a:srgbClr val="66ff33"/>
              </a:buClr>
              <a:buSzPct val="15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 Unicode MS"/>
              </a:rPr>
              <a:t>Igualdad (sin discriminación) y equidad (de acuerdo a necesidades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 algn="just">
              <a:lnSpc>
                <a:spcPct val="110000"/>
              </a:lnSpc>
              <a:spcBef>
                <a:spcPts val="400"/>
              </a:spcBef>
              <a:buClr>
                <a:srgbClr val="66ff33"/>
              </a:buClr>
              <a:buSzPct val="15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 Unicode MS"/>
              </a:rPr>
              <a:t>Desagrega los indicadores de salud por grupos de edad, género, étnia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 algn="just">
              <a:lnSpc>
                <a:spcPct val="110000"/>
              </a:lnSpc>
              <a:spcBef>
                <a:spcPts val="400"/>
              </a:spcBef>
              <a:buClr>
                <a:srgbClr val="66ff33"/>
              </a:buClr>
              <a:buSzPct val="15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 Unicode MS"/>
              </a:rPr>
              <a:t>Incorpora la participación de los usuario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 algn="just">
              <a:lnSpc>
                <a:spcPct val="110000"/>
              </a:lnSpc>
              <a:spcBef>
                <a:spcPts val="400"/>
              </a:spcBef>
              <a:buClr>
                <a:srgbClr val="66ff33"/>
              </a:buClr>
              <a:buSzPct val="15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 Unicode MS"/>
              </a:rPr>
              <a:t>Democratiza la información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 algn="just">
              <a:lnSpc>
                <a:spcPct val="110000"/>
              </a:lnSpc>
              <a:spcBef>
                <a:spcPts val="400"/>
              </a:spcBef>
              <a:buClr>
                <a:srgbClr val="66ff33"/>
              </a:buClr>
              <a:buSzPct val="15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Arial Unicode MS"/>
              </a:rPr>
              <a:t>Establece indicadores de base para monitorear progres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 algn="just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 algn="just">
              <a:lnSpc>
                <a:spcPct val="11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9900"/>
                </a:solidFill>
                <a:latin typeface="Arial Unicode MS"/>
              </a:rPr>
              <a:t>Organización Panamericana de la Salud 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0" name="PlaceHolder 1"/>
          <p:cNvSpPr>
            <a:spLocks noGrp="1"/>
          </p:cNvSpPr>
          <p:nvPr>
            <p:ph/>
          </p:nvPr>
        </p:nvSpPr>
        <p:spPr>
          <a:xfrm>
            <a:off x="228240" y="189000"/>
            <a:ext cx="8015400" cy="59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00"/>
                </a:solidFill>
                <a:latin typeface="Arial"/>
              </a:rPr>
              <a:t>PROPUESTA DE POLITIC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00"/>
                </a:solidFill>
                <a:latin typeface="Arial"/>
              </a:rPr>
              <a:t>DE SALUD Y ENVEJECIMIENTO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Cambio del modelo de atención de salud centrado: en el cuidado y mantenimiento de la funcionalidad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Formar equipos de salud con destrezas para el cambio de model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ncorporar en en forma permanente a los Equipos, profesionales de las ciencias sociale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Fortalecer la salud ment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9900"/>
                </a:solidFill>
                <a:latin typeface="Arial"/>
              </a:rPr>
              <a:t>Dra. Juana Silva O.. 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/>
          </p:nvPr>
        </p:nvSpPr>
        <p:spPr>
          <a:xfrm>
            <a:off x="228240" y="333000"/>
            <a:ext cx="75438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00"/>
                </a:solidFill>
                <a:latin typeface="Arial"/>
              </a:rPr>
              <a:t>PROPUESTA DE POLITIC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00"/>
                </a:solidFill>
                <a:latin typeface="Arial"/>
              </a:rPr>
              <a:t>DE SALUD Y ENVEJECIMI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ncluir el proceso de envejecimiento en todo el proceso formal de educa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Transferir a las personas la responsabilidad individual y colectiva en autocuidados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ncentivar búsquedas alternativas de incremento de los ingresos en la vejez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cc00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9900"/>
                </a:solidFill>
                <a:latin typeface="Arial"/>
              </a:rPr>
              <a:t>Dra. Juana Silva O.. 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/>
          </p:nvPr>
        </p:nvSpPr>
        <p:spPr>
          <a:xfrm>
            <a:off x="228240" y="404280"/>
            <a:ext cx="891540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00"/>
                </a:solidFill>
                <a:latin typeface="Arial"/>
              </a:rPr>
              <a:t>PROPUESTA DE POLITICA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00"/>
                </a:solidFill>
                <a:latin typeface="Arial"/>
              </a:rPr>
              <a:t>DE SALUD Y ENVEJECIMI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Fundamental el abordar el tema de envejecimiento humano en forma </a:t>
            </a:r>
            <a:r>
              <a:rPr b="0" lang="es-ES" sz="2400" spc="-1" strike="noStrike" u="sng">
                <a:solidFill>
                  <a:srgbClr val="ffcc00"/>
                </a:solidFill>
                <a:uFillTx/>
                <a:latin typeface="Arial"/>
              </a:rPr>
              <a:t>multisecto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SzPct val="65000"/>
              <a:buFont typeface="Wingdings" charset="2"/>
              <a:buChar char="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ransporte públic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SzPct val="65000"/>
              <a:buFont typeface="Wingdings" charset="2"/>
              <a:buChar char="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Seguridad ciudada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SzPct val="65000"/>
              <a:buFont typeface="Wingdings" charset="2"/>
              <a:buChar char="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Trabajo (oportunidad para todas las edad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SzPct val="65000"/>
              <a:buFont typeface="Wingdings" charset="2"/>
              <a:buChar char="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egislación (derechos y obligacione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tección a grupo vulnerabl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ffcc00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9900"/>
                </a:solidFill>
                <a:latin typeface="Arial"/>
              </a:rPr>
              <a:t>Dra. Juana Silva O.. 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3" name="PlaceHolder 1"/>
          <p:cNvSpPr>
            <a:spLocks noGrp="1"/>
          </p:cNvSpPr>
          <p:nvPr>
            <p:ph/>
          </p:nvPr>
        </p:nvSpPr>
        <p:spPr>
          <a:xfrm>
            <a:off x="228240" y="457200"/>
            <a:ext cx="83818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66ff33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00"/>
                </a:solidFill>
                <a:latin typeface="Arial"/>
              </a:rPr>
              <a:t>¿Quiénes somos los adultos mayore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66ff33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omos 98 millones de personas en las Américas que ya cumplimos 60 años de e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66ff33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Somos la mayoría muje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66ff33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Tenemos la esperanza de vivir por los menos 20 años más al cumplir 6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66ff33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Los que ya tienen 80 esperan vivir unos 8 años má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1026"/>
              </a:spcBef>
              <a:buClr>
                <a:srgbClr val="66ff33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o le tenemos tanto miedo a la muerte como a la dependencia</a:t>
            </a:r>
            <a:r>
              <a:rPr b="1" lang="es-ES_tradnl" sz="41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9900"/>
                </a:solidFill>
                <a:latin typeface="Arial Unicode MS"/>
              </a:rPr>
              <a:t>Organización Panamericana de la Salud 200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4" name="" descr=""/>
          <p:cNvPicPr/>
          <p:nvPr/>
        </p:nvPicPr>
        <p:blipFill>
          <a:blip r:embed="rId1"/>
          <a:stretch/>
        </p:blipFill>
        <p:spPr>
          <a:xfrm>
            <a:off x="2489040" y="1330200"/>
            <a:ext cx="3999240" cy="3694320"/>
          </a:xfrm>
          <a:prstGeom prst="rect">
            <a:avLst/>
          </a:prstGeom>
          <a:ln w="0">
            <a:noFill/>
          </a:ln>
        </p:spPr>
      </p:pic>
      <p:sp>
        <p:nvSpPr>
          <p:cNvPr id="2565" name=""/>
          <p:cNvSpPr/>
          <p:nvPr/>
        </p:nvSpPr>
        <p:spPr>
          <a:xfrm>
            <a:off x="1365120" y="333360"/>
            <a:ext cx="64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Queremos disfrutar de actividades saludables…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1482840" y="6093000"/>
            <a:ext cx="61783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00"/>
                </a:solidFill>
                <a:latin typeface="Times New Roman"/>
              </a:rPr>
              <a:t>Organización Panamericana de la Salud 20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PlaceHolder 1"/>
          <p:cNvSpPr>
            <a:spLocks noGrp="1"/>
          </p:cNvSpPr>
          <p:nvPr>
            <p:ph type="title"/>
          </p:nvPr>
        </p:nvSpPr>
        <p:spPr>
          <a:xfrm>
            <a:off x="228240" y="805320"/>
            <a:ext cx="746748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Black"/>
              </a:rPr>
              <a:t>Queremos envejecer con fuerza y bienestar…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568" name="" descr=""/>
          <p:cNvPicPr/>
          <p:nvPr/>
        </p:nvPicPr>
        <p:blipFill>
          <a:blip r:embed="rId1"/>
          <a:stretch/>
        </p:blipFill>
        <p:spPr>
          <a:xfrm>
            <a:off x="1665360" y="2392200"/>
            <a:ext cx="4668840" cy="3292560"/>
          </a:xfrm>
          <a:prstGeom prst="rect">
            <a:avLst/>
          </a:prstGeom>
          <a:ln w="0">
            <a:noFill/>
          </a:ln>
        </p:spPr>
      </p:pic>
      <p:sp>
        <p:nvSpPr>
          <p:cNvPr id="2569" name=""/>
          <p:cNvSpPr/>
          <p:nvPr/>
        </p:nvSpPr>
        <p:spPr>
          <a:xfrm>
            <a:off x="1482840" y="6310440"/>
            <a:ext cx="6178320" cy="36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9900"/>
                </a:solidFill>
                <a:latin typeface="Times New Roman"/>
              </a:rPr>
              <a:t>Organización Panamericana de la Salud 2003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0" name="PlaceHolder 1"/>
          <p:cNvSpPr>
            <a:spLocks noGrp="1"/>
          </p:cNvSpPr>
          <p:nvPr>
            <p:ph type="title"/>
          </p:nvPr>
        </p:nvSpPr>
        <p:spPr>
          <a:xfrm>
            <a:off x="228240" y="805320"/>
            <a:ext cx="746748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 Black"/>
              </a:rPr>
              <a:t>Queremos que nos traten con dignidad….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571" name="" descr=""/>
          <p:cNvPicPr/>
          <p:nvPr/>
        </p:nvPicPr>
        <p:blipFill>
          <a:blip r:embed="rId1"/>
          <a:srcRect l="7143" t="5000" r="4764" b="5000"/>
          <a:stretch/>
        </p:blipFill>
        <p:spPr>
          <a:xfrm>
            <a:off x="1119240" y="1981080"/>
            <a:ext cx="5761080" cy="4114800"/>
          </a:xfrm>
          <a:prstGeom prst="rect">
            <a:avLst/>
          </a:prstGeom>
          <a:ln w="0">
            <a:noFill/>
          </a:ln>
        </p:spPr>
      </p:pic>
      <p:sp>
        <p:nvSpPr>
          <p:cNvPr id="2572" name=""/>
          <p:cNvSpPr/>
          <p:nvPr/>
        </p:nvSpPr>
        <p:spPr>
          <a:xfrm>
            <a:off x="1547640" y="6165720"/>
            <a:ext cx="6178680" cy="3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9900"/>
                </a:solidFill>
                <a:latin typeface="Times New Roman"/>
              </a:rPr>
              <a:t>Organización Panamericana de la Salud 200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3" name="PlaceHolder 1"/>
          <p:cNvSpPr>
            <a:spLocks noGrp="1"/>
          </p:cNvSpPr>
          <p:nvPr>
            <p:ph type="title"/>
          </p:nvPr>
        </p:nvSpPr>
        <p:spPr>
          <a:xfrm>
            <a:off x="228240" y="-106560"/>
            <a:ext cx="7467480" cy="18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Queremos seguir</a:t>
            </a:r>
            <a:r>
              <a:rPr b="0" lang="es-ES_tradnl" sz="4400" spc="-1" strike="noStrike">
                <a:solidFill>
                  <a:srgbClr val="396f39"/>
                </a:solidFill>
                <a:latin typeface="Arial Black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compartiendo lo que</a:t>
            </a:r>
            <a:r>
              <a:rPr b="0" lang="es-ES_tradnl" sz="4400" spc="-1" strike="noStrike">
                <a:solidFill>
                  <a:srgbClr val="396f39"/>
                </a:solidFill>
                <a:latin typeface="Arial Black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Arial Black"/>
              </a:rPr>
              <a:t>tenemos con nuestros nietos….</a:t>
            </a:r>
            <a:r>
              <a:rPr b="1" lang="es-ES_tradnl" sz="2800" spc="-1" strike="noStrike">
                <a:solidFill>
                  <a:srgbClr val="ffffff"/>
                </a:solidFill>
                <a:latin typeface="Arial Black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574" name="" descr=""/>
          <p:cNvPicPr/>
          <p:nvPr/>
        </p:nvPicPr>
        <p:blipFill>
          <a:blip r:embed="rId1"/>
          <a:srcRect l="15000" t="13470" r="18339" b="11907"/>
          <a:stretch/>
        </p:blipFill>
        <p:spPr>
          <a:xfrm>
            <a:off x="2530440" y="1981080"/>
            <a:ext cx="29383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28240" y="333000"/>
            <a:ext cx="75438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cc00"/>
                </a:solidFill>
                <a:latin typeface="Arial"/>
              </a:rPr>
              <a:t>EPIDEMIOLOGIA Y ENVEJECIMIEN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INDICADORES SANITARI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orbil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Mortal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Años potenciales de vida perdidos APV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peranza de vida en buena salu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peranza de vida sin discapac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STADO DE FUNCIONAL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5" name="PlaceHolder 1"/>
          <p:cNvSpPr>
            <a:spLocks noGrp="1"/>
          </p:cNvSpPr>
          <p:nvPr>
            <p:ph type="title"/>
          </p:nvPr>
        </p:nvSpPr>
        <p:spPr>
          <a:xfrm>
            <a:off x="228240" y="195480"/>
            <a:ext cx="7467480" cy="155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 Black"/>
              </a:rPr>
              <a:t>Cuando perdamos la capacidad cognitiva no queremos perder la capacidad de recibir afecto y respeto de los que nos cuidan…</a:t>
            </a:r>
            <a:br>
              <a:rPr sz="2400"/>
            </a:br>
            <a:endParaRPr b="0" lang="en-US" sz="2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2576" name="" descr=""/>
          <p:cNvPicPr/>
          <p:nvPr/>
        </p:nvPicPr>
        <p:blipFill>
          <a:blip r:embed="rId1"/>
          <a:srcRect l="14286" t="13331" r="11907" b="10000"/>
          <a:stretch/>
        </p:blipFill>
        <p:spPr>
          <a:xfrm>
            <a:off x="1119240" y="1981080"/>
            <a:ext cx="57610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7" name="PlaceHolder 1"/>
          <p:cNvSpPr>
            <a:spLocks noGrp="1"/>
          </p:cNvSpPr>
          <p:nvPr>
            <p:ph/>
          </p:nvPr>
        </p:nvSpPr>
        <p:spPr>
          <a:xfrm>
            <a:off x="228240" y="333000"/>
            <a:ext cx="75438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onferencia Regional Intergubernamental sobre Envejecimiento Santiago de Chile 2003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Kofi Anna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buClr>
                <a:srgbClr val="000000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cc00"/>
                </a:solidFill>
                <a:latin typeface="Arial"/>
              </a:rPr>
              <a:t>“ </a:t>
            </a:r>
            <a:r>
              <a:rPr b="0" lang="es-CL" sz="2400" spc="-1" strike="noStrike">
                <a:solidFill>
                  <a:srgbClr val="ffcc00"/>
                </a:solidFill>
                <a:latin typeface="Arial"/>
              </a:rPr>
              <a:t>Todos nosotros podemos ayudar a construir puentes entre generaciones que aprovechen las capacidades de las personas mayores, sea en la comunidad o en la familia, en el espacio rural o urbano, en educación, en tecnología de las artes, en la reducción de la pobreza o en la construcción de la Paz. El reto que tenemos ante nosotros es sacar de la oscuridad los valiosos atributos de las personas mayores y utilizarlos junto con otros instrumentos de desarrollo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116000" y="765000"/>
            <a:ext cx="676908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33000"/>
            <a:ext cx="844704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116000" y="620640"/>
            <a:ext cx="6624720" cy="55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96f3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28600" y="404640"/>
            <a:ext cx="8447040" cy="604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7488360" cy="532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1T21:34:46Z</dcterms:created>
  <dc:creator>Mangiamarchi</dc:creator>
  <dc:description/>
  <dc:language>en-US</dc:language>
  <cp:lastModifiedBy>Usuario</cp:lastModifiedBy>
  <dcterms:modified xsi:type="dcterms:W3CDTF">2005-05-16T21:02:04Z</dcterms:modified>
  <cp:revision>41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455193082</vt:lpwstr>
  </property>
</Properties>
</file>