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ED73-EF94-446D-989B-4C1D54E41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CC23-C6D7-4C02-9EBE-C11B8FFD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7AAA-E6E0-4561-A40E-935592507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F893-CA0E-4480-82A4-1748EB9E1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6752-939D-48C0-82FE-B0A7A9FD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695E-936B-400E-882D-0297F272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CA44-7A50-4BAA-BC9F-8A6AAC4E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8A2B-D63E-45DA-A8D8-44D8977B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57A8-A729-47A6-9F68-C151912D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1DCC-6EA4-4F97-8275-CE8BA5E2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916D-682D-426E-A3B0-6464A0E3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F1BA-4A34-4D87-901E-0EEADD7A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1440-6B37-40EE-BD8A-F7B9AA3CEBA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31640" y="43164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20000" cy="705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252360" y="-128520"/>
            <a:ext cx="939636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0" spc="-1" strike="noStrike">
                <a:solidFill>
                  <a:srgbClr val="000000"/>
                </a:solidFill>
                <a:latin typeface="Arial"/>
              </a:rPr>
              <a:t>FIN….POR F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9T13:13:13Z</dcterms:created>
  <dc:creator>ofiintilus</dc:creator>
  <dc:description/>
  <dc:language>en-US</dc:language>
  <cp:lastModifiedBy>ofiintilus</cp:lastModifiedBy>
  <dcterms:modified xsi:type="dcterms:W3CDTF">2004-12-09T13:29:37Z</dcterms:modified>
  <cp:revision>2</cp:revision>
  <dc:subject/>
  <dc:title>Diapositiva 1</dc:title>
</cp:coreProperties>
</file>